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18.jpeg" ContentType="image/jpeg"/>
  <Override PartName="/ppt/media/image15.png" ContentType="image/png"/>
  <Override PartName="/ppt/media/image10.jpeg" ContentType="image/jpeg"/>
  <Override PartName="/ppt/media/image5.png" ContentType="image/png"/>
  <Override PartName="/ppt/media/image20.jpeg" ContentType="image/jpeg"/>
  <Override PartName="/ppt/media/image12.png" ContentType="image/png"/>
  <Override PartName="/ppt/media/image7.wmf" ContentType="image/x-wmf"/>
  <Override PartName="/ppt/media/image9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1.wmf" ContentType="image/x-wmf"/>
  <Override PartName="/ppt/media/image33.wmf" ContentType="image/x-wmf"/>
  <Override PartName="/ppt/media/image13.png" ContentType="image/png"/>
  <Override PartName="/ppt/media/image34.wmf" ContentType="image/x-wmf"/>
  <Override PartName="/ppt/media/image37.png" ContentType="image/png"/>
  <Override PartName="/ppt/media/image39.wmf" ContentType="image/x-wmf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4.wmf" ContentType="image/x-wmf"/>
  <Override PartName="/ppt/media/image32.wmf" ContentType="image/x-wmf"/>
  <Override PartName="/ppt/media/image29.png" ContentType="image/png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0819C-8AFB-4EDC-8229-8F61DD6FE6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38E05-0B74-4066-A2D9-F9A2573096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3B435-E3D4-474F-8B67-67AA1DAFE3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33971-3A3D-4175-B6E0-B0336CA9E8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A632E-F92F-4026-AA99-2EE2F4153D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12944-559F-4EB1-A6A4-BC17CE6F1F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20AB2-19EB-463A-A744-38EC07CD10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6A4F6-142C-45A3-8E38-2D1CADD722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B1C10-69DF-457D-BFBB-61A14FBA73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B6F2E-C01D-42C3-8B60-C25E59C38F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00136-5088-4941-B267-0141F3A7BE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C246F-E27F-4D19-88CC-F6BE6BDAE1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84C5F-D7BF-4001-9824-0FB3920656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F0A16-CBAD-4695-B679-D16A9E2A83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07D15-5774-4718-883E-E499B05646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4E308-2964-4670-B5E4-71AEBBAD5F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5FF53-EC08-47BF-A66D-6539BAD6C4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61B83-F189-45EA-B5ED-20771E825D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1E310-1BD1-4D3A-9867-3D031DD699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7E80B-3484-4460-A7E2-A8DEC338B6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E577B-F3ED-4D65-962B-3E7D64F0BF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6D345-E3BC-4CD8-9179-B5F3A4EDF2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2DDA3-0EBC-407A-B9B9-3B7545DB41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6D95-6222-4222-8777-2E3198CC0B0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5E09-FAFE-4A98-BD98-4DBE8C87E37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8917-F412-4BE1-83A6-62CB33F481D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4D65-5729-474A-A3F7-E4A58494782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71A7-C141-4B80-9307-2117F4A7165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95EB-625E-494E-9B98-198D074E2C7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5A6D-C0A9-4667-A4C3-2CB29F8532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DCE42-DD64-4B25-807B-C0311A1ACF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9601-BB3F-4783-B68C-C72E6446D60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F96A-95CE-45ED-A9DC-4C0F0AFAE82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86E2-2515-4DFA-B40B-D6072992396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4461-4B32-473A-B001-7E8524D653B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04A2-4E2B-4EF2-B385-2E46938A40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A8007-1C93-4819-B70A-95E96677ED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DE2EF-019D-4557-BDB6-6CDECCC731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23C71-D1BD-456C-A591-6BED738979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B1239-C75E-498F-8EEB-FFC193C6E9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B176B-B673-4D8F-8468-BFFB31A3CF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9C2C3-E2C8-462F-A579-76EF0270A7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2CC95-EF62-4525-94C2-E97787E3AE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04ED4-CC3F-4A64-8674-C7F8AACA17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70BB9-881D-43CE-9344-E64301E180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wmf"/><Relationship Id="rId7" Type="http://schemas.openxmlformats.org/officeDocument/2006/relationships/image" Target="../media/image12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ssessment: Audits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BB36-F133-4B5F-8BC0-51637559D69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ther information abou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, operating proced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ff, equipment, test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vironment, handling of s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 verification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419720" y="3886200"/>
            <a:ext cx="3906720" cy="2471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B9D8B-A683-4975-A491-68A44911A60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e findings with documented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breakdown in system or departure from 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 something with audit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25129-6A0E-4C46-B8D5-9240065375E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alth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914400"/>
            <a:ext cx="403848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reditatio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4343400"/>
            <a:ext cx="281952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c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Fu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301920" y="2133720"/>
            <a:ext cx="2594160" cy="3124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27672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8854E-2268-4141-86AB-122247897D2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234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33520" y="3581280"/>
            <a:ext cx="5234040" cy="2438280"/>
            <a:chOff x="533520" y="3581280"/>
            <a:chExt cx="5234040" cy="243828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4114800" y="442368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1905120" y="4227120"/>
              <a:ext cx="23778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Schedule with staf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 Prepa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4648320"/>
            <a:ext cx="3200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Gather information and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38080" y="1523880"/>
            <a:ext cx="3123720" cy="2361960"/>
            <a:chOff x="838080" y="1523880"/>
            <a:chExt cx="3123720" cy="2361960"/>
          </a:xfrm>
        </p:grpSpPr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838080" y="1523880"/>
              <a:ext cx="293508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405800" y="2226240"/>
              <a:ext cx="25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E39E7-C30D-43EB-8194-1493324C861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xternal Audit Report and Plan of 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 gap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ord results and ac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Plan correctiv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Develop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1295280"/>
            <a:ext cx="441972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 understands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14560" y="1219320"/>
            <a:ext cx="1524240" cy="761760"/>
          </a:xfrm>
          <a:custGeom>
            <a:avLst/>
            <a:gdLst>
              <a:gd name="textAreaLeft" fmla="*/ 237960 w 1524240"/>
              <a:gd name="textAreaRight" fmla="*/ 1333800 w 152424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2438280" y="5409720"/>
            <a:ext cx="6400800" cy="838440"/>
          </a:xfrm>
          <a:custGeom>
            <a:avLst/>
            <a:gdLst>
              <a:gd name="textAreaLeft" fmla="*/ 1000080 w 6400800"/>
              <a:gd name="textAreaRight" fmla="*/ 5600880 w 64008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6705000" y="3276360"/>
            <a:ext cx="3657600" cy="762120"/>
          </a:xfrm>
          <a:custGeom>
            <a:avLst/>
            <a:gdLst>
              <a:gd name="textAreaLeft" fmla="*/ 571320 w 3657600"/>
              <a:gd name="textAreaRight" fmla="*/ 3200400 w 3657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447920"/>
            <a:ext cx="2133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or’s  closing summary and repo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6CF50-1AC8-43CF-966C-CFE05738E69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553080" y="9144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400800" y="3505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Costs 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d by ISO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on a regular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when problem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1295280"/>
            <a:ext cx="266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ok at your own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533520" y="3581280"/>
            <a:ext cx="2552760" cy="266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63663-E4D0-4838-9F69-353D7AE10FB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Value of Internal 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pare for external 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 awarenes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improvemen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entive and corrective actio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continuing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eting quality standa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2F0E0-B3A1-461E-ADD3-CE52B6C680E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:  ISO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1752480"/>
            <a:ext cx="83818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have an audi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document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ditors independent of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s documented and repor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ment fo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mpt follow-up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F25ED-F0BC-48A1-8632-C6ECDDF0046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28240" y="2286000"/>
            <a:ext cx="32212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4044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40443"/>
              </a:path>
            </a:pathLst>
          </a:custGeom>
          <a:gradFill rotWithShape="0">
            <a:gsLst>
              <a:gs pos="0">
                <a:srgbClr val="b27e5e"/>
              </a:gs>
              <a:gs pos="100000">
                <a:srgbClr val="523a2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3810600" y="1371960"/>
            <a:ext cx="258984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d9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600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er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1981080"/>
            <a:ext cx="4038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 audit your own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8FC79-F781-4FDE-859F-66F11DA33C4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605160" y="571320"/>
            <a:ext cx="8084160" cy="4643280"/>
            <a:chOff x="605160" y="571320"/>
            <a:chExt cx="8084160" cy="4643280"/>
          </a:xfrm>
        </p:grpSpPr>
        <p:sp>
          <p:nvSpPr>
            <p:cNvPr id="285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Prepar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checklis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for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Schedul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regular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Internal 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Audit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 Progra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ssign </a:t>
              </a:r>
              <a:br>
                <a:rPr sz="2500"/>
              </a:b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responsibilit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FD315-B461-49D4-8E6E-C96B79F4A56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process to prepare your laboratory staff for an ex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 and manage an in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cuss how to use results from a laboratory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ocate for the importance of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D6F16-52B8-4D2D-A762-908AFF8FC3F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2362320"/>
            <a:ext cx="30481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determines the internal auditing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495288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ssigns responsibility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for the internal audit program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   – 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Q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uality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audi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2514600"/>
            <a:ext cx="2057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upports corrective action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1943280" y="1333440"/>
            <a:ext cx="761760" cy="990720"/>
          </a:xfrm>
          <a:custGeom>
            <a:avLst/>
            <a:gdLst>
              <a:gd name="textAreaLeft" fmla="*/ 118800 w 761760"/>
              <a:gd name="textAreaRight" fmla="*/ 666720 w 7617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1942560" y="3543120"/>
            <a:ext cx="914400" cy="1143000"/>
          </a:xfrm>
          <a:custGeom>
            <a:avLst/>
            <a:gdLst>
              <a:gd name="textAreaLeft" fmla="*/ 142920 w 914400"/>
              <a:gd name="textAreaRight" fmla="*/ 800280 w 9144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6819840" y="1485720"/>
            <a:ext cx="990720" cy="1067040"/>
          </a:xfrm>
          <a:custGeom>
            <a:avLst/>
            <a:gdLst>
              <a:gd name="textAreaLeft" fmla="*/ 154800 w 990720"/>
              <a:gd name="textAreaRight" fmla="*/ 866880 w 990720"/>
              <a:gd name="textAreaTop" fmla="*/ 266760 h 1067040"/>
              <a:gd name="textAreaBottom" fmla="*/ 800280 h 106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548640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5804F-81FA-4090-BA7A-81FFC22E6BD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609480"/>
            <a:ext cx="8458200" cy="1137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r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stablish and maintain an internal aud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2514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ordinate the</a:t>
            </a:r>
            <a:br>
              <a:rPr sz="24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audit proces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manage 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4076640" y="1714320"/>
            <a:ext cx="609480" cy="838080"/>
          </a:xfrm>
          <a:custGeom>
            <a:avLst/>
            <a:gdLst>
              <a:gd name="textAreaLeft" fmla="*/ 95040 w 609480"/>
              <a:gd name="textAreaRight" fmla="*/ 533520 w 60948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23623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develop 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4952880"/>
            <a:ext cx="175248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512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1374200">
            <a:off x="2133000" y="256788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81480" y="5410080"/>
            <a:ext cx="1447920" cy="4572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0800000">
            <a:off x="220968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3276720"/>
            <a:ext cx="1752480" cy="9903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327672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select &amp; train au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9818400">
            <a:off x="2133000" y="327636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9251600">
            <a:off x="5333760" y="3809880"/>
            <a:ext cx="1828800" cy="45720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512136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4D4E9-AD4D-4995-A925-3121D3575EF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ing an Internal Audi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checkli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n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ct and analyz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clos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CA4A3-3882-4679-AF45-7E9303EAC83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ing an Audit Sched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regula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frequent audits for problems or areas needing impro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time audits should look at all of the quality system essenti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2670120" cy="279108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2743200" y="3628800"/>
            <a:ext cx="3228840" cy="2660760"/>
            <a:chOff x="2743200" y="3628800"/>
            <a:chExt cx="3228840" cy="2660760"/>
          </a:xfrm>
        </p:grpSpPr>
        <p:sp>
          <p:nvSpPr>
            <p:cNvPr id="339" name="_s620643"/>
            <p:cNvSpPr/>
            <p:nvPr/>
          </p:nvSpPr>
          <p:spPr>
            <a:xfrm>
              <a:off x="3344040" y="3628800"/>
              <a:ext cx="2026440" cy="1840320"/>
            </a:xfrm>
            <a:custGeom>
              <a:avLst/>
              <a:gdLst>
                <a:gd name="textAreaLeft" fmla="*/ 0 w 2026440"/>
                <a:gd name="textAreaRight" fmla="*/ 2026800 w 2026440"/>
                <a:gd name="textAreaTop" fmla="*/ 0 h 1840320"/>
                <a:gd name="textAreaBottom" fmla="*/ 1840680 h 184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620644"/>
            <p:cNvSpPr/>
            <p:nvPr/>
          </p:nvSpPr>
          <p:spPr>
            <a:xfrm rot="7200000">
              <a:off x="3714120" y="397008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620646"/>
            <p:cNvSpPr/>
            <p:nvPr/>
          </p:nvSpPr>
          <p:spPr>
            <a:xfrm rot="14400000">
              <a:off x="3160440" y="397260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620641"/>
            <p:cNvSpPr/>
            <p:nvPr/>
          </p:nvSpPr>
          <p:spPr>
            <a:xfrm>
              <a:off x="491220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620642"/>
            <p:cNvSpPr/>
            <p:nvPr/>
          </p:nvSpPr>
          <p:spPr>
            <a:xfrm>
              <a:off x="3950640" y="54781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620645"/>
            <p:cNvSpPr/>
            <p:nvPr/>
          </p:nvSpPr>
          <p:spPr>
            <a:xfrm>
              <a:off x="298908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DC110-7336-495A-99A6-592169403FE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3337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ecklis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forms for documenting corrective actions and re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019920" y="1295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99352-3126-4EB1-A5B9-6CD75BDB2B2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960480" y="682200"/>
            <a:ext cx="7526880" cy="5239440"/>
            <a:chOff x="960480" y="682200"/>
            <a:chExt cx="7526880" cy="5239440"/>
          </a:xfrm>
        </p:grpSpPr>
        <p:sp>
          <p:nvSpPr>
            <p:cNvPr id="350" name="_s732185"/>
            <p:cNvSpPr/>
            <p:nvPr/>
          </p:nvSpPr>
          <p:spPr>
            <a:xfrm flipH="1" flipV="1">
              <a:off x="2869560" y="3069360"/>
              <a:ext cx="925920" cy="21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732184"/>
            <p:cNvSpPr/>
            <p:nvPr/>
          </p:nvSpPr>
          <p:spPr>
            <a:xfrm>
              <a:off x="960480" y="2143080"/>
              <a:ext cx="1954800" cy="1411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munica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effective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732183"/>
            <p:cNvSpPr/>
            <p:nvPr/>
          </p:nvSpPr>
          <p:spPr>
            <a:xfrm flipH="1">
              <a:off x="3578040" y="4074480"/>
              <a:ext cx="57132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732182"/>
            <p:cNvSpPr/>
            <p:nvPr/>
          </p:nvSpPr>
          <p:spPr>
            <a:xfrm>
              <a:off x="2023920" y="4510440"/>
              <a:ext cx="1954080" cy="1411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echnical/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Quality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xperti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732181"/>
            <p:cNvSpPr/>
            <p:nvPr/>
          </p:nvSpPr>
          <p:spPr>
            <a:xfrm>
              <a:off x="5298120" y="4074480"/>
              <a:ext cx="57456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732180"/>
            <p:cNvSpPr/>
            <p:nvPr/>
          </p:nvSpPr>
          <p:spPr>
            <a:xfrm>
              <a:off x="5469840" y="4510440"/>
              <a:ext cx="1954080" cy="1411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plomat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732179"/>
            <p:cNvSpPr/>
            <p:nvPr/>
          </p:nvSpPr>
          <p:spPr>
            <a:xfrm flipV="1">
              <a:off x="5652360" y="3067560"/>
              <a:ext cx="928440" cy="2185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732178"/>
            <p:cNvSpPr/>
            <p:nvPr/>
          </p:nvSpPr>
          <p:spPr>
            <a:xfrm>
              <a:off x="6532560" y="2143080"/>
              <a:ext cx="1954800" cy="1411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a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732177"/>
            <p:cNvSpPr/>
            <p:nvPr/>
          </p:nvSpPr>
          <p:spPr>
            <a:xfrm flipV="1">
              <a:off x="4723920" y="2093760"/>
              <a:ext cx="0" cy="7056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732176"/>
            <p:cNvSpPr/>
            <p:nvPr/>
          </p:nvSpPr>
          <p:spPr>
            <a:xfrm>
              <a:off x="3746880" y="682200"/>
              <a:ext cx="1954080" cy="1411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ttention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o deta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732175"/>
            <p:cNvSpPr/>
            <p:nvPr/>
          </p:nvSpPr>
          <p:spPr>
            <a:xfrm>
              <a:off x="3746880" y="2799360"/>
              <a:ext cx="1954080" cy="1411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Importa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Skills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for Audi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1752480" y="609480"/>
            <a:ext cx="2057400" cy="14655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7"/>
          <a:stretch/>
        </p:blipFill>
        <p:spPr>
          <a:xfrm>
            <a:off x="3962520" y="449568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7086600" y="3581280"/>
            <a:ext cx="155592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9"/>
          <a:stretch/>
        </p:blipFill>
        <p:spPr>
          <a:xfrm>
            <a:off x="6019920" y="533520"/>
            <a:ext cx="2514600" cy="15843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0"/>
          <a:stretch/>
        </p:blipFill>
        <p:spPr>
          <a:xfrm>
            <a:off x="228600" y="3276720"/>
            <a:ext cx="1698480" cy="175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393A4-B824-460E-9534-F7F70A65F3E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5400000">
            <a:off x="1294920" y="3047760"/>
            <a:ext cx="1295280" cy="129564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s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43600" y="1371600"/>
            <a:ext cx="2895480" cy="312408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Tak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20101800">
            <a:off x="3123720" y="3885840"/>
            <a:ext cx="3619800" cy="1295280"/>
          </a:xfrm>
          <a:custGeom>
            <a:avLst/>
            <a:gdLst>
              <a:gd name="textAreaLeft" fmla="*/ 565560 w 3619800"/>
              <a:gd name="textAreaRight" fmla="*/ 3167640 w 36198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66E07-84BB-4681-8841-6A0D45272C8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rrective and Remedial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se actions are the steps taken to improve a process or to correct a probl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3809880"/>
            <a:ext cx="50292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is responsible?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5181480" y="2895480"/>
            <a:ext cx="3124440" cy="27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B2FDC-FBF8-4330-8741-6B204942D38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ing corrective 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problem-solving team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stigate root cau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ppropriate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e effective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all actions and find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B9B4A-1D89-47CA-9CC1-9CA204524B5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pportunity for Improvemen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C5EBC-F98B-4CFC-9BD5-CBCAFF1429F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Problem 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You are the quality manager in your laboratory and you want to organize an internal audit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steps will you tak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5EC75-AF78-49A0-8E63-E68E6845BC9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Continuous monitoring is the key element to success in the Quality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FDB64-FDDC-4D46-A560-94428A6064F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684000" y="776520"/>
            <a:ext cx="7933680" cy="5909040"/>
            <a:chOff x="684000" y="776520"/>
            <a:chExt cx="7933680" cy="5909040"/>
          </a:xfrm>
        </p:grpSpPr>
        <p:sp>
          <p:nvSpPr>
            <p:cNvPr id="386" name="_s595033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0 w 5317200"/>
                <a:gd name="textAreaRight" fmla="*/ 5317560 w 5317200"/>
                <a:gd name="textAreaTop" fmla="*/ 0 h 3748680"/>
                <a:gd name="textAreaBottom" fmla="*/ 374904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595034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920"/>
                <a:gd name="textAreaBottom" fmla="*/ 531828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595035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200"/>
                <a:gd name="textAreaBottom" fmla="*/ 531756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594995"/>
            <p:cNvSpPr/>
            <p:nvPr/>
          </p:nvSpPr>
          <p:spPr>
            <a:xfrm>
              <a:off x="105876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Monitor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Evalu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customer satisf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quality 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proficienc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aud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594992"/>
            <p:cNvSpPr/>
            <p:nvPr/>
          </p:nvSpPr>
          <p:spPr>
            <a:xfrm>
              <a:off x="3582000" y="473580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Corrective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Action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595007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Improvement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ntinuous Quality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54C44-C3FD-486F-8E72-02242B38B45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85800" y="1371600"/>
            <a:ext cx="7696080" cy="41162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 isn’t what you fin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’s what you do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about what you find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C1381-27F5-4CF6-9FB4-52608A88FE9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essment is important in monitoring the effectiveness of the laboratory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external and internal audits yield useful inform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come of assessment is finding root causes of problems and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E4872-4D2E-4A5A-AD71-4A5910EE3D9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establish an internal audit program. Conducted on a regular basis, it will provide information for continual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s become opportunities for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D791E-2DC1-4007-A3CF-9A2FD8F5DF4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19920" y="159984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33520" y="838080"/>
            <a:ext cx="5181480" cy="5410080"/>
            <a:chOff x="533520" y="838080"/>
            <a:chExt cx="5181480" cy="5410080"/>
          </a:xfrm>
        </p:grpSpPr>
        <p:sp>
          <p:nvSpPr>
            <p:cNvPr id="400" name="AutoShape 4"/>
            <p:cNvSpPr/>
            <p:nvPr/>
          </p:nvSpPr>
          <p:spPr>
            <a:xfrm>
              <a:off x="533520" y="8380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"/>
            <p:cNvSpPr/>
            <p:nvPr/>
          </p:nvSpPr>
          <p:spPr>
            <a:xfrm>
              <a:off x="2778120" y="36856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0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2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3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6"/>
            <p:cNvSpPr/>
            <p:nvPr/>
          </p:nvSpPr>
          <p:spPr>
            <a:xfrm>
              <a:off x="1413000" y="30441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2"/>
            <p:cNvSpPr/>
            <p:nvPr/>
          </p:nvSpPr>
          <p:spPr>
            <a:xfrm>
              <a:off x="1401840" y="29808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 flipH="1" flipV="1">
              <a:off x="3187440" y="58449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 flipV="1">
              <a:off x="2925720" y="46735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>
              <a:off x="4724280" y="15040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3124080" y="16635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1447920" y="17128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 flipH="1">
              <a:off x="1142640" y="15519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Group 65"/>
            <p:cNvGrpSpPr/>
            <p:nvPr/>
          </p:nvGrpSpPr>
          <p:grpSpPr>
            <a:xfrm>
              <a:off x="838080" y="930600"/>
              <a:ext cx="1261800" cy="1189800"/>
              <a:chOff x="838080" y="930600"/>
              <a:chExt cx="1261800" cy="1189800"/>
            </a:xfrm>
          </p:grpSpPr>
          <p:grpSp>
            <p:nvGrpSpPr>
              <p:cNvPr id="415" name="Group 66"/>
              <p:cNvGrpSpPr/>
              <p:nvPr/>
            </p:nvGrpSpPr>
            <p:grpSpPr>
              <a:xfrm>
                <a:off x="838080" y="930600"/>
                <a:ext cx="1239120" cy="1189800"/>
                <a:chOff x="838080" y="930600"/>
                <a:chExt cx="1239120" cy="1189800"/>
              </a:xfrm>
            </p:grpSpPr>
            <p:grpSp>
              <p:nvGrpSpPr>
                <p:cNvPr id="416" name="Group 67"/>
                <p:cNvGrpSpPr/>
                <p:nvPr/>
              </p:nvGrpSpPr>
              <p:grpSpPr>
                <a:xfrm>
                  <a:off x="889560" y="930600"/>
                  <a:ext cx="1152360" cy="1189800"/>
                  <a:chOff x="889560" y="930600"/>
                  <a:chExt cx="1152360" cy="1189800"/>
                </a:xfrm>
              </p:grpSpPr>
              <p:sp>
                <p:nvSpPr>
                  <p:cNvPr id="417" name="Freeform 68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Freeform 69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9" name="Text Box 70"/>
                <p:cNvSpPr/>
                <p:nvPr/>
              </p:nvSpPr>
              <p:spPr>
                <a:xfrm>
                  <a:off x="838080" y="12049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Text Box 71"/>
              <p:cNvSpPr/>
              <p:nvPr/>
            </p:nvSpPr>
            <p:spPr>
              <a:xfrm>
                <a:off x="860760" y="13525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72"/>
            <p:cNvGrpSpPr/>
            <p:nvPr/>
          </p:nvGrpSpPr>
          <p:grpSpPr>
            <a:xfrm>
              <a:off x="2494080" y="930600"/>
              <a:ext cx="1239840" cy="1189800"/>
              <a:chOff x="2494080" y="930600"/>
              <a:chExt cx="1239840" cy="1189800"/>
            </a:xfrm>
          </p:grpSpPr>
          <p:sp>
            <p:nvSpPr>
              <p:cNvPr id="422" name="Freeform 73"/>
              <p:cNvSpPr/>
              <p:nvPr/>
            </p:nvSpPr>
            <p:spPr>
              <a:xfrm>
                <a:off x="2534760" y="9306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74"/>
              <p:cNvSpPr/>
              <p:nvPr/>
            </p:nvSpPr>
            <p:spPr>
              <a:xfrm>
                <a:off x="2494080" y="13525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75"/>
            <p:cNvGrpSpPr/>
            <p:nvPr/>
          </p:nvGrpSpPr>
          <p:grpSpPr>
            <a:xfrm>
              <a:off x="4094280" y="930600"/>
              <a:ext cx="1239840" cy="1189800"/>
              <a:chOff x="4094280" y="930600"/>
              <a:chExt cx="1239840" cy="1189800"/>
            </a:xfrm>
          </p:grpSpPr>
          <p:grpSp>
            <p:nvGrpSpPr>
              <p:cNvPr id="425" name="Group 76"/>
              <p:cNvGrpSpPr/>
              <p:nvPr/>
            </p:nvGrpSpPr>
            <p:grpSpPr>
              <a:xfrm>
                <a:off x="4139640" y="930600"/>
                <a:ext cx="1153080" cy="1189800"/>
                <a:chOff x="4139640" y="930600"/>
                <a:chExt cx="1153080" cy="1189800"/>
              </a:xfrm>
            </p:grpSpPr>
            <p:sp>
              <p:nvSpPr>
                <p:cNvPr id="426" name="Freeform 77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78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8" name="Text Box 79"/>
              <p:cNvSpPr/>
              <p:nvPr/>
            </p:nvSpPr>
            <p:spPr>
              <a:xfrm>
                <a:off x="4094280" y="13568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Line 27"/>
            <p:cNvSpPr/>
            <p:nvPr/>
          </p:nvSpPr>
          <p:spPr>
            <a:xfrm flipH="1">
              <a:off x="1218960" y="29048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838080" y="2270160"/>
              <a:ext cx="1241280" cy="1189440"/>
              <a:chOff x="838080" y="2270160"/>
              <a:chExt cx="1241280" cy="1189440"/>
            </a:xfrm>
          </p:grpSpPr>
          <p:sp>
            <p:nvSpPr>
              <p:cNvPr id="431" name="Freeform 46"/>
              <p:cNvSpPr/>
              <p:nvPr/>
            </p:nvSpPr>
            <p:spPr>
              <a:xfrm>
                <a:off x="842760" y="22701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47"/>
              <p:cNvSpPr/>
              <p:nvPr/>
            </p:nvSpPr>
            <p:spPr>
              <a:xfrm>
                <a:off x="838080" y="25567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Freeform 31"/>
            <p:cNvSpPr/>
            <p:nvPr/>
          </p:nvSpPr>
          <p:spPr>
            <a:xfrm>
              <a:off x="2543040" y="23328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3"/>
            <p:cNvSpPr/>
            <p:nvPr/>
          </p:nvSpPr>
          <p:spPr>
            <a:xfrm>
              <a:off x="2583000" y="23493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4038480" y="2288160"/>
              <a:ext cx="1336680" cy="1189440"/>
              <a:chOff x="4038480" y="2288160"/>
              <a:chExt cx="1336680" cy="1189440"/>
            </a:xfrm>
          </p:grpSpPr>
          <p:sp>
            <p:nvSpPr>
              <p:cNvPr id="436" name="Freeform 48"/>
              <p:cNvSpPr/>
              <p:nvPr/>
            </p:nvSpPr>
            <p:spPr>
              <a:xfrm>
                <a:off x="4114800" y="22881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55"/>
              <p:cNvSpPr/>
              <p:nvPr/>
            </p:nvSpPr>
            <p:spPr>
              <a:xfrm>
                <a:off x="4038480" y="25880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Line 27"/>
            <p:cNvSpPr/>
            <p:nvPr/>
          </p:nvSpPr>
          <p:spPr>
            <a:xfrm flipH="1">
              <a:off x="1142640" y="41796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838080" y="3629520"/>
              <a:ext cx="1239840" cy="1191240"/>
              <a:chOff x="838080" y="3629520"/>
              <a:chExt cx="1239840" cy="1191240"/>
            </a:xfrm>
          </p:grpSpPr>
          <p:sp>
            <p:nvSpPr>
              <p:cNvPr id="440" name="Freeform 81"/>
              <p:cNvSpPr/>
              <p:nvPr/>
            </p:nvSpPr>
            <p:spPr>
              <a:xfrm>
                <a:off x="870120" y="36295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82"/>
              <p:cNvSpPr/>
              <p:nvPr/>
            </p:nvSpPr>
            <p:spPr>
              <a:xfrm>
                <a:off x="838080" y="38613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2494080" y="3629520"/>
              <a:ext cx="1239840" cy="1191240"/>
              <a:chOff x="2494080" y="3629520"/>
              <a:chExt cx="1239840" cy="1191240"/>
            </a:xfrm>
          </p:grpSpPr>
          <p:sp>
            <p:nvSpPr>
              <p:cNvPr id="443" name="Freeform 30"/>
              <p:cNvSpPr/>
              <p:nvPr/>
            </p:nvSpPr>
            <p:spPr>
              <a:xfrm>
                <a:off x="2521080" y="36295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54"/>
              <p:cNvSpPr/>
              <p:nvPr/>
            </p:nvSpPr>
            <p:spPr>
              <a:xfrm>
                <a:off x="2494080" y="38797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Freeform 50"/>
            <p:cNvSpPr/>
            <p:nvPr/>
          </p:nvSpPr>
          <p:spPr>
            <a:xfrm>
              <a:off x="4114800" y="36226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51"/>
            <p:cNvSpPr/>
            <p:nvPr/>
          </p:nvSpPr>
          <p:spPr>
            <a:xfrm>
              <a:off x="4094280" y="37022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27"/>
            <p:cNvSpPr/>
            <p:nvPr/>
          </p:nvSpPr>
          <p:spPr>
            <a:xfrm flipH="1">
              <a:off x="1218960" y="55306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762120" y="4978440"/>
              <a:ext cx="1420560" cy="1189440"/>
              <a:chOff x="762120" y="4978440"/>
              <a:chExt cx="1420560" cy="1189440"/>
            </a:xfrm>
          </p:grpSpPr>
          <p:sp>
            <p:nvSpPr>
              <p:cNvPr id="449" name="Freeform 57"/>
              <p:cNvSpPr/>
              <p:nvPr/>
            </p:nvSpPr>
            <p:spPr>
              <a:xfrm>
                <a:off x="911160" y="49784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58"/>
              <p:cNvSpPr/>
              <p:nvPr/>
            </p:nvSpPr>
            <p:spPr>
              <a:xfrm>
                <a:off x="762120" y="52135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2494080" y="4910400"/>
              <a:ext cx="1239840" cy="1189800"/>
              <a:chOff x="2494080" y="4910400"/>
              <a:chExt cx="1239840" cy="1189800"/>
            </a:xfrm>
          </p:grpSpPr>
          <p:sp>
            <p:nvSpPr>
              <p:cNvPr id="452" name="Freeform 34"/>
              <p:cNvSpPr/>
              <p:nvPr/>
            </p:nvSpPr>
            <p:spPr>
              <a:xfrm>
                <a:off x="2543040" y="49104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61"/>
              <p:cNvSpPr/>
              <p:nvPr/>
            </p:nvSpPr>
            <p:spPr>
              <a:xfrm>
                <a:off x="2494080" y="52135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114800" y="4978440"/>
              <a:ext cx="1239840" cy="1189440"/>
              <a:chOff x="4114800" y="4978440"/>
              <a:chExt cx="1239840" cy="1189440"/>
            </a:xfrm>
          </p:grpSpPr>
          <p:sp>
            <p:nvSpPr>
              <p:cNvPr id="455" name="Freeform 63"/>
              <p:cNvSpPr/>
              <p:nvPr/>
            </p:nvSpPr>
            <p:spPr>
              <a:xfrm>
                <a:off x="4133880" y="49784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64"/>
              <p:cNvSpPr/>
              <p:nvPr/>
            </p:nvSpPr>
            <p:spPr>
              <a:xfrm>
                <a:off x="4114800" y="52135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DF9DE-1F70-40BD-B438-4D68F46C998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22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37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38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39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44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74"/>
              <p:cNvSpPr/>
              <p:nvPr/>
            </p:nvSpPr>
            <p:spPr>
              <a:xfrm>
                <a:off x="409428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47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48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53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58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62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65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71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74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77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2DF0B-B5E7-4866-B697-9E50963BE7C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sessment—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197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atic examination of some part (or all) of the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ormance with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2889000" cy="3019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6B22E-E119-470A-B79F-A1025DD14ED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ubOvalCallout"/>
          <p:cNvSpPr/>
          <p:nvPr/>
        </p:nvSpPr>
        <p:spPr>
          <a:xfrm>
            <a:off x="228600" y="1143000"/>
            <a:ext cx="7086600" cy="5410080"/>
          </a:xfrm>
          <a:custGeom>
            <a:avLst/>
            <a:gdLst>
              <a:gd name="textAreaLeft" fmla="*/ 1037520 w 7086600"/>
              <a:gd name="textAreaRight" fmla="*/ 6049080 w 7086600"/>
              <a:gd name="textAreaTop" fmla="*/ 594360 h 5410080"/>
              <a:gd name="textAreaBottom" fmla="*/ 3465360 h 541008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an assessment?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Someone is asking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219320" y="2209680"/>
            <a:ext cx="51814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at is being done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How does this comply with written polici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d proced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0D2FD-9AE1-41F4-9F23-73A4608FA18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y perform an assessment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arn “where we are” in terms of quality m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asure ga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 information for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ning and implem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inuous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553080" y="2057400"/>
            <a:ext cx="1905120" cy="17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0C768-F3D8-4825-AA81-F36053CD5AE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5880" y="2438280"/>
            <a:ext cx="274320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2971800"/>
            <a:ext cx="266688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utside group or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Ex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1523880" y="327636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3572000">
            <a:off x="3352680" y="487620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DFF35-CEA7-4103-8F8E-DE23598B31D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958F0-F73C-460B-B398-414C6DEB662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6:58Z</dcterms:modified>
  <cp:revision>125</cp:revision>
  <dc:subject/>
  <dc:title>Slide 1</dc:title>
</cp:coreProperties>
</file>