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0D404-420C-44D3-9FDF-8CC28615F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EF6EE-29A9-4ACD-A3D0-990ED6775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7D9C1-87EA-4941-8FCF-34CA343AE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7AAB0-0AAB-419E-8678-DDDB2AA3B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66A4B-0675-407D-9B01-11B88CA01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B7DD3-0781-432D-A12B-FD65537E2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3DAE7-FCEB-4336-AC42-D8DA5EDDC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6B342-765C-4CEC-8C28-B2A86E5B8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9BD64-2FF3-4911-A864-84465CEBD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C3E05-721B-4915-BC8B-7B7B26C54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A2654-CCB3-4F47-B5B5-A7FA01ADD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18DFD-C354-46C7-90A3-B96E8FE53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8B3B2-078A-4069-9EA6-BC94D4B92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3255B-5099-49C0-9EF2-80124669E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FAEB6-6E3A-47CB-A091-BC854EBF36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55936-E3F9-4469-90A5-BAC2741E56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DE5AA-E684-44E6-89E1-F8D8659016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B6D32-03D7-4439-BEA1-AD17FE010F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9F53-D8F9-4623-B30A-4487FC7D67F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0500-6796-4857-83CC-1D608067D78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3370-0606-47E1-A277-E7F7A67F93D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69BA-E74F-4B87-ACAD-B543D295741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379C-6C09-4615-8893-A79DBC159F5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B507-6926-4610-891C-6E374AA5500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37F9-9AB3-450A-8B3C-940AE601E2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B91D8-238F-4953-A86D-5C1F979890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A172-DAB8-4516-B675-E7AE599DA5F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FCEF-5BBD-4B96-8177-EEFEE01776C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0195-B54F-4EDB-A7FC-D6AAA3E5166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5C17-D69A-40A4-8B96-79785BF2B34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8310-2FE1-42F3-AB85-5E64594D69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79F1E-0006-4AB0-AEFB-C2B72427E7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0182E-415E-403B-BAE5-E421156FEF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8AFD5-6959-4B29-82BE-3AAEA2F074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23037-2613-40DD-8769-9565D48A64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A4019-7482-4778-ADD0-7D7EAD8795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273E5-824B-4718-9FF1-1814621CEC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74181-0949-413C-84B3-2CA5633ADF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1423C-C2C7-4892-9E8E-A2FFA56265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40000" indent="-205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51480" indent="-205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DA6CF-B496-4084-BE67-FA12727A73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2971800" y="1600200"/>
            <a:ext cx="61722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cess Control: Q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uality Control of Qualitative and Semi-Quantitative Procedure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5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F9A8-8203-43B8-BBAB-89EB3AF2DDD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sing 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 as per patient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positive and negative contr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a weak positive control for immunological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oose positive controls close to the cut-off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control to monitor extraction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CCE78-BABA-44B6-8D55-510B944CBDB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330D9-7B26-44E1-9376-7DF893D02FD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3200400" cy="275616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6E5B-BFAD-4E3B-B3DF-0C17A05A2B9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ck Cultures for QC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ence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in-house developed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able reactions in stains and medi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media, reag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supplies work as int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886200" y="434340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977B0-F8D8-4EC5-9F61-E337B9220D1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ources for Obtaining Reference Strai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C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merican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TCC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ional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(UK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teur Institute Collection (Fran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08AAD-B058-4929-A7E9-0CC1FD68FC4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990DC-0B46-47BC-BCD6-9E9E11868EC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A4C28-8401-445A-88D8-19ED3FDDE87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s are important—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e care of them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21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5659560" y="525780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o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95520" y="52578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Continued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1D225-15B4-4B1B-BAD7-3E32B47B457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BCEEF-C04B-4C93-B89F-73E493CDE79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 Manag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established procedure for preparation or reconstit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el: content, concentration, date prepared and placed in service, expiration, initi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appropriate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B7822-324A-45FB-9638-98C4929AF7B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C4A6B-55C3-4EDF-B813-4BFF6C4992D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for St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s appropriate for particular stain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with known organisms or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rystal shards or for precip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ontaminants such as bacteria and fung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581280" y="4800600"/>
            <a:ext cx="2057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right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am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A63A1-9DD0-415D-8BB8-9F324FD27D6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9E78A-2CDD-49EE-AC53-49722CAF277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ram Stain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6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"/>
          <p:cNvSpPr/>
          <p:nvPr/>
        </p:nvSpPr>
        <p:spPr>
          <a:xfrm>
            <a:off x="83808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9900"/>
                </a:solidFill>
                <a:latin typeface="Verdana"/>
              </a:rPr>
              <a:t>Good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5178240" y="502920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Verdana"/>
              </a:rPr>
              <a:t>Poor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288BC-7645-44BA-AF68-B3F1CF485F5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355A0-6533-4CC1-9F0D-9C9022C449E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of Microbiology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erformance of all med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-house prepared: all batch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ercially prepared: new lot on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581280" y="3505320"/>
            <a:ext cx="22100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cConkey Aga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C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non-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09714-49B4-4B34-852A-0DC4D6365E0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4A364-5035-4787-AFBA-CFD88FCB5E7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dia Problems to Avoi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3809880" y="1447920"/>
            <a:ext cx="2514600" cy="914400"/>
            <a:chOff x="3809880" y="1447920"/>
            <a:chExt cx="2514600" cy="914400"/>
          </a:xfrm>
        </p:grpSpPr>
        <p:sp>
          <p:nvSpPr>
            <p:cNvPr id="249" name="AutoShape 8"/>
            <p:cNvSpPr/>
            <p:nvPr/>
          </p:nvSpPr>
          <p:spPr>
            <a:xfrm>
              <a:off x="3888360" y="190512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AutoShape 9"/>
            <p:cNvSpPr/>
            <p:nvPr/>
          </p:nvSpPr>
          <p:spPr>
            <a:xfrm>
              <a:off x="3809880" y="144792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5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5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5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5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6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6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6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70" name="Text Box 32"/>
          <p:cNvSpPr/>
          <p:nvPr/>
        </p:nvSpPr>
        <p:spPr>
          <a:xfrm>
            <a:off x="912960" y="1523880"/>
            <a:ext cx="275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-d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ied-ou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min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609480" y="3200400"/>
            <a:ext cx="8229600" cy="26535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Human bloo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hould not be used because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 much batch to batch vari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include inhibitory substanc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including antimicrobial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contain biohazar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(e.g., hepatitis virus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1950840" cy="15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278E3-F7DF-4CE4-99A6-ECEBD033FD4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7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A97FD-3DB8-4540-8010-82767071F5A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of Growth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eep records for media prepared in-h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ord outcomes in a dedicated media logbook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,  sterility,  ability to support growth using stock cultures,  biochemical response of stock cul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st each new batch or lot nu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8151C-2210-45AE-942F-37DF0753E4C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77255-5FAA-4BBE-BC95-7B02DD61547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between built-in and traditional contro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use stock cultures for microbiology Q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use of quality control procedures for stains used in microscopic examin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methods for verifying performance of microbiological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09BC0-7F5B-4BF8-8DE4-B7E531C5D7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87651-1105-429A-A5A2-2BBEEE8A0F1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qualitative tests produce non-numerical resul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mi-quantitative tests give an estim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stablish a QC program for qualitative and semi-quantitative tes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8ABDF-764A-4268-917C-D173F528BC1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QC procedures followed by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lways record QC results and corrective 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f QC results are not acceptable, do not report patient result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DDFBC-F6C6-4AC2-B09F-EED4EEBDD7E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D53BE-A14F-4E18-B7F6-9EA7B0F26BD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85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99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300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301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302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03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04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05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6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307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8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9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310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311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2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13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4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316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8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321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23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325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6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328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9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30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334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5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337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8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340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1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EC08F-B4B0-42CA-A58D-6123E9FF530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y A performs a culture, a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identified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QC measures can you use to confirm that the isolate is correctly identified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6F162-978E-4E53-A65A-8ECE10E5B4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09680" y="1066680"/>
            <a:ext cx="5105520" cy="5257440"/>
            <a:chOff x="2209680" y="1066680"/>
            <a:chExt cx="5105520" cy="5257440"/>
          </a:xfrm>
        </p:grpSpPr>
        <p:sp>
          <p:nvSpPr>
            <p:cNvPr id="136" name="AutoShape 4"/>
            <p:cNvSpPr/>
            <p:nvPr/>
          </p:nvSpPr>
          <p:spPr>
            <a:xfrm>
              <a:off x="2209680" y="1066680"/>
              <a:ext cx="5105520" cy="5257440"/>
            </a:xfrm>
            <a:custGeom>
              <a:avLst/>
              <a:gdLst>
                <a:gd name="textAreaLeft" fmla="*/ 249120 w 5105520"/>
                <a:gd name="textAreaRight" fmla="*/ 4856400 w 5105520"/>
                <a:gd name="textAreaTop" fmla="*/ 249120 h 5257440"/>
                <a:gd name="textAreaBottom" fmla="*/ 5008320 h 5257440"/>
              </a:gdLst>
              <a:ahLst/>
              <a:rect l="textAreaLeft" t="textAreaTop" r="textAreaRight" b="textAreaBottom"/>
              <a:pathLst>
                <a:path w="21600" h="22243">
                  <a:moveTo>
                    <a:pt x="3600" y="0"/>
                  </a:moveTo>
                  <a:arcTo wR="3600" hR="3600" stAng="16200000" swAng="-5400000"/>
                  <a:lnTo>
                    <a:pt x="0" y="18643"/>
                  </a:lnTo>
                  <a:arcTo wR="3600" hR="3600" stAng="10800000" swAng="-5400000"/>
                  <a:lnTo>
                    <a:pt x="18000" y="22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21160" y="3834000"/>
              <a:ext cx="118800" cy="705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76200" y="3210480"/>
              <a:ext cx="165600" cy="1108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65040" y="3148920"/>
              <a:ext cx="168840" cy="385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24720" y="5932440"/>
              <a:ext cx="10800" cy="450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566600" y="4794120"/>
              <a:ext cx="1440" cy="101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338880" y="1713960"/>
              <a:ext cx="1440" cy="39837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762080" y="1868760"/>
              <a:ext cx="144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10400" y="1917000"/>
              <a:ext cx="108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09800" y="1760400"/>
              <a:ext cx="38682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09560" y="1156680"/>
              <a:ext cx="1243080" cy="1156320"/>
              <a:chOff x="2509560" y="1156680"/>
              <a:chExt cx="1243080" cy="115632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09560" y="1156680"/>
                <a:ext cx="1220760" cy="1156320"/>
                <a:chOff x="2509560" y="1156680"/>
                <a:chExt cx="1220760" cy="115632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0320" y="1156680"/>
                  <a:ext cx="1135440" cy="1156320"/>
                  <a:chOff x="2560320" y="1156680"/>
                  <a:chExt cx="1135440" cy="115632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09560" y="1423080"/>
                  <a:ext cx="122076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1880" y="156672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41440" y="1156680"/>
              <a:ext cx="1221480" cy="1156320"/>
              <a:chOff x="4141440" y="1156680"/>
              <a:chExt cx="1221480" cy="115632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181760" y="1156680"/>
                <a:ext cx="1136160" cy="115632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41440" y="156672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18240" y="1156680"/>
              <a:ext cx="1221480" cy="1156320"/>
              <a:chOff x="5718240" y="1156680"/>
              <a:chExt cx="1221480" cy="115632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762880" y="1156680"/>
                <a:ext cx="1136160" cy="1156320"/>
                <a:chOff x="5762880" y="1156680"/>
                <a:chExt cx="1136160" cy="115632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18240" y="15710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85040" y="307512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509560" y="2458440"/>
              <a:ext cx="1223280" cy="1155960"/>
              <a:chOff x="2509560" y="2458440"/>
              <a:chExt cx="1223280" cy="115596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3880" y="2458440"/>
                <a:ext cx="11386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09560" y="273708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189680" y="2519280"/>
              <a:ext cx="113580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28920" y="2535480"/>
              <a:ext cx="113400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663160" y="2475720"/>
              <a:ext cx="1316880" cy="1155960"/>
              <a:chOff x="5663160" y="2475720"/>
              <a:chExt cx="1316880" cy="115596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38040" y="247572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663160" y="276696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09800" y="431388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509560" y="3779280"/>
              <a:ext cx="1221480" cy="1157400"/>
              <a:chOff x="2509560" y="3779280"/>
              <a:chExt cx="1221480" cy="115740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0880" y="3779280"/>
                <a:ext cx="113652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09560" y="400428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141440" y="3779280"/>
              <a:ext cx="1221480" cy="1157400"/>
              <a:chOff x="4141440" y="3779280"/>
              <a:chExt cx="1221480" cy="115740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67720" y="3779280"/>
                <a:ext cx="113688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41440" y="4022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38400" y="3772800"/>
              <a:ext cx="113724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18240" y="385020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85040" y="562680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434680" y="5090400"/>
              <a:ext cx="1399680" cy="1155960"/>
              <a:chOff x="2434680" y="5090400"/>
              <a:chExt cx="1399680" cy="115596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1200" y="5090400"/>
                <a:ext cx="113544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4680" y="5319000"/>
                <a:ext cx="139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41440" y="5024160"/>
              <a:ext cx="1221480" cy="1156320"/>
              <a:chOff x="4141440" y="5024160"/>
              <a:chExt cx="1221480" cy="115632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189320" y="5024160"/>
                <a:ext cx="1135440" cy="115632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41440" y="53186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738400" y="5090400"/>
              <a:ext cx="1221480" cy="1155960"/>
              <a:chOff x="5738400" y="5090400"/>
              <a:chExt cx="1221480" cy="115596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757120" y="509040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38400" y="531900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EF7DE-167C-4C6E-9743-FACC491DC7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ative or semi-quantitative tests - Exampl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scopic examin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pstick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rologic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biological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y reaction that produces non-numeric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B09F4-A329-4A4A-AA5A-5FD20B13121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98" name="wbcrbc" descr="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CF433-4A1A-49BB-8100-3A8078E7C6D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ortant Concep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mple manageme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ff competenc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mainten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ins, media and reagents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C09B3-CD0E-4F9E-8E5A-8062D5696FD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91FB0-0E68-4778-B439-5F257A3624C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Materia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ontrol materials that mimic patient samp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ference organis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80CB4-143B-40E0-8146-450CEF561CB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tegrated into the design of a test kit dev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utomatically run with each test perform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certain aspects of kit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y not assess enti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esting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07856-04EB-47D7-B89F-991972E5150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terials with known reacti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imic patient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the integrity of the entir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44EC4-C3D4-438E-9B2F-331ACB094C8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09:52:17Z</dcterms:modified>
  <cp:revision>464</cp:revision>
  <dc:subject/>
  <dc:title>Slide 1</dc:title>
</cp:coreProperties>
</file>