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C48B0-8747-4789-AD4B-5A117CC488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AA7A3-2893-40E0-9D55-4F320DE2AD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C6DDC-98F4-465B-B748-777EF91B0E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9C52E-7565-46EB-9E3A-B1A06B8341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C01C1-C3AB-4B20-B86A-E812862751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E1234-C6C2-4465-91D4-3A623CE8E8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C7F00-11B5-47FF-A500-24974DF979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E4E1A-84F3-4DD2-9E9D-43A0F6FC08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55786-4F05-46CB-9928-008B5B699F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442CE-39ED-4215-93D1-5DC5FE3EE7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7D1C5-D04B-4225-8150-9A2EEB1905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B14678-5C7F-4EF5-A52D-94E1E6EC84E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7062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980011-939E-42D2-A46F-1AAF332C8AE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2038E9-0215-4842-A5FA-66991B7300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48668A-A972-441A-8FFE-4DF32E591C5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44EE0-D8EB-426A-A37C-60B3544719A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87974-6988-4C74-B81A-A0B8A95EE21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20F79-173C-42DE-BA97-E1391FF7B89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F4C5F-6151-4CB5-9AAF-507F4C9B496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39BAB-6F82-45DE-8DA7-EEE55978403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C458E-AF91-4FA3-B057-C0EC047A729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13CBC-C3F9-40AD-B391-E2D58A833BD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0D317F-E49C-4BB9-A0F3-0B8B5462E1A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205AD-62C2-45E0-A975-EB688FB58CA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8F29E-6F72-4171-8192-075214E3F6C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37062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1FD40-FE54-429E-980B-E51DB520C70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C4B6E-6591-4599-AC2B-C8ADD3FE21F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E8CA5-4303-4BA6-A5EC-6DFC30913AD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28B9A1-9AA8-4510-93A7-F41FC199FA0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F4F641-73EA-4CEB-B130-D22D70F02B7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50B243-CD4B-445F-B414-057BDFA3117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455391-C266-4BBA-A80D-A825313CF4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087D12-143B-4B73-A85C-5F6CEB42467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792A92-CEB9-4423-AB67-AEF0B2C30F8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5619CE-AC58-424B-8053-A6237E3F01E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880" y="6248520"/>
            <a:ext cx="5029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5395D-3C38-4412-8E00-83BEDE36359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2581D-9090-4A78-9DB0-0B1897C4938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Quality Control:  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Molecular Diagnostics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87DD0-539E-4B5D-B58C-5A52563AA01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0982E-1971-4D58-82CC-9E0016DF588F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00007d"/>
                </a:solidFill>
                <a:latin typeface="Verdana"/>
              </a:rPr>
              <a:t>Negative resul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51" name="Picture 3" descr=""/>
          <p:cNvPicPr/>
          <p:nvPr/>
        </p:nvPicPr>
        <p:blipFill>
          <a:blip r:embed="rId1"/>
          <a:stretch/>
        </p:blipFill>
        <p:spPr>
          <a:xfrm>
            <a:off x="469800" y="1676520"/>
            <a:ext cx="820260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5B93A4-7637-4384-BF69-E58B3B34DA7B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2D715-9F18-4546-8BD5-A8F93A6B421F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isks with PC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st RT-PCR is still done as “in-house” or “home-brew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imers are not necessarily optimized to tes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ositive controls are “in-house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egative controls are “in-house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terpretation of tests need to be done with cau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CF9358-FAC3-4119-857F-4C9AC31FFE5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C9796-1FDB-4748-9FD8-C427D12412ED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Overview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Sample Collection, Transport, and Process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intain Nucleic acid integrity through these process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Contamination Contro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stablish a unidirectional work flow from a DNA-free area for reagent preparation, to a sample processing area, to area where amplification and detection occu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Positive and Negative Contro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Reference: CLSI MM3-A (Molecular Diagnostic Methods for Infectious Disease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1B2FFD-4883-4325-B1D7-05799C1ECF3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4E013-BDB0-4D87-8C91-F6B5AB72ECBF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Control:  </a:t>
            </a: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olecular Diagnostic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17" name="Picture 3" descr=""/>
          <p:cNvPicPr/>
          <p:nvPr/>
        </p:nvPicPr>
        <p:blipFill>
          <a:blip r:embed="rId1"/>
          <a:stretch/>
        </p:blipFill>
        <p:spPr>
          <a:xfrm>
            <a:off x="884160" y="1676520"/>
            <a:ext cx="737388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0F04C7-0E99-4813-8F91-F2E351528AB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79D27-1253-4491-9327-0754AA165667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3" descr=""/>
          <p:cNvPicPr/>
          <p:nvPr/>
        </p:nvPicPr>
        <p:blipFill>
          <a:blip r:embed="rId1"/>
          <a:stretch/>
        </p:blipFill>
        <p:spPr>
          <a:xfrm>
            <a:off x="2057400" y="1066680"/>
            <a:ext cx="4821120" cy="5211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E8C729-22E3-4D87-ADC4-FB9D16350DA6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61157-7FCF-41B7-B9F0-53F83D58BD73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al Time PC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2" name="Oval 3"/>
          <p:cNvSpPr/>
          <p:nvPr/>
        </p:nvSpPr>
        <p:spPr>
          <a:xfrm>
            <a:off x="457200" y="1676520"/>
            <a:ext cx="1143000" cy="6094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533520" y="3124080"/>
            <a:ext cx="990360" cy="609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PRI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5"/>
          <p:cNvSpPr/>
          <p:nvPr/>
        </p:nvSpPr>
        <p:spPr>
          <a:xfrm>
            <a:off x="685800" y="2362320"/>
            <a:ext cx="2895480" cy="609480"/>
          </a:xfrm>
          <a:prstGeom prst="rightArrow">
            <a:avLst>
              <a:gd name="adj1" fmla="val 50000"/>
              <a:gd name="adj2" fmla="val 118768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Taq polymer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6"/>
          <p:cNvSpPr/>
          <p:nvPr/>
        </p:nvSpPr>
        <p:spPr>
          <a:xfrm>
            <a:off x="3733920" y="2209680"/>
            <a:ext cx="1447560" cy="91440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Amplified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Target 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7"/>
          <p:cNvSpPr/>
          <p:nvPr/>
        </p:nvSpPr>
        <p:spPr>
          <a:xfrm>
            <a:off x="2514600" y="3962520"/>
            <a:ext cx="3352680" cy="533160"/>
          </a:xfrm>
          <a:prstGeom prst="rightArrow">
            <a:avLst>
              <a:gd name="adj1" fmla="val 50000"/>
              <a:gd name="adj2" fmla="val 157208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SYBR Gr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8"/>
          <p:cNvSpPr/>
          <p:nvPr/>
        </p:nvSpPr>
        <p:spPr>
          <a:xfrm>
            <a:off x="5562720" y="2895480"/>
            <a:ext cx="3352680" cy="2438640"/>
          </a:xfrm>
          <a:prstGeom prst="irregularSeal1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Quantitativ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Fluoresc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9"/>
          <p:cNvSpPr/>
          <p:nvPr/>
        </p:nvSpPr>
        <p:spPr>
          <a:xfrm>
            <a:off x="2590920" y="4495680"/>
            <a:ext cx="609480" cy="1524240"/>
          </a:xfrm>
          <a:prstGeom prst="upArrow">
            <a:avLst>
              <a:gd name="adj1" fmla="val 50000"/>
              <a:gd name="adj2" fmla="val 62522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10"/>
          <p:cNvSpPr/>
          <p:nvPr/>
        </p:nvSpPr>
        <p:spPr>
          <a:xfrm>
            <a:off x="3505320" y="4495680"/>
            <a:ext cx="609480" cy="1524240"/>
          </a:xfrm>
          <a:prstGeom prst="upArrow">
            <a:avLst>
              <a:gd name="adj1" fmla="val 50000"/>
              <a:gd name="adj2" fmla="val 62522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11"/>
          <p:cNvSpPr/>
          <p:nvPr/>
        </p:nvSpPr>
        <p:spPr>
          <a:xfrm>
            <a:off x="4495680" y="4495680"/>
            <a:ext cx="609840" cy="1524240"/>
          </a:xfrm>
          <a:prstGeom prst="upArrow">
            <a:avLst>
              <a:gd name="adj1" fmla="val 50000"/>
              <a:gd name="adj2" fmla="val 62485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C3476C-3F40-4EC7-87EA-A539CAD2378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EDDBF-6E77-4B7A-A4D1-514948048A3C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00007d"/>
                </a:solidFill>
                <a:latin typeface="Verdana"/>
              </a:rPr>
              <a:t>Amplification Reac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1295280" y="1752480"/>
            <a:ext cx="6400800" cy="37339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Freeform 4"/>
          <p:cNvSpPr/>
          <p:nvPr/>
        </p:nvSpPr>
        <p:spPr>
          <a:xfrm>
            <a:off x="1752480" y="2811600"/>
            <a:ext cx="5612040" cy="2471760"/>
          </a:xfrm>
          <a:prstGeom prst="pie">
            <a:avLst/>
          </a:pr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5"/>
          <p:cNvSpPr/>
          <p:nvPr/>
        </p:nvSpPr>
        <p:spPr>
          <a:xfrm>
            <a:off x="1752480" y="5638680"/>
            <a:ext cx="5867640" cy="533520"/>
          </a:xfrm>
          <a:prstGeom prst="rightArrow">
            <a:avLst>
              <a:gd name="adj1" fmla="val 50000"/>
              <a:gd name="adj2" fmla="val 27494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Amplification /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6"/>
          <p:cNvSpPr/>
          <p:nvPr/>
        </p:nvSpPr>
        <p:spPr>
          <a:xfrm>
            <a:off x="533520" y="1828800"/>
            <a:ext cx="533160" cy="3429000"/>
          </a:xfrm>
          <a:prstGeom prst="upArrow">
            <a:avLst>
              <a:gd name="adj1" fmla="val 50000"/>
              <a:gd name="adj2" fmla="val 160787"/>
            </a:avLst>
          </a:prstGeom>
          <a:gradFill rotWithShape="0">
            <a:gsLst>
              <a:gs pos="0">
                <a:srgbClr val="00ff00"/>
              </a:gs>
              <a:gs pos="100000">
                <a:srgbClr val="0099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Freeform 7"/>
          <p:cNvSpPr/>
          <p:nvPr/>
        </p:nvSpPr>
        <p:spPr>
          <a:xfrm>
            <a:off x="1752480" y="5300640"/>
            <a:ext cx="5562720" cy="135000"/>
          </a:xfrm>
          <a:prstGeom prst="pie">
            <a:avLst/>
          </a:prstGeom>
          <a:noFill/>
          <a:ln w="7632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9"/>
          <p:cNvSpPr/>
          <p:nvPr/>
        </p:nvSpPr>
        <p:spPr>
          <a:xfrm>
            <a:off x="5717880" y="2438280"/>
            <a:ext cx="10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POSI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0"/>
          <p:cNvSpPr/>
          <p:nvPr/>
        </p:nvSpPr>
        <p:spPr>
          <a:xfrm>
            <a:off x="5411520" y="4724280"/>
            <a:ext cx="203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NO AMPLIFIC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067D8A-0A8C-42F5-B043-D236710D10C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AF4BC-DF1A-422B-B06B-B46AA074796B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00007d"/>
                </a:solidFill>
                <a:latin typeface="Verdana"/>
              </a:rPr>
              <a:t>Real Time RT-PC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42" name="Picture 3" descr=""/>
          <p:cNvPicPr/>
          <p:nvPr/>
        </p:nvPicPr>
        <p:blipFill>
          <a:blip r:embed="rId1"/>
          <a:stretch/>
        </p:blipFill>
        <p:spPr>
          <a:xfrm>
            <a:off x="1373040" y="1676520"/>
            <a:ext cx="639792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AD0B7E-84B5-4DD5-BC27-E76BFCBDA1A9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E95BA-C4E7-40BA-A61B-CFD8721982D2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00007d"/>
                </a:solidFill>
                <a:latin typeface="Verdana"/>
              </a:rPr>
              <a:t>A/H3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45" name="Picture 3" descr=""/>
          <p:cNvPicPr/>
          <p:nvPr/>
        </p:nvPicPr>
        <p:blipFill>
          <a:blip r:embed="rId1"/>
          <a:stretch/>
        </p:blipFill>
        <p:spPr>
          <a:xfrm>
            <a:off x="581040" y="1676520"/>
            <a:ext cx="798048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9DDFC6-8713-4606-BB91-6962C7740B2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AD5A6-92A3-4E11-9EB3-59A6B0D5AEF4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00007d"/>
                </a:solidFill>
                <a:latin typeface="Verdana"/>
              </a:rPr>
              <a:t>A/H5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48" name="Picture 3" descr=""/>
          <p:cNvPicPr/>
          <p:nvPr/>
        </p:nvPicPr>
        <p:blipFill>
          <a:blip r:embed="rId1"/>
          <a:stretch/>
        </p:blipFill>
        <p:spPr>
          <a:xfrm>
            <a:off x="762120" y="1676520"/>
            <a:ext cx="767556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FE3CE3-583F-42F7-AF29-FBE8C87FCDC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8T07:02:05Z</dcterms:created>
  <dc:creator>Robin Barteluk</dc:creator>
  <dc:description/>
  <dc:language>en-US</dc:language>
  <cp:lastModifiedBy>Robin Barteluk</cp:lastModifiedBy>
  <dcterms:modified xsi:type="dcterms:W3CDTF">2008-12-02T03:54:08Z</dcterms:modified>
  <cp:revision>3</cp:revision>
  <dc:subject/>
  <dc:title>Quality Control:   Molecular Diagnostics</dc:title>
</cp:coreProperties>
</file>