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6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7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8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D0C89-7627-4ED5-9710-AEABD96CF2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55F16-91A0-4D5B-9592-6EEC4564BA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s of activity-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ver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F1DE5-9E8D-4A46-A09F-5B5F3C2A9A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5FAE7-1DCF-4F43-8FF5-FAE64B534E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2ABEB-B639-4131-8B6D-3D98F0C1B0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A995B-9D70-45C1-8BAC-60BA1037C8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40352-1D6F-41A8-A400-170905D590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2B2FB-B14A-4519-AEDB-EDCD0D3378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C0FA9-4F80-4F77-B73D-667D93E98C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45F1E-4B6E-433F-A4AD-1C840243C8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y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7426B-1764-42B5-A65B-AF358FDEDD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6B1359-393D-4CD8-AB28-0E3B73566E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F45AD9-C1D1-4E41-AC0B-BDDE0C0C2E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3FA7BA-17DF-4AB6-B877-0F3F081C73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240550-7D0B-44CB-BFAA-36636B2262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CA66AF-0F29-459A-87AB-DBF6A8956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09D031-F1A9-43D8-93D6-58BDD5EC0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6DEC9F-8E29-477D-9080-1BD3E6373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9CDD4B-D6FD-467A-9FBF-7BDD1809B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821A6E-ACF0-4D52-9D57-B0DA2A6A0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9B09EA-7B9A-40CD-B4FC-5117931F0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F19317-9809-4D03-B81E-E2D8FE849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59FFA6-CA5D-492B-A370-79B890E572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4C8262-791D-40AD-9EBE-7A97DDE07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2405F9-477A-4D61-AC51-B72D11187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1DC27D-18D3-4466-8967-B58471FB4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37C32B-77D8-4F0C-996B-AC0D5BD13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C8DF59-048F-4FAC-B654-E937F8B45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C07ED8-72BD-4E62-99F6-3A9B5A874A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B59FCD-BCA8-4A25-8AB6-E775DA9C8F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A83992-A2E3-4CEC-80F9-A6698A2170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88853B-EB18-4F23-9614-2387F50412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7215AE-9E06-445A-A041-3D8326200F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19AD8E-E047-42A6-A816-2A840B92C3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2A8926-5E7E-4C9C-B504-771CC89F4B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A692A-BA6C-4264-9DEA-B87B9C4C138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92965-3584-4827-AFF1-409C3AD1B9B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estgard Multirule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762012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“multi-rule” system developed by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r. James O. Westgard based on statistical concep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combination of decision criteria o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les to assess if a system is in contr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when at least 2 levels of control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e run with the examination ru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nnot use with only one contr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Picture 9" descr="westgard_lecturing"/>
          <p:cNvPicPr/>
          <p:nvPr/>
        </p:nvPicPr>
        <p:blipFill>
          <a:blip r:embed="rId1"/>
          <a:stretch/>
        </p:blipFill>
        <p:spPr>
          <a:xfrm>
            <a:off x="2971800" y="4191120"/>
            <a:ext cx="3657600" cy="236844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10"/>
          <p:cNvSpPr/>
          <p:nvPr/>
        </p:nvSpPr>
        <p:spPr>
          <a:xfrm>
            <a:off x="6095880" y="4495680"/>
            <a:ext cx="2210040" cy="3988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r. Westg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B3B258-AA67-4890-8CDE-8518485A290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305920" cy="28195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57200" y="3429000"/>
            <a:ext cx="8358120" cy="2832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3895B9-514A-46C4-B077-26C4E8655D7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5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nswers for activit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447920"/>
            <a:ext cx="8305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1, 22, 24, 26, 27, 30, 31, 33, 34, 36-44 – in contro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3, 28, 29 –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5 -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32 – 2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35 -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4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11DDEC-77A0-41B4-9600-14093559F0C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1"/>
          <p:cNvSpPr/>
          <p:nvPr/>
        </p:nvSpPr>
        <p:spPr>
          <a:xfrm>
            <a:off x="457200" y="6248520"/>
            <a:ext cx="4343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Multirule System Titles</a:t>
            </a: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24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657600" cy="25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0000"/>
          </a:bodyPr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4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1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0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657600" y="1599840"/>
            <a:ext cx="4191120" cy="1523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4419720" y="1600200"/>
            <a:ext cx="3809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sed when 2 levels of control material are analyzed per ru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9"/>
          <p:cNvSpPr/>
          <p:nvPr/>
        </p:nvSpPr>
        <p:spPr>
          <a:xfrm>
            <a:off x="1752480" y="5486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1" descr="j0082253"/>
          <p:cNvPicPr/>
          <p:nvPr/>
        </p:nvPicPr>
        <p:blipFill>
          <a:blip r:embed="rId1"/>
          <a:stretch/>
        </p:blipFill>
        <p:spPr>
          <a:xfrm>
            <a:off x="6019920" y="3124080"/>
            <a:ext cx="2501640" cy="30481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7E830C-2234-4663-823B-09FCEB79BA3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1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ARNING RULE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– not cause for rejecting a ru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e of two control results falls outside ±2S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erts technologist to possible proble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then evaluate the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3S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u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06EAE4-208C-4A4C-9A6B-F8DABF1C1EB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ntitative QC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1640"/>
            <a:ext cx="822960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2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wo consecutive control values for the same level fall outside of ±2SD in the same direction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controls in the same run exceed ±2SD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tient results cannot be reporte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rrective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EEC0CB-FA4A-4467-BB24-D380223CAAA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R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4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e control exceeds the mean by –2SD, and the other control exceeds the mean by +2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range between the two results will therefore exceed 4 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andom error has occurred, test run must be rejecte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A79D41-5891-46EB-A5F0-EEBE8C1B0C0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4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1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848360" cy="36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ntrol data from previous ru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 consecutive QC results for one level of control are outside ±1SD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levels of control have consecutive results that are outside ±1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2DD44E-AA50-40A2-9D3A-D2CF482AF5C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10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X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229600" cy="33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ntrol data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vious ru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n consecutive QC results for one level of control are on one side of the mean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levels of control have five consecutive results that are on the same side of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Line 5"/>
          <p:cNvSpPr/>
          <p:nvPr/>
        </p:nvSpPr>
        <p:spPr>
          <a:xfrm>
            <a:off x="4724280" y="838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9137F2-E222-46B1-8EC2-84C0080F5D0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Westgard Multirule QC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7" name="Picture 3" descr="flow3"/>
          <p:cNvPicPr/>
          <p:nvPr/>
        </p:nvPicPr>
        <p:blipFill>
          <a:blip r:embed="rId1"/>
          <a:stretch/>
        </p:blipFill>
        <p:spPr>
          <a:xfrm>
            <a:off x="762120" y="1295280"/>
            <a:ext cx="7772400" cy="481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9F6C73-30F1-45D6-A9FB-AF7CCF44F72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65280"/>
            <a:ext cx="7772400" cy="66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99"/>
                </a:solidFill>
                <a:latin typeface="Verdana"/>
              </a:rPr>
              <a:t>Activity</a:t>
            </a:r>
            <a:br>
              <a:rPr sz="3800"/>
            </a:br>
            <a:endParaRPr b="0" lang="en-US" sz="3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837720" y="1371600"/>
            <a:ext cx="7239240" cy="28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Verdana"/>
              </a:rPr>
              <a:t>Using the Westgard Multirule System, describe the control values for each day in the following slide.</a:t>
            </a:r>
            <a:endParaRPr b="0" lang="en-US" sz="4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8659E3-BC80-40E6-9390-E6E9F2277C4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2:26:00Z</dcterms:created>
  <dc:creator>Robin Barteluk</dc:creator>
  <dc:description/>
  <dc:language>en-US</dc:language>
  <cp:lastModifiedBy>Robin Barteluk</cp:lastModifiedBy>
  <dcterms:modified xsi:type="dcterms:W3CDTF">2008-11-27T20:41:53Z</dcterms:modified>
  <cp:revision>4</cp:revision>
  <dc:subject/>
  <dc:title>Westgard Multirule System</dc:title>
</cp:coreProperties>
</file>