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4.png" ContentType="image/png"/>
  <Override PartName="/ppt/media/image22.wmf" ContentType="image/x-wmf"/>
  <Override PartName="/ppt/media/image21.jpeg" ContentType="image/jpeg"/>
  <Override PartName="/ppt/media/image32.wmf" ContentType="image/x-wmf"/>
  <Override PartName="/ppt/media/image28.jpeg" ContentType="image/jpeg"/>
  <Override PartName="/ppt/media/image23.wmf" ContentType="image/x-wmf"/>
  <Override PartName="/ppt/media/image20.png" ContentType="image/png"/>
  <Override PartName="/ppt/media/image2.jpeg" ContentType="image/jpeg"/>
  <Override PartName="/ppt/media/image57.png" ContentType="image/png"/>
  <Override PartName="/ppt/media/image18.png" ContentType="image/png"/>
  <Override PartName="/ppt/media/image17.wmf" ContentType="image/x-wmf"/>
  <Override PartName="/ppt/media/image56.png" ContentType="image/png"/>
  <Override PartName="/ppt/media/image15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50.png" ContentType="image/png"/>
  <Override PartName="/ppt/media/image10.jpeg" ContentType="image/jpeg"/>
  <Override PartName="/ppt/media/image54.wmf" ContentType="image/x-wmf"/>
  <Override PartName="/ppt/media/image1.jpeg" ContentType="image/jpeg"/>
  <Override PartName="/ppt/media/image35.jpeg" ContentType="image/jpeg"/>
  <Override PartName="/ppt/media/image47.png" ContentType="image/png"/>
  <Override PartName="/ppt/media/image7.png" ContentType="image/png"/>
  <Override PartName="/ppt/media/image16.wmf" ContentType="image/x-wmf"/>
  <Override PartName="/ppt/media/image14.jpeg" ContentType="image/jpeg"/>
  <Override PartName="/ppt/media/image58.png" ContentType="image/png"/>
  <Override PartName="/ppt/media/image46.jpeg" ContentType="image/jpeg"/>
  <Override PartName="/ppt/media/image37.wmf" ContentType="image/x-wmf"/>
  <Override PartName="/ppt/media/image43.wmf" ContentType="image/x-wmf"/>
  <Override PartName="/ppt/media/image53.jpeg" ContentType="image/jpeg"/>
  <Override PartName="/ppt/media/image48.jpeg" ContentType="image/jpeg"/>
  <Override PartName="/ppt/media/image44.jpeg" ContentType="image/jpeg"/>
  <Override PartName="/ppt/media/image38.jpeg" ContentType="image/jpeg"/>
  <Override PartName="/ppt/media/image13.jpeg" ContentType="image/jpeg"/>
  <Override PartName="/ppt/media/image40.jpeg" ContentType="image/jpeg"/>
  <Override PartName="/ppt/media/image49.png" ContentType="image/png"/>
  <Override PartName="/ppt/media/image51.png" ContentType="image/png"/>
  <Override PartName="/ppt/media/image39.png" ContentType="image/png"/>
  <Override PartName="/ppt/media/image42.wmf" ContentType="image/x-wmf"/>
  <Override PartName="/ppt/media/image52.jpeg" ContentType="image/jpeg"/>
  <Override PartName="/ppt/media/image55.jpeg" ContentType="image/jpeg"/>
  <Override PartName="/ppt/media/image45.wmf" ContentType="image/x-wmf"/>
  <Override PartName="/ppt/media/image31.jpeg" ContentType="image/jpeg"/>
  <Override PartName="/ppt/media/image36.png" ContentType="image/png"/>
  <Override PartName="/ppt/media/image33.jpeg" ContentType="image/jpeg"/>
  <Override PartName="/ppt/media/image34.png" ContentType="image/png"/>
  <Override PartName="/ppt/media/image12.jpeg" ContentType="image/jpeg"/>
  <Override PartName="/ppt/media/image6.wmf" ContentType="image/x-wmf"/>
  <Override PartName="/ppt/media/image19.jpeg" ContentType="image/jpeg"/>
  <Override PartName="/ppt/media/image29.wmf" ContentType="image/x-wmf"/>
  <Override PartName="/ppt/media/image11.png" ContentType="image/png"/>
  <Override PartName="/ppt/media/image9.jpeg" ContentType="image/jpeg"/>
  <Override PartName="/ppt/media/image8.png" ContentType="image/png"/>
  <Override PartName="/ppt/media/image4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E7C70-0126-4C74-BF4A-A540701468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8423F-24E1-46FE-9BE5-837CF338B6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21A6F-E197-49A9-822E-44CBA2502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3DB81-5086-4183-8C01-CE9DF8CE4F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5F1E4-6F10-43CA-A899-B159B00E72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CC146-0641-434D-AA45-13535147AC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E828E-6BCE-49E9-B3AA-7F6D2D09A8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8A086-791E-40A0-AF16-7AEE06DC20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B627E-F8F8-4429-B7EE-51C1172E49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F7737-39CC-4822-BFD4-178C8E717F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1FC24-FC74-455E-AFA7-E4BDFF12F8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1CC9-C447-43B7-891A-AF73225F5A5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45C7-C57E-41EB-B686-FCD9BE30A56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716E-9765-4519-A1F1-9A348B910DC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E3C7-EE47-4460-AD08-12E2BDC9D6A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B05E-DE1D-441B-95B5-A760BFDA716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D85E-2767-44DC-BADE-4313D9F2983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54E9-1396-44E7-9D62-FAC5F649AEE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6D46B-9E45-4144-B5E3-D46343947D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ADD5-A88C-4CDD-AB51-1CDB7FA6701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B7E1-8240-474B-B23F-0C35B26C265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D59C-A1F8-4E51-A15B-23408B509C9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BFAD-F58C-473E-8AF4-F2262D4B068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46D0-75E9-4098-969D-1421A40E31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5D9CB-95F0-4AD7-9818-2082323176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8916D-4889-464D-9E5E-A7D8898558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791D1-8C57-4249-A9C0-47EEF68024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87A97-F972-44BF-A853-52EE65A647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0127B-5BF0-4EB4-80B5-BB23531530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7E2D0-F870-488E-994F-7522C4F98C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36261-6717-4AE5-8B70-4F988095DA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44815-B7C3-41A6-9034-5139A4B6C7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2AD5C-81BC-41B9-BC7D-92F29846FD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wmf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jpeg"/><Relationship Id="rId3" Type="http://schemas.openxmlformats.org/officeDocument/2006/relationships/image" Target="../media/image10.jpeg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jpe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895480" y="2133720"/>
            <a:ext cx="5943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Equip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87C4-298B-4865-A561-09BF4311E2C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609480" y="16765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easy to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609480" y="3809880"/>
            <a:ext cx="2971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ill it f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09480" y="3124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arran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609480" y="23623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0" t="0" r="11143" b="0"/>
          <a:stretch/>
        </p:blipFill>
        <p:spPr>
          <a:xfrm>
            <a:off x="4191120" y="1523880"/>
            <a:ext cx="4636800" cy="33991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038480" y="3200400"/>
            <a:ext cx="2524320" cy="2371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MCj00787110000[1]"/>
          <p:cNvPicPr/>
          <p:nvPr/>
        </p:nvPicPr>
        <p:blipFill>
          <a:blip r:embed="rId3"/>
          <a:stretch/>
        </p:blipFill>
        <p:spPr>
          <a:xfrm>
            <a:off x="6248520" y="2133720"/>
            <a:ext cx="16030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029A0-A3F9-474F-AD79-67D36EF6E59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cquiring Equip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urchase, lease, rent, don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entral acquisi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ulk procur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ditions of contra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4" descr="MCj03008420000[1]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895480" y="3870360"/>
            <a:ext cx="3886200" cy="25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F148C-4669-4A9E-BCD8-A53C53813FE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Negotiating Equipment Acquis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ring diagra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ftwar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rts li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stallation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ial perio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5486400" y="1371600"/>
            <a:ext cx="2324160" cy="20318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260" name=""/>
          <p:cNvSpPr/>
          <p:nvPr/>
        </p:nvSpPr>
        <p:spPr>
          <a:xfrm>
            <a:off x="457200" y="1295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rcRect l="60176" t="44598" r="0" b="10494"/>
          <a:stretch/>
        </p:blipFill>
        <p:spPr>
          <a:xfrm>
            <a:off x="6248520" y="2971800"/>
            <a:ext cx="2178000" cy="156528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7010280" y="3809880"/>
            <a:ext cx="1676520" cy="2057040"/>
            <a:chOff x="7010280" y="3809880"/>
            <a:chExt cx="1676520" cy="2057040"/>
          </a:xfrm>
        </p:grpSpPr>
        <p:sp>
          <p:nvSpPr>
            <p:cNvPr id="263" name="Gear"/>
            <p:cNvSpPr/>
            <p:nvPr/>
          </p:nvSpPr>
          <p:spPr>
            <a:xfrm>
              <a:off x="7939800" y="3809880"/>
              <a:ext cx="747000" cy="9432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10280" y="4198680"/>
              <a:ext cx="893160" cy="11275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589520" y="4614480"/>
              <a:ext cx="992520" cy="12524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556AA-8D01-41E3-9103-23935757C6A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7" descr="MCj04349290000[1]"/>
          <p:cNvPicPr/>
          <p:nvPr/>
        </p:nvPicPr>
        <p:blipFill>
          <a:blip r:embed="rId1"/>
          <a:stretch/>
        </p:blipFill>
        <p:spPr>
          <a:xfrm>
            <a:off x="4952880" y="2971800"/>
            <a:ext cx="2210040" cy="2209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efore 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380880" y="190512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firm vendor’s responsibilities </a:t>
            </a:r>
            <a:r>
              <a:rPr b="1" i="1" lang="fr-FR" sz="2800" spc="-1" strike="noStrike">
                <a:solidFill>
                  <a:srgbClr val="ff0000"/>
                </a:solidFill>
                <a:latin typeface="Bradley Hand ITC"/>
              </a:rPr>
              <a:t>in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457200" y="29718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heck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3EE9F-3E4B-4239-BEAF-19A43C8917D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en possible, have manufacturer install and set up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ttempt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se prior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per install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rcRect l="25142" t="6220" r="4571" b="35764"/>
          <a:stretch/>
        </p:blipFill>
        <p:spPr>
          <a:xfrm>
            <a:off x="5943600" y="2590920"/>
            <a:ext cx="2813040" cy="3411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273" name="Picture 7" descr="MCj02926060000[1]"/>
          <p:cNvPicPr/>
          <p:nvPr/>
        </p:nvPicPr>
        <p:blipFill>
          <a:blip r:embed="rId2"/>
          <a:stretch/>
        </p:blipFill>
        <p:spPr>
          <a:xfrm>
            <a:off x="4724280" y="4495680"/>
            <a:ext cx="1797120" cy="182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EB152-455D-490A-A3B0-9643018D9D7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ackage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py softwar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f part of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105520" y="2590920"/>
            <a:ext cx="3504960" cy="327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E3CF0-68E2-4992-9B5F-9E60D246F2C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After Equipment Installa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09480" y="1219320"/>
            <a:ext cx="8000280" cy="2513880"/>
            <a:chOff x="609480" y="1219320"/>
            <a:chExt cx="8000280" cy="2513880"/>
          </a:xfrm>
        </p:grpSpPr>
        <p:cxnSp>
          <p:nvCxnSpPr>
            <p:cNvPr id="279" name="_s281605"/>
            <p:cNvCxnSpPr>
              <a:stCxn id="280" idx="0"/>
              <a:endCxn id="281" idx="2"/>
            </p:cNvCxnSpPr>
            <p:nvPr/>
          </p:nvCxnSpPr>
          <p:spPr>
            <a:xfrm flipV="1" rot="16200000">
              <a:off x="5758200" y="107532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2" name="_s281606"/>
            <p:cNvCxnSpPr>
              <a:stCxn id="283" idx="0"/>
              <a:endCxn id="281" idx="2"/>
            </p:cNvCxnSpPr>
            <p:nvPr/>
          </p:nvCxnSpPr>
          <p:spPr>
            <a:xfrm flipV="1">
              <a:off x="4609800" y="2224440"/>
              <a:ext cx="2880" cy="503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4" name="_s281607"/>
            <p:cNvCxnSpPr>
              <a:stCxn id="285" idx="0"/>
              <a:endCxn id="281" idx="2"/>
            </p:cNvCxnSpPr>
            <p:nvPr/>
          </p:nvCxnSpPr>
          <p:spPr>
            <a:xfrm flipH="1" flipV="1" rot="5400000">
              <a:off x="2957760" y="107568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81" name="_s281608"/>
            <p:cNvSpPr/>
            <p:nvPr/>
          </p:nvSpPr>
          <p:spPr>
            <a:xfrm>
              <a:off x="2609640" y="1219320"/>
              <a:ext cx="4000320" cy="10054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00"/>
                  </a:solidFill>
                  <a:latin typeface="Arial"/>
                </a:rPr>
                <a:t>Inventory Record</a:t>
              </a:r>
              <a:r>
                <a:rPr b="1" lang="en-US" sz="2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2900"/>
              </a:b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281609"/>
            <p:cNvSpPr/>
            <p:nvPr/>
          </p:nvSpPr>
          <p:spPr>
            <a:xfrm>
              <a:off x="60948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lib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281610"/>
            <p:cNvSpPr/>
            <p:nvPr/>
          </p:nvSpPr>
          <p:spPr>
            <a:xfrm>
              <a:off x="340956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erif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281611"/>
            <p:cNvSpPr/>
            <p:nvPr/>
          </p:nvSpPr>
          <p:spPr>
            <a:xfrm>
              <a:off x="620964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pera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Procedu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6" name="" descr=""/>
            <p:cNvPicPr/>
            <p:nvPr/>
          </p:nvPicPr>
          <p:blipFill>
            <a:blip r:embed="rId1"/>
            <a:stretch/>
          </p:blipFill>
          <p:spPr>
            <a:xfrm>
              <a:off x="684360" y="3034800"/>
              <a:ext cx="38592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2"/>
            <a:stretch/>
          </p:blipFill>
          <p:spPr>
            <a:xfrm>
              <a:off x="3503880" y="3034800"/>
              <a:ext cx="38844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3"/>
            <a:stretch/>
          </p:blipFill>
          <p:spPr>
            <a:xfrm>
              <a:off x="6248880" y="2965320"/>
              <a:ext cx="385920" cy="35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9" name=""/>
          <p:cNvSpPr/>
          <p:nvPr/>
        </p:nvSpPr>
        <p:spPr>
          <a:xfrm>
            <a:off x="2362320" y="4191120"/>
            <a:ext cx="4495680" cy="6858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57400" y="5562720"/>
            <a:ext cx="541008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95480" y="4267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intenanc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56386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ain ALL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67080" y="22096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67080" y="373392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67080" y="4876920"/>
            <a:ext cx="83844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68580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2514600" y="4343400"/>
            <a:ext cx="387360" cy="35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11A4D-E1C8-4A2C-B5A9-29DAABCE675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>
            <a:lum bright="-2000"/>
          </a:blip>
          <a:srcRect l="5057" t="2516" r="15171" b="17613"/>
          <a:stretch/>
        </p:blipFill>
        <p:spPr>
          <a:xfrm>
            <a:off x="5562720" y="1371600"/>
            <a:ext cx="3371760" cy="438156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Calib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form initial 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calibrators or standa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llow manufacturer’s instru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frequency of routine calibr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A7B72-5A86-4121-844A-D9A0D057699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erformance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valu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5257800" y="837000"/>
            <a:ext cx="3352680" cy="1295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known sample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z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rcRect l="20400" t="0" r="7200" b="6400"/>
          <a:stretch/>
        </p:blipFill>
        <p:spPr>
          <a:xfrm>
            <a:off x="304920" y="1676520"/>
            <a:ext cx="4114800" cy="39891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4800600" y="2286000"/>
            <a:ext cx="4038480" cy="2133720"/>
          </a:xfrm>
          <a:prstGeom prst="flowChartPreparation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4495680"/>
            <a:ext cx="4114800" cy="2133720"/>
          </a:xfrm>
          <a:prstGeom prst="flowChartDecision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724280"/>
            <a:ext cx="403884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id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performance wi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parallel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486400" y="2514600"/>
            <a:ext cx="342900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stabilit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temperature- controlled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571320" y="1409400"/>
            <a:ext cx="3810240" cy="4495680"/>
          </a:xfrm>
          <a:custGeom>
            <a:avLst/>
            <a:gdLst>
              <a:gd name="textAreaLeft" fmla="*/ 0 w 3810240"/>
              <a:gd name="textAreaRight" fmla="*/ 3810600 w 3810240"/>
              <a:gd name="textAreaTop" fmla="*/ 0 h 4495680"/>
              <a:gd name="textAreaBottom" fmla="*/ 4496040 h 44956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 rot="735600">
            <a:off x="914040" y="3048120"/>
            <a:ext cx="35434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New Equipmen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20DAF-7403-4B58-997F-42B68175609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instrument paramete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iodically, daily, weekly, month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ter major instrument repai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ubator tempera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velength calib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toclave temperature ch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7696080" y="685800"/>
            <a:ext cx="1219320" cy="38862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7391520" y="373392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6019920" y="4648320"/>
            <a:ext cx="1676160" cy="17524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>
            <a:off x="5791320" y="2819520"/>
            <a:ext cx="2133360" cy="213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62013-DD9E-4477-8302-AEB17B2D960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you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 factors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consider prior to purchasing equipment for the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the selection and acquisition of new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cribe the requirements for a preventive maintenance program for equipmen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a rationale for developing a preventive maintenance programs in your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ain how to retire old or outdat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D738C-5BC6-42F6-ADD7-60F2F694235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eventive Maintenance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6019920" cy="16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utine clea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justment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lacement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457200" y="1523880"/>
            <a:ext cx="6019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5410080" y="1523880"/>
            <a:ext cx="3295800" cy="29433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MCj02295450000[1]"/>
          <p:cNvPicPr/>
          <p:nvPr/>
        </p:nvPicPr>
        <p:blipFill>
          <a:blip r:embed="rId2"/>
          <a:stretch/>
        </p:blipFill>
        <p:spPr>
          <a:xfrm>
            <a:off x="4191120" y="2286000"/>
            <a:ext cx="275256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6CBA9-7140-42BB-A8A8-1CFF51F85F0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ing a Maintenance Progra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64771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rcRect l="0" t="0" r="11700" b="2532"/>
          <a:stretch/>
        </p:blipFill>
        <p:spPr>
          <a:xfrm>
            <a:off x="4419720" y="2362320"/>
            <a:ext cx="44496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50268-36F9-4FB8-9BC5-3A03FAE084D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velop a Maintenance Pla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ach pie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equipment establish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intenance plan to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equenc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all maintenance tas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utine replacement of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5562720" y="3809880"/>
            <a:ext cx="2514600" cy="2252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327" name=""/>
          <p:cNvSpPr/>
          <p:nvPr/>
        </p:nvSpPr>
        <p:spPr>
          <a:xfrm>
            <a:off x="4038480" y="4648320"/>
            <a:ext cx="1143000" cy="6858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1066680" y="4038480"/>
            <a:ext cx="2819520" cy="191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34EAB-FE57-497A-B83A-E0E4E3814A5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reate an Equipment Inventory Log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rument type, model number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ial nu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ation in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urch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ufacturer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ndor contac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e expiration d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are p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rcRect l="0" t="0" r="38626" b="0"/>
          <a:stretch/>
        </p:blipFill>
        <p:spPr>
          <a:xfrm>
            <a:off x="6478560" y="2133720"/>
            <a:ext cx="2665440" cy="26272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6400800" y="4038480"/>
            <a:ext cx="2590920" cy="21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4628C-F182-4CBB-A6DB-C6E47A491EF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pare Parts Invento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6172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lude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of spare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g to track sto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st and ordering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6781680" y="762120"/>
            <a:ext cx="2095560" cy="2476440"/>
          </a:xfrm>
          <a:prstGeom prst="rect">
            <a:avLst/>
          </a:prstGeom>
          <a:ln w="0">
            <a:noFill/>
          </a:ln>
        </p:spPr>
      </p:pic>
      <p:sp>
        <p:nvSpPr>
          <p:cNvPr id="336" name="Form"/>
          <p:cNvSpPr/>
          <p:nvPr/>
        </p:nvSpPr>
        <p:spPr>
          <a:xfrm>
            <a:off x="6400800" y="2362320"/>
            <a:ext cx="1371600" cy="1676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5791320" y="3429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5105520" y="4267080"/>
            <a:ext cx="121104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F70B7-4AA6-4132-A9FF-ECDB72D58A3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MCDD00744_0000[1]"/>
          <p:cNvPicPr/>
          <p:nvPr/>
        </p:nvPicPr>
        <p:blipFill>
          <a:blip r:embed="rId1"/>
          <a:stretch/>
        </p:blipFill>
        <p:spPr>
          <a:xfrm>
            <a:off x="304920" y="1447920"/>
            <a:ext cx="8229600" cy="516384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oubleshooting: What is the source of the problem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4495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Sampl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Reag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Water, Electricity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Equipm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5" descr="MCj03835500000[1]"/>
          <p:cNvPicPr/>
          <p:nvPr/>
        </p:nvPicPr>
        <p:blipFill>
          <a:blip r:embed="rId2"/>
          <a:stretch/>
        </p:blipFill>
        <p:spPr>
          <a:xfrm>
            <a:off x="5486400" y="1143000"/>
            <a:ext cx="2425680" cy="533412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5105520" y="3962520"/>
            <a:ext cx="31622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struc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F56AD-1CE3-4B3F-A5FA-06951229141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en in-house efforts fail: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l manufacturer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technical expe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ok for options to continue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back-up instrument from centr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res or manufactu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fer sample to nearby 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6781680" y="423720"/>
            <a:ext cx="2210040" cy="210348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rcRect l="0" t="5024" r="0" b="15071"/>
          <a:stretch/>
        </p:blipFill>
        <p:spPr>
          <a:xfrm>
            <a:off x="2057400" y="4419720"/>
            <a:ext cx="1616040" cy="19368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5867280" y="4419720"/>
            <a:ext cx="2735280" cy="18079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733920" y="60958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3962520" y="4876920"/>
            <a:ext cx="1600200" cy="100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724D5-1167-482D-81C9-2BBBB5FE569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4327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5331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Do NOT us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equipment that does not function proper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"/>
          <p:cNvSpPr/>
          <p:nvPr/>
        </p:nvSpPr>
        <p:spPr>
          <a:xfrm>
            <a:off x="3733920" y="487692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rcRect l="15600" t="4800" r="13200" b="19200"/>
          <a:stretch/>
        </p:blipFill>
        <p:spPr>
          <a:xfrm>
            <a:off x="1676520" y="1600200"/>
            <a:ext cx="5767200" cy="46180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2971800" y="2819520"/>
            <a:ext cx="3352680" cy="2471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 OF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DO NOT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C0439-0C71-4511-8415-DE46D1EFA88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rvice and Repai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must schedule routine manufacturer’s mainten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 may require repair handled by manufactur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-house biomedica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rvice techn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rcRect l="17455" t="0" r="29673" b="0"/>
          <a:stretch/>
        </p:blipFill>
        <p:spPr>
          <a:xfrm>
            <a:off x="5867280" y="3581280"/>
            <a:ext cx="2770200" cy="249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A1E65-58B0-4775-8916-B2CD512F9CE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5" descr="Lab Junk"/>
          <p:cNvPicPr/>
          <p:nvPr/>
        </p:nvPicPr>
        <p:blipFill>
          <a:blip r:embed="rId1"/>
          <a:stretch/>
        </p:blipFill>
        <p:spPr>
          <a:xfrm>
            <a:off x="1523880" y="1371600"/>
            <a:ext cx="6172200" cy="463068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C2FB1-BD55-446B-ACC3-0EC8ED6EF65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3886200"/>
            <a:ext cx="79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1066680"/>
            <a:ext cx="8305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ader fails while performing ELISA / EIA tests. There isn’t a documented procedure for troubleshooting, the maintenance log has not been updated for 2 years, and the manufacturer’s instructions are missing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do?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have done earlier ?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hat you would do if this happened in your labora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E4DFB-6ED0-4C50-9CCF-DE93268AD52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3" descr="v3_slide0294_image078"/>
          <p:cNvPicPr/>
          <p:nvPr/>
        </p:nvPicPr>
        <p:blipFill>
          <a:blip r:embed="rId1"/>
          <a:stretch/>
        </p:blipFill>
        <p:spPr>
          <a:xfrm>
            <a:off x="838080" y="1371600"/>
            <a:ext cx="4114800" cy="32814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754380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4191120" y="1371600"/>
            <a:ext cx="4190760" cy="2889360"/>
          </a:xfrm>
          <a:prstGeom prst="rect">
            <a:avLst/>
          </a:prstGeom>
          <a:ln w="76320">
            <a:solidFill>
              <a:srgbClr val="66ffcc"/>
            </a:solidFill>
            <a:miter/>
          </a:ln>
        </p:spPr>
      </p:pic>
      <p:sp>
        <p:nvSpPr>
          <p:cNvPr id="365" name=""/>
          <p:cNvSpPr/>
          <p:nvPr/>
        </p:nvSpPr>
        <p:spPr>
          <a:xfrm>
            <a:off x="4724280" y="3200400"/>
            <a:ext cx="3048120" cy="1066680"/>
          </a:xfrm>
          <a:custGeom>
            <a:avLst/>
            <a:gdLst>
              <a:gd name="textAreaLeft" fmla="*/ 762120 w 3048120"/>
              <a:gd name="textAreaRight" fmla="*/ 2286360 w 3048120"/>
              <a:gd name="textAreaTop" fmla="*/ 0 h 1066680"/>
              <a:gd name="textAreaBottom" fmla="*/ 933480 h 10666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905120" y="2743200"/>
            <a:ext cx="1114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7010280" y="4572000"/>
            <a:ext cx="1114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4"/>
          <a:stretch/>
        </p:blipFill>
        <p:spPr>
          <a:xfrm>
            <a:off x="4419720" y="1371600"/>
            <a:ext cx="2104920" cy="18860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5257800" y="1600200"/>
            <a:ext cx="990720" cy="366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486400" y="3048120"/>
            <a:ext cx="1371600" cy="1295280"/>
          </a:xfrm>
          <a:custGeom>
            <a:avLst/>
            <a:gdLst>
              <a:gd name="textAreaLeft" fmla="*/ 313200 w 1371600"/>
              <a:gd name="textAreaRight" fmla="*/ 1058400 w 137160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6"/>
          <a:stretch/>
        </p:blipFill>
        <p:spPr>
          <a:xfrm>
            <a:off x="5791320" y="3352680"/>
            <a:ext cx="761760" cy="69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E85C0-12FC-4BEF-9636-50F4F19AF9E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ocuments"/>
          <p:cNvSpPr/>
          <p:nvPr/>
        </p:nvSpPr>
        <p:spPr>
          <a:xfrm rot="16200000">
            <a:off x="799920" y="1485360"/>
            <a:ext cx="4267080" cy="44956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procedures for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914400" y="1676520"/>
            <a:ext cx="42670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nufacturer’s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rcRect l="0" t="9172" r="0" b="0"/>
          <a:stretch/>
        </p:blipFill>
        <p:spPr>
          <a:xfrm>
            <a:off x="6705720" y="1828800"/>
            <a:ext cx="2095560" cy="21193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7315200" y="2133720"/>
            <a:ext cx="304920" cy="162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6" descr="MCPE07250_0000[1]"/>
          <p:cNvPicPr/>
          <p:nvPr/>
        </p:nvPicPr>
        <p:blipFill>
          <a:blip r:embed="rId2"/>
          <a:stretch/>
        </p:blipFill>
        <p:spPr>
          <a:xfrm>
            <a:off x="5334120" y="3352680"/>
            <a:ext cx="1568160" cy="1905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MCj02926060000[1]"/>
          <p:cNvPicPr/>
          <p:nvPr/>
        </p:nvPicPr>
        <p:blipFill>
          <a:blip r:embed="rId3"/>
          <a:stretch/>
        </p:blipFill>
        <p:spPr>
          <a:xfrm>
            <a:off x="6553080" y="4267080"/>
            <a:ext cx="1954440" cy="19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6C7C3-D193-4D83-BE66-848C50BE23C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edicated Log Book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outine maintenance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rvice repai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9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160" indent="-20916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6ACAF-4858-45E5-9F9D-1CAE29A0D41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cording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1143000"/>
            <a:ext cx="8534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roblem occurred, equipment remov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rom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son for breakdown or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rrective actions t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turned to u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nge in maintenance or in 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6248520" y="2895480"/>
            <a:ext cx="2419200" cy="199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84B4B-14E8-4F42-9BB8-75F1297CF0B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1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7" name="Picture 3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5638680" cy="527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44A62-F60A-4084-B789-B8DDEAED2CC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2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172200" cy="4986360"/>
          </a:xfrm>
          <a:prstGeom prst="rect">
            <a:avLst/>
          </a:prstGeom>
          <a:ln w="0">
            <a:noFill/>
          </a:ln>
        </p:spPr>
      </p:pic>
      <p:sp>
        <p:nvSpPr>
          <p:cNvPr id="390" name="Oval 4"/>
          <p:cNvSpPr/>
          <p:nvPr/>
        </p:nvSpPr>
        <p:spPr>
          <a:xfrm>
            <a:off x="533520" y="3276720"/>
            <a:ext cx="7391160" cy="2666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C2D21-BA23-4172-A90A-8CD8A450D9F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3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715000" cy="504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966E2-D5C9-4F25-9B8C-23A731C066F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equipment management program will addres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quipment sel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ventive maintenanc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dures for troubleshooting and rep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s and records will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entory of all laboratory equi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ormation provided by the manufacturer on operation, maintenance, and troubleshoo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s of all preventive maintenance and repair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42AA9-7624-4877-9273-8DA60528B7D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well-organized equipment maintenance program provid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gh level of performance and greater confidence in the reliability of resul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wer interruptions in test performance, lower repair costs, and elimination of premature replacement of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safety for laboratory workers will result from well-maintain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"/>
          <p:cNvSpPr/>
          <p:nvPr/>
        </p:nvSpPr>
        <p:spPr>
          <a:xfrm>
            <a:off x="152280" y="4495680"/>
            <a:ext cx="8839440" cy="12193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80880" y="4572000"/>
            <a:ext cx="8458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A major part of equipment maintenance is PREVENTIV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23E65-AB27-4160-BA9B-BB8E6A079AD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401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416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417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418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0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1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423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426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427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9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432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437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441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444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450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453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456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86DAC-B673-4868-84B0-6A84AAA453B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79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7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52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3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4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9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62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3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8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3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7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80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6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9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92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0D12D-899F-4B5E-B0E5-FD5941EC40B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Benefits </a:t>
            </a:r>
            <a:br>
              <a:rPr sz="36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4" descr="j0435880"/>
          <p:cNvPicPr/>
          <p:nvPr/>
        </p:nvPicPr>
        <p:blipFill>
          <a:blip r:embed="rId1"/>
          <a:srcRect l="0" t="17791" r="0" b="0"/>
          <a:stretch/>
        </p:blipFill>
        <p:spPr>
          <a:xfrm>
            <a:off x="380880" y="1371600"/>
            <a:ext cx="3581640" cy="22082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380880" y="36576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Performance 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high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495680" y="12952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Tes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8"/>
          <p:cNvGrpSpPr/>
          <p:nvPr/>
        </p:nvGrpSpPr>
        <p:grpSpPr>
          <a:xfrm>
            <a:off x="4343400" y="1676520"/>
            <a:ext cx="2514600" cy="1218960"/>
            <a:chOff x="4343400" y="1676520"/>
            <a:chExt cx="2514600" cy="1218960"/>
          </a:xfrm>
        </p:grpSpPr>
        <p:grpSp>
          <p:nvGrpSpPr>
            <p:cNvPr id="199" name="Group 9"/>
            <p:cNvGrpSpPr/>
            <p:nvPr/>
          </p:nvGrpSpPr>
          <p:grpSpPr>
            <a:xfrm>
              <a:off x="4343400" y="1676520"/>
              <a:ext cx="2438280" cy="1218960"/>
              <a:chOff x="4343400" y="1676520"/>
              <a:chExt cx="2438280" cy="1218960"/>
            </a:xfrm>
          </p:grpSpPr>
          <p:grpSp>
            <p:nvGrpSpPr>
              <p:cNvPr id="200" name="Group 10"/>
              <p:cNvGrpSpPr/>
              <p:nvPr/>
            </p:nvGrpSpPr>
            <p:grpSpPr>
              <a:xfrm>
                <a:off x="4343400" y="1676520"/>
                <a:ext cx="2438280" cy="1218960"/>
                <a:chOff x="4343400" y="1676520"/>
                <a:chExt cx="2438280" cy="1218960"/>
              </a:xfrm>
            </p:grpSpPr>
            <p:sp>
              <p:nvSpPr>
                <p:cNvPr id="201" name="Line 11"/>
                <p:cNvSpPr/>
                <p:nvPr/>
              </p:nvSpPr>
              <p:spPr>
                <a:xfrm>
                  <a:off x="4343400" y="1676520"/>
                  <a:ext cx="0" cy="1218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12"/>
                <p:cNvSpPr/>
                <p:nvPr/>
              </p:nvSpPr>
              <p:spPr>
                <a:xfrm>
                  <a:off x="4343400" y="2895480"/>
                  <a:ext cx="2438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Line 13"/>
              <p:cNvSpPr/>
              <p:nvPr/>
            </p:nvSpPr>
            <p:spPr>
              <a:xfrm>
                <a:off x="4419360" y="198108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14"/>
              <p:cNvSpPr/>
              <p:nvPr/>
            </p:nvSpPr>
            <p:spPr>
              <a:xfrm>
                <a:off x="4419360" y="251460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4495680" y="2209680"/>
                <a:ext cx="2286000" cy="7596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Line 16"/>
            <p:cNvSpPr/>
            <p:nvPr/>
          </p:nvSpPr>
          <p:spPr>
            <a:xfrm>
              <a:off x="6858000" y="213336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17"/>
          <p:cNvSpPr/>
          <p:nvPr/>
        </p:nvSpPr>
        <p:spPr>
          <a:xfrm>
            <a:off x="6934320" y="1905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Variation/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8" descr="j0424784"/>
          <p:cNvPicPr/>
          <p:nvPr/>
        </p:nvPicPr>
        <p:blipFill>
          <a:blip r:embed="rId2"/>
          <a:stretch/>
        </p:blipFill>
        <p:spPr>
          <a:xfrm>
            <a:off x="3581280" y="41911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9"/>
          <p:cNvSpPr/>
          <p:nvPr/>
        </p:nvSpPr>
        <p:spPr>
          <a:xfrm>
            <a:off x="1371600" y="518148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owers repair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0"/>
          <p:cNvSpPr/>
          <p:nvPr/>
        </p:nvSpPr>
        <p:spPr>
          <a:xfrm>
            <a:off x="5562720" y="541008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engthens lifes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 rot="783000">
            <a:off x="6324480" y="2819520"/>
            <a:ext cx="1714680" cy="257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23FEB-9126-4B25-A425-C758ABAFF78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Management Benefi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2209680" y="2362320"/>
            <a:ext cx="289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duces interruptio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f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5029200" y="1143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ncreases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2895480" y="426708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reater customer satisf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8" descr="MCj04326350000[1]"/>
          <p:cNvPicPr/>
          <p:nvPr/>
        </p:nvPicPr>
        <p:blipFill>
          <a:blip r:embed="rId1"/>
          <a:stretch/>
        </p:blipFill>
        <p:spPr>
          <a:xfrm>
            <a:off x="609480" y="12193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2286000" cy="1643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rcRect l="16714" t="0" r="10028" b="0"/>
          <a:stretch/>
        </p:blipFill>
        <p:spPr>
          <a:xfrm>
            <a:off x="5334120" y="1752480"/>
            <a:ext cx="3244680" cy="29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10C0B-CCE2-4B38-A79E-9A24436896D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276720" y="2971800"/>
            <a:ext cx="2666880" cy="17524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Consider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927000" y="1350720"/>
            <a:ext cx="7289280" cy="4992840"/>
            <a:chOff x="927000" y="1350720"/>
            <a:chExt cx="7289280" cy="4992840"/>
          </a:xfrm>
        </p:grpSpPr>
        <p:sp>
          <p:nvSpPr>
            <p:cNvPr id="222" name="_s109586"/>
            <p:cNvSpPr/>
            <p:nvPr/>
          </p:nvSpPr>
          <p:spPr>
            <a:xfrm flipH="1" flipV="1">
              <a:off x="2817000" y="3221640"/>
              <a:ext cx="877320" cy="312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9585"/>
            <p:cNvSpPr/>
            <p:nvPr/>
          </p:nvSpPr>
          <p:spPr>
            <a:xfrm>
              <a:off x="927000" y="2285280"/>
              <a:ext cx="2026440" cy="124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tiring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quipment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sposi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9584"/>
            <p:cNvSpPr/>
            <p:nvPr/>
          </p:nvSpPr>
          <p:spPr>
            <a:xfrm flipH="1">
              <a:off x="28170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09583"/>
            <p:cNvSpPr/>
            <p:nvPr/>
          </p:nvSpPr>
          <p:spPr>
            <a:xfrm>
              <a:off x="927000" y="4158360"/>
              <a:ext cx="2026440" cy="124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ervice</a:t>
              </a:r>
              <a:br>
                <a:rPr sz="24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and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p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09582"/>
            <p:cNvSpPr/>
            <p:nvPr/>
          </p:nvSpPr>
          <p:spPr>
            <a:xfrm>
              <a:off x="4571640" y="447084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09581"/>
            <p:cNvSpPr/>
            <p:nvPr/>
          </p:nvSpPr>
          <p:spPr>
            <a:xfrm>
              <a:off x="3558240" y="5095080"/>
              <a:ext cx="2026440" cy="124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ouble-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hoo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9580"/>
            <p:cNvSpPr/>
            <p:nvPr/>
          </p:nvSpPr>
          <p:spPr>
            <a:xfrm>
              <a:off x="54486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9579"/>
            <p:cNvSpPr/>
            <p:nvPr/>
          </p:nvSpPr>
          <p:spPr>
            <a:xfrm>
              <a:off x="6189840" y="4158360"/>
              <a:ext cx="2026440" cy="124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9578"/>
            <p:cNvSpPr/>
            <p:nvPr/>
          </p:nvSpPr>
          <p:spPr>
            <a:xfrm flipV="1">
              <a:off x="5448600" y="322344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9577"/>
            <p:cNvSpPr/>
            <p:nvPr/>
          </p:nvSpPr>
          <p:spPr>
            <a:xfrm>
              <a:off x="6189840" y="2287080"/>
              <a:ext cx="2026440" cy="12484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Calibration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erformance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valu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9576"/>
            <p:cNvSpPr/>
            <p:nvPr/>
          </p:nvSpPr>
          <p:spPr>
            <a:xfrm flipV="1">
              <a:off x="4571640" y="259956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9575"/>
            <p:cNvSpPr/>
            <p:nvPr/>
          </p:nvSpPr>
          <p:spPr>
            <a:xfrm>
              <a:off x="3558240" y="1350720"/>
              <a:ext cx="2026440" cy="1248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Instal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9574"/>
            <p:cNvSpPr/>
            <p:nvPr/>
          </p:nvSpPr>
          <p:spPr>
            <a:xfrm>
              <a:off x="3558240" y="3223800"/>
              <a:ext cx="2026440" cy="1248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Selection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cquisi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7D601-F834-40A7-8FB8-7DB452437CD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ies for all activ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 all personnel on requirements and maintenance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equipment management activiti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procedures are follow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ew all records routine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date procedures as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EE30E-CFCE-4421-880A-AF0470A88BD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rcRect l="4914" t="34899" r="24572" b="14957"/>
          <a:stretch/>
        </p:blipFill>
        <p:spPr>
          <a:xfrm>
            <a:off x="1523880" y="1143000"/>
            <a:ext cx="2667240" cy="24843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080" y="456840"/>
            <a:ext cx="8356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br>
              <a:rPr sz="28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2971800" y="4495680"/>
            <a:ext cx="510552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rforman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6" descr="j0424784"/>
          <p:cNvPicPr/>
          <p:nvPr/>
        </p:nvPicPr>
        <p:blipFill>
          <a:blip r:embed="rId2"/>
          <a:stretch/>
        </p:blipFill>
        <p:spPr>
          <a:xfrm>
            <a:off x="1143000" y="4572000"/>
            <a:ext cx="1600200" cy="14716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4191120" y="1143000"/>
            <a:ext cx="3276360" cy="24382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191120" y="3505320"/>
            <a:ext cx="327636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35053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Facility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23880" y="3505320"/>
            <a:ext cx="266724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quipment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62520" y="3657600"/>
            <a:ext cx="838080" cy="533520"/>
          </a:xfrm>
          <a:prstGeom prst="leftRightArrow">
            <a:avLst>
              <a:gd name="adj1" fmla="val 50000"/>
              <a:gd name="adj2" fmla="val 312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10653-5FFA-401C-BBEB-CCC08601A4C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13Z</dcterms:modified>
  <cp:revision>143</cp:revision>
  <dc:subject/>
  <dc:title>Slide 1</dc:title>
</cp:coreProperties>
</file>