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2B24B-A929-45AB-827C-0629C8F5FA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99539-566C-42FB-818F-0C577FFF58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8FEF2553-7455-4B1A-8B35-70E0062251A4}"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DB56893-37A6-4C74-AB9E-16EC3AC4926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07B70BF-C9EA-4172-A410-EA3D43A8F52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2E997BB-6278-499C-826A-AD6103073478}" type="datetime">
              <a:rPr b="0" lang="en-US" sz="1200" spc="-1" strike="noStrike">
                <a:solidFill>
                  <a:srgbClr val="000000"/>
                </a:solidFill>
                <a:latin typeface="Times New Roman"/>
                <a:ea typeface="Arial"/>
              </a:rPr>
              <a:t>07/30/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3004A81-B781-464A-9901-EF9961D5408B}" type="datetime3">
              <a:rPr b="0" lang="en-US" sz="1200" spc="-1" strike="noStrike">
                <a:solidFill>
                  <a:srgbClr val="000000"/>
                </a:solidFill>
                <a:latin typeface="Times New Roman"/>
                <a:ea typeface="Arial"/>
              </a:rPr>
              <a:t>July 30,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59E4D6E-B7DA-4862-BC3D-9950E437086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CF6E1D-C399-47FC-A0A0-A7D2BACC6F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AD6B4-C804-4B90-82AB-A2A7B9224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3C363B-8A34-4B6E-91DB-7553E1E2DB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010743-F1ED-479E-82A8-CD8DB568C6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04BAB-A2D4-4263-B717-B548FC207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2811DD-4BDA-4A28-A70B-DBB6B090E1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404566-9FB4-4611-AD9E-31DB6FA397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4EBCA0-095C-4AFD-BC43-A05EA92B5F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B5C6E8-68EA-4BAB-AA4C-1B91805E61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2C7B24-C3FD-4E9D-8B30-83BCBF4E98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92DBF-0C32-4CE9-B61A-F95A366FD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2896A1-2CD9-4896-BDDA-FF5A6DC504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D760A1-845B-437A-9410-5D3AE4439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686B2D-F9B5-44B4-B839-DA5E6B3C8F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A2FAC0-A0C0-48E5-AC91-73C2778DF4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FDB1AB-5AFF-4E94-8136-DC064FB978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5246A4-EEBA-45A3-8191-DF5D5C2613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033EFE-9C3A-4A2D-B45F-A7A001BCA4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F9D17-1EA2-430F-97EF-F7A806FA9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D467B-4171-4859-BC5A-D5E357477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3989E-F1AF-4C05-A126-FA2AB96AA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B0558-7BC7-49F3-8302-F96056545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AE1A5-CC6B-475F-B729-D6BB37DB2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16A7F-10E5-45D5-BE06-32EA9D9295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DD126-2572-4D14-B3B2-5056EEEEF2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756A8FC-25EB-4DD2-8AE0-E53E05E45CF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597B58B-5603-4C01-998E-902E1A0C9CF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BE54E27-1C12-4FC3-AF48-0FE5EFCAE88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12613-0D7C-4E61-A677-01578E722367}"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4DA2747-2584-4AE3-8C9B-12FBE8F24F8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9D4B491-8C03-4D7A-BC98-E8576CA6464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9A2E224-B11C-4136-9ED9-310FFDF4A26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