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8.wmf" ContentType="image/x-wmf"/>
  <Override PartName="/ppt/media/image13.png" ContentType="image/png"/>
  <Override PartName="/ppt/media/image12.jpeg" ContentType="image/jpeg"/>
  <Override PartName="/ppt/media/image7.wmf" ContentType="image/x-wmf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5.jpeg" ContentType="image/jpeg"/>
  <Override PartName="/ppt/media/image6.png" ContentType="image/png"/>
  <Override PartName="/ppt/media/image11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BE175-0CFF-4070-89F7-CA677CDAA6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EE994-2606-47F7-8B59-27CD8FE1A2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327F1-2258-45B8-A538-7CC4EC3212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B64C8-2582-4B3C-A21A-9213EC651A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91799-778E-4233-88A7-170AFFB17C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262B0-D83C-45E3-A212-6D95809A7D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CA372-2B97-4512-BE62-A642BE5CEB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375F8-B05A-4C79-AF04-078F4E40E3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7774F-D9ED-4C86-801C-C83EBCD0DD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5D327-E20C-4552-A048-73D5B63704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4D80A-7C26-4EF7-B5D3-1E23F1A9A4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B0941-C367-424D-BDAC-57409A63C9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12E1F-7D02-413B-856F-1AA28E81D4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6FD50-F375-4803-BFBE-944AB3A61A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4D90A-7DDB-43F9-9312-BB1F8212F8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50CDF3-A9FB-47B9-9887-6E35C6B1C8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0441DE-B579-4C01-9E05-FD60BFE65A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872FB8-87BE-49D6-BCBB-691635E0B2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8D7843-4B49-44FF-A02A-6E61ACC6AD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F9497-D721-409C-BB9C-A6EBAE29779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2AA4E-2F34-437F-900A-FA5F75D36CC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CF03D-8AD9-4C1D-A5BF-BB87A130200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E21E1-4C3F-4127-B426-C9FD923BB0A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C162F-F23E-4906-8B1B-6FF2981F8C5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53352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4BF70-4571-470B-9BE3-637008EB939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78DF9-A51C-40CF-9B37-579F211BD92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7C5A5A-50BA-4A1F-9CEB-8EFF182EF9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B8FD5-256C-4349-8D42-042B8F85C55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715DC-928E-4001-A025-00F139B0AA5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8F0AE-C045-43CF-ABE2-6DEF45502F1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5D292-3B58-4C5B-892B-5C62D729B4E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4697F-40F1-4A8F-9A86-F8407E6CDFA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7EA5B5-5F34-429E-95BD-5EC06B50D9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42F0CA-7EFD-4A04-8C15-766DB71E1D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9DC809-D7B5-40E8-9A70-F77D567FB9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3352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33E188-D666-42B9-9B47-BC11F3ADF6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E73ABE-24E0-48EC-8B30-8276065296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5B37F5-43D9-4B02-AAD1-7CDE109763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390EC0-1BC4-4F4F-AB99-313EC014AA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D241F-8FEF-4E3D-B2D8-A5AC8F1FE5E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D8608-808B-40F3-8480-03A202A4A7E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600" spc="-1" strike="noStrike">
                <a:solidFill>
                  <a:srgbClr val="ffffff"/>
                </a:solidFill>
                <a:latin typeface="Verdana"/>
              </a:rPr>
              <a:t>Quality Control of Antimicrobial Susceptibility Tests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C8E7F-E9C0-4624-B1BD-9CDAD72F394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lection of a Colony to Tes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9F1BC-032A-40EE-9168-B54DDAE719C8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Object 2"/>
          <p:cNvGraphicFramePr/>
          <p:nvPr/>
        </p:nvGraphicFramePr>
        <p:xfrm>
          <a:off x="1220760" y="1752480"/>
          <a:ext cx="670248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0760" y="1752480"/>
                    <a:ext cx="670248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EDFC9E-0A42-4849-AC41-CAAC5202E9F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cFarland 0.5 and </a:t>
            </a: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djusted Test Organis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81812-167C-495E-B5F9-3338D2076FCA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Object 2"/>
          <p:cNvGraphicFramePr/>
          <p:nvPr/>
        </p:nvGraphicFramePr>
        <p:xfrm>
          <a:off x="1220760" y="1752480"/>
          <a:ext cx="670248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0760" y="1752480"/>
                    <a:ext cx="670248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C828C9-E7A7-4BE8-BB8B-866C8904D63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1384C-41AC-4FDF-B852-B2CFDCA1B5C5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Use of Disk Dispenser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648320" cy="44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practical, rapi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crease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Arial Unicode MS"/>
              </a:rPr>
              <a:t>reproducibil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Risks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contamin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reduces personal judgment skil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5" name="Picture 4" descr="distributeur"/>
          <p:cNvPicPr/>
          <p:nvPr/>
        </p:nvPicPr>
        <p:blipFill>
          <a:blip r:embed="rId1"/>
          <a:stretch/>
        </p:blipFill>
        <p:spPr>
          <a:xfrm>
            <a:off x="5105520" y="2057400"/>
            <a:ext cx="3886200" cy="3265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4AFEF2-4503-490D-BC0D-D24182740C3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F9809-5AEF-471D-A559-3394FF074958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Disk Susceptibility Testing Problem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58" name="Picture 12" descr="Too Heavy"/>
          <p:cNvPicPr/>
          <p:nvPr/>
        </p:nvPicPr>
        <p:blipFill>
          <a:blip r:embed="rId1"/>
          <a:stretch/>
        </p:blipFill>
        <p:spPr>
          <a:xfrm>
            <a:off x="304920" y="1447920"/>
            <a:ext cx="8381880" cy="4495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FE933D-FB58-47F4-987A-16A900B587B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Disk Susceptibility Testing Problem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60" name="Picture 5" descr="Disk moved"/>
          <p:cNvPicPr/>
          <p:nvPr/>
        </p:nvPicPr>
        <p:blipFill>
          <a:blip r:embed="rId1"/>
          <a:stretch/>
        </p:blipFill>
        <p:spPr>
          <a:xfrm>
            <a:off x="533520" y="1447920"/>
            <a:ext cx="7734240" cy="498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E504B6-27AF-479B-9041-554FF505B01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833CB-2095-413B-9D3D-D7C42A018856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2" descr="pied_coulisse-calliper"/>
          <p:cNvPicPr/>
          <p:nvPr/>
        </p:nvPicPr>
        <p:blipFill>
          <a:blip r:embed="rId1"/>
          <a:stretch/>
        </p:blipFill>
        <p:spPr>
          <a:xfrm>
            <a:off x="457200" y="1371600"/>
            <a:ext cx="3276720" cy="259704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Measuring Condi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64" name="Picture 7" descr="Antibiot"/>
          <p:cNvPicPr/>
          <p:nvPr/>
        </p:nvPicPr>
        <p:blipFill>
          <a:blip r:embed="rId2"/>
          <a:stretch/>
        </p:blipFill>
        <p:spPr>
          <a:xfrm>
            <a:off x="5791320" y="1219320"/>
            <a:ext cx="1973160" cy="266688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8"/>
          <p:cNvSpPr/>
          <p:nvPr/>
        </p:nvSpPr>
        <p:spPr>
          <a:xfrm>
            <a:off x="6577560" y="403848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u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9"/>
          <p:cNvSpPr/>
          <p:nvPr/>
        </p:nvSpPr>
        <p:spPr>
          <a:xfrm>
            <a:off x="2094120" y="4114800"/>
            <a:ext cx="13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lip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10"/>
          <p:cNvSpPr/>
          <p:nvPr/>
        </p:nvSpPr>
        <p:spPr>
          <a:xfrm>
            <a:off x="304920" y="4572000"/>
            <a:ext cx="8458200" cy="175248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read with good light, and from the back of the p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zone size reading is drug specifi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agnification may hel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illimeters mat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8" name="Object 9"/>
          <p:cNvGraphicFramePr/>
          <p:nvPr/>
        </p:nvGraphicFramePr>
        <p:xfrm>
          <a:off x="2438280" y="1905120"/>
          <a:ext cx="3117960" cy="2104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38280" y="1905120"/>
                    <a:ext cx="3117960" cy="21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A6DA8C-1128-4172-A476-4D61C96DD41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test – antimicrobial gradient method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04205-98A6-4F20-ABEF-095966DE74CD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2" descr="CO04-2351 Etest blood cult isolate 2"/>
          <p:cNvPicPr/>
          <p:nvPr/>
        </p:nvPicPr>
        <p:blipFill>
          <a:blip r:embed="rId1"/>
          <a:stretch/>
        </p:blipFill>
        <p:spPr>
          <a:xfrm>
            <a:off x="1554120" y="1752480"/>
            <a:ext cx="603576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B3A678-1D29-438C-A129-314C06A58B9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atient results may be incorrect if: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organism was misidentifi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clerical error was mad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appropriate choice of antimicrobials were tested and report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wrong patient’s sample was examin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wrong test was order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sample was not preserved proper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94592A-F046-4831-BD57-3D25CD07B4D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C7203-870B-432C-993D-1EEE3C7410DF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ntimicrobial Susceptibility Tes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14" name="Picture 4" descr="k_b"/>
          <p:cNvPicPr/>
          <p:nvPr/>
        </p:nvPicPr>
        <p:blipFill>
          <a:blip r:embed="rId1"/>
          <a:stretch/>
        </p:blipFill>
        <p:spPr>
          <a:xfrm>
            <a:off x="457200" y="1600200"/>
            <a:ext cx="1714680" cy="16686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Staphylococcus_aureus_Etest2"/>
          <p:cNvPicPr/>
          <p:nvPr/>
        </p:nvPicPr>
        <p:blipFill>
          <a:blip r:embed="rId2"/>
          <a:stretch/>
        </p:blipFill>
        <p:spPr>
          <a:xfrm>
            <a:off x="2362320" y="1600200"/>
            <a:ext cx="1676160" cy="16765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8" descr="micmlc2"/>
          <p:cNvPicPr/>
          <p:nvPr/>
        </p:nvPicPr>
        <p:blipFill>
          <a:blip r:embed="rId3"/>
          <a:stretch/>
        </p:blipFill>
        <p:spPr>
          <a:xfrm>
            <a:off x="4114800" y="1600200"/>
            <a:ext cx="2209680" cy="17496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0" descr="vitek-2"/>
          <p:cNvPicPr/>
          <p:nvPr/>
        </p:nvPicPr>
        <p:blipFill>
          <a:blip r:embed="rId4"/>
          <a:stretch/>
        </p:blipFill>
        <p:spPr>
          <a:xfrm>
            <a:off x="6400800" y="1600200"/>
            <a:ext cx="2362320" cy="177012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11"/>
          <p:cNvSpPr/>
          <p:nvPr/>
        </p:nvSpPr>
        <p:spPr>
          <a:xfrm>
            <a:off x="871920" y="4114800"/>
            <a:ext cx="6976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vide information for selection of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 appropriate agent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timicrobial thera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D11F87-3063-4648-AD02-879D69F22A4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ST Methods Interpret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gar disk diffusion method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provides qualitative interpretive category results of susceptible, intermediate, and resista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icrodilution and agar gradient diffusion methods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provide a quantitative result, a minimum inhibitory concentration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3767E4-4C86-4FFC-A654-D5699AD937D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PBL Susceptibility testing 2008"/>
          <p:cNvPicPr/>
          <p:nvPr/>
        </p:nvPicPr>
        <p:blipFill>
          <a:blip r:embed="rId1"/>
          <a:srcRect l="4364" t="8470" r="5455" b="8470"/>
          <a:stretch/>
        </p:blipFill>
        <p:spPr>
          <a:xfrm>
            <a:off x="685800" y="1143000"/>
            <a:ext cx="7558200" cy="522756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762120" y="457200"/>
            <a:ext cx="61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ST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9246A3-0767-4BA9-BF92-8055C7526543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lide Number Placeholder 1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6A304-3450-44E2-88C8-87A4E0F8099B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457200" y="2819520"/>
            <a:ext cx="2708280" cy="350496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125" name="Text Box 3"/>
          <p:cNvSpPr/>
          <p:nvPr/>
        </p:nvSpPr>
        <p:spPr>
          <a:xfrm>
            <a:off x="304920" y="1295280"/>
            <a:ext cx="8076960" cy="13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nical and Laboratory Standards  Instit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rench Society of Microbi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ritish Society for Antimicrobial Chemothera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7" descr=""/>
          <p:cNvPicPr/>
          <p:nvPr/>
        </p:nvPicPr>
        <p:blipFill>
          <a:blip r:embed="rId2"/>
          <a:stretch/>
        </p:blipFill>
        <p:spPr>
          <a:xfrm>
            <a:off x="6172200" y="2819520"/>
            <a:ext cx="2503440" cy="3504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aphicFrame>
        <p:nvGraphicFramePr>
          <p:cNvPr id="127" name="Object 6"/>
          <p:cNvGraphicFramePr/>
          <p:nvPr/>
        </p:nvGraphicFramePr>
        <p:xfrm>
          <a:off x="3429000" y="2819520"/>
          <a:ext cx="2639880" cy="3504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8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819520"/>
                    <a:ext cx="2639880" cy="3504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29" name=""/>
          <p:cNvSpPr/>
          <p:nvPr/>
        </p:nvSpPr>
        <p:spPr>
          <a:xfrm>
            <a:off x="685800" y="457200"/>
            <a:ext cx="36576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F03746-FD98-4769-9F07-F90E210B494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Example from an excerpt from Reference:</a:t>
            </a:r>
            <a:br>
              <a:rPr sz="28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lection of Drug to Tes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DDA7D-54A7-4827-BDF7-41A28C5E73CC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" name="Object 2"/>
          <p:cNvGraphicFramePr/>
          <p:nvPr/>
        </p:nvGraphicFramePr>
        <p:xfrm>
          <a:off x="380880" y="1981080"/>
          <a:ext cx="8272440" cy="377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981080"/>
                    <a:ext cx="8272440" cy="377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542E4C-A8DD-44BA-A176-3BA25A208FD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E489D-0276-4773-9946-B7D785DE50A3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ere errors can occur in susceptibility tes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edia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antimicrobial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oculum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cub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equipment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terpret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9F7DD1-5DAB-415A-BC4E-CCEC9F34A3A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50AD4-F9DC-442E-8AA4-DF12E3147D3F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gar disk diffusion method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8458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ediu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 Mueller Hinto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4 mm thicknes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pH 7.2 to 7.4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tibiotic          storage    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20</a:t>
            </a:r>
            <a:r>
              <a:rPr b="0" lang="en-US" sz="2400" spc="-1" strike="noStrike" baseline="40000">
                <a:solidFill>
                  <a:srgbClr val="000000"/>
                </a:solidFill>
                <a:latin typeface="Verdan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 minimu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ks                temperatu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oculu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cFarland 0.5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(10</a:t>
            </a:r>
            <a:r>
              <a:rPr b="0" lang="en-GB" sz="2400" spc="-1" strike="noStrike" baseline="30000">
                <a:solidFill>
                  <a:srgbClr val="000000"/>
                </a:solidFill>
                <a:latin typeface="Verdana"/>
              </a:rPr>
              <a:t>8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bacteria/mL)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Incubator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        temperature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35</a:t>
            </a:r>
            <a:r>
              <a:rPr b="0" lang="en-GB" sz="2400" spc="-1" strike="noStrike" baseline="30000">
                <a:solidFill>
                  <a:srgbClr val="000000"/>
                </a:solidFill>
                <a:latin typeface="Verdana"/>
              </a:rPr>
              <a:t>o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tmosphere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mbient ai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607D73-E1C2-4A66-B4D4-60E19B2FBA7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610FE-E3AA-44CE-9C48-F8E2910B0076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Reference Strai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Verdana"/>
              </a:rPr>
              <a:t>E. coli 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ATCC 25922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Verdana"/>
              </a:rPr>
              <a:t>S. aureus 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ATCC 25923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Verdana"/>
              </a:rPr>
              <a:t>P. aeruginosa 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ATCC 27853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"/>
          <p:cNvSpPr/>
          <p:nvPr/>
        </p:nvSpPr>
        <p:spPr>
          <a:xfrm>
            <a:off x="685800" y="3886200"/>
            <a:ext cx="807732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C organisms must be obtained from reputable source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specific QC organisms to test different groups of “drug-bug” combin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B00917-0ECE-4566-8472-A491293B446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8T06:56:40Z</dcterms:created>
  <dc:creator>Robin Barteluk</dc:creator>
  <dc:description/>
  <dc:language>en-US</dc:language>
  <cp:lastModifiedBy>Robin Barteluk</cp:lastModifiedBy>
  <dcterms:modified xsi:type="dcterms:W3CDTF">2008-12-02T03:54:50Z</dcterms:modified>
  <cp:revision>7</cp:revision>
  <dc:subject/>
  <dc:title>Microbiology QC</dc:title>
</cp:coreProperties>
</file>