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gif" ContentType="image/gi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47AB6-C450-41C5-B046-009B530E4C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6552A-7387-4C0E-9E46-FC8304D9F5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F647A-167F-4E3A-93A2-F607BCFAD2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50A22-132A-4A60-A57B-37B8F7A679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4642A-5314-46CC-8AEF-69F95C9FFE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2C6FD-ADD4-4BB6-8E0F-6D86757639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76997-D0D0-4AB4-8513-6F6D219A5A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D4204-8128-4AE5-8D40-162906C9F2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DC8A3-4985-4DD2-9691-A50C4A1647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B13F7-562B-4E4D-B5F2-925C7369B5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BE4B6-51F8-47A1-B492-F8164466A8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 10 : </a:t>
            </a: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707BD-DAFD-41E8-8FFF-9BADF1C725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5078E-14BA-4FE5-857A-F544DCB07D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38469-B377-45FD-868D-C8E0E7F0B3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70CD3-7889-4B54-993F-1721E146C4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3342-822E-473F-9E9A-037AC57D08C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6B2B-4D21-4F5A-9ACB-174F67776E3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0002-2361-4B96-A4ED-F44B057BFB7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1AE3-F188-496F-B8E7-CCC1A487332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B7F3-3CD5-4025-BAD3-C2F0DE99707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6A44-5704-4BDC-BF50-D7DD5A6DE00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5C28-7E8E-445B-8559-EA94413D46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471F2-B6D8-45C7-817B-DBF1639DF2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6BAA-943F-4E0C-9160-511569A6BB6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B240-9845-47FA-87AC-F1AD15D9FF3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F81E-B8CC-4122-BF5C-941DE48912A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9E18-4A37-486E-BE3A-54159D27BC1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4F79-4587-41A3-BDCC-2EECE304C5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00A28-3BD3-495F-94F2-6B5C92C786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8BAAD-CAB5-44C5-A285-F22217A89E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035ED-3845-4251-B251-7300D01828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C3E0F-5BC5-404F-9712-03953B1EDA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91C6C-1479-4069-BA21-2859C3803C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86DE0-321F-40E4-B22B-E0F28D4BF5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8F3D5-7FB2-4028-AA09-B6C4E6C2B2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3316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CAEB4-42A3-43A6-A7FD-4AE68E0117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2D0DC-E567-48BA-878B-06F887294D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EQA Scheme Organization</a:t>
            </a:r>
            <a:br>
              <a:rPr sz="5000"/>
            </a:b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B075-59DA-4AE3-84B0-8D822D80201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392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interests of th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ims and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fidentiality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cknowled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me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574E3-1D2B-4277-9FB5-0AF84054B26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Moni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773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ries, feedback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ference” role of the EQA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s and recommendations from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participating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solving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recommending certai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90720" y="4267080"/>
            <a:ext cx="2514600" cy="1884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505320" y="4343400"/>
            <a:ext cx="5105160" cy="1641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erfect is not too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muc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AE11A-DBAC-4F3F-B8AA-CAD0635E06B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0396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 already controlled by a international EQA organi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involve the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im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non-contaminating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good communication strate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ay careful attention to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12193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Verdana"/>
                <a:ea typeface="SimSun"/>
              </a:rPr>
              <a:t>Starting an EQA Program at count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7d"/>
                </a:solidFill>
                <a:latin typeface="Verdana"/>
                <a:ea typeface="SimSun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1C194-6765-4510-BCF1-4FDC44AE2E0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638680" y="20574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148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163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164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165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7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170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74"/>
              <p:cNvSpPr/>
              <p:nvPr/>
            </p:nvSpPr>
            <p:spPr>
              <a:xfrm>
                <a:off x="22654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173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174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179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184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188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191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197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200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203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735AC-3A8B-41DD-ADD7-B25C8BD2B5D9}" type="slidenum">
              <a:t>13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tional proficiency testing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twork of laboratories – interlaboratory comparisons/reche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+/- on-site eval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536AC-659D-4682-970F-7F07C57E714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rior Participation (and Success!) in a PT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22960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  <a:ea typeface="SimSun"/>
              </a:rPr>
              <a:t>need to subscribe to a foreign sche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monitor its own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mperative and oblig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 question of conf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44037-EC01-4E00-A8AE-A49ACEAFFDA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Involve the Autho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guarantees </a:t>
            </a:r>
            <a:r>
              <a:rPr b="0" lang="en-GB" sz="3200" spc="-1" strike="noStrike">
                <a:solidFill>
                  <a:srgbClr val="ff0066"/>
                </a:solidFill>
                <a:latin typeface="Verdana"/>
                <a:ea typeface="SimSun"/>
              </a:rPr>
              <a:t>dur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ed to the institution’s man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means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liaise with operating licensing / certification / accreditation / national reg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(EQA activities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reate savings,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them is worth 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400800" y="3962520"/>
            <a:ext cx="2133720" cy="21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6BABD-4E60-4CF9-AE4A-19BF32D04E7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im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roficienc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, stained or uns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Gram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acid-fast bacilli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ara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identification of bacterial str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nteric microorganisms (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. coli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almonella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Rechec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 (AFB, Gram, CSF, oth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bacterial strains if materials and technical capability is present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 strain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2514600" cy="85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4952880" y="236232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D9B2E-576F-46A6-A682-E5EE400C14F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m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mall number of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ilot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verify transportation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4-5 laboratories for a test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(outside of the prog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first study with basic materials (sli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15 laboratories for the first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3 items per parcel (minimum 2 per ye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553080" y="1600200"/>
            <a:ext cx="2151360" cy="2590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rot="19759200">
            <a:off x="7238880" y="2209680"/>
            <a:ext cx="914400" cy="533520"/>
          </a:xfrm>
          <a:custGeom>
            <a:avLst/>
            <a:gdLst>
              <a:gd name="textAreaLeft" fmla="*/ 142920 w 914400"/>
              <a:gd name="textAreaRight" fmla="*/ 800280 w 9144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206E0-86FF-4D82-ACCB-7BCD686E9EB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SimSun"/>
              </a:rPr>
              <a:t>Start with Non-Contaminating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n the beginning, avoid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dangerous” pathogen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ntaminated s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follow national transportation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172200" y="1905120"/>
            <a:ext cx="2590920" cy="228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F60EB-D16D-484F-9490-C1371BA434D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hysical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51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personal d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small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mmunic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105520" y="1622520"/>
            <a:ext cx="3352680" cy="251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955C3-7B40-44F0-9A6E-F7A4448DA10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15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articipating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uth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scientific 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rofessional assoc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ny other with interest in 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172200" y="1981080"/>
            <a:ext cx="2644920" cy="2819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858000" y="2590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EQ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1A857-BC25-47B2-860D-AE891CCC9BE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14:54Z</dcterms:created>
  <dc:creator>sharon granade</dc:creator>
  <dc:description/>
  <dc:language>en-US</dc:language>
  <cp:lastModifiedBy>Robin Barteluk</cp:lastModifiedBy>
  <dcterms:modified xsi:type="dcterms:W3CDTF">2008-11-28T02:21:01Z</dcterms:modified>
  <cp:revision>12</cp:revision>
  <dc:subject/>
  <dc:title>EQA scheme Organization optional</dc:title>
</cp:coreProperties>
</file>