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C0008-EFC7-4ED5-B87C-2FD464CE1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15FD1-C103-4D20-8130-3B2AF2624C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4CB108B8-96C7-4B3C-805A-5F5E50B6BF85}"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EAA61E3-5B03-4A44-93B3-EEF3A5D81F8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780A6B4-79D2-4F25-BECD-28F30D4D024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315404C-3B1E-4186-80AF-11A4F25A7316}" type="datetime">
              <a:rPr b="0" lang="en-US" sz="1200" spc="-1" strike="noStrike">
                <a:solidFill>
                  <a:srgbClr val="000000"/>
                </a:solidFill>
                <a:latin typeface="Times New Roman"/>
                <a:ea typeface="Arial"/>
              </a:rPr>
              <a:t>07/30/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E92C2B6-FEB2-4AF9-B6CB-67F2D867D396}" type="datetime3">
              <a:rPr b="0" lang="en-US" sz="1200" spc="-1" strike="noStrike">
                <a:solidFill>
                  <a:srgbClr val="000000"/>
                </a:solidFill>
                <a:latin typeface="Times New Roman"/>
                <a:ea typeface="Arial"/>
              </a:rPr>
              <a:t>July 30,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CF47996-4199-4EFB-AB3B-81C95029410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55084-3732-4E76-9828-84E8344B7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E8696-6AEF-4627-B9B7-72F52DEE8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57F86-4B47-431D-A86A-476AD926D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8E34F-2A61-4EFA-9E22-2FAE90B45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C8BA4-70E7-4D9D-A920-4E08D08DB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27AB23-D55F-4126-9CDB-D9E828F710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3ED8B-1267-41F9-BBEA-E778A34E1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1145A-7517-485A-BA16-61ECD2C3C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50B07-3A17-4A8E-A0E8-1537F2C1D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998EE-DA5A-4732-8002-F940B62AB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3CE55-3E15-4B33-B71E-30ACDC96A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DB822-DBBB-4361-8F52-ADA9D4EB1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9BD2E-8CCC-4351-9926-B089071A5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3A499-725E-4C1D-9D62-51EAD902A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3AB4C-1FCF-4180-80AB-F3669D736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6774D-231C-4110-8A7F-1C54F8ECD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173766-4D8B-42B1-9F24-459A823147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E65170-3EE3-4ACD-9B1A-FB6FA9F7F0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E3A20-69DF-400B-9517-CFBE0BCCA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FDD07-11A2-47CC-AF0F-D32D6C10C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57F6C-0A1D-426C-A875-D0EE87862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A6919-408F-4BC2-92DB-3B41E8102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9AC6B-4550-4C19-B4D7-D0A7BEE52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3E0AA-5532-43C9-9C69-B08754197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6A6AF-39DF-4CF4-8C22-AC52C7E4E8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1E3C420-D72E-43A8-9815-C27D04F3919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1391352-46FD-41DB-ADF2-8F423912326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420074F-0073-4DCF-B608-2C8C6AC5E8A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C2D6-68A7-47B1-8172-4F77B85236FF}"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BD8F199-2E02-4FCC-85AE-A65C58DD003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30E2762-3DAE-476C-870A-2A9AC2AB4AE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8CC7B01-E3FF-4619-AA65-90E9445BEE6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