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BC1AC-51AA-4665-AFF8-9E8BF7E1BC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BB783-DFFB-4A2D-8764-6298269AA3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7196C-3139-43B2-B819-A4903B196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D1B6C-2213-4457-81E0-35E8D5066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4424F-E3B5-43D5-A328-D0A8C24F5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A2471-58C7-4B99-8A6A-AB0A40FA5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AE595-3F53-4B19-9BA1-163EF9B94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C61BD-4452-4D03-BC93-BD01D1DFB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B759E-2239-415E-8025-F74560644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B4C3A-8673-4CBB-B150-A51476C9F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EBE95-1A71-4345-B0DE-C9FCA3A30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0E625-3D11-4247-881C-D1CA213ECE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448AB-6FF0-453F-80C1-59BACF1EA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E3A0E-E0DA-4F33-B819-C3F46F720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1722B-85BB-4857-BDBC-C6BC45AE4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BAF1A-193C-4F9C-BA2C-64C3490817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3B366-3D2B-4DF5-AD63-15EF8136F9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CFF6F-218C-443E-9EAF-3DEE3F9B8E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8C86C-7654-45FF-A9E6-7DB3D79C88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3EAF-3295-461E-B30A-BCF9B03DFF6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E639-9213-4B59-B9B0-87D11DF98F3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DC43-B2E9-4DFC-A79C-BC92DCABF90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3B76-3DB5-400E-B727-139DC376456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8C02-B332-436E-93E9-2910E903581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3FD7-6F11-4065-92D4-145095E7D45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167E-ACCC-4D19-B508-282E77F446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773C4-BD01-46E4-B137-F8C5A56229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E735-562E-47B7-9005-B11D7B536CD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41AB-E283-4188-8F32-CD7183C199C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7A3B-FDE4-459B-8FA3-0003D08B5F3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FC4D-1BC7-429C-AF5F-47072E72456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9A66-B92C-40D2-870D-059674B93A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0B444-E3FF-4CC4-A648-3C68F68413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5E42D-B72F-4AED-B594-D8998DF822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0144A-FB2B-4972-BF4C-8A255229D5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F3C96-65FF-4BAC-BE54-A649C3EFDE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80BEF-BEFB-4D64-9311-E5EDA0549D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A84E2-2EBE-47D3-8F5B-92F38B7BFB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17ECE-F9C6-45D5-8281-536BBDDCE6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6F01E-5AB4-46D2-A5CB-C6B94F3924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F3E47-8991-40A8-BC68-EE2A5774A9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ffffff"/>
                </a:solidFill>
                <a:latin typeface="Verdana"/>
              </a:rPr>
              <a:t>Quality Control of Antimicrobial Susceptibility Tes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3A45-3C65-4BA0-8577-81E856D16A6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a Colony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1E0D7-8342-4D38-890D-9B1FE90E0E0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EED95-9195-4379-B462-6B643F77F6E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cFarland 0.5 and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djusted Test Organis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488A7-B47A-444A-B8F8-63FD264DED6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48510-6ADE-4346-8364-6EC0F46A934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10B28-53CC-43F4-8DA1-031563979BB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of Disk Dispens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64832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actical, rap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rease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reproduc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isk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ta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duces personal judgment ski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4" descr="distributeur"/>
          <p:cNvPicPr/>
          <p:nvPr/>
        </p:nvPicPr>
        <p:blipFill>
          <a:blip r:embed="rId1"/>
          <a:stretch/>
        </p:blipFill>
        <p:spPr>
          <a:xfrm>
            <a:off x="5105520" y="2057400"/>
            <a:ext cx="3886200" cy="32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6D0E3-BCCB-4C57-8990-A85582712D3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2DFE0-D2A4-4279-83B1-0A32F6F1F54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8" name="Picture 12" descr="Too Heavy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663D8-0EC2-425B-BED5-F84AA627A1B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0" name="Picture 5" descr="Disk moved"/>
          <p:cNvPicPr/>
          <p:nvPr/>
        </p:nvPicPr>
        <p:blipFill>
          <a:blip r:embed="rId1"/>
          <a:stretch/>
        </p:blipFill>
        <p:spPr>
          <a:xfrm>
            <a:off x="533520" y="1447920"/>
            <a:ext cx="7734240" cy="49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15C74-8C5A-44E8-B05F-AB92FBDE72F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9D463-F823-4ABE-9DA0-7AE552F8441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Measuring Condi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6577560" y="40384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2094120" y="41148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i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304920" y="4572000"/>
            <a:ext cx="8458200" cy="17524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ad with good light, and from the back of the 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zone size reading is drug specif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gnification may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llimeters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6C695-5418-4EC8-B188-B60D306A4C6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test – antimicrobial gradient metho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8C491-4052-49DA-AA77-F351D55BEB5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49B66-EC95-4D5E-BC81-55FB75E49D1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sults may be incorrect if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rganism was misident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lerical error was m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appropriate choice of antimicrobials were tested and repor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patient’s sample was examin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test was orde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ample was not preserved prope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34D4E-C0EF-41B6-A6EE-0FD03EE614D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D27FF-BF61-4AC5-AF9E-095ED8E74B3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timicrobial Susceptibility Tes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4" name="Picture 4" descr="k_b"/>
          <p:cNvPicPr/>
          <p:nvPr/>
        </p:nvPicPr>
        <p:blipFill>
          <a:blip r:embed="rId1"/>
          <a:stretch/>
        </p:blipFill>
        <p:spPr>
          <a:xfrm>
            <a:off x="457200" y="1600200"/>
            <a:ext cx="1714680" cy="1668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600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micmlc2"/>
          <p:cNvPicPr/>
          <p:nvPr/>
        </p:nvPicPr>
        <p:blipFill>
          <a:blip r:embed="rId3"/>
          <a:stretch/>
        </p:blipFill>
        <p:spPr>
          <a:xfrm>
            <a:off x="4114800" y="1600200"/>
            <a:ext cx="2209680" cy="1749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vitek-2"/>
          <p:cNvPicPr/>
          <p:nvPr/>
        </p:nvPicPr>
        <p:blipFill>
          <a:blip r:embed="rId4"/>
          <a:stretch/>
        </p:blipFill>
        <p:spPr>
          <a:xfrm>
            <a:off x="6400800" y="16002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871920" y="4114800"/>
            <a:ext cx="697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information for selection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appropriate agent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timicrobial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8EA5F-7549-4349-B3DF-4BFC845F1E2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T Methods Interpret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gar disk diffusion meth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s qualitative interpretive category results of susceptible, intermediate, and resi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icrodilution and agar gradient diffusion method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a quantitative result, a minimum inhibitory concentr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783A9-5CF5-4D09-BE8E-5E6A2F72153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PBL Susceptibility testing 2008"/>
          <p:cNvPicPr/>
          <p:nvPr/>
        </p:nvPicPr>
        <p:blipFill>
          <a:blip r:embed="rId1"/>
          <a:srcRect l="4364" t="8470" r="5455" b="8470"/>
          <a:stretch/>
        </p:blipFill>
        <p:spPr>
          <a:xfrm>
            <a:off x="685800" y="1143000"/>
            <a:ext cx="7558200" cy="522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6212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84B11-229C-4D6B-B6D7-2A043852091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BA838-7E26-4757-9259-B00BEDE91E4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708280" cy="3504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25" name="Text Box 3"/>
          <p:cNvSpPr/>
          <p:nvPr/>
        </p:nvSpPr>
        <p:spPr>
          <a:xfrm>
            <a:off x="304920" y="1295280"/>
            <a:ext cx="807696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nical and Laboratory Standards 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nch Society of Microb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itish Society for Antimicrobial Chem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50344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27" name="Object 6"/>
          <p:cNvGraphicFramePr/>
          <p:nvPr/>
        </p:nvGraphicFramePr>
        <p:xfrm>
          <a:off x="3429000" y="2819520"/>
          <a:ext cx="2639880" cy="35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819520"/>
                    <a:ext cx="2639880" cy="3504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85800" y="4572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BD04F-E9D7-4FBD-AEBC-89695D0817E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Example from an excerpt from Reference:</a:t>
            </a:r>
            <a:br>
              <a:rPr sz="28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Drug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3D539-6AAD-4C88-B929-9D1A7EDC08B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2"/>
          <p:cNvGraphicFramePr/>
          <p:nvPr/>
        </p:nvGraphicFramePr>
        <p:xfrm>
          <a:off x="380880" y="198108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E43C8-514D-4246-90CF-0449ACC57EF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1DAC0-C7D7-468A-863B-CE2262692B3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ere errors can occur in susceptibility 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di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timicrobia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ocul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ub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quipmen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pre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594FC-344E-4FFA-821D-E3B111980FF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2B1B6-CE9E-46BF-877B-C67678F6D16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gar disk diffusion metho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Mueller Hint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 mm thickn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H 7.2 to 7.4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biotic          storage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en-US" sz="24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ks                temper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ocul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cFarland 0.5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bacteria/mL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ubator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temperatu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tmosphe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mbient 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73CC6-A0D5-404F-A8E2-F682766B496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0AC0F-B5D7-463B-A4F5-98952749755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Reference Str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886200"/>
            <a:ext cx="80773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C organisms must be obtained from reputable sour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specific QC organisms to test different groups of “drug-bug”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023CE-D40D-463D-B2DA-CC6F0FFB945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6:56:40Z</dcterms:created>
  <dc:creator>Robin Barteluk</dc:creator>
  <dc:description/>
  <dc:language>en-US</dc:language>
  <cp:lastModifiedBy>Robin Barteluk</cp:lastModifiedBy>
  <dcterms:modified xsi:type="dcterms:W3CDTF">2008-12-02T03:54:50Z</dcterms:modified>
  <cp:revision>7</cp:revision>
  <dc:subject/>
  <dc:title>Microbiology QC</dc:title>
</cp:coreProperties>
</file>