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A1DAF-EBBD-4245-AE7B-79A77F4BCC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6FA00-AB6C-405F-BAF0-5CC380F17E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A80DB-B247-4F13-BE2B-EE3ED61CDA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89FE6-9E28-4409-89E9-9655F2F5D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47A3A-FCFA-4CD5-8FA7-0F256FE584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63588-721F-4BDB-BE81-B4F113F7C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12161-5070-4C9A-8A3B-0BE14E9D1F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E0387-6002-4AC5-BE3D-7922DBE6E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FAD66-38C3-47A0-B13F-0CD6AD69B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E02C7-22C9-4B09-94D6-CA3C9E684E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0CA46-36B7-49B9-9EB0-5C18FACDD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688D3-6C91-4DA7-BCAD-4B812A1580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63E09-F28D-4644-A023-7EA8FC25CD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175A1-9DBE-48AD-AD84-392A50A066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6BF79-8FBE-4E14-B4DC-A8EEE7BE0C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3132-7F9D-4B34-839F-74CF90F77B0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5602-8F07-4EEB-8813-237D744A35F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EBBC-7EA0-466D-96C8-724A1D83968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4992-BBE7-4380-984D-2197A772D15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8587-A28A-4FE1-8403-87FA5F61A29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4B2B-2E48-4ABC-BABF-07D6C26A5E8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2FDF-B5EA-4C26-8A58-35F4B4FEE8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27096-A3BA-4C4C-A5FE-D889353673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D0C4-19C4-46CD-8B7D-F7FCD9C08AC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496D-E52C-4D2E-98C3-2B37003DED5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A8A4-D989-4F13-A42F-710DAA58A06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C78E-6021-47F8-8643-78DA09D10E8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75F5-8609-4E4A-9A3E-33EC10C222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CD3BC-1796-4B3F-A8A2-2E1007ABF1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6B713-E299-48BE-A51D-A16EC7D392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DD247-E144-4E6D-A6E2-82F2B74352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2CA8B-A585-4938-9871-F233E32023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61F02-54BB-4EF4-A51C-7ABF3CF85E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5D20C-321D-4EAD-88D5-F6846DC5E9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3E4F7-8219-4648-8444-D6A35D2FE5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781B2-555B-4173-B3DB-F6EEE7F03A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81D38-A177-4663-9F6E-E35B215990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4055-8214-4F57-8AF5-9447A6BEB7D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B76DE-D486-4F4E-B696-133E7506456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Negative resul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9CE39-74FA-4B8A-AE90-DE464F3FF1B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847E8-4E6E-4415-BEA7-8AB73142FA5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isks with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t RT-PCR is still done as “in-house” or “home-brew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ers are not necessarily optimized to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ga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of tests need to be done with ca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661A9-9A2E-4B8D-A58F-F73ED09BA36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CC294-4F6D-468E-869C-182D4E399BF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Sample Collection, Transport, and Proces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tain Nucleic acid integrity through these proc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a unidirectional work flow from a DNA-free area for reagent preparation, to a sample processing area, to area where amplification and detection occ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Positive and Negative Contr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Reference: CLSI MM3-A (Molecular Diagnostic Methods for Infectious Disea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68FF0-290A-4D4D-94AD-6DF05C18C94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38C82-9719-4B86-997A-6C75A1985D7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884160" y="1676520"/>
            <a:ext cx="73738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17F4F-E68B-43F9-A5DD-D8D735B1C83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4FB41-0EDA-4A59-843F-5F1F1CED624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21120" cy="521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4DD2D-3BE5-46A0-B2D0-F2E3F8609A9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FCA92-03C8-4A3B-BC4B-DD591DB207A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al Time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457200" y="1676520"/>
            <a:ext cx="11430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aq polyme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733920" y="220968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mplified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arget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Quanti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Fluores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96E7A-5BB7-4953-A13C-7E36E923EBC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0F915-EA77-4057-B673-FCB346DDEC0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Amplification Re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4"/>
          <p:cNvSpPr/>
          <p:nvPr/>
        </p:nvSpPr>
        <p:spPr>
          <a:xfrm>
            <a:off x="1752480" y="2811600"/>
            <a:ext cx="5612040" cy="24717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Amplification /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533520" y="1828800"/>
            <a:ext cx="533160" cy="3429000"/>
          </a:xfrm>
          <a:prstGeom prst="upArrow">
            <a:avLst>
              <a:gd name="adj1" fmla="val 50000"/>
              <a:gd name="adj2" fmla="val 160787"/>
            </a:avLst>
          </a:prstGeom>
          <a:gradFill rotWithShape="0">
            <a:gsLst>
              <a:gs pos="0">
                <a:srgbClr val="00ff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7"/>
          <p:cNvSpPr/>
          <p:nvPr/>
        </p:nvSpPr>
        <p:spPr>
          <a:xfrm>
            <a:off x="1752480" y="5300640"/>
            <a:ext cx="5562720" cy="135000"/>
          </a:xfrm>
          <a:prstGeom prst="pie">
            <a:avLst/>
          </a:pr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717880" y="243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5411520" y="472428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NO AMPL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C9EB5-BADC-4EE6-AAC4-8BD033F492A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588AB-1583-425B-87FE-12BE30E07C0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Real Time RT-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1373040" y="1676520"/>
            <a:ext cx="639792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C8695-D072-4BFF-8663-BFA2790606A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D7D29-5E78-434F-8AF8-EF8F82F828D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07EC5-EB1E-4D0D-B310-E97EDB286C7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01B73-BA5C-4822-9050-49A9177A57A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755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16110-0116-4F82-9B67-B20EF5C00B7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Robin Barteluk</cp:lastModifiedBy>
  <dcterms:modified xsi:type="dcterms:W3CDTF">2008-12-02T03:54:08Z</dcterms:modified>
  <cp:revision>3</cp:revision>
  <dc:subject/>
  <dc:title>Quality Control:   Molecular Diagnostics</dc:title>
</cp:coreProperties>
</file>