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11.png" ContentType="image/png"/>
  <Override PartName="/ppt/media/image6.wmf" ContentType="image/x-wmf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50E1C-35F5-4C6F-AFEA-A6C454D259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EC03B-945A-49E4-A65D-A7D829DF65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3104CFD-7807-4E01-84A9-9568A517B5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ED36C-C294-47CE-B9F0-0247C0A330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CD18EDD-8315-4B21-A0E5-85A456651D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B4B7300-DA88-439C-BFA8-8C10EFCB3C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99DE61E-699A-4E08-AD4A-3A20891F46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D66F837-467C-4261-A947-96696EE20B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24BC0FA-BB6B-41E2-9F89-A444B67CAF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783FD-FEBE-4239-9AFC-870CF2F6A8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8E85B8-3DDD-493C-A565-34DCD819DA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8BD0B4-1E54-4007-85A2-12872D4AEB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811FD4-3C48-4AE3-924A-2F1A382382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CA760C-31A4-4AD1-A821-A80B6A0A95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98B3-6504-4492-A05D-D51535CE7F2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D546-60E7-49CE-878F-17F89C8C50B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1BF8-CDB1-4F51-B472-C61B5E4FE93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928A-6237-4271-A0AC-D0F6CC40EBF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D4A3-9EAD-4879-931F-2B5D23DFAE2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4452-0AE8-4D99-A146-719AB645276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3A7D-C6F5-4AF8-B406-7D4E64B8EB4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5F2C63-ED4B-43CE-8652-8C7B76A85F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9049-DD5C-41DE-89C1-04555A8CA9A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770F-692B-421C-B4F8-0C2D3F532EC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4BCE-657F-4727-868B-490AA5906E2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8E64-5EAF-463B-B70A-013A6300DE5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B30D-BCD4-49D4-8126-A5F1B4FF7AD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13F28E-92EA-4718-8DB7-00098DF3EE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24A5B1-EE06-477A-B18E-69FC3EE028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42557F-0D50-4E21-A905-8BDB8CE5CC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BFBC70-63C5-4049-ABC2-0C596970EF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D0E407-5991-4D53-B544-D1549F88C0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55FBD6-ADCB-471F-A657-270C62EE1E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F45F83-73D4-4E5C-9BF8-3EA71DBCD8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8B9A0-FC53-4314-AA81-D4EAF917C59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AE420-B084-4E13-B618-0EA88ACE2A5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16" descr="WHO-EN-C-H"/>
          <p:cNvPicPr/>
          <p:nvPr/>
        </p:nvPicPr>
        <p:blipFill>
          <a:blip r:embed="rId2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2BSLATH"/>
          <p:cNvPicPr/>
          <p:nvPr/>
        </p:nvPicPr>
        <p:blipFill>
          <a:blip r:embed="rId3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1" descr="HHS-Logo-blue"/>
          <p:cNvPicPr/>
          <p:nvPr/>
        </p:nvPicPr>
        <p:blipFill>
          <a:blip r:embed="rId4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971800" y="1828800"/>
            <a:ext cx="617220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Process Control:</a:t>
            </a:r>
            <a:br>
              <a:rPr sz="48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Introduction to Quality Contr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C6D0-C0EC-4AAF-8FA2-D9DEF42130A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C 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ortant part of quality management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al is to identify errors and eliminate them before reporting patient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 methods applied for quantitative, qualitative, and semi-quantitative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E06E7C-1C08-4989-A50B-9BEB0FB0815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232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6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247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248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249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1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2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3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254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Text Box 74"/>
              <p:cNvSpPr/>
              <p:nvPr/>
            </p:nvSpPr>
            <p:spPr>
              <a:xfrm>
                <a:off x="24940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257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258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0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1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2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263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5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7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268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0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272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275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7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281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284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287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1F17B-9E0C-4632-A061-AD8163DA477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module, participants should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fine quality control and describe its relationship to the overall quality management system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scribe differences in quantitative, qualitative, and semi-quantitative examina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8679A7-A084-4E5D-921C-9AD82DC2DC1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533520"/>
            <a:ext cx="7543800" cy="2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33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48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49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50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2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55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 Box 74"/>
              <p:cNvSpPr/>
              <p:nvPr/>
            </p:nvSpPr>
            <p:spPr>
              <a:xfrm>
                <a:off x="4094280" y="15051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58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59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64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69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73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76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82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85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88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ED8077-1653-49C5-B986-509A7B3AB7D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efini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80880" y="1294920"/>
            <a:ext cx="82296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ality Control  (QC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part of quality management focused on fulfilling quality requirement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SO 9000:2000  (3.4.10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C is examining “control” materials of known substances along with patient samples to monitor the accuracy and precision of the complete examination (analytic) process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0269D7-A77B-40BF-8D49-F72AA827B94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rpos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80880" y="1905120"/>
            <a:ext cx="8229600" cy="266688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The </a:t>
            </a: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goal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 of QC is to detect errors and correct them before patients’ results are reported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627887-4915-462A-AF51-A1EEF087EB0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tative Examina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7467480" cy="85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easu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he quantity of a particular substance in a samp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6" name="Group 21"/>
          <p:cNvGrpSpPr/>
          <p:nvPr/>
        </p:nvGrpSpPr>
        <p:grpSpPr>
          <a:xfrm>
            <a:off x="609480" y="4267080"/>
            <a:ext cx="1828800" cy="1447560"/>
            <a:chOff x="609480" y="4267080"/>
            <a:chExt cx="1828800" cy="1447560"/>
          </a:xfrm>
        </p:grpSpPr>
        <p:grpSp>
          <p:nvGrpSpPr>
            <p:cNvPr id="197" name="Group 18"/>
            <p:cNvGrpSpPr/>
            <p:nvPr/>
          </p:nvGrpSpPr>
          <p:grpSpPr>
            <a:xfrm>
              <a:off x="609480" y="4267080"/>
              <a:ext cx="1828800" cy="1447560"/>
              <a:chOff x="609480" y="4267080"/>
              <a:chExt cx="1828800" cy="1447560"/>
            </a:xfrm>
          </p:grpSpPr>
          <p:sp>
            <p:nvSpPr>
              <p:cNvPr id="198" name="AutoShape 6"/>
              <p:cNvSpPr/>
              <p:nvPr/>
            </p:nvSpPr>
            <p:spPr>
              <a:xfrm>
                <a:off x="838080" y="4724280"/>
                <a:ext cx="1371600" cy="990360"/>
              </a:xfrm>
              <a:prstGeom prst="triangle">
                <a:avLst>
                  <a:gd name="adj" fmla="val 50000"/>
                </a:avLst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Rectangle 7"/>
              <p:cNvSpPr/>
              <p:nvPr/>
            </p:nvSpPr>
            <p:spPr>
              <a:xfrm>
                <a:off x="609480" y="4647960"/>
                <a:ext cx="1828800" cy="76320"/>
              </a:xfrm>
              <a:prstGeom prst="rect">
                <a:avLst/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00" name="Picture 16" descr="Beaker"/>
              <p:cNvPicPr/>
              <p:nvPr/>
            </p:nvPicPr>
            <p:blipFill>
              <a:blip r:embed="rId1"/>
              <a:stretch/>
            </p:blipFill>
            <p:spPr>
              <a:xfrm>
                <a:off x="609480" y="4267080"/>
                <a:ext cx="406440" cy="42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1" name="Rectangle 17"/>
              <p:cNvSpPr/>
              <p:nvPr/>
            </p:nvSpPr>
            <p:spPr>
              <a:xfrm>
                <a:off x="2133360" y="4419360"/>
                <a:ext cx="228600" cy="22860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2" name="AutoShape 19"/>
            <p:cNvSpPr/>
            <p:nvPr/>
          </p:nvSpPr>
          <p:spPr>
            <a:xfrm>
              <a:off x="1257120" y="5257440"/>
              <a:ext cx="533520" cy="30492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20"/>
            <p:cNvSpPr/>
            <p:nvPr/>
          </p:nvSpPr>
          <p:spPr>
            <a:xfrm flipH="1" flipV="1">
              <a:off x="1447560" y="5409720"/>
              <a:ext cx="7632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4" name="Picture 47" descr="Beaker"/>
          <p:cNvPicPr/>
          <p:nvPr/>
        </p:nvPicPr>
        <p:blipFill>
          <a:blip r:embed="rId2"/>
          <a:stretch/>
        </p:blipFill>
        <p:spPr>
          <a:xfrm>
            <a:off x="7010280" y="4419720"/>
            <a:ext cx="1322640" cy="13842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3" descr="Thermometer"/>
          <p:cNvPicPr/>
          <p:nvPr/>
        </p:nvPicPr>
        <p:blipFill>
          <a:blip r:embed="rId3"/>
          <a:stretch/>
        </p:blipFill>
        <p:spPr>
          <a:xfrm rot="18049800">
            <a:off x="6998400" y="4279320"/>
            <a:ext cx="2203200" cy="19836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54"/>
          <p:cNvSpPr/>
          <p:nvPr/>
        </p:nvSpPr>
        <p:spPr>
          <a:xfrm>
            <a:off x="533520" y="251460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ements should be both accurate and prec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4"/>
          <a:stretch/>
        </p:blipFill>
        <p:spPr>
          <a:xfrm>
            <a:off x="2666880" y="3657600"/>
            <a:ext cx="3962520" cy="2649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2EFD17-248E-435F-85E9-3044365752B4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ative Examination Method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5228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aminations that do not have numerical result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owth or no growt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sitive or negati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active or non-reactiv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lor chan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5943600" y="1981080"/>
            <a:ext cx="2535120" cy="169704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rcRect l="10457" t="0" r="10457" b="11066"/>
          <a:stretch/>
        </p:blipFill>
        <p:spPr>
          <a:xfrm>
            <a:off x="5943600" y="3429000"/>
            <a:ext cx="2514600" cy="178272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rcRect l="49702" t="34558" r="6776" b="26878"/>
          <a:stretch/>
        </p:blipFill>
        <p:spPr>
          <a:xfrm>
            <a:off x="5943600" y="5029200"/>
            <a:ext cx="2638440" cy="1374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E0C984-056E-45B9-9BC0-628BAD0903B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5345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Semi-quantitative Examination Method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sults are expressed as an estimate of the measured substance: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race amount”, “moderate amount,” or “1+, 2+, or 3+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umber of cells per microscopic field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iters and dilutions in serologic tes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0F9E49-3EDF-461F-AE33-611929B0D3C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"/>
          <p:cNvGrpSpPr/>
          <p:nvPr/>
        </p:nvGrpSpPr>
        <p:grpSpPr>
          <a:xfrm>
            <a:off x="666720" y="750600"/>
            <a:ext cx="7962480" cy="5356800"/>
            <a:chOff x="666720" y="750600"/>
            <a:chExt cx="7962480" cy="5356800"/>
          </a:xfrm>
        </p:grpSpPr>
        <p:sp>
          <p:nvSpPr>
            <p:cNvPr id="216" name="_s10255"/>
            <p:cNvSpPr/>
            <p:nvPr/>
          </p:nvSpPr>
          <p:spPr>
            <a:xfrm flipH="1">
              <a:off x="2657520" y="3428640"/>
              <a:ext cx="9950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10254"/>
            <p:cNvSpPr/>
            <p:nvPr/>
          </p:nvSpPr>
          <p:spPr>
            <a:xfrm>
              <a:off x="666720" y="2759040"/>
              <a:ext cx="1990440" cy="1338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Review </a:t>
              </a:r>
              <a:br>
                <a:rPr sz="2800"/>
              </a:b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QC dat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_s10253"/>
            <p:cNvSpPr/>
            <p:nvPr/>
          </p:nvSpPr>
          <p:spPr>
            <a:xfrm>
              <a:off x="4647960" y="4098240"/>
              <a:ext cx="0" cy="669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10252"/>
            <p:cNvSpPr/>
            <p:nvPr/>
          </p:nvSpPr>
          <p:spPr>
            <a:xfrm>
              <a:off x="3652560" y="4767840"/>
              <a:ext cx="1990440" cy="13395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Assure </a:t>
              </a:r>
              <a:br>
                <a:rPr sz="1900"/>
              </a:b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complete </a:t>
              </a:r>
              <a:br>
                <a:rPr sz="1900"/>
              </a:b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documentation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10251"/>
            <p:cNvSpPr/>
            <p:nvPr/>
          </p:nvSpPr>
          <p:spPr>
            <a:xfrm>
              <a:off x="5643000" y="3428640"/>
              <a:ext cx="9950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10250"/>
            <p:cNvSpPr/>
            <p:nvPr/>
          </p:nvSpPr>
          <p:spPr>
            <a:xfrm>
              <a:off x="6638400" y="2759040"/>
              <a:ext cx="1990800" cy="1338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in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ll staf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10249"/>
            <p:cNvSpPr/>
            <p:nvPr/>
          </p:nvSpPr>
          <p:spPr>
            <a:xfrm flipV="1">
              <a:off x="4647960" y="2089440"/>
              <a:ext cx="0" cy="669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0248"/>
            <p:cNvSpPr/>
            <p:nvPr/>
          </p:nvSpPr>
          <p:spPr>
            <a:xfrm>
              <a:off x="3652560" y="750600"/>
              <a:ext cx="1990440" cy="1338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stablish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written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olicies and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rocedur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0247"/>
            <p:cNvSpPr/>
            <p:nvPr/>
          </p:nvSpPr>
          <p:spPr>
            <a:xfrm>
              <a:off x="3652560" y="2759040"/>
              <a:ext cx="1990440" cy="1338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2819520" y="2590920"/>
            <a:ext cx="3733560" cy="157392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QC Program Ste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791320" y="1219320"/>
            <a:ext cx="1295280" cy="60948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162920" y="990720"/>
            <a:ext cx="160020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nclude corrective 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4AC9E1-D279-42C3-900C-CBD1B202BB0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2T16:02:30Z</dcterms:created>
  <dc:creator>Owner</dc:creator>
  <dc:description/>
  <dc:language>en-US</dc:language>
  <cp:lastModifiedBy>bergera</cp:lastModifiedBy>
  <dcterms:modified xsi:type="dcterms:W3CDTF">2009-05-19T13:26:15Z</dcterms:modified>
  <cp:revision>37</cp:revision>
  <dc:subject/>
  <dc:title>Quality Control Overview</dc:title>
</cp:coreProperties>
</file>