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5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6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7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CC99B-D18C-41A6-AB18-644F68EFCE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49D6F-B6D2-4F54-9FE8-1C6CC4D84B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0C4E3-4F41-4090-9F22-76DEB975B1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6F3AF-A255-4CC2-8088-7C44360EED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C6DA3-BF27-4968-AE3F-17A745B368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699AF-C17F-4FD3-9A12-3FAE8F789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DA6D9-99CB-481F-AEFC-E1A355F02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51C65-F570-49D8-B46D-12582754E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BEE50-21B4-440F-9064-3EB13BB08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BD9799-E0FA-4695-BFB1-698C6E41D56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A40C44-C44B-4C9A-A6D5-F325F2D326F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7098F1-25CA-4F44-8A18-25E6D242416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5D5615-1573-4737-A9C5-B47270580E6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9838A7-67BF-484F-A3EE-ABAE966CF69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95CC32-FD78-4E54-8159-BA5573751CD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DFC367-BD42-465C-BBB4-8CBB6089E28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44A69-6D9C-4DF9-9ED7-0A6343F2C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11E296-EB1E-4713-9267-C44D1764250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EF0443-6509-4BED-9A95-43C91C08C80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492C3A-ED58-4A8D-9A78-E8725146542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6105AC-5FEC-4703-9A48-A07EFF025CA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04268B-2526-4FF1-8CA0-30DDB638D76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51E50-F1A4-4B32-AF49-4B82C5ABE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5A047-60DC-4FC3-8670-C1E479E40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E1824-6F7F-4B54-97D5-BB9F275FB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A16D1-2081-4EB5-9294-C5FAAC463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E7B23-47A9-4197-A56F-5A549E0B3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3DEB4-79E6-4B51-AD89-E6C59E8FF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59616-5DF7-4E21-84C1-C9EE93C44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BF50C-EC3F-441A-BA42-1BB32265BD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71295F4F-74BE-4D28-AEEB-67B38B1C299F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9" name="Rectangle 13"/>
          <p:cNvSpPr/>
          <p:nvPr/>
        </p:nvSpPr>
        <p:spPr>
          <a:xfrm>
            <a:off x="755640" y="6391440"/>
            <a:ext cx="619272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Rapid Response Te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01675165-03CA-42A3-AF48-B4E49EEA4843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13"/>
          <p:cNvSpPr/>
          <p:nvPr/>
        </p:nvSpPr>
        <p:spPr>
          <a:xfrm>
            <a:off x="755640" y="6391440"/>
            <a:ext cx="619272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Rapid Response Te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47403-AD7A-4551-8D83-1CA78FD181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"/>
          <p:cNvSpPr/>
          <p:nvPr/>
        </p:nvSpPr>
        <p:spPr>
          <a:xfrm>
            <a:off x="1440" y="2421000"/>
            <a:ext cx="9141120" cy="167328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Verdana"/>
              </a:rPr>
              <a:t>Rapid Response Te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Arial"/>
              </a:rPr>
              <a:t>General objectiv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8280" y="1844640"/>
            <a:ext cx="821700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presentation describes the composition and role of functional, technical multi-disciplinary teams of experts (Rapid Response Teams) that should be deployed in case of emergenci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Arial"/>
              </a:rPr>
              <a:t>Learning objectiv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6840" y="1341360"/>
            <a:ext cx="8147160" cy="43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the end of the session you will be able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the importance of having fully operational Rapid Response Teams (RRTs) able to act immediately once a suspicious case is repor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the composition and terms of reference of the RR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the activities  of the RR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Defin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8360" y="764640"/>
            <a:ext cx="822960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RT is a group of experienced experts that are on stand-by and can reach any part of the country within 24 hours. Their actions will help to contain/stop an outbreak early on. They will survey the first case(s), provide health care in a central facility, engage with the community and carry out infection, prevention and control measures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2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RRTs: Composition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24000" y="1236240"/>
            <a:ext cx="4032000" cy="356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b0f0"/>
                </a:solidFill>
                <a:latin typeface="Arial"/>
                <a:ea typeface="Arial"/>
              </a:rPr>
              <a:t>Nation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2 clinici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2 epidemiologi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laboratory exp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social mob/anthropolog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logistici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psychosocial support exp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data 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7 burial staff (1 burial tea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media exp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Content Placeholder 2"/>
          <p:cNvSpPr/>
          <p:nvPr/>
        </p:nvSpPr>
        <p:spPr>
          <a:xfrm>
            <a:off x="4356000" y="1236600"/>
            <a:ext cx="4537080" cy="32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b0f0"/>
                </a:solidFill>
                <a:latin typeface="Arial"/>
                <a:ea typeface="Arial"/>
              </a:rPr>
              <a:t>Sub-Nation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2 clinici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2 epidemiologi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laboratory technici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social mob/anthropolog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logistici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1 social worker, psychiatric nur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1 data cle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7 burial staff (1 burial tea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1 local media per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Content Placeholder 2"/>
          <p:cNvSpPr/>
          <p:nvPr/>
        </p:nvSpPr>
        <p:spPr>
          <a:xfrm>
            <a:off x="611280" y="5157720"/>
            <a:ext cx="8208720" cy="8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2060"/>
                </a:solidFill>
                <a:latin typeface="Arial"/>
              </a:rPr>
              <a:t>The number of subnational teams depends on the level of risk,</a:t>
            </a:r>
            <a:br>
              <a:rPr sz="2000"/>
            </a:br>
            <a:r>
              <a:rPr b="0" i="1" lang="en-US" sz="2000" spc="-1" strike="noStrike">
                <a:solidFill>
                  <a:srgbClr val="002060"/>
                </a:solidFill>
                <a:latin typeface="Arial"/>
              </a:rPr>
              <a:t>human resource availability and geographic lo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Set up one at National level and at least one at subnat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Train medical staff on WHO-AFRO module applied in Liberia, including mock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Mapping of health facilities and identify potential ETC si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Train Community volunteers and Epis in subnational RRT (24h hotlin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Financial support from ET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Simulation exerci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2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RRTs: Role 1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50920" y="1052640"/>
            <a:ext cx="851832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2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RRTs: Role (2)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"/>
          <p:cNvSpPr/>
          <p:nvPr/>
        </p:nvSpPr>
        <p:spPr>
          <a:xfrm>
            <a:off x="457200" y="1052640"/>
            <a:ext cx="85345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ose appropriate strategies and control measures including risk communications activit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pare detailed investigation repor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ibute to the final evaluation of the outbreak respon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estigate rumors, reported outbreaks, and other public health emerg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ordinate rapid response actions wi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ners and other ag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itiate the implementation of the propo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ol measures including capacity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ild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2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RRTs: Role (3)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55640" y="2492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W" sz="5400" spc="-1" strike="noStrike">
                <a:solidFill>
                  <a:srgbClr val="0000ff"/>
                </a:solidFill>
                <a:latin typeface="Arial"/>
              </a:rPr>
              <a:t>Thank yo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14:06:57Z</dcterms:created>
  <dc:creator>Etienne M Minkoulou</dc:creator>
  <dc:description/>
  <dc:language>en-US</dc:language>
  <cp:lastModifiedBy>Gomez, Paula</cp:lastModifiedBy>
  <cp:lastPrinted>2013-10-01T07:19:12Z</cp:lastPrinted>
  <dcterms:modified xsi:type="dcterms:W3CDTF">2014-12-15T13:27:53Z</dcterms:modified>
  <cp:revision>145</cp:revision>
  <dc:subject/>
  <dc:title>DPC Training and Technical Update</dc:title>
</cp:coreProperties>
</file>