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435AD-5AE7-4F51-AEB7-D0B9B7331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28FF7-D8DD-4FF2-BF03-1C22560EA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632A4-4221-49A2-98D1-DFAA90265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9B6D0-8059-4E2B-8178-305CB88C4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C84B1-2BFD-43A1-A24E-5976FF278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94294-EE2F-4C9A-9D93-1FE71DEA6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2AD82-56AA-4312-8747-40E85A6B3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4D462-8AB1-4653-B84C-A70CC811C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0CD3-B434-49BD-9953-5383A820C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1CA21-BC31-4509-928E-C134F864D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F09BC-CAFA-4B01-B09A-7F9E54D74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C9149-559A-40AF-BB90-A02530468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78089-D863-4651-A40F-E05DDFF95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B55DD-485A-490B-AC43-84B5BFAAF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44EE4-0F11-4514-A099-68535F0D56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B20C1-C83F-468D-ACC1-4F811AA481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25C8A-1E26-4D2A-A07D-C261D77618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F470C-D03C-4619-9EEC-98D0AC639F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6C9D-0D2D-438F-A440-F159BA9C05B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53D4-9A70-454B-B273-EAB453F2F94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F53C-ED09-4BC5-9058-D966110C325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6670-269E-4809-B8B7-235B94257DF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997C-14EE-41B7-8965-2DF501620EB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F0FA-D789-42C8-B260-36E70ACA9D6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A710-0D0F-4634-B1ED-B71A6D2973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4B1D4-94D4-416E-8BC9-5B02D87E6E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E13B-9FD6-4A68-B15B-EB40AEB0085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42DD-563B-4757-B380-48DF4CE180A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26D8-C2F6-4F74-863B-DC7F80647D0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8577-2F85-42EC-87C3-EF2D2381FA0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77F9-519D-4C2F-ADAA-1D9FBA14F7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49991-43DB-4EA3-A078-C0ED4CBF86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174D5-342F-4737-9B2F-5DDEE966F2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A4828-A638-4421-8028-3B6E898F1F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D5F66-90A8-4E3C-AA37-D4BD6D222B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5DDE6-94A7-47ED-B91D-2D3E62E10A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2FB78-97CF-4E2D-B82B-086AB73E11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F85DF-C590-42C8-93EC-FADB54597D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A05BC-B834-4630-AF76-C0A30FAF36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40000" indent="-205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51480" indent="-205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94A99-AAA0-40D9-A2DF-B3C8055EDA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2971800" y="1600200"/>
            <a:ext cx="61722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cess Control: Q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uality Control of Qualitative and Semi-Quantitative Procedure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5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39AA-A900-4DE9-B9B0-12620578F7D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sing 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 as per patient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positive and negative contr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a weak positive control for immunological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oose positive controls close to the cut-off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control to monitor extraction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1DFF3-2A7A-46AC-85B7-58B3807C085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5C264-4E45-476F-88C8-5D48E973E17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3200400" cy="275616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3B40F-8B0A-4C8E-9050-6286F6B8E4C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ck Cultures for QC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ence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in-house developed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able reactions in stains and medi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media, reag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supplies work as int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886200" y="434340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13B52-F612-4EC6-842E-252A5206F72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ources for Obtaining Reference Strai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C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merican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TCC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ional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(UK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teur Institute Collection (Fran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431B3-A8D6-4C5A-867A-3F0E457C76D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8E163-7E25-4221-8B61-3007E804B56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0C09F-5C83-438F-9AC0-5C60E849990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s are important—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e care of them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21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5659560" y="525780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o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95520" y="52578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Continued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C465D-ADC6-4BB1-9D32-13F77BF4671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F688E-CF6D-420A-BE7D-DE491268907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 Manag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established procedure for preparation or reconstit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el: content, concentration, date prepared and placed in service, expiration, initi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appropriate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A4CA5-AFC0-40A7-A4BB-AA4926530B4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2A4CD-5F21-4591-B2E3-224AD8BBE66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for St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s appropriate for particular stain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with known organisms or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rystal shards or for precip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ontaminants such as bacteria and fung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581280" y="4800600"/>
            <a:ext cx="2057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right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am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9518B-C132-494D-8C5D-FB2974AEC79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6996D-CD15-4BDB-83E7-84A0A6CAAFF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ram Stain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6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"/>
          <p:cNvSpPr/>
          <p:nvPr/>
        </p:nvSpPr>
        <p:spPr>
          <a:xfrm>
            <a:off x="83808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9900"/>
                </a:solidFill>
                <a:latin typeface="Verdana"/>
              </a:rPr>
              <a:t>Good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5178240" y="502920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Verdana"/>
              </a:rPr>
              <a:t>Poor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D65BE-3490-4528-82C1-30C80D96CA1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26A2A-683D-493C-93DD-A87218BB5D3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of Microbiology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erformance of all med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-house prepared: all batch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ercially prepared: new lot on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581280" y="3505320"/>
            <a:ext cx="22100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cConkey Aga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C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non-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30FC5-AF59-405E-A0CF-6414CD0439A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35EC5-4ABF-46D2-85BC-F218691C2BD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dia Problems to Avoi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3809880" y="1447920"/>
            <a:ext cx="2514600" cy="914400"/>
            <a:chOff x="3809880" y="1447920"/>
            <a:chExt cx="2514600" cy="914400"/>
          </a:xfrm>
        </p:grpSpPr>
        <p:sp>
          <p:nvSpPr>
            <p:cNvPr id="249" name="AutoShape 8"/>
            <p:cNvSpPr/>
            <p:nvPr/>
          </p:nvSpPr>
          <p:spPr>
            <a:xfrm>
              <a:off x="3888360" y="190512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AutoShape 9"/>
            <p:cNvSpPr/>
            <p:nvPr/>
          </p:nvSpPr>
          <p:spPr>
            <a:xfrm>
              <a:off x="3809880" y="144792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5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5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5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5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6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6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6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70" name="Text Box 32"/>
          <p:cNvSpPr/>
          <p:nvPr/>
        </p:nvSpPr>
        <p:spPr>
          <a:xfrm>
            <a:off x="912960" y="1523880"/>
            <a:ext cx="275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-d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ied-ou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min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609480" y="3200400"/>
            <a:ext cx="8229600" cy="26535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Human bloo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hould not be used because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 much batch to batch vari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include inhibitory substanc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including antimicrobial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contain biohazar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(e.g., hepatitis virus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1950840" cy="15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DB5C9-6040-4D47-B708-EF3094D07B5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7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C49B5-0AFD-4966-9262-45749EFFBB3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of Growth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eep records for media prepared in-h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ord outcomes in a dedicated media logbook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,  sterility,  ability to support growth using stock cultures,  biochemical response of stock cul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st each new batch or lot nu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17215-D1BC-417C-84B5-1EBCC9E09EF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F52EC-7ADA-4439-AA90-C5E75796BF6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between built-in and traditional contro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use stock cultures for microbiology Q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use of quality control procedures for stains used in microscopic examin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methods for verifying performance of microbiological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24F01-CC25-43B2-859B-07C478C9E4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0B9FB-46A3-4E86-8E4C-60038C912A5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qualitative tests produce non-numerical resul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mi-quantitative tests give an estim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stablish a QC program for qualitative and semi-quantitative tes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3F8FD-B44E-40B6-AA6E-FB8AD4E3E35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QC procedures followed by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lways record QC results and corrective 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f QC results are not acceptable, do not report patient result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F6ACE-3B54-401F-93D3-9CBE9FAA55E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0AE0E-5F63-45DD-892F-2755AD9D75D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85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99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300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301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302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03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04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05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6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307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8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9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310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311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2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13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4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316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8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321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23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325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6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328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9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30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334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5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337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8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340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1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8B6A2-9D63-4A05-A954-D98B071B2F9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y A performs a culture, a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identified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QC measures can you use to confirm that the isolate is correctly identified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B2569-8C9D-4919-9844-E4701B3855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09680" y="1066680"/>
            <a:ext cx="5105520" cy="5257440"/>
            <a:chOff x="2209680" y="1066680"/>
            <a:chExt cx="5105520" cy="5257440"/>
          </a:xfrm>
        </p:grpSpPr>
        <p:sp>
          <p:nvSpPr>
            <p:cNvPr id="136" name="AutoShape 4"/>
            <p:cNvSpPr/>
            <p:nvPr/>
          </p:nvSpPr>
          <p:spPr>
            <a:xfrm>
              <a:off x="2209680" y="1066680"/>
              <a:ext cx="5105520" cy="5257440"/>
            </a:xfrm>
            <a:custGeom>
              <a:avLst/>
              <a:gdLst>
                <a:gd name="textAreaLeft" fmla="*/ 249120 w 5105520"/>
                <a:gd name="textAreaRight" fmla="*/ 4856400 w 5105520"/>
                <a:gd name="textAreaTop" fmla="*/ 249120 h 5257440"/>
                <a:gd name="textAreaBottom" fmla="*/ 5008320 h 5257440"/>
              </a:gdLst>
              <a:ahLst/>
              <a:rect l="textAreaLeft" t="textAreaTop" r="textAreaRight" b="textAreaBottom"/>
              <a:pathLst>
                <a:path w="21600" h="22243">
                  <a:moveTo>
                    <a:pt x="3600" y="0"/>
                  </a:moveTo>
                  <a:arcTo wR="3600" hR="3600" stAng="16200000" swAng="-5400000"/>
                  <a:lnTo>
                    <a:pt x="0" y="18643"/>
                  </a:lnTo>
                  <a:arcTo wR="3600" hR="3600" stAng="10800000" swAng="-5400000"/>
                  <a:lnTo>
                    <a:pt x="18000" y="22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21160" y="3834000"/>
              <a:ext cx="118800" cy="705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76200" y="3210480"/>
              <a:ext cx="165600" cy="1108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65040" y="3148920"/>
              <a:ext cx="168840" cy="385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24720" y="5932440"/>
              <a:ext cx="10800" cy="450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566600" y="4794120"/>
              <a:ext cx="1440" cy="101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338880" y="1713960"/>
              <a:ext cx="1440" cy="39837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762080" y="1868760"/>
              <a:ext cx="144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10400" y="1917000"/>
              <a:ext cx="108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09800" y="1760400"/>
              <a:ext cx="38682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09560" y="1156680"/>
              <a:ext cx="1243080" cy="1156320"/>
              <a:chOff x="2509560" y="1156680"/>
              <a:chExt cx="1243080" cy="115632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09560" y="1156680"/>
                <a:ext cx="1220760" cy="1156320"/>
                <a:chOff x="2509560" y="1156680"/>
                <a:chExt cx="1220760" cy="115632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0320" y="1156680"/>
                  <a:ext cx="1135440" cy="1156320"/>
                  <a:chOff x="2560320" y="1156680"/>
                  <a:chExt cx="1135440" cy="115632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09560" y="1423080"/>
                  <a:ext cx="122076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1880" y="156672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41440" y="1156680"/>
              <a:ext cx="1221480" cy="1156320"/>
              <a:chOff x="4141440" y="1156680"/>
              <a:chExt cx="1221480" cy="115632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181760" y="1156680"/>
                <a:ext cx="1136160" cy="115632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41440" y="156672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18240" y="1156680"/>
              <a:ext cx="1221480" cy="1156320"/>
              <a:chOff x="5718240" y="1156680"/>
              <a:chExt cx="1221480" cy="115632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762880" y="1156680"/>
                <a:ext cx="1136160" cy="1156320"/>
                <a:chOff x="5762880" y="1156680"/>
                <a:chExt cx="1136160" cy="115632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18240" y="15710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85040" y="307512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509560" y="2458440"/>
              <a:ext cx="1223280" cy="1155960"/>
              <a:chOff x="2509560" y="2458440"/>
              <a:chExt cx="1223280" cy="115596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3880" y="2458440"/>
                <a:ext cx="11386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09560" y="273708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189680" y="2519280"/>
              <a:ext cx="113580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28920" y="2535480"/>
              <a:ext cx="113400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663160" y="2475720"/>
              <a:ext cx="1316880" cy="1155960"/>
              <a:chOff x="5663160" y="2475720"/>
              <a:chExt cx="1316880" cy="115596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38040" y="247572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663160" y="276696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09800" y="431388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509560" y="3779280"/>
              <a:ext cx="1221480" cy="1157400"/>
              <a:chOff x="2509560" y="3779280"/>
              <a:chExt cx="1221480" cy="115740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0880" y="3779280"/>
                <a:ext cx="113652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09560" y="400428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141440" y="3779280"/>
              <a:ext cx="1221480" cy="1157400"/>
              <a:chOff x="4141440" y="3779280"/>
              <a:chExt cx="1221480" cy="115740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67720" y="3779280"/>
                <a:ext cx="113688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41440" y="4022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38400" y="3772800"/>
              <a:ext cx="113724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18240" y="385020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85040" y="562680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434680" y="5090400"/>
              <a:ext cx="1399680" cy="1155960"/>
              <a:chOff x="2434680" y="5090400"/>
              <a:chExt cx="1399680" cy="115596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1200" y="5090400"/>
                <a:ext cx="113544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4680" y="5319000"/>
                <a:ext cx="139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41440" y="5024160"/>
              <a:ext cx="1221480" cy="1156320"/>
              <a:chOff x="4141440" y="5024160"/>
              <a:chExt cx="1221480" cy="115632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189320" y="5024160"/>
                <a:ext cx="1135440" cy="115632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41440" y="53186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738400" y="5090400"/>
              <a:ext cx="1221480" cy="1155960"/>
              <a:chOff x="5738400" y="5090400"/>
              <a:chExt cx="1221480" cy="115596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757120" y="509040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38400" y="531900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444D2-C37A-47C6-AA28-338B6CC6A1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ative or semi-quantitative tests - Exampl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scopic examin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pstick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rologic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biological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y reaction that produces non-numeric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8B33F-2024-4A2E-A90E-736141A9ADE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98" name="wbcrbc" descr="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BFBD5-72BA-4F62-BB65-5822C248DC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ortant Concep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mple manageme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ff competenc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mainten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ins, media and reagents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E4A5-559D-4B6B-9E5B-B2DD3373BB9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E2535-8528-4BBB-A233-57F58BA658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Materia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ontrol materials that mimic patient samp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ference organis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724F2-3967-479F-BD30-6FCC38F4CC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tegrated into the design of a test kit dev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utomatically run with each test perform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certain aspects of kit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y not assess enti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esting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77159-4FCA-40D7-87A2-DAFA1A7BE64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terials with known reacti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imic patient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the integrity of the entir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33E33-164C-4C33-BD14-50556044661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09:52:17Z</dcterms:modified>
  <cp:revision>464</cp:revision>
  <dc:subject/>
  <dc:title>Slide 1</dc:title>
</cp:coreProperties>
</file>