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DECE7-E400-487B-A8DB-A3AF97807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22145-CCDA-4D2B-8818-C2927055A6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ECBCC-A276-4AC3-AE88-3456F2CCC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DE73F-83B7-484E-B7A3-E0531642B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FD77B-2F42-433B-B888-2733BA1FA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B7F52-D8E1-4FE5-9867-AB906EB85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AA1EE-EE00-4473-BADC-98F155B00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711E8-45F2-4E26-95DB-BC1A1F856A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6F951-BCDE-401E-8B90-7A61A9C95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37D5E-E3F9-4827-BFC6-F8ABAA831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D4AA9-88F4-49C6-ABE8-5854415FBE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33668-8580-41E1-8CA7-CE2B849F5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2F89D-EDFF-4E85-A240-FDD89A2A5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1AB32-F2C5-4BF4-AF81-F4D26FB1C7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AC6C2-0DAC-4B1E-BF40-573E96243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D6F42-EBF5-47DD-89D6-47E798B1B8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6E69D-A483-4B77-9473-021486446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0D5D1-6AE1-4CA5-8BDC-0AF003954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0A4D3-F9DB-4F6B-8428-E8C578B6B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8D9EA-4DDC-489E-BFFB-2B019DABAC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7A87C-F5A9-4621-BF94-A7B17EB770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94F04-6BD5-4ECD-93F0-FBA6EC3A30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1C4E3-A55A-4220-BC5B-2AF3ACFBC6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4D44-35B1-42E9-B2C8-CC0EEC387AF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B838-ECD9-4C19-9F72-E6553E3F31A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F1BF-E847-4C6D-8740-46DBECEE53B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BBAF-B464-4781-808B-FD0FE46D401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2B60-499D-4C17-AD77-D3BD8EB2CA1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9C54-FEBA-4A2B-A9AC-35A78258B67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6D52-9538-49FD-BD09-EBD26EA6E0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243C3-28FE-4069-B314-4B28D4DB26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26A9-71C4-4B49-8890-7AB4BA0DF45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4922-D1E1-4ABA-85FC-21FF607229F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2257-5909-4AD5-A90D-AAA420AE4CF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BF79-EA79-434A-9BB5-FA1F67F6455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D02B-D1EB-4382-B193-5593C47D2B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1E28E-DE19-4CFA-B807-70FC4C5545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A409E-00E4-4D3B-B76E-98244685A4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388C7-0356-4FA8-8C27-5ECF6E52AC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BDC9A-3C23-4A6B-9DB3-4C60DD3392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A684E-C471-4F3D-859E-CB22F2BC18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E7F26-DF4B-4E3B-B786-AA3695B571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AF922-F721-4D03-8900-557DE1D0C5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CF8D2-76E7-4706-BE5F-B763BEB267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0AA81-1613-4D7F-8F06-77E80FB697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3581280" y="1828800"/>
            <a:ext cx="495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Quality Manual Structure and Contents - op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A59A4-FC80-4B35-9886-1753095E1BF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job descriptions, including qualification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organizational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cruitment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ntern and studen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4.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C2FB3-273E-4002-AD8D-1EF7EE1B03F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5. Document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nagement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finalizing document: verification, printing, signature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fidentialit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, arch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roducing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ist of reference document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4518E-3420-420C-9336-8556CA837CD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6. Accommodation and Environ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p of the laboratory pre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stricted points of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aboratory signs or othe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nvironmental requirements for the laboratory (size, temperature, water, electrical, airf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tolerated uncertain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1BB2D-EF76-4AD5-A183-C47C8FCD572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7. Instruments, Reagents, and Consumables Managem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pecify that each instrument requires written procedures, maintenance, quality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rdering and rece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sumables or supplies – defin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E501E-7A8F-4CF9-AD43-AC9F05A7436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8. 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samples and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is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r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zardous chemical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waste dis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er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oduct lab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073DC-6835-441D-AD75-FDB99B3AB75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9. Preexamination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3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atient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dentification of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liquoting and pretreatment of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76DB7-4D7C-4082-8A72-9153F3E2618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0. 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152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agent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calibration / 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/testing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valida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94050-7F5A-4A5C-BF6D-B4F29DC3791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1. Post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nal biological 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inting/copying report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mission of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ling (archiving)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lationships with disease surveillance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BEA8F-DA6A-46D8-9C0A-4AA5E357C9A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2. Quality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minder of 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ink to control 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ersonnel competen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ummary of all QC procedures and links to the appropriate sections in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D2A88-7E8E-4524-96B1-01BED839273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3. Corrective/Preventive Actions, Internal Audit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ntinuous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viewing and understanding all problems an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internal audits ar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quired under the ISO 15189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1A882-FB28-4344-B703-749DA072817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362320" y="1066680"/>
            <a:ext cx="5029200" cy="5105520"/>
            <a:chOff x="2362320" y="1066680"/>
            <a:chExt cx="5029200" cy="5105520"/>
          </a:xfrm>
        </p:grpSpPr>
        <p:sp>
          <p:nvSpPr>
            <p:cNvPr id="131" name="AutoShape 4"/>
            <p:cNvSpPr/>
            <p:nvPr/>
          </p:nvSpPr>
          <p:spPr>
            <a:xfrm>
              <a:off x="2362320" y="1066680"/>
              <a:ext cx="5029200" cy="510552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520"/>
                <a:gd name="textAreaBottom" fmla="*/ 4860000 h 5105520"/>
              </a:gdLst>
              <a:ahLst/>
              <a:rect l="textAreaLeft" t="textAreaTop" r="textAreaRight" b="textAreaBottom"/>
              <a:pathLst>
                <a:path w="21600" h="21928">
                  <a:moveTo>
                    <a:pt x="3600" y="0"/>
                  </a:moveTo>
                  <a:arcTo wR="3600" hR="3600" stAng="16200000" swAng="-5400000"/>
                  <a:lnTo>
                    <a:pt x="0" y="18328"/>
                  </a:lnTo>
                  <a:arcTo wR="3600" hR="3600" stAng="10800000" swAng="-5400000"/>
                  <a:lnTo>
                    <a:pt x="18000" y="219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4540680" y="375372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6"/>
            <p:cNvSpPr/>
            <p:nvPr/>
          </p:nvSpPr>
          <p:spPr>
            <a:xfrm>
              <a:off x="3215880" y="314820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2"/>
            <p:cNvSpPr/>
            <p:nvPr/>
          </p:nvSpPr>
          <p:spPr>
            <a:xfrm>
              <a:off x="3205080" y="308880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4"/>
            <p:cNvSpPr/>
            <p:nvPr/>
          </p:nvSpPr>
          <p:spPr>
            <a:xfrm flipH="1" flipV="1">
              <a:off x="4938480" y="579168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5"/>
            <p:cNvSpPr/>
            <p:nvPr/>
          </p:nvSpPr>
          <p:spPr>
            <a:xfrm flipV="1">
              <a:off x="4683960" y="468576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7"/>
            <p:cNvSpPr/>
            <p:nvPr/>
          </p:nvSpPr>
          <p:spPr>
            <a:xfrm>
              <a:off x="6429600" y="169524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7"/>
            <p:cNvSpPr/>
            <p:nvPr/>
          </p:nvSpPr>
          <p:spPr>
            <a:xfrm>
              <a:off x="4876560" y="184536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3249720" y="189216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 flipH="1">
              <a:off x="2953800" y="174060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65"/>
            <p:cNvGrpSpPr/>
            <p:nvPr/>
          </p:nvGrpSpPr>
          <p:grpSpPr>
            <a:xfrm>
              <a:off x="2657880" y="1154160"/>
              <a:ext cx="1224360" cy="1122840"/>
              <a:chOff x="2657880" y="1154160"/>
              <a:chExt cx="1224360" cy="1122840"/>
            </a:xfrm>
          </p:grpSpPr>
          <p:grpSp>
            <p:nvGrpSpPr>
              <p:cNvPr id="146" name="Group 66"/>
              <p:cNvGrpSpPr/>
              <p:nvPr/>
            </p:nvGrpSpPr>
            <p:grpSpPr>
              <a:xfrm>
                <a:off x="2657880" y="1154160"/>
                <a:ext cx="1202400" cy="1122840"/>
                <a:chOff x="2657880" y="1154160"/>
                <a:chExt cx="1202400" cy="1122840"/>
              </a:xfrm>
            </p:grpSpPr>
            <p:grpSp>
              <p:nvGrpSpPr>
                <p:cNvPr id="147" name="Group 67"/>
                <p:cNvGrpSpPr/>
                <p:nvPr/>
              </p:nvGrpSpPr>
              <p:grpSpPr>
                <a:xfrm>
                  <a:off x="2707920" y="1154160"/>
                  <a:ext cx="1118520" cy="1122840"/>
                  <a:chOff x="2707920" y="1154160"/>
                  <a:chExt cx="1118520" cy="1122840"/>
                </a:xfrm>
              </p:grpSpPr>
              <p:sp>
                <p:nvSpPr>
                  <p:cNvPr id="148" name="Freeform 68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69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70"/>
                <p:cNvSpPr/>
                <p:nvPr/>
              </p:nvSpPr>
              <p:spPr>
                <a:xfrm>
                  <a:off x="2657880" y="141300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Text Box 71"/>
              <p:cNvSpPr/>
              <p:nvPr/>
            </p:nvSpPr>
            <p:spPr>
              <a:xfrm>
                <a:off x="2679840" y="155232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72"/>
            <p:cNvGrpSpPr/>
            <p:nvPr/>
          </p:nvGrpSpPr>
          <p:grpSpPr>
            <a:xfrm>
              <a:off x="4264920" y="1154160"/>
              <a:ext cx="1203120" cy="1122840"/>
              <a:chOff x="4264920" y="1154160"/>
              <a:chExt cx="1203120" cy="1122840"/>
            </a:xfrm>
          </p:grpSpPr>
          <p:sp>
            <p:nvSpPr>
              <p:cNvPr id="153" name="Freeform 73"/>
              <p:cNvSpPr/>
              <p:nvPr/>
            </p:nvSpPr>
            <p:spPr>
              <a:xfrm>
                <a:off x="4304520" y="115416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74"/>
              <p:cNvSpPr/>
              <p:nvPr/>
            </p:nvSpPr>
            <p:spPr>
              <a:xfrm>
                <a:off x="4264920" y="155232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5"/>
            <p:cNvGrpSpPr/>
            <p:nvPr/>
          </p:nvGrpSpPr>
          <p:grpSpPr>
            <a:xfrm>
              <a:off x="5818320" y="1154160"/>
              <a:ext cx="1203120" cy="1122840"/>
              <a:chOff x="5818320" y="1154160"/>
              <a:chExt cx="1203120" cy="1122840"/>
            </a:xfrm>
          </p:grpSpPr>
          <p:grpSp>
            <p:nvGrpSpPr>
              <p:cNvPr id="156" name="Group 76"/>
              <p:cNvGrpSpPr/>
              <p:nvPr/>
            </p:nvGrpSpPr>
            <p:grpSpPr>
              <a:xfrm>
                <a:off x="5862240" y="1154160"/>
                <a:ext cx="1118880" cy="1122840"/>
                <a:chOff x="5862240" y="1154160"/>
                <a:chExt cx="1118880" cy="1122840"/>
              </a:xfrm>
            </p:grpSpPr>
            <p:sp>
              <p:nvSpPr>
                <p:cNvPr id="157" name="Freeform 77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78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79"/>
              <p:cNvSpPr/>
              <p:nvPr/>
            </p:nvSpPr>
            <p:spPr>
              <a:xfrm>
                <a:off x="5818320" y="155664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3027960" y="30171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657880" y="2418120"/>
              <a:ext cx="1204920" cy="1122840"/>
              <a:chOff x="2657880" y="2418120"/>
              <a:chExt cx="1204920" cy="1122840"/>
            </a:xfrm>
          </p:grpSpPr>
          <p:sp>
            <p:nvSpPr>
              <p:cNvPr id="162" name="Freeform 46"/>
              <p:cNvSpPr/>
              <p:nvPr/>
            </p:nvSpPr>
            <p:spPr>
              <a:xfrm>
                <a:off x="2662200" y="241812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47"/>
              <p:cNvSpPr/>
              <p:nvPr/>
            </p:nvSpPr>
            <p:spPr>
              <a:xfrm>
                <a:off x="2657880" y="268848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Freeform 31"/>
            <p:cNvSpPr/>
            <p:nvPr/>
          </p:nvSpPr>
          <p:spPr>
            <a:xfrm>
              <a:off x="4312440" y="247716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43"/>
            <p:cNvSpPr/>
            <p:nvPr/>
          </p:nvSpPr>
          <p:spPr>
            <a:xfrm>
              <a:off x="4351320" y="249300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5763960" y="2435040"/>
              <a:ext cx="1297080" cy="1122840"/>
              <a:chOff x="5763960" y="2435040"/>
              <a:chExt cx="1297080" cy="1122840"/>
            </a:xfrm>
          </p:grpSpPr>
          <p:sp>
            <p:nvSpPr>
              <p:cNvPr id="167" name="Freeform 48"/>
              <p:cNvSpPr/>
              <p:nvPr/>
            </p:nvSpPr>
            <p:spPr>
              <a:xfrm>
                <a:off x="5837760" y="24350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55"/>
              <p:cNvSpPr/>
              <p:nvPr/>
            </p:nvSpPr>
            <p:spPr>
              <a:xfrm>
                <a:off x="5763960" y="271800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953800" y="42199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657880" y="3700800"/>
              <a:ext cx="1203120" cy="1124280"/>
              <a:chOff x="2657880" y="3700800"/>
              <a:chExt cx="1203120" cy="1124280"/>
            </a:xfrm>
          </p:grpSpPr>
          <p:sp>
            <p:nvSpPr>
              <p:cNvPr id="171" name="Freeform 81"/>
              <p:cNvSpPr/>
              <p:nvPr/>
            </p:nvSpPr>
            <p:spPr>
              <a:xfrm>
                <a:off x="2688840" y="370080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82"/>
              <p:cNvSpPr/>
              <p:nvPr/>
            </p:nvSpPr>
            <p:spPr>
              <a:xfrm>
                <a:off x="2657880" y="39193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64920" y="3700800"/>
              <a:ext cx="1203120" cy="1124280"/>
              <a:chOff x="4264920" y="3700800"/>
              <a:chExt cx="1203120" cy="1124280"/>
            </a:xfrm>
          </p:grpSpPr>
          <p:sp>
            <p:nvSpPr>
              <p:cNvPr id="174" name="Freeform 30"/>
              <p:cNvSpPr/>
              <p:nvPr/>
            </p:nvSpPr>
            <p:spPr>
              <a:xfrm>
                <a:off x="4290840" y="370080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4"/>
              <p:cNvSpPr/>
              <p:nvPr/>
            </p:nvSpPr>
            <p:spPr>
              <a:xfrm>
                <a:off x="4264920" y="3936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50"/>
            <p:cNvSpPr/>
            <p:nvPr/>
          </p:nvSpPr>
          <p:spPr>
            <a:xfrm>
              <a:off x="5838120" y="369432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51"/>
            <p:cNvSpPr/>
            <p:nvPr/>
          </p:nvSpPr>
          <p:spPr>
            <a:xfrm>
              <a:off x="5818320" y="376956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7"/>
            <p:cNvSpPr/>
            <p:nvPr/>
          </p:nvSpPr>
          <p:spPr>
            <a:xfrm flipH="1">
              <a:off x="3027960" y="549468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2584080" y="4973760"/>
              <a:ext cx="1378800" cy="1122840"/>
              <a:chOff x="2584080" y="4973760"/>
              <a:chExt cx="1378800" cy="1122840"/>
            </a:xfrm>
          </p:grpSpPr>
          <p:sp>
            <p:nvSpPr>
              <p:cNvPr id="180" name="Freeform 57"/>
              <p:cNvSpPr/>
              <p:nvPr/>
            </p:nvSpPr>
            <p:spPr>
              <a:xfrm>
                <a:off x="2728440" y="497376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8"/>
              <p:cNvSpPr/>
              <p:nvPr/>
            </p:nvSpPr>
            <p:spPr>
              <a:xfrm>
                <a:off x="2584080" y="519552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4264920" y="4909680"/>
              <a:ext cx="1203120" cy="1123200"/>
              <a:chOff x="4264920" y="4909680"/>
              <a:chExt cx="1203120" cy="1123200"/>
            </a:xfrm>
          </p:grpSpPr>
          <p:sp>
            <p:nvSpPr>
              <p:cNvPr id="183" name="Freeform 34"/>
              <p:cNvSpPr/>
              <p:nvPr/>
            </p:nvSpPr>
            <p:spPr>
              <a:xfrm>
                <a:off x="4312080" y="490968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61"/>
              <p:cNvSpPr/>
              <p:nvPr/>
            </p:nvSpPr>
            <p:spPr>
              <a:xfrm>
                <a:off x="4264920" y="519588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838120" y="4973760"/>
              <a:ext cx="1203120" cy="1122840"/>
              <a:chOff x="5838120" y="4973760"/>
              <a:chExt cx="1203120" cy="1122840"/>
            </a:xfrm>
          </p:grpSpPr>
          <p:sp>
            <p:nvSpPr>
              <p:cNvPr id="186" name="Freeform 63"/>
              <p:cNvSpPr/>
              <p:nvPr/>
            </p:nvSpPr>
            <p:spPr>
              <a:xfrm>
                <a:off x="5856480" y="497376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4"/>
              <p:cNvSpPr/>
              <p:nvPr/>
            </p:nvSpPr>
            <p:spPr>
              <a:xfrm>
                <a:off x="5838120" y="51955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B4619-AF96-49EE-BE04-5F89F462A1A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ructure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Manual (Specify Polic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3124440" cy="293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EC751-33E0-4DAB-A010-F1DDC650C72F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Documen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3"/>
          <p:cNvGrpSpPr/>
          <p:nvPr/>
        </p:nvGrpSpPr>
        <p:grpSpPr>
          <a:xfrm>
            <a:off x="4343400" y="4038480"/>
            <a:ext cx="2819160" cy="1981440"/>
            <a:chOff x="4343400" y="4038480"/>
            <a:chExt cx="2819160" cy="1981440"/>
          </a:xfrm>
        </p:grpSpPr>
        <p:sp>
          <p:nvSpPr>
            <p:cNvPr id="238" name="Text Box 4"/>
            <p:cNvSpPr/>
            <p:nvPr/>
          </p:nvSpPr>
          <p:spPr>
            <a:xfrm>
              <a:off x="5410080" y="4038480"/>
              <a:ext cx="76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>
              <a:off x="4343400" y="4038480"/>
              <a:ext cx="28191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>
              <a:off x="4419360" y="4419720"/>
              <a:ext cx="1295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>
              <a:off x="5790960" y="4495680"/>
              <a:ext cx="1295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4495680" y="472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5790960" y="4616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pecific S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0"/>
          <p:cNvGrpSpPr/>
          <p:nvPr/>
        </p:nvGrpSpPr>
        <p:grpSpPr>
          <a:xfrm>
            <a:off x="2971800" y="1676520"/>
            <a:ext cx="1523880" cy="1066680"/>
            <a:chOff x="2971800" y="1676520"/>
            <a:chExt cx="1523880" cy="1066680"/>
          </a:xfrm>
        </p:grpSpPr>
        <p:sp>
          <p:nvSpPr>
            <p:cNvPr id="245" name="Oval 11"/>
            <p:cNvSpPr/>
            <p:nvPr/>
          </p:nvSpPr>
          <p:spPr>
            <a:xfrm>
              <a:off x="2971800" y="16765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2"/>
            <p:cNvSpPr/>
            <p:nvPr/>
          </p:nvSpPr>
          <p:spPr>
            <a:xfrm>
              <a:off x="297180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anu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3"/>
          <p:cNvGrpSpPr/>
          <p:nvPr/>
        </p:nvGrpSpPr>
        <p:grpSpPr>
          <a:xfrm>
            <a:off x="1143000" y="3886200"/>
            <a:ext cx="1371600" cy="1066680"/>
            <a:chOff x="1143000" y="3886200"/>
            <a:chExt cx="1371600" cy="1066680"/>
          </a:xfrm>
        </p:grpSpPr>
        <p:sp>
          <p:nvSpPr>
            <p:cNvPr id="248" name="Text Box 14"/>
            <p:cNvSpPr/>
            <p:nvPr/>
          </p:nvSpPr>
          <p:spPr>
            <a:xfrm>
              <a:off x="1295640" y="4191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oo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1143000" y="388620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1600200" y="2514600"/>
            <a:ext cx="1295280" cy="1066680"/>
            <a:chOff x="1600200" y="2514600"/>
            <a:chExt cx="1295280" cy="1066680"/>
          </a:xfrm>
        </p:grpSpPr>
        <p:sp>
          <p:nvSpPr>
            <p:cNvPr id="251" name="Text Box 17"/>
            <p:cNvSpPr/>
            <p:nvPr/>
          </p:nvSpPr>
          <p:spPr>
            <a:xfrm>
              <a:off x="1676160" y="2819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rti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8"/>
            <p:cNvSpPr/>
            <p:nvPr/>
          </p:nvSpPr>
          <p:spPr>
            <a:xfrm>
              <a:off x="1600200" y="25146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9"/>
          <p:cNvGrpSpPr/>
          <p:nvPr/>
        </p:nvGrpSpPr>
        <p:grpSpPr>
          <a:xfrm>
            <a:off x="4495680" y="1371600"/>
            <a:ext cx="1523880" cy="1038240"/>
            <a:chOff x="4495680" y="1371600"/>
            <a:chExt cx="1523880" cy="1038240"/>
          </a:xfrm>
        </p:grpSpPr>
        <p:sp>
          <p:nvSpPr>
            <p:cNvPr id="254" name="Text Box 20"/>
            <p:cNvSpPr/>
            <p:nvPr/>
          </p:nvSpPr>
          <p:spPr>
            <a:xfrm>
              <a:off x="4495680" y="1571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s and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21"/>
            <p:cNvSpPr/>
            <p:nvPr/>
          </p:nvSpPr>
          <p:spPr>
            <a:xfrm>
              <a:off x="4552920" y="1371600"/>
              <a:ext cx="144756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2"/>
          <p:cNvGrpSpPr/>
          <p:nvPr/>
        </p:nvGrpSpPr>
        <p:grpSpPr>
          <a:xfrm>
            <a:off x="1371600" y="5257800"/>
            <a:ext cx="1523880" cy="1066680"/>
            <a:chOff x="1371600" y="5257800"/>
            <a:chExt cx="1523880" cy="1066680"/>
          </a:xfrm>
        </p:grpSpPr>
        <p:sp>
          <p:nvSpPr>
            <p:cNvPr id="257" name="Oval 23"/>
            <p:cNvSpPr/>
            <p:nvPr/>
          </p:nvSpPr>
          <p:spPr>
            <a:xfrm>
              <a:off x="1476000" y="52578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4"/>
            <p:cNvSpPr/>
            <p:nvPr/>
          </p:nvSpPr>
          <p:spPr>
            <a:xfrm>
              <a:off x="1371600" y="5562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Line 25"/>
          <p:cNvSpPr/>
          <p:nvPr/>
        </p:nvSpPr>
        <p:spPr>
          <a:xfrm flipH="1">
            <a:off x="2819520" y="541008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6"/>
          <p:cNvSpPr/>
          <p:nvPr/>
        </p:nvSpPr>
        <p:spPr>
          <a:xfrm flipH="1" flipV="1">
            <a:off x="2438280" y="449568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7"/>
          <p:cNvSpPr/>
          <p:nvPr/>
        </p:nvSpPr>
        <p:spPr>
          <a:xfrm flipV="1">
            <a:off x="5105520" y="2438280"/>
            <a:ext cx="7596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8"/>
          <p:cNvSpPr/>
          <p:nvPr/>
        </p:nvSpPr>
        <p:spPr>
          <a:xfrm flipH="1" flipV="1">
            <a:off x="2895120" y="3428640"/>
            <a:ext cx="3124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9"/>
          <p:cNvSpPr/>
          <p:nvPr/>
        </p:nvSpPr>
        <p:spPr>
          <a:xfrm flipH="1" flipV="1">
            <a:off x="3885840" y="2666880"/>
            <a:ext cx="2438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0"/>
          <p:cNvSpPr/>
          <p:nvPr/>
        </p:nvSpPr>
        <p:spPr>
          <a:xfrm flipH="1" flipV="1">
            <a:off x="2743200" y="350496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1"/>
          <p:cNvSpPr/>
          <p:nvPr/>
        </p:nvSpPr>
        <p:spPr>
          <a:xfrm flipH="1" flipV="1">
            <a:off x="5409720" y="24379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2"/>
          <p:cNvSpPr/>
          <p:nvPr/>
        </p:nvSpPr>
        <p:spPr>
          <a:xfrm flipH="1">
            <a:off x="2514240" y="5257800"/>
            <a:ext cx="1981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3"/>
          <p:cNvSpPr/>
          <p:nvPr/>
        </p:nvSpPr>
        <p:spPr>
          <a:xfrm flipH="1" flipV="1">
            <a:off x="2361960" y="4800240"/>
            <a:ext cx="3429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172200" y="2144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o avoid overloading the 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ocumentation list + simple numb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Links to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D4E7B-8AC1-403E-B65D-860148B48EE1}" type="slidenum">
              <a:t>21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re is only ONE official version of the Quality M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is never finished; it is always being impro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read, understood, and accepted by every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written in clear, easily-understood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should be dated and signed by man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ndardized page-headers should be used, and the version of each procedure should be no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veloping a quality manual is a very big job, but it is also very rewarding and useful for the labora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7CFA2-C3C2-4689-AD16-7A295BA7F9C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5000" y="68544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57200" y="762120"/>
            <a:ext cx="5029200" cy="5105160"/>
            <a:chOff x="457200" y="762120"/>
            <a:chExt cx="5029200" cy="5105160"/>
          </a:xfrm>
        </p:grpSpPr>
        <p:sp>
          <p:nvSpPr>
            <p:cNvPr id="273" name="AutoShape 4"/>
            <p:cNvSpPr/>
            <p:nvPr/>
          </p:nvSpPr>
          <p:spPr>
            <a:xfrm>
              <a:off x="457200" y="762120"/>
              <a:ext cx="5029200" cy="510516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160"/>
                <a:gd name="textAreaBottom" fmla="*/ 4859640 h 5105160"/>
              </a:gdLst>
              <a:ahLst/>
              <a:rect l="textAreaLeft" t="textAreaTop" r="textAreaRight" b="textAreaBottom"/>
              <a:pathLst>
                <a:path w="21600" h="21926">
                  <a:moveTo>
                    <a:pt x="3600" y="0"/>
                  </a:moveTo>
                  <a:arcTo wR="3600" hR="3600" stAng="16200000" swAng="-5400000"/>
                  <a:lnTo>
                    <a:pt x="0" y="18326"/>
                  </a:lnTo>
                  <a:arcTo wR="3600" hR="3600" stAng="10800000" swAng="-5400000"/>
                  <a:lnTo>
                    <a:pt x="18000" y="219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9"/>
            <p:cNvSpPr/>
            <p:nvPr/>
          </p:nvSpPr>
          <p:spPr>
            <a:xfrm>
              <a:off x="2635560" y="344916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6"/>
            <p:cNvSpPr/>
            <p:nvPr/>
          </p:nvSpPr>
          <p:spPr>
            <a:xfrm>
              <a:off x="1310760" y="284364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2"/>
            <p:cNvSpPr/>
            <p:nvPr/>
          </p:nvSpPr>
          <p:spPr>
            <a:xfrm>
              <a:off x="1299960" y="278424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24"/>
            <p:cNvSpPr/>
            <p:nvPr/>
          </p:nvSpPr>
          <p:spPr>
            <a:xfrm flipH="1" flipV="1">
              <a:off x="3033360" y="548676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5"/>
            <p:cNvSpPr/>
            <p:nvPr/>
          </p:nvSpPr>
          <p:spPr>
            <a:xfrm flipV="1">
              <a:off x="2778840" y="438084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7"/>
            <p:cNvSpPr/>
            <p:nvPr/>
          </p:nvSpPr>
          <p:spPr>
            <a:xfrm>
              <a:off x="4524480" y="139032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7"/>
            <p:cNvSpPr/>
            <p:nvPr/>
          </p:nvSpPr>
          <p:spPr>
            <a:xfrm>
              <a:off x="2971440" y="1540800"/>
              <a:ext cx="144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7"/>
            <p:cNvSpPr/>
            <p:nvPr/>
          </p:nvSpPr>
          <p:spPr>
            <a:xfrm>
              <a:off x="1344600" y="1587600"/>
              <a:ext cx="108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7"/>
            <p:cNvSpPr/>
            <p:nvPr/>
          </p:nvSpPr>
          <p:spPr>
            <a:xfrm flipH="1">
              <a:off x="1048680" y="143604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65"/>
            <p:cNvGrpSpPr/>
            <p:nvPr/>
          </p:nvGrpSpPr>
          <p:grpSpPr>
            <a:xfrm>
              <a:off x="752760" y="849600"/>
              <a:ext cx="1224360" cy="1122840"/>
              <a:chOff x="752760" y="849600"/>
              <a:chExt cx="1224360" cy="1122840"/>
            </a:xfrm>
          </p:grpSpPr>
          <p:grpSp>
            <p:nvGrpSpPr>
              <p:cNvPr id="288" name="Group 66"/>
              <p:cNvGrpSpPr/>
              <p:nvPr/>
            </p:nvGrpSpPr>
            <p:grpSpPr>
              <a:xfrm>
                <a:off x="752760" y="849600"/>
                <a:ext cx="1202400" cy="1122840"/>
                <a:chOff x="752760" y="849600"/>
                <a:chExt cx="1202400" cy="112284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802800" y="849600"/>
                  <a:ext cx="1118520" cy="1122840"/>
                  <a:chOff x="802800" y="849600"/>
                  <a:chExt cx="1118520" cy="1122840"/>
                </a:xfrm>
              </p:grpSpPr>
              <p:sp>
                <p:nvSpPr>
                  <p:cNvPr id="290" name="Freeform 68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Text Box 70"/>
                <p:cNvSpPr/>
                <p:nvPr/>
              </p:nvSpPr>
              <p:spPr>
                <a:xfrm>
                  <a:off x="752760" y="110844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Text Box 71"/>
              <p:cNvSpPr/>
              <p:nvPr/>
            </p:nvSpPr>
            <p:spPr>
              <a:xfrm>
                <a:off x="774720" y="124776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72"/>
            <p:cNvGrpSpPr/>
            <p:nvPr/>
          </p:nvGrpSpPr>
          <p:grpSpPr>
            <a:xfrm>
              <a:off x="2359800" y="849600"/>
              <a:ext cx="1203120" cy="1122840"/>
              <a:chOff x="2359800" y="849600"/>
              <a:chExt cx="1203120" cy="1122840"/>
            </a:xfrm>
          </p:grpSpPr>
          <p:sp>
            <p:nvSpPr>
              <p:cNvPr id="295" name="Freeform 73"/>
              <p:cNvSpPr/>
              <p:nvPr/>
            </p:nvSpPr>
            <p:spPr>
              <a:xfrm>
                <a:off x="2399400" y="84960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74"/>
              <p:cNvSpPr/>
              <p:nvPr/>
            </p:nvSpPr>
            <p:spPr>
              <a:xfrm>
                <a:off x="2359800" y="124776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75"/>
            <p:cNvGrpSpPr/>
            <p:nvPr/>
          </p:nvGrpSpPr>
          <p:grpSpPr>
            <a:xfrm>
              <a:off x="3913200" y="849600"/>
              <a:ext cx="1203120" cy="1122840"/>
              <a:chOff x="3913200" y="849600"/>
              <a:chExt cx="1203120" cy="1122840"/>
            </a:xfrm>
          </p:grpSpPr>
          <p:grpSp>
            <p:nvGrpSpPr>
              <p:cNvPr id="298" name="Group 76"/>
              <p:cNvGrpSpPr/>
              <p:nvPr/>
            </p:nvGrpSpPr>
            <p:grpSpPr>
              <a:xfrm>
                <a:off x="3957120" y="849600"/>
                <a:ext cx="1118880" cy="1122840"/>
                <a:chOff x="3957120" y="849600"/>
                <a:chExt cx="1118880" cy="1122840"/>
              </a:xfrm>
            </p:grpSpPr>
            <p:sp>
              <p:nvSpPr>
                <p:cNvPr id="299" name="Freeform 77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78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Text Box 79"/>
              <p:cNvSpPr/>
              <p:nvPr/>
            </p:nvSpPr>
            <p:spPr>
              <a:xfrm>
                <a:off x="3913200" y="125208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Line 27"/>
            <p:cNvSpPr/>
            <p:nvPr/>
          </p:nvSpPr>
          <p:spPr>
            <a:xfrm flipH="1">
              <a:off x="1122840" y="271260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52760" y="2113200"/>
              <a:ext cx="1204920" cy="1122840"/>
              <a:chOff x="752760" y="2113200"/>
              <a:chExt cx="1204920" cy="1122840"/>
            </a:xfrm>
          </p:grpSpPr>
          <p:sp>
            <p:nvSpPr>
              <p:cNvPr id="304" name="Freeform 46"/>
              <p:cNvSpPr/>
              <p:nvPr/>
            </p:nvSpPr>
            <p:spPr>
              <a:xfrm>
                <a:off x="757080" y="211320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47"/>
              <p:cNvSpPr/>
              <p:nvPr/>
            </p:nvSpPr>
            <p:spPr>
              <a:xfrm>
                <a:off x="752760" y="238356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Freeform 31"/>
            <p:cNvSpPr/>
            <p:nvPr/>
          </p:nvSpPr>
          <p:spPr>
            <a:xfrm>
              <a:off x="2407320" y="217260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43"/>
            <p:cNvSpPr/>
            <p:nvPr/>
          </p:nvSpPr>
          <p:spPr>
            <a:xfrm>
              <a:off x="2446200" y="218808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858840" y="2130480"/>
              <a:ext cx="1297080" cy="1122840"/>
              <a:chOff x="3858840" y="2130480"/>
              <a:chExt cx="1297080" cy="1122840"/>
            </a:xfrm>
          </p:grpSpPr>
          <p:sp>
            <p:nvSpPr>
              <p:cNvPr id="309" name="Freeform 48"/>
              <p:cNvSpPr/>
              <p:nvPr/>
            </p:nvSpPr>
            <p:spPr>
              <a:xfrm>
                <a:off x="3932640" y="213048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 Box 55"/>
              <p:cNvSpPr/>
              <p:nvPr/>
            </p:nvSpPr>
            <p:spPr>
              <a:xfrm>
                <a:off x="3858840" y="241344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Line 27"/>
            <p:cNvSpPr/>
            <p:nvPr/>
          </p:nvSpPr>
          <p:spPr>
            <a:xfrm flipH="1">
              <a:off x="1048680" y="39153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752760" y="3395880"/>
              <a:ext cx="1203120" cy="1124280"/>
              <a:chOff x="752760" y="3395880"/>
              <a:chExt cx="1203120" cy="1124280"/>
            </a:xfrm>
          </p:grpSpPr>
          <p:sp>
            <p:nvSpPr>
              <p:cNvPr id="313" name="Freeform 81"/>
              <p:cNvSpPr/>
              <p:nvPr/>
            </p:nvSpPr>
            <p:spPr>
              <a:xfrm>
                <a:off x="783720" y="339588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82"/>
              <p:cNvSpPr/>
              <p:nvPr/>
            </p:nvSpPr>
            <p:spPr>
              <a:xfrm>
                <a:off x="752760" y="36144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359800" y="3395880"/>
              <a:ext cx="1203120" cy="1124280"/>
              <a:chOff x="2359800" y="3395880"/>
              <a:chExt cx="1203120" cy="1124280"/>
            </a:xfrm>
          </p:grpSpPr>
          <p:sp>
            <p:nvSpPr>
              <p:cNvPr id="316" name="Freeform 30"/>
              <p:cNvSpPr/>
              <p:nvPr/>
            </p:nvSpPr>
            <p:spPr>
              <a:xfrm>
                <a:off x="2385720" y="339588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54"/>
              <p:cNvSpPr/>
              <p:nvPr/>
            </p:nvSpPr>
            <p:spPr>
              <a:xfrm>
                <a:off x="2359800" y="363204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Freeform 50"/>
            <p:cNvSpPr/>
            <p:nvPr/>
          </p:nvSpPr>
          <p:spPr>
            <a:xfrm>
              <a:off x="3933000" y="338940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1"/>
            <p:cNvSpPr/>
            <p:nvPr/>
          </p:nvSpPr>
          <p:spPr>
            <a:xfrm>
              <a:off x="3913200" y="346464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 flipH="1">
              <a:off x="1122840" y="51901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78960" y="4668840"/>
              <a:ext cx="1378800" cy="1122840"/>
              <a:chOff x="678960" y="4668840"/>
              <a:chExt cx="1378800" cy="1122840"/>
            </a:xfrm>
          </p:grpSpPr>
          <p:sp>
            <p:nvSpPr>
              <p:cNvPr id="322" name="Freeform 57"/>
              <p:cNvSpPr/>
              <p:nvPr/>
            </p:nvSpPr>
            <p:spPr>
              <a:xfrm>
                <a:off x="823320" y="466884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58"/>
              <p:cNvSpPr/>
              <p:nvPr/>
            </p:nvSpPr>
            <p:spPr>
              <a:xfrm>
                <a:off x="678960" y="489060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359800" y="4604760"/>
              <a:ext cx="1203120" cy="1123200"/>
              <a:chOff x="2359800" y="4604760"/>
              <a:chExt cx="1203120" cy="1123200"/>
            </a:xfrm>
          </p:grpSpPr>
          <p:sp>
            <p:nvSpPr>
              <p:cNvPr id="325" name="Freeform 34"/>
              <p:cNvSpPr/>
              <p:nvPr/>
            </p:nvSpPr>
            <p:spPr>
              <a:xfrm>
                <a:off x="2406960" y="460476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61"/>
              <p:cNvSpPr/>
              <p:nvPr/>
            </p:nvSpPr>
            <p:spPr>
              <a:xfrm>
                <a:off x="2359800" y="4890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3933000" y="4668840"/>
              <a:ext cx="1203120" cy="1122840"/>
              <a:chOff x="3933000" y="4668840"/>
              <a:chExt cx="1203120" cy="1122840"/>
            </a:xfrm>
          </p:grpSpPr>
          <p:sp>
            <p:nvSpPr>
              <p:cNvPr id="328" name="Freeform 63"/>
              <p:cNvSpPr/>
              <p:nvPr/>
            </p:nvSpPr>
            <p:spPr>
              <a:xfrm>
                <a:off x="3951360" y="46688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64"/>
              <p:cNvSpPr/>
              <p:nvPr/>
            </p:nvSpPr>
            <p:spPr>
              <a:xfrm>
                <a:off x="3933000" y="48906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3C4BF-BD6C-4D1C-A0E7-C757CD0B996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riting a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O 15189 standards requirement, but style and structure are not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the policies for each of the twelve elements of the qualit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ach policy, state the goals and designate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tent of the manual must include the quality policies, with reference to process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EEFA6-9C23-44E7-BDBD-3994E4F33D4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宋体"/>
              </a:rPr>
              <a:t>Example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宋体"/>
              </a:rPr>
              <a:t>  Quality Manual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Organization and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poli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(staff education and training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ocument control, including records, maintenance and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ccommodation an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58189-5720-47A7-8A4C-610D26492AB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struments, reagents, consumable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earch and develop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op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ost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399D1-3371-4631-8C04-F2C61376EF0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inform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complaints–occurrenc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ommunications and other inte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ventive and corrective action, internal au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9EDC4-5942-41CF-992C-30286E80EFD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’s field of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 upd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.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3581280"/>
            <a:ext cx="335304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723B9-BEA5-4563-8F01-7FC60A098B6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escription of laboratory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egal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ourc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ssignment of responsibility /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2. Organization and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EF73F-7C18-4E11-A150-0D30A38C925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3.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official declaration of a quality policy by appropriate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ssures that the laboratory director will designate a quality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efines the labora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A0245-0BBB-4783-B001-8C153CBB80D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bergera</cp:lastModifiedBy>
  <dcterms:modified xsi:type="dcterms:W3CDTF">2009-05-19T09:59:24Z</dcterms:modified>
  <cp:revision>17</cp:revision>
  <dc:subject/>
  <dc:title>Example of Written Policy CLSI HS1</dc:title>
</cp:coreProperties>
</file>