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5D1C9-D56D-4100-9E22-CAB4BAAFB3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F58B6-EB78-43D6-BDFE-6D0C756E83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894DC-DB2F-4677-B30B-5CBA158B8B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E724F-A44C-4B0C-85DD-E922D1EB9DEA}" type="datetime3">
              <a:rPr b="0" lang="en-US" sz="1200" spc="-1" strike="noStrike">
                <a:solidFill>
                  <a:srgbClr val="000000"/>
                </a:solidFill>
                <a:latin typeface="Arial"/>
              </a:rPr>
              <a:t>July 31,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07BE9-29AD-48BA-ADF7-CEA1297017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65DE9-A544-4C11-A76D-64F651E070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AEF8B-9456-431D-ABB4-2FED244250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EBECF1-AE8C-4D42-B1D8-A4DB48E3E3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E025F-D29E-4416-AEE0-52253DA17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E484EE-5CB8-4572-AD9C-2E2F0B2274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99C29E-9BCF-4C8F-A761-CE7472F16F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CD909A-B6AF-43B7-9F2C-C7FB79F44A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35D8C8-F8D6-4E63-BBCA-7769D6BC39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409FB2-1C37-483B-BDC3-8095064F2B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264CAD-2F4D-4B42-A1AC-CB362C731F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2407BB-D847-4CEB-9F8E-5D2717E5CC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2B9A04-9F2F-4E24-83F3-7D29E417CD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358107-8E67-47FE-AC2D-122F0BE1A4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AF3F1-2B42-4118-BB50-62C368E0F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E60015-8F68-48FF-819C-5DB84CBB8C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4C6E5-EFEB-405B-8E0F-1E99A0C4DC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C02775-46C3-4F4B-B885-72D99F1D07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AB8C49-4756-4E86-A39E-149070DBC3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667C10-C8D6-406A-99E9-9A345AE41E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73046-3736-4444-B72D-FC3255423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29CB9-E8B1-4914-99E9-7C9512A6B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9CB71-1ADD-48EF-B08E-A9F8C85AF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2D3B8-AE15-432F-BC3D-B5A186C37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7947D-81F6-44AC-8A7A-0511197CD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DD5E0-6F31-47FD-BD30-943B9508B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88764-6ACC-4FA5-9314-10113C6B05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6F23D-2CF6-4E49-BC28-5E162AB85F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B431339-66D6-484F-9656-3B7D2881A3B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93109AB-2161-4249-A978-4A1C24F154BE}"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004BA-C085-4ADE-B495-4FC9589C75AA}"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37475-7E6B-4907-B4E9-07DC13E7F2CF}"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