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9857-539C-429C-9CC7-921AF0A64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B23E-2F8B-4909-8502-582790560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92C8062-910B-43FD-93F2-21179E30F61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2EE60F-4066-4145-94DC-95CF95D7B19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BC090E-5DAD-4F1F-9DBD-9EB1AC11489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ED5F73-28E6-42A0-A907-506D31E2CF91}" type="datetime">
              <a:rPr b="0" lang="en-US" sz="1200" spc="-1" strike="noStrike">
                <a:solidFill>
                  <a:srgbClr val="000000"/>
                </a:solidFill>
                <a:latin typeface="Times New Roman"/>
                <a:ea typeface="Arial"/>
              </a:rPr>
              <a:t>07/29/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3611C3-7A69-410D-856E-6E341634B1D9}" type="datetime3">
              <a:rPr b="0" lang="en-US" sz="1200" spc="-1" strike="noStrike">
                <a:solidFill>
                  <a:srgbClr val="000000"/>
                </a:solidFill>
                <a:latin typeface="Times New Roman"/>
                <a:ea typeface="Arial"/>
              </a:rPr>
              <a:t>July 29,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B21214-873F-4338-A0E9-7750E017C17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E28D9-FDA3-4A24-91E7-DCB66BEC3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96A22-B979-4394-B965-52BC30CF0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55AD6-D925-4B32-9A76-8FCF7CCB1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1EA6B-F7CE-477E-B002-43529C150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4F9ED-5764-4896-8070-301253870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362B7-8E5F-437B-B7EE-25CD7F9E3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DDF17-8004-482D-AA4E-8D2E30D15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C3392-F887-4A11-9FEE-6B1F825CB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C0DF0-B4C5-460D-B050-4A1EEB7B5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12DC5-6A56-4E0C-B356-5C6CBFBCE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66A61-8F53-4C2B-A8C9-0A87772A2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213ED-8023-4C85-B990-7DFDF4066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F74F6-2478-4BAD-BF63-D46C4A715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4B705-9BD6-4567-83BD-1EFA8832C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C143B-1C95-4C12-975A-AAA3437DA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6F298-3748-4A32-B3F8-EA2A39EC2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D3628-641E-4388-B615-9726DDBD3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E924A-48B5-4575-A6CE-209B06DBE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15614-29B1-427F-B342-21D9C8AC7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0133B-9BAC-4AB2-A4E7-A374F2CC4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5751A-9153-4889-949F-38987E683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41E2-B832-45BC-AB98-08AC2DD99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5549F-5BED-4264-A3A3-A8260690C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9F35-AF87-4DB3-8D6B-126F26C7D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85C1-CA49-4BFF-97DA-85AD2C72C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A7EA78C-1FF6-4165-8EF6-1FEC90EF45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EE1D61F-DA32-43F7-92E0-E7E435D95CC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F510DD9-283C-4BDB-B138-3F57D8667A1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B72C-1363-4701-8D2A-15939E641651}"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519C556-83AE-450E-BB62-D8B2BC761F6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F0BD3D4-F70D-4A13-B6C1-C4EA786334A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01AAE04-1E3A-4472-A44C-ED6E27759C3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