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E7095-743D-48A8-8DAD-190257B30E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05ABC-8586-4121-BF2E-34261519E7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ADE52CC3-DA34-4016-8E85-AAD132F6205E}"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909FD92-3620-43F5-9C3B-B175F120CDE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8877E19-E091-4701-A920-C43BCF2461A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436638D-AFBF-458F-A823-30045B77DAE9}" type="datetime">
              <a:rPr b="0" lang="en-US" sz="1200" spc="-1" strike="noStrike">
                <a:solidFill>
                  <a:srgbClr val="000000"/>
                </a:solidFill>
                <a:latin typeface="Times New Roman"/>
                <a:ea typeface="Arial"/>
              </a:rPr>
              <a:t>07/31/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BC48130-D2D0-4007-8ABD-8AD00AC044FD}" type="datetime3">
              <a:rPr b="0" lang="en-US" sz="1200" spc="-1" strike="noStrike">
                <a:solidFill>
                  <a:srgbClr val="000000"/>
                </a:solidFill>
                <a:latin typeface="Times New Roman"/>
                <a:ea typeface="Arial"/>
              </a:rPr>
              <a:t>July 31,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F0D1FAB-3302-4E11-A7BF-15EA9431BE5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1155D-1C45-45A6-84C3-1BFD007C8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9F467-C1E1-4CD8-B526-44598435F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B3131-D4CC-44A4-B8C5-F00BD15D4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BC68C-84F1-4E24-84A9-9C66EB15E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0AF6C-2D83-4314-9D45-061D28630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465C8E-7A85-4099-9F07-3065472455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AF347-4E94-4B98-9DD0-0E33E44F4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3FCBC9-9DBB-4D90-938C-2066E1860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07340-2209-4CC1-B32A-E28E85BB18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021D0-1C56-4201-9AEF-BBF34D062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1761C-52CC-4556-A7E5-1AB2709C3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9A2A8E-54B9-4A2F-9925-FEF7E862C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AE194-4B81-410A-AADE-4BD6FE539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86FF1-AEFC-4CB8-9706-DE5365306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B420A-01C2-4AD2-AA1F-B0D59BF23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0F4A5-D9EB-4D8A-91B1-03DF5AC96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8B8637-B574-40A9-B2BD-2F827B5E2F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D8E428-10A0-4B12-BA82-80E99B28E6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B13F8-6BA8-43B9-9707-3BAE42D66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B160B-906B-48CC-BD7F-D2D9C9A71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A774D-5332-45D6-863F-C55653223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2CE5C-924A-42AB-84F3-885F92150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2AFC5-D3E7-4CC7-9032-6BE916955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EC3E5-4A19-46B8-A5AA-5FAC7B750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DAA68-0170-4D78-81BE-7911E8D488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4C50826-FC46-4C08-BAD0-533F06138EE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FFF01E3-E5FC-4D9D-9D50-4B7391AB1C8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B1DDD51-DA90-471B-B432-9AF91DB1888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C7516-04D9-45E1-A768-A06B71A9F3E2}"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DF22752-3113-419B-941C-65BDC3764E1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3979C24-D82E-4EC5-BF50-179CB3AA95C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8E8A34C-E783-4F66-9D48-71803E39686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