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1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</p:sldMasterIdLst>
  <p:notesMasterIdLst>
    <p:notesMasterId r:id="rId34"/>
  </p:notesMasterIdLst>
  <p:sldIdLst>
    <p:sldId id="256" r:id="rId35"/>
    <p:sldId id="257" r:id="rId36"/>
    <p:sldId id="258" r:id="rId37"/>
    <p:sldId id="259" r:id="rId38"/>
    <p:sldId id="260" r:id="rId39"/>
    <p:sldId id="261" r:id="rId40"/>
    <p:sldId id="262" r:id="rId41"/>
    <p:sldId id="263" r:id="rId42"/>
    <p:sldId id="264" r:id="rId43"/>
    <p:sldId id="265" r:id="rId44"/>
    <p:sldId id="266" r:id="rId45"/>
    <p:sldId id="267" r:id="rId46"/>
    <p:sldId id="268" r:id="rId47"/>
    <p:sldId id="269" r:id="rId48"/>
    <p:sldId id="270" r:id="rId49"/>
    <p:sldId id="271" r:id="rId50"/>
    <p:sldId id="272" r:id="rId51"/>
    <p:sldId id="273" r:id="rId52"/>
    <p:sldId id="274" r:id="rId53"/>
    <p:sldId id="275" r:id="rId54"/>
    <p:sldId id="276" r:id="rId55"/>
    <p:sldId id="277" r:id="rId56"/>
    <p:sldId id="278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notesMaster" Target="notesMasters/notesMaster1.xml"/><Relationship Id="rId35" Type="http://schemas.openxmlformats.org/officeDocument/2006/relationships/slide" Target="slides/slide1.xml"/><Relationship Id="rId36" Type="http://schemas.openxmlformats.org/officeDocument/2006/relationships/slide" Target="slides/slide2.xml"/><Relationship Id="rId37" Type="http://schemas.openxmlformats.org/officeDocument/2006/relationships/slide" Target="slides/slide3.xml"/><Relationship Id="rId38" Type="http://schemas.openxmlformats.org/officeDocument/2006/relationships/slide" Target="slides/slide4.xml"/><Relationship Id="rId39" Type="http://schemas.openxmlformats.org/officeDocument/2006/relationships/slide" Target="slides/slide5.xml"/><Relationship Id="rId40" Type="http://schemas.openxmlformats.org/officeDocument/2006/relationships/slide" Target="slides/slide6.xml"/><Relationship Id="rId41" Type="http://schemas.openxmlformats.org/officeDocument/2006/relationships/slide" Target="slides/slide7.xml"/><Relationship Id="rId42" Type="http://schemas.openxmlformats.org/officeDocument/2006/relationships/slide" Target="slides/slide8.xml"/><Relationship Id="rId43" Type="http://schemas.openxmlformats.org/officeDocument/2006/relationships/slide" Target="slides/slide9.xml"/><Relationship Id="rId44" Type="http://schemas.openxmlformats.org/officeDocument/2006/relationships/slide" Target="slides/slide10.xml"/><Relationship Id="rId45" Type="http://schemas.openxmlformats.org/officeDocument/2006/relationships/slide" Target="slides/slide11.xml"/><Relationship Id="rId46" Type="http://schemas.openxmlformats.org/officeDocument/2006/relationships/slide" Target="slides/slide12.xml"/><Relationship Id="rId47" Type="http://schemas.openxmlformats.org/officeDocument/2006/relationships/slide" Target="slides/slide13.xml"/><Relationship Id="rId48" Type="http://schemas.openxmlformats.org/officeDocument/2006/relationships/slide" Target="slides/slide14.xml"/><Relationship Id="rId49" Type="http://schemas.openxmlformats.org/officeDocument/2006/relationships/slide" Target="slides/slide15.xml"/><Relationship Id="rId50" Type="http://schemas.openxmlformats.org/officeDocument/2006/relationships/slide" Target="slides/slide16.xml"/><Relationship Id="rId51" Type="http://schemas.openxmlformats.org/officeDocument/2006/relationships/slide" Target="slides/slide17.xml"/><Relationship Id="rId52" Type="http://schemas.openxmlformats.org/officeDocument/2006/relationships/slide" Target="slides/slide18.xml"/><Relationship Id="rId53" Type="http://schemas.openxmlformats.org/officeDocument/2006/relationships/slide" Target="slides/slide19.xml"/><Relationship Id="rId54" Type="http://schemas.openxmlformats.org/officeDocument/2006/relationships/slide" Target="slides/slide20.xml"/><Relationship Id="rId55" Type="http://schemas.openxmlformats.org/officeDocument/2006/relationships/slide" Target="slides/slide21.xml"/><Relationship Id="rId56" Type="http://schemas.openxmlformats.org/officeDocument/2006/relationships/slide" Target="slides/slide22.xml"/><Relationship Id="rId57" Type="http://schemas.openxmlformats.org/officeDocument/2006/relationships/slide" Target="slides/slide2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 type="dt" idx="5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PlaceHolder 5"/>
          <p:cNvSpPr>
            <a:spLocks noGrp="1"/>
          </p:cNvSpPr>
          <p:nvPr>
            <p:ph type="ftr" idx="6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6"/>
          <p:cNvSpPr>
            <a:spLocks noGrp="1"/>
          </p:cNvSpPr>
          <p:nvPr>
            <p:ph type="sldNum" idx="6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EA644-1754-4962-929E-B27C74AF2D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AA2E0-6459-4EEF-B747-077AEE15CC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A807E-8E3F-407D-BD06-96455E1495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7BFDB-7A19-4920-A17B-DE51F829C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2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618FB-B9FF-4B41-B3A8-ACACA60A29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55400-00FF-4D8E-BCDC-653303237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119F5-6450-48DE-9819-C415F2BEB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2F300-BF75-45B1-BD69-668D99480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3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7107D-5F99-458D-9448-17B312858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C18E1-2B68-405C-BE73-207662F37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AB01D-9DF1-45A6-92E0-E58E42A97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8FF82-AE0F-4136-BC9F-219B0E8F9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FF934-A941-4741-BA66-EB5E0808BD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546BF-F30A-4EE5-A05D-3D9E6F7A89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2AB7D-C0A6-4C6E-8052-FB41E40AE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DA390-0D2C-4C2D-9E0D-24B5AFF13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5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11443-C35A-4C16-A2E4-DD76F60F5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4A028-2FCD-4AC6-A2B9-7D5FFA5F3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5159C-5F17-418F-9F74-C0BF8A09B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81404-4349-441F-A5C0-BF18580EC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5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72729-62A0-448F-B125-6E6B3E545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9DDF5-C932-4C14-BE57-B20565519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6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1BDBB-32F8-4B27-86E5-010CED2849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96A90-D2C4-4F30-B66E-52369BF666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A1E89-4B64-4E94-B1CC-28ED2D43FA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20785-77AE-4DC5-B769-434C28099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4A7C3-CB92-4C5C-B9C8-B9E31D0AD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F4BB7-8A93-45B6-869B-5FB423C3F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261D9-0725-4BEF-96C1-6A636600B3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6F9DA-E7FC-42AA-A119-06ABB7CA0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8A6E2-4C3C-418E-A0AE-3CC370B197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0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971C6-E2BA-4A12-BAB9-DE7691CCB2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5441B-DB21-400F-8BF8-33196A4D6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8FAA9-0E2A-4B69-AFFA-BBB8D07B78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644D4-4355-45CD-94AB-97D20CC3F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2C57A-E10A-4607-B016-29F3B14775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529F4-408A-4643-9070-AAF223611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1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E8C89-AC88-42D4-A541-0738EE2535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4E9FC-2308-471C-8620-B76316B1E8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8A9FB-C673-4B05-BAEF-1909DE025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286D0-062F-4652-927B-AF8B81E1E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2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D250D-798C-4F23-88F7-F1B8FDD39C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257CB-3AAA-4493-9BB6-5D8BEB9A04CB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97CFC9-8038-4E3D-80D9-F3973AAF97F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DDFD1E-1ED0-4799-9364-C3A42ABB15E0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B663CD-AF17-400E-AF3B-E005EFA9979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927059-6CD3-4571-8A5B-43237E89846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E23D82-BA6D-4373-8B3B-82D7998DAD3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D40204-7E5E-4C77-96DA-2CBF74BF3C9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EC7376-6A64-4550-9EA9-8B9F421119E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78ABFE-2150-44FC-8E3F-734DACD474B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5E2246-4218-4354-B1C7-D317083B2B9A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DBFC7A4-C0EF-41CF-A511-82ACBB8638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6C1D0-500D-49D0-A32E-036D1FC8400A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DA44906-FB23-41C2-A7A3-98A2C295CBCC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E60BA4A-6D86-4B16-9471-2AB86DB29A58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E10C23A-DAB2-414C-9166-6BA0817EA9E8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B825726-B840-4A3A-9ED3-D3034CA574A0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9CA4CA5-1F8B-49CB-A65B-1DD5D536C0CF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10162A2-4BDA-4AD8-B94E-2E749B34D5EE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1C995F7-50E1-440B-A0DE-EDC1FBAB6A96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4A2AB20-4CDC-4663-AC29-1F9D3057E31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AB2869E-94E4-484D-A719-6A9BEDBEAF70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D08E686-0A16-40CF-BB2F-2776AFFA85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F7CEF-1E0F-499B-8379-CB2128B156CE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6493BBB-906C-48A7-8556-78434352D289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10A3B3-7684-41F5-B2BF-0A3140BCF5E4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322A48-9F71-47E2-9664-AFD07C842895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40926C-FE32-4FAD-A591-514F1330568A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2C1E1-116A-425D-9C9C-2C3D7E33EE7C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EDDE98-970C-445D-B7C9-968474E89EDE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ED01D0-9090-4161-8983-3A7B56B4F6F7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08809E-E293-4078-B5BC-740A5534539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E67325-0CC4-42D5-AEF2-45C6C956D386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CADEF9-2329-4FA2-8933-21B76FDBE3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D643B6-64D5-4770-8160-66F227E14F56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6D5628-9930-4DFB-A349-CF222A8C08A1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E878F-6C2B-4077-BBCE-AE059941B88C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3D3F1F-077A-4B27-8D30-5FD4EE92F1DB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37798B-6FFF-43C9-9A48-D3088C8330F8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DCCEA8-8CA9-4249-B4D8-7DDC12B7BE35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A603DD-E099-4DE9-883A-B55723F8B2B9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2DC32A-5467-4085-A7FD-E51FB3F4A23B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DD3504-4A84-4AFB-BD5E-4CC20483C361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55A333-CAD8-4AD5-BC3C-A4C4E1784980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FB4F11-1771-4635-9319-83C9F82805A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7153DF-2A54-4E88-978D-81C14DA15474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63CA70-5CCA-4D2B-99AD-7A6B09B05B96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4F0346-A390-414F-AF4D-48E19B0C5D3C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E400E2-C892-4600-8A6F-4D2A3FFEC91A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37818D-4A0F-48BD-922E-69E9957BFED9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CCD1F3-BB4B-4EEE-AA81-C6F3F6775C1B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10B8E99-E383-47BC-B01D-D305429470A5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468B68F-3F92-4D30-946F-1092BFDB8F97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DAFF7A3-227E-4B66-A6AA-927FBFAA3519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122588D-3FE9-4F96-A049-8636B10F7291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A98C46B-D22A-4C05-919B-ADE54E5A483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6451A6-9324-4B83-99C7-53D8ADE6B7FC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136ED17-9B30-48C0-9D82-33AF796E6401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7297F19-4E63-41BD-91A0-602E0F6FCBD1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0DAC42E-EB58-4D7F-877D-D82782CF7625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E5AB57D-B186-41A3-8B80-2C9484CC46CE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F57509A-7BBF-4A91-BB15-34520BF60F4A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C5E1E33-3F18-4865-8B5D-4347D686186A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3FE6F1C-450C-4C48-B5C9-42D0E1C71783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0AF126-23BA-4647-964C-1731EE581D40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78A618-9408-465F-A2BD-A07855246268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7DFA2F-509B-4E9A-B620-DF29FC3C047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22842F-23F7-4D73-909F-1C3FB7292854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BEFF54-A305-482A-BD0A-BA96830AE152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0A5CCF-2799-4018-AF19-5F4E6045AC13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5481DB-5405-4518-9122-64267C79E101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7AB57C-C845-4D31-BA07-15F2AD1A6C2F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FF910E-DBDD-4E7E-89C8-107FD3ED728C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34D423-6C91-4812-A2F8-D95EA5A0CD98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A84B65-5D0B-4045-B945-BF2627615FE3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9E6020-AFFD-4DC7-AC39-46382358C15D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C45100-5409-4D0F-9E67-D13601ADE86F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4C2A86C-833B-45D3-9EDE-65181775758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127207-9C2F-4ADC-B1FF-071F8F753EAF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4FDF8BA-1AE0-4CC8-BB53-CC23C92E9E3C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026426E-49AD-4A46-AC77-01C34800796B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E2B64E0-C023-4B1B-87CD-DA4FCC09E308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8BD8A4C-1DE9-47F6-85D7-D6D11813FB3E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B73A4C2-ACC1-4196-B2E9-92130E7E4E2B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9955A06-1840-411F-95A6-9EEE459C788A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0733EBB-0903-41E9-88F6-94E0FD3A7D77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7BE4AC-6638-4DFE-AF2B-9A6291405138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C0A2A84-A5DF-4F46-B208-4A389664733C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1A3DCE9-6105-422F-AAA6-E4B8E504109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B29B41-25AE-4578-A7AA-02A480C8275A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95B07C5-CE95-44AA-AAC2-0E869301B339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23CBAA-BA2B-40F1-85A5-1A814FA09C72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E111F1-38EC-4979-8E4E-A2D83F34B4D5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3AFCE9-85E1-4E98-822D-51E0C8B033B1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C20C4F-73E8-4377-ABD8-ACDA76BA4420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E54ED8-2564-4AC1-8EC5-EA0B7B75C698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EDC016-AC1F-4B52-946F-33BDCFFB37C5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6F2E69-46BC-4711-B400-10743B5627A8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77E2BB-01F2-4226-A507-FB81B2C666BF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315866-2C6D-41D9-B512-B69DD74E0E4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612C1B-6C2A-4793-B4C5-508B0FA2B943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F35125-F274-4DE6-80D1-ECF0C06A4E10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7F4BA4-D696-4536-A0FC-DD1096A4FC00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78E124-AA31-4C35-9DB1-979EC439BD8A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A63567-9BB8-4DD1-947C-DF1ADC3F6F5A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E209B7-4784-4EE9-858D-C4EF491082E4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C2D0EF-BFB7-44FD-A2FB-345FC9A952C1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B85324-D3DB-4DAD-BCB9-B5536FB8DC1B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4500CC-0489-4D6D-B9E6-AA298E48D1D0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3F6DDF-6020-4871-A1BF-DED16DB8993B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3FDBB2-FA3A-4C21-97CC-2266094712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5ABBA-A56F-4602-9295-54885A1B4A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705B77-FEEB-4CA5-964A-38F2668E1F56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66CC42-E3EB-4568-A71F-9B761628559D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1589EB-4F74-4C50-9EBA-01C6A45B14D2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86823A-28EB-4AF4-BD54-8AC86D07C8CB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A0BD86-D4D8-49DF-911F-801B702CE802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643032-3943-422C-92D5-ED51AA386724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601FB79-CB51-4226-A912-11E7EB3BAAAD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FEA3ADC-36CE-4F6B-AB97-3C0A971684BD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0D8A024-7F66-4FF7-9D28-78DD9F99B505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B2901DC-46AA-4CE1-81A9-94AC5D4FB027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7FD2003-32ED-4B09-9694-F0A3162EBC0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16A6F9-D5E2-4662-B07B-4194A51932CD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FA76C89-CDCF-478E-9850-BF9A881EDF61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1F2ED62-7B8B-4880-B8BB-CA2DAAB2CC3A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3B90518-1870-402A-82AC-F242A07D4693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28E5D50-BCC8-4E87-838D-098F08438E50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DF7E84A-F67D-494A-893C-027A3C208282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67C61A3-BD87-4868-91D8-0B94FA5F9653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C88E587-47E9-4CE9-8BCB-A54CFFC6DB6D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96937C-BE05-4CB8-B877-6BBEA64C3C08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D84564-EA94-4B20-9816-4DE269C4F362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E61933-0127-486A-94DB-3DF191E5B14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F27A35-1DCD-4E75-B53B-0F9AF33EF9A6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D7D950-BC6E-47BE-B830-7089F3825202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65BFFE-C681-41AD-859A-1CC899ACAF83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AC94EF-F6B0-46AC-A87F-B3CF0D31BF33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C5F33E-491C-4384-B405-78ABF0CA0CC9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721830-F207-422C-9022-9C782BBFC27E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6D693E-0491-4D50-80C3-DD7EBF03B3C2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661673-EB6B-4D4A-A613-68D3D1209A2A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04867E-64E9-444B-A178-A522056A50A4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6CBEE4-7E95-4CE6-9CA0-A6950CBCA261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774A96-FC86-49B9-960F-758210378C5B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D96829-0A40-4B08-897E-E48BEDD01952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FEA1AC-09C0-4BD1-872A-FC2E4C8966FA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7D4521-3D54-43AE-991D-F0A94902B171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B9AA7A-6D0D-435F-9B66-122E2EF6B1EF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6A518D-85C5-4B43-B4FF-F5C73528C89D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FDA5C3-1EC3-45A1-A162-5B63A98EBB50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01300F-A5E8-49CF-A9FD-65A940BB3C18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3D6C1B-F138-47C4-99DD-6BD56A6573EE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C011CB-97FC-430A-928F-11383D8E28C4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27AF3A-5F48-493A-AA5A-1AFD428A434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9DCDE-869E-465B-A435-CC19EAF001BB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EA6186-5A48-4CD3-BC37-A152B6E8594F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FAECBD-A75A-42A6-B071-E343D65CC319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8A2BBF-F72E-4F8F-8C08-DAEACEC209C9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0F804C3-EE3A-49F1-828E-05FF11B26E58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A8D2879-53B1-457D-965F-813946C1F879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6D7A3F8-1716-4548-AE6F-1AF402251E8F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85B696C-369B-4584-82AB-D5668B2D336A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8C6CE85-3940-4DC6-B05A-0627AAE5061E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38A03FC-2C9D-4832-A658-0085AC397FB3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0CE9133-9BDD-473E-94E7-303B4F28340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12DA0-ADCB-47C4-8010-EE59B861FD5D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5E93B5E-AEC0-4BF4-8DC6-1C6BE3BAD513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8CF34D5-2845-416C-9CF9-B43D377C6E7A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905ED71-7437-448B-BA87-9E685A49367E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A7FEE99-E902-4AC2-9110-1E984C442B4A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3F0B8EA-7AFD-4D57-8B64-931EA8277B28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7163768-6E9C-4F34-8203-2B00929CC045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7E966C8-80BD-4548-8709-0AD997F605D4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D47F07F-30FE-4579-89CD-A4B605B1C676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BF53966-221B-4D55-A316-3EDCE0140177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CBA6636-9D4F-4FC0-8CD3-DB2256FF99F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ECCFC-CD97-4370-9AED-492819A53E33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02771AB-9FA1-43E8-988E-0C77440457E9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7924C10-278F-433A-BFD5-3D47D22BC2A2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FAABF8E-3A1E-4453-ADE3-A5C1C383069C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91906F3-F18D-47EC-BF21-6456B1469901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D6AF826-6635-4DC2-A54E-64101ADD650B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DCAF882-9C10-4100-BF7D-EB29D9090E90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54FE15E-449F-4C5E-9E2E-2F0A90B7E02D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21898B-6BE4-4A70-88FA-8636417F6449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44D90E-B00A-44CB-8A4B-EBE62B643B48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75F5E0-95A0-4628-9D73-21D1034E0B5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B1252-4492-4DA3-B777-FB01D942FCB2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BB9904-0A92-414A-B6BF-311D24303133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3C51DE-6A72-421E-8A42-8A24A944D06E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5E441B-868F-41AF-9195-B1B61BF789BB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5DCB4A-FABF-49F6-B177-83C728A9462C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60CD00-F8AC-4933-94EB-42B52D0DC1F3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1583D0-0781-4002-BABE-EC94C01D5D07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0F9434-6097-4753-BC81-CF60B92824C7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CD0B9E-1F44-463A-882D-ABB886393D4F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49C3FF-B94E-49A4-94E6-5B37D79CDF5C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1CB8EB8-ABF9-4D6E-853D-5555987B42E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666B3-D96B-4D16-ADB2-AEF91E1662A9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47C550A-B30B-4E1E-91F4-3123B135B6F3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BCA5AD6-E042-4AF5-85A2-6F67D4868313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3C4E0CD-A433-4C10-BA71-03906391CB03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B2FEB9C-6B86-4988-B0F5-F20A0DF37D72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CB5F5DB-8B5F-4758-BBD9-30045AD5CD53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C9FA7FE-E811-4DAE-A48D-BEB84A0437CA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6B3790D-5DF4-4296-851E-965844758BEF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02480F4-B490-4BE6-B1CA-A5600BFD7167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DDE72F1-C8B7-42F8-A6D7-8E4B70E791DD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AE93325-5C7F-402B-B453-583AC8B485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A78B9-61BF-4A02-AC5F-868410F8BD7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D61F1-1BB4-4986-AF6F-2E7BA6F54428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15D16E4-CDF4-41A6-A706-6FC5F16A6BC4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E097B9A-3B5C-46DC-B697-87F732FE3F5E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301F2D2-6363-469C-B232-CB0B4E464B87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4BB0D5C-0EB1-4AFD-8B15-8B246ADD7E81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E37AFCA-791E-4D25-956B-4F72AE3CFC45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4E1E8C8-8EFD-4AE0-848A-E9747FC44E3C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0678B94-A23E-445D-B694-D2EBB8FA7884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75AA659-2B13-48EB-873F-1F716B33A788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5B6DB5E-48D5-4928-B953-AB1A01CB0C7C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F9A4D62-BE74-40EC-9DBD-60338B05C21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2E767-98E3-4AAC-AB8D-9BCCCA32B702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7C6E14F-C626-4C82-8B6F-BA66E281554C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0964718-F439-417A-BDAF-35AE92114916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B772D45-7AEB-47A8-94FC-90A6F5905733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F7E1A5-49DF-4172-9C46-376F06E77275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E21FBA-F05E-433C-9D67-29DD58913E3D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29F5AD-564D-46DC-BDF9-56E678A256B1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48AB03-9B2D-4F9B-97B3-16A6004A178E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7DC848-5644-4373-BFDA-0BD8D0FF7587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B7B077-B610-4382-93A2-5AE731687F57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7C83CF-C2A3-4147-9116-BDA4A3FB35E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ABBE1-37FD-49BA-84DA-69FD0B4D6194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12B1DC-3A91-49F3-9A99-0915E75B68E1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4B08EF-AD4A-40F6-9F90-84CF866181E9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9C5185-BAC4-4E6A-9928-8E99B7FD3026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23B3AA-C6AA-477F-8A57-5D03C716F1CE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1DA28E-B914-4E3A-A613-375D1E05C003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363AE7F-DABC-42C4-B4E9-F80782CD6226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D5CFDE1-5756-4CA8-8A4A-F3CB2C88E73B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E47B0DD-5592-41BD-8D47-5CB1340A5497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3BC0F93-0921-4EB8-A670-684518917397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CFF954E-E860-4837-AFD0-9EBB0D96341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85734-F66B-478D-B608-81E23F0FF586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BA2A632-710F-4240-B923-D30F0DD99086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CA4140A-5929-427B-8252-914242817BB8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AC1B2A5-6540-4484-9395-F9A2102AD265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A5F1258-A21D-4BEE-90B9-E87E70032EC2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BC27E05-CD81-457C-B483-A358F62010B3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C783889-6C7C-4631-8277-6B98CAD83E99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6008537-4D07-473D-BE7F-E5C5108E0973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BB06CCC-B06A-4155-95D3-2078711E7460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F874C22-5C8F-48A9-B63B-A13A5C6CBAA4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2E95CD4-E2CE-4657-BA68-BDDBE437C14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02CE2-B914-4747-ABF5-BDD94152F950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80B3BF7-56F1-42D0-8E35-224CCB2BB7EB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472D44F-7717-4745-83B3-E7401C29BBD2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D3C25B9-5D86-4936-BC5E-DEABF2710F81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69D6523-522A-4155-85B4-C555BD6B6E74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153E107-6C29-4291-9A6A-FA26CDF7932B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5A264E8-E8BF-4CD5-9C25-91417C363ED7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4BEE042-39D5-448F-9B2F-2E1A96AD197D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E549246-F695-46FD-A5E2-4E0735BA22DF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21AF551-889F-499F-87DC-1B31644C17CE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48EF97-CB0F-4ED7-9678-198DE8C7B69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A424F-5EB8-4500-AD9D-2BC5129FCA6C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34FC9F-5681-48A1-952E-488A474FCF43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A02EF3-C1EA-49B1-B1A6-E31117E75CDD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7F674A-7BDE-4F30-9977-3187C4EC4B7F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2DEB45-90D9-49C6-A013-3513061A70F3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85ED7A-B413-431E-B9C1-074E2D4FB709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3D2F16-CDFB-48E5-A02F-BA8B4C151A13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F40D67-3D1D-403F-84F6-A0B84BF6CD6A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D806D9-886B-4DE7-88D2-5CBE97946D0B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68B5FE-206E-4CDB-BD63-44F31D508B5D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396296-68E2-4AC6-ACFF-D6190DE0FAE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0821E-E475-4537-9693-F662F2B4D0A2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FB4265-3D0E-4C63-A71B-2D2DDF0B3B34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B3754E7-CF2F-4E24-91FC-E4543C064C87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456B760-D157-425D-9B82-357C9838BF8C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96A2284-5856-4222-BFD7-A076A95453FA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1F3AD6C-E3C7-4711-A493-AE51C29C090E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96069D8-1FDD-4390-9921-F3C1F1381700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A8035E1-0415-4C6E-9BAD-B525786A1E2E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AF49BBC-EB71-448B-A670-94B54F26BC8A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E87F033-160A-476F-BC77-E2D72FD4569E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F18CD03-E87F-4005-BC9A-FC2D8207450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B5AD76-B22B-495E-899D-F5E390C1C5FB}" type="slidenum">
              <a:t>&lt;#&gt;</a:t>
            </a:fld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BBDF986-D3D2-490F-86B8-5228BE7B9130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710DB67-A75B-4FCE-AB9D-752C42037EA5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57B6237-4EC6-455B-B1F5-45CA5CE73AE6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68426AB-A3F0-49B1-8A26-7966C7334E37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E184879-A2B4-4AB8-A2F4-ACBCBA3F2ABF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0C67E2C-F07A-43E4-98B0-376F917F8453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F4D9227-BBB2-4EC3-B7C1-91D99EAFEE7C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D70785F-03E6-4B57-A060-8A8620053B76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4213F14-C0EE-45C9-B37C-A7E039154C48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92D17E8-C05F-4377-9ADB-DF1781071C0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6B0961-C10D-472A-A326-8C0AAD6BD3B9}" type="slidenum">
              <a:t>&lt;#&gt;</a:t>
            </a:fld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BA8D72C-2B21-48E3-AD6B-156E20D6EFE4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CA514C9-8D34-414A-B981-7CD53B96B40F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053EC52-5D92-4FF3-8E42-994672CFCEBE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37070C4-A2FE-4B8B-ADC0-B213AABBE1D6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6CC4580-8CFA-4A02-B94E-16FB2418042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45D8BC-2716-4AFF-A238-25D648AD89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28F7F-7B3E-405B-84D1-2214733DF5B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1B3794-C799-47EB-8521-0F57B939BA4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E35D69-2960-4C26-8976-F788D9CF20F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52134D-24F9-4FEB-A66F-7797E202F3F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49B504-D40D-49B5-874E-88558D8BD67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4FB61A-D72F-4D0F-81EB-8E5E3411C69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A08E9A-9BAD-47A3-A36B-7271ADAAC22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11CBF2-26F0-4174-B163-B7771427B8B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76700A-F07E-4A37-A888-74FB46D9C94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2D5511-6663-4D57-A501-1483F257893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A1217-574F-4E09-983D-6B0CC3F727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D56C0-18E4-41C7-B20F-BBBF01A4218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BCBCD-79DF-49B2-938C-57D57DD2541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BEDEA-5ECD-42C0-908A-7953BCBED31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E0391-1025-4A13-AB00-2B61B93696F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4CB2B-5D22-4155-8013-76F6F039486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C223A-7A2E-44D7-BC89-8A595C6594E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44DF4-6F2D-418B-A732-CEF07CC815F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27CD1-C942-4E4E-8DCF-9941E1EA1F6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BD8DF-ABFD-4669-9DDC-B83E1E77197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E8227-1220-43BD-8853-18244EEF853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B526C-AE45-4124-982E-A60BBD400F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6A790-8DCA-48AE-A769-1CCF0899733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120B5-CDFF-43DE-8149-C8B836192B9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60DC81-C1D1-45C1-A69D-3CA916C08F2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7A7F7F-9852-4722-B1FF-1DEE8381E94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A586CB-2A17-4E1B-8E2A-EDF347DB5DC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05930F-E338-445F-A846-21D330ED4C5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1F9516-0AEE-4510-8A9C-AED62F9CB17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31D673-2973-4639-AB56-D24C07339E8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FE58C9-399F-4BAB-8B44-6CEE6839CF4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455954-021B-4FEF-96AA-1E34E59686A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FBD68D-FE32-4626-991B-E045F85D90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DD261-81A0-4A7E-B1C6-5536B5E1D1F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FA5AF9-34EB-4713-8AA8-0B15DAE2D2B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0C99A1-7C8F-4049-B033-6DBB1FCBFEE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50C5F2-1D7E-4553-9E50-867E522319E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D177F-77A4-4887-B5C6-1E5D1B27C44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A2F22-5EC6-42EA-BE34-F8C05AC24F3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F32B9-1A3F-4FF6-AA2A-010445D899F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113F9-7B68-4F69-B63F-786D889B22F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BCBDE-348C-420E-B77C-230904FF7D9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BFBDC-E9E3-4245-8EE5-BECCC2FD9E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2ADFA-5178-4F8C-A900-918B5765245A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0D1C5-2AD1-47DF-9EEC-A5E1EEA30BE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BB445-4E99-4382-BAC7-C81512C8AD5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0C035-41E1-4084-9512-6EFE812CC52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DD91B-EB75-41EE-B0B7-236A4B5187A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94B23-E221-49CB-9F03-D0299B01784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84698-7763-4965-B51B-CB5FCD4F74C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B5DF7-AB54-468A-8A36-8BB8AEAF340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9FDEDD-43AC-4AC5-8C3D-1F6A213ED4B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52BAD5-D4D3-449A-9F06-1EB15A03BAC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932ED6-78A5-4371-A8C2-85BECA95A6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29.xml"/><Relationship Id="rId7" Type="http://schemas.openxmlformats.org/officeDocument/2006/relationships/slideLayout" Target="../slideLayouts/slideLayout230.xml"/><Relationship Id="rId8" Type="http://schemas.openxmlformats.org/officeDocument/2006/relationships/slideLayout" Target="../slideLayouts/slideLayout231.xml"/><Relationship Id="rId9" Type="http://schemas.openxmlformats.org/officeDocument/2006/relationships/slideLayout" Target="../slideLayouts/slideLayout232.xml"/><Relationship Id="rId10" Type="http://schemas.openxmlformats.org/officeDocument/2006/relationships/slideLayout" Target="../slideLayouts/slideLayout233.xml"/><Relationship Id="rId11" Type="http://schemas.openxmlformats.org/officeDocument/2006/relationships/slideLayout" Target="../slideLayouts/slideLayout234.xml"/><Relationship Id="rId12" Type="http://schemas.openxmlformats.org/officeDocument/2006/relationships/slideLayout" Target="../slideLayouts/slideLayout235.xml"/><Relationship Id="rId13" Type="http://schemas.openxmlformats.org/officeDocument/2006/relationships/slideLayout" Target="../slideLayouts/slideLayout236.xml"/><Relationship Id="rId14" Type="http://schemas.openxmlformats.org/officeDocument/2006/relationships/slideLayout" Target="../slideLayouts/slideLayout237.xml"/><Relationship Id="rId15" Type="http://schemas.openxmlformats.org/officeDocument/2006/relationships/slideLayout" Target="../slideLayouts/slideLayout238.xml"/><Relationship Id="rId16" Type="http://schemas.openxmlformats.org/officeDocument/2006/relationships/slideLayout" Target="../slideLayouts/slideLayout239.xml"/><Relationship Id="rId17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309000"/>
            <a:ext cx="5257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420B7-6E44-4BC4-9150-9F52F4FC98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ftr" idx="1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sldNum" idx="1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53E25-14A3-448F-8979-3F8040A528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ftr" idx="1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sldNum" idx="1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E10AC-13A8-4A5E-84BC-4345B5AE02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ftr" idx="1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sldNum" idx="2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52228-537B-4D34-893E-EE1140124F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ftr" idx="2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sldNum" idx="2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6FD7B-CF93-4B48-9B75-B80778964D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 type="ftr" idx="2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 type="sldNum" idx="2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DBD44-0903-48FB-80EC-70D891A7BA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 type="ftr" idx="2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 type="sldNum" idx="2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CE9C8-5F2B-4B15-A441-E859D0A6DA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 type="ftr" idx="2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 type="sldNum" idx="2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2C370-8A11-43C6-A2EB-BD2D54E745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ftr" idx="2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sldNum" idx="3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BDF50-6A65-47D3-80DA-1A829F0219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 type="ftr" idx="3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 type="sldNum" idx="3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65737-E953-475F-BBC5-D75FC4C3D8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ftr" idx="3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 type="sldNum" idx="3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C72DB-5E95-4306-99B4-D5BBAC6D64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ftr" idx="3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9AED9-FD7A-46C7-BAEF-413CF58C83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63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5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66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7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6"/>
    <p:sldLayoutId id="2147483897" r:id="rId7"/>
    <p:sldLayoutId id="2147483898" r:id="rId8"/>
    <p:sldLayoutId id="2147483899" r:id="rId9"/>
    <p:sldLayoutId id="2147483900" r:id="rId10"/>
    <p:sldLayoutId id="2147483901" r:id="rId11"/>
    <p:sldLayoutId id="2147483902" r:id="rId12"/>
    <p:sldLayoutId id="2147483903" r:id="rId13"/>
    <p:sldLayoutId id="2147483904" r:id="rId14"/>
    <p:sldLayoutId id="2147483905" r:id="rId15"/>
    <p:sldLayoutId id="2147483906" r:id="rId16"/>
    <p:sldLayoutId id="2147483907" r:id="rId17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 type="ftr" idx="3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 type="sldNum" idx="3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6338B-266C-4596-9ABF-54116DE6D7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 type="ftr" idx="3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 type="sldNum" idx="3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5A95B-DB59-4908-8753-056B0C3E84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1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 type="ftr" idx="3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 type="sldNum" idx="4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7A1DC-4475-4016-B913-0F05DA96FF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1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 type="ftr" idx="4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 type="sldNum" idx="4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7AAB5-5653-4C3B-88E7-AC46CF6FAD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2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 type="ftr" idx="4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 type="sldNum" idx="4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6ADB5-5032-497B-812B-7D34C68FD6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2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 type="ftr" idx="4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 type="sldNum" idx="4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193B8-375A-4577-A9C0-75926065E3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ftr" idx="4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sldNum" idx="4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9AD4E-6205-415F-88FF-10E8CD67A1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 type="ftr" idx="4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 type="sldNum" idx="5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F99C6-F911-495D-8B54-9A6A921066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 type="ftr" idx="5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 type="sldNum" idx="5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C07B3-C03E-42F1-93BD-5D95E65172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ftr" idx="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ldNum" idx="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9F57F-3F1C-47E6-9F9C-60648A7D3C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 type="ftr" idx="5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 type="sldNum" idx="5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33919-96A9-4EE8-AFC5-A4449826E9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 type="ftr" idx="5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 type="sldNum" idx="5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F08CB-4D98-4603-B276-BA13C3EA81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 type="ftr" idx="5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4"/>
          <p:cNvSpPr>
            <a:spLocks noGrp="1"/>
          </p:cNvSpPr>
          <p:nvPr>
            <p:ph type="sldNum" idx="5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9B228-3D66-4393-9A68-C7666D5562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ftr" idx="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Num" idx="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C59A9-AE5A-43AA-A353-408FA64DC9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0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0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sldNum" idx="9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7D972-C271-4A6B-AAA3-03BD19BEB1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54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57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sldNum" idx="10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8E147-7B74-4A76-8D63-3915302AC2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07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310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20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ftr" idx="1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sldNum" idx="1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CBE26-71D7-4212-BF1A-CA7F17A615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ftr" idx="1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sldNum" idx="1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0F09F-013D-49AB-9BAD-09C1D49685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21BF1-A593-451E-B958-DBC6C2B954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27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628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629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630" name="Group 2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631" name="Rectangle 2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Rectangle 2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3" name="Group 2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634" name="Rectangle 2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Rectangle 2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Rectangle 2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Rectangle 2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Rectangle 3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Rectangle 3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Rectangle 3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Rectangle 3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Rectangle 3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Rectangle 3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44" name="Text Box 36"/>
          <p:cNvSpPr/>
          <p:nvPr/>
        </p:nvSpPr>
        <p:spPr>
          <a:xfrm>
            <a:off x="1882800" y="2328840"/>
            <a:ext cx="7184880" cy="16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Структура и содержание «Руководства по качеств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полнительный матери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5" name="Picture 37" descr="CLSI_WHO_Blue_CMYK1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A1A84-5182-4C02-85DF-B8B4D41F48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1"/>
          <p:cNvSpPr>
            <a:spLocks noGrp="1"/>
          </p:cNvSpPr>
          <p:nvPr>
            <p:ph/>
          </p:nvPr>
        </p:nvSpPr>
        <p:spPr>
          <a:xfrm>
            <a:off x="837720" y="1295280"/>
            <a:ext cx="8001000" cy="491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должностные инструкции, включая требования к квалификац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список сотрудник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графическая схема организации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условия найма на работ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рганизация работы интернов и студент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0" name="Rectangle 4"/>
          <p:cNvSpPr/>
          <p:nvPr/>
        </p:nvSpPr>
        <p:spPr>
          <a:xfrm>
            <a:off x="609480" y="53208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4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ерсон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A19E1-CADE-47BB-9903-81454890A0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5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Контроль документ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838080" y="1294920"/>
            <a:ext cx="746784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утверждение руковод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окончательная версия документов: проверка, печатание, подписи, распростра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оддержание конфиденциа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хранение, архивиров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составление отче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еречень справочных документов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руковод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книг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стать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5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6C7C8-4BA1-43A6-8006-D5CAC65BBB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380520" y="476280"/>
            <a:ext cx="86108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28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6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омещения и окружающая сред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762120" y="1695240"/>
            <a:ext cx="8229600" cy="44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лан помещений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зоны ограниченного доступ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лабораторные знаки и указател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требования к окружающей среде в лаборатории (пространство, температура, водо- и электроснабжение, вентиляция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онтрол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допустимые откло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7AFE3-127E-485D-9E83-03AFBFDDA5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457200" y="469800"/>
            <a:ext cx="8229600" cy="15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SimSun"/>
              </a:rPr>
              <a:t>7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Управление оборудованием, реагентами и расходными материалам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15328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укажите, что для каждого наименования оборудования должны быть задокументированные процедуры, обслуживание, контроль каче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реагент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заявки и получ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хра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расходные материалы – установите порядок управл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1D91D-716C-4538-A81D-4AED94402D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609480" y="55224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8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Безопасность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бращение с пробами и материал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дезинфек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нструкции по пожарной безопас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нструкции по работе с опасными химическими веществ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удаление отход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стерилиза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маркировка материал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8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4E82F-F0C3-4272-A3AD-EA257CE376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609480" y="572760"/>
            <a:ext cx="792504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9</a:t>
            </a: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роцедуры до исследова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947520" y="1482840"/>
            <a:ext cx="773892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пользуемое оборуд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дготовка пациент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дентификация проб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иготовление аликвот и предварительная обработка проб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хран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транспортиров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B3BD0-4CBC-496F-B78D-B181968908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380880" y="552240"/>
            <a:ext cx="79250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0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роцедура исследова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/>
          </p:nvPr>
        </p:nvSpPr>
        <p:spPr>
          <a:xfrm>
            <a:off x="871200" y="1816200"/>
            <a:ext cx="7815240" cy="34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пользуемое оборуд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пользуемые реаген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калибровка / контроль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оцедура анализ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методы валидации/провер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8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4B891-F900-4895-9723-445B70A3F5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1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роцедура после исследова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8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анализ результат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кончательная проверка биологических значен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распечатка/приготовление копии отчета с результа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ередача отче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хранение (архивирование) отче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заимодействие с органами эпиднадзо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D7716-D071-4578-8B3B-5EC632AA71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533520" y="51408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2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Контроль качеств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609480" y="1272960"/>
            <a:ext cx="8229600" cy="51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напоминание о приверженности качеств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ссылка на процедуры контроля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оборудов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реактив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омпетенций персонал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краткое изложение всех процедур контроля качества и ссылки на соответствующие разделы «Руководства по качеству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4169F-5FAD-4C10-8D15-B2EFF2BF84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17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953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3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Корректирующие и предупреждающие действия, внутренний аудит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1066680" y="2514600"/>
            <a:ext cx="7467840" cy="33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стоянное улучш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анализ и разбор всех проблем и ошибо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нутренние аудиты являются обязательными в соответствии со стандартом ИСО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SimSun"/>
              </a:rPr>
              <a:t>1518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Slide Number Placeholder 4"/>
          <p:cNvSpPr/>
          <p:nvPr/>
        </p:nvSpPr>
        <p:spPr>
          <a:xfrm>
            <a:off x="746748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55723-1E59-42DE-8245-E5D22F2AB6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8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649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3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664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665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666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7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8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9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0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71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3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74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75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6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7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8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9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680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2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4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685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7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8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689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1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692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4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7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698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0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701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3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704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06" name="Footer Placeholder 1"/>
          <p:cNvSpPr/>
          <p:nvPr/>
        </p:nvSpPr>
        <p:spPr>
          <a:xfrm>
            <a:off x="457200" y="6400800"/>
            <a:ext cx="655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2B0FF-4246-48DA-B630-189DF07934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труктура документ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4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«Руководство по качеству»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зложите руководящие принципы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цес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цед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боч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нстру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Фор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и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7" name="Group 3"/>
          <p:cNvGrpSpPr/>
          <p:nvPr/>
        </p:nvGrpSpPr>
        <p:grpSpPr>
          <a:xfrm>
            <a:off x="5638680" y="2438280"/>
            <a:ext cx="3124440" cy="2935440"/>
            <a:chOff x="5638680" y="2438280"/>
            <a:chExt cx="3124440" cy="2935440"/>
          </a:xfrm>
        </p:grpSpPr>
        <p:pic>
          <p:nvPicPr>
            <p:cNvPr id="1788" name="Picture 4" descr="17_docs_structure"/>
            <p:cNvPicPr/>
            <p:nvPr/>
          </p:nvPicPr>
          <p:blipFill>
            <a:blip r:embed="rId1"/>
            <a:stretch/>
          </p:blipFill>
          <p:spPr>
            <a:xfrm>
              <a:off x="5638680" y="2438280"/>
              <a:ext cx="3124440" cy="293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9" name="TextBox 1"/>
            <p:cNvSpPr/>
            <p:nvPr/>
          </p:nvSpPr>
          <p:spPr>
            <a:xfrm>
              <a:off x="6095880" y="4572000"/>
              <a:ext cx="2057760" cy="646200"/>
            </a:xfrm>
            <a:prstGeom prst="rect">
              <a:avLst/>
            </a:prstGeom>
            <a:solidFill>
              <a:srgbClr val="18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Процедур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Рабочие инструкц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TextBox 2"/>
            <p:cNvSpPr/>
            <p:nvPr/>
          </p:nvSpPr>
          <p:spPr>
            <a:xfrm>
              <a:off x="6545160" y="3777840"/>
              <a:ext cx="1159200" cy="369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Процесс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TextBox 8"/>
            <p:cNvSpPr/>
            <p:nvPr/>
          </p:nvSpPr>
          <p:spPr>
            <a:xfrm>
              <a:off x="6840000" y="3023640"/>
              <a:ext cx="648000" cy="360000"/>
            </a:xfrm>
            <a:prstGeom prst="rect">
              <a:avLst/>
            </a:prstGeom>
            <a:solidFill>
              <a:srgbClr val="78fb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 Narrow"/>
                  <a:ea typeface="Calibri"/>
                </a:rPr>
                <a:t>водящие принцип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TextBox 8"/>
            <p:cNvSpPr/>
            <p:nvPr/>
          </p:nvSpPr>
          <p:spPr>
            <a:xfrm>
              <a:off x="6948000" y="2819160"/>
              <a:ext cx="396000" cy="180000"/>
            </a:xfrm>
            <a:prstGeom prst="rect">
              <a:avLst/>
            </a:prstGeom>
            <a:solidFill>
              <a:srgbClr val="78fb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 Narrow"/>
                  <a:ea typeface="Calibri"/>
                </a:rPr>
                <a:t>Руко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3" name="Footer Placeholder 1"/>
          <p:cNvSpPr/>
          <p:nvPr/>
        </p:nvSpPr>
        <p:spPr>
          <a:xfrm>
            <a:off x="457200" y="64008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A941A-DC3F-4259-B695-681BCF9AA1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Управление документацие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797" name="Group 3"/>
          <p:cNvGrpSpPr/>
          <p:nvPr/>
        </p:nvGrpSpPr>
        <p:grpSpPr>
          <a:xfrm>
            <a:off x="4343400" y="4038480"/>
            <a:ext cx="3504960" cy="1981440"/>
            <a:chOff x="4343400" y="4038480"/>
            <a:chExt cx="3504960" cy="1981440"/>
          </a:xfrm>
        </p:grpSpPr>
        <p:sp>
          <p:nvSpPr>
            <p:cNvPr id="1798" name="Text Box 4"/>
            <p:cNvSpPr/>
            <p:nvPr/>
          </p:nvSpPr>
          <p:spPr>
            <a:xfrm>
              <a:off x="5099400" y="4159080"/>
              <a:ext cx="2064240" cy="48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Управление качеств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Oval 5"/>
            <p:cNvSpPr/>
            <p:nvPr/>
          </p:nvSpPr>
          <p:spPr>
            <a:xfrm>
              <a:off x="4343400" y="4038480"/>
              <a:ext cx="35049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Oval 7"/>
            <p:cNvSpPr/>
            <p:nvPr/>
          </p:nvSpPr>
          <p:spPr>
            <a:xfrm>
              <a:off x="6143040" y="4572000"/>
              <a:ext cx="1610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Oval 6"/>
            <p:cNvSpPr/>
            <p:nvPr/>
          </p:nvSpPr>
          <p:spPr>
            <a:xfrm>
              <a:off x="4437720" y="4572000"/>
              <a:ext cx="1610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Text Box 9"/>
            <p:cNvSpPr/>
            <p:nvPr/>
          </p:nvSpPr>
          <p:spPr>
            <a:xfrm>
              <a:off x="6143040" y="4840200"/>
              <a:ext cx="1705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Конкретные СО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Text Box 8"/>
            <p:cNvSpPr/>
            <p:nvPr/>
          </p:nvSpPr>
          <p:spPr>
            <a:xfrm>
              <a:off x="4635000" y="4778280"/>
              <a:ext cx="1231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Система качест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4" name="Group 10"/>
          <p:cNvGrpSpPr/>
          <p:nvPr/>
        </p:nvGrpSpPr>
        <p:grpSpPr>
          <a:xfrm>
            <a:off x="2362320" y="1600200"/>
            <a:ext cx="1936800" cy="1066680"/>
            <a:chOff x="2362320" y="1600200"/>
            <a:chExt cx="1936800" cy="1066680"/>
          </a:xfrm>
        </p:grpSpPr>
        <p:sp>
          <p:nvSpPr>
            <p:cNvPr id="1805" name="Oval 11"/>
            <p:cNvSpPr/>
            <p:nvPr/>
          </p:nvSpPr>
          <p:spPr>
            <a:xfrm>
              <a:off x="2362320" y="1600200"/>
              <a:ext cx="190512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Text Box 12"/>
            <p:cNvSpPr/>
            <p:nvPr/>
          </p:nvSpPr>
          <p:spPr>
            <a:xfrm>
              <a:off x="2391120" y="1817280"/>
              <a:ext cx="1908000" cy="6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Руководства по эксплуатации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7" name="Group 13"/>
          <p:cNvGrpSpPr/>
          <p:nvPr/>
        </p:nvGrpSpPr>
        <p:grpSpPr>
          <a:xfrm>
            <a:off x="1143000" y="3809880"/>
            <a:ext cx="1371600" cy="1066680"/>
            <a:chOff x="1143000" y="3809880"/>
            <a:chExt cx="1371600" cy="1066680"/>
          </a:xfrm>
        </p:grpSpPr>
        <p:sp>
          <p:nvSpPr>
            <p:cNvPr id="1808" name="Text Box 14"/>
            <p:cNvSpPr/>
            <p:nvPr/>
          </p:nvSpPr>
          <p:spPr>
            <a:xfrm>
              <a:off x="1295640" y="411480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Книг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Oval 15"/>
            <p:cNvSpPr/>
            <p:nvPr/>
          </p:nvSpPr>
          <p:spPr>
            <a:xfrm>
              <a:off x="1143000" y="380988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0" name="Group 16"/>
          <p:cNvGrpSpPr/>
          <p:nvPr/>
        </p:nvGrpSpPr>
        <p:grpSpPr>
          <a:xfrm>
            <a:off x="1600200" y="2590920"/>
            <a:ext cx="1295280" cy="1066680"/>
            <a:chOff x="1600200" y="2590920"/>
            <a:chExt cx="1295280" cy="1066680"/>
          </a:xfrm>
        </p:grpSpPr>
        <p:sp>
          <p:nvSpPr>
            <p:cNvPr id="1811" name="Text Box 17"/>
            <p:cNvSpPr/>
            <p:nvPr/>
          </p:nvSpPr>
          <p:spPr>
            <a:xfrm>
              <a:off x="1676160" y="289548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Стать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Oval 18"/>
            <p:cNvSpPr/>
            <p:nvPr/>
          </p:nvSpPr>
          <p:spPr>
            <a:xfrm>
              <a:off x="1600200" y="25909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3" name="Group 19"/>
          <p:cNvGrpSpPr/>
          <p:nvPr/>
        </p:nvGrpSpPr>
        <p:grpSpPr>
          <a:xfrm>
            <a:off x="4552920" y="1371600"/>
            <a:ext cx="1619280" cy="1038240"/>
            <a:chOff x="4552920" y="1371600"/>
            <a:chExt cx="1619280" cy="1038240"/>
          </a:xfrm>
        </p:grpSpPr>
        <p:sp>
          <p:nvSpPr>
            <p:cNvPr id="1814" name="Text Box 20"/>
            <p:cNvSpPr/>
            <p:nvPr/>
          </p:nvSpPr>
          <p:spPr>
            <a:xfrm>
              <a:off x="4572000" y="152388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Тексты и закон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Oval 21"/>
            <p:cNvSpPr/>
            <p:nvPr/>
          </p:nvSpPr>
          <p:spPr>
            <a:xfrm>
              <a:off x="4552920" y="1371600"/>
              <a:ext cx="161928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6" name="Group 22"/>
          <p:cNvGrpSpPr/>
          <p:nvPr/>
        </p:nvGrpSpPr>
        <p:grpSpPr>
          <a:xfrm>
            <a:off x="1371600" y="5029200"/>
            <a:ext cx="1523880" cy="1066680"/>
            <a:chOff x="1371600" y="5029200"/>
            <a:chExt cx="1523880" cy="1066680"/>
          </a:xfrm>
        </p:grpSpPr>
        <p:sp>
          <p:nvSpPr>
            <p:cNvPr id="1817" name="Oval 23"/>
            <p:cNvSpPr/>
            <p:nvPr/>
          </p:nvSpPr>
          <p:spPr>
            <a:xfrm>
              <a:off x="1476000" y="50292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Text Box 24"/>
            <p:cNvSpPr/>
            <p:nvPr/>
          </p:nvSpPr>
          <p:spPr>
            <a:xfrm>
              <a:off x="1371600" y="53337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Проче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9" name="Line 25"/>
          <p:cNvSpPr/>
          <p:nvPr/>
        </p:nvSpPr>
        <p:spPr>
          <a:xfrm flipH="1">
            <a:off x="2742840" y="5410080"/>
            <a:ext cx="342900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Line 26"/>
          <p:cNvSpPr/>
          <p:nvPr/>
        </p:nvSpPr>
        <p:spPr>
          <a:xfrm flipH="1" flipV="1">
            <a:off x="2438280" y="4419720"/>
            <a:ext cx="2114640" cy="45720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Line 27"/>
          <p:cNvSpPr/>
          <p:nvPr/>
        </p:nvSpPr>
        <p:spPr>
          <a:xfrm flipV="1">
            <a:off x="5099040" y="2437920"/>
            <a:ext cx="82440" cy="213372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Line 28"/>
          <p:cNvSpPr/>
          <p:nvPr/>
        </p:nvSpPr>
        <p:spPr>
          <a:xfrm flipH="1" flipV="1">
            <a:off x="2895480" y="3352680"/>
            <a:ext cx="3353040" cy="15242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Line 29"/>
          <p:cNvSpPr/>
          <p:nvPr/>
        </p:nvSpPr>
        <p:spPr>
          <a:xfrm flipH="1" flipV="1">
            <a:off x="3885840" y="2590920"/>
            <a:ext cx="2438280" cy="2187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Line 30"/>
          <p:cNvSpPr/>
          <p:nvPr/>
        </p:nvSpPr>
        <p:spPr>
          <a:xfrm flipH="1" flipV="1">
            <a:off x="2743200" y="3505320"/>
            <a:ext cx="1892160" cy="127296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Line 31"/>
          <p:cNvSpPr/>
          <p:nvPr/>
        </p:nvSpPr>
        <p:spPr>
          <a:xfrm flipH="1" flipV="1">
            <a:off x="5486040" y="2409840"/>
            <a:ext cx="1143000" cy="2238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Line 32"/>
          <p:cNvSpPr/>
          <p:nvPr/>
        </p:nvSpPr>
        <p:spPr>
          <a:xfrm flipH="1">
            <a:off x="2742840" y="5257800"/>
            <a:ext cx="1714680" cy="15228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Line 33"/>
          <p:cNvSpPr/>
          <p:nvPr/>
        </p:nvSpPr>
        <p:spPr>
          <a:xfrm flipH="1" flipV="1">
            <a:off x="2361960" y="4571640"/>
            <a:ext cx="380988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Text Box 34"/>
          <p:cNvSpPr/>
          <p:nvPr/>
        </p:nvSpPr>
        <p:spPr>
          <a:xfrm>
            <a:off x="6172200" y="2144880"/>
            <a:ext cx="28195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SimSun"/>
              </a:rPr>
              <a:t>Чтобы не усложнять управление качеств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SimSun"/>
              </a:rPr>
              <a:t>Список документов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SimSun"/>
              </a:rPr>
              <a:t> +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SimSun"/>
              </a:rPr>
              <a:t>простая нумер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SimSun"/>
              </a:rPr>
              <a:t>Ссылки на доку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Footer Placeholder 3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D7E5C-C0F2-41F2-A539-4BA708D881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лючевые полож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86800" cy="54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сть только ОДНА официальная версия «Руководства по качеству»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бота над «Руководством по качеству» никогда не заканчивается, «Руководство» постоянно улучшается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«Руководство» должно быть прочитано, понято и принято всеми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но должно быть написано ясным, хорошо понятным языком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«Руководстве» должны быть дата и подписи руководителей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ледует использовать стандартные заголовки на всех страницах и указывать номер версии каждой процедуры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дготовка «Руководства по качеству» – очень большая, но также и очень стоящая и полезная для лаборатории работ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Slide Number Placeholder 2"/>
          <p:cNvSpPr/>
          <p:nvPr/>
        </p:nvSpPr>
        <p:spPr>
          <a:xfrm>
            <a:off x="746748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6F173-2202-4BE5-A095-8EF0362B8F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835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1836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0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1851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1852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1853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4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5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6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7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1858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0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1861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1862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3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4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5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6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1867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9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1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1872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4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5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1876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8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1879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1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4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1885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7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1888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0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1891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93" name="Footer Placeholder 1"/>
          <p:cNvSpPr/>
          <p:nvPr/>
        </p:nvSpPr>
        <p:spPr>
          <a:xfrm>
            <a:off x="457200" y="6400800"/>
            <a:ext cx="655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9A6ED-FDB5-4B29-82BA-2A55D6C96A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456840" y="399960"/>
            <a:ext cx="71629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аписание «Руководства по качеству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ребуется стандартом ИСО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15189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но стиль и структура не задан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здайте руководящий комите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йте руководящие принципы для каждого из 12 элементов системы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каждому руководящему принципу сформулируйте цели и распределите ответствен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Руководство» должно содержать руководящие принципы в отношении качества и ссылки на процессы и процедур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0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8DF13-95A8-41A0-B017-46554BE80F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533520" y="426960"/>
            <a:ext cx="81532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лан «Руководства по качеству»</a:t>
            </a: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SimSun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SimSun"/>
              </a:rPr>
              <a:t>(пример)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15328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вед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рганизация и управл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литика в области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ерсонал (образование и обучение персонала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Контроль документации, включая записи, поддержание и архивир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мещения и окружающая сред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4F616-0A29-48A0-98EA-C1A1A06378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01000" cy="508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Управление оборудованием, реагентами, расходными материал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Безопас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следования и разработки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(факультативно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оцедуры до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оцедуры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оцедуры после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Контроль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8" name="Rectangle 2"/>
          <p:cNvSpPr/>
          <p:nvPr/>
        </p:nvSpPr>
        <p:spPr>
          <a:xfrm>
            <a:off x="152280" y="48996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лан «Руководства по качеству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FD439-CC28-4EF6-AB80-0325A4CEF9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PlaceHolder 1"/>
          <p:cNvSpPr>
            <a:spLocks noGrp="1"/>
          </p:cNvSpPr>
          <p:nvPr>
            <p:ph/>
          </p:nvPr>
        </p:nvSpPr>
        <p:spPr>
          <a:xfrm>
            <a:off x="380880" y="1314360"/>
            <a:ext cx="8763120" cy="49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нформационная система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Реагирование на жалобы – управление нештатными ситуация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ередача информации и другие виды взаимодейств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едупреждающие и корректирующие действия, внутренний ауди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опросы эти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2" name="Rectangle 2"/>
          <p:cNvSpPr/>
          <p:nvPr/>
        </p:nvSpPr>
        <p:spPr>
          <a:xfrm>
            <a:off x="152280" y="48996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лан «Руководства по качеству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B4F16-AE2F-471F-8089-9B69C5CAE1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PlaceHolder 1"/>
          <p:cNvSpPr>
            <a:spLocks noGrp="1"/>
          </p:cNvSpPr>
          <p:nvPr>
            <p:ph/>
          </p:nvPr>
        </p:nvSpPr>
        <p:spPr>
          <a:xfrm>
            <a:off x="685440" y="1577520"/>
            <a:ext cx="807732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тория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иды деятель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сфера применения «Руководства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бновление «Руководства»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т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чт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гд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6" name="Rectangle 4"/>
          <p:cNvSpPr/>
          <p:nvPr/>
        </p:nvSpPr>
        <p:spPr>
          <a:xfrm>
            <a:off x="609480" y="57492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Введ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Text Box 5"/>
          <p:cNvSpPr/>
          <p:nvPr/>
        </p:nvSpPr>
        <p:spPr>
          <a:xfrm>
            <a:off x="3581280" y="3909960"/>
            <a:ext cx="335304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ог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а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оче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0FA60-8366-4075-BE96-65B947138D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PlaceHolder 1"/>
          <p:cNvSpPr>
            <a:spLocks noGrp="1"/>
          </p:cNvSpPr>
          <p:nvPr>
            <p:ph/>
          </p:nvPr>
        </p:nvSpPr>
        <p:spPr>
          <a:xfrm>
            <a:off x="533160" y="1839960"/>
            <a:ext cx="838188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писание организации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юридическая идентифика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требности в ресурса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распределение ответственности и полномоч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1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SimSun"/>
              </a:rPr>
              <a:t>2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Организация и управл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D1825-B273-416D-BB41-BE87DE4423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3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олитика в области качеств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762120" y="1220760"/>
            <a:ext cx="8229600" cy="49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фициальное заявление руководства лаборатории о политике в области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утверждение, что руководитель лаборатории назначит менеджера по качеств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дает определения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мисс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цел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рол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6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Olga</cp:lastModifiedBy>
  <dcterms:modified xsi:type="dcterms:W3CDTF">2013-05-20T13:01:10Z</dcterms:modified>
  <cp:revision>72</cp:revision>
  <dc:subject/>
  <dc:title>Example of Written Policy CLSI HS1</dc:title>
</cp:coreProperties>
</file>