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6F42D-EB31-4CF8-B151-3F769B363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2DA8F-0078-4686-A6ED-5443087C4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B9F5A-1512-4BA4-AA3B-E44244E434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0F430-B245-4290-B310-76984EDC65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3DED0-4867-4AB6-9B8F-95B4BC7B13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C30DC-B379-437D-A338-693B4CC57C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22B9-16E5-4A3C-A60A-9BC5DE024C9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870E-C4D1-4F07-A9BC-13510325878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2F84-6624-4BC2-9748-4556B4DC1D4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4275-B712-42E6-8E52-15C04B6C7E7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1A85-6C72-4DF4-B60B-F2D0610DD17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1FB5-3064-4743-A123-BC1585CEDE4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F1AE-AC77-4BCE-84E2-EF45C3BA5D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908AE-F0BB-4D40-A318-01725FC8FC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2447-C0A5-4BD6-BD6A-1815F377A4C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7334-56F9-44E6-9229-1E5F0501650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796E-3D3E-4FAA-A3CD-54CFE7D8A5A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0E66-6169-441B-ACCE-EFFEA9396CB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72AA-8C09-4557-84BB-D0B0C0923D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B32DE-4A81-41F9-8507-820B012EC3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748CD-18A7-44BC-98BA-7EB4E5363C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395F6-A6EC-4EBF-A46E-27F2210E69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830F5-996B-44FD-8E95-806B7678E9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C5016-A88B-43B8-8B82-63D35BD1AF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739C1-B4DE-4752-9320-D251098189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97844-4C30-43CA-9573-2101D427AA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Improvement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3F7D4-1E42-44CB-84B8-675D233B2B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5" descr="paho_286_logo"/>
          <p:cNvPicPr/>
          <p:nvPr/>
        </p:nvPicPr>
        <p:blipFill>
          <a:blip r:embed="rId2"/>
          <a:stretch/>
        </p:blipFill>
        <p:spPr>
          <a:xfrm>
            <a:off x="7696080" y="6211800"/>
            <a:ext cx="1371600" cy="569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2BSLATH"/>
          <p:cNvPicPr/>
          <p:nvPr/>
        </p:nvPicPr>
        <p:blipFill>
          <a:blip r:embed="rId3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4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5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A4CD9-52E3-43A7-872A-19EB7C1B1B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1"/>
          <p:cNvSpPr/>
          <p:nvPr/>
        </p:nvSpPr>
        <p:spPr>
          <a:xfrm>
            <a:off x="457200" y="6429240"/>
            <a:ext cx="281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CEE67-14F5-4563-8A3D-CF47063C67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99600"/>
            <a:ext cx="3124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560" y="1062000"/>
            <a:ext cx="8458200" cy="52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«В вашей лаборатории были выявлены проблемы с пробами, поступающими в лабораторию из определенной поликлиники. Некоторые пробы транспортировались в лабораторию явно с задержкой, а ряд проб был собран в неподходящие контейнеры. Эти проблемы приводили к задержкам в выполнении анализов и к отказам в приеме проб. Для исправления ситуации был проведен ряд улучшений в ведении записей и на месте сбора проб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990720" y="487692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2-08-04T06:45:48Z</dcterms:modified>
  <cp:revision>66</cp:revision>
  <dc:subject/>
  <dc:title>Slide 1</dc:title>
</cp:coreProperties>
</file>