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11.jpeg" ContentType="image/jpeg"/>
  <Override PartName="/ppt/media/image9.jpeg" ContentType="image/jpeg"/>
  <Override PartName="/ppt/media/image4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1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37.wmf" ContentType="image/x-wmf"/>
  <Override PartName="/ppt/media/image41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4.jpeg" ContentType="image/jpeg"/>
  <Override PartName="/ppt/media/image40.png" ContentType="image/png"/>
  <Override PartName="/ppt/media/image38.wmf" ContentType="image/x-wmf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BBAE-C361-46BF-B280-B81088B18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B092-6E23-4DBC-A94C-F9EB3FAC0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669F-FCD7-4FCC-BF01-D9B80D993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7DE5-87EF-4A53-BB95-85F69DA8F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7ACC-0520-4B57-8223-B70C2612F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CADF-2B7F-4CD3-A08C-D9ED84332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8A43-BFE1-42EE-BBF2-4749CE8C1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B86E-FDB3-49EF-AFB9-66F883DE3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572A-14EA-4CE7-8CFA-24449A231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DBA7-F0A8-49DB-823E-035F4AD0E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63BA-4375-4393-93E7-66207535D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956C-B038-4A37-9547-3E061D05A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2731-D48E-40DA-BDE2-9CCFCC1AB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85D8-658C-4379-9E6A-ABFFF91A0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A7A8-EA66-435B-8666-AA68A37A9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D479-9407-440D-9460-22B4AD231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EB3E-97C0-44CC-AE06-E718B9B85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F143-C69C-4F8D-97FC-080BD8DCC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06BB-F8B1-4CC0-B5E9-7E40CDBF2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E6D2-BC6A-4973-BB3C-EFE36AA71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0DCD-7BE9-446F-8916-BB39529B4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5FC6-38E8-4E81-8C1B-355E5C325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A02F-20A1-417B-A53B-993C7066F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6C30-DC1F-4D14-B740-BC10D3D42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2F6C-BBAA-4F2E-95FD-1894F2148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9B20-77E4-43B4-BDE0-87C8A1693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4D8B-B171-4B0A-A365-93EE78ACA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552D-6429-4AD1-80A5-1515ED164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1B75-AD3B-4369-9FD1-1374C4306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375C-CBA2-43D5-B896-200579AA4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0CC46-7951-43FF-9517-3D264BC48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ACF7D-96D5-421E-A7EF-29314BEA6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76181-7609-411B-A589-B9B6DE5C4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B0969-2796-4615-82A0-88328CE1A6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681E2-9DC6-4413-B63A-35FD8903C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F8447-B0CA-4CA8-AAF5-61C3D9CB6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3D651-7D6B-48C1-8414-B84C1E833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63C12-D9B7-4543-BA8A-B4583AFC5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53758-B82E-45D2-A804-3338280BB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6AD2E-BCC3-4896-B7B8-E2263D93A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F62A4-2EF5-47B0-A1DB-F5A44CB3C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4F5B4-B2F9-4021-A719-032101E0D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5857-7427-424B-A5E8-94E4827B5F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440" y="2062080"/>
            <a:ext cx="52578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Обслуживание клиентов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715A-69CC-4679-B1F4-E4DAD15B48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5AEF-F4C9-4253-8D61-84A2BA21A3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рач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609480" y="2324160"/>
            <a:ext cx="19051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6324480" y="2400480"/>
            <a:ext cx="221004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124080" y="548640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8" name="AutoShape 7"/>
          <p:cNvCxnSpPr>
            <a:stCxn id="237" idx="0"/>
            <a:endCxn id="236" idx="2"/>
          </p:cNvCxnSpPr>
          <p:nvPr/>
        </p:nvCxnSpPr>
        <p:spPr>
          <a:xfrm flipV="1">
            <a:off x="4572000" y="3200040"/>
            <a:ext cx="2858400" cy="228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8"/>
          <p:cNvCxnSpPr>
            <a:stCxn id="237" idx="0"/>
            <a:endCxn id="235" idx="2"/>
          </p:cNvCxnSpPr>
          <p:nvPr/>
        </p:nvCxnSpPr>
        <p:spPr>
          <a:xfrm flipH="1" flipV="1">
            <a:off x="1561320" y="3085560"/>
            <a:ext cx="301068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40" name="AutoShape 9"/>
          <p:cNvSpPr/>
          <p:nvPr/>
        </p:nvSpPr>
        <p:spPr>
          <a:xfrm>
            <a:off x="3124080" y="1447920"/>
            <a:ext cx="2895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1" name="AutoShape 10"/>
          <p:cNvCxnSpPr>
            <a:stCxn id="237" idx="0"/>
            <a:endCxn id="240" idx="2"/>
          </p:cNvCxnSpPr>
          <p:nvPr/>
        </p:nvCxnSpPr>
        <p:spPr>
          <a:xfrm flipV="1">
            <a:off x="4571640" y="2590200"/>
            <a:ext cx="10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11"/>
          <p:cNvCxnSpPr>
            <a:stCxn id="235" idx="3"/>
            <a:endCxn id="240" idx="1"/>
          </p:cNvCxnSpPr>
          <p:nvPr/>
        </p:nvCxnSpPr>
        <p:spPr>
          <a:xfrm flipV="1">
            <a:off x="2514240" y="2018520"/>
            <a:ext cx="61020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AutoShape 12"/>
          <p:cNvCxnSpPr>
            <a:stCxn id="240" idx="3"/>
            <a:endCxn id="236" idx="1"/>
          </p:cNvCxnSpPr>
          <p:nvPr/>
        </p:nvCxnSpPr>
        <p:spPr>
          <a:xfrm>
            <a:off x="6019920" y="2019240"/>
            <a:ext cx="305280" cy="781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Rectangle 13"/>
          <p:cNvSpPr/>
          <p:nvPr/>
        </p:nvSpPr>
        <p:spPr>
          <a:xfrm>
            <a:off x="2133720" y="3809880"/>
            <a:ext cx="4800600" cy="1295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Точная 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онятна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воеврем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1F00-54C0-4DAD-8DCE-95EE54E447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6F03-25CC-4918-8E94-E8C9851ABD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врачей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66760" y="2225520"/>
          <a:ext cx="8496360" cy="3870360"/>
        </p:xfrm>
        <a:graphic>
          <a:graphicData uri="http://schemas.openxmlformats.org/drawingml/2006/table">
            <a:tbl>
              <a:tblPr/>
              <a:tblGrid>
                <a:gridCol w="2411280"/>
                <a:gridCol w="3205080"/>
                <a:gridCol w="2880000"/>
              </a:tblGrid>
              <a:tr h="823320"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После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04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чень анали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ководство по взятию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ы за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своевременной до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рка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лидация мет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процес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нештатными ситуац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лаборатор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твержд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я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курат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50" name="AutoShape 47"/>
          <p:cNvSpPr/>
          <p:nvPr/>
        </p:nvSpPr>
        <p:spPr>
          <a:xfrm>
            <a:off x="533520" y="137160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48"/>
          <p:cNvSpPr/>
          <p:nvPr/>
        </p:nvSpPr>
        <p:spPr>
          <a:xfrm>
            <a:off x="3200400" y="1371600"/>
            <a:ext cx="1752480" cy="68580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49"/>
          <p:cNvSpPr/>
          <p:nvPr/>
        </p:nvSpPr>
        <p:spPr>
          <a:xfrm>
            <a:off x="6477120" y="1371600"/>
            <a:ext cx="1676160" cy="68580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3" name="AutoShape 10"/>
          <p:cNvCxnSpPr>
            <a:stCxn id="254" idx="0"/>
          </p:cNvCxnSpPr>
          <p:nvPr/>
        </p:nvCxnSpPr>
        <p:spPr>
          <a:xfrm flipH="1" flipV="1">
            <a:off x="4799880" y="2895120"/>
            <a:ext cx="1220040" cy="19058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D022-F923-415C-AE54-99294539FF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610C-0308-4E3D-BF34-3EEF4E40AF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228600" y="3429000"/>
            <a:ext cx="3962520" cy="18288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Безопасность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пац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304920" y="1752480"/>
            <a:ext cx="25905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00800" y="21337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4572000" y="48006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3" name="AutoShape 7"/>
          <p:cNvCxnSpPr>
            <a:stCxn id="254" idx="0"/>
          </p:cNvCxnSpPr>
          <p:nvPr/>
        </p:nvCxnSpPr>
        <p:spPr>
          <a:xfrm flipV="1">
            <a:off x="6019920" y="3161520"/>
            <a:ext cx="915120" cy="1639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8"/>
          <p:cNvCxnSpPr>
            <a:stCxn id="254" idx="0"/>
          </p:cNvCxnSpPr>
          <p:nvPr/>
        </p:nvCxnSpPr>
        <p:spPr>
          <a:xfrm flipH="1" flipV="1">
            <a:off x="2894760" y="2742840"/>
            <a:ext cx="3125160" cy="205776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65" name="AutoShape 9"/>
          <p:cNvSpPr/>
          <p:nvPr/>
        </p:nvSpPr>
        <p:spPr>
          <a:xfrm>
            <a:off x="3581280" y="1752480"/>
            <a:ext cx="2210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6" name="AutoShape 11"/>
          <p:cNvCxnSpPr>
            <a:stCxn id="261" idx="3"/>
            <a:endCxn id="265" idx="1"/>
          </p:cNvCxnSpPr>
          <p:nvPr/>
        </p:nvCxnSpPr>
        <p:spPr>
          <a:xfrm>
            <a:off x="2895120" y="2323800"/>
            <a:ext cx="6865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AutoShape 12"/>
          <p:cNvCxnSpPr>
            <a:stCxn id="265" idx="3"/>
            <a:endCxn id="262" idx="1"/>
          </p:cNvCxnSpPr>
          <p:nvPr/>
        </p:nvCxnSpPr>
        <p:spPr>
          <a:xfrm>
            <a:off x="5790960" y="2323800"/>
            <a:ext cx="610200" cy="324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3091-6ADE-4FDA-ADCD-33CF0BC784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CB03-2DD7-49EF-B792-85CC6677F6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пациентов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96880"/>
            <a:ext cx="86104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ставить информацию о взятии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условия для взятия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енный и знающий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докум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019920" y="5867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нфиденциа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3581640" y="4106160"/>
            <a:ext cx="2342880" cy="2597400"/>
            <a:chOff x="3581640" y="4106160"/>
            <a:chExt cx="2342880" cy="2597400"/>
          </a:xfrm>
        </p:grpSpPr>
        <p:pic>
          <p:nvPicPr>
            <p:cNvPr id="277" name="Picture 12" descr="14_instructions"/>
            <p:cNvPicPr/>
            <p:nvPr/>
          </p:nvPicPr>
          <p:blipFill>
            <a:blip r:embed="rId3"/>
            <a:stretch/>
          </p:blipFill>
          <p:spPr>
            <a:xfrm rot="20064600">
              <a:off x="3962160" y="4343400"/>
              <a:ext cx="158112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1"/>
            <p:cNvSpPr/>
            <p:nvPr/>
          </p:nvSpPr>
          <p:spPr>
            <a:xfrm rot="20040000">
              <a:off x="4014720" y="4518360"/>
              <a:ext cx="1309680" cy="15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 Narrow"/>
                </a:rPr>
                <a:t>Услуги Лаборатории качеств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818ff"/>
                  </a:solidFill>
                  <a:latin typeface="Arial"/>
                </a:rPr>
                <a:t>Инструкции для пациентов по сбору проб для анализов на гельминт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C0BB-32D8-43AC-8F94-7FDD398925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CD50-7DCF-460A-9307-D6A6AC6F1B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доставьте пациентам следующую информацию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57200" y="2141640"/>
            <a:ext cx="3581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рес лаборатории и инструкции, как до нее добратьс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ли персонал, владеющий двум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/или более язы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9BC6-A2DD-4A69-A1FF-7307291167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1B62-6443-440F-BB86-A6E1861360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20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забору проб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429920"/>
            <a:ext cx="79246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контейн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обращ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ры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038480"/>
            <a:ext cx="3954240" cy="2079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562720" y="2590920"/>
            <a:ext cx="3200400" cy="1533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1084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94" name="Picture 8" descr="patient-wristband"/>
          <p:cNvPicPr/>
          <p:nvPr/>
        </p:nvPicPr>
        <p:blipFill>
          <a:blip r:embed="rId4"/>
          <a:stretch/>
        </p:blipFill>
        <p:spPr>
          <a:xfrm>
            <a:off x="7010280" y="1066680"/>
            <a:ext cx="1524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A517-5C0D-4830-A380-DEF0E017D9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1AC1-2ED8-4BF3-A2E5-965298DDD1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10" descr="13_clean_rooms_new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AutoShape 10"/>
          <p:cNvCxnSpPr>
            <a:stCxn id="300" idx="0"/>
            <a:endCxn id="301" idx="2"/>
          </p:cNvCxnSpPr>
          <p:nvPr/>
        </p:nvCxnSpPr>
        <p:spPr>
          <a:xfrm flipV="1">
            <a:off x="3200040" y="3199680"/>
            <a:ext cx="114372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E695-C278-4577-AC09-EC7A5D4FE5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5F96-BC20-4EB7-BE45-97DA42A199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6400800" y="1371600"/>
            <a:ext cx="1905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620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едомств охраны здоровья насел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943600" y="2400480"/>
            <a:ext cx="2971800" cy="12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Группы и лица, вовлеченные в охрану здоровья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1905120" y="4876920"/>
            <a:ext cx="259056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9" name="AutoShape 7"/>
          <p:cNvCxnSpPr>
            <a:stCxn id="300" idx="0"/>
          </p:cNvCxnSpPr>
          <p:nvPr/>
        </p:nvCxnSpPr>
        <p:spPr>
          <a:xfrm flipV="1">
            <a:off x="3200040" y="3504960"/>
            <a:ext cx="2896200" cy="1372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8"/>
          <p:cNvCxnSpPr>
            <a:stCxn id="300" idx="0"/>
            <a:endCxn id="307" idx="2"/>
          </p:cNvCxnSpPr>
          <p:nvPr/>
        </p:nvCxnSpPr>
        <p:spPr>
          <a:xfrm flipH="1" flipV="1">
            <a:off x="1523160" y="3047760"/>
            <a:ext cx="167724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301" name="AutoShape 9"/>
          <p:cNvSpPr/>
          <p:nvPr/>
        </p:nvSpPr>
        <p:spPr>
          <a:xfrm>
            <a:off x="342900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1" name="AutoShape 11"/>
          <p:cNvCxnSpPr>
            <a:stCxn id="307" idx="3"/>
            <a:endCxn id="301" idx="1"/>
          </p:cNvCxnSpPr>
          <p:nvPr/>
        </p:nvCxnSpPr>
        <p:spPr>
          <a:xfrm>
            <a:off x="2438280" y="2666880"/>
            <a:ext cx="99144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2" name="AutoShape 12"/>
          <p:cNvCxnSpPr>
            <a:stCxn id="301" idx="3"/>
            <a:endCxn id="308" idx="1"/>
          </p:cNvCxnSpPr>
          <p:nvPr/>
        </p:nvCxnSpPr>
        <p:spPr>
          <a:xfrm>
            <a:off x="5257440" y="2705040"/>
            <a:ext cx="686520" cy="324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3" name="Rectangle 13"/>
          <p:cNvSpPr/>
          <p:nvPr/>
        </p:nvSpPr>
        <p:spPr>
          <a:xfrm>
            <a:off x="5334120" y="4114800"/>
            <a:ext cx="3429000" cy="2019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онные матери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еспечение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83A7-EFC9-47F6-9EC5-A317F07B51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E3F0-D273-4B6D-8A68-FE02361D72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Diagram 8"/>
          <p:cNvGrpSpPr/>
          <p:nvPr/>
        </p:nvGrpSpPr>
        <p:grpSpPr>
          <a:xfrm>
            <a:off x="380880" y="1092240"/>
            <a:ext cx="8395560" cy="5117760"/>
            <a:chOff x="380880" y="1092240"/>
            <a:chExt cx="8395560" cy="5117760"/>
          </a:xfrm>
        </p:grpSpPr>
        <p:sp>
          <p:nvSpPr>
            <p:cNvPr id="318" name="_s1028"/>
            <p:cNvSpPr/>
            <p:nvPr/>
          </p:nvSpPr>
          <p:spPr>
            <a:xfrm flipH="1" flipV="1">
              <a:off x="2362680" y="2895840"/>
              <a:ext cx="1395000" cy="5007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1029"/>
            <p:cNvSpPr/>
            <p:nvPr/>
          </p:nvSpPr>
          <p:spPr>
            <a:xfrm>
              <a:off x="457560" y="1941840"/>
              <a:ext cx="2053080" cy="133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Удаление отход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_s1030"/>
            <p:cNvSpPr/>
            <p:nvPr/>
          </p:nvSpPr>
          <p:spPr>
            <a:xfrm flipH="1">
              <a:off x="2869560" y="4064040"/>
              <a:ext cx="888480" cy="333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_s1031"/>
            <p:cNvSpPr/>
            <p:nvPr/>
          </p:nvSpPr>
          <p:spPr>
            <a:xfrm>
              <a:off x="380880" y="4190040"/>
              <a:ext cx="2398320" cy="133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Транспортировка опасных материал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_s1032"/>
            <p:cNvSpPr/>
            <p:nvPr/>
          </p:nvSpPr>
          <p:spPr>
            <a:xfrm>
              <a:off x="4570560" y="4397040"/>
              <a:ext cx="0" cy="6667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_s1033"/>
            <p:cNvSpPr/>
            <p:nvPr/>
          </p:nvSpPr>
          <p:spPr>
            <a:xfrm>
              <a:off x="3124440" y="4876920"/>
              <a:ext cx="289512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граничение распростран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_s1034"/>
            <p:cNvSpPr/>
            <p:nvPr/>
          </p:nvSpPr>
          <p:spPr>
            <a:xfrm>
              <a:off x="5791680" y="4064040"/>
              <a:ext cx="911880" cy="443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_s1035"/>
            <p:cNvSpPr/>
            <p:nvPr/>
          </p:nvSpPr>
          <p:spPr>
            <a:xfrm>
              <a:off x="6703560" y="4229640"/>
              <a:ext cx="2053080" cy="1333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щи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_s1036"/>
            <p:cNvSpPr/>
            <p:nvPr/>
          </p:nvSpPr>
          <p:spPr>
            <a:xfrm flipV="1">
              <a:off x="5791680" y="2971800"/>
              <a:ext cx="761400" cy="342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_s1037"/>
            <p:cNvSpPr/>
            <p:nvPr/>
          </p:nvSpPr>
          <p:spPr>
            <a:xfrm>
              <a:off x="6532560" y="1897920"/>
              <a:ext cx="2243880" cy="1333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Безопаснос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_s1038"/>
            <p:cNvSpPr/>
            <p:nvPr/>
          </p:nvSpPr>
          <p:spPr>
            <a:xfrm flipV="1">
              <a:off x="4570560" y="2399040"/>
              <a:ext cx="0" cy="66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_s1039"/>
            <p:cNvSpPr/>
            <p:nvPr/>
          </p:nvSpPr>
          <p:spPr>
            <a:xfrm>
              <a:off x="3503520" y="1092240"/>
              <a:ext cx="2053080" cy="149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овещения об инфекционных заболеваниях, эпиднадзор и меры реагирова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_s1040"/>
            <p:cNvSpPr/>
            <p:nvPr/>
          </p:nvSpPr>
          <p:spPr>
            <a:xfrm>
              <a:off x="3621240" y="3066120"/>
              <a:ext cx="2052360" cy="1333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Удовлетворение потребностей нас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3048120" y="2895480"/>
            <a:ext cx="2973240" cy="168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DD7A-C9F6-4B02-9F6E-577687DF4E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9537-1F56-40EF-8D19-26F0704082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38080" y="1523880"/>
            <a:ext cx="7543800" cy="1409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аборатория проверена и аккредитована в соответствии с высшими стандар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39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40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Verdana"/>
                  <a:ea typeface="Verdana"/>
                </a:endParaRPr>
              </a:p>
            </p:txBody>
          </p:sp>
        </p:grpSp>
        <p:sp>
          <p:nvSpPr>
            <p:cNvPr id="342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1587600" y="4746600"/>
              <a:ext cx="211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ВИЧНА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4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46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47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Verdana"/>
                  <a:ea typeface="Verdana"/>
                </a:endParaRPr>
              </a:p>
            </p:txBody>
          </p:sp>
        </p:grpSp>
        <p:sp>
          <p:nvSpPr>
            <p:cNvPr id="349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Text Box 21"/>
            <p:cNvSpPr/>
            <p:nvPr/>
          </p:nvSpPr>
          <p:spPr>
            <a:xfrm>
              <a:off x="4934160" y="4645800"/>
              <a:ext cx="27795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ддержание статус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1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ECD2-E911-4592-B5F1-3F6B8E42C8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B30C-8FE7-4F28-9EA5-92DDF9242B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1256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разные категории клиенто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методы измерения удовлетворенност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отенциальные проблемы с кли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ложить решения проблем в обслуживани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, как процессы управления качеством помогают лаборатории удовлетворить потребности и требования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8BAB-3506-4823-AF29-5A4CD363EF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1846-376B-4DF9-BC5D-437C2A8111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орошее обслуживание клиентов предоставит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наилучшего ле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улучшения эпиднадз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ый имидж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бслуживание клиентов – неотъемлемая часть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Методы оценки удовлетворенности клиентов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6A01-6841-4AAC-B024-DB9F34EBC4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7B7F-2C41-4380-9E92-542091E43D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Diagram 5"/>
          <p:cNvGrpSpPr/>
          <p:nvPr/>
        </p:nvGrpSpPr>
        <p:grpSpPr>
          <a:xfrm>
            <a:off x="306360" y="1517760"/>
            <a:ext cx="8230320" cy="4547880"/>
            <a:chOff x="306360" y="1517760"/>
            <a:chExt cx="8230320" cy="4547880"/>
          </a:xfrm>
        </p:grpSpPr>
        <p:sp>
          <p:nvSpPr>
            <p:cNvPr id="362" name="_s2052"/>
            <p:cNvSpPr/>
            <p:nvPr/>
          </p:nvSpPr>
          <p:spPr>
            <a:xfrm flipH="1" flipV="1">
              <a:off x="2360160" y="2872800"/>
              <a:ext cx="1126440" cy="48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_s2053"/>
            <p:cNvSpPr/>
            <p:nvPr/>
          </p:nvSpPr>
          <p:spPr>
            <a:xfrm>
              <a:off x="306360" y="1955160"/>
              <a:ext cx="3035880" cy="10926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устные опросы, фокус-групп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_s2054"/>
            <p:cNvSpPr/>
            <p:nvPr/>
          </p:nvSpPr>
          <p:spPr>
            <a:xfrm flipH="1">
              <a:off x="2837880" y="3962160"/>
              <a:ext cx="104904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_s2055"/>
            <p:cNvSpPr/>
            <p:nvPr/>
          </p:nvSpPr>
          <p:spPr>
            <a:xfrm>
              <a:off x="306360" y="4278960"/>
              <a:ext cx="3885120" cy="947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кетирование удовлетворен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_s2056"/>
            <p:cNvSpPr/>
            <p:nvPr/>
          </p:nvSpPr>
          <p:spPr>
            <a:xfrm>
              <a:off x="4570920" y="3962160"/>
              <a:ext cx="151920" cy="137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_s2057"/>
            <p:cNvSpPr/>
            <p:nvPr/>
          </p:nvSpPr>
          <p:spPr>
            <a:xfrm>
              <a:off x="3342240" y="5199480"/>
              <a:ext cx="2828520" cy="86616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ализ руководство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_s2058"/>
            <p:cNvSpPr/>
            <p:nvPr/>
          </p:nvSpPr>
          <p:spPr>
            <a:xfrm>
              <a:off x="5257440" y="3962160"/>
              <a:ext cx="1068840" cy="44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_s2059"/>
            <p:cNvSpPr/>
            <p:nvPr/>
          </p:nvSpPr>
          <p:spPr>
            <a:xfrm>
              <a:off x="5879880" y="4188600"/>
              <a:ext cx="265680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внутренний ауди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_s2060"/>
            <p:cNvSpPr/>
            <p:nvPr/>
          </p:nvSpPr>
          <p:spPr>
            <a:xfrm flipV="1">
              <a:off x="5430240" y="2971440"/>
              <a:ext cx="1045080" cy="51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_s2061"/>
            <p:cNvSpPr/>
            <p:nvPr/>
          </p:nvSpPr>
          <p:spPr>
            <a:xfrm>
              <a:off x="5961240" y="2121480"/>
              <a:ext cx="257544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показатели качеств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_s2062"/>
            <p:cNvSpPr/>
            <p:nvPr/>
          </p:nvSpPr>
          <p:spPr>
            <a:xfrm flipV="1">
              <a:off x="4533120" y="2209320"/>
              <a:ext cx="0" cy="97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_s2063"/>
            <p:cNvSpPr/>
            <p:nvPr/>
          </p:nvSpPr>
          <p:spPr>
            <a:xfrm>
              <a:off x="3534840" y="1517760"/>
              <a:ext cx="2071080" cy="8740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жалобы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_s2064"/>
            <p:cNvSpPr/>
            <p:nvPr/>
          </p:nvSpPr>
          <p:spPr>
            <a:xfrm>
              <a:off x="2360520" y="2971440"/>
              <a:ext cx="4344840" cy="112464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тслеживани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24B5-80AF-40D4-909A-166F4BEBD6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B853-6214-4DDC-9EBA-BAACD2822F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ученные жалобы отражают лишь «верхушку айсберга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C4CF-D5C5-4B1C-8BDE-FEA4A6ED3C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5C45-13D5-4273-A696-37DFF07263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алоб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1920" y="2757240"/>
            <a:ext cx="39625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Verdana"/>
              </a:rPr>
              <a:t>Фактически недовольные клиенты</a:t>
            </a:r>
            <a:r>
              <a:rPr b="1" lang="en-US" sz="34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0"/>
          <p:cNvSpPr/>
          <p:nvPr/>
        </p:nvSpPr>
        <p:spPr>
          <a:xfrm rot="5400000">
            <a:off x="3238200" y="2704680"/>
            <a:ext cx="3809880" cy="2667240"/>
          </a:xfrm>
          <a:custGeom>
            <a:avLst/>
            <a:gdLst>
              <a:gd name="textAreaLeft" fmla="*/ 380880 w 3809880"/>
              <a:gd name="textAreaRight" fmla="*/ 3429000 w 3809880"/>
              <a:gd name="textAreaTop" fmla="*/ 1524240 h 2667240"/>
              <a:gd name="textAreaBottom" fmla="*/ 2286360 h 2667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B4A5-1DF6-4523-9F7D-815FEB19AE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цен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914400" y="144792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казателей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5334120" y="1143000"/>
            <a:ext cx="3352680" cy="2209680"/>
          </a:xfrm>
          <a:prstGeom prst="hexagon">
            <a:avLst>
              <a:gd name="adj" fmla="val 37932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5486400" y="16765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дение внутренних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21"/>
          <p:cNvSpPr/>
          <p:nvPr/>
        </p:nvSpPr>
        <p:spPr>
          <a:xfrm rot="4216800">
            <a:off x="2411280" y="2757240"/>
            <a:ext cx="1444680" cy="990720"/>
          </a:xfrm>
          <a:custGeom>
            <a:avLst/>
            <a:gdLst>
              <a:gd name="textAreaLeft" fmla="*/ 225720 w 1444680"/>
              <a:gd name="textAreaRight" fmla="*/ 1264320 w 144468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AutoShape 22"/>
          <p:cNvSpPr/>
          <p:nvPr/>
        </p:nvSpPr>
        <p:spPr>
          <a:xfrm rot="6607200">
            <a:off x="4489920" y="2743920"/>
            <a:ext cx="1452240" cy="990360"/>
          </a:xfrm>
          <a:custGeom>
            <a:avLst/>
            <a:gdLst>
              <a:gd name="textAreaLeft" fmla="*/ 226800 w 1452240"/>
              <a:gd name="textAreaRight" fmla="*/ 1270800 w 14522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utoShape 23"/>
          <p:cNvSpPr/>
          <p:nvPr/>
        </p:nvSpPr>
        <p:spPr>
          <a:xfrm>
            <a:off x="1981080" y="3962520"/>
            <a:ext cx="4724640" cy="2133360"/>
          </a:xfrm>
          <a:prstGeom prst="downArrowCallout">
            <a:avLst>
              <a:gd name="adj1" fmla="val 55371"/>
              <a:gd name="adj2" fmla="val 55366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286000" y="41911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ализ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358128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848E-2B3C-48FA-809B-BA9850C754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AC6E-BAF1-4C15-B1B0-A700A82EA0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434340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зучение мнения клиенто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вляетс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ребованием системы управления качеством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808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е мне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1B34-4EBE-450A-A284-220F6EA1AC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EFD5-87F3-488E-A83C-8BB159250F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2" name="Diagram 5"/>
          <p:cNvGrpSpPr/>
          <p:nvPr/>
        </p:nvGrpSpPr>
        <p:grpSpPr>
          <a:xfrm>
            <a:off x="457200" y="1295280"/>
            <a:ext cx="8152560" cy="4876560"/>
            <a:chOff x="457200" y="1295280"/>
            <a:chExt cx="8152560" cy="4876560"/>
          </a:xfrm>
        </p:grpSpPr>
        <p:sp>
          <p:nvSpPr>
            <p:cNvPr id="413" name="AutoShape 4"/>
            <p:cNvSpPr/>
            <p:nvPr/>
          </p:nvSpPr>
          <p:spPr>
            <a:xfrm>
              <a:off x="457200" y="1295280"/>
              <a:ext cx="8152560" cy="4876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своевременно проанализи-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_s3079"/>
            <p:cNvSpPr/>
            <p:nvPr/>
          </p:nvSpPr>
          <p:spPr>
            <a:xfrm>
              <a:off x="1219320" y="4600080"/>
              <a:ext cx="238140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ез наводящих вопросов, объектив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_s3081"/>
            <p:cNvSpPr/>
            <p:nvPr/>
          </p:nvSpPr>
          <p:spPr>
            <a:xfrm>
              <a:off x="5687640" y="4601880"/>
              <a:ext cx="215964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ранее провере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_s3083"/>
            <p:cNvSpPr/>
            <p:nvPr/>
          </p:nvSpPr>
          <p:spPr>
            <a:xfrm>
              <a:off x="6261120" y="2558160"/>
              <a:ext cx="227160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рганиз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_s3085"/>
            <p:cNvSpPr/>
            <p:nvPr/>
          </p:nvSpPr>
          <p:spPr>
            <a:xfrm>
              <a:off x="3553200" y="1295280"/>
              <a:ext cx="2617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плани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5" name="Text Box 19"/>
          <p:cNvSpPr/>
          <p:nvPr/>
        </p:nvSpPr>
        <p:spPr>
          <a:xfrm>
            <a:off x="3048120" y="2819520"/>
            <a:ext cx="3047760" cy="1556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Успешно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5087-7807-45F0-A0BB-6BA0B07FDB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ADB1-7D81-49FD-B806-E452168139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веты для устного опрос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68580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ранее напишите вопро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вайте конкретные вопросы, а также вопросы, в ответ на которые клиент может высказать свое мн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удут искренни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Picture 9" descr="MCj02955670000[1]"/>
          <p:cNvPicPr/>
          <p:nvPr/>
        </p:nvPicPr>
        <p:blipFill>
          <a:blip r:embed="rId1"/>
          <a:stretch/>
        </p:blipFill>
        <p:spPr>
          <a:xfrm>
            <a:off x="6324480" y="3276720"/>
            <a:ext cx="2713320" cy="34290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914400" y="4678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Как мы можем улучшить обслуживание?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ED9C-75F3-4D23-A05F-2EDEDAAA73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Фокус-групп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роведении обсужд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фокус-групп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небольшие группы и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–10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ите людей из разных социальных групп и с разными запросами к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ните с вопросов, которые установят довер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екомендации по отбору фокус-групп для сопоставимост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вайте открытые вопросы, на которые клиент может высказать свое мнение, а не отвечать «Да» или «Нет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8" name="Picture 9" descr="MCPE02097_0000[1]"/>
          <p:cNvPicPr/>
          <p:nvPr/>
        </p:nvPicPr>
        <p:blipFill>
          <a:blip r:embed="rId1"/>
          <a:srcRect l="0" t="0" r="10555" b="60635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7B05-1040-457D-8C47-99A8ABFFCC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8882-37DF-4FDF-AD05-B5E4482E74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змерение удовлетворенности клиентов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ости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28600" y="1676520"/>
            <a:ext cx="876312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осы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743200" y="3352680"/>
            <a:ext cx="34815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Улучшение процесс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68F6-728E-4F35-A6E7-A31BFA3F61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97B7-F687-4C0E-B5DD-DDEF17A424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клиенты пожаловались на значительные задержки в выдаче результатов анализов на ВИЧ. Вы убедились в том, что задержки были необоснованными, и устранили недостат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к вы можете восстановить доверие клиент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47C7-F47F-498E-88BC-8919772E69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C783-4335-4552-8443-151A1E6586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ктивная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истема управления качеством обеспечит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отребностей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сех клиентов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5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6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0419-DE13-4373-AAF5-1746EDA217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11BA-4DAC-4CB2-8B52-D73A29F715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лиентов – неотъемлемая часть системы управления качеством. Важно, чтобы лаборатор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ивно участвовала в этом проце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ла планирование и отслежи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ла и понимала клиентов и их потреб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яла ресурсы для этой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0880" y="1219320"/>
            <a:ext cx="87631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овлетворение потребностей клиентов является основной целью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ктивная система управления качеством в лаборатории обеспечит удовлетворение потребностей всех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ый сотрудник лаборатории несет ответственность за качество и, как следствие, за обслуживание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64E9-1223-4103-850F-84D2DA1404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7708-C16A-4FA7-A5F4-3ACED08F02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9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70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4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5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6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7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8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89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0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2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5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6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8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9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0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01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5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6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9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10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12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3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5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8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9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1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2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5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2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4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4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4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4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5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5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5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7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8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074D-C1D6-4F50-B083-00169C609B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2F12-FDD4-4D1F-AEB2-46C9780F55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796D-A0D2-48B6-AFCB-7A2E57F5DF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819520" y="48769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Четыре принципа управления качеств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80880" y="2661840"/>
            <a:ext cx="6248520" cy="1556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Качество – это удовлетворение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потребностей клиентов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7F09-1D03-471D-B1B6-0B2F656FC5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2E96-0657-4D40-AA30-576B7828DB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отвечает за обслуживание клиента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2590920" y="3112920"/>
            <a:ext cx="4190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Кажды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лаборатории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программы повышения удовлетворенности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2057040"/>
            <a:ext cx="838188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с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верженность всех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методами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есур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E003-D794-4790-B88A-7E3F593C13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EDC7-0F36-410B-B17B-E8984FE519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BAAB-C0E9-4C86-96C3-5FEF5302D3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и ее кли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8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0" name="AutoShape 9"/>
          <p:cNvSpPr/>
          <p:nvPr/>
        </p:nvSpPr>
        <p:spPr>
          <a:xfrm>
            <a:off x="3505320" y="4800600"/>
            <a:ext cx="22096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угие мед. работн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1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5" idx="3"/>
            <a:endCxn id="220" idx="1"/>
          </p:cNvCxnSpPr>
          <p:nvPr/>
        </p:nvCxnSpPr>
        <p:spPr>
          <a:xfrm>
            <a:off x="2438280" y="5105520"/>
            <a:ext cx="106776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66C1-F491-4098-BA29-012D7741FA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DAE7-01B1-4C31-8FA7-9097CB5A6A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должна иметь юридическую идентификаци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дре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О руковод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актная информац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ак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лектронная поч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j0286448"/>
          <p:cNvPicPr/>
          <p:nvPr/>
        </p:nvPicPr>
        <p:blipFill>
          <a:blip r:embed="rId1"/>
          <a:stretch/>
        </p:blipFill>
        <p:spPr>
          <a:xfrm>
            <a:off x="5562720" y="1905120"/>
            <a:ext cx="3286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21:21Z</dcterms:modified>
  <cp:revision>168</cp:revision>
  <dc:subject/>
  <dc:title>Slide 1</dc:title>
</cp:coreProperties>
</file>