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7DF7-5C69-44A8-89CB-A406D22FA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AA0A-286E-431F-915F-668F99933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8AD3-5BEA-42E3-9AFE-CBDE858B9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DEF50-FCF8-421D-8A46-F473EB28C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2AA09-6F15-45A9-9EF6-1044043FF45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3F0F80-6FEC-4F88-91E3-9190BDF6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4B3CD7-EF8B-420E-B4EE-730A5A22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5DEEB2-C0C6-4B70-B674-AE7FD12A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2CB344-1DD8-4557-9E36-9D5A4075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214E6F-0FD4-48B3-9C50-4BE6AE96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815E94-A110-4E15-BB0E-B1273F2D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8EC757-C473-4EF3-925E-154D1F6E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14CE9-34C9-4A9B-9F34-573C8D60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361E2F-ECE7-4986-A586-873A48C3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CC0665-D13A-4445-A16E-7BAB284D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158C6-8C2E-424E-88D8-42E3B1EE296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C4EA49-234A-4111-AFEE-447679BB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79F00E-72A0-46DE-8385-C32E1E5F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86384B-2613-4874-9B9C-DC3EF340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9B72F0-E6A2-474E-AFDF-E0293469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A5AB10-54AC-451E-9074-611539DB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518C2A-050B-41DD-BD8D-D0A3390A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39696D-2A50-4509-AB80-1E5FC273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DA50C4-D854-4BF6-ADA6-F12C7B95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80E765-3991-40AC-889E-BA869DD0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EC66B5-4EBC-4E66-80A1-D91A3CDF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BB131-094E-4B03-8ECC-345F2C76C96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0CFEFC-3F60-4BCD-8870-6E4BDFAA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E92746A-D7C2-4506-91D7-97407F88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2ABAD6-B52F-4F0A-B881-3078C250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8CF4D1-FA68-4E59-AD99-46781470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A2E532-5A4A-4609-9F97-86DD1725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7579A6-BA88-4366-A933-BB65C0F4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1180F0-352A-49D0-8D78-9FE83EEC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FE3FB8-105A-4231-913C-55615ED3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C7CF8E-0336-4C1B-99C9-075E7C0F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9E708E-8E6B-49BD-8DF1-4CA5E8C8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E0358-8D2A-4FC4-8A53-919B1633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1E41A6-3E00-4D64-B738-C975386C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B789D1A-4260-4FA1-84C4-2B1A193D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5D8CE5-B7AC-42C6-A9A3-4795C56C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6129BB-EAB2-4FAF-BA3D-BF6C7A93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1EF597-A8FB-45E9-9497-0A3F890A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41EAAF-B282-4F87-99F0-DF8FEF71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D9F6D8-EF95-4411-B630-BCBF9815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7D71A8-119B-4851-A7A9-549B5664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5066F5-3C5A-496F-A874-2ECB24CD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2D75D3-F623-4A8C-A6B4-C67C896E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99450-F841-489F-9C4D-B65E5CED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0E9DCD-F84C-401F-BE26-588A9981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F7DFB2-19D6-4003-BDB5-456958C9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374619-EBB5-4460-94F9-50FB2E45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A59926-2490-4F26-A238-195F60391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B42A75-3EBF-489D-B60A-95F51823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856D8-3B82-48CE-B716-43EA985E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AE17F-F933-48C7-B2D6-3D520B14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C48D4-D4C9-4B05-B296-833309FE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F660D-F8C3-44C0-9E80-1DE5CB9C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2AB3E-5E09-4D9C-AD3C-1489C7E6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93485-05C1-4D55-A9F2-EB3A602E1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B9CCC-6B3A-45B0-92B7-CF863543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6307B-749C-4743-90F2-8079792B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9F216-A34A-4650-BCA6-32EB73C5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32F70-0AAE-4C67-872E-57B2E91B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2491E-953B-4F3F-BC6B-C50C62A2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B86496-061D-4318-8EA3-1EC80121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5DF541-0F0D-4A35-9AB2-9BC9B719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CE836A-7FF2-4B69-94E1-21F45E1D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953FD1-0AF9-4E7F-8519-04C315CD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BC0C89-B939-497F-999F-145C6227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42B85-EE91-40B6-9DC2-EE92488638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6B278F-FE70-4466-AEE1-ADE03045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5CB938-7513-4C37-9EAD-C4742347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26177A-9F05-4450-B5FC-87CEC1AB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C9A021-4735-4B69-ABD7-3C42EC76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E8629A-4596-47D1-B513-C77D9828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CD434C-315E-4CCA-B3BD-8824C6D0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1524F1-DEC5-473E-BEE6-B0E303CE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3F1DB6-1A1D-4021-AF19-FEDB5004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F4E48B-907B-489F-87C6-DD746EAF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10D42F-C414-474B-8036-25FD395E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BF2EB-9905-414E-A5CD-8E0C0DE0775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050092-96C9-47CC-8437-2844C96E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FBBDC2-30A8-4695-A6DD-90F55C57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5FDB68-807E-4CEA-A2D5-1DE866B7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B4320A-7B8E-4CA4-9CD7-50290105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D4BAF1-9B53-4503-AFCF-56B0587D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D45D00-92CB-4BCA-A22F-18B7A738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9D3C10-1C9B-4A3A-9EB5-5ECCD0CC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AC3343-3566-44A0-AE82-CF2A2E2B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EB5652-3F37-4B29-9942-2360CE68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615029-FF8D-494C-999B-D05AB62D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AEDC4-5E20-4004-847C-E33712F45D8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34C00C-4AB7-4A8D-AD21-0CCA03C7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D8A6E4-0257-473C-9EA3-1FBBE70E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82D26E-6E0E-4C36-BFE3-FB3C47F6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A7F5F6-14C5-4254-BA92-DD68B20D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8827AF-C993-438C-8222-E2D87507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9AECFE-2836-4907-8C35-79357BD1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F1CFF9-BBEA-495B-865C-FD976A68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50D53B-255C-4C44-A11F-D311298B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51A259-6243-4E08-B10F-986D9D6D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6F3AB0-DADA-4A05-90A2-B1A3E780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38C15-AAF8-48F3-B8A2-9579EAF22BD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8EC3AF-184D-47B2-87F1-FAF8ECA0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5B36C0-D245-4F43-8F7A-DA2E3A1E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8A4C91-4974-410E-9811-77699985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5DE2C0-9244-4956-95F4-8F1C3CC4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665466-72CD-4C9F-9A91-65E63F41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39A98A-F8BB-46AC-A9ED-9D612AE1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13BCFE-A108-4318-A2CD-4790BBCC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C8510B-2BDB-428E-B990-1E9D2ABC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627DBA-580A-475C-A9D0-7563E1C8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5D6DB5-563B-421F-A3A4-F6D517B5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1A291-B432-4D95-B2EE-B6BAE442171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939D9D-2460-4888-84E9-98412A76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BA031B-A4A6-4AF1-A512-4430EF0C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2A2B62-14C1-4165-BFBE-ACB55DEC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754B36-8F7D-45BF-8828-7EC5CAAA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AA0331-6F70-4DC6-B234-99EBF579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86B360-DA95-46DD-8DCC-03F6AC74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062E18-B08A-41EC-A9ED-1E9F3F9E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854D4B-3BB7-4E8E-992C-ABAD39E2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CD2573-6FA2-423D-96D5-18C28139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C2AE07-A257-4914-90CD-2E7E11F0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673A2-57D0-47D5-B75C-7A4683B661A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301219-03FD-4AF7-9634-9D475016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FA9324-CC92-46AA-B4CE-23CB7034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124BD1-8712-47E7-86FF-1D347F87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2E0859-9228-48CC-B12A-30BB351A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B279F3-83EE-4B34-A8DB-91C2D4E8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AEE9CF-0AAC-4C92-9E19-F83E66F2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4A4A2C-4158-43AB-979D-0954A1D7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66137D-E349-414F-BF76-4D7A70A9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E80016-93B6-4355-A2BB-8E911977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3F502F-4C5B-45B7-AA2A-5497C0BC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9A6F3-265F-4C47-9803-D54CA5DA65E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61CE85-4AE9-47EB-9DF6-8E9400D1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39C24D-C76C-46BD-BC34-F47F332E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49EDE1-53C1-4AFE-8965-3DF08BC9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39B21A-6DB9-4B14-BDFD-D2537A2A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44BDEC-DE87-4423-B364-22BE4A3A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482882-8B4D-4DA2-8E3F-DE18F5B3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504BDB-35D0-4F1B-B06E-C669B4F8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00E8AF-2D0D-46EC-BB99-103DEA9A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8B8E7F-5A2D-4952-83BB-81E76982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51725A-6452-4315-8913-80A54EBF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35BB-544F-484C-97C0-E81C70B534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7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B6A4-557F-4590-BDC1-911C2FE01C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0003-D935-47F8-8557-C674B51F9CDD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07E7-36BB-4E08-8E7E-E96E65F999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F00B-78B4-4FEC-BBAC-7D37952AFEAA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4807-A246-4CDA-96F5-09EE1D5A2E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679B-C76C-4E9C-8136-0E6CA8FE058A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21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7BCE-CD15-455D-B04B-966F6E383B73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E3FA-DAF0-4DCE-A899-A7B43F7CD4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A185-AF60-4C7A-8089-5A0AD47F45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6B91-9486-41A1-9F68-F871ECCA7623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2C35-B7DB-42A5-97C3-0D242098DC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64A2-CFDC-445C-9E4A-3B2BA91DCE6F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60ED-E4BD-4C0B-9062-81229CB2AB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4093-971E-41D8-9B3D-37AF34E546D6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E68F-9951-43CF-8F26-4E810FEF6F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C968-23C5-4C83-B7AE-6AD9BE2EEEAA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7632-2DE1-4ECF-9192-46517F7F82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9CE1-17B5-4892-A41E-14AB61AD813D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D011-4437-46FC-BC9F-CAD5EBE3A3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86CF-0593-400C-9862-3B6B8CA95342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2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0AB4-C864-45DE-9287-367B31A1BC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C182-DF0E-4D51-9826-8CB702107C8C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8BC5-5D69-44FE-AEF9-8326AA5146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мер контрольного списка для инструкта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Document"/>
          <p:cNvSpPr/>
          <p:nvPr/>
        </p:nvSpPr>
        <p:spPr>
          <a:xfrm>
            <a:off x="1371600" y="1447920"/>
            <a:ext cx="6553080" cy="51051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курсия по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ить нового сотрудника руковод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комление с оснащением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равила в отношении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управления качеством в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остная инстр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4"/>
          <p:cNvSpPr/>
          <p:nvPr/>
        </p:nvSpPr>
        <p:spPr>
          <a:xfrm>
            <a:off x="1523880" y="1523880"/>
            <a:ext cx="63248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НАЧА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НОСТ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8FA4-CBCA-4C43-90FD-236474F208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838080" y="1419120"/>
            <a:ext cx="792504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Аттестация работы сотрудника может выявить больше возможностей для улучш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для самой лаборатор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чем для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6" descr="MCj04260720000[1]"/>
          <p:cNvPicPr/>
          <p:nvPr/>
        </p:nvPicPr>
        <p:blipFill>
          <a:blip r:embed="rId1"/>
          <a:stretch/>
        </p:blipFill>
        <p:spPr>
          <a:xfrm>
            <a:off x="512640" y="533520"/>
            <a:ext cx="1239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0B63-4A69-4268-B830-39DF6C836E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4136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Квалификация и </a:t>
            </a:r>
            <a:br>
              <a:rPr sz="3400"/>
            </a:b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должностные инструк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609480" y="136044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лаборатории должно имет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всех сотрудников должностные инструкции, которые описывают квалификацию и обязанност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Verdana"/>
              </a:rPr>
              <a:t>ИСО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15189: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09480" y="3276720"/>
            <a:ext cx="381024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дипломы и сертифи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пройденно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й опыт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4724280" y="3276720"/>
            <a:ext cx="41148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распределение полномо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ответственность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бяза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иерархия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609480" y="2438280"/>
            <a:ext cx="38102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валифик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9"/>
          <p:cNvSpPr/>
          <p:nvPr/>
        </p:nvSpPr>
        <p:spPr>
          <a:xfrm>
            <a:off x="4724280" y="2438280"/>
            <a:ext cx="411480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Должностная инстру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417C-B281-4E36-B643-6C9EC2E75E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верх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457200" y="1905120"/>
          <a:ext cx="8271000" cy="4297320"/>
        </p:xfrm>
        <a:graphic>
          <a:graphicData uri="http://schemas.openxmlformats.org/drawingml/2006/table">
            <a:tbl>
              <a:tblPr/>
              <a:tblGrid>
                <a:gridCol w="3276720"/>
                <a:gridCol w="838080"/>
                <a:gridCol w="117360"/>
                <a:gridCol w="990720"/>
                <a:gridCol w="533520"/>
                <a:gridCol w="2514600"/>
              </a:tblGrid>
              <a:tr h="361800"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ность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ая процед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ь процед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тение руководства по выполнению процед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 в журнале регистрации прочтения руко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ющееся обору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куратное место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готовление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евремен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C49A-E65A-45BC-810B-EA8A2289D9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457200" y="1752480"/>
          <a:ext cx="8229600" cy="443412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152280"/>
                <a:gridCol w="533520"/>
                <a:gridCol w="29718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рная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808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уется повторное обучение для восполнения пробело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752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уемые действ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ную оценку провести чере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_____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4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20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ый сотруд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ниж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D35B-C124-4173-824E-A23151679F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Оценка компетен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304920" y="1371600"/>
            <a:ext cx="8610480" cy="502920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304920" y="1371600"/>
          <a:ext cx="8610480" cy="4511520"/>
        </p:xfrm>
        <a:graphic>
          <a:graphicData uri="http://schemas.openxmlformats.org/drawingml/2006/table">
            <a:tbl>
              <a:tblPr/>
              <a:tblGrid>
                <a:gridCol w="1143000"/>
                <a:gridCol w="838080"/>
                <a:gridCol w="1447920"/>
                <a:gridCol w="1143000"/>
                <a:gridCol w="1218960"/>
                <a:gridCol w="281952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регистрации оценок компетен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ая больниц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оратория микробиолог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руд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тес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аска по Гра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ски были расположены слишком близко; повторить оценку через 14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флаконов для культивирования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ифугирова-ние кле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автокл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ошибки при вводе данных. Прочитать руководство и повторить оценку через 10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A512-908F-4B9A-BF7D-191A385A1E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380880" y="1447920"/>
            <a:ext cx="4114800" cy="45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руководств по выполнению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обновленных руково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учение, предоставляемое производителями оборудова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457200" y="685800"/>
            <a:ext cx="403848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1"/>
          <p:cNvSpPr/>
          <p:nvPr/>
        </p:nvSpPr>
        <p:spPr>
          <a:xfrm>
            <a:off x="4572000" y="1752480"/>
            <a:ext cx="4267080" cy="45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фер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мин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ьный кл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ы и литератур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>
            <a:off x="4648320" y="609480"/>
            <a:ext cx="4267080" cy="9471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должение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17" descr="MCBD06810_0000[1]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8" descr="MCBS00263_0000[1]"/>
          <p:cNvPicPr/>
          <p:nvPr/>
        </p:nvPicPr>
        <p:blipFill>
          <a:blip r:embed="rId2"/>
          <a:stretch/>
        </p:blipFill>
        <p:spPr>
          <a:xfrm>
            <a:off x="285264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664" name="WordArt 20"/>
          <p:cNvSpPr txBox="1"/>
          <p:nvPr/>
        </p:nvSpPr>
        <p:spPr>
          <a:xfrm>
            <a:off x="300996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Руководство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C31F-DE41-4FC8-967E-1A455E710D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AF17-7A58-4C38-AC9B-4C400740379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Verdana"/>
              </a:rPr>
              <a:t>Ресурсы для обуч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5"/>
          <p:cNvSpPr/>
          <p:nvPr/>
        </p:nvSpPr>
        <p:spPr>
          <a:xfrm>
            <a:off x="457200" y="1295280"/>
            <a:ext cx="41148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бственные ка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итет по обеспечению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ицинские сест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томорф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трудники подразделения контроля инфе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пидеми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4800600" y="1295280"/>
            <a:ext cx="41148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ксперты-инспекто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зв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учные обществ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мирная организация здравоо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ы по контролю и профилактике заболеваний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и, разрабатывающие станда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7" descr="MPj04010010000[1]"/>
          <p:cNvPicPr/>
          <p:nvPr/>
        </p:nvPicPr>
        <p:blipFill>
          <a:blip r:embed="rId1"/>
          <a:stretch/>
        </p:blipFill>
        <p:spPr>
          <a:xfrm>
            <a:off x="2438280" y="4341960"/>
            <a:ext cx="199404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E931-7172-4150-B4AD-F1DEAFA330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609480" y="1295280"/>
            <a:ext cx="6858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здоровье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личные вопросы, отвлекающие от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допо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верная или неполная 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E045-B96A-4E7D-849D-056BA28529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457200" y="1143000"/>
            <a:ext cx="762012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истем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отвлечения на рабочем 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чрезмерная рабочая нагру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лохой инструк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достаточное 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 проводится оценка компет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ложные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ОП отсутствует или устар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однозначная С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2:32:39Z</dcterms:modified>
  <cp:revision>232</cp:revision>
  <dc:subject/>
  <dc:title>Slide 1</dc:title>
</cp:coreProperties>
</file>