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wmf" ContentType="image/x-wmf"/>
  <Override PartName="/ppt/media/image19.wmf" ContentType="image/x-wmf"/>
  <Override PartName="/ppt/media/image4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2.wmf" ContentType="image/x-wmf"/>
  <Override PartName="/ppt/media/image8.jpeg" ContentType="image/jpeg"/>
  <Override PartName="/ppt/media/image7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31.png" ContentType="image/png"/>
  <Override PartName="/ppt/media/image14.wmf" ContentType="image/x-wmf"/>
  <Override PartName="/ppt/media/image29.png" ContentType="image/png"/>
  <Override PartName="/ppt/media/image25.jpeg" ContentType="image/jpeg"/>
  <Override PartName="/ppt/media/image32.png" ContentType="image/png"/>
  <Override PartName="/ppt/media/image22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.jpeg" ContentType="image/jpeg"/>
  <Override PartName="/ppt/media/image10.png" ContentType="image/png"/>
  <Override PartName="/ppt/media/image15.jpeg" ContentType="image/jpe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CC89-EA55-4CD8-8467-A5CA3930A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C69C-36EF-4B7E-A474-C76F5C04F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9E63-DFE0-488F-8938-2118FDB7A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5E0F-BFC2-41F0-8B43-A77C0DB9C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BE19-E07A-4A8E-9D11-2C12DA45F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544B003-72D0-4559-8A63-87ACCA2E3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E93B-1858-4142-BE34-32A4D938E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8F88-5C82-4B5D-913A-F1A22C780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A45F-F808-45AD-895E-6F20A6F61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08C1-8E5F-4D5A-8E07-FFE7C3D51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33F4-551C-499B-BED9-813F3AF8D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D330-996C-48D3-A6AB-920FFA104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01ED75E-4127-4F89-BEA1-DA2366906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D1FA-5138-453D-9A31-4BA7912BD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036C-8F3F-4AE8-A60F-57B2E8ACB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4A2E-4AFE-4A2C-85C4-B0DFAE0D3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9E6AD-C0E0-403C-B7FA-EFFC7BD23B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46710-F9D6-4DFD-8295-A49E19F9C6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E869A-889D-454B-935D-39B7A4DC7D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CC940-2FF6-4F9B-8EBD-DFFD5A1FB4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548E7-0873-41E5-A46E-2055CA75C1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301B3-B92B-4919-B863-B954FF07AE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446BE-ABCE-4E38-9C4B-D6FC30659D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EFF5D-6FFC-45B6-8E97-EEDA695E5F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EC11B-B3C0-4FA5-8D8F-916FF02CDA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7CEEB-7FAD-441A-A944-4335A6B07C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6211F-C799-4777-80D8-F9BC07EB46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3663D-5BE0-4532-89B1-0324F88936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082C-9A69-4D4F-871C-27DB157AC9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jpeg"/><Relationship Id="rId3" Type="http://schemas.openxmlformats.org/officeDocument/2006/relationships/image" Target="../media/image17.jpe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0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5457-9AA4-44EE-B72E-758FAECC00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1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4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Text Box 258"/>
          <p:cNvSpPr/>
          <p:nvPr/>
        </p:nvSpPr>
        <p:spPr>
          <a:xfrm>
            <a:off x="2590920" y="244008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Внешняя оценка ка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7" descr="CLSI_WHO_Blue_CMYK1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2120" y="1338120"/>
            <a:ext cx="777240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казатель работы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6" descr="MCj03963300000[1]"/>
          <p:cNvPicPr/>
          <p:nvPr/>
        </p:nvPicPr>
        <p:blipFill>
          <a:blip r:embed="rId1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MCj03980190000[1]"/>
          <p:cNvPicPr/>
          <p:nvPr/>
        </p:nvPicPr>
        <p:blipFill>
          <a:blip r:embed="rId2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  <p:sp>
        <p:nvSpPr>
          <p:cNvPr id="242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E43B-D51C-4E25-AD2D-EFA50BA016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8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7" descr=""/>
          <p:cNvPicPr/>
          <p:nvPr/>
        </p:nvPicPr>
        <p:blipFill>
          <a:blip r:embed="rId3"/>
          <a:stretch/>
        </p:blipFill>
        <p:spPr>
          <a:xfrm>
            <a:off x="914400" y="2971800"/>
            <a:ext cx="3027240" cy="2952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MCj04291710000[1]"/>
          <p:cNvPicPr/>
          <p:nvPr/>
        </p:nvPicPr>
        <p:blipFill>
          <a:blip r:embed="rId4"/>
          <a:stretch/>
        </p:blipFill>
        <p:spPr>
          <a:xfrm>
            <a:off x="1371600" y="3298680"/>
            <a:ext cx="2362320" cy="21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304920" y="2057400"/>
            <a:ext cx="8534160" cy="37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уководство ИС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Э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43-1:1997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Программы проверки компетентности – это межлабораторные сравнения, которые проводятся регулярно для оценки работы аналитических лабораторий и компетенции сотрудников»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457200" y="411120"/>
            <a:ext cx="8839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и компетентности (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06B3-89C2-46F3-9A2E-2CD52BF424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0880" y="1865160"/>
            <a:ext cx="8610840" cy="42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-A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Программа, в которой набор проб периодически рассылается членам группы лабораторий для анализа и/или идентификации; результаты каждой лаборатории сравниваются с результатами других лабораторий группы и/или с заданными величинами, и отчет рассылается участвующим лаборатория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CD52-A80E-4E23-93A1-26954E158B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5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457200" y="411120"/>
            <a:ext cx="8839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и компетентности (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8AC7-59E7-4E70-8C10-4B50A6398A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533520" y="2057400"/>
            <a:ext cx="373356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4648320" y="12952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33520" y="1219320"/>
            <a:ext cx="373356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едомство ПК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/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ргани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4648320" y="7621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6"/>
          <p:cNvGrpSpPr/>
          <p:nvPr/>
        </p:nvGrpSpPr>
        <p:grpSpPr>
          <a:xfrm>
            <a:off x="1112040" y="2247480"/>
            <a:ext cx="540360" cy="843120"/>
            <a:chOff x="1112040" y="2247480"/>
            <a:chExt cx="540360" cy="843120"/>
          </a:xfrm>
        </p:grpSpPr>
        <p:sp>
          <p:nvSpPr>
            <p:cNvPr id="261" name="AutoShape 7"/>
            <p:cNvSpPr/>
            <p:nvPr/>
          </p:nvSpPr>
          <p:spPr>
            <a:xfrm rot="6744600">
              <a:off x="1036080" y="2639880"/>
              <a:ext cx="60984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8"/>
            <p:cNvSpPr/>
            <p:nvPr/>
          </p:nvSpPr>
          <p:spPr>
            <a:xfrm rot="1359000">
              <a:off x="1393560" y="2286000"/>
              <a:ext cx="234720" cy="17136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9"/>
          <p:cNvSpPr/>
          <p:nvPr/>
        </p:nvSpPr>
        <p:spPr>
          <a:xfrm flipV="1">
            <a:off x="1600560" y="2184120"/>
            <a:ext cx="4418640" cy="5727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0"/>
          <p:cNvSpPr/>
          <p:nvPr/>
        </p:nvSpPr>
        <p:spPr>
          <a:xfrm>
            <a:off x="7467480" y="23623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6705720" y="1905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12"/>
          <p:cNvGrpSpPr/>
          <p:nvPr/>
        </p:nvGrpSpPr>
        <p:grpSpPr>
          <a:xfrm>
            <a:off x="5943600" y="3191040"/>
            <a:ext cx="609120" cy="838080"/>
            <a:chOff x="5943600" y="3191040"/>
            <a:chExt cx="609120" cy="838080"/>
          </a:xfrm>
        </p:grpSpPr>
        <p:sp>
          <p:nvSpPr>
            <p:cNvPr id="267" name="Rectangle 13"/>
            <p:cNvSpPr/>
            <p:nvPr/>
          </p:nvSpPr>
          <p:spPr>
            <a:xfrm>
              <a:off x="5943600" y="319104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>
              <a:off x="6048720" y="33433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>
              <a:off x="6059520" y="352764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>
              <a:off x="6059520" y="372744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7"/>
            <p:cNvSpPr/>
            <p:nvPr/>
          </p:nvSpPr>
          <p:spPr>
            <a:xfrm>
              <a:off x="6052320" y="388944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Line 18"/>
          <p:cNvSpPr/>
          <p:nvPr/>
        </p:nvSpPr>
        <p:spPr>
          <a:xfrm flipH="1" flipV="1">
            <a:off x="1371240" y="3885840"/>
            <a:ext cx="4419720" cy="46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9"/>
          <p:cNvGrpSpPr/>
          <p:nvPr/>
        </p:nvGrpSpPr>
        <p:grpSpPr>
          <a:xfrm>
            <a:off x="6400800" y="4191120"/>
            <a:ext cx="609120" cy="838080"/>
            <a:chOff x="6400800" y="4191120"/>
            <a:chExt cx="609120" cy="838080"/>
          </a:xfrm>
        </p:grpSpPr>
        <p:sp>
          <p:nvSpPr>
            <p:cNvPr id="274" name="Rectangle 20"/>
            <p:cNvSpPr/>
            <p:nvPr/>
          </p:nvSpPr>
          <p:spPr>
            <a:xfrm>
              <a:off x="6400800" y="41911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21"/>
            <p:cNvSpPr/>
            <p:nvPr/>
          </p:nvSpPr>
          <p:spPr>
            <a:xfrm>
              <a:off x="6505920" y="43434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22"/>
            <p:cNvSpPr/>
            <p:nvPr/>
          </p:nvSpPr>
          <p:spPr>
            <a:xfrm>
              <a:off x="6516720" y="45277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23"/>
            <p:cNvSpPr/>
            <p:nvPr/>
          </p:nvSpPr>
          <p:spPr>
            <a:xfrm>
              <a:off x="6516720" y="47275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24"/>
            <p:cNvSpPr/>
            <p:nvPr/>
          </p:nvSpPr>
          <p:spPr>
            <a:xfrm>
              <a:off x="6509520" y="48895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25"/>
          <p:cNvSpPr/>
          <p:nvPr/>
        </p:nvSpPr>
        <p:spPr>
          <a:xfrm>
            <a:off x="1295280" y="4114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7"/>
          <p:cNvGrpSpPr/>
          <p:nvPr/>
        </p:nvGrpSpPr>
        <p:grpSpPr>
          <a:xfrm>
            <a:off x="685800" y="3657600"/>
            <a:ext cx="609120" cy="838080"/>
            <a:chOff x="685800" y="3657600"/>
            <a:chExt cx="609120" cy="838080"/>
          </a:xfrm>
        </p:grpSpPr>
        <p:sp>
          <p:nvSpPr>
            <p:cNvPr id="281" name="Rectangle 28"/>
            <p:cNvSpPr/>
            <p:nvPr/>
          </p:nvSpPr>
          <p:spPr>
            <a:xfrm>
              <a:off x="685800" y="365760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9"/>
            <p:cNvSpPr/>
            <p:nvPr/>
          </p:nvSpPr>
          <p:spPr>
            <a:xfrm>
              <a:off x="790920" y="380988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30"/>
            <p:cNvSpPr/>
            <p:nvPr/>
          </p:nvSpPr>
          <p:spPr>
            <a:xfrm>
              <a:off x="801720" y="399420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31"/>
            <p:cNvSpPr/>
            <p:nvPr/>
          </p:nvSpPr>
          <p:spPr>
            <a:xfrm>
              <a:off x="801720" y="4194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32"/>
            <p:cNvSpPr/>
            <p:nvPr/>
          </p:nvSpPr>
          <p:spPr>
            <a:xfrm>
              <a:off x="794520" y="435600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33"/>
          <p:cNvSpPr/>
          <p:nvPr/>
        </p:nvSpPr>
        <p:spPr>
          <a:xfrm>
            <a:off x="6094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54f3"/>
                </a:solidFill>
                <a:latin typeface="Verdana"/>
              </a:rPr>
              <a:t>Отчет о результатах 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4"/>
          <p:cNvSpPr/>
          <p:nvPr/>
        </p:nvSpPr>
        <p:spPr>
          <a:xfrm>
            <a:off x="6858000" y="5029200"/>
            <a:ext cx="0" cy="449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6"/>
          <p:cNvGrpSpPr/>
          <p:nvPr/>
        </p:nvGrpSpPr>
        <p:grpSpPr>
          <a:xfrm>
            <a:off x="5913000" y="1866600"/>
            <a:ext cx="539640" cy="842400"/>
            <a:chOff x="5913000" y="1866600"/>
            <a:chExt cx="539640" cy="842400"/>
          </a:xfrm>
        </p:grpSpPr>
        <p:sp>
          <p:nvSpPr>
            <p:cNvPr id="289" name="AutoShape 37"/>
            <p:cNvSpPr/>
            <p:nvPr/>
          </p:nvSpPr>
          <p:spPr>
            <a:xfrm rot="6744600">
              <a:off x="5837040" y="22586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38"/>
            <p:cNvSpPr/>
            <p:nvPr/>
          </p:nvSpPr>
          <p:spPr>
            <a:xfrm rot="1359000">
              <a:off x="6193800" y="19051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39"/>
          <p:cNvSpPr/>
          <p:nvPr/>
        </p:nvSpPr>
        <p:spPr>
          <a:xfrm>
            <a:off x="6523200" y="3276720"/>
            <a:ext cx="2315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Verdana"/>
              </a:rPr>
              <a:t>Отсылают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цесс П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1"/>
          <p:cNvSpPr/>
          <p:nvPr/>
        </p:nvSpPr>
        <p:spPr>
          <a:xfrm>
            <a:off x="1676520" y="2754360"/>
            <a:ext cx="2590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1eba"/>
                </a:solidFill>
                <a:latin typeface="Verdana"/>
              </a:rPr>
              <a:t>ПК пробы рассылаются регуля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2"/>
          <p:cNvSpPr/>
          <p:nvPr/>
        </p:nvSpPr>
        <p:spPr>
          <a:xfrm>
            <a:off x="7010280" y="4419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чет ПК полу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43"/>
          <p:cNvGrpSpPr/>
          <p:nvPr/>
        </p:nvGrpSpPr>
        <p:grpSpPr>
          <a:xfrm>
            <a:off x="3352680" y="4572000"/>
            <a:ext cx="609480" cy="838080"/>
            <a:chOff x="3352680" y="4572000"/>
            <a:chExt cx="609480" cy="838080"/>
          </a:xfrm>
        </p:grpSpPr>
        <p:sp>
          <p:nvSpPr>
            <p:cNvPr id="296" name="Rectangle 44"/>
            <p:cNvSpPr/>
            <p:nvPr/>
          </p:nvSpPr>
          <p:spPr>
            <a:xfrm>
              <a:off x="3352680" y="4572000"/>
              <a:ext cx="60948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45"/>
            <p:cNvSpPr/>
            <p:nvPr/>
          </p:nvSpPr>
          <p:spPr>
            <a:xfrm>
              <a:off x="3457800" y="472428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46"/>
            <p:cNvSpPr/>
            <p:nvPr/>
          </p:nvSpPr>
          <p:spPr>
            <a:xfrm>
              <a:off x="3468600" y="490860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47"/>
            <p:cNvSpPr/>
            <p:nvPr/>
          </p:nvSpPr>
          <p:spPr>
            <a:xfrm>
              <a:off x="3468600" y="51084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48"/>
            <p:cNvSpPr/>
            <p:nvPr/>
          </p:nvSpPr>
          <p:spPr>
            <a:xfrm>
              <a:off x="3461400" y="52704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Line 49"/>
          <p:cNvSpPr/>
          <p:nvPr/>
        </p:nvSpPr>
        <p:spPr>
          <a:xfrm>
            <a:off x="1143000" y="4572000"/>
            <a:ext cx="60948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 flipV="1">
            <a:off x="4093200" y="4800960"/>
            <a:ext cx="2217960" cy="2271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6"/>
          <p:cNvSpPr/>
          <p:nvPr/>
        </p:nvSpPr>
        <p:spPr>
          <a:xfrm>
            <a:off x="4876920" y="541008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Verdana"/>
              </a:rPr>
              <a:t>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ocument"/>
          <p:cNvSpPr/>
          <p:nvPr/>
        </p:nvSpPr>
        <p:spPr>
          <a:xfrm>
            <a:off x="4572000" y="4419720"/>
            <a:ext cx="1523880" cy="1828800"/>
          </a:xfrm>
          <a:custGeom>
            <a:avLst/>
            <a:gdLst>
              <a:gd name="textAreaLeft" fmla="*/ 68760 w 1523880"/>
              <a:gd name="textAreaRight" fmla="*/ 1455120 w 1523880"/>
              <a:gd name="textAreaTop" fmla="*/ 69120 h 1828800"/>
              <a:gd name="textAreaBottom" fmla="*/ 1391040 h 182880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2089-47E2-4876-A615-A1131D1160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10"/>
          <p:cNvGrpSpPr/>
          <p:nvPr/>
        </p:nvGrpSpPr>
        <p:grpSpPr>
          <a:xfrm>
            <a:off x="838080" y="1219320"/>
            <a:ext cx="2438640" cy="1981080"/>
            <a:chOff x="838080" y="1219320"/>
            <a:chExt cx="2438640" cy="1981080"/>
          </a:xfrm>
        </p:grpSpPr>
        <p:pic>
          <p:nvPicPr>
            <p:cNvPr id="308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1219320"/>
              <a:ext cx="243540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9" name="Group 9"/>
            <p:cNvGrpSpPr/>
            <p:nvPr/>
          </p:nvGrpSpPr>
          <p:grpSpPr>
            <a:xfrm>
              <a:off x="838080" y="1219320"/>
              <a:ext cx="2438640" cy="1981080"/>
              <a:chOff x="838080" y="1219320"/>
              <a:chExt cx="2438640" cy="1981080"/>
            </a:xfrm>
          </p:grpSpPr>
          <p:sp>
            <p:nvSpPr>
              <p:cNvPr id="310" name="Line 5"/>
              <p:cNvSpPr/>
              <p:nvPr/>
            </p:nvSpPr>
            <p:spPr>
              <a:xfrm>
                <a:off x="83808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6"/>
              <p:cNvSpPr/>
              <p:nvPr/>
            </p:nvSpPr>
            <p:spPr>
              <a:xfrm>
                <a:off x="838080" y="1219320"/>
                <a:ext cx="243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7"/>
              <p:cNvSpPr/>
              <p:nvPr/>
            </p:nvSpPr>
            <p:spPr>
              <a:xfrm>
                <a:off x="327672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8"/>
              <p:cNvSpPr/>
              <p:nvPr/>
            </p:nvSpPr>
            <p:spPr>
              <a:xfrm>
                <a:off x="838080" y="2845080"/>
                <a:ext cx="2438640" cy="355320"/>
              </a:xfrm>
              <a:custGeom>
                <a:avLst/>
                <a:gdLst>
                  <a:gd name="textAreaLeft" fmla="*/ 0 w 2438640"/>
                  <a:gd name="textAreaRight" fmla="*/ 2439000 w 2438640"/>
                  <a:gd name="textAreaTop" fmla="*/ 0 h 355320"/>
                  <a:gd name="textAreaBottom" fmla="*/ 355680 h 355320"/>
                </a:gdLst>
                <a:ahLst/>
                <a:rect l="textAreaLeft" t="textAreaTop" r="textAreaRight" b="textAreaBottom"/>
                <a:pathLst>
                  <a:path w="2352" h="336">
                    <a:moveTo>
                      <a:pt x="0" y="288"/>
                    </a:moveTo>
                    <a:cubicBezTo>
                      <a:pt x="404" y="312"/>
                      <a:pt x="808" y="336"/>
                      <a:pt x="1200" y="288"/>
                    </a:cubicBezTo>
                    <a:cubicBezTo>
                      <a:pt x="1592" y="240"/>
                      <a:pt x="2160" y="48"/>
                      <a:pt x="23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Rectangle 22"/>
          <p:cNvSpPr/>
          <p:nvPr/>
        </p:nvSpPr>
        <p:spPr>
          <a:xfrm>
            <a:off x="380880" y="3328920"/>
            <a:ext cx="190512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380880" y="3328920"/>
            <a:ext cx="190512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2527200" y="3348000"/>
            <a:ext cx="1892520" cy="173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2527200" y="3348000"/>
            <a:ext cx="189252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AutoShape 26"/>
          <p:cNvCxnSpPr>
            <a:stCxn id="314" idx="2"/>
            <a:endCxn id="316" idx="2"/>
          </p:cNvCxnSpPr>
          <p:nvPr/>
        </p:nvCxnSpPr>
        <p:spPr>
          <a:xfrm flipH="1" rot="16200000">
            <a:off x="2392920" y="4001040"/>
            <a:ext cx="21600" cy="2140560"/>
          </a:xfrm>
          <a:prstGeom prst="curvedConnector5">
            <a:avLst>
              <a:gd name="adj1" fmla="val 1206779"/>
              <a:gd name="adj2" fmla="val 49991"/>
              <a:gd name="adj3" fmla="val 1206779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9" name="Text Box 30"/>
          <p:cNvSpPr/>
          <p:nvPr/>
        </p:nvSpPr>
        <p:spPr>
          <a:xfrm>
            <a:off x="533520" y="556272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рещено обсуждение между лаборатор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9"/>
          <p:cNvSpPr/>
          <p:nvPr/>
        </p:nvSpPr>
        <p:spPr>
          <a:xfrm>
            <a:off x="380880" y="478800"/>
            <a:ext cx="60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К: Роль лаборато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3"/>
          <p:cNvSpPr/>
          <p:nvPr/>
        </p:nvSpPr>
        <p:spPr>
          <a:xfrm>
            <a:off x="4648320" y="472428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тчет ПК получ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84"/>
          <p:cNvGrpSpPr/>
          <p:nvPr/>
        </p:nvGrpSpPr>
        <p:grpSpPr>
          <a:xfrm>
            <a:off x="4800600" y="533520"/>
            <a:ext cx="4037760" cy="3139200"/>
            <a:chOff x="4800600" y="533520"/>
            <a:chExt cx="4037760" cy="3139200"/>
          </a:xfrm>
        </p:grpSpPr>
        <p:grpSp>
          <p:nvGrpSpPr>
            <p:cNvPr id="323" name="Group 85"/>
            <p:cNvGrpSpPr/>
            <p:nvPr/>
          </p:nvGrpSpPr>
          <p:grpSpPr>
            <a:xfrm>
              <a:off x="5313600" y="1246320"/>
              <a:ext cx="970560" cy="1455480"/>
              <a:chOff x="5313600" y="1246320"/>
              <a:chExt cx="970560" cy="1455480"/>
            </a:xfrm>
          </p:grpSpPr>
          <p:sp>
            <p:nvSpPr>
              <p:cNvPr id="324" name="AutoShape 86"/>
              <p:cNvSpPr/>
              <p:nvPr/>
            </p:nvSpPr>
            <p:spPr>
              <a:xfrm rot="6744600">
                <a:off x="519624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87"/>
              <p:cNvSpPr/>
              <p:nvPr/>
            </p:nvSpPr>
            <p:spPr>
              <a:xfrm rot="1359000">
                <a:off x="581508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88"/>
            <p:cNvGrpSpPr/>
            <p:nvPr/>
          </p:nvGrpSpPr>
          <p:grpSpPr>
            <a:xfrm>
              <a:off x="6706800" y="1246320"/>
              <a:ext cx="969480" cy="1455840"/>
              <a:chOff x="6706800" y="1246320"/>
              <a:chExt cx="969480" cy="1455840"/>
            </a:xfrm>
          </p:grpSpPr>
          <p:sp>
            <p:nvSpPr>
              <p:cNvPr id="327" name="AutoShape 89"/>
              <p:cNvSpPr/>
              <p:nvPr/>
            </p:nvSpPr>
            <p:spPr>
              <a:xfrm rot="6744600">
                <a:off x="658908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90"/>
              <p:cNvSpPr/>
              <p:nvPr/>
            </p:nvSpPr>
            <p:spPr>
              <a:xfrm rot="1359000">
                <a:off x="720720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Text Box 91"/>
            <p:cNvSpPr/>
            <p:nvPr/>
          </p:nvSpPr>
          <p:spPr>
            <a:xfrm>
              <a:off x="507888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92"/>
            <p:cNvSpPr/>
            <p:nvPr/>
          </p:nvSpPr>
          <p:spPr>
            <a:xfrm>
              <a:off x="689184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93"/>
            <p:cNvSpPr/>
            <p:nvPr/>
          </p:nvSpPr>
          <p:spPr>
            <a:xfrm rot="16200000">
              <a:off x="606636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94"/>
            <p:cNvSpPr/>
            <p:nvPr/>
          </p:nvSpPr>
          <p:spPr>
            <a:xfrm>
              <a:off x="480060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95"/>
          <p:cNvSpPr/>
          <p:nvPr/>
        </p:nvSpPr>
        <p:spPr>
          <a:xfrm>
            <a:off x="990720" y="19051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О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4"/>
          <p:cNvSpPr/>
          <p:nvPr/>
        </p:nvSpPr>
        <p:spPr>
          <a:xfrm>
            <a:off x="4800600" y="36576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инаковый анализ теми же сотруд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6"/>
          <p:cNvSpPr/>
          <p:nvPr/>
        </p:nvSpPr>
        <p:spPr>
          <a:xfrm>
            <a:off x="632448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луч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8"/>
          <p:cNvSpPr/>
          <p:nvPr/>
        </p:nvSpPr>
        <p:spPr>
          <a:xfrm>
            <a:off x="5867280" y="533412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9"/>
          <p:cNvSpPr/>
          <p:nvPr/>
        </p:nvSpPr>
        <p:spPr>
          <a:xfrm>
            <a:off x="480060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К про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0"/>
          <p:cNvSpPr/>
          <p:nvPr/>
        </p:nvSpPr>
        <p:spPr>
          <a:xfrm>
            <a:off x="655308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ба от паци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2" descr="MCj04238220000[1]"/>
          <p:cNvPicPr/>
          <p:nvPr/>
        </p:nvPicPr>
        <p:blipFill>
          <a:blip r:embed="rId4"/>
          <a:stretch/>
        </p:blipFill>
        <p:spPr>
          <a:xfrm>
            <a:off x="2895480" y="3710160"/>
            <a:ext cx="1314720" cy="13492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3" descr="MCj04238320000[1]"/>
          <p:cNvPicPr/>
          <p:nvPr/>
        </p:nvPicPr>
        <p:blipFill>
          <a:blip r:embed="rId5"/>
          <a:stretch/>
        </p:blipFill>
        <p:spPr>
          <a:xfrm>
            <a:off x="609480" y="3710160"/>
            <a:ext cx="15242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341" name="Group 29"/>
          <p:cNvGrpSpPr/>
          <p:nvPr/>
        </p:nvGrpSpPr>
        <p:grpSpPr>
          <a:xfrm>
            <a:off x="1979640" y="5100480"/>
            <a:ext cx="588960" cy="462240"/>
            <a:chOff x="1979640" y="5100480"/>
            <a:chExt cx="588960" cy="462240"/>
          </a:xfrm>
        </p:grpSpPr>
        <p:sp>
          <p:nvSpPr>
            <p:cNvPr id="342" name="Line 27"/>
            <p:cNvSpPr/>
            <p:nvPr/>
          </p:nvSpPr>
          <p:spPr>
            <a:xfrm>
              <a:off x="1979640" y="5100480"/>
              <a:ext cx="588960" cy="462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8"/>
            <p:cNvSpPr/>
            <p:nvPr/>
          </p:nvSpPr>
          <p:spPr>
            <a:xfrm flipH="1">
              <a:off x="2038320" y="5158080"/>
              <a:ext cx="529920" cy="404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304920" y="752400"/>
            <a:ext cx="8534160" cy="4826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Ценность информации, полученной в ПК, реализуется лишь тогда, когда она используется для улучшения лабора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3" descr="MCj03962260000[1]"/>
          <p:cNvPicPr/>
          <p:nvPr/>
        </p:nvPicPr>
        <p:blipFill>
          <a:blip r:embed="rId1"/>
          <a:stretch/>
        </p:blipFill>
        <p:spPr>
          <a:xfrm>
            <a:off x="6477120" y="3048120"/>
            <a:ext cx="2133360" cy="22096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4" descr="MCj04039790000[1]"/>
          <p:cNvPicPr/>
          <p:nvPr/>
        </p:nvPicPr>
        <p:blipFill>
          <a:blip r:embed="rId2"/>
          <a:stretch/>
        </p:blipFill>
        <p:spPr>
          <a:xfrm>
            <a:off x="3581280" y="3468600"/>
            <a:ext cx="3353040" cy="285588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6"/>
          <p:cNvSpPr/>
          <p:nvPr/>
        </p:nvSpPr>
        <p:spPr>
          <a:xfrm>
            <a:off x="4343400" y="4784760"/>
            <a:ext cx="168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26"/>
          <p:cNvSpPr/>
          <p:nvPr/>
        </p:nvSpPr>
        <p:spPr>
          <a:xfrm rot="19878000">
            <a:off x="6324480" y="4736880"/>
            <a:ext cx="1463760" cy="87300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218160 h 873000"/>
              <a:gd name="textAreaBottom" fmla="*/ 654840 h 87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8706-6381-4238-9D88-20510733FC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62120" y="1447920"/>
            <a:ext cx="807696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езультаты ПК могут влиять факторы, не имеющие отношение к пробам от паци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К не выявит все недостатки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К может не выявить недостатки в процедурах до и после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457200" y="44928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Ограничения П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F711-ED70-483A-B89C-7534863C1F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5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3059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ругие методы ВОК</a:t>
            </a: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ерепроверка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/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вторный анализ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C9AA-77F9-4D36-BBA6-C9E821CE97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61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3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64" name="Rectangle 8"/>
          <p:cNvSpPr/>
          <p:nvPr/>
        </p:nvSpPr>
        <p:spPr>
          <a:xfrm>
            <a:off x="5334120" y="1752480"/>
            <a:ext cx="32004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5334120" y="1752480"/>
            <a:ext cx="32004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ференс-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ная 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68" name="Text Box 12"/>
          <p:cNvSpPr/>
          <p:nvPr/>
        </p:nvSpPr>
        <p:spPr>
          <a:xfrm>
            <a:off x="5334120" y="29718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ере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70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73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76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379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1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382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383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5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86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387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390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393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396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8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вторное исследо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27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ется референс-лаборатор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ется на пробе высушенной крови или сыворотк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слепым метод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и значимо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ном, используют для оценки экспресс-тестов на ВИ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8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F210-E6CB-493D-BFDE-6C9C3DA99C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ooter Placeholder 9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55627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ерепроверка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4080"/>
            <a:ext cx="7925040" cy="30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бы отбираются методом случайной выбор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презентативная выборк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ая значи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ешение расхождений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ффективность обратной связ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ном, для КУ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9A0F-9689-421E-A4BA-0C16AF0194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86000" cy="20368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7" descr="_crop"/>
          <p:cNvPicPr/>
          <p:nvPr/>
        </p:nvPicPr>
        <p:blipFill>
          <a:blip r:embed="rId2"/>
          <a:stretch/>
        </p:blipFill>
        <p:spPr>
          <a:xfrm>
            <a:off x="6553080" y="3200400"/>
            <a:ext cx="1924200" cy="3008160"/>
          </a:xfrm>
          <a:prstGeom prst="rect">
            <a:avLst/>
          </a:prstGeom>
          <a:ln w="0">
            <a:noFill/>
          </a:ln>
        </p:spPr>
      </p:pic>
      <p:sp>
        <p:nvSpPr>
          <p:cNvPr id="414" name="AutoShape 26"/>
          <p:cNvSpPr/>
          <p:nvPr/>
        </p:nvSpPr>
        <p:spPr>
          <a:xfrm>
            <a:off x="5257800" y="4876920"/>
            <a:ext cx="1219320" cy="533160"/>
          </a:xfrm>
          <a:prstGeom prst="leftRightArrow">
            <a:avLst>
              <a:gd name="adj1" fmla="val 50000"/>
              <a:gd name="adj2" fmla="val 4552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17B5-0E80-40AE-BBD9-FFD0860A689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сказать о важности программы внешней оценки качества (ВОК) для повышения качества лабораторных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по крайней мере три метода ВОК, их преимущества и недостат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метить способ, как разобраться с неудовлетворительным результатом исследования пробы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D783-D75A-4F41-95F6-99A6CE10C2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6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520" y="431280"/>
            <a:ext cx="86108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Сравнение методов перепроверки мазков на кислотоустойчивые бактерии: в открытую и случайно отобранных вслепую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33520" y="1979640"/>
          <a:ext cx="8153280" cy="3659040"/>
        </p:xfrm>
        <a:graphic>
          <a:graphicData uri="http://schemas.openxmlformats.org/drawingml/2006/table">
            <a:tbl>
              <a:tblPr/>
              <a:tblGrid>
                <a:gridCol w="3429000"/>
                <a:gridCol w="2133360"/>
                <a:gridCol w="2590920"/>
              </a:tblGrid>
              <a:tr h="1311120">
                <a:tc>
                  <a:txBody>
                    <a:bodyPr lIns="90000" rIns="90000" anchor="ctr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енные характеристики анализ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открыту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учайные мазки, вслепу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58608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А – чувств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Б – чувств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А – специф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Б – специф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3A10-2530-4F58-874A-B36C4E3CCB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8"/>
          <p:cNvSpPr/>
          <p:nvPr/>
        </p:nvSpPr>
        <p:spPr>
          <a:xfrm>
            <a:off x="762120" y="60040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на месте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762120" y="1195560"/>
            <a:ext cx="792468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181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олучения реальной картины лабораторной прак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181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казания помощи с проблемными участка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7" descr="MPj01788160000[1]"/>
          <p:cNvPicPr/>
          <p:nvPr/>
        </p:nvPicPr>
        <p:blipFill>
          <a:blip r:embed="rId1"/>
          <a:stretch/>
        </p:blipFill>
        <p:spPr>
          <a:xfrm>
            <a:off x="228600" y="2862360"/>
            <a:ext cx="4648320" cy="308124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8"/>
          <p:cNvSpPr/>
          <p:nvPr/>
        </p:nvSpPr>
        <p:spPr>
          <a:xfrm>
            <a:off x="228600" y="5695920"/>
            <a:ext cx="464832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ешняя группа, организ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3" descr="PHIL_1282_lores"/>
          <p:cNvPicPr/>
          <p:nvPr/>
        </p:nvPicPr>
        <p:blipFill>
          <a:blip r:embed="rId2"/>
          <a:stretch/>
        </p:blipFill>
        <p:spPr>
          <a:xfrm>
            <a:off x="6629400" y="365760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14"/>
          <p:cNvSpPr/>
          <p:nvPr/>
        </p:nvSpPr>
        <p:spPr>
          <a:xfrm>
            <a:off x="6629400" y="5181480"/>
            <a:ext cx="220968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898E-5553-471B-81A2-A5B859EBE1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ooter Placeholder 1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0"/>
          <p:cNvSpPr/>
          <p:nvPr/>
        </p:nvSpPr>
        <p:spPr>
          <a:xfrm>
            <a:off x="4495680" y="3581280"/>
            <a:ext cx="2133720" cy="1524240"/>
          </a:xfrm>
          <a:prstGeom prst="rightArrow">
            <a:avLst>
              <a:gd name="adj1" fmla="val 50000"/>
              <a:gd name="adj2" fmla="val 37498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1"/>
          <p:cNvSpPr/>
          <p:nvPr/>
        </p:nvSpPr>
        <p:spPr>
          <a:xfrm>
            <a:off x="4495680" y="40384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ические визи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520560"/>
            <a:ext cx="86108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91000" indent="0">
              <a:lnSpc>
                <a:spcPct val="85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Микроскопия КУБ –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7d"/>
                </a:solidFill>
                <a:latin typeface="Verdana"/>
              </a:rPr>
              <a:t>Сравнение работы до и посл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ценки на местах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88B6-98DD-4406-9B54-FA3C13D0C1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409680" y="1650960"/>
          <a:ext cx="8324640" cy="4140360"/>
        </p:xfrm>
        <a:graphic>
          <a:graphicData uri="http://schemas.openxmlformats.org/drawingml/2006/table">
            <a:tbl>
              <a:tblPr/>
              <a:tblGrid>
                <a:gridCol w="6019560"/>
                <a:gridCol w="1152720"/>
                <a:gridCol w="1152360"/>
              </a:tblGrid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ведра с пес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 проводится деконтаминация чашек для мок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дезинфицирующих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контейнера для биоопасных отходов (с крышко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лабораторных хала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трудники не моют ру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хватка реаг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ый сбор мок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ое заполнение регистрационного жур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ая маркировка стекол или контейн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Text Box 51"/>
          <p:cNvSpPr/>
          <p:nvPr/>
        </p:nvSpPr>
        <p:spPr>
          <a:xfrm>
            <a:off x="533520" y="56833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2"/>
          <p:cNvSpPr/>
          <p:nvPr/>
        </p:nvSpPr>
        <p:spPr>
          <a:xfrm>
            <a:off x="6487200" y="1295280"/>
            <a:ext cx="87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О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3"/>
          <p:cNvSpPr/>
          <p:nvPr/>
        </p:nvSpPr>
        <p:spPr>
          <a:xfrm>
            <a:off x="7467480" y="1295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СЛЕ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а компетентности (ПК) и перепроверка (ПП)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380880" y="1754280"/>
          <a:ext cx="8305920" cy="3875040"/>
        </p:xfrm>
        <a:graphic>
          <a:graphicData uri="http://schemas.openxmlformats.org/drawingml/2006/table">
            <a:tbl>
              <a:tblPr/>
              <a:tblGrid>
                <a:gridCol w="3886200"/>
                <a:gridCol w="2133720"/>
                <a:gridCol w="2286000"/>
              </a:tblGrid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Характерист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жлабораторное срав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скусственные 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стоящ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/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ебуемые время и ресур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н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Бол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Проверка реаген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Мног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Нескольк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6822-8036-43E8-8464-511BDF6C0A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457200" y="64004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160" y="58428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Участие в ВОК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61760"/>
            <a:ext cx="441972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комендуется для всех лаборато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вляется требованием ИС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Slide Number Placeholder 1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86BB-5127-4963-A4EF-6FC353C0D5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ooter Placeholder 1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49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0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51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custGeom>
                <a:avLst/>
                <a:gdLst>
                  <a:gd name="textAreaLeft" fmla="*/ 0 w 3571920"/>
                  <a:gd name="textAreaRight" fmla="*/ 3572280 w 357192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2352" h="336">
                    <a:moveTo>
                      <a:pt x="0" y="288"/>
                    </a:moveTo>
                    <a:cubicBezTo>
                      <a:pt x="404" y="312"/>
                      <a:pt x="808" y="336"/>
                      <a:pt x="1200" y="288"/>
                    </a:cubicBezTo>
                    <a:cubicBezTo>
                      <a:pt x="1592" y="240"/>
                      <a:pt x="2160" y="48"/>
                      <a:pt x="23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Организация процесса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762760" cy="40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ение и анализ проб В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акое же обращение с пробами ВОК, как и с пробами пациентов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слеживание и поддержание запис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ледование несоответств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ация корректирующих действ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овещение о результат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228600" y="5425920"/>
            <a:ext cx="2514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В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5"/>
          <p:cNvSpPr/>
          <p:nvPr/>
        </p:nvSpPr>
        <p:spPr>
          <a:xfrm>
            <a:off x="3666960" y="5334120"/>
            <a:ext cx="5324760" cy="990360"/>
          </a:xfrm>
          <a:custGeom>
            <a:avLst/>
            <a:gdLst>
              <a:gd name="textAreaLeft" fmla="*/ 1330920 w 5324760"/>
              <a:gd name="textAreaRight" fmla="*/ 3993840 w 532476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Корректирующие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2AD9-1948-44D3-B8F0-9928F7A3B7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6"/>
          <p:cNvSpPr/>
          <p:nvPr/>
        </p:nvSpPr>
        <p:spPr>
          <a:xfrm rot="16200000">
            <a:off x="2857320" y="53715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88BB-6321-405F-B8E5-1A1862D86D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2"/>
          <p:cNvSpPr/>
          <p:nvPr/>
        </p:nvSpPr>
        <p:spPr>
          <a:xfrm rot="10800000">
            <a:off x="3200400" y="4723920"/>
            <a:ext cx="2666880" cy="838440"/>
          </a:xfrm>
          <a:custGeom>
            <a:avLst/>
            <a:gdLst>
              <a:gd name="textAreaLeft" fmla="*/ 416520 w 2666880"/>
              <a:gd name="textAreaRight" fmla="*/ 2333520 w 266688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3"/>
          <p:cNvSpPr/>
          <p:nvPr/>
        </p:nvSpPr>
        <p:spPr>
          <a:xfrm rot="5400000">
            <a:off x="693360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А 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6095880" y="13716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щение с проб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иод до исслед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6"/>
          <p:cNvSpPr/>
          <p:nvPr/>
        </p:nvSpPr>
        <p:spPr>
          <a:xfrm>
            <a:off x="838080" y="4952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ТОР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27"/>
          <p:cNvSpPr/>
          <p:nvPr/>
        </p:nvSpPr>
        <p:spPr>
          <a:xfrm flipH="1" rot="10800000">
            <a:off x="3351600" y="1143000"/>
            <a:ext cx="2667240" cy="838080"/>
          </a:xfrm>
          <a:custGeom>
            <a:avLst/>
            <a:gdLst>
              <a:gd name="textAreaLeft" fmla="*/ 416160 w 2667240"/>
              <a:gd name="textAreaRight" fmla="*/ 233352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"/>
          <p:cNvSpPr/>
          <p:nvPr/>
        </p:nvSpPr>
        <p:spPr>
          <a:xfrm>
            <a:off x="380880" y="525600"/>
            <a:ext cx="8382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блемы, выявленные В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23E6-14C2-4CFE-A4CB-8F39ED0037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"/>
          <p:cNvSpPr/>
          <p:nvPr/>
        </p:nvSpPr>
        <p:spPr>
          <a:xfrm>
            <a:off x="533520" y="1676520"/>
            <a:ext cx="190476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3"/>
          <p:cNvSpPr/>
          <p:nvPr/>
        </p:nvSpPr>
        <p:spPr>
          <a:xfrm rot="5400000">
            <a:off x="1028160" y="2857320"/>
            <a:ext cx="914400" cy="129564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5"/>
          <p:cNvSpPr/>
          <p:nvPr/>
        </p:nvSpPr>
        <p:spPr>
          <a:xfrm>
            <a:off x="380880" y="4191120"/>
            <a:ext cx="228600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недоста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6"/>
          <p:cNvSpPr/>
          <p:nvPr/>
        </p:nvSpPr>
        <p:spPr>
          <a:xfrm rot="20101800">
            <a:off x="2703240" y="3366720"/>
            <a:ext cx="2369880" cy="1295280"/>
          </a:xfrm>
          <a:custGeom>
            <a:avLst/>
            <a:gdLst>
              <a:gd name="textAreaLeft" fmla="*/ 370080 w 2369880"/>
              <a:gd name="textAreaRight" fmla="*/ 2073960 w 236988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7"/>
          <p:cNvSpPr/>
          <p:nvPr/>
        </p:nvSpPr>
        <p:spPr>
          <a:xfrm>
            <a:off x="4876920" y="1371600"/>
            <a:ext cx="3962160" cy="3581280"/>
          </a:xfrm>
          <a:custGeom>
            <a:avLst/>
            <a:gdLst>
              <a:gd name="textAreaLeft" fmla="*/ 904320 w 3962160"/>
              <a:gd name="textAreaRight" fmla="*/ 3057840 w 3962160"/>
              <a:gd name="textAreaTop" fmla="*/ 817560 h 3581280"/>
              <a:gd name="textAreaBottom" fmla="*/ 276372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152280" y="38088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 должна приводить к действ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2"/>
          <p:cNvSpPr/>
          <p:nvPr/>
        </p:nvSpPr>
        <p:spPr>
          <a:xfrm>
            <a:off x="4648320" y="2451240"/>
            <a:ext cx="4452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Выводы</a:t>
            </a:r>
            <a:r>
              <a:rPr b="1" lang="ru-RU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007d"/>
                </a:solidFill>
                <a:latin typeface="Verdana"/>
              </a:rPr>
              <a:t>        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это система для объективной проверки работы лаборатории, проводимой внешним учреждением или орган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 лаборатории должны участвовать в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несколько методов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щение с пробами ВОК должно быть таким же, как и с пробами от пациентов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4142-AA6E-4469-BEA4-7F45FE5F3A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80880" y="554040"/>
            <a:ext cx="838224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      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ВОК расходуются ценные ресурсы, извлеките пользу из своего участ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100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не должна быть связана с санкция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следует рассматривать как об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поможет определить направления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является важным элементом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0B06-B4AE-479B-AB3F-8AEE7E04EF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5E77-90C8-4E1D-B516-CB89BE8174C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овый руководител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нализирова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езультаты предыдущи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К и обнаружил плох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азатели окрашивания по Граму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«Как должна лаборатория расследовать эту проблему?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5" descr="bd07156_"/>
          <p:cNvPicPr/>
          <p:nvPr/>
        </p:nvPicPr>
        <p:blipFill>
          <a:blip r:embed="rId1"/>
          <a:stretch/>
        </p:blipFill>
        <p:spPr>
          <a:xfrm>
            <a:off x="6019920" y="533520"/>
            <a:ext cx="2655720" cy="225396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759D-6FF7-4E04-8863-30A8C899D0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6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803C-4D4E-409F-8704-E6295E685F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96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97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12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13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14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6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19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22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23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5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28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33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37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40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46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49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52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Footer Placeholder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B936-5B26-44BA-9C4A-0CFC349301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52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7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8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9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74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77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78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83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88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92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95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01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04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07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Footer Placeholder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нешняя оценка качества 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Система для объективной проверки работы лаборатории, проводимой внешним учреждением или орган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B5A2-1E72-4992-920E-DD091F40FB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Content Placeholder 1025"/>
          <p:cNvGrpSpPr/>
          <p:nvPr/>
        </p:nvGrpSpPr>
        <p:grpSpPr>
          <a:xfrm>
            <a:off x="228600" y="990720"/>
            <a:ext cx="8686080" cy="3885120"/>
            <a:chOff x="228600" y="990720"/>
            <a:chExt cx="8686080" cy="3885120"/>
          </a:xfrm>
        </p:grpSpPr>
        <p:cxnSp>
          <p:nvCxnSpPr>
            <p:cNvPr id="214" name="_s1028"/>
            <p:cNvCxnSpPr>
              <a:stCxn id="215" idx="0"/>
              <a:endCxn id="216" idx="2"/>
            </p:cNvCxnSpPr>
            <p:nvPr/>
          </p:nvCxnSpPr>
          <p:spPr>
            <a:xfrm flipV="1" rot="16200000">
              <a:off x="5782680" y="1332720"/>
              <a:ext cx="777600" cy="320076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1029"/>
            <p:cNvCxnSpPr>
              <a:endCxn id="216" idx="2"/>
            </p:cNvCxnSpPr>
            <p:nvPr/>
          </p:nvCxnSpPr>
          <p:spPr>
            <a:xfrm flipH="1" flipV="1">
              <a:off x="4570920" y="2544480"/>
              <a:ext cx="1080" cy="777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1030"/>
            <p:cNvCxnSpPr>
              <a:stCxn id="219" idx="0"/>
              <a:endCxn id="216" idx="2"/>
            </p:cNvCxnSpPr>
            <p:nvPr/>
          </p:nvCxnSpPr>
          <p:spPr>
            <a:xfrm flipH="1" flipV="1" rot="5400000">
              <a:off x="2770560" y="1521360"/>
              <a:ext cx="777600" cy="282348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6" name="_s1031"/>
            <p:cNvSpPr/>
            <p:nvPr/>
          </p:nvSpPr>
          <p:spPr>
            <a:xfrm>
              <a:off x="3268800" y="990720"/>
              <a:ext cx="260568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7d"/>
                  </a:solidFill>
                  <a:latin typeface="Verdana"/>
                  <a:ea typeface="Times New Roman"/>
                </a:rPr>
                <a:t>МЕТОДЫ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7d"/>
                  </a:solidFill>
                  <a:latin typeface="Verdana"/>
                  <a:ea typeface="Times New Roman"/>
                </a:rPr>
                <a:t>ВО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32"/>
            <p:cNvSpPr/>
            <p:nvPr/>
          </p:nvSpPr>
          <p:spPr>
            <a:xfrm>
              <a:off x="228600" y="3321720"/>
              <a:ext cx="304020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роверка компетент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33"/>
            <p:cNvSpPr/>
            <p:nvPr/>
          </p:nvSpPr>
          <p:spPr>
            <a:xfrm>
              <a:off x="3419280" y="3321720"/>
              <a:ext cx="290448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ере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овторное исследо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1034"/>
            <p:cNvSpPr/>
            <p:nvPr/>
          </p:nvSpPr>
          <p:spPr>
            <a:xfrm>
              <a:off x="6628320" y="3321720"/>
              <a:ext cx="228636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Оценка на мест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B860-3F21-4312-B3D6-DC0DB2259E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яя оценка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(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)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735120" y="1454040"/>
            <a:ext cx="77994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ение разных лаборато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ннее предупреждение о систематических ошиб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ъективные данные о качестве анали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частки, нуждающиеся в улучш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требности в обуч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01EB-77BD-4A26-8B75-2C09F658FA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9" descr="MCBS01691_0000[1]"/>
          <p:cNvPicPr/>
          <p:nvPr/>
        </p:nvPicPr>
        <p:blipFill>
          <a:blip r:embed="rId1"/>
          <a:stretch/>
        </p:blipFill>
        <p:spPr>
          <a:xfrm>
            <a:off x="72388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имущества В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914400" y="163656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дачи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бора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4572000" y="13716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Задачи охраны здоровья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0" descr="staff_group_romania_wnv-cdc"/>
          <p:cNvPicPr/>
          <p:nvPr/>
        </p:nvPicPr>
        <p:blipFill>
          <a:blip r:embed="rId1"/>
          <a:stretch/>
        </p:blipFill>
        <p:spPr>
          <a:xfrm>
            <a:off x="533520" y="3295800"/>
            <a:ext cx="4114800" cy="2952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MPj03826840000[1]"/>
          <p:cNvPicPr/>
          <p:nvPr/>
        </p:nvPicPr>
        <p:blipFill>
          <a:blip r:embed="rId2"/>
          <a:stretch/>
        </p:blipFill>
        <p:spPr>
          <a:xfrm>
            <a:off x="4648320" y="3295800"/>
            <a:ext cx="4114800" cy="2938320"/>
          </a:xfrm>
          <a:prstGeom prst="rect">
            <a:avLst/>
          </a:prstGeom>
          <a:ln w="0">
            <a:noFill/>
          </a:ln>
        </p:spPr>
      </p:pic>
      <p:sp>
        <p:nvSpPr>
          <p:cNvPr id="233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1F49-76D4-4182-9A05-FBE80CBE34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Content Placeholder 2049" descr=""/>
          <p:cNvPicPr/>
          <p:nvPr/>
        </p:nvPicPr>
        <p:blipFill>
          <a:blip r:embed="rId1"/>
          <a:stretch/>
        </p:blipFill>
        <p:spPr>
          <a:xfrm>
            <a:off x="530280" y="633240"/>
            <a:ext cx="8004240" cy="56214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60B8-F276-432B-9BFE-E589B1001C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3:15:03Z</dcterms:modified>
  <cp:revision>417</cp:revision>
  <dc:subject/>
  <dc:title>Slide 1</dc:title>
</cp:coreProperties>
</file>