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0615-8401-4382-BB8B-7F3050B29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4364-82CE-4496-A270-D1C5037CB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0EFD-1B39-464F-9708-289F4E7B0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3F98-8C9D-4A11-8057-7800C698E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CCDE-4F71-4086-934A-685A82A65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FD23-34D2-49D5-8BDA-08D70F08A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D438-D03D-4FF4-81A7-5F8BA8283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B737-2143-44F2-9AD1-87E1EBD72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4215-F8B4-47CF-A58E-A302E98D1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383B-FC9B-463D-B39A-FBEBFF72D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BAD1-833C-48EA-B2C9-9B6182129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8A08-4506-4FD3-A2FA-81332C3B6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1764-09EC-4DBE-9EA8-E1F9D14B9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91ED-FB96-4337-B955-68B6F4AEE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5923C-5225-4697-9266-34137DB080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6C826-B6B9-491C-8EC7-23017593A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7FBC5-369E-4338-B39B-E322CAE4BF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ECA33-AD30-478B-8146-943F5C8B91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1752-5EBB-4092-9584-ED8708EF42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C0DE-2B7A-443E-BED4-BAE5609A73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96E7-AB75-4A64-B201-834764E947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571C-5908-4682-91F0-349C3298FD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B954-1884-4868-B80B-3DC977A168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43F0-8757-4F1D-9645-3464617019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CF46-A365-4A2E-A0C0-6DE8BF181E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89760-AD33-4976-A439-A08E974E61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99A1-296D-49F7-9684-E51C65D4B2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6604-203D-4585-853C-4BD07AB719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BD14-C1CE-4934-8DBF-8197196F7A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50DE-861F-4F6F-9640-BC0780B57D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4530-EDBA-4EE6-AD12-2FA9E1253A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5A68F-50CB-4D08-A3C6-4E55BE6162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D8BBD-4238-4CAA-8B9A-ED0C904B8F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B4D77-10FF-4976-965D-283A35E718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E7839-3AF4-44AE-80C3-3C2B549A5A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1AA4D-6C8E-454B-86B2-40753CAC12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C145B-D68F-4AFD-ADAD-F556B688DB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B4EE2-56F6-4D35-A385-48B61FCAE7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47560" y="6400080"/>
            <a:ext cx="5105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37524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840C-00C3-4FE5-9932-0669779489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7641-13D4-4039-BB56-42907EF03A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684D-61FD-499C-966F-4F411E9557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4080" y="1668240"/>
            <a:ext cx="5181840" cy="25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Организация программы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внешней оценки качества (ВОК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E936-5A21-4EFB-8FFA-4565B2A8AA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9120" y="2133360"/>
            <a:ext cx="807732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направленность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цели и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правила конфиденциа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благодарности, признание вкл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контактна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календарный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Обмен информаци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19C7-C0A3-4772-95F3-9BDF1F9113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Отслежи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77320" cy="31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комментариев, отзывов на 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оли «арбитра» организатора 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замечаний и рекомендаций от участвующих лаборато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илучших путей решения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илучших способов для рекомендации определенных мет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MCj01572990000[1]"/>
          <p:cNvPicPr/>
          <p:nvPr/>
        </p:nvPicPr>
        <p:blipFill>
          <a:blip r:embed="rId1"/>
          <a:stretch/>
        </p:blipFill>
        <p:spPr>
          <a:xfrm>
            <a:off x="990720" y="4287960"/>
            <a:ext cx="2514600" cy="18842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8"/>
          <p:cNvSpPr/>
          <p:nvPr/>
        </p:nvSpPr>
        <p:spPr>
          <a:xfrm>
            <a:off x="3505320" y="4495680"/>
            <a:ext cx="5105160" cy="1447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Отлично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  <a:ea typeface="SimSun"/>
              </a:rPr>
              <a:t>!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Так и должно бы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6897-B2EE-4F4E-A8BE-7717739E69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участвовать в международной 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ривлеките вышестоящие орг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прос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ма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неинфекционных матери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еред началом проведите испы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хорошим планом по взаимодействию и обмену информа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будьте очень внимательны к комментариям и отзыв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Verdana"/>
                <a:ea typeface="SimSun"/>
              </a:rPr>
              <a:t>Запуск программы ВОК для всей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Вы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2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43D1-178A-4D5F-ACC1-87C55C5120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41440" y="1209240"/>
            <a:ext cx="40258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Verdan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7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8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8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8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9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9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9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20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20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21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21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22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22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22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" name="Footer Placeholder 1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533520" y="6276600"/>
            <a:ext cx="51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9717-569C-44AB-B69F-6B2CF84531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Типы В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циональная программа проверки компетен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еть лабораторий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жлабораторные сравнения, пере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ка на 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533520" y="6429240"/>
            <a:ext cx="51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5C50-5B15-482E-9802-B540A276A1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458200" cy="25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Для организатора ВОК необходимо предшествующее (успешное!) участие в программе В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971440"/>
            <a:ext cx="82296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SimSun"/>
              </a:rPr>
              <a:t>участие в международной программ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 (для организатора национальной программ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тслеживание качества в своей л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необходимо и обяза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опрос об уверенности в своих сил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2C8A-D837-455E-88E8-349B2656FE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4928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Привлеките вышестоящие орг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71320" y="1828800"/>
            <a:ext cx="834372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ходит в сферу их полномоч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беспеч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66"/>
                </a:solidFill>
                <a:latin typeface="Verdana"/>
                <a:ea typeface="SimSun"/>
              </a:rPr>
              <a:t>долгосрочн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а и способы обмена информаци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вязь с органами по лицензированию, сертификации, аккредит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финансирование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мероприят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ВОК приводят к эконом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, финансирован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их оправдан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MCj01570510000[1]"/>
          <p:cNvPicPr/>
          <p:nvPr/>
        </p:nvPicPr>
        <p:blipFill>
          <a:blip r:embed="rId1"/>
          <a:stretch/>
        </p:blipFill>
        <p:spPr>
          <a:xfrm>
            <a:off x="6858000" y="4343400"/>
            <a:ext cx="213372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55EF-6EBF-4B55-A608-B6FE72CFCE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прост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3059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ка компетен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едметные стекл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шенные или неокраш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ска по Гра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ска на К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араз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идентификация бактериальных штам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ишечных микроорганизмов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ерепрове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едметные стекла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УБ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Грам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СМЖ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другие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бактериальные штаммы, если имеются материальные и технические возможности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оллекция штам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rottis"/>
          <p:cNvPicPr/>
          <p:nvPr/>
        </p:nvPicPr>
        <p:blipFill>
          <a:blip r:embed="rId1"/>
          <a:stretch/>
        </p:blipFill>
        <p:spPr>
          <a:xfrm>
            <a:off x="5943600" y="22716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AutoShape 6"/>
          <p:cNvSpPr/>
          <p:nvPr/>
        </p:nvSpPr>
        <p:spPr>
          <a:xfrm>
            <a:off x="4267080" y="2438280"/>
            <a:ext cx="1600200" cy="4572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3BCE-0400-4F29-9252-1CA64E4D2B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609588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мал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92468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небольшое число лаборато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регион для испы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роверьте вариан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транспортир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лаборатории на анал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(еще не участвующие в программ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ервая проверка на простых задачах (предметные стек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макс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лабораторий в течение 1-го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макс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робы в одной рассылке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не реже 2 раз в год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j0278576"/>
          <p:cNvPicPr/>
          <p:nvPr/>
        </p:nvPicPr>
        <p:blipFill>
          <a:blip r:embed="rId1"/>
          <a:stretch/>
        </p:blipFill>
        <p:spPr>
          <a:xfrm>
            <a:off x="6477120" y="1447920"/>
            <a:ext cx="2151000" cy="259056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8"/>
          <p:cNvSpPr/>
          <p:nvPr/>
        </p:nvSpPr>
        <p:spPr>
          <a:xfrm rot="19759200">
            <a:off x="6934320" y="19810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C2E4-D2C7-4A91-BB8E-853270C589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не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 начале избегайте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«особо опасных»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атог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инфекционных сыворо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ыполняйте национальные правила по транспортир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nhls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A688-EA94-4A50-AC6C-C0B503B902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382320"/>
            <a:ext cx="624816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Требующаяся инфра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2076120"/>
            <a:ext cx="426708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бочий ст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небольшая 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а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nhls2"/>
          <p:cNvPicPr/>
          <p:nvPr/>
        </p:nvPicPr>
        <p:blipFill>
          <a:blip r:embed="rId1"/>
          <a:stretch/>
        </p:blipFill>
        <p:spPr>
          <a:xfrm>
            <a:off x="5105520" y="2131920"/>
            <a:ext cx="335268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05A8-B6EE-40BC-B379-641DDC4C32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Обмен информацией 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91320" cy="38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частвующими лаборатор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ышестоящими орга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научными сообще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рофессиональными ассоциац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любыми другими сторонами, заинтересованными в 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j0283214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6781680" y="2585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«В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Olga</cp:lastModifiedBy>
  <dcterms:modified xsi:type="dcterms:W3CDTF">2013-05-15T13:57:15Z</dcterms:modified>
  <cp:revision>52</cp:revision>
  <dc:subject/>
  <dc:title>EQA scheme Organization optional</dc:title>
</cp:coreProperties>
</file>