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8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9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10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91E2-BC96-465B-BD92-79CF52D6A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F27D-6E9C-42E2-8384-B0EF1D334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BD64-7E7E-4E81-8EE1-8EEC0104B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2179-FAA6-49B7-AD65-B30752225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1AAC-73A6-4873-A20A-BDF0442EE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2F2A-7A0A-4B37-B064-A69E0F72C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6A49-9139-40F4-B27E-87E610F49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CDE6-FD87-48B6-8389-535536E69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8159-79FC-4A03-9E72-D7D141047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AA9C-C9B4-4553-A159-48F2CA7A8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1D6C-9D51-4C9F-929B-81DB036AC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CF3F-46FD-4C0E-AEDE-10255615D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165F-3FD5-4F89-9EEC-811E1C961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8380-BFE5-45A4-B40C-61A53D0AE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4510-5718-435B-A1AB-4CDEF7894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2DDA-33DD-416E-BD3E-2C8AB5130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D512-D3E5-4F2C-9DE3-AF5CCB19C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2658-2CF4-43F5-9B07-A91EAD362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581B-84F9-4649-A267-033A76EAB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CAAD-6F36-4038-BD0B-6DD2391B8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EC0D-D445-47BD-A3FF-A15F287B2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0DBB-407F-417A-A08A-97AC7D150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8E9F5-1F77-44D5-9BC8-549CEA0412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517EC-D265-41DA-B0F2-6429040C8F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27D2A-1DBB-4105-9B76-0A383E7CB3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188E1-1360-47ED-B241-6E00D4EAE1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73931-EE63-4E2A-8699-DEA05719A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29127-3ECD-47DF-9793-E34180EF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9A862-8DB1-41F5-9331-833BD195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C448C-6762-4568-AFB4-519464FC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BAF49-42A9-40C3-96F1-98A1E2A1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C9FD8-6E9B-450A-BF8C-1E1DFC39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5215C-4294-4F88-A472-AD98ECD9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4B91C-8F03-4777-8EB0-D85650F135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A6C9A-8B1E-4D84-B8D0-1569DF73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CF45A-746D-47A8-83DD-5ED64F57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1D590-672B-4C3C-A192-A15993A0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B40B2-C8EC-4D77-8AE2-7795A220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4FF77-14FA-40C8-A32A-29344244F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0517AE-6570-44B8-B17B-BEB8F12C48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B22718-D9C9-490C-B921-A015E07E0F4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B88128-7A63-4756-91BF-B02BB8DFD5E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14958E-AFE9-4A4F-9B8C-23B5C07ADFC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F49F21-9390-4A92-9759-877BCB8D39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A7FA1-94B4-4F5E-8D5B-FB1EAECF410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912B0B-FBA8-4B92-9E84-1D753C50E35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E0507C-2217-46BE-8F86-38E29069795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8DCAF3-1D39-44D1-A4B6-DE7CA03F56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4F02BA-F84D-40BC-BE65-2FC737C83EA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EC2870-3CD5-4B3D-92A2-70CCC433C6B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73EECC-35A9-40EE-B10B-FC3CDD626CF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917CB2-F5C5-4D39-8DB4-8A6C0BA8D2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DF0EA-63A4-427D-8DF9-F3F09E381A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028AC-AF1F-43A3-BA57-009373A2E2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CB2D4-1A1B-4D76-839C-28A940B45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5B43A-0E26-40E6-A916-1D3FB73C85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76660-109A-4C1E-9CBD-FEF2606C2D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B7E7B-2E81-41AF-A8B3-F2A3C10FC2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A760-9147-4BB6-855A-813C803BC8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6720"/>
            <a:ext cx="28958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428F-C5C3-4AEF-8FBE-6727184ACC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6"/>
          </p:nvPr>
        </p:nvSpPr>
        <p:spPr>
          <a:xfrm>
            <a:off x="380880" y="6400080"/>
            <a:ext cx="4114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7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14FA-412E-4198-BA59-79B1A616B1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45E5-D078-42E3-B440-CFD0FB8DD2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0968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стема правил Вестгард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131480"/>
            <a:ext cx="8382240" cy="23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на д-ром Джеймсом О. Вестгардом, основана на принципах статист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бор правил или критериев для принятия решений о том, «в контроле» ли систе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, если в серии анализов поставлены контроли, по меньшей мере, двух уровн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используют только с одним контро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9" descr="westgard_lecturing"/>
          <p:cNvPicPr/>
          <p:nvPr/>
        </p:nvPicPr>
        <p:blipFill>
          <a:blip r:embed="rId1"/>
          <a:stretch/>
        </p:blipFill>
        <p:spPr>
          <a:xfrm>
            <a:off x="2743200" y="39625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0"/>
          <p:cNvSpPr/>
          <p:nvPr/>
        </p:nvSpPr>
        <p:spPr>
          <a:xfrm>
            <a:off x="5884920" y="4114800"/>
            <a:ext cx="21160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р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естгар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3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B441-70C8-413F-BF6B-0EA6CDB576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7_glu_control-1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7_glu_control_2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38" name="TextBox 1"/>
          <p:cNvSpPr/>
          <p:nvPr/>
        </p:nvSpPr>
        <p:spPr>
          <a:xfrm>
            <a:off x="1074240" y="468360"/>
            <a:ext cx="5269320" cy="274680"/>
          </a:xfrm>
          <a:prstGeom prst="rect">
            <a:avLst/>
          </a:prstGeom>
          <a:solidFill>
            <a:srgbClr val="96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ень 1. Глюкоза: Номер партии а1б2-г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6"/>
          <p:cNvSpPr/>
          <p:nvPr/>
        </p:nvSpPr>
        <p:spPr>
          <a:xfrm>
            <a:off x="1074960" y="3429000"/>
            <a:ext cx="5267880" cy="274680"/>
          </a:xfrm>
          <a:prstGeom prst="rect">
            <a:avLst/>
          </a:prstGeom>
          <a:solidFill>
            <a:srgbClr val="96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ень 2. Глюкоза: Номер партии а2в3-г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4584600" y="5911920"/>
            <a:ext cx="506880" cy="182880"/>
          </a:xfrm>
          <a:prstGeom prst="rect">
            <a:avLst/>
          </a:prstGeom>
          <a:solidFill>
            <a:srgbClr val="96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Д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B572-360F-4201-9129-E127A3125C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6160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Ответы для занят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38080" y="1704600"/>
            <a:ext cx="7391520" cy="41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н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1, 22, 24, 26, 27, 30, 31, 33, 34, 36-44 –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в контроле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н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н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н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н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0F88-0696-42BD-8214-5BB4E33241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3840" y="399960"/>
            <a:ext cx="83692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Названия правил системы Вестгарда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1760" y="1695600"/>
            <a:ext cx="4190760" cy="48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1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1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2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4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10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76920" y="1447560"/>
            <a:ext cx="411480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спользуют для серий исследований, в которых поставлены контроли двух уровн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11" descr="j0082253"/>
          <p:cNvPicPr/>
          <p:nvPr/>
        </p:nvPicPr>
        <p:blipFill>
          <a:blip r:embed="rId1"/>
          <a:stretch/>
        </p:blipFill>
        <p:spPr>
          <a:xfrm>
            <a:off x="5791320" y="3276720"/>
            <a:ext cx="2501640" cy="3047760"/>
          </a:xfrm>
          <a:prstGeom prst="rect">
            <a:avLst/>
          </a:prstGeom>
          <a:ln w="0">
            <a:noFill/>
          </a:ln>
        </p:spPr>
      </p:pic>
      <p:sp>
        <p:nvSpPr>
          <p:cNvPr id="178" name="Straight Connector 2"/>
          <p:cNvSpPr/>
          <p:nvPr/>
        </p:nvSpPr>
        <p:spPr>
          <a:xfrm>
            <a:off x="4302000" y="5715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0377-C74B-49D1-9799-9C8E9B445F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53680"/>
            <a:ext cx="6400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46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АВИЛ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ЕДУПРЕЖДЕНИ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причина для признания серии неприемлем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зультат одного из двух контролей попадает вн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азывает на возможные пробл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едующим шагом применить правило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630F-23B9-4D93-B49D-BA324416D0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52520"/>
            <a:ext cx="86868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я контроля одного уровня в двух последовательных сериях оказываются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2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и по одну сторону и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а контроля в одной серии оказываются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2SD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льзя выдавать результаты анализ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ются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457200" y="46080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0E35-8D02-48F8-B0CC-1AB5454297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е одного контроля меньше, чем «средне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», а значение другого контроля больше, чем «средне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тервал между двумя результатами превышает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4 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изошла случайная ошибка, серия результатов должна считаться неприемлем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457200" y="55296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794B-9161-4D3E-811A-38D3F5363E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33160" y="1447920"/>
            <a:ext cx="7848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ются данные контролей предшествующих се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я КК одного уровня в четырех последовательных сериях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1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по одну сторону от среднего и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роли обоих уровней в последовательных сериях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1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по одну сторон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457200" y="53712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8FC4-AB22-4F14-80D2-24BBEEA08D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ются данные контролей предшествующих се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я КК одного уровня в десяти последовательных сериях по одну сторону от среднего и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роли обоих уровней в пяти последовательных сериях по одну сторону от среднег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457200" y="55296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2"/>
          <p:cNvSpPr/>
          <p:nvPr/>
        </p:nvSpPr>
        <p:spPr>
          <a:xfrm>
            <a:off x="5867280" y="912960"/>
            <a:ext cx="228600" cy="0"/>
          </a:xfrm>
          <a:prstGeom prst="line">
            <a:avLst/>
          </a:prstGeom>
          <a:ln w="190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D240-9EDC-4145-A02C-6D48F28D0E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482760"/>
            <a:ext cx="7772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К по правилам Вестгард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2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3" name="TextBox 1"/>
          <p:cNvSpPr/>
          <p:nvPr/>
        </p:nvSpPr>
        <p:spPr>
          <a:xfrm>
            <a:off x="2133720" y="2633760"/>
            <a:ext cx="532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7"/>
          <p:cNvSpPr/>
          <p:nvPr/>
        </p:nvSpPr>
        <p:spPr>
          <a:xfrm>
            <a:off x="205632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8"/>
          <p:cNvSpPr/>
          <p:nvPr/>
        </p:nvSpPr>
        <p:spPr>
          <a:xfrm>
            <a:off x="367092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9"/>
          <p:cNvSpPr/>
          <p:nvPr/>
        </p:nvSpPr>
        <p:spPr>
          <a:xfrm>
            <a:off x="525672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0"/>
          <p:cNvSpPr/>
          <p:nvPr/>
        </p:nvSpPr>
        <p:spPr>
          <a:xfrm>
            <a:off x="678060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1"/>
          <p:cNvSpPr/>
          <p:nvPr/>
        </p:nvSpPr>
        <p:spPr>
          <a:xfrm>
            <a:off x="7390440" y="370368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2"/>
          <p:cNvSpPr/>
          <p:nvPr/>
        </p:nvSpPr>
        <p:spPr>
          <a:xfrm>
            <a:off x="914400" y="3726000"/>
            <a:ext cx="485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838080" y="510552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4"/>
          <p:cNvSpPr/>
          <p:nvPr/>
        </p:nvSpPr>
        <p:spPr>
          <a:xfrm>
            <a:off x="238608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5"/>
          <p:cNvSpPr/>
          <p:nvPr/>
        </p:nvSpPr>
        <p:spPr>
          <a:xfrm>
            <a:off x="397980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6"/>
          <p:cNvSpPr/>
          <p:nvPr/>
        </p:nvSpPr>
        <p:spPr>
          <a:xfrm>
            <a:off x="553392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7"/>
          <p:cNvSpPr/>
          <p:nvPr/>
        </p:nvSpPr>
        <p:spPr>
          <a:xfrm>
            <a:off x="711036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8"/>
          <p:cNvSpPr/>
          <p:nvPr/>
        </p:nvSpPr>
        <p:spPr>
          <a:xfrm>
            <a:off x="3049560" y="2843280"/>
            <a:ext cx="5027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В КОНТРОЛЕ»                  СЕРИЯ ПРИЕМЛЕМ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9"/>
          <p:cNvSpPr/>
          <p:nvPr/>
        </p:nvSpPr>
        <p:spPr>
          <a:xfrm>
            <a:off x="1523880" y="5605560"/>
            <a:ext cx="6782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ВНЕ КОНТРОЛЯ»                              СЕРИЯ НЕПРИЕМЛЕМ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rapezoid 6"/>
          <p:cNvSpPr/>
          <p:nvPr/>
        </p:nvSpPr>
        <p:spPr>
          <a:xfrm>
            <a:off x="647640" y="1332000"/>
            <a:ext cx="1658880" cy="863640"/>
          </a:xfrm>
          <a:prstGeom prst="pie">
            <a:avLst/>
          </a:pr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е контр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6FF3-2A9C-482F-B686-0E62AD8F5D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701028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Verdana"/>
              </a:rPr>
              <a:t>Практическое занятие</a:t>
            </a: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990720" y="1560600"/>
            <a:ext cx="723888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Применяя правила Вестгарда, проанализируйте ежедневные значения контролей (следующий слайд)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Olga</cp:lastModifiedBy>
  <dcterms:modified xsi:type="dcterms:W3CDTF">2013-05-11T16:01:01Z</dcterms:modified>
  <cp:revision>21</cp:revision>
  <dc:subject/>
  <dc:title>Westgard Multirule System</dc:title>
</cp:coreProperties>
</file>