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8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9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10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5821-2E9D-4A89-93A6-03E9EFD9E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3588-80AC-41BC-9414-EB21705D4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296E-8666-4DE4-937C-8ACA19AA4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3A2B-72DA-4D9F-B688-70E27856E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390C-23A2-441D-9F08-8BCA87912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0D96-F8C2-439C-A871-17187EB7F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00D8-B3FF-4CF3-978D-177DB5EDA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DBE6-AC74-4255-80CD-5D07F0B38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835A-07CA-4CF4-B265-657844E25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475D-3C8B-42CD-BF90-FB764C74D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E8D6-6052-4B00-A92D-CCAD2AA47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8274-4B64-4D66-B2F8-BA1EA8E17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536A-67AB-471F-A6EC-879AE9EB0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6E75-21BB-4CDD-BF7C-6DAFFA4A2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D59B-392B-41FC-9B14-EF6D18524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14C1-87A4-41F0-B3B6-A67468083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1D26-9A3E-4855-B958-31F6F2E6B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B2B0-4375-4240-AFF4-556A6271D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66AC-3B42-4B64-AECE-5EB1116F1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7E71-1ABF-4CB1-97E8-880F736D3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B776-DE83-4B30-96D4-041A8176F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34B9-3FFF-4B08-A920-A57A07A73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F0B07-868E-43CC-B5ED-62B0163D47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98593-A3DD-44BF-866A-D86B8473E9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22554-8A01-4BCB-85DD-BE5D35A0F5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6DA62-F01D-422B-9D0E-2DDAFA014E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AD18A-CAB0-479D-B38F-38EBE23D7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8F298-89E9-435D-906A-E5B261E0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43CBA-DE08-48EE-8E68-16C759EB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151A8-85BA-41EE-804E-CFAE35AA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6C3D0-6210-4A77-8B4D-6D73DB2E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54D68-D56C-439A-AA9D-03C43FE6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71D08-2291-4DC3-8425-DD2A4F49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D1F17-6CAF-4343-886D-3824477939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D420F-33C5-4CB2-A300-3BC59EC9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B578E-1500-488C-912F-13C8E0CA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C7960-ECC0-4F77-9B1A-408921C6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032CC-D1AE-4DC5-8340-826FE3A0B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00DBA-876B-40CD-AC06-0A1504B3B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484D84-368B-4BD1-9B75-E4A68C3DA5C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51C48A-82C8-47F0-A219-B8A442AE85D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1512B0-DE66-4224-8DCB-99B2E39F7E2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1C9DC7-F246-4107-A82D-D509B81701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81C049-DACE-4778-B149-F52FAC36B5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76B50-01C1-4329-BFF7-E8F70DB5AC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BA24B0-69BE-472B-B4AC-8A7E2CF37A0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F7DA14-9C39-4ADF-A7D5-47608BAD51F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A534B4-C0C2-40FC-AFBA-F059B94D95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9CAF91-A506-45E7-9FB1-CD700D9969B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316EC6-35A9-42FC-A12E-031E06C624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B934AE-D7FA-443E-B266-25D69B66A6E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EFE2D4-C6A0-4DC2-B4E0-21F754934F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CF625-A590-45A5-94BC-2C3C148B07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0E6CA-5D9E-4074-9005-4FAE730D8C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4574A-CA62-42CB-9A4C-F35C1E458D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FFFE5-B317-422A-A931-3F3E48E566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C8181-E848-4590-B7E7-1799A1C6A1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EC523-A098-423E-A7CF-C9A33A802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411F-172F-4135-A3AB-C429B1E410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6720"/>
            <a:ext cx="28958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D512-D1C4-4DD5-95F3-F26F3A53C5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6"/>
          </p:nvPr>
        </p:nvSpPr>
        <p:spPr>
          <a:xfrm>
            <a:off x="380880" y="6400080"/>
            <a:ext cx="4114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7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5B5A-B8AE-4A5B-A59A-C547680DCC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6729-4428-4A94-929E-329596C909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0968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стема правил Вестгард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131480"/>
            <a:ext cx="8382240" cy="23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на д-ром Джеймсом О. Вестгардом, основана на принципах статист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бор правил или критериев для принятия решений о том, «в контроле» ли систе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, если в серии анализов поставлены контроли, по меньшей мере, двух уровн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используют только с одним контро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9" descr="westgard_lecturing"/>
          <p:cNvPicPr/>
          <p:nvPr/>
        </p:nvPicPr>
        <p:blipFill>
          <a:blip r:embed="rId1"/>
          <a:stretch/>
        </p:blipFill>
        <p:spPr>
          <a:xfrm>
            <a:off x="2743200" y="39625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0"/>
          <p:cNvSpPr/>
          <p:nvPr/>
        </p:nvSpPr>
        <p:spPr>
          <a:xfrm>
            <a:off x="5884920" y="4114800"/>
            <a:ext cx="21160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р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естгар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3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5766-6F05-45A5-AF24-DC60BD3DC5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7_glu_control-1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7_glu_control_2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38" name="TextBox 1"/>
          <p:cNvSpPr/>
          <p:nvPr/>
        </p:nvSpPr>
        <p:spPr>
          <a:xfrm>
            <a:off x="1074240" y="468360"/>
            <a:ext cx="5269320" cy="274680"/>
          </a:xfrm>
          <a:prstGeom prst="rect">
            <a:avLst/>
          </a:prstGeom>
          <a:solidFill>
            <a:srgbClr val="96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ень 1. Глюкоза: Номер партии а1б2-г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6"/>
          <p:cNvSpPr/>
          <p:nvPr/>
        </p:nvSpPr>
        <p:spPr>
          <a:xfrm>
            <a:off x="1074960" y="3429000"/>
            <a:ext cx="5267880" cy="274680"/>
          </a:xfrm>
          <a:prstGeom prst="rect">
            <a:avLst/>
          </a:prstGeom>
          <a:solidFill>
            <a:srgbClr val="96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ень 2. Глюкоза: Номер партии а2в3-г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4584600" y="5911920"/>
            <a:ext cx="506880" cy="182880"/>
          </a:xfrm>
          <a:prstGeom prst="rect">
            <a:avLst/>
          </a:prstGeom>
          <a:solidFill>
            <a:srgbClr val="96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Д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2E4E-1F6B-42E2-831B-D2E294B770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6160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Ответы для занят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38080" y="1704600"/>
            <a:ext cx="7391520" cy="41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н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1, 22, 24, 26, 27, 30, 31, 33, 34, 36-44 –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в контроле»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н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н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н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н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6703-22C5-4C25-8609-D063CEA8B7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3840" y="399960"/>
            <a:ext cx="83692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Названия правил системы Вестгарда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1760" y="1695600"/>
            <a:ext cx="4190760" cy="48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1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1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2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4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10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76920" y="1447560"/>
            <a:ext cx="411480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спользуют для серий исследований, в которых поставлены контроли двух уровн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11" descr="j0082253"/>
          <p:cNvPicPr/>
          <p:nvPr/>
        </p:nvPicPr>
        <p:blipFill>
          <a:blip r:embed="rId1"/>
          <a:stretch/>
        </p:blipFill>
        <p:spPr>
          <a:xfrm>
            <a:off x="5791320" y="3276720"/>
            <a:ext cx="2501640" cy="3047760"/>
          </a:xfrm>
          <a:prstGeom prst="rect">
            <a:avLst/>
          </a:prstGeom>
          <a:ln w="0">
            <a:noFill/>
          </a:ln>
        </p:spPr>
      </p:pic>
      <p:sp>
        <p:nvSpPr>
          <p:cNvPr id="178" name="Straight Connector 2"/>
          <p:cNvSpPr/>
          <p:nvPr/>
        </p:nvSpPr>
        <p:spPr>
          <a:xfrm>
            <a:off x="4302000" y="5715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4F89-7CF3-47E8-824F-B683237660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53680"/>
            <a:ext cx="6400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46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АВИЛ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ЕДУПРЕЖДЕНИ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причина для признания серии неприемлем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зультат одного из двух контролей попадает вн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азывает на возможные пробл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едующим шагом применить правило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4D9E-7F90-4DA8-AFE3-9D58837078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52520"/>
            <a:ext cx="86868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я контроля одного уровня в двух последовательных сериях оказываются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2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и по одну сторону и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а контроля в одной серии оказываются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2SD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льзя выдавать результаты анализ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ются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457200" y="46080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5A44-0625-49A0-81E7-5F4DBF18C1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е одного контроля меньше, чем «средне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», а значение другого контроля больше, чем «средне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тервал между двумя результатами превышает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4 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изошла случайная ошибка, серия результатов должна считаться неприемлем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457200" y="55296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F8F1-48C0-408B-9817-EA5BB6A3A4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33160" y="1447920"/>
            <a:ext cx="7848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ются данные контролей предшествующих се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я КК одного уровня в четырех последовательных сериях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1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по одну сторону от среднего и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роли обоих уровней в последовательных сериях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1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по одну сторон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457200" y="53712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23CE-985B-4C6D-A82B-515B7DC08B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ются данные контролей предшествующих се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я КК одного уровня в десяти последовательных сериях по одну сторону от среднего и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роли обоих уровней в пяти последовательных сериях по одну сторону от среднег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457200" y="55296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2"/>
          <p:cNvSpPr/>
          <p:nvPr/>
        </p:nvSpPr>
        <p:spPr>
          <a:xfrm>
            <a:off x="5867280" y="912960"/>
            <a:ext cx="228600" cy="0"/>
          </a:xfrm>
          <a:prstGeom prst="line">
            <a:avLst/>
          </a:prstGeom>
          <a:ln w="190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2C97-40AD-4B03-B473-363B39FDEB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482760"/>
            <a:ext cx="7772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К по правилам Вестгард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2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3" name="TextBox 1"/>
          <p:cNvSpPr/>
          <p:nvPr/>
        </p:nvSpPr>
        <p:spPr>
          <a:xfrm>
            <a:off x="2133720" y="2633760"/>
            <a:ext cx="532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7"/>
          <p:cNvSpPr/>
          <p:nvPr/>
        </p:nvSpPr>
        <p:spPr>
          <a:xfrm>
            <a:off x="205632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8"/>
          <p:cNvSpPr/>
          <p:nvPr/>
        </p:nvSpPr>
        <p:spPr>
          <a:xfrm>
            <a:off x="367092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9"/>
          <p:cNvSpPr/>
          <p:nvPr/>
        </p:nvSpPr>
        <p:spPr>
          <a:xfrm>
            <a:off x="525672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0"/>
          <p:cNvSpPr/>
          <p:nvPr/>
        </p:nvSpPr>
        <p:spPr>
          <a:xfrm>
            <a:off x="678060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1"/>
          <p:cNvSpPr/>
          <p:nvPr/>
        </p:nvSpPr>
        <p:spPr>
          <a:xfrm>
            <a:off x="7390440" y="370368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2"/>
          <p:cNvSpPr/>
          <p:nvPr/>
        </p:nvSpPr>
        <p:spPr>
          <a:xfrm>
            <a:off x="914400" y="3726000"/>
            <a:ext cx="485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838080" y="510552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4"/>
          <p:cNvSpPr/>
          <p:nvPr/>
        </p:nvSpPr>
        <p:spPr>
          <a:xfrm>
            <a:off x="238608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5"/>
          <p:cNvSpPr/>
          <p:nvPr/>
        </p:nvSpPr>
        <p:spPr>
          <a:xfrm>
            <a:off x="397980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6"/>
          <p:cNvSpPr/>
          <p:nvPr/>
        </p:nvSpPr>
        <p:spPr>
          <a:xfrm>
            <a:off x="553392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7"/>
          <p:cNvSpPr/>
          <p:nvPr/>
        </p:nvSpPr>
        <p:spPr>
          <a:xfrm>
            <a:off x="711036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8"/>
          <p:cNvSpPr/>
          <p:nvPr/>
        </p:nvSpPr>
        <p:spPr>
          <a:xfrm>
            <a:off x="3049560" y="2843280"/>
            <a:ext cx="5027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В КОНТРОЛЕ»                  СЕРИЯ ПРИЕМЛЕМ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9"/>
          <p:cNvSpPr/>
          <p:nvPr/>
        </p:nvSpPr>
        <p:spPr>
          <a:xfrm>
            <a:off x="1523880" y="5605560"/>
            <a:ext cx="6782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ВНЕ КОНТРОЛЯ»                              СЕРИЯ НЕПРИЕМЛЕМ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rapezoid 6"/>
          <p:cNvSpPr/>
          <p:nvPr/>
        </p:nvSpPr>
        <p:spPr>
          <a:xfrm>
            <a:off x="647640" y="1332000"/>
            <a:ext cx="1658880" cy="863640"/>
          </a:xfrm>
          <a:prstGeom prst="pie">
            <a:avLst/>
          </a:pr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е контро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FFB8-C361-4766-B556-FA484F8574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7010280" cy="6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Verdana"/>
              </a:rPr>
              <a:t>Практическое занятие</a:t>
            </a: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990720" y="1560600"/>
            <a:ext cx="723888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Применяя правила Вестгарда, проанализируйте ежедневные значения контролей (следующий слайд)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Olga</cp:lastModifiedBy>
  <dcterms:modified xsi:type="dcterms:W3CDTF">2013-05-11T16:01:01Z</dcterms:modified>
  <cp:revision>21</cp:revision>
  <dc:subject/>
  <dc:title>Westgard Multirule System</dc:title>
</cp:coreProperties>
</file>