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4.jpeg" ContentType="image/jpeg"/>
  <Override PartName="/ppt/media/image61.jpeg" ContentType="image/jpeg"/>
  <Override PartName="/ppt/media/image37.jpeg" ContentType="image/jpeg"/>
  <Override PartName="/ppt/media/image57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56.wmf" ContentType="image/x-wmf"/>
  <Override PartName="/ppt/media/image16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62.jpeg" ContentType="image/jpeg"/>
  <Override PartName="/ppt/media/image63.png" ContentType="image/png"/>
  <Override PartName="/ppt/media/image24.wmf" ContentType="image/x-wmf"/>
  <Override PartName="/ppt/media/image21.jpeg" ContentType="image/jpeg"/>
  <Override PartName="/ppt/media/image22.wmf" ContentType="image/x-wmf"/>
  <Override PartName="/ppt/media/image20.jpeg" ContentType="image/jpeg"/>
  <Override PartName="/ppt/media/image59.wmf" ContentType="image/x-wmf"/>
  <Override PartName="/ppt/media/image60.png" ContentType="image/png"/>
  <Override PartName="/ppt/media/image6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11.png" ContentType="image/png"/>
  <Override PartName="/ppt/media/image50.jpeg" ContentType="image/jpeg"/>
  <Override PartName="/ppt/media/image27.jpeg" ContentType="image/jpeg"/>
  <Override PartName="/ppt/media/image5.wmf" ContentType="image/x-wmf"/>
  <Override PartName="/ppt/media/image8.png" ContentType="image/png"/>
  <Override PartName="/ppt/media/image39.jpeg" ContentType="image/jpeg"/>
  <Override PartName="/ppt/media/image17.png" ContentType="image/png"/>
  <Override PartName="/ppt/media/image52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media/image40.wmf" ContentType="image/x-wmf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9.jpeg" ContentType="image/jpeg"/>
  <Override PartName="/ppt/media/image45.wmf" ContentType="image/x-wmf"/>
  <Override PartName="/ppt/media/image46.jpeg" ContentType="image/jpeg"/>
  <Override PartName="/ppt/media/image25.wmf" ContentType="image/x-wmf"/>
  <Override PartName="/ppt/media/image47.jpeg" ContentType="image/jpeg"/>
  <Override PartName="/ppt/media/image4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909C-F36B-4040-95E0-44C13A48E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1BDB-418A-492B-817F-CEC612C81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9B47-A6C3-446E-9B1A-9954440C2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A3DE-8BA7-41F4-AB8A-FF5C266F0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9D3C-3E96-4F29-9DF5-33FBEFDAD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1040" y="4276800"/>
            <a:ext cx="51944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CE1A-DEB6-481B-9AC2-CF922B431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D820-2A16-444F-BAF9-4B507397B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0714-6C2D-42EA-9079-A4A339D06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79D31EC-F367-46DB-AFE9-853EBCC8C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69440" y="4176720"/>
            <a:ext cx="644868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69B5-2E6B-4A63-990B-34641ABBF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6D02454-BA19-44F9-9AD3-11EC20BA3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AEE3-0F70-43F5-B221-64FCD26EB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A637534-B8BA-4881-BF03-B43762ED0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3034-FB94-459B-880D-D088ACAA0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C02C-893A-464C-8E73-ADAF3D36D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2BEBFF9-235F-4778-9045-9EAE6AFA3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17AD-6287-4872-95AD-509DFF406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33DC674-DF23-4AA3-A4BD-AE520C228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CA76-A3F4-4CB9-94F7-8950A8924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4609479-88E0-470E-B936-72C8CA118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F38D-0CEB-456A-8C27-639C2C41F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9211A31-23FD-4435-A00F-645DD4DCC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A566-A3CD-4A7E-9E69-79CC11D21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31818E4-E38B-4A20-A4E9-3761F2F68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08B1-67E0-41E1-91A5-6E74C6279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A3A4E64-FEEF-4226-9680-7196A5D6F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825A-22FD-4C1D-BF74-FE7B53CE0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853D52F-DEDE-43DB-95BA-C18BE900F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FEF8-8DC6-40C4-9586-4E6DD0C20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D498999-BBCC-48F0-9482-622823D3A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1BD7-8388-4856-B695-06ED3E0DB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1CD481E-929C-49C7-A7FC-1093190A3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7704-1713-4C1A-89AC-2B81EAA33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8CBB4E1-5C24-45BC-886A-4ACFAB01B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41BF-C294-4270-BA6D-65F6A1960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EE90195-3C15-4372-B0ED-BAA1B389B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87DB-33FB-449F-AAE7-C76ACF6AD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4166F4-0E08-4C4B-BC89-F73B4961A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330F-283D-4F0B-8EFD-585384042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488853B-5C79-4406-B79A-3A1FFCE18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1789-30A8-494F-85C2-7F90FDD08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D8FA-BD26-4138-865F-2B12115C0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636E-43DB-4B56-9D35-A7840BA35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0948B0E-1A3B-4A3C-A6D6-D8E6B05C0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FEFE-1D5A-43D8-9C50-C206AC811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AF2BBD3-4A92-4031-BCA1-04504DCD2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76E2-1B24-4B48-80AB-8DBFE9E1F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161C9F3-5155-496F-B936-1C8CA6C19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A601-3058-45E4-927D-B6FBF535F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42D81FD-D572-4F71-94A3-C1755AA77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F130-66E6-4785-B9D4-31410D61A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6BB8-C361-4442-9304-3B5C6E150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1FE3942-E537-440F-A362-46B3B4D86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4216-15C7-4B52-BACA-ADE85E605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22B8AD0-FCCB-4C54-B925-67EB5CD74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A62F-63CC-4868-A966-EF74DD8C7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68E6-FE69-48A5-915F-DF3DBEB67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583D-AE2D-4CA0-9F10-B52F3CB72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8A51-5643-418D-B2B8-D5EBB42FE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28E0-8557-45DC-928F-B7C9F6FF4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F70C-F29B-4523-8FB9-9A42F6A97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285326F-EB1C-42D7-8A84-78BB97D60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DEBF-4164-4091-B7D0-2372826E9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A727F49-DB79-434D-B8F3-7FA32EFF9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11C0F-D75D-4E23-9FDA-500FEE6B8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261F8-3DD4-4BE3-A12E-BBD9D40CD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B57B6-AD58-4138-BF26-31BA05EF4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A3447-2057-4C62-96B1-EDF1B5223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9D8AD-253B-4E58-B472-26A21FC4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E0C95-9D78-4AC0-B732-392E14D8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C9F2A-587E-4ED1-80FD-61834720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AEDF4-B82F-479F-9044-12C666C7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093C0-A53A-4435-B17B-573EFB55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D3DE7-5A4F-45BD-864E-B2E7E616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CFB52-1EA1-4A0B-A7BB-7E114D74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7C610-D79B-4F97-A63E-86B1EE28F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5AC04-B3A1-44F7-B020-62455CBD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3FFC3-0229-457C-89C8-D4EFD21B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94F18-70CB-49B3-8462-2878309A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9697D-353B-4269-BD80-71A50869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4CC5F-556E-44BF-9459-B29B00DA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6F206-2410-4646-811A-F5C79B9E9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2C0A3-B21B-4D01-8F4D-D99676E27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C329C-1B06-4DAD-B8CD-0888D026F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78C89-562E-4693-A0C0-F5F8F8E37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C5370-1727-4394-9B4D-E2A4EB159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BA7B7-B49D-4199-8D79-0ECF59041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7C6AE-CFD4-445F-AE08-9D6C3E2CD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7CE7-35F7-4A55-B9FE-B77E2F7297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1D5D-D2F7-4E2B-B582-3CE33C5FF5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wmf"/><Relationship Id="rId11" Type="http://schemas.openxmlformats.org/officeDocument/2006/relationships/image" Target="../media/image23.png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1916280" y="2286000"/>
            <a:ext cx="707544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Контроль процессов: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бращение с проб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0"/>
          <p:cNvGrpSpPr/>
          <p:nvPr/>
        </p:nvGrpSpPr>
        <p:grpSpPr>
          <a:xfrm>
            <a:off x="304920" y="1371600"/>
            <a:ext cx="8686800" cy="4800600"/>
            <a:chOff x="304920" y="1371600"/>
            <a:chExt cx="8686800" cy="4800600"/>
          </a:xfrm>
        </p:grpSpPr>
        <p:pic>
          <p:nvPicPr>
            <p:cNvPr id="277" name="Picture 2" descr="5_collection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3" descr="j0409709"/>
            <p:cNvPicPr/>
            <p:nvPr/>
          </p:nvPicPr>
          <p:blipFill>
            <a:blip r:embed="rId2"/>
            <a:srcRect l="23059" t="0" r="0" b="0"/>
            <a:stretch/>
          </p:blipFill>
          <p:spPr>
            <a:xfrm>
              <a:off x="533520" y="2590920"/>
              <a:ext cx="17604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5"/>
            <p:cNvSpPr/>
            <p:nvPr/>
          </p:nvSpPr>
          <p:spPr>
            <a:xfrm>
              <a:off x="4876920" y="1371600"/>
              <a:ext cx="380988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соответств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териалы и контей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6172200" y="4495680"/>
              <a:ext cx="251460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Разработ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хорошую систем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ркиров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304920" y="4648320"/>
              <a:ext cx="3962160" cy="14475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Оценивать качество всех проб</a:t>
              </a:r>
              <a:r>
                <a:rPr b="1" lang="en-US" sz="2400" spc="-1" strike="noStrike">
                  <a:solidFill>
                    <a:srgbClr val="ffd911"/>
                  </a:solidFill>
                  <a:latin typeface="Verdana"/>
                </a:rPr>
                <a:t> —</a:t>
              </a:r>
              <a:br>
                <a:rPr sz="2400"/>
              </a:b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до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"/>
            <p:cNvSpPr/>
            <p:nvPr/>
          </p:nvSpPr>
          <p:spPr>
            <a:xfrm>
              <a:off x="380880" y="1371600"/>
              <a:ext cx="3886200" cy="12193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информаци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 взятию пр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Arial"/>
                </a:rPr>
                <a:t>ЧТО-КОГДА-КА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4" descr=""/>
            <p:cNvPicPr/>
            <p:nvPr/>
          </p:nvPicPr>
          <p:blipFill>
            <a:blip r:embed="rId3"/>
            <a:srcRect l="33286" t="0" r="12802" b="0"/>
            <a:stretch/>
          </p:blipFill>
          <p:spPr>
            <a:xfrm>
              <a:off x="4572000" y="4343400"/>
              <a:ext cx="15238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5" descr="6215_lores"/>
            <p:cNvPicPr/>
            <p:nvPr/>
          </p:nvPicPr>
          <p:blipFill>
            <a:blip r:embed="rId4"/>
            <a:srcRect l="54291" t="67985" r="18571" b="6579"/>
            <a:stretch/>
          </p:blipFill>
          <p:spPr>
            <a:xfrm>
              <a:off x="4702320" y="2819520"/>
              <a:ext cx="1850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6" descr="5_containers"/>
            <p:cNvPicPr/>
            <p:nvPr/>
          </p:nvPicPr>
          <p:blipFill>
            <a:blip r:embed="rId5"/>
            <a:stretch/>
          </p:blipFill>
          <p:spPr>
            <a:xfrm>
              <a:off x="6462720" y="2819520"/>
              <a:ext cx="9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7" descr="5_swab_packaging"/>
            <p:cNvPicPr/>
            <p:nvPr/>
          </p:nvPicPr>
          <p:blipFill>
            <a:blip r:embed="rId6"/>
            <a:stretch/>
          </p:blipFill>
          <p:spPr>
            <a:xfrm>
              <a:off x="7315200" y="2819520"/>
              <a:ext cx="1219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18"/>
            <p:cNvSpPr/>
            <p:nvPr/>
          </p:nvSpPr>
          <p:spPr>
            <a:xfrm rot="5400000">
              <a:off x="7657920" y="3543120"/>
              <a:ext cx="2057400" cy="609840"/>
            </a:xfrm>
            <a:prstGeom prst="rightArrow">
              <a:avLst>
                <a:gd name="adj1" fmla="val 50000"/>
                <a:gd name="adj2" fmla="val 84342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9"/>
            <p:cNvSpPr/>
            <p:nvPr/>
          </p:nvSpPr>
          <p:spPr>
            <a:xfrm rot="10800000">
              <a:off x="3809520" y="5638680"/>
              <a:ext cx="2514600" cy="533520"/>
            </a:xfrm>
            <a:prstGeom prst="rightArrow">
              <a:avLst>
                <a:gd name="adj1" fmla="val 50000"/>
                <a:gd name="adj2" fmla="val 121409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4"/>
            <p:cNvSpPr/>
            <p:nvPr/>
          </p:nvSpPr>
          <p:spPr>
            <a:xfrm>
              <a:off x="3429000" y="2362320"/>
              <a:ext cx="1828800" cy="609480"/>
            </a:xfrm>
            <a:prstGeom prst="rightArrow">
              <a:avLst>
                <a:gd name="adj1" fmla="val 50000"/>
                <a:gd name="adj2" fmla="val 81266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1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D8D0-9F1B-492F-8195-80CECCA691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1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09480" y="533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 ответствен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рос на исследование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рашиваемые анали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та и время взятия пр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 проб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необход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инические данн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требу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актная информация врача, направившего запрос, или уполномоченного 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419720" y="1219320"/>
          <a:ext cx="4495680" cy="521172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36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 ПО ВЫЯВЛ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ИРЕОЗ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  №.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новорожденного ____________________ Дата и время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й адрес ________________________  взятия про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   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нтификационный номер пациен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при рождении _________________ кг ________________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 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______________________________________________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15"/>
          <p:cNvSpPr/>
          <p:nvPr/>
        </p:nvSpPr>
        <p:spPr>
          <a:xfrm>
            <a:off x="0" y="557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748F-A015-4E83-8D7A-24404586ED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9"/>
          <p:cNvSpPr/>
          <p:nvPr/>
        </p:nvSpPr>
        <p:spPr>
          <a:xfrm>
            <a:off x="351000" y="592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A315-624A-46DF-BFC2-9001764E55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1547640" y="533520"/>
            <a:ext cx="599616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294920"/>
            <a:ext cx="79246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я личности                     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контейнера для сб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ециальные треб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165560"/>
            <a:ext cx="3954240" cy="193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159084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044400" y="4718880"/>
            <a:ext cx="1685880" cy="11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Picture 8" descr="Test_Bracket_patient-safety"/>
          <p:cNvPicPr/>
          <p:nvPr/>
        </p:nvPicPr>
        <p:blipFill>
          <a:blip r:embed="rId4"/>
          <a:stretch/>
        </p:blipFill>
        <p:spPr>
          <a:xfrm>
            <a:off x="5943600" y="25909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D697-7B49-4938-8FD5-75AFAD9D4B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396216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Обеспечьте  информацией по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2" name="Picture 5" descr="5_finger_prick_job_aid"/>
          <p:cNvPicPr/>
          <p:nvPr/>
        </p:nvPicPr>
        <p:blipFill>
          <a:blip r:embed="rId1"/>
          <a:stretch/>
        </p:blipFill>
        <p:spPr>
          <a:xfrm>
            <a:off x="4648320" y="609480"/>
            <a:ext cx="4114800" cy="55627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2CBD-308D-40A6-AF9B-437B063950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5837400" y="684360"/>
            <a:ext cx="1547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зятие крови из пальц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5564160" y="990720"/>
            <a:ext cx="2122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гда используйте меры безопасност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7542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ркировк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ркировка каждой пробы должна содерж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онный                                              номер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ициалы сотрудника,                                взявшего пробы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578040" cy="23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669000" y="2639880"/>
            <a:ext cx="914400" cy="342252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4A5F-69B6-4513-A809-6C60403F3A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04920" y="5181480"/>
            <a:ext cx="75438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Используйте генерируемые компьюте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штрих коды, если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EE14-67A3-4D90-ABBB-607E020AF6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7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396800" y="303048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5968800" y="4146480"/>
              <a:ext cx="126972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мена дежурства при поступлении паци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не знает прави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5968800" y="47772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из другого отд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Была дана устная инстр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5968800" y="303048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Нелегко найти инструкции по взятию про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4"/>
            <p:cNvSpPr/>
            <p:nvPr/>
          </p:nvSpPr>
          <p:spPr>
            <a:xfrm>
              <a:off x="5968800" y="159552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стоянные сотрудники боль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7365600" y="4146480"/>
              <a:ext cx="114300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держка в приемном отде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органи-зован пост медсест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5867280" y="5422680"/>
              <a:ext cx="11430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12700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>
              <a:off x="5842080" y="478476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>
              <a:off x="72388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6"/>
            <p:cNvSpPr/>
            <p:nvPr/>
          </p:nvSpPr>
          <p:spPr>
            <a:xfrm>
              <a:off x="5079960" y="5900760"/>
              <a:ext cx="711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9"/>
          <p:cNvSpPr/>
          <p:nvPr/>
        </p:nvSpPr>
        <p:spPr>
          <a:xfrm>
            <a:off x="4648320" y="5410080"/>
            <a:ext cx="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1"/>
          <p:cNvSpPr/>
          <p:nvPr/>
        </p:nvSpPr>
        <p:spPr>
          <a:xfrm>
            <a:off x="4724280" y="640080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2743200" y="297180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6"/>
          <p:cNvSpPr/>
          <p:nvPr/>
        </p:nvSpPr>
        <p:spPr>
          <a:xfrm>
            <a:off x="7238880" y="5367240"/>
            <a:ext cx="175284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ошибк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аркировке про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ледствия неправильного взятия проб: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34840"/>
            <a:ext cx="83818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ержки выдачи результатов анализ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лишние повторные взятия проб и анали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удовлетворенности заказч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е зат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ый диагноз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щерб здоровью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рть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8F4A-9025-44C6-AFA0-1D1F02AE62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 проведения иссле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336320"/>
            <a:ext cx="64008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ту запроса на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на маркиров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есите в журнал регистр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меняйте критерии отказа в приеме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7502-D70B-4509-B08C-86DE4B9C86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5_label_computer"/>
          <p:cNvPicPr/>
          <p:nvPr/>
        </p:nvPicPr>
        <p:blipFill>
          <a:blip r:embed="rId1"/>
          <a:stretch/>
        </p:blipFill>
        <p:spPr>
          <a:xfrm>
            <a:off x="74674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j0434713"/>
          <p:cNvPicPr/>
          <p:nvPr/>
        </p:nvPicPr>
        <p:blipFill>
          <a:blip r:embed="rId2"/>
          <a:stretch/>
        </p:blipFill>
        <p:spPr>
          <a:xfrm>
            <a:off x="6858000" y="41911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"/>
          <p:cNvSpPr/>
          <p:nvPr/>
        </p:nvSpPr>
        <p:spPr>
          <a:xfrm>
            <a:off x="5029200" y="472284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тая проба с мочой, причина для отказа в при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457200" y="47242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ированные пробы, заполненные формы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86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9D7F-1DF6-4228-BA02-B5D3F7CDAC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ть ошибки при взятии проб, которые могут привести к неправильным результатам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числить пункты, которые должны быть включены в лабораторную информационную брошюру, разработанную для сотрудников, берущих пробы вне лаборат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ть критерии отказа в приеме сомнительных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ть систему обращения с пробами, включая сбор, транспортировку, хранение и уничто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яснить важность поддержания сохранности проб и обеспечения соблюдения всех нормативов и предписаний при транспортировке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9AB6-57BD-425A-BBB2-EE73CF464E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ace_phone_results"/>
          <p:cNvPicPr/>
          <p:nvPr/>
        </p:nvPicPr>
        <p:blipFill>
          <a:blip r:embed="rId1"/>
          <a:stretch/>
        </p:blipFill>
        <p:spPr>
          <a:xfrm>
            <a:off x="6934320" y="91440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ействия в случае отказа в прием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вестите лицо, запросившее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осите другую проб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регистрируйте отклоненные проб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те отклоненные пробы на основании установленных критерие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ительные ситуации могут потребовать анализа сомнительных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934320" y="2362320"/>
            <a:ext cx="1800000" cy="3809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FIL19"/>
          <p:cNvPicPr/>
          <p:nvPr/>
        </p:nvPicPr>
        <p:blipFill>
          <a:blip r:embed="rId3"/>
          <a:stretch/>
        </p:blipFill>
        <p:spPr>
          <a:xfrm>
            <a:off x="7162920" y="4772160"/>
            <a:ext cx="1828800" cy="127152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14FF-4690-4646-B6FC-36F22446B2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9384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 приема или регистрации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7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53040" y="1162080"/>
            <a:ext cx="2633760" cy="2681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457200" y="1143000"/>
            <a:ext cx="84582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ен включа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лаборат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пр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мографические данные, если требую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своенный в лаборатории идентификационный но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ое исслед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CAB6-30D8-4C68-BCCA-E5AC44B183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 вручну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320" y="1182600"/>
            <a:ext cx="89913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твердите получение, укажите дату и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екватно промаркируйте проб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аните вместе с запросом на анализ до тех пор, пока им не будет присвоен 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йте аликвоты – их связь с исходной проб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263C-227D-4A16-9B8B-EA70B769E3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5_date_stamp"/>
          <p:cNvPicPr/>
          <p:nvPr/>
        </p:nvPicPr>
        <p:blipFill>
          <a:blip r:embed="rId2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5_req_form"/>
          <p:cNvPicPr/>
          <p:nvPr/>
        </p:nvPicPr>
        <p:blipFill>
          <a:blip r:embed="rId3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1"/>
          <p:cNvSpPr/>
          <p:nvPr/>
        </p:nvSpPr>
        <p:spPr>
          <a:xfrm>
            <a:off x="1676520" y="4114800"/>
            <a:ext cx="1752480" cy="152388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в базе данных должны включ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зяти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ашиваемое 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врача, запросившего исслед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нахождения пациента (палата, клиника, поликлини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ыдач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B7FC-739C-40A7-8EAA-708B055897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5720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120" y="120960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щайтесь со всеми пробами, как если бы они были инфекцио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про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1600200" y="2362320"/>
            <a:ext cx="6400800" cy="3657600"/>
            <a:chOff x="1600200" y="2362320"/>
            <a:chExt cx="6400800" cy="3657600"/>
          </a:xfrm>
        </p:grpSpPr>
        <p:pic>
          <p:nvPicPr>
            <p:cNvPr id="417" name="Picture 6" descr="5730_lores"/>
            <p:cNvPicPr/>
            <p:nvPr/>
          </p:nvPicPr>
          <p:blipFill>
            <a:blip r:embed="rId1"/>
            <a:stretch/>
          </p:blipFill>
          <p:spPr>
            <a:xfrm>
              <a:off x="2057400" y="2467080"/>
              <a:ext cx="4229280" cy="31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7" descr="bio_hazrd_red_blk_cdc"/>
            <p:cNvPicPr/>
            <p:nvPr/>
          </p:nvPicPr>
          <p:blipFill>
            <a:blip r:embed="rId2"/>
            <a:stretch/>
          </p:blipFill>
          <p:spPr>
            <a:xfrm>
              <a:off x="5105520" y="3762360"/>
              <a:ext cx="289548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WordArt 8"/>
            <p:cNvSpPr txBox="1"/>
            <p:nvPr/>
          </p:nvSpPr>
          <p:spPr>
            <a:xfrm>
              <a:off x="1600200" y="2362320"/>
              <a:ext cx="61722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Общие меры предосторожности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20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C2E8-1732-46DD-A806-13B3686EE6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проб – задокументированные правил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68580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ющ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пробы хран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й ср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каком мес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каких услови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ю хранен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4" descr="storage_fridge"/>
          <p:cNvPicPr/>
          <p:nvPr/>
        </p:nvPicPr>
        <p:blipFill>
          <a:blip r:embed="rId1"/>
          <a:srcRect l="22117" t="14899" r="33172" b="14899"/>
          <a:stretch/>
        </p:blipFill>
        <p:spPr>
          <a:xfrm>
            <a:off x="6172200" y="1905120"/>
            <a:ext cx="2522520" cy="294156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07B2-C88C-4D90-86E2-C5021DCE7B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рок хранения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правила по срокам 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пробами на хранении, за тем, сколько раз они были заморожены/размороже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ивайте организованную и доступную систе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 график пересмотра всех проб в хран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процедуры по отсле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freezer2"/>
          <p:cNvPicPr/>
          <p:nvPr/>
        </p:nvPicPr>
        <p:blipFill>
          <a:blip r:embed="rId1"/>
          <a:stretch/>
        </p:blipFill>
        <p:spPr>
          <a:xfrm>
            <a:off x="6019920" y="1600200"/>
            <a:ext cx="3046320" cy="403848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DF7D-A486-4A10-8C6D-7A6A94E0E2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проб в другие (субподрядные) лаборатор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37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данные проб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ту пере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милию лица,                                       передавшего проб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и 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ремя выполнения анали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ставка результато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 субподрядной лаборатории в собственну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ы с передачей проб на анали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4" descr="4_log_book"/>
          <p:cNvPicPr/>
          <p:nvPr/>
        </p:nvPicPr>
        <p:blipFill>
          <a:blip r:embed="rId1"/>
          <a:stretch/>
        </p:blipFill>
        <p:spPr>
          <a:xfrm>
            <a:off x="5943600" y="1579680"/>
            <a:ext cx="2895480" cy="238284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E5FF-737F-44B4-847C-973416A59F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езопасное уничтожение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ленные правила по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местных и государственных прави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по обеззара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5" descr="biohazard_bag"/>
          <p:cNvPicPr/>
          <p:nvPr/>
        </p:nvPicPr>
        <p:blipFill>
          <a:blip r:embed="rId1"/>
          <a:stretch/>
        </p:blipFill>
        <p:spPr>
          <a:xfrm>
            <a:off x="3666960" y="40384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19200" y="39625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MCj03266380000[1]"/>
          <p:cNvPicPr/>
          <p:nvPr/>
        </p:nvPicPr>
        <p:blipFill>
          <a:blip r:embed="rId3"/>
          <a:stretch/>
        </p:blipFill>
        <p:spPr>
          <a:xfrm>
            <a:off x="6029280" y="4038480"/>
            <a:ext cx="2505240" cy="2060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F3E6-DA74-4423-88F8-D049F6A380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нспортировка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ие меры по                          поддержанию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контейнеры               для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ия п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блюдение требований                                                       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437160" y="2077920"/>
            <a:ext cx="2401920" cy="287496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8FD7-7084-4DD8-BD3D-94E425F30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71440" y="4572000"/>
            <a:ext cx="579132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проверя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дела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MCj04377970000[1]"/>
          <p:cNvPicPr/>
          <p:nvPr/>
        </p:nvPicPr>
        <p:blipFill>
          <a:blip r:embed="rId1"/>
          <a:stretch/>
        </p:blipFill>
        <p:spPr>
          <a:xfrm>
            <a:off x="533520" y="4267080"/>
            <a:ext cx="1981080" cy="1782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57200" y="7621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итуация: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Ваша лаборатория провела ПЦР исследование на выявление вируса гриппа в пробах пациентов из «больницы А». Большинство результатов отрицатель-ные. Врачи «больницы А» утверждают, что у их пациентов наблюдаются явно выра-женные клинические симптомы гриппа»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E928-EBE2-4465-BB0E-43F6D3A579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80880" y="609480"/>
            <a:ext cx="85345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799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Откуда они берутся?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их разрабатывает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28600" y="3321000"/>
            <a:ext cx="8686800" cy="240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Государственные нормативы по транспорт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равила транспортировки по воздуху ИКАО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И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Организации наземного и морского транспорта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Служба доставки поч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Частные курьерски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52F3-DF0E-49FE-BFE8-8162B105B9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1" descr="images.jpg"/>
          <p:cNvPicPr/>
          <p:nvPr/>
        </p:nvPicPr>
        <p:blipFill>
          <a:blip r:embed="rId1"/>
          <a:stretch/>
        </p:blipFill>
        <p:spPr>
          <a:xfrm>
            <a:off x="2873520" y="4648320"/>
            <a:ext cx="741240" cy="7048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6"/>
          <p:cNvGrpSpPr/>
          <p:nvPr/>
        </p:nvGrpSpPr>
        <p:grpSpPr>
          <a:xfrm>
            <a:off x="228600" y="1206360"/>
            <a:ext cx="8686440" cy="4965480"/>
            <a:chOff x="228600" y="1206360"/>
            <a:chExt cx="8686440" cy="4965480"/>
          </a:xfrm>
        </p:grpSpPr>
        <p:grpSp>
          <p:nvGrpSpPr>
            <p:cNvPr id="455" name="Organization Chart 2"/>
            <p:cNvGrpSpPr/>
            <p:nvPr/>
          </p:nvGrpSpPr>
          <p:grpSpPr>
            <a:xfrm>
              <a:off x="228600" y="1206360"/>
              <a:ext cx="8686440" cy="4965480"/>
              <a:chOff x="228600" y="1206360"/>
              <a:chExt cx="8686440" cy="4965480"/>
            </a:xfrm>
          </p:grpSpPr>
          <p:cxnSp>
            <p:nvCxnSpPr>
              <p:cNvPr id="456" name="_s218116"/>
              <p:cNvCxnSpPr>
                <a:stCxn id="457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361224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59" name="_s218117"/>
              <p:cNvCxnSpPr>
                <a:stCxn id="460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225648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61" name="_s218118"/>
              <p:cNvCxnSpPr>
                <a:stCxn id="462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90396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sp>
            <p:nvSpPr>
              <p:cNvPr id="458" name="_s218119"/>
              <p:cNvSpPr/>
              <p:nvPr/>
            </p:nvSpPr>
            <p:spPr>
              <a:xfrm>
                <a:off x="228600" y="1206360"/>
                <a:ext cx="512028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Обязательное выполн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_s218120"/>
              <p:cNvSpPr/>
              <p:nvPr/>
            </p:nvSpPr>
            <p:spPr>
              <a:xfrm>
                <a:off x="3565800" y="256032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Нарушени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_s218121"/>
              <p:cNvSpPr/>
              <p:nvPr/>
            </p:nvSpPr>
            <p:spPr>
              <a:xfrm>
                <a:off x="3565800" y="391464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авила по ликвидации последствий аварий и разлитий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–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нижение биологической опас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_s218122"/>
              <p:cNvSpPr/>
              <p:nvPr/>
            </p:nvSpPr>
            <p:spPr>
              <a:xfrm>
                <a:off x="3565800" y="526860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Безопасность: курьеров, лабораторного персонала, пассажиров, перевозч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11"/>
              <p:cNvSpPr/>
              <p:nvPr/>
            </p:nvSpPr>
            <p:spPr>
              <a:xfrm>
                <a:off x="5717520" y="2730240"/>
                <a:ext cx="835200" cy="685800"/>
              </a:xfrm>
              <a:custGeom>
                <a:avLst/>
                <a:gdLst>
                  <a:gd name="textAreaLeft" fmla="*/ 129960 w 835200"/>
                  <a:gd name="textAreaRight" fmla="*/ 730440 w 835200"/>
                  <a:gd name="textAreaTop" fmla="*/ 171360 h 685800"/>
                  <a:gd name="textAreaBottom" fmla="*/ 51444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lnTo>
                      <a:pt x="16200" y="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lnTo>
                      <a:pt x="135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Picture 12"/>
              <p:cNvSpPr/>
              <p:nvPr/>
            </p:nvSpPr>
            <p:spPr>
              <a:xfrm>
                <a:off x="2819520" y="478764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13" descr="j0424198"/>
            <p:cNvPicPr/>
            <p:nvPr/>
          </p:nvPicPr>
          <p:blipFill>
            <a:blip r:embed="rId2"/>
            <a:stretch/>
          </p:blipFill>
          <p:spPr>
            <a:xfrm>
              <a:off x="6553440" y="2197080"/>
              <a:ext cx="2209680" cy="14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 Box 2"/>
          <p:cNvSpPr/>
          <p:nvPr/>
        </p:nvSpPr>
        <p:spPr>
          <a:xfrm>
            <a:off x="152280" y="43488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9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1541-0DA0-4C5D-82BB-4B84280E09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20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04920" y="369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52280" y="14590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ая классификация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ана на 2 транспортных катег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04920" y="196992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тегория</a:t>
            </a: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 A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екционные материалы, способные вызвать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лительную нетруд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пасное для жизни или смертельное заболевание людей или людей 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аковка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ее прочная тройная упаковка с наличием всех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ументов по опасному груз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ерсонала, задействованного в перево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9939-5C0E-43D7-946E-5CA11746FA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533520" y="1808280"/>
            <a:ext cx="8381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Категория Б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екционные материалы, не входящие в категорию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строгие требования к тройной упак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требуется</a:t>
            </a: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ации по опасному гру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4401-44A1-4710-A661-4B96821589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04920" y="44604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457200" y="482760"/>
            <a:ext cx="52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04920" y="1146240"/>
            <a:ext cx="83818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инфекцио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патогенные 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содержащие нейтрализованные или инактивированные патог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из окружающей среды, не представляющие опасности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ь и компоненты крови, предназначенные для 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кани и органы, разрешенные для транспла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высушенной крови или для выявления скрытого кровотечения в фекал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ззараженные медицинские и клинические от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2783-3FFB-4C2D-879D-71C340CD8A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80880" y="57150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en-GB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ed (rev) of UN Model Regulations</a:t>
            </a:r>
            <a:r>
              <a:rPr b="1" lang="fr-CH" sz="1400" spc="-1" strike="noStrike">
                <a:solidFill>
                  <a:srgbClr val="00007d"/>
                </a:solidFill>
                <a:latin typeface="Verdana"/>
              </a:rPr>
              <a:t> for the Transport of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3124080" y="1828800"/>
            <a:ext cx="297180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33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533520" y="4208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ойная упаковка 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ОН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76320" y="1828800"/>
            <a:ext cx="29718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ерфорацию с силой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ировка и этикетки О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документац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асному груз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UNMARK98"/>
          <p:cNvPicPr/>
          <p:nvPr/>
        </p:nvPicPr>
        <p:blipFill>
          <a:blip r:embed="rId1"/>
          <a:stretch/>
        </p:blipFill>
        <p:spPr>
          <a:xfrm>
            <a:off x="1566720" y="5791320"/>
            <a:ext cx="1557360" cy="339480"/>
          </a:xfrm>
          <a:prstGeom prst="rect">
            <a:avLst/>
          </a:prstGeom>
          <a:ln w="0">
            <a:noFill/>
          </a:ln>
        </p:spPr>
      </p:pic>
      <p:sp>
        <p:nvSpPr>
          <p:cNvPr id="488" name="Line 7"/>
          <p:cNvSpPr/>
          <p:nvPr/>
        </p:nvSpPr>
        <p:spPr>
          <a:xfrm>
            <a:off x="31240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15800" y="182880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52280" y="12193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3352680" y="121932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"/>
          <p:cNvGrpSpPr/>
          <p:nvPr/>
        </p:nvGrpSpPr>
        <p:grpSpPr>
          <a:xfrm>
            <a:off x="4800600" y="4749840"/>
            <a:ext cx="741240" cy="812880"/>
            <a:chOff x="4800600" y="4749840"/>
            <a:chExt cx="741240" cy="812880"/>
          </a:xfrm>
        </p:grpSpPr>
        <p:sp>
          <p:nvSpPr>
            <p:cNvPr id="493" name="AutoShape 11"/>
            <p:cNvSpPr/>
            <p:nvPr/>
          </p:nvSpPr>
          <p:spPr>
            <a:xfrm>
              <a:off x="4800600" y="4749840"/>
              <a:ext cx="741240" cy="81288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4854960" y="5029200"/>
              <a:ext cx="63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UN 337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"/>
          <p:cNvGrpSpPr/>
          <p:nvPr/>
        </p:nvGrpSpPr>
        <p:grpSpPr>
          <a:xfrm>
            <a:off x="2260440" y="2540160"/>
            <a:ext cx="739800" cy="812520"/>
            <a:chOff x="2260440" y="2540160"/>
            <a:chExt cx="739800" cy="812520"/>
          </a:xfrm>
        </p:grpSpPr>
        <p:sp>
          <p:nvSpPr>
            <p:cNvPr id="496" name="AutoShape 3"/>
            <p:cNvSpPr/>
            <p:nvPr/>
          </p:nvSpPr>
          <p:spPr>
            <a:xfrm>
              <a:off x="2260440" y="2540160"/>
              <a:ext cx="739800" cy="8125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13" descr="biohazard symbol II"/>
            <p:cNvPicPr/>
            <p:nvPr/>
          </p:nvPicPr>
          <p:blipFill>
            <a:blip r:embed="rId2"/>
            <a:stretch/>
          </p:blipFill>
          <p:spPr>
            <a:xfrm>
              <a:off x="2543040" y="2671920"/>
              <a:ext cx="183960" cy="1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14"/>
            <p:cNvSpPr/>
            <p:nvPr/>
          </p:nvSpPr>
          <p:spPr>
            <a:xfrm>
              <a:off x="2523600" y="30765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Line 15"/>
          <p:cNvSpPr/>
          <p:nvPr/>
        </p:nvSpPr>
        <p:spPr>
          <a:xfrm>
            <a:off x="60958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6095880" y="110664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ы от люд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 – 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032F-3F3F-4979-A071-BFED01035B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1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094440" y="1828800"/>
            <a:ext cx="29732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кват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атегория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6DCB-1E4B-4E56-AFC9-EE8A0AA425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156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транспортировкой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айте все необходимые прави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 всем процедурам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транспортиров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аковка и другие меры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236D-C49A-4D37-9123-211B0C09B0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3962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520" y="121248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абораторной информацион-ной брошюрой всех пользователе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едите систему отслеживания пути перемещения проб по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и внедрите правила по хранению и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сохранностью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блюдение всех предписаний и нормативов по транспортировке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Всегда следуйте общим правилам техники безопас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F6F9-0929-4D4E-8E79-E2A9B57363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должна получать качественные пробы для того, чтобы обеспечить как правильность и надежность анализов, так и уверенность в их результата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напрямую влияет на ход и результаты лечения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392A-C2FD-49F6-B09E-5B7AF8F098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D295-A39F-4433-BF87-DD6D0C9E05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982D-361D-4623-A6A7-B837403C23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3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3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4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4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5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7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434880"/>
            <a:ext cx="87631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зультат любого лабораторного анализа будет хорош настолько, насколько хорошей была полученная лабораторие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б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j0177963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400583"/>
          <p:cNvPicPr/>
          <p:nvPr/>
        </p:nvPicPr>
        <p:blipFill>
          <a:blip r:embed="rId2"/>
          <a:stretch/>
        </p:blipFill>
        <p:spPr>
          <a:xfrm>
            <a:off x="1447920" y="2898720"/>
            <a:ext cx="2495520" cy="312120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9323-1800-4EA9-A2B5-F99BCA35CE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6" descr=""/>
          <p:cNvPicPr/>
          <p:nvPr/>
        </p:nvPicPr>
        <p:blipFill>
          <a:blip r:embed="rId1"/>
          <a:stretch/>
        </p:blipFill>
        <p:spPr>
          <a:xfrm>
            <a:off x="6095880" y="4000680"/>
            <a:ext cx="2138400" cy="2628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2"/>
          <a:stretch/>
        </p:blipFill>
        <p:spPr>
          <a:xfrm>
            <a:off x="838080" y="1214280"/>
            <a:ext cx="2468520" cy="1676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65D6-DD79-4045-A717-FF3F3534D3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Diagram 2"/>
          <p:cNvGrpSpPr/>
          <p:nvPr/>
        </p:nvGrpSpPr>
        <p:grpSpPr>
          <a:xfrm>
            <a:off x="307800" y="649440"/>
            <a:ext cx="8606880" cy="5639760"/>
            <a:chOff x="307800" y="649440"/>
            <a:chExt cx="8606880" cy="5639760"/>
          </a:xfrm>
        </p:grpSpPr>
        <p:sp>
          <p:nvSpPr>
            <p:cNvPr id="214" name="Picture 5"/>
            <p:cNvSpPr/>
            <p:nvPr/>
          </p:nvSpPr>
          <p:spPr>
            <a:xfrm>
              <a:off x="912600" y="1219680"/>
              <a:ext cx="239472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150"/>
            <p:cNvSpPr/>
            <p:nvPr/>
          </p:nvSpPr>
          <p:spPr>
            <a:xfrm flipH="1">
              <a:off x="245520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6151"/>
            <p:cNvSpPr/>
            <p:nvPr/>
          </p:nvSpPr>
          <p:spPr>
            <a:xfrm>
              <a:off x="307800" y="2764440"/>
              <a:ext cx="251280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продуктивность лаборатор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6152"/>
            <p:cNvSpPr/>
            <p:nvPr/>
          </p:nvSpPr>
          <p:spPr>
            <a:xfrm>
              <a:off x="460944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6153"/>
            <p:cNvSpPr/>
            <p:nvPr/>
          </p:nvSpPr>
          <p:spPr>
            <a:xfrm>
              <a:off x="3535200" y="4879800"/>
              <a:ext cx="21510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рямо влияет на лечение и его результ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6154"/>
            <p:cNvSpPr/>
            <p:nvPr/>
          </p:nvSpPr>
          <p:spPr>
            <a:xfrm>
              <a:off x="568368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55"/>
            <p:cNvSpPr/>
            <p:nvPr/>
          </p:nvSpPr>
          <p:spPr>
            <a:xfrm>
              <a:off x="6763680" y="2764440"/>
              <a:ext cx="215100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решения врач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6"/>
            <p:cNvSpPr/>
            <p:nvPr/>
          </p:nvSpPr>
          <p:spPr>
            <a:xfrm flipV="1">
              <a:off x="4609440" y="205668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6157"/>
            <p:cNvSpPr/>
            <p:nvPr/>
          </p:nvSpPr>
          <p:spPr>
            <a:xfrm>
              <a:off x="3200760" y="649440"/>
              <a:ext cx="279612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Verdana"/>
                </a:rPr>
                <a:t>Обязательно для правильного лабораторного диагно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6158"/>
            <p:cNvSpPr/>
            <p:nvPr/>
          </p:nvSpPr>
          <p:spPr>
            <a:xfrm>
              <a:off x="3535200" y="2764440"/>
              <a:ext cx="215100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3352680" y="274320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911"/>
                </a:solidFill>
                <a:latin typeface="Verdana"/>
              </a:rPr>
              <a:t>Правильное обращение с про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6" descr=""/>
          <p:cNvPicPr/>
          <p:nvPr/>
        </p:nvPicPr>
        <p:blipFill>
          <a:blip r:embed="rId1"/>
          <a:stretch/>
        </p:blipFill>
        <p:spPr>
          <a:xfrm>
            <a:off x="2322360" y="990720"/>
            <a:ext cx="1106640" cy="103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2" descr=""/>
          <p:cNvPicPr/>
          <p:nvPr/>
        </p:nvPicPr>
        <p:blipFill>
          <a:blip r:embed="rId2"/>
          <a:stretch/>
        </p:blipFill>
        <p:spPr>
          <a:xfrm>
            <a:off x="1233360" y="487692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9" descr=""/>
          <p:cNvPicPr/>
          <p:nvPr/>
        </p:nvPicPr>
        <p:blipFill>
          <a:blip r:embed="rId3"/>
          <a:stretch/>
        </p:blipFill>
        <p:spPr>
          <a:xfrm>
            <a:off x="5881680" y="475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"/>
          <p:cNvPicPr/>
          <p:nvPr/>
        </p:nvPicPr>
        <p:blipFill>
          <a:blip r:embed="rId4"/>
          <a:stretch/>
        </p:blipFill>
        <p:spPr>
          <a:xfrm>
            <a:off x="7775640" y="5083200"/>
            <a:ext cx="1147680" cy="101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"/>
          <p:cNvPicPr/>
          <p:nvPr/>
        </p:nvPicPr>
        <p:blipFill>
          <a:blip r:embed="rId5"/>
          <a:stretch/>
        </p:blipFill>
        <p:spPr>
          <a:xfrm>
            <a:off x="7391520" y="2597040"/>
            <a:ext cx="1301760" cy="136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5_req_form"/>
          <p:cNvPicPr/>
          <p:nvPr/>
        </p:nvPicPr>
        <p:blipFill>
          <a:blip r:embed="rId6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5"/>
          <p:cNvSpPr/>
          <p:nvPr/>
        </p:nvSpPr>
        <p:spPr>
          <a:xfrm>
            <a:off x="938160" y="1266840"/>
            <a:ext cx="1195560" cy="108360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**ЛАБ. КАЧЕСТВА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7" descr="j0404235"/>
          <p:cNvPicPr/>
          <p:nvPr/>
        </p:nvPicPr>
        <p:blipFill>
          <a:blip r:embed="rId7"/>
          <a:stretch/>
        </p:blipFill>
        <p:spPr>
          <a:xfrm>
            <a:off x="5881680" y="5622840"/>
            <a:ext cx="1044720" cy="1141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4" descr="5-sample_containers"/>
          <p:cNvPicPr/>
          <p:nvPr/>
        </p:nvPicPr>
        <p:blipFill>
          <a:blip r:embed="rId8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5" descr="6216_thumb"/>
          <p:cNvPicPr/>
          <p:nvPr/>
        </p:nvPicPr>
        <p:blipFill>
          <a:blip r:embed="rId9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grpSp>
        <p:nvGrpSpPr>
          <p:cNvPr id="236" name="Diagram 2"/>
          <p:cNvGrpSpPr/>
          <p:nvPr/>
        </p:nvGrpSpPr>
        <p:grpSpPr>
          <a:xfrm>
            <a:off x="1066680" y="915840"/>
            <a:ext cx="7773480" cy="5486040"/>
            <a:chOff x="1066680" y="915840"/>
            <a:chExt cx="7773480" cy="5486040"/>
          </a:xfrm>
        </p:grpSpPr>
        <p:sp>
          <p:nvSpPr>
            <p:cNvPr id="237" name="Picture 4"/>
            <p:cNvSpPr/>
            <p:nvPr/>
          </p:nvSpPr>
          <p:spPr>
            <a:xfrm rot="21392400">
              <a:off x="7697160" y="2742840"/>
              <a:ext cx="96840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245"/>
            <p:cNvSpPr/>
            <p:nvPr/>
          </p:nvSpPr>
          <p:spPr>
            <a:xfrm flipH="1" flipV="1">
              <a:off x="3309840" y="292212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247"/>
            <p:cNvSpPr/>
            <p:nvPr/>
          </p:nvSpPr>
          <p:spPr>
            <a:xfrm flipH="1">
              <a:off x="3309840" y="392760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248"/>
            <p:cNvSpPr/>
            <p:nvPr/>
          </p:nvSpPr>
          <p:spPr>
            <a:xfrm>
              <a:off x="1548360" y="3962520"/>
              <a:ext cx="1883160" cy="1170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Транспортиро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249"/>
            <p:cNvSpPr/>
            <p:nvPr/>
          </p:nvSpPr>
          <p:spPr>
            <a:xfrm>
              <a:off x="4876560" y="426240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250"/>
            <p:cNvSpPr/>
            <p:nvPr/>
          </p:nvSpPr>
          <p:spPr>
            <a:xfrm>
              <a:off x="3624840" y="4932000"/>
              <a:ext cx="24714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Сроки и условия хранения, уничто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251"/>
            <p:cNvSpPr/>
            <p:nvPr/>
          </p:nvSpPr>
          <p:spPr>
            <a:xfrm>
              <a:off x="5659560" y="3927600"/>
              <a:ext cx="81756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0252"/>
            <p:cNvSpPr/>
            <p:nvPr/>
          </p:nvSpPr>
          <p:spPr>
            <a:xfrm>
              <a:off x="6327000" y="3927600"/>
              <a:ext cx="2513160" cy="120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Оценка, обработка, отслеж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0253"/>
            <p:cNvSpPr/>
            <p:nvPr/>
          </p:nvSpPr>
          <p:spPr>
            <a:xfrm flipV="1">
              <a:off x="5659560" y="29246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10254"/>
            <p:cNvSpPr/>
            <p:nvPr/>
          </p:nvSpPr>
          <p:spPr>
            <a:xfrm>
              <a:off x="6321600" y="19206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Маркир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255"/>
            <p:cNvSpPr/>
            <p:nvPr/>
          </p:nvSpPr>
          <p:spPr>
            <a:xfrm flipH="1" flipV="1">
              <a:off x="4622400" y="2255040"/>
              <a:ext cx="25380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257"/>
            <p:cNvSpPr/>
            <p:nvPr/>
          </p:nvSpPr>
          <p:spPr>
            <a:xfrm>
              <a:off x="3971880" y="29250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icture 18"/>
            <p:cNvSpPr/>
            <p:nvPr/>
          </p:nvSpPr>
          <p:spPr>
            <a:xfrm>
              <a:off x="3429360" y="5562360"/>
              <a:ext cx="6588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icture 19"/>
            <p:cNvSpPr/>
            <p:nvPr/>
          </p:nvSpPr>
          <p:spPr>
            <a:xfrm>
              <a:off x="1066680" y="4953240"/>
              <a:ext cx="965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icture 11"/>
            <p:cNvSpPr/>
            <p:nvPr/>
          </p:nvSpPr>
          <p:spPr>
            <a:xfrm>
              <a:off x="7620480" y="4953240"/>
              <a:ext cx="106596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icture 19"/>
            <p:cNvSpPr/>
            <p:nvPr/>
          </p:nvSpPr>
          <p:spPr>
            <a:xfrm>
              <a:off x="7239600" y="3351600"/>
              <a:ext cx="838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icture 13"/>
            <p:cNvSpPr/>
            <p:nvPr/>
          </p:nvSpPr>
          <p:spPr>
            <a:xfrm>
              <a:off x="1066680" y="3580560"/>
              <a:ext cx="10713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icture 7"/>
            <p:cNvSpPr/>
            <p:nvPr/>
          </p:nvSpPr>
          <p:spPr>
            <a:xfrm>
              <a:off x="2818080" y="1293480"/>
              <a:ext cx="12942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icture 14"/>
            <p:cNvSpPr/>
            <p:nvPr/>
          </p:nvSpPr>
          <p:spPr>
            <a:xfrm>
              <a:off x="5562000" y="4494960"/>
              <a:ext cx="114300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icture 25"/>
            <p:cNvSpPr/>
            <p:nvPr/>
          </p:nvSpPr>
          <p:spPr>
            <a:xfrm>
              <a:off x="4276080" y="2830680"/>
              <a:ext cx="12009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246"/>
            <p:cNvSpPr/>
            <p:nvPr/>
          </p:nvSpPr>
          <p:spPr>
            <a:xfrm>
              <a:off x="1370880" y="1918080"/>
              <a:ext cx="20610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Необходимая информация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0256"/>
            <p:cNvSpPr/>
            <p:nvPr/>
          </p:nvSpPr>
          <p:spPr>
            <a:xfrm>
              <a:off x="3466440" y="915840"/>
              <a:ext cx="2314800" cy="1339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Взятие, сохран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41"/>
          <p:cNvSpPr/>
          <p:nvPr/>
        </p:nvSpPr>
        <p:spPr>
          <a:xfrm>
            <a:off x="3456000" y="2556000"/>
            <a:ext cx="2844720" cy="20444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11"/>
                </a:solidFill>
                <a:latin typeface="Verdana"/>
              </a:rPr>
              <a:t>Лабораторная информацион-ная брошюра</a:t>
            </a:r>
            <a:br>
              <a:rPr sz="2400"/>
            </a:br>
            <a:r>
              <a:rPr b="0" lang="ru-RU" sz="2800" spc="-1" strike="noStrike">
                <a:solidFill>
                  <a:srgbClr val="ffd911"/>
                </a:solidFill>
                <a:latin typeface="Verdana"/>
              </a:rPr>
              <a:t>Правила и пр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0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457200" y="48564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1" descr=""/>
          <p:cNvPicPr/>
          <p:nvPr/>
        </p:nvPicPr>
        <p:blipFill>
          <a:blip r:embed="rId11"/>
          <a:stretch/>
        </p:blipFill>
        <p:spPr>
          <a:xfrm rot="240000">
            <a:off x="993600" y="3697200"/>
            <a:ext cx="1140120" cy="658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8" descr="j0205510"/>
          <p:cNvPicPr/>
          <p:nvPr/>
        </p:nvPicPr>
        <p:blipFill>
          <a:blip r:embed="rId12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2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62B9-1C7C-4F25-BB76-9FCAEA2E37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ная информационная брошюр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30240"/>
            <a:ext cx="807732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ит информацию, необходимую для сотрудников, берущих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 во всех пунктах за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известно вс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а быть ссылка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н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стве по качест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1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634E-7278-4D91-80EB-474E741E86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2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j0359051"/>
          <p:cNvPicPr/>
          <p:nvPr/>
        </p:nvPicPr>
        <p:blipFill>
          <a:blip r:embed="rId1"/>
          <a:stretch/>
        </p:blipFill>
        <p:spPr>
          <a:xfrm>
            <a:off x="5181480" y="3124080"/>
            <a:ext cx="3262320" cy="2951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5638680" y="3352680"/>
            <a:ext cx="990720" cy="1169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932120"/>
            <a:ext cx="8534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и адрес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ктные ФИО и номера телефо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ы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исок анализов, выполняемых 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для с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транспортиров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выполнения анализа (время оборот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срочного выполнения анализ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8889-E065-4503-A48C-CCD8E9DC3F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457200" y="433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лабораторной информационной брошю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1T12:33:26Z</dcterms:modified>
  <cp:revision>254</cp:revision>
  <dc:subject/>
  <dc:title>Slide 1</dc:title>
</cp:coreProperties>
</file>