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B4190-73DB-4724-A9BC-63D23422A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849D4-EB9F-4C17-A6AB-1F45BB0D2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BF344-8EE1-4E21-B368-84E478DDC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0C391-D70D-4E94-A1B4-A2D6C9F2A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BC894-8DA3-4FD2-9043-3E86FCF5B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82EF9-0CB4-43F6-95F2-ABCB55B7C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055EE-95AA-483B-986B-E4EED8073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80930-44C1-4ACE-9138-024452C5D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AACB1-4BA5-4824-B85E-53BB6C689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9E62A-8E6F-48D2-9BB4-404CD03EA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2CF31-77E7-4D22-A556-2587FA8A4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26CAC-EB85-474A-A4AF-0059BE8EF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45E86-DE76-4116-BB55-3BA303D06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FD168-ED50-413F-B6C0-DF39D156F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4CE6F-3E30-497C-9569-B4EDE32E9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6460E-4BBE-4B13-A60D-57E861114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11196-E6FA-49EE-BAEA-7761B3DE8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E4809-7801-49B0-BCB1-B5D19CA54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6FCD6-6CB8-4AE2-8554-BDF7C41E3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880F-2AE5-45B9-8EA3-2B19C7098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8948-4A83-46EF-A559-AEE78718D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0BA7-96F9-4D9A-A78E-C9D86DE18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7F89-EB8C-428C-80C9-93DF12EB2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41A0-ECE8-441D-92C2-BA91FD2C7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9646-4FA4-4D8C-9DF9-072AC38FD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6BD9-4D43-4F1B-91BA-CA4202B74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D047-39D3-4BE6-A3D0-3EDFFBCD3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C0F0-AD14-4B7A-8764-54A66E318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A7DC-A81A-41B8-8C88-7DEC2C7B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4C1F-CD00-4F3F-85AF-3B8D1020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74A8-1567-4F3F-8607-EB49833B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5C993-24BD-48D9-9E6F-35108A1A1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28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ка оборудования, используемого в микробиологической лаборато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3E984-24C3-4F37-98AE-74E1AC09388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99202-9CB1-44D3-B130-B506B48F8E0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орудование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кроби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ируйте температуру 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рмостат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лодильни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розильных камера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ряйте работ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ческих пипе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клав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сов и измерительных приб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дите запи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99E39-9870-41AF-BA48-72B295DDF11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2"/>
          <p:cNvGraphicFramePr/>
          <p:nvPr/>
        </p:nvGraphicFramePr>
        <p:xfrm>
          <a:off x="1220760" y="144792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44792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2EBC8-0FCE-4A8F-B192-42DAF9D4D00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ерилиз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6414480" y="1219320"/>
            <a:ext cx="2012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Стери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сре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реаг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материа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6553080" y="4660920"/>
            <a:ext cx="2202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Безопас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отходы, готовые к удал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533520" y="1219320"/>
            <a:ext cx="2438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Приготовление ср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реаг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материа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Autoclave1"/>
          <p:cNvPicPr/>
          <p:nvPr/>
        </p:nvPicPr>
        <p:blipFill>
          <a:blip r:embed="rId1"/>
          <a:stretch/>
        </p:blipFill>
        <p:spPr>
          <a:xfrm>
            <a:off x="342900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27"/>
          <p:cNvSpPr/>
          <p:nvPr/>
        </p:nvSpPr>
        <p:spPr>
          <a:xfrm>
            <a:off x="3429000" y="1676520"/>
            <a:ext cx="2590920" cy="838080"/>
          </a:xfrm>
          <a:custGeom>
            <a:avLst/>
            <a:gdLst>
              <a:gd name="textAreaLeft" fmla="*/ 404640 w 2590920"/>
              <a:gd name="textAreaRight" fmla="*/ 2267280 w 259092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228600" y="495288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Контаминированные отх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7"/>
          <p:cNvSpPr/>
          <p:nvPr/>
        </p:nvSpPr>
        <p:spPr>
          <a:xfrm>
            <a:off x="3429000" y="5181480"/>
            <a:ext cx="2590920" cy="838440"/>
          </a:xfrm>
          <a:custGeom>
            <a:avLst/>
            <a:gdLst>
              <a:gd name="textAreaLeft" fmla="*/ 404640 w 2590920"/>
              <a:gd name="textAreaRight" fmla="*/ 2267280 w 25909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75EC6-4E79-4874-81EF-F4CF7C0869A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вухэтапный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троль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Контроль проц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имические индикат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ктериологические индикат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Контроль стерильности проду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ст на р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2BC5F-E0AC-4757-AE51-09531353FA3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дикаторы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1E609-67A0-4505-9BE2-88589DD1992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дикаторы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388620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Хим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пература соответствует требуемой для стерилиз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проверяют время и да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7960" y="1218960"/>
            <a:ext cx="4267080" cy="254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80"/>
                </a:solidFill>
                <a:latin typeface="Arial"/>
              </a:rPr>
              <a:t>Биолог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пература, время и давление соответствуют требуемым для стерил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533520" y="4419720"/>
            <a:ext cx="8153280" cy="2047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Имейте в виду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Ни один из индикаторов не гарантирует стерилизацию, если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Автоклав перегруж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Объем сред слишком больш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F2DCF-7695-4BCC-AB76-A7CEE1E84D2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урнал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54937-376C-4026-9B37-D266BC79EE5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кроскоп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4060_research_large"/>
          <p:cNvPicPr/>
          <p:nvPr/>
        </p:nvPicPr>
        <p:blipFill>
          <a:blip r:embed="rId1"/>
          <a:stretch/>
        </p:blipFill>
        <p:spPr>
          <a:xfrm>
            <a:off x="30492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3733920" y="1295280"/>
            <a:ext cx="5181480" cy="5029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Содержите линзы в чисто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Имейте по крайней мере один иммерсионный объектив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(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х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Используйте подпружиненные объекти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Не допускайте попадания масла на не иммерсионные объекти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Следите за тем, чтобы образец не оказался выше 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линзы объект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 Narrow"/>
              </a:rPr>
              <a:t>Поддерживайте равномерное освещение (освещение по Келер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Olga</cp:lastModifiedBy>
  <dcterms:modified xsi:type="dcterms:W3CDTF">2013-05-08T12:35:27Z</dcterms:modified>
  <cp:revision>40</cp:revision>
  <dc:subject/>
  <dc:title>Slide 1</dc:title>
</cp:coreProperties>
</file>