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5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6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7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B503E-38F5-4612-ABF7-9A52C1FD8B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E809B-CF77-460E-BCF8-5E5B9713B5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FCB35-D09E-4623-A240-54467856D7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535AC-D3F1-4369-BB6F-BE0072DEB2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5BED2-336F-4D8A-9E19-9F2A9201E0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9424-D6DC-4EC3-9F30-943D6DFA5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1B50-EA42-4A30-A907-BAB06BFF8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99C4-4A07-4A93-A28B-9C17883E4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77E6-C98F-443E-AD2B-CBA148F76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A043B1-1032-4AE1-955D-F5992EA8FA0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8D4A82-3395-4795-99C2-7A26A4D7D69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D9B5A5-1693-4C9A-9B04-EA07CB45012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89AED7-3AFF-4DD4-A0A4-A404C7D9194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8F4F55-2E4B-46A5-BF18-7BD29152289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17FE77-A579-4C21-AF0E-AEE6D9EFAE5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58E276-03D2-4586-8510-0BBB93D8DF4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DB97-4948-473E-AE72-6E5629433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C66798-1AEB-4E70-8F66-68EEDBE7121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A543E6-A006-407D-99E0-81E46114469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0FCE8F-E938-4EE3-988D-BF640EBC347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398BAA-E5C5-4960-BA9C-9A797D4C523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E518F0-3AF6-48CD-ACC1-268E845F5B1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E808-DA67-4E0B-A98A-5C4478806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4791-38C9-4588-9860-BEDB364D2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0464-07A5-4CFD-BBC0-4A1DF207E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8BE3-0DB7-4549-A30B-95669D60D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F5B8-6BEF-4612-9088-CDB8C6471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BD4D-6542-4BFE-84B7-5A0C9A524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01FB-F109-42F2-BEC7-DE1F86BE0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AD7D3-75F7-48DC-B2F5-66896787A8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A8D5D648-1390-4F9F-8C77-65B9662DD37C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9" name="Rectangle 13"/>
          <p:cNvSpPr/>
          <p:nvPr/>
        </p:nvSpPr>
        <p:spPr>
          <a:xfrm>
            <a:off x="755640" y="6391440"/>
            <a:ext cx="619272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Rapid Response Te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828ED1D7-3146-4E0F-9B64-5887A7D9B2C5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3"/>
          <p:cNvSpPr/>
          <p:nvPr/>
        </p:nvSpPr>
        <p:spPr>
          <a:xfrm>
            <a:off x="755640" y="6391440"/>
            <a:ext cx="619272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Rapid Response Te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37F7C-235F-4119-BDC3-284CE20512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1440" y="2421000"/>
            <a:ext cx="9141120" cy="167328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Verdana"/>
              </a:rPr>
              <a:t>Rapid Response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Arial"/>
              </a:rPr>
              <a:t>General objectiv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8280" y="1844640"/>
            <a:ext cx="82170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presentation describes the composition and role of functional, technical multi-disciplinary teams of experts (Rapid Response Teams) that should be deployed in case of emergenci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6840" y="1341360"/>
            <a:ext cx="814716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the end of the session you will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the importance of having fully operational Rapid Response Teams (RRTs) able to act immediately once a suspicious case is repor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composition and terms of reference of the RR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the activities  of the RR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8360" y="76464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RT is a group of experienced experts that are on stand-by and can reach any part of the country within 24 hours. Their actions will help to contain/stop an outbreak early on. They will survey the first case(s), provide health care in a central facility, engage with the community and carry out infection, prevention and control measures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Composition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24000" y="1236240"/>
            <a:ext cx="4032000" cy="35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Arial"/>
                <a:ea typeface="Arial"/>
              </a:rPr>
              <a:t>Natio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clinic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epidemiolog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aboratory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social mob/anthrop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ogistic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psychosocial support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data 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7 burial staff (1 burial te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media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Content Placeholder 2"/>
          <p:cNvSpPr/>
          <p:nvPr/>
        </p:nvSpPr>
        <p:spPr>
          <a:xfrm>
            <a:off x="4356000" y="1236600"/>
            <a:ext cx="4537080" cy="32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Arial"/>
                <a:ea typeface="Arial"/>
              </a:rPr>
              <a:t>Sub-Natio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clinic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epidemiolog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aboratory technic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social mob/anthrop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ogistic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1 social worker, psychiatric nur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1 data cle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7 burial staff (1 burial te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1 local media per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Content Placeholder 2"/>
          <p:cNvSpPr/>
          <p:nvPr/>
        </p:nvSpPr>
        <p:spPr>
          <a:xfrm>
            <a:off x="611280" y="5157720"/>
            <a:ext cx="8208720" cy="8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2060"/>
                </a:solidFill>
                <a:latin typeface="Arial"/>
              </a:rPr>
              <a:t>The number of subnational teams depends on the level of risk,</a:t>
            </a:r>
            <a:br>
              <a:rPr sz="2000"/>
            </a:br>
            <a:r>
              <a:rPr b="0" i="1" lang="en-US" sz="2000" spc="-1" strike="noStrike">
                <a:solidFill>
                  <a:srgbClr val="002060"/>
                </a:solidFill>
                <a:latin typeface="Arial"/>
              </a:rPr>
              <a:t>human resource availability and geographic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Set up one at National level and at least one at subna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Train medical staff on WHO-AFRO module applied in Liberia, including mock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Mapping of health facilities and identify potential ETC 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Train Community volunteers and Epis in subnational RRT (24h hotli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Financial support from ET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Simulation exerci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Role 1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50920" y="1052640"/>
            <a:ext cx="85183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Role (2)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"/>
          <p:cNvSpPr/>
          <p:nvPr/>
        </p:nvSpPr>
        <p:spPr>
          <a:xfrm>
            <a:off x="457200" y="1052640"/>
            <a:ext cx="85345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e appropriate strategies and control measures including risk communications activ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e detailed investigation repor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ibute to the final evaluation of the outbreak respon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stigate rumors, reported outbreaks, and other public health emerg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ordinate rapid response actions w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ners and other ag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te the implementation of the propo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 measures including capacity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Role (3)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5564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W" sz="5400" spc="-1" strike="noStrike">
                <a:solidFill>
                  <a:srgbClr val="0000ff"/>
                </a:solidFill>
                <a:latin typeface="Arial"/>
              </a:rPr>
              <a:t>Thank yo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3:27:53Z</dcterms:modified>
  <cp:revision>145</cp:revision>
  <dc:subject/>
  <dc:title>DPC Training and Technical Update</dc:title>
</cp:coreProperties>
</file>