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995FD-516E-42C5-BD29-67B9EB3242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6F5FF-0037-427D-9531-D19EE73854A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6152B-2BE7-48DD-8043-F6AB1A254D1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63422E3-FDE4-428E-9E48-227C454916A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7A8C55B-72C4-4790-AEEB-9555F672A094}" type="datetime">
              <a:rPr b="0" lang="fr-FR" sz="1200" spc="-1" strike="noStrike">
                <a:solidFill>
                  <a:srgbClr val="000000"/>
                </a:solidFill>
                <a:latin typeface="Times New Roman"/>
                <a:ea typeface="Arial"/>
              </a:rPr>
              <a:t>29/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3F521-EFB3-4DEF-B63B-F3E6BBC5CC8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BBC1C-8EEB-41A7-A564-3DB0ECB3DF0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C10F12-4A29-40EA-AC13-413AD6BAC2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EC9AE-6462-4994-AFA5-364067F0E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8A463A-A146-4954-9322-9A1D0EB255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E8BB61-C3FC-45CD-8957-D3774E432F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B86F4-CB43-471D-A006-BFDFC560D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7422E-8E59-4038-A17A-94553A8F6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72FE1-0CB9-4055-8D65-150A63232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5F89B-9937-411E-A4DF-3F617DB85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28FEF-AE12-4FD8-AE26-928D3F593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37B81-76EE-4DE2-9097-BD2C58D5F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57DDC-12CD-4A93-9312-2D846401F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0D86D-AD6C-443D-A103-7E03D6F2AF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3B731-4568-4077-8325-24444DCC74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623CD59-D38D-466A-8263-7F71C042C26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ED390-8259-4362-AC06-29FDB7A097FA}"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28A27-442F-4531-9ED7-F4FC76F8461B}"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