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EFD8-46C2-447C-AF9D-2AA6FD433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DCEF-AA1D-4B12-808A-3529CF6BB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3F6A-268E-4822-B3D2-9C270F4B7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D364-F3F1-4EDD-A731-6A26791FC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2E58-7500-44F1-BD28-B8FA17C4C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93A6-D9EA-4339-95CC-C6436541B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8490-EF26-4957-A7A0-8294684F3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611E-0F4B-46CD-BAC7-07B32EF35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2842-6D9F-4B2F-9EA4-27A43A20D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7991-AF94-4010-A2B9-BC6F9312C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B007-7F5C-45FC-8A0D-703AB9DD1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5994-1E8F-4F91-8C9D-6951C1638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CCDE-63AC-465D-9B78-811B16805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BDB6-E117-44F7-9FFC-1610462F2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F333-E6CA-4DF9-A057-D8A276BC6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4E65-9F8F-401D-AC48-E656D045E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32C0-6240-4B14-A496-EDA355291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EDEC-2615-48DC-9A2E-F0B3AC9BE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00FA-25CB-446C-B6A9-C58F6F5F8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D4F-E7CD-4C3A-8240-CB249C5C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6F54-BDDD-4D02-BA6E-A0FF560F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6467-49D9-408F-9352-7C9D29C7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782E-4955-41A9-B4D1-2E1BA17B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A5F0-F911-4C88-BF1C-65738A1F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50E6-87D1-4438-AD5F-D08EA079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A47-C8F1-4F7D-AC6C-B021F883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6C83-3484-45EB-8FFA-77FFA428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E58E-1CB3-4A61-A51F-54605501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0245-A1F2-48B7-B5CE-B1D80CAB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DAF-8648-4E3F-BA61-45BA4F82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56A1-AACA-4331-BC9B-5B62105A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F137-F3ED-46D2-9F0C-52099F883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ка оборудования, используемого в микробиологической лаборат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D33D-B0D0-4937-9FEB-159043A871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136D-B294-4E6F-9BFA-9C1E74D531B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орудовани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ируйте температуру 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оста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иль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зильных камер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яйте рабо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ческих пип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кл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ов и измерительных приб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681A-D288-4A7C-B74A-353DF1CE98F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44792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44792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4BBE-4349-40B6-8EF1-04C3242B917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ерил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414480" y="1219320"/>
            <a:ext cx="201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ери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553080" y="4660920"/>
            <a:ext cx="2202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езопас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ходы, готовые к уда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33520" y="1219320"/>
            <a:ext cx="2438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готовление сре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реаг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Autoclave1"/>
          <p:cNvPicPr/>
          <p:nvPr/>
        </p:nvPicPr>
        <p:blipFill>
          <a:blip r:embed="rId1"/>
          <a:stretch/>
        </p:blipFill>
        <p:spPr>
          <a:xfrm>
            <a:off x="342900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7"/>
          <p:cNvSpPr/>
          <p:nvPr/>
        </p:nvSpPr>
        <p:spPr>
          <a:xfrm>
            <a:off x="3429000" y="1676520"/>
            <a:ext cx="2590920" cy="83808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228600" y="4952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онтаминированные отх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7"/>
          <p:cNvSpPr/>
          <p:nvPr/>
        </p:nvSpPr>
        <p:spPr>
          <a:xfrm>
            <a:off x="3429000" y="5181480"/>
            <a:ext cx="2590920" cy="838440"/>
          </a:xfrm>
          <a:custGeom>
            <a:avLst/>
            <a:gdLst>
              <a:gd name="textAreaLeft" fmla="*/ 404640 w 2590920"/>
              <a:gd name="textAreaRight" fmla="*/ 2267280 w 25909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A73A-1723-4773-A62D-7B9505903D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пный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ктериологические индик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Контроль стерильности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на р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EAE2-E17B-4954-9509-F656DA2531B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4953-2563-484A-9E39-E4406CAC079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дикаторы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388620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им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 соответствует требуемой для стери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оверяют время и д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54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80"/>
                </a:solidFill>
                <a:latin typeface="Arial"/>
              </a:rPr>
              <a:t>Би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пература, время и давление соответствуют требуемым для стери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3520" y="4419720"/>
            <a:ext cx="8153280" cy="2047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мейте в виду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и один из индикаторов не гарантирует стерилизацию, если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Автоклав перегру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Объем сред слишком больш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7CDD-5C06-4605-A141-9B3D149D7C9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рнал стери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EEA4-3BA8-4822-9FF0-AD84CC1E9D1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ско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3049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733920" y="1295280"/>
            <a:ext cx="5181480" cy="5029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одержите линзы в чист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мейте по крайней мере один иммерсионный объектив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Используйте подпружине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Не допускайте попадания масла на не иммерсионные объ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Narrow"/>
              </a:rPr>
              <a:t>Следите за тем, чтобы образец не оказался выше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линзы объект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Clr>
                <a:srgbClr val="00ff00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Arial Narrow"/>
              </a:rPr>
              <a:t>Поддерживайте равномерное освещение (освещение по Келер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Olga</cp:lastModifiedBy>
  <dcterms:modified xsi:type="dcterms:W3CDTF">2013-05-08T12:35:27Z</dcterms:modified>
  <cp:revision>40</cp:revision>
  <dc:subject/>
  <dc:title>Slide 1</dc:title>
</cp:coreProperties>
</file>