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DC97-6DED-4977-8BDA-B0C067C81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CF66-AA63-4951-938B-C88696DE8F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713129E-2660-4B16-8A91-7FA7BBFBA08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D6D0-F63C-42C7-9DA0-CA2A926758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0E77-F43F-4C84-88F0-65D82414C45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B337-6AA8-4DCD-BBC2-1D89A774E3A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08E2-CE3E-4EF5-B422-59B8B7076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A66B-2DE7-4ADE-B7AC-599443E3FA6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D703-E122-48FD-870D-C25261747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DB04-FAA9-44F6-9CAF-35EFDA4BF2B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2F0E-9E28-4F19-8D62-AE5F1FFAC44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EF20-197D-4F40-B653-757888F2DB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F087-74BB-4EC3-A829-62751FA63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6B8A-A78E-42D0-96F0-F5DC70DD6D7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95A2-9C8C-4F43-A855-5941DEB20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D3D2-03D9-45BA-B41D-5DE3916A91D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B0ED-BC1D-4B56-9FA8-47635C2469C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8FDC-C4DC-4EB5-87ED-207E307FF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6561-534A-49BD-A5DC-547B3110D0E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7A0A-4AA5-498D-AE5E-FBC44DA2686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193B-E068-41AF-A32E-9E5D79C9A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3B4A-1508-4402-875A-75156958A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7A6F-8C20-45FC-B8DE-DB72618C6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B9487-FDC3-48BC-8143-0B7BB488A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E0B79-A1FF-45E2-98DF-5C075A985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77B1B-EAC6-4AE3-A55A-C9C920D240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D316-1CC7-45F6-BC26-0B171837C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8B8F-5B45-467B-BAF8-83B05BB44F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89D0-1473-4602-9A77-8E66207555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B40-8C72-4DE9-9BA7-2A22A213E4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AEF-8C43-4918-BDEC-5DED18E0CE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2E3-3144-4A16-93A4-003FDE3063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B479-3266-4A38-BC3D-4B076935CD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36A-6FFD-4DDB-91F6-F42BF9384F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6509-90CA-4DD6-8274-7E76A67C1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7E22-CA6B-4FC3-B5A6-CC5C3FD43E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BB8-F408-40B4-BB3F-9B96B1B5E7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4D5-A318-4140-BD17-E0C5E284A3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CC0-5C7F-4956-9D37-DDF56905A9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0C7B-25F9-45FB-8F4C-4D20F3162A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25264-AB51-4009-A990-75DDD3947A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86AD3-8A0D-48EA-A6A9-E5E26F7F02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A80A4-76D6-4BE9-A969-2CC1BA9265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82513-2A90-45DE-9E74-535F0A2B8B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B3319-5481-4005-9DD4-316DF41B34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2B91B-0EC3-43EA-9B0A-0C0B772C6B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285D4-DBEC-4AA2-AABA-50F21D22E7F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99328-E4B9-4CF6-ADFA-B08BF77C0D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81695-4979-49B4-8F74-04A8FF2062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C276B-5D4D-4DAE-A52F-9A90111209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4350A-BF94-489C-B8C3-EF0512AB43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09167-989D-43B3-B241-7EE0C869B75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DBC2A-77B0-4BD5-B8F8-2BCFF7149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59ACF-B54A-440F-B3E6-AF1A91535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C424-A641-4914-B56C-1AD701F0C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0562-5BDD-4AD3-AB6A-D85BFDB9D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2163E-14D3-483D-BE27-904585D22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569C0-771E-47FB-9E1F-4D860A777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178D-5787-44EF-9384-38D114D9C3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352560"/>
            <a:ext cx="54100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1124-5099-4EB4-8074-A4E828B5AB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E547-9105-4D8C-882B-5FD3BC986D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4"/>
          </p:nvPr>
        </p:nvSpPr>
        <p:spPr>
          <a:xfrm>
            <a:off x="457200" y="6324120"/>
            <a:ext cx="6781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5"/>
          </p:nvPr>
        </p:nvSpPr>
        <p:spPr>
          <a:xfrm>
            <a:off x="8000640" y="6324120"/>
            <a:ext cx="685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E210-E424-4781-ADE9-EA84144DDA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74" name="Text Box 16"/>
          <p:cNvSpPr/>
          <p:nvPr/>
        </p:nvSpPr>
        <p:spPr>
          <a:xfrm>
            <a:off x="1639800" y="1803240"/>
            <a:ext cx="7580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процессов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онтроль качества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чественных и полуколичественных анализов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 использовании традиционных контрол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577520"/>
            <a:ext cx="853452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йте и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же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робы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положительный и отрицательный контро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слабо положительный контроль для иммунологических процед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оложительный контроль, близкий к порогу чувстви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ите контроль, который проверит этап выд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2753-4557-42E4-B2D3-043611D00C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ные штаммы для К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1231560"/>
            <a:ext cx="838188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алонные шт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штаммы, полученны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нозируемые реа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расители и сре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ют, что среды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ы и расход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териалы работают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4" descr="qc_bacteria"/>
          <p:cNvPicPr/>
          <p:nvPr/>
        </p:nvPicPr>
        <p:blipFill>
          <a:blip r:embed="rId1"/>
          <a:stretch/>
        </p:blipFill>
        <p:spPr>
          <a:xfrm>
            <a:off x="5638680" y="2286000"/>
            <a:ext cx="3200400" cy="27558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qc_growth_poor_growth_cdc"/>
          <p:cNvPicPr/>
          <p:nvPr/>
        </p:nvPicPr>
        <p:blipFill>
          <a:blip r:embed="rId2"/>
          <a:stretch/>
        </p:blipFill>
        <p:spPr>
          <a:xfrm>
            <a:off x="4800600" y="441972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280" name="Slide Number Placeholder 5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8997-F900-49D2-9EC3-4174071E3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1" name="Footer Placeholder 6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67464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точники для приобретения                      эталонных штамм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3520" y="2057400"/>
            <a:ext cx="815328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мериканск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циональная коллек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овых культ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ликобрит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лекция Института Паст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ранц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F0FF-9C44-4D03-A2A2-8E6E9F4C8A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838188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14316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сители важны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–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заботьтесь о них!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5" descr="PICT0136"/>
          <p:cNvPicPr/>
          <p:nvPr/>
        </p:nvPicPr>
        <p:blipFill>
          <a:blip r:embed="rId1"/>
          <a:stretch/>
        </p:blipFill>
        <p:spPr>
          <a:xfrm>
            <a:off x="380880" y="220968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PICT0018"/>
          <p:cNvPicPr/>
          <p:nvPr/>
        </p:nvPicPr>
        <p:blipFill>
          <a:blip r:embed="rId2"/>
          <a:stretch/>
        </p:blipFill>
        <p:spPr>
          <a:xfrm>
            <a:off x="4952880" y="220968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0"/>
          <p:cNvSpPr/>
          <p:nvPr/>
        </p:nvSpPr>
        <p:spPr>
          <a:xfrm>
            <a:off x="5004000" y="525780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икакого внимания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60600" y="525780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Verdana"/>
              </a:rPr>
              <a:t>Постоянное внимани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Slide Number Placeholder 6"/>
          <p:cNvSpPr/>
          <p:nvPr/>
        </p:nvSpPr>
        <p:spPr>
          <a:xfrm>
            <a:off x="8229600" y="640440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EBD3-D5AF-4929-9804-2A9AEBFB01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красителя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меняйте установленные процедуры для приготовления и раствор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икетка: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держание, концентрация, даты приготовления и начала использования, срок годности, иниц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19BB-FDF1-4072-83AA-A10A2AB613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нтроль качества для красителей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55320" y="1066680"/>
            <a:ext cx="855972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яйте в зависимости от конкретного крас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известными микроорганизмами или клет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образование кристаллов или осад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онтаминацию (бактерии или гриб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4" descr="hematol"/>
          <p:cNvPicPr/>
          <p:nvPr/>
        </p:nvPicPr>
        <p:blipFill>
          <a:blip r:embed="rId1"/>
          <a:stretch/>
        </p:blipFill>
        <p:spPr>
          <a:xfrm>
            <a:off x="609480" y="4267080"/>
            <a:ext cx="2743200" cy="19814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3505320" y="4343400"/>
            <a:ext cx="20574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Райт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рашивание по Граму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1" name="Picture 6" descr="g082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5867280" y="4267080"/>
            <a:ext cx="2210040" cy="2019600"/>
          </a:xfrm>
          <a:prstGeom prst="rect">
            <a:avLst/>
          </a:prstGeom>
          <a:ln w="0">
            <a:noFill/>
          </a:ln>
        </p:spPr>
      </p:pic>
      <p:sp>
        <p:nvSpPr>
          <p:cNvPr id="302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9197-A1BB-40EF-BDB2-E6F7DDFB24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3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крашивание по Граму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0" y="50547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Хороше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4419720" y="505476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лохое</a:t>
            </a: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A6BC-0037-4054-93A3-B13C9D9F8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09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762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микробиологически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яйте рабочие характеристики всех сре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 парт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лько новую сер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Picture 7" descr="qc_mac_nlf_cdc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8" descr="qc_mac_lf-cdc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9"/>
          <p:cNvSpPr/>
          <p:nvPr/>
        </p:nvSpPr>
        <p:spPr>
          <a:xfrm>
            <a:off x="3505320" y="3726000"/>
            <a:ext cx="2361960" cy="23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К агара МакКонки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ле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 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права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ерментирующий лактозу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Slide Number Placeholder 6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D10D-93AB-41A5-A61F-B5F517C085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Footer Placeholder 7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збегать следующих проблем со средам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19" name="Group 28"/>
          <p:cNvGrpSpPr/>
          <p:nvPr/>
        </p:nvGrpSpPr>
        <p:grpSpPr>
          <a:xfrm>
            <a:off x="4876920" y="1295280"/>
            <a:ext cx="4190400" cy="1524240"/>
            <a:chOff x="4876920" y="1295280"/>
            <a:chExt cx="4190400" cy="1524240"/>
          </a:xfrm>
        </p:grpSpPr>
        <p:grpSp>
          <p:nvGrpSpPr>
            <p:cNvPr id="320" name="Group 7"/>
            <p:cNvGrpSpPr/>
            <p:nvPr/>
          </p:nvGrpSpPr>
          <p:grpSpPr>
            <a:xfrm>
              <a:off x="4876920" y="1295280"/>
              <a:ext cx="2514240" cy="914400"/>
              <a:chOff x="4876920" y="1295280"/>
              <a:chExt cx="2514240" cy="914400"/>
            </a:xfrm>
          </p:grpSpPr>
          <p:sp>
            <p:nvSpPr>
              <p:cNvPr id="321" name="AutoShape 8"/>
              <p:cNvSpPr/>
              <p:nvPr/>
            </p:nvSpPr>
            <p:spPr>
              <a:xfrm>
                <a:off x="4955400" y="1752480"/>
                <a:ext cx="2396520" cy="39996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AutoShape 9"/>
              <p:cNvSpPr/>
              <p:nvPr/>
            </p:nvSpPr>
            <p:spPr>
              <a:xfrm>
                <a:off x="4876920" y="129528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3" name="Group 10"/>
            <p:cNvGrpSpPr/>
            <p:nvPr/>
          </p:nvGrpSpPr>
          <p:grpSpPr>
            <a:xfrm>
              <a:off x="6553080" y="1905120"/>
              <a:ext cx="2514240" cy="914400"/>
              <a:chOff x="6553080" y="1905120"/>
              <a:chExt cx="2514240" cy="914400"/>
            </a:xfrm>
          </p:grpSpPr>
          <p:sp>
            <p:nvSpPr>
              <p:cNvPr id="324" name="AutoShape 11"/>
              <p:cNvSpPr/>
              <p:nvPr/>
            </p:nvSpPr>
            <p:spPr>
              <a:xfrm>
                <a:off x="6553080" y="2019240"/>
                <a:ext cx="2514240" cy="800280"/>
              </a:xfrm>
              <a:prstGeom prst="can">
                <a:avLst>
                  <a:gd name="adj" fmla="val 50000"/>
                </a:avLst>
              </a:prstGeom>
              <a:solidFill>
                <a:srgbClr val="ff260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25" name="Group 12"/>
              <p:cNvGrpSpPr/>
              <p:nvPr/>
            </p:nvGrpSpPr>
            <p:grpSpPr>
              <a:xfrm>
                <a:off x="7353000" y="2019240"/>
                <a:ext cx="456840" cy="199800"/>
                <a:chOff x="7353000" y="2019240"/>
                <a:chExt cx="456840" cy="199800"/>
              </a:xfrm>
            </p:grpSpPr>
            <p:sp>
              <p:nvSpPr>
                <p:cNvPr id="326" name="Oval 13"/>
                <p:cNvSpPr/>
                <p:nvPr/>
              </p:nvSpPr>
              <p:spPr>
                <a:xfrm>
                  <a:off x="7524360" y="201924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7" name="Oval 14"/>
                <p:cNvSpPr/>
                <p:nvPr/>
              </p:nvSpPr>
              <p:spPr>
                <a:xfrm>
                  <a:off x="7353000" y="201924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8" name="Oval 15"/>
                <p:cNvSpPr/>
                <p:nvPr/>
              </p:nvSpPr>
              <p:spPr>
                <a:xfrm>
                  <a:off x="7381440" y="201924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29" name="Oval 16"/>
                <p:cNvSpPr/>
                <p:nvPr/>
              </p:nvSpPr>
              <p:spPr>
                <a:xfrm>
                  <a:off x="7409880" y="201924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0" name="Oval 17"/>
                <p:cNvSpPr/>
                <p:nvPr/>
              </p:nvSpPr>
              <p:spPr>
                <a:xfrm>
                  <a:off x="7438680" y="201924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1" name="Oval 18"/>
                <p:cNvSpPr/>
                <p:nvPr/>
              </p:nvSpPr>
              <p:spPr>
                <a:xfrm>
                  <a:off x="7467120" y="201924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2" name="Oval 19"/>
                <p:cNvSpPr/>
                <p:nvPr/>
              </p:nvSpPr>
              <p:spPr>
                <a:xfrm>
                  <a:off x="7495560" y="201924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33" name="AutoShape 20"/>
              <p:cNvSpPr/>
              <p:nvPr/>
            </p:nvSpPr>
            <p:spPr>
              <a:xfrm>
                <a:off x="6553080" y="1905120"/>
                <a:ext cx="2514240" cy="914400"/>
              </a:xfrm>
              <a:prstGeom prst="can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grpSp>
            <p:nvGrpSpPr>
              <p:cNvPr id="334" name="Group 21"/>
              <p:cNvGrpSpPr/>
              <p:nvPr/>
            </p:nvGrpSpPr>
            <p:grpSpPr>
              <a:xfrm>
                <a:off x="8295840" y="2076480"/>
                <a:ext cx="456840" cy="199800"/>
                <a:chOff x="8295840" y="2076480"/>
                <a:chExt cx="456840" cy="199800"/>
              </a:xfrm>
            </p:grpSpPr>
            <p:sp>
              <p:nvSpPr>
                <p:cNvPr id="335" name="Oval 22"/>
                <p:cNvSpPr/>
                <p:nvPr/>
              </p:nvSpPr>
              <p:spPr>
                <a:xfrm>
                  <a:off x="8467200" y="2076480"/>
                  <a:ext cx="114120" cy="5688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6" name="Oval 23"/>
                <p:cNvSpPr/>
                <p:nvPr/>
              </p:nvSpPr>
              <p:spPr>
                <a:xfrm>
                  <a:off x="8295840" y="2076480"/>
                  <a:ext cx="456840" cy="19980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ff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7" name="Oval 24"/>
                <p:cNvSpPr/>
                <p:nvPr/>
              </p:nvSpPr>
              <p:spPr>
                <a:xfrm>
                  <a:off x="8324280" y="2076480"/>
                  <a:ext cx="399960" cy="1713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8" name="Oval 25"/>
                <p:cNvSpPr/>
                <p:nvPr/>
              </p:nvSpPr>
              <p:spPr>
                <a:xfrm>
                  <a:off x="8352720" y="2076480"/>
                  <a:ext cx="342720" cy="1429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39" name="Oval 26"/>
                <p:cNvSpPr/>
                <p:nvPr/>
              </p:nvSpPr>
              <p:spPr>
                <a:xfrm>
                  <a:off x="8381520" y="2076480"/>
                  <a:ext cx="285480" cy="114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0" name="Oval 27"/>
                <p:cNvSpPr/>
                <p:nvPr/>
              </p:nvSpPr>
              <p:spPr>
                <a:xfrm>
                  <a:off x="8409960" y="2076480"/>
                  <a:ext cx="228240" cy="8568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24480" bIns="2448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41" name="Oval 28"/>
                <p:cNvSpPr/>
                <p:nvPr/>
              </p:nvSpPr>
              <p:spPr>
                <a:xfrm>
                  <a:off x="8438400" y="2076480"/>
                  <a:ext cx="171360" cy="56880"/>
                </a:xfrm>
                <a:prstGeom prst="ellipse">
                  <a:avLst/>
                </a:prstGeom>
                <a:noFill/>
                <a:ln w="9360">
                  <a:solidFill>
                    <a:srgbClr val="cccc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00" bIns="36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342" name="Text Box 32"/>
          <p:cNvSpPr/>
          <p:nvPr/>
        </p:nvSpPr>
        <p:spPr>
          <a:xfrm>
            <a:off x="836640" y="1695600"/>
            <a:ext cx="44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сохший агар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ированные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533520" y="3112920"/>
            <a:ext cx="8153280" cy="265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Человеческую кров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дует использовать, потому чт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ишком  большая вариация между сериям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 содержать ингибиторы, включая антибактериальны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нциальная биологическая опаснос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пример, вирусы гепати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44" name="Picture 27" descr="bio_hazrd_red_blk_cdc"/>
          <p:cNvPicPr/>
          <p:nvPr/>
        </p:nvPicPr>
        <p:blipFill>
          <a:blip r:embed="rId1"/>
          <a:stretch/>
        </p:blipFill>
        <p:spPr>
          <a:xfrm>
            <a:off x="7023240" y="5432400"/>
            <a:ext cx="1143000" cy="892080"/>
          </a:xfrm>
          <a:prstGeom prst="rect">
            <a:avLst/>
          </a:prstGeom>
          <a:ln w="0">
            <a:noFill/>
          </a:ln>
        </p:spPr>
      </p:pic>
      <p:sp>
        <p:nvSpPr>
          <p:cNvPr id="345" name="Slide Number Placeholder 28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672B-FFEE-441D-933F-B585F8E8A6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Footer Placeholder 29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431280"/>
            <a:ext cx="8382240" cy="55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качества ростовых сред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8" name="Picture 3" descr="plates_venlabs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457200" y="1184400"/>
            <a:ext cx="8153280" cy="506412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8"/>
          <p:cNvSpPr/>
          <p:nvPr/>
        </p:nvSpPr>
        <p:spPr>
          <a:xfrm>
            <a:off x="380880" y="1143000"/>
            <a:ext cx="838224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едите записи сред, приготовленных в лаборатории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писывайте в журнал для сред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рН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териль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пособность поддерживать рост контрольных штаммов, биохимические реакции контрольных штаммов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7280" indent="-2872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та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еряйте каждую новую партию или серию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6B9F-0BFD-42E6-8C98-88C63CF21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Footer Placeholder 5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495440"/>
            <a:ext cx="840744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ить встроенные и традиционные контрол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использовать контрольные культуры для микробиологического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рименение процедур по контролю качества красителей, используемых в микроскопических исследования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методы проверки характеристик микробиологических сред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44A5-B138-4CD8-8D66-1989C279E6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   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54120"/>
            <a:ext cx="8305920" cy="41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енные анализы дают нечисловые результа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луколичественные анализы дают оценк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spcBef>
                <a:spcPts val="9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ведите программу КК для качественных и полуколичественных анализ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E368-03D9-4A2C-8BF9-5894716354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371240"/>
            <a:ext cx="83818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 КК соблюдаются ВСЕМИ сотруд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гда записывайте результаты КК и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6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сли результаты КК не приемлемы, то не выдавайте отчет с результатами анализов пациентов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2E8B-8B66-4128-836A-9ADADD876D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3898-32FA-4148-A35A-87817A98F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6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6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9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0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0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41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0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41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9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420" name="Footer Placeholder 1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А провела культуральное исследование и идентифициро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негнойную палочк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меры контроля качества вы бы использовали, чтобы подтвердить, что микроорганизм был определен правильно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5A47-8FC2-4E9C-882E-9CF06BCD71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6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CD37-7380-4E02-A55A-C4363902FA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2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20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2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2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1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2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Footer Placeholder 1"/>
          <p:cNvSpPr/>
          <p:nvPr/>
        </p:nvSpPr>
        <p:spPr>
          <a:xfrm>
            <a:off x="457200" y="6352920"/>
            <a:ext cx="54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чественные и полуколичественные исследования – Пример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90720" y="1676520"/>
            <a:ext cx="640080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скопические исследования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ст-полоски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рологические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кробиологические процедур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юбые реакции, которые дают нечисловой результа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9"/>
          <p:cNvGrpSpPr/>
          <p:nvPr/>
        </p:nvGrpSpPr>
        <p:grpSpPr>
          <a:xfrm>
            <a:off x="990720" y="4495680"/>
            <a:ext cx="6572160" cy="1690560"/>
            <a:chOff x="990720" y="4495680"/>
            <a:chExt cx="6572160" cy="1690560"/>
          </a:xfrm>
        </p:grpSpPr>
        <p:pic>
          <p:nvPicPr>
            <p:cNvPr id="251" name="Picture 6" descr="micro"/>
            <p:cNvPicPr/>
            <p:nvPr/>
          </p:nvPicPr>
          <p:blipFill>
            <a:blip r:embed="rId1"/>
            <a:srcRect l="0" t="0" r="4400" b="1607"/>
            <a:stretch/>
          </p:blipFill>
          <p:spPr>
            <a:xfrm>
              <a:off x="5105520" y="4495680"/>
              <a:ext cx="2457360" cy="16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7" descr="agglut"/>
            <p:cNvPicPr/>
            <p:nvPr/>
          </p:nvPicPr>
          <p:blipFill>
            <a:blip r:embed="rId2"/>
            <a:srcRect l="15272" t="17455" r="15272" b="14546"/>
            <a:stretch/>
          </p:blipFill>
          <p:spPr>
            <a:xfrm>
              <a:off x="2895840" y="4495680"/>
              <a:ext cx="22096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8" descr="http://www.academic.marist.edu/~jzmz/methods/wbcrbc.jpg"/>
            <p:cNvPicPr/>
            <p:nvPr/>
          </p:nvPicPr>
          <p:blipFill>
            <a:blip r:embed="rId3"/>
            <a:srcRect l="20336" t="0" r="0" b="0"/>
            <a:stretch/>
          </p:blipFill>
          <p:spPr>
            <a:xfrm>
              <a:off x="990720" y="4495680"/>
              <a:ext cx="1941480" cy="169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Slide Number Placeholder 7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F9E0-DA98-47EF-9173-F4BAC00820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5" name="Footer Placeholder 8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принцип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117440" y="1606680"/>
            <a:ext cx="718848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мпетентность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служивание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ьные матери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красителями, средами и реаг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де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8001000" y="6404400"/>
            <a:ext cx="685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EA48-67A9-48D1-9FE1-D84B60812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457200" y="63529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териалы для контроля качеств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84280" y="1828440"/>
            <a:ext cx="8407440" cy="25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строенные контрол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атериалы, имитирующие пробы пациент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ные микроорганизм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30C3-CC8B-45E9-BA1A-6601917C3F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35292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строенные контрол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9880" y="1599840"/>
            <a:ext cx="82551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троены в приспособление для проведения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ируются автоматически при выполнении тест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определенные аспекты работы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зможно, не оценивают весь процесс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8077320" y="6404400"/>
            <a:ext cx="609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294D-D8F0-41D1-B55F-3FD0631098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35292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диционные контроли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1640" y="1887120"/>
            <a:ext cx="840744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ы с известными свой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итируют пробы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вают работу всей аналитической сист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8153280" y="6404400"/>
            <a:ext cx="533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FE3E-56D3-4E63-99A3-2B4A29250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3529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 полуколичественных исследований – Тема 8</a:t>
            </a:r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2T09:19:44Z</dcterms:modified>
  <cp:revision>505</cp:revision>
  <dc:subject/>
  <dc:title>Slide 1</dc:title>
</cp:coreProperties>
</file>