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54DB-B78C-471F-B305-478DF8495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9408-0FE8-4D5E-8891-E246E3384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C817-ADEE-45A7-B185-ED08D5E53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0F85-F1EA-45C6-99F7-91397FF1D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A599-291F-440A-98A9-002DFA27E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62FF-4117-4A09-AF25-3945EA582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850F-4F63-42DE-9D47-EDBC7B08F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C09D-F689-433C-B478-C7B03B363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0F2C-CBDB-4E8B-B8EF-F406C5671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4F6F-F013-4FB5-BC23-985EAAD5E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6D06-1D8B-4555-9B57-C47AF149B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13A8-62D3-4F0A-B253-83D3AD619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AB8C-C6E6-44A4-9CE0-83E07D135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CCAB-E200-4359-8733-E60E9B1B8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8351-F39E-40F2-A364-5F057240A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F8D1-B631-4502-A44D-FE4D408EA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DE9B-4086-41B4-9857-7B2DAF30F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9708-AEB8-4F65-BB9D-7C96BE7A2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EEF8-9212-491B-AA47-3D572C558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A1C1E-E390-4CE0-BFB9-BAC14CBC6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D223-A774-44E6-A762-0CD3EAE00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050F-A1E0-4DB9-ABBE-EC0BB75F1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3037C-15B6-4236-9E68-195C09904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92B14-98D0-45DC-98D8-E687BD975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A236-B98B-4F74-96BB-A68EAD55A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76AFE-C9D2-42C3-9612-0C704B0648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C3DE-D2C7-4828-A79F-3E37961C26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B15-DC67-4ECD-A2F9-58E2A73DBE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8CA-B7FC-4FCF-BBCF-187AD231C9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B181-01BB-4CCD-A3BE-6893935916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61F0-203E-4A7F-B2BD-F5454D6082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C82-6CDD-471C-BD1B-80C10A7663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0A8-AB6E-4850-B7B1-948B1F80FA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5B01A-92C4-40BF-AA15-785B61C6D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2CE-D377-4970-91B6-81718664B7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2C30-6358-4332-BDCE-AA283DE7DD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E36-B15A-4EA7-8057-8F241227CB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892C-7F70-4C8E-B0D9-BA787CBC00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55C-D362-4E5D-B918-D2D534D82CD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9FBCA-B344-4724-BF7B-7FB1270C45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EFEDB-315E-4CC8-BE5C-72AB8F6427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1C1E1-EEBA-4E1F-ACD6-B8BF4D50B2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3B553-81F7-46C7-9117-FDE723E093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EBBA5-56CE-4D4A-9B30-237DC46E29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D81A4-FD69-4FFD-8ABE-751896D75E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C2A4F-1E51-439F-8946-981556705B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8871E-78FD-476C-9154-FEE96CE3EB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A94F7-C0B8-4F60-BFE9-AE2450C721D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D52CB-7FB7-464B-929A-B658BF08F5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91D79-EF3B-4462-AF96-6BCCD6C622D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BC8ED-CE84-46BC-B782-83966BDE05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BE372-C76D-433D-AE72-DF0475E54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05971-7C9A-4DCA-8B17-5C5AB4C8C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E1A7F-F49B-4D81-806C-3F05FDDD1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5F9D3-716A-472A-8B53-D667141FDB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50055-02F9-48D9-844D-56B87D849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FD10-B14F-4297-997B-3544F49F85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FD38-3469-4432-B21D-9D819D89C8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5D6F-9986-4E38-BFCD-90C045EE4A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D4CC-BA61-4B1F-9BA0-78F47F836E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AD6D-7488-4D7B-935B-2B362400DA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5480" y="2023560"/>
            <a:ext cx="6096240" cy="193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онтроль качеств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: 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Молекулярная диагностик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BDFD-6D7D-433C-B09D-9D436A22FA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4260-68B3-40B6-82B2-59A5F868E498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рицательный результа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E862-0071-4F61-8C4D-36953501A6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B7D3-9B28-4C27-BFEB-373782E06ADF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иск использования ПЦР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инство методов ПЦР в реальном времени «домашнего изготовления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ймеры не всегда оптимизированы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ительные контроли «домашнего изготовлен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рицательные контроли «домашнего изготовлени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претировать результаты следует с осторожность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23F5-C5D0-4A9D-B4FD-BF8C540F78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937E-606C-4C76-932D-B4E62DEE5242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4197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щий подход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Взятие, транспортировка и обработ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72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еспечьте сохранность нуклеиновых кислот во время эти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Контроль контамин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31800" indent="-2728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одностороннее движение по технологической цепочке: от зоны, свободной от ДНК, где готовят реагенты, к зоне обработки проб, затем к зоне, где происходит амплификация и анализ продук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Положительные и отрицательные контро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Ссылка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: CLSI MM3-A (Molecular Diagnostic Methods for Infectious Diseases</a:t>
            </a: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[</a:t>
            </a: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етоды молекулярной диагностики инфекционных заболеваний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]</a:t>
            </a: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AC20-829A-4685-B6B3-6DD37A7CF5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1F06A-8EF3-40A5-98BB-DBF763DE4F5F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олекулярная диагностик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884160" y="1981080"/>
            <a:ext cx="7373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2D15-056E-4A90-BCF9-5EC31828DD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E50F-6ECF-49DA-B971-6BA973E8BBB4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4821120" cy="52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04EC-A4FE-40A6-9A49-43A235D4F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7C5F-AB0C-4F99-AF3B-98FCAFBCAF9B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ЦР в реальном времен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РО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РАЙМ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олиме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/>
          <p:cNvSpPr/>
          <p:nvPr/>
        </p:nvSpPr>
        <p:spPr>
          <a:xfrm>
            <a:off x="3733920" y="2209680"/>
            <a:ext cx="297180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мплифицир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пециф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уклеиновая кисл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змеряе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флуоресц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BFA2-ED32-4CC6-B8C0-EF8E893D6D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E91E-7D99-4A1C-8180-EE6B1720909B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666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акции амплифик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4"/>
          <p:cNvSpPr/>
          <p:nvPr/>
        </p:nvSpPr>
        <p:spPr>
          <a:xfrm>
            <a:off x="1752480" y="2811600"/>
            <a:ext cx="5612040" cy="2471760"/>
          </a:xfrm>
          <a:custGeom>
            <a:avLst/>
            <a:gdLst>
              <a:gd name="textAreaLeft" fmla="*/ 0 w 5612040"/>
              <a:gd name="textAreaRight" fmla="*/ 5612040 w 5612040"/>
              <a:gd name="textAreaTop" fmla="*/ 0 h 2471760"/>
              <a:gd name="textAreaBottom" fmla="*/ 2472120 h 2471760"/>
            </a:gdLst>
            <a:ahLst/>
            <a:rect l="textAreaLeft" t="textAreaTop" r="textAreaRight" b="textAreaBottom"/>
            <a:pathLst>
              <a:path w="3535" h="1557">
                <a:moveTo>
                  <a:pt x="0" y="1509"/>
                </a:moveTo>
                <a:cubicBezTo>
                  <a:pt x="544" y="1533"/>
                  <a:pt x="1088" y="1557"/>
                  <a:pt x="1392" y="1509"/>
                </a:cubicBezTo>
                <a:cubicBezTo>
                  <a:pt x="1696" y="1461"/>
                  <a:pt x="1712" y="1333"/>
                  <a:pt x="1824" y="1221"/>
                </a:cubicBezTo>
                <a:cubicBezTo>
                  <a:pt x="1936" y="1109"/>
                  <a:pt x="1988" y="1019"/>
                  <a:pt x="2064" y="837"/>
                </a:cubicBezTo>
                <a:cubicBezTo>
                  <a:pt x="2140" y="655"/>
                  <a:pt x="2148" y="252"/>
                  <a:pt x="2283" y="126"/>
                </a:cubicBezTo>
                <a:cubicBezTo>
                  <a:pt x="2418" y="0"/>
                  <a:pt x="2665" y="94"/>
                  <a:pt x="2874" y="80"/>
                </a:cubicBezTo>
                <a:cubicBezTo>
                  <a:pt x="3083" y="66"/>
                  <a:pt x="3397" y="49"/>
                  <a:pt x="3535" y="4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Амплификация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/</a:t>
            </a: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AutoShape 6" descr=""/>
          <p:cNvPicPr/>
          <p:nvPr/>
        </p:nvPicPr>
        <p:blipFill>
          <a:blip r:embed="rId1"/>
          <a:stretch/>
        </p:blipFill>
        <p:spPr>
          <a:xfrm>
            <a:off x="523800" y="1805040"/>
            <a:ext cx="561960" cy="3462120"/>
          </a:xfrm>
          <a:prstGeom prst="rect">
            <a:avLst/>
          </a:prstGeom>
          <a:ln w="0">
            <a:noFill/>
          </a:ln>
        </p:spPr>
      </p:pic>
      <p:sp>
        <p:nvSpPr>
          <p:cNvPr id="196" name="Freeform 7"/>
          <p:cNvSpPr/>
          <p:nvPr/>
        </p:nvSpPr>
        <p:spPr>
          <a:xfrm>
            <a:off x="1752480" y="5300640"/>
            <a:ext cx="5562720" cy="13500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3504" h="85">
                <a:moveTo>
                  <a:pt x="0" y="69"/>
                </a:moveTo>
                <a:cubicBezTo>
                  <a:pt x="692" y="85"/>
                  <a:pt x="1375" y="79"/>
                  <a:pt x="1776" y="69"/>
                </a:cubicBezTo>
                <a:cubicBezTo>
                  <a:pt x="2177" y="59"/>
                  <a:pt x="2118" y="18"/>
                  <a:pt x="2406" y="9"/>
                </a:cubicBezTo>
                <a:cubicBezTo>
                  <a:pt x="2694" y="0"/>
                  <a:pt x="3275" y="15"/>
                  <a:pt x="3504" y="17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5268600" y="240660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ПОЛОЖИ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5042160" y="4724280"/>
            <a:ext cx="22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</a:rPr>
              <a:t>АМПЛИФИКАЦИИ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A803-55D1-4A3B-AA98-F87CC854CF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9118-DE0D-4F0B-AEEB-ECC1FA509639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ЦР в реальном времен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 1" descr=""/>
          <p:cNvPicPr/>
          <p:nvPr/>
        </p:nvPicPr>
        <p:blipFill>
          <a:blip r:embed="rId2"/>
          <a:stretch/>
        </p:blipFill>
        <p:spPr>
          <a:xfrm>
            <a:off x="1474920" y="2773440"/>
            <a:ext cx="353880" cy="1474560"/>
          </a:xfrm>
          <a:prstGeom prst="rect">
            <a:avLst/>
          </a:prstGeom>
          <a:ln w="0">
            <a:noFill/>
          </a:ln>
        </p:spPr>
      </p:pic>
      <p:sp>
        <p:nvSpPr>
          <p:cNvPr id="205" name="TextBox 7"/>
          <p:cNvSpPr/>
          <p:nvPr/>
        </p:nvSpPr>
        <p:spPr>
          <a:xfrm>
            <a:off x="3931200" y="5334120"/>
            <a:ext cx="1159200" cy="26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Verdana"/>
              </a:rPr>
              <a:t>Номер цик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7023960" y="2114640"/>
            <a:ext cx="7095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Проба 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Verdana"/>
              </a:rPr>
              <a:t>Проба 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7113960" y="4021200"/>
            <a:ext cx="5724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66"/>
                </a:solidFill>
                <a:latin typeface="Verdana"/>
              </a:rPr>
              <a:t>Пор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2879640" y="4770360"/>
            <a:ext cx="5763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Фо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2517480" y="3290760"/>
            <a:ext cx="11559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Экспоненциальна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1" lang="ru-RU" sz="900" spc="-1" strike="noStrike">
                <a:solidFill>
                  <a:srgbClr val="00b0f0"/>
                </a:solidFill>
                <a:latin typeface="Verdana"/>
              </a:rPr>
              <a:t>фаз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E3B8-6D00-4D56-93CC-5CC5CA9516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4A92-52D6-4AF6-9358-BF8703D890A5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666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ирус гриппа </a:t>
            </a: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1"/>
          <p:cNvSpPr/>
          <p:nvPr/>
        </p:nvSpPr>
        <p:spPr>
          <a:xfrm>
            <a:off x="380880" y="6429240"/>
            <a:ext cx="441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молекулярной диагностики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B414-3439-4152-9584-15314A4FD0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ABBA-0FDF-476E-AC43-350EA4A7A910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ирус гриппа </a:t>
            </a: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650880" y="1676520"/>
            <a:ext cx="7883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Olga</cp:lastModifiedBy>
  <dcterms:modified xsi:type="dcterms:W3CDTF">2013-05-12T11:03:51Z</dcterms:modified>
  <cp:revision>17</cp:revision>
  <dc:subject/>
  <dc:title>Quality Control:   Molecular Diagnostics</dc:title>
</cp:coreProperties>
</file>