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FE9E-2753-475D-8E98-F62A6DD2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955E-E267-452C-8A10-73AA00253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004D-8E91-4CF7-8198-1979C0006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FDB5-D070-42C7-BDD2-AF6533DB3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0425B-5B6C-4B7D-9892-DF8042D1CAB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48D80-700F-4577-B2EB-F86BF3C8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8A2896-8439-46B8-B500-6E7730B7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C78A4F-2374-4DCF-B632-D2E240FD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D2AA42-C952-43CD-AC97-BCAC8C95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D46AB-CBE5-41E4-ACDC-369E1FAC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3F2853-7A80-4056-A122-57D5D782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6B0FB7-B7F0-4ED9-8EF3-AF3DC7E3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266B87-DC44-4D5F-9201-C015AF6C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D12446-656E-41CD-8C0C-8146E41B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EF9C4-2BA2-405F-A9C1-C348C76C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F827E-D2AB-41A9-ACDE-05460EA5D79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4C1F84-3B52-43A2-B8F5-A590F961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CB3B45-F3D0-4DE9-B9CA-E1328CAC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71D27-76C5-471C-A158-46A7BDBB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48F3F5-784E-414F-8C37-27334F71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4BA7FF-A087-41B8-9CD3-5FCC93C2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0A186D-2AD2-4C6C-9D1C-D2DBCB1A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5AC68-0980-4A2B-A4D1-E6143161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5C8DD0-C2C4-4710-8C9B-85EE07ED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75209-3945-4AA3-8BA7-FCB00239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A6678-788A-4858-85CA-55D74D6D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79DC-8E37-4F7A-860D-A5CAAA9D3BA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D09193-6FDE-47F7-BBBC-17BA77FA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A64040-0362-4775-8B7C-84498076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F8991E-E995-4D38-BD43-C941630B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CA1202-41A4-43AB-AB1D-C10012BE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81E7A9-A15B-4C72-B401-51B048C1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A459DC-5F16-4BD2-8849-2BB736BA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45F851-584B-4864-BC24-61BB444C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4970BB-D0B3-4B07-8E15-CA4D4F6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34DAC1-7D28-4AD8-B7E3-BF21BAE5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689FAA-A29F-44EB-89F4-26008668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D8034-0F89-439C-9AC6-32BAD559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59BFB5-8042-4922-9C12-E3A7D3FB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CFFB3B-EBC4-4D2E-BD82-F01592F4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DB474E-DFF8-4274-B312-A9484FD6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22AE0E-7A18-4DC7-A64A-679CABF6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E5B04A-5AB6-4BF2-B9FF-5F6B9414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AFBD72-7E1A-4A98-AF86-26F3CDBA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DD44D-CE88-4C6B-AA7E-AEA0EEF1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27425-0387-4993-AF8E-3CBDBCA8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967083-649E-4B9F-A99E-C1CAA95F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B4E4C-65C5-4F95-9C37-43B8641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4F374-F8AB-4175-AF35-C68CE2C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E3BF0-1EF7-4854-B244-0390FC16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18EA57-4683-47A1-BB63-77949189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0476F-E4E6-4C21-828D-9AE478D9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AED17-AC43-47A1-AACD-CE83251E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F0528-7BAB-4799-B772-804CA5E4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6AB4B-C12B-49DB-A04A-F611BCA2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DC4F1-9725-4A60-84C9-4077FD4D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4CDCF-8A61-4722-8507-C181C5FC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45FCC-3657-48A5-A598-1F6370E6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3B5D2-7D42-4124-AC9E-457C885E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72D55-3D52-446A-BB42-BA2220B6C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26262-04CC-4E1D-9049-297859C1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558AD-A123-4691-A5C5-94A200CB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73270-D32E-443D-A3CE-8743F31A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FFAB0-78ED-428F-9A0D-A966C2F5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500BA4-0497-4A03-862F-7A2D6E44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49792E-D162-439C-8616-9740A5EB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BAC5D-2D1D-4B6E-80A5-18A3FDA4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0A2E6-3FB8-4590-AC14-F09E76FB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71094B-BE05-4AD5-A4FF-0A2B0655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88B961-AD9C-4A26-B22D-C65C9C65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07B1B-2414-40BB-8701-C32A309B27D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559D29-FBEE-42E0-B7C7-6C8F5D55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968CA-0290-4EFD-95B9-49A87492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61AEFB-89A6-468F-A3D2-83BADDB3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0D88D8-00D6-4DF1-AB8B-62A978E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A24E78-5E7E-4464-81E4-BA098421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5CEF45-461A-481F-A81D-37525056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5705AC-A491-4E29-938A-C52E03FA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CAB11E-7977-4550-AC4D-3B469535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C9E588-2457-4747-8799-CC67C27F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7A3BA-B7EF-4F69-B95A-0843A8F6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5062-E94C-412F-8CF8-F9E374C309E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015B0-F82C-40AA-B9A0-56A08904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F90F9A-78FB-4FFE-9A78-3823616CC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E64F2-0462-4CD3-8DF8-B2018B20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B29F1-861B-4E5D-911E-B5837327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060E5F-7756-40AC-B142-62FD8C0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88A76D-7673-4627-970F-133CE285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7EBBA0-64BF-4C89-9FC5-C530F611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6C4AA-E091-4ABF-A874-0A531921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32F46-A366-437A-8BD9-78BB825A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999DCF-EBD6-4A6E-A261-0F95E434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8A8F-7F86-4269-9670-DFC2330DE64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708C8A-7182-4EEA-8050-9079A1B2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C8031C-72D6-4B7C-A41A-D9BD6781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89A4BF-36AC-4542-ADBB-748FD60E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6BD73D-92F2-4E8E-BE8E-D1465525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A07B11-D5FC-4AE5-88DC-C7AF064E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89012F-7B19-4DC7-9672-591CF6C3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846D1C-AA65-4300-B160-1F0118A9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3FF69-2F4A-4EED-B554-57FFF47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09FEDF-2B94-43CD-9B50-6FAA56AF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290C07-0C7C-4F09-B793-E62B4A4A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DFA56-F61B-4A0F-A0CA-9276093591F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2759F7-D445-40C7-B0C8-680F9A27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BDC366-8773-4E1A-BF74-4F0DFA33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471839-7297-4639-B7F9-439FE4C7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B7A99F-3210-413A-B059-8DFF2BC1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004C78-6654-420D-9441-E4D3EDCD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DCED56-9798-4D0D-9ECF-2D35FDB4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F44C8E-2889-4FEA-A2A4-F53C856B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4898E0-EBA2-4B05-8C3B-014BD58B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A6EF4A-612F-4E0A-AB51-A11AE538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7C92C0-7827-45BA-B2FD-B07F8C29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F563-AAAE-48FD-A46E-3EA64041A5E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DA6508-8071-413E-863D-415A399D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DABCB3-B2EB-4153-8598-2EBCC1349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6323AC-7891-4ED6-B505-90C912E7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FAA3A7-9A14-4A54-9EB7-43D35581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2C8F86-1CE8-43BC-8DED-2902CCEA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B83EB9-9D29-401A-8300-948EDDBA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9B6677-EC28-4BA6-A03B-295ABED3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E91D0F-191D-48ED-94DE-8694A15A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21F87A-2BA0-416B-B704-88A2988E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54B8CD-2ECA-4729-8CF7-91077B3F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4B3D-C0B9-4A75-BB1C-1A99FF5798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D22E1B-BA12-4C72-825A-8A24D6F8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8D9EA9-7554-4DBC-9C0C-65F69D50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6C9DA1-FF0D-43BC-8A5A-7C68706A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294149-CDB1-4934-A5CB-A9C484D0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B2BE040-E1D9-472A-B34C-E783E74C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FCA5C0-4DB2-48E9-8A33-E4CF66A2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762615-21D8-49F3-8F46-6A30BAA6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437FEB-0A02-4C4D-A134-99CB93ED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A697D6-D0D0-4B7F-9B55-D9BEA85F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D31E1B-037E-455A-97E8-48EBA0A3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C6A8E-73DB-4682-BDC4-82553FB8E7D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B32289-36EC-4F65-9E47-C93FD18B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7C8124-DCA1-46F7-93A1-369B15D1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408788-2BDA-4658-BD43-5BB8B11A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B1EF4D-D965-4F4B-BBF3-7F711AA8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F2A89F-5996-41BA-AACC-A24BECD9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1328FD-BC26-47B0-B83C-9D77C9EA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4F83E-9479-49CC-A760-7C674132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C0D12-98C6-4A7C-962E-E3D30B3E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EEFF47-25FF-4B33-BD36-23D1D9E0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4BC09B-041F-4350-A68F-65B0BA57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0D65-8EA1-4512-8A57-907312592A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09FF-DDF8-4D5E-ACFE-581814E8D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0384-6CE0-417F-BDB2-49A827A1968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22BE-0E95-4EDA-ABBF-C6C9D2143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9FE2-6707-41DA-982E-0879C0BB1C8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8729-2FAB-4082-B912-99FEB8B23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0268-3C7B-45E8-9AEA-F3A1DAD7F9D6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1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8E44-C2D7-4D98-81D9-CEC7D637F702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2F67-36C2-41BE-862D-5C1FBA6B7F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8B44-3CBE-4F34-9BF7-34A03F530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796E-FD43-40DC-B0B1-2FD722C37A2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4CC9-CD68-483A-B144-0F703AF78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1260-EAFD-418E-A56A-C0DEC139BFD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A74F-7F31-47CA-94F3-0F7281B92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5BF4-DB82-47E9-AB81-8CFF368712A0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98DE-A8D0-49AF-9180-3A3BC0542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8A1C-1755-4DD9-A40C-BF741823C5C7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7107-9D20-4DA8-987E-BEDA5728D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241E-3A1C-4011-B40A-C3DC286D747C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B21A-E94E-4860-97D8-0431A7A172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DF8F-FD94-46A0-A070-2E283F823826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Footer Placeholder 9"/>
          <p:cNvSpPr/>
          <p:nvPr/>
        </p:nvSpPr>
        <p:spPr>
          <a:xfrm>
            <a:off x="457200" y="6324480"/>
            <a:ext cx="5943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 – Тема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9C39-4DAA-4E12-B436-B041DFA5C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0F49-932E-4B35-9B1A-4A74E45827C1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DBDD-3681-4435-8D79-A1AAB07E03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мер контрольного списка для инструкта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Document"/>
          <p:cNvSpPr/>
          <p:nvPr/>
        </p:nvSpPr>
        <p:spPr>
          <a:xfrm>
            <a:off x="1371600" y="1447920"/>
            <a:ext cx="6553080" cy="51051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курсия по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ить нового сотрудника руководст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знакомление с оснащением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авила в отношени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управления качеством в 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жностная инстру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523880" y="1523880"/>
            <a:ext cx="632484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НАЧАЛ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НОСТ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15F-4EC6-43B7-8AC0-C7107A3EA6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838080" y="1419120"/>
            <a:ext cx="7925040" cy="448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Аттестация работы сотрудника может выявить больше возможностей для улучш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для самой лаборатор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99"/>
                </a:solidFill>
                <a:latin typeface="Verdana"/>
              </a:rPr>
              <a:t>чем для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6" descr="MCj04260720000[1]"/>
          <p:cNvPicPr/>
          <p:nvPr/>
        </p:nvPicPr>
        <p:blipFill>
          <a:blip r:embed="rId1"/>
          <a:stretch/>
        </p:blipFill>
        <p:spPr>
          <a:xfrm>
            <a:off x="512640" y="533520"/>
            <a:ext cx="1239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EAE7-A9B8-409A-8365-63DD888862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4136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Квалификация и </a:t>
            </a:r>
            <a:br>
              <a:rPr sz="3400"/>
            </a:br>
            <a:r>
              <a:rPr b="0" lang="ru-RU" sz="3400" spc="-1" strike="noStrike">
                <a:solidFill>
                  <a:srgbClr val="000099"/>
                </a:solidFill>
                <a:latin typeface="Verdana"/>
              </a:rPr>
              <a:t>должностные инструк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609480" y="136044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лаборатории должно име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всех сотрудников должностные инструкции, которые описывают квалификацию и обязанност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Verdana"/>
              </a:rPr>
              <a:t>ИСО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Verdana"/>
              </a:rPr>
              <a:t>15189: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"/>
          <p:cNvSpPr/>
          <p:nvPr/>
        </p:nvSpPr>
        <p:spPr>
          <a:xfrm>
            <a:off x="609480" y="3276720"/>
            <a:ext cx="381024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дипломы и сертифик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ое пройденное обу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й опыт 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9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ебуемые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4724280" y="3276720"/>
            <a:ext cx="41148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распределение полномоч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означьте ответственно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р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бяза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все ответ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  <a:ea typeface="Arial"/>
              </a:rPr>
              <a:t>иерархия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08000" indent="-1080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609480" y="2438280"/>
            <a:ext cx="38102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Квалифик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4724280" y="2438280"/>
            <a:ext cx="411480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Должностная инстру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E1DB-A48D-4B15-A553-3A16B1048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верх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457200" y="1905120"/>
          <a:ext cx="8271000" cy="4297320"/>
        </p:xfrm>
        <a:graphic>
          <a:graphicData uri="http://schemas.openxmlformats.org/drawingml/2006/table">
            <a:tbl>
              <a:tblPr/>
              <a:tblGrid>
                <a:gridCol w="3276720"/>
                <a:gridCol w="838080"/>
                <a:gridCol w="117360"/>
                <a:gridCol w="990720"/>
                <a:gridCol w="533520"/>
                <a:gridCol w="2514600"/>
              </a:tblGrid>
              <a:tr h="361800"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лжность сотруд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ая процед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оце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ь процед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тение руководства по выполнению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 в журнале регистрации прочтения руково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ющееся 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ратное место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готовление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временное выполнение зад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93FA-54C6-4186-BADC-CA72FAF742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457200" y="1752480"/>
          <a:ext cx="8229600" cy="443412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152280"/>
                <a:gridCol w="533520"/>
                <a:gridCol w="2971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ич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рная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808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уется повторное обучение для восполнения пробел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752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мые действ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торную оценку провести через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_____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48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20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емый сотруд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нтрольный список оценки компетенц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нижняя половина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94E5-89FD-4A6B-BCBF-E838B3DB3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Оценка компетен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4"/>
          <p:cNvSpPr/>
          <p:nvPr/>
        </p:nvSpPr>
        <p:spPr>
          <a:xfrm>
            <a:off x="304920" y="1371600"/>
            <a:ext cx="8610480" cy="502920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304920" y="1371600"/>
          <a:ext cx="8610480" cy="4511520"/>
        </p:xfrm>
        <a:graphic>
          <a:graphicData uri="http://schemas.openxmlformats.org/drawingml/2006/table">
            <a:tbl>
              <a:tblPr/>
              <a:tblGrid>
                <a:gridCol w="1143000"/>
                <a:gridCol w="838080"/>
                <a:gridCol w="1447920"/>
                <a:gridCol w="1143000"/>
                <a:gridCol w="1218960"/>
                <a:gridCol w="281952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регистрации оценок компетен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ая больниц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боратория микробиолог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руд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спек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тест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нта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раска по Грам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иски были расположены слишком близко; повторить оценку через 14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рби-Бауэ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ис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флаконов для культивирования кров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ифугирова-ние клет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дующая оценка через 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олнение автокла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ан Мб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довлетвори-тель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жон См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 да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эри Не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4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енить повтор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7000" indent="-27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ошибки при вводе данных. Прочитать руководство и повторить оценку через 10 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8EDE-A453-47C6-8278-F8B53AF751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"/>
          <p:cNvSpPr/>
          <p:nvPr/>
        </p:nvSpPr>
        <p:spPr>
          <a:xfrm>
            <a:off x="380880" y="1447920"/>
            <a:ext cx="4114800" cy="45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руководств по выполнению процед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учение обновленных руково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учение, предоставляемое производителями оборудова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8"/>
          <p:cNvSpPr/>
          <p:nvPr/>
        </p:nvSpPr>
        <p:spPr>
          <a:xfrm>
            <a:off x="457200" y="685800"/>
            <a:ext cx="403848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1"/>
          <p:cNvSpPr/>
          <p:nvPr/>
        </p:nvSpPr>
        <p:spPr>
          <a:xfrm>
            <a:off x="4572000" y="1752480"/>
            <a:ext cx="4267080" cy="45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вязано с рабо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онкретным задач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 обязательно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вязано к оценк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фер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мин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ьный кл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ы и литератур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4648320" y="609480"/>
            <a:ext cx="4267080" cy="9471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должение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17" descr="MCBD06810_0000[1]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8" descr="MCBS00263_0000[1]"/>
          <p:cNvPicPr/>
          <p:nvPr/>
        </p:nvPicPr>
        <p:blipFill>
          <a:blip r:embed="rId2"/>
          <a:stretch/>
        </p:blipFill>
        <p:spPr>
          <a:xfrm>
            <a:off x="285264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664" name="WordArt 20"/>
          <p:cNvSpPr txBox="1"/>
          <p:nvPr/>
        </p:nvSpPr>
        <p:spPr>
          <a:xfrm>
            <a:off x="300996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Руководство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A0C1-E585-4240-9037-15CB54509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E100-C1DD-44BF-85BF-3E02294DCF6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Verdana"/>
              </a:rPr>
              <a:t>Ресурсы для об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5"/>
          <p:cNvSpPr/>
          <p:nvPr/>
        </p:nvSpPr>
        <p:spPr>
          <a:xfrm>
            <a:off x="457200" y="1295280"/>
            <a:ext cx="41148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бственные кад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итет по обеспечению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ские се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оморф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трудники подразделения контроля инфе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идемио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6"/>
          <p:cNvSpPr/>
          <p:nvPr/>
        </p:nvSpPr>
        <p:spPr>
          <a:xfrm>
            <a:off x="4800600" y="1295280"/>
            <a:ext cx="41148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ксперты-инспектор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изв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учные обществ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емирная организация здравоо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тры по контролю и профилактике заболеваний СШ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и, разрабатывающие стандар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7" descr="MPj04010010000[1]"/>
          <p:cNvPicPr/>
          <p:nvPr/>
        </p:nvPicPr>
        <p:blipFill>
          <a:blip r:embed="rId1"/>
          <a:stretch/>
        </p:blipFill>
        <p:spPr>
          <a:xfrm>
            <a:off x="2438280" y="4341960"/>
            <a:ext cx="1994040" cy="22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857D-801F-4AE9-B84F-8A77EC611F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609480" y="1295280"/>
            <a:ext cx="6858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здоровье сотруд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личные вопросы, отвлекающие от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допо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66400">
              <a:lnSpc>
                <a:spcPct val="100000"/>
              </a:lnSpc>
              <a:spcBef>
                <a:spcPts val="11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неверная или неполная 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9D69-6D5C-48F1-B7E5-9548B4CD5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57200" y="1143000"/>
            <a:ext cx="76201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истем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отвлечения на рабочем ме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чрезмерная рабочая нагруз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лохой инструк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достаточ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 проводится оценка компет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ложные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ОП отсутствует или уста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неоднозначная СО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Verdana"/>
              </a:rPr>
              <a:t>Причины плох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2:32:39Z</dcterms:modified>
  <cp:revision>232</cp:revision>
  <dc:subject/>
  <dc:title>Slide 1</dc:title>
</cp:coreProperties>
</file>