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11.jpeg" ContentType="image/jpeg"/>
  <Override PartName="/ppt/media/image9.jpeg" ContentType="image/jpeg"/>
  <Override PartName="/ppt/media/image4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1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37.wmf" ContentType="image/x-wmf"/>
  <Override PartName="/ppt/media/image41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4.jpeg" ContentType="image/jpeg"/>
  <Override PartName="/ppt/media/image40.png" ContentType="image/png"/>
  <Override PartName="/ppt/media/image38.wmf" ContentType="image/x-wmf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9B0F-5037-46DE-BFDA-E802900EB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82F4-CCB2-4A17-A5A5-DB8612CDE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3B4D-EC21-4D2F-86E2-6B578F8E9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4924-EFA8-407B-B541-441628F2B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8CF8-14DD-4797-92F1-769426825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F32F-EE79-45A0-B4BE-31AA15711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EE71E-5C76-4381-A9A3-597BF24D0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9511-A947-4538-8B15-52021A2B2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E506-E281-459B-BFDE-852EDB3BC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EDCF-097B-42F8-B4B7-2EBFD8B2E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5D39-E980-441C-A523-037B250C4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B998-0045-4088-A840-DB21A584A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5BBF-754A-4FF8-B0E7-CEA5D2054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9425-2132-4130-9949-3CB1F5E12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7636-66FA-4E6D-A036-F51309EAF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7408-40D8-4DA3-BCC8-64158F47B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9937-DFC5-4CC3-A0A9-35149362D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F089-33EA-4257-AD63-8E992AD58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87DB-F124-4C22-9A48-5D94E731B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C13C-5440-45C4-B878-A05ED9F5D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F65F-6E48-400A-A80B-77C04E1C8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2007-F073-4220-AF02-AE9FC1232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E208-DEDD-4135-8B95-112B62AD7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0CA2-DF53-45B1-B451-2941D348F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554F-62F5-46A3-8D4A-7B8683F89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3F0C-90E4-4C20-B4A3-E7894A11A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2E3C-C91F-40D8-9F1C-24A697055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4928-F71C-4206-AA11-7D5BE4DF8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3EA5-1475-49A4-BC3D-3214A350F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9701-5A83-4891-AE30-C5FCD8E3F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5D46A-0BA4-4B02-877A-998393548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9B650-2093-4B05-928C-8820FBA0C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57A98-39C1-45E4-8175-0AC16B9DFD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CEB61-FF46-459E-A57A-2600C794A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2A2F1-86CA-4889-B650-9BFBEB1260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605C1-D141-4FBB-A685-58EA50738B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D0407-4DE6-4E66-BF03-89A9C6324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467A9-C207-4CCB-AC96-924794C54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CA4CF-6648-46A8-8EC9-F30FDBB0F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2511B-DE46-447E-9552-4A723619B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D2945-1E87-4F1F-B17D-F83546D26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715B3-5FA1-4CBE-A7D0-A41F8561D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AE99-184F-4792-8160-D37A7F13B5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440" y="2062080"/>
            <a:ext cx="52578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Обслуживание клиентов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D3C3-3E50-4D55-A93F-230A55BA93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AA06-3D27-4F5D-9FA0-705701CFEA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рач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609480" y="2324160"/>
            <a:ext cx="19051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6324480" y="2400480"/>
            <a:ext cx="221004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124080" y="548640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8" name="AutoShape 7"/>
          <p:cNvCxnSpPr>
            <a:stCxn id="237" idx="0"/>
            <a:endCxn id="236" idx="2"/>
          </p:cNvCxnSpPr>
          <p:nvPr/>
        </p:nvCxnSpPr>
        <p:spPr>
          <a:xfrm flipV="1">
            <a:off x="4572000" y="3200040"/>
            <a:ext cx="2858400" cy="228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8"/>
          <p:cNvCxnSpPr>
            <a:stCxn id="237" idx="0"/>
            <a:endCxn id="235" idx="2"/>
          </p:cNvCxnSpPr>
          <p:nvPr/>
        </p:nvCxnSpPr>
        <p:spPr>
          <a:xfrm flipH="1" flipV="1">
            <a:off x="1561320" y="3085560"/>
            <a:ext cx="301068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40" name="AutoShape 9"/>
          <p:cNvSpPr/>
          <p:nvPr/>
        </p:nvSpPr>
        <p:spPr>
          <a:xfrm>
            <a:off x="3124080" y="1447920"/>
            <a:ext cx="2895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1" name="AutoShape 10"/>
          <p:cNvCxnSpPr>
            <a:stCxn id="237" idx="0"/>
            <a:endCxn id="240" idx="2"/>
          </p:cNvCxnSpPr>
          <p:nvPr/>
        </p:nvCxnSpPr>
        <p:spPr>
          <a:xfrm flipV="1">
            <a:off x="4571640" y="2590200"/>
            <a:ext cx="10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11"/>
          <p:cNvCxnSpPr>
            <a:stCxn id="235" idx="3"/>
            <a:endCxn id="240" idx="1"/>
          </p:cNvCxnSpPr>
          <p:nvPr/>
        </p:nvCxnSpPr>
        <p:spPr>
          <a:xfrm flipV="1">
            <a:off x="2514240" y="2018520"/>
            <a:ext cx="61020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AutoShape 12"/>
          <p:cNvCxnSpPr>
            <a:stCxn id="240" idx="3"/>
            <a:endCxn id="236" idx="1"/>
          </p:cNvCxnSpPr>
          <p:nvPr/>
        </p:nvCxnSpPr>
        <p:spPr>
          <a:xfrm>
            <a:off x="6019920" y="2019240"/>
            <a:ext cx="305280" cy="781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Rectangle 13"/>
          <p:cNvSpPr/>
          <p:nvPr/>
        </p:nvSpPr>
        <p:spPr>
          <a:xfrm>
            <a:off x="2133720" y="3809880"/>
            <a:ext cx="4800600" cy="1295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Точная 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онятна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воеврем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26D9-D4C6-4FE5-9610-BF44065C70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AFB6-007D-4EBF-9030-13527BE3C4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врачей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66760" y="2225520"/>
          <a:ext cx="8496360" cy="3870360"/>
        </p:xfrm>
        <a:graphic>
          <a:graphicData uri="http://schemas.openxmlformats.org/drawingml/2006/table">
            <a:tbl>
              <a:tblPr/>
              <a:tblGrid>
                <a:gridCol w="2411280"/>
                <a:gridCol w="3205080"/>
                <a:gridCol w="2880000"/>
              </a:tblGrid>
              <a:tr h="823320"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После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04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чень анали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ководство по взятию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ы за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своевременной до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рка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лидация мет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процес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нештатными ситуац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лаборатор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твержд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я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курат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50" name="AutoShape 47"/>
          <p:cNvSpPr/>
          <p:nvPr/>
        </p:nvSpPr>
        <p:spPr>
          <a:xfrm>
            <a:off x="533520" y="137160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48"/>
          <p:cNvSpPr/>
          <p:nvPr/>
        </p:nvSpPr>
        <p:spPr>
          <a:xfrm>
            <a:off x="3200400" y="1371600"/>
            <a:ext cx="1752480" cy="68580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49"/>
          <p:cNvSpPr/>
          <p:nvPr/>
        </p:nvSpPr>
        <p:spPr>
          <a:xfrm>
            <a:off x="6477120" y="1371600"/>
            <a:ext cx="1676160" cy="68580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3" name="AutoShape 10"/>
          <p:cNvCxnSpPr>
            <a:stCxn id="254" idx="0"/>
          </p:cNvCxnSpPr>
          <p:nvPr/>
        </p:nvCxnSpPr>
        <p:spPr>
          <a:xfrm flipH="1" flipV="1">
            <a:off x="4799880" y="2895120"/>
            <a:ext cx="1220040" cy="19058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61D3-DC1D-40DB-801B-A9E3C8579F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883D-D703-4E85-9959-C85A14D099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228600" y="3429000"/>
            <a:ext cx="3962520" cy="18288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Безопасность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пац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304920" y="1752480"/>
            <a:ext cx="25905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00800" y="21337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4572000" y="48006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3" name="AutoShape 7"/>
          <p:cNvCxnSpPr>
            <a:stCxn id="254" idx="0"/>
          </p:cNvCxnSpPr>
          <p:nvPr/>
        </p:nvCxnSpPr>
        <p:spPr>
          <a:xfrm flipV="1">
            <a:off x="6019920" y="3161520"/>
            <a:ext cx="915120" cy="1639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8"/>
          <p:cNvCxnSpPr>
            <a:stCxn id="254" idx="0"/>
          </p:cNvCxnSpPr>
          <p:nvPr/>
        </p:nvCxnSpPr>
        <p:spPr>
          <a:xfrm flipH="1" flipV="1">
            <a:off x="2894760" y="2742840"/>
            <a:ext cx="3125160" cy="205776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65" name="AutoShape 9"/>
          <p:cNvSpPr/>
          <p:nvPr/>
        </p:nvSpPr>
        <p:spPr>
          <a:xfrm>
            <a:off x="3581280" y="1752480"/>
            <a:ext cx="2210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6" name="AutoShape 11"/>
          <p:cNvCxnSpPr>
            <a:stCxn id="261" idx="3"/>
            <a:endCxn id="265" idx="1"/>
          </p:cNvCxnSpPr>
          <p:nvPr/>
        </p:nvCxnSpPr>
        <p:spPr>
          <a:xfrm>
            <a:off x="2895120" y="2323800"/>
            <a:ext cx="6865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AutoShape 12"/>
          <p:cNvCxnSpPr>
            <a:stCxn id="265" idx="3"/>
            <a:endCxn id="262" idx="1"/>
          </p:cNvCxnSpPr>
          <p:nvPr/>
        </p:nvCxnSpPr>
        <p:spPr>
          <a:xfrm>
            <a:off x="5790960" y="2323800"/>
            <a:ext cx="610200" cy="324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550D-2A98-450A-8BC5-420E1E9C63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65E6-0F87-421D-AB23-BFB9B5C56C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пациентов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96880"/>
            <a:ext cx="86104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ставить информацию о взятии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условия для взятия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енный и знающий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докум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019920" y="5867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нфиденциа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3581640" y="4106160"/>
            <a:ext cx="2342880" cy="2597400"/>
            <a:chOff x="3581640" y="4106160"/>
            <a:chExt cx="2342880" cy="2597400"/>
          </a:xfrm>
        </p:grpSpPr>
        <p:pic>
          <p:nvPicPr>
            <p:cNvPr id="277" name="Picture 12" descr="14_instructions"/>
            <p:cNvPicPr/>
            <p:nvPr/>
          </p:nvPicPr>
          <p:blipFill>
            <a:blip r:embed="rId3"/>
            <a:stretch/>
          </p:blipFill>
          <p:spPr>
            <a:xfrm rot="20064600">
              <a:off x="3962160" y="4343400"/>
              <a:ext cx="158112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1"/>
            <p:cNvSpPr/>
            <p:nvPr/>
          </p:nvSpPr>
          <p:spPr>
            <a:xfrm rot="20040000">
              <a:off x="4014720" y="4518360"/>
              <a:ext cx="1309680" cy="15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 Narrow"/>
                </a:rPr>
                <a:t>Услуги Лаборатории качеств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818ff"/>
                  </a:solidFill>
                  <a:latin typeface="Arial"/>
                </a:rPr>
                <a:t>Инструкции для пациентов по сбору проб для анализов на гельминт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F108-AD51-42EC-BA12-57E4F334CD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47B0-4BD3-4A92-9C98-E07BCE611C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доставьте пациентам следующую информацию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57200" y="2141640"/>
            <a:ext cx="3581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рес лаборатории и инструкции, как до нее добратьс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ли персонал, владеющий двум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/или более язы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93C8-2AC7-444C-8090-60050BA575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E6C7-6AB6-4132-A5F9-CA696933E8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20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забору проб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429920"/>
            <a:ext cx="79246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контейн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обращ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ры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038480"/>
            <a:ext cx="3954240" cy="2079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562720" y="2590920"/>
            <a:ext cx="3200400" cy="1533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1084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94" name="Picture 8" descr="patient-wristband"/>
          <p:cNvPicPr/>
          <p:nvPr/>
        </p:nvPicPr>
        <p:blipFill>
          <a:blip r:embed="rId4"/>
          <a:stretch/>
        </p:blipFill>
        <p:spPr>
          <a:xfrm>
            <a:off x="7010280" y="1066680"/>
            <a:ext cx="1524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4756-4888-42AC-9FD4-F5327C7926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63DD-48C4-4667-BB0F-44F4E51C65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10" descr="13_clean_rooms_new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AutoShape 10"/>
          <p:cNvCxnSpPr>
            <a:stCxn id="300" idx="0"/>
            <a:endCxn id="301" idx="2"/>
          </p:cNvCxnSpPr>
          <p:nvPr/>
        </p:nvCxnSpPr>
        <p:spPr>
          <a:xfrm flipV="1">
            <a:off x="3200040" y="3199680"/>
            <a:ext cx="114372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E861-B189-4946-AB66-02FB96DEC0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8249-8B0C-459F-86F9-2BB4B55EEB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6400800" y="1371600"/>
            <a:ext cx="1905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620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едомств охраны здоровья насел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943600" y="2400480"/>
            <a:ext cx="2971800" cy="12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Группы и лица, вовлеченные в охрану здоровья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1905120" y="4876920"/>
            <a:ext cx="259056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9" name="AutoShape 7"/>
          <p:cNvCxnSpPr>
            <a:stCxn id="300" idx="0"/>
          </p:cNvCxnSpPr>
          <p:nvPr/>
        </p:nvCxnSpPr>
        <p:spPr>
          <a:xfrm flipV="1">
            <a:off x="3200040" y="3504960"/>
            <a:ext cx="2896200" cy="1372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8"/>
          <p:cNvCxnSpPr>
            <a:stCxn id="300" idx="0"/>
            <a:endCxn id="307" idx="2"/>
          </p:cNvCxnSpPr>
          <p:nvPr/>
        </p:nvCxnSpPr>
        <p:spPr>
          <a:xfrm flipH="1" flipV="1">
            <a:off x="1523160" y="3047760"/>
            <a:ext cx="167724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301" name="AutoShape 9"/>
          <p:cNvSpPr/>
          <p:nvPr/>
        </p:nvSpPr>
        <p:spPr>
          <a:xfrm>
            <a:off x="342900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1" name="AutoShape 11"/>
          <p:cNvCxnSpPr>
            <a:stCxn id="307" idx="3"/>
            <a:endCxn id="301" idx="1"/>
          </p:cNvCxnSpPr>
          <p:nvPr/>
        </p:nvCxnSpPr>
        <p:spPr>
          <a:xfrm>
            <a:off x="2438280" y="2666880"/>
            <a:ext cx="99144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2" name="AutoShape 12"/>
          <p:cNvCxnSpPr>
            <a:stCxn id="301" idx="3"/>
            <a:endCxn id="308" idx="1"/>
          </p:cNvCxnSpPr>
          <p:nvPr/>
        </p:nvCxnSpPr>
        <p:spPr>
          <a:xfrm>
            <a:off x="5257440" y="2705040"/>
            <a:ext cx="686520" cy="324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3" name="Rectangle 13"/>
          <p:cNvSpPr/>
          <p:nvPr/>
        </p:nvSpPr>
        <p:spPr>
          <a:xfrm>
            <a:off x="5334120" y="4114800"/>
            <a:ext cx="3429000" cy="2019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онные матери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еспечение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C58A-6D1C-482A-AB49-5ED956801F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AEE9-D958-453C-8B22-2E91C75344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Diagram 8"/>
          <p:cNvGrpSpPr/>
          <p:nvPr/>
        </p:nvGrpSpPr>
        <p:grpSpPr>
          <a:xfrm>
            <a:off x="380880" y="1092240"/>
            <a:ext cx="8395560" cy="5117760"/>
            <a:chOff x="380880" y="1092240"/>
            <a:chExt cx="8395560" cy="5117760"/>
          </a:xfrm>
        </p:grpSpPr>
        <p:sp>
          <p:nvSpPr>
            <p:cNvPr id="318" name="_s1028"/>
            <p:cNvSpPr/>
            <p:nvPr/>
          </p:nvSpPr>
          <p:spPr>
            <a:xfrm flipH="1" flipV="1">
              <a:off x="2362680" y="2895840"/>
              <a:ext cx="1395000" cy="5007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1029"/>
            <p:cNvSpPr/>
            <p:nvPr/>
          </p:nvSpPr>
          <p:spPr>
            <a:xfrm>
              <a:off x="457560" y="1941840"/>
              <a:ext cx="2053080" cy="133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Удаление отход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_s1030"/>
            <p:cNvSpPr/>
            <p:nvPr/>
          </p:nvSpPr>
          <p:spPr>
            <a:xfrm flipH="1">
              <a:off x="2869560" y="4064040"/>
              <a:ext cx="888480" cy="333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_s1031"/>
            <p:cNvSpPr/>
            <p:nvPr/>
          </p:nvSpPr>
          <p:spPr>
            <a:xfrm>
              <a:off x="380880" y="4190040"/>
              <a:ext cx="2398320" cy="133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Транспортировка опасных материал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_s1032"/>
            <p:cNvSpPr/>
            <p:nvPr/>
          </p:nvSpPr>
          <p:spPr>
            <a:xfrm>
              <a:off x="4570560" y="4397040"/>
              <a:ext cx="0" cy="6667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_s1033"/>
            <p:cNvSpPr/>
            <p:nvPr/>
          </p:nvSpPr>
          <p:spPr>
            <a:xfrm>
              <a:off x="3124440" y="4876920"/>
              <a:ext cx="289512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граничение распростран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_s1034"/>
            <p:cNvSpPr/>
            <p:nvPr/>
          </p:nvSpPr>
          <p:spPr>
            <a:xfrm>
              <a:off x="5791680" y="4064040"/>
              <a:ext cx="911880" cy="443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_s1035"/>
            <p:cNvSpPr/>
            <p:nvPr/>
          </p:nvSpPr>
          <p:spPr>
            <a:xfrm>
              <a:off x="6703560" y="4229640"/>
              <a:ext cx="2053080" cy="1333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щи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_s1036"/>
            <p:cNvSpPr/>
            <p:nvPr/>
          </p:nvSpPr>
          <p:spPr>
            <a:xfrm flipV="1">
              <a:off x="5791680" y="2971800"/>
              <a:ext cx="761400" cy="342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_s1037"/>
            <p:cNvSpPr/>
            <p:nvPr/>
          </p:nvSpPr>
          <p:spPr>
            <a:xfrm>
              <a:off x="6532560" y="1897920"/>
              <a:ext cx="2243880" cy="1333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Безопаснос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_s1038"/>
            <p:cNvSpPr/>
            <p:nvPr/>
          </p:nvSpPr>
          <p:spPr>
            <a:xfrm flipV="1">
              <a:off x="4570560" y="2399040"/>
              <a:ext cx="0" cy="66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_s1039"/>
            <p:cNvSpPr/>
            <p:nvPr/>
          </p:nvSpPr>
          <p:spPr>
            <a:xfrm>
              <a:off x="3503520" y="1092240"/>
              <a:ext cx="2053080" cy="149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овещения об инфекционных заболеваниях, эпиднадзор и меры реагирова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_s1040"/>
            <p:cNvSpPr/>
            <p:nvPr/>
          </p:nvSpPr>
          <p:spPr>
            <a:xfrm>
              <a:off x="3621240" y="3066120"/>
              <a:ext cx="2052360" cy="1333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Удовлетворение потребностей нас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3048120" y="2895480"/>
            <a:ext cx="2973240" cy="168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3282-70EC-496F-B835-BB343F6931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502B-F614-4619-A941-809951D0BF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38080" y="1523880"/>
            <a:ext cx="7543800" cy="1409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аборатория проверена и аккредитована в соответствии с высшими стандар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39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40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Verdana"/>
                  <a:ea typeface="Verdana"/>
                </a:endParaRPr>
              </a:p>
            </p:txBody>
          </p:sp>
        </p:grpSp>
        <p:sp>
          <p:nvSpPr>
            <p:cNvPr id="342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1587600" y="4746600"/>
              <a:ext cx="211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ВИЧНА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4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46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47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Verdana"/>
                  <a:ea typeface="Verdana"/>
                </a:endParaRPr>
              </a:p>
            </p:txBody>
          </p:sp>
        </p:grpSp>
        <p:sp>
          <p:nvSpPr>
            <p:cNvPr id="349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Text Box 21"/>
            <p:cNvSpPr/>
            <p:nvPr/>
          </p:nvSpPr>
          <p:spPr>
            <a:xfrm>
              <a:off x="4934160" y="4645800"/>
              <a:ext cx="27795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ддержание статус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1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A778-2C88-4758-BFEA-6C4698CA75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4C19-BCC5-4E8F-A775-C481C630B7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1256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разные категории клиенто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методы измерения удовлетворенност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отенциальные проблемы с кли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ложить решения проблем в обслуживани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, как процессы управления качеством помогают лаборатории удовлетворить потребности и требования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321D-9825-4E89-AF35-436008B414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E4C2-B601-4527-816E-A0B7E347CF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орошее обслуживание клиентов предоставит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наилучшего ле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улучшения эпиднадз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ый имидж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бслуживание клиентов – неотъемлемая часть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Методы оценки удовлетворенности клиентов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D57E-F1C2-411A-B295-576989A95B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4090-C9E1-47A5-9E27-F669B45861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Diagram 5"/>
          <p:cNvGrpSpPr/>
          <p:nvPr/>
        </p:nvGrpSpPr>
        <p:grpSpPr>
          <a:xfrm>
            <a:off x="306360" y="1517760"/>
            <a:ext cx="8230320" cy="4547880"/>
            <a:chOff x="306360" y="1517760"/>
            <a:chExt cx="8230320" cy="4547880"/>
          </a:xfrm>
        </p:grpSpPr>
        <p:sp>
          <p:nvSpPr>
            <p:cNvPr id="362" name="_s2052"/>
            <p:cNvSpPr/>
            <p:nvPr/>
          </p:nvSpPr>
          <p:spPr>
            <a:xfrm flipH="1" flipV="1">
              <a:off x="2360160" y="2872800"/>
              <a:ext cx="1126440" cy="48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_s2053"/>
            <p:cNvSpPr/>
            <p:nvPr/>
          </p:nvSpPr>
          <p:spPr>
            <a:xfrm>
              <a:off x="306360" y="1955160"/>
              <a:ext cx="3035880" cy="10926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устные опросы, фокус-групп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_s2054"/>
            <p:cNvSpPr/>
            <p:nvPr/>
          </p:nvSpPr>
          <p:spPr>
            <a:xfrm flipH="1">
              <a:off x="2837880" y="3962160"/>
              <a:ext cx="104904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_s2055"/>
            <p:cNvSpPr/>
            <p:nvPr/>
          </p:nvSpPr>
          <p:spPr>
            <a:xfrm>
              <a:off x="306360" y="4278960"/>
              <a:ext cx="3885120" cy="947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кетирование удовлетворен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_s2056"/>
            <p:cNvSpPr/>
            <p:nvPr/>
          </p:nvSpPr>
          <p:spPr>
            <a:xfrm>
              <a:off x="4570920" y="3962160"/>
              <a:ext cx="151920" cy="137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_s2057"/>
            <p:cNvSpPr/>
            <p:nvPr/>
          </p:nvSpPr>
          <p:spPr>
            <a:xfrm>
              <a:off x="3342240" y="5199480"/>
              <a:ext cx="2828520" cy="86616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ализ руководство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_s2058"/>
            <p:cNvSpPr/>
            <p:nvPr/>
          </p:nvSpPr>
          <p:spPr>
            <a:xfrm>
              <a:off x="5257440" y="3962160"/>
              <a:ext cx="1068840" cy="44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_s2059"/>
            <p:cNvSpPr/>
            <p:nvPr/>
          </p:nvSpPr>
          <p:spPr>
            <a:xfrm>
              <a:off x="5879880" y="4188600"/>
              <a:ext cx="265680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внутренний ауди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_s2060"/>
            <p:cNvSpPr/>
            <p:nvPr/>
          </p:nvSpPr>
          <p:spPr>
            <a:xfrm flipV="1">
              <a:off x="5430240" y="2971440"/>
              <a:ext cx="1045080" cy="51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_s2061"/>
            <p:cNvSpPr/>
            <p:nvPr/>
          </p:nvSpPr>
          <p:spPr>
            <a:xfrm>
              <a:off x="5961240" y="2121480"/>
              <a:ext cx="257544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показатели качеств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_s2062"/>
            <p:cNvSpPr/>
            <p:nvPr/>
          </p:nvSpPr>
          <p:spPr>
            <a:xfrm flipV="1">
              <a:off x="4533120" y="2209320"/>
              <a:ext cx="0" cy="97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_s2063"/>
            <p:cNvSpPr/>
            <p:nvPr/>
          </p:nvSpPr>
          <p:spPr>
            <a:xfrm>
              <a:off x="3534840" y="1517760"/>
              <a:ext cx="2071080" cy="8740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жалобы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_s2064"/>
            <p:cNvSpPr/>
            <p:nvPr/>
          </p:nvSpPr>
          <p:spPr>
            <a:xfrm>
              <a:off x="2360520" y="2971440"/>
              <a:ext cx="4344840" cy="112464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тслеживани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4BD3-2A79-4C17-B3B7-378C7208A0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E730-5C13-4EAF-BBE6-3ABFE2821F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ученные жалобы отражают лишь «верхушку айсберга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AA3A-703E-4D73-9E06-8F5E5DAE53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E2E8-114F-4335-9E53-D6E0BD0E50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алоб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1920" y="2757240"/>
            <a:ext cx="39625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Verdana"/>
              </a:rPr>
              <a:t>Фактически недовольные клиенты</a:t>
            </a:r>
            <a:r>
              <a:rPr b="1" lang="en-US" sz="34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0"/>
          <p:cNvSpPr/>
          <p:nvPr/>
        </p:nvSpPr>
        <p:spPr>
          <a:xfrm rot="5400000">
            <a:off x="3238200" y="2704680"/>
            <a:ext cx="3809880" cy="2667240"/>
          </a:xfrm>
          <a:custGeom>
            <a:avLst/>
            <a:gdLst>
              <a:gd name="textAreaLeft" fmla="*/ 380880 w 3809880"/>
              <a:gd name="textAreaRight" fmla="*/ 3429000 w 3809880"/>
              <a:gd name="textAreaTop" fmla="*/ 1524240 h 2667240"/>
              <a:gd name="textAreaBottom" fmla="*/ 2286360 h 2667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F289-BC4C-49A5-AE5D-F926F0F9CC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цен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914400" y="144792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казателей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5334120" y="1143000"/>
            <a:ext cx="3352680" cy="2209680"/>
          </a:xfrm>
          <a:prstGeom prst="hexagon">
            <a:avLst>
              <a:gd name="adj" fmla="val 37932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5486400" y="16765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дение внутренних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21"/>
          <p:cNvSpPr/>
          <p:nvPr/>
        </p:nvSpPr>
        <p:spPr>
          <a:xfrm rot="4216800">
            <a:off x="2411280" y="2757240"/>
            <a:ext cx="1444680" cy="990720"/>
          </a:xfrm>
          <a:custGeom>
            <a:avLst/>
            <a:gdLst>
              <a:gd name="textAreaLeft" fmla="*/ 225720 w 1444680"/>
              <a:gd name="textAreaRight" fmla="*/ 1264320 w 144468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AutoShape 22"/>
          <p:cNvSpPr/>
          <p:nvPr/>
        </p:nvSpPr>
        <p:spPr>
          <a:xfrm rot="6607200">
            <a:off x="4489920" y="2743920"/>
            <a:ext cx="1452240" cy="990360"/>
          </a:xfrm>
          <a:custGeom>
            <a:avLst/>
            <a:gdLst>
              <a:gd name="textAreaLeft" fmla="*/ 226800 w 1452240"/>
              <a:gd name="textAreaRight" fmla="*/ 1270800 w 14522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utoShape 23"/>
          <p:cNvSpPr/>
          <p:nvPr/>
        </p:nvSpPr>
        <p:spPr>
          <a:xfrm>
            <a:off x="1981080" y="3962520"/>
            <a:ext cx="4724640" cy="2133360"/>
          </a:xfrm>
          <a:prstGeom prst="downArrowCallout">
            <a:avLst>
              <a:gd name="adj1" fmla="val 55371"/>
              <a:gd name="adj2" fmla="val 55366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286000" y="41911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ализ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358128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A162-373A-476E-A894-46867265EA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50C2-EE61-4C3A-8655-9CB5663B1F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434340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зучение мнения клиенто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вляетс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ребованием системы управления качеством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808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е мне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1284-1DF6-45E8-A2BA-FFF204420A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BD90-574C-4579-AE04-E6A0AC2331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2" name="Diagram 5"/>
          <p:cNvGrpSpPr/>
          <p:nvPr/>
        </p:nvGrpSpPr>
        <p:grpSpPr>
          <a:xfrm>
            <a:off x="457200" y="1295280"/>
            <a:ext cx="8152560" cy="4876560"/>
            <a:chOff x="457200" y="1295280"/>
            <a:chExt cx="8152560" cy="4876560"/>
          </a:xfrm>
        </p:grpSpPr>
        <p:sp>
          <p:nvSpPr>
            <p:cNvPr id="413" name="AutoShape 4"/>
            <p:cNvSpPr/>
            <p:nvPr/>
          </p:nvSpPr>
          <p:spPr>
            <a:xfrm>
              <a:off x="457200" y="1295280"/>
              <a:ext cx="8152560" cy="4876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своевременно проанализи-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_s3079"/>
            <p:cNvSpPr/>
            <p:nvPr/>
          </p:nvSpPr>
          <p:spPr>
            <a:xfrm>
              <a:off x="1219320" y="4600080"/>
              <a:ext cx="238140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ез наводящих вопросов, объектив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_s3081"/>
            <p:cNvSpPr/>
            <p:nvPr/>
          </p:nvSpPr>
          <p:spPr>
            <a:xfrm>
              <a:off x="5687640" y="4601880"/>
              <a:ext cx="215964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ранее провере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_s3083"/>
            <p:cNvSpPr/>
            <p:nvPr/>
          </p:nvSpPr>
          <p:spPr>
            <a:xfrm>
              <a:off x="6261120" y="2558160"/>
              <a:ext cx="227160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рганиз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_s3085"/>
            <p:cNvSpPr/>
            <p:nvPr/>
          </p:nvSpPr>
          <p:spPr>
            <a:xfrm>
              <a:off x="3553200" y="1295280"/>
              <a:ext cx="2617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плани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5" name="Text Box 19"/>
          <p:cNvSpPr/>
          <p:nvPr/>
        </p:nvSpPr>
        <p:spPr>
          <a:xfrm>
            <a:off x="3048120" y="2819520"/>
            <a:ext cx="3047760" cy="1556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Успешно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46B4-B2F9-4FCD-9B2E-EE85C4736D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0A29-1602-416F-BC8F-B58BDFC9F2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веты для устного опрос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68580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ранее напишите вопро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вайте конкретные вопросы, а также вопросы, в ответ на которые клиент может высказать свое мн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удут искренни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Picture 9" descr="MCj02955670000[1]"/>
          <p:cNvPicPr/>
          <p:nvPr/>
        </p:nvPicPr>
        <p:blipFill>
          <a:blip r:embed="rId1"/>
          <a:stretch/>
        </p:blipFill>
        <p:spPr>
          <a:xfrm>
            <a:off x="6324480" y="3276720"/>
            <a:ext cx="2713320" cy="34290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914400" y="4678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Как мы можем улучшить обслуживание?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466F-6F19-4E41-9DD7-9E886C7390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Фокус-групп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роведении обсужд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фокус-групп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небольшие группы и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–10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ите людей из разных социальных групп и с разными запросами к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ните с вопросов, которые установят довер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екомендации по отбору фокус-групп для сопоставимост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вайте открытые вопросы, на которые клиент может высказать свое мнение, а не отвечать «Да» или «Нет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8" name="Picture 9" descr="MCPE02097_0000[1]"/>
          <p:cNvPicPr/>
          <p:nvPr/>
        </p:nvPicPr>
        <p:blipFill>
          <a:blip r:embed="rId1"/>
          <a:srcRect l="0" t="0" r="10555" b="60635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6C36-2BB6-463D-A08A-DB00FD9C70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FAB0-0BD9-4A40-BF87-3DF2943A2B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змерение удовлетворенности клиентов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ости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28600" y="1676520"/>
            <a:ext cx="876312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осы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743200" y="3352680"/>
            <a:ext cx="34815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Улучшение процесс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C2B5-C70A-4990-ADF4-DB53D22147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DD6F-D9FF-4066-879A-423D124EF3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клиенты пожаловались на значительные задержки в выдаче результатов анализов на ВИЧ. Вы убедились в том, что задержки были необоснованными, и устранили недостат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к вы можете восстановить доверие клиент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4189-D2C3-406C-93F2-12846E5662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935F-9AC3-47C7-A595-2D45892563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ктивная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истема управления качеством обеспечит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отребностей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сех клиентов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5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6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5A42-20FD-4B4A-8B8D-AE4B16AAEE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D368-0B91-483C-80CD-620D4AEB70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лиентов – неотъемлемая часть системы управления качеством. Важно, чтобы лаборатор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ивно участвовала в этом проце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ла планирование и отслежи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ла и понимала клиентов и их потреб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яла ресурсы для этой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0880" y="1219320"/>
            <a:ext cx="87631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овлетворение потребностей клиентов является основной целью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ктивная система управления качеством в лаборатории обеспечит удовлетворение потребностей всех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ый сотрудник лаборатории несет ответственность за качество и, как следствие, за обслуживание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9EF4-F225-41E5-84B3-77209EEA25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A898-D4F0-40F6-9E3E-3F10558EB2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9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70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4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5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6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7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8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89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0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2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5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6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8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9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0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01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5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6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9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10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12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3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5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8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9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1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2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5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2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4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4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4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4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5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5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5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7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8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C0ED-23B2-4CA5-AD95-E287001C11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0C1F-F692-486A-8A89-48EE676413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CB11-7502-46EF-BBA8-3645329EFC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819520" y="48769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Четыре принципа управления качеств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80880" y="2661840"/>
            <a:ext cx="6248520" cy="1556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Качество – это удовлетворение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потребностей клиентов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4280-7ED4-4331-8C6E-FB8918B572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FF02-D7D7-455A-8EE1-0586C9C70E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отвечает за обслуживание клиента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2590920" y="3112920"/>
            <a:ext cx="4190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Кажды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лаборатории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программы повышения удовлетворенности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2057040"/>
            <a:ext cx="838188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с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верженность всех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методами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есур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4CFE-FDDB-42ED-926B-4E468D500B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9018-ED7F-4B7B-A9EA-51E2C720A1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EA87-59C8-467B-9663-5AF8B2810F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и ее кли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8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0" name="AutoShape 9"/>
          <p:cNvSpPr/>
          <p:nvPr/>
        </p:nvSpPr>
        <p:spPr>
          <a:xfrm>
            <a:off x="3505320" y="4800600"/>
            <a:ext cx="22096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угие мед. работн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1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5" idx="3"/>
            <a:endCxn id="220" idx="1"/>
          </p:cNvCxnSpPr>
          <p:nvPr/>
        </p:nvCxnSpPr>
        <p:spPr>
          <a:xfrm>
            <a:off x="2438280" y="5105520"/>
            <a:ext cx="106776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9032-BF7C-4C9B-AAAC-A9E4D55CD3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E3AF-D66D-4001-B27A-ADA65E5DD3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должна иметь юридическую идентификаци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дре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О руковод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актная информац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ак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лектронная поч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j0286448"/>
          <p:cNvPicPr/>
          <p:nvPr/>
        </p:nvPicPr>
        <p:blipFill>
          <a:blip r:embed="rId1"/>
          <a:stretch/>
        </p:blipFill>
        <p:spPr>
          <a:xfrm>
            <a:off x="5562720" y="1905120"/>
            <a:ext cx="3286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21:21Z</dcterms:modified>
  <cp:revision>168</cp:revision>
  <dc:subject/>
  <dc:title>Slide 1</dc:title>
</cp:coreProperties>
</file>