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12.png" ContentType="image/png"/>
  <Override PartName="/ppt/media/image9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C31F-B128-4C84-AF4C-17A8502C66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0A7EAF90-6832-4EF2-AE52-15B32C7A2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0FDB-E3D3-4AC9-94DF-C497575AE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C30B634-0DB6-4D47-AF49-C6F593103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0EAF8821-F998-4E87-93C0-7447A9544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1C3F51D-CAD1-4572-81AD-992A4D4607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B4BC297-7AC5-432C-9DD1-00454DFDD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B65BACC-3616-4D91-9962-F71C32315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A0DDB97-6174-4A82-A9B0-178B25BE8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3D1E867-2F12-4BD7-B8AE-E765A8E40F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5CFCADA7-ADD7-452F-B344-59F3EFC6E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525EB-0A1D-4058-B5FE-8E9336826B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F85A2-BBB2-4540-868A-3A9BA73F53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0B945-635C-45A7-A939-449E4050BE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BA00C-A6B0-42C5-A19F-8178B60959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51B9-57AD-4B75-8018-BD37B4F865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1F7B-6226-4552-8FE1-4806426AAC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EF6F-F1C2-45A5-828F-D42FCA9D07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92A1-2F9E-441D-8858-D5BD154A4C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76C1-1576-4D38-8C96-0F30533606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A468-7CC6-4C12-A4DE-8D7A85B432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3F36-A444-415D-B129-B83301DDCE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12035-9B26-4841-91FE-4FBF523B52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E1A8-CFD1-49D0-B00A-8F0A5D29DA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B33D-5ADA-4936-9A65-D5201FE8ED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5E43-2DE7-4725-9CE3-562AA910DC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3021-EAFF-407D-9946-859C3D41E4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3710-B283-4E93-ACD6-56394D83FF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0A8E3-2871-43D3-87D7-973F147923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54897-F952-415B-84BC-EDE6247516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A3EE2-BBE3-4FFA-88D9-E51594C380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CF16E-EB48-4E89-A288-0C9AC797B8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40162-15A0-4E7E-9886-99D9E5B7DE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2223D-6E40-46AC-B60C-54B6E3A75B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8A8DA-E0F2-4470-A563-D7E8FBAED1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2586-2142-4F21-BEA5-7F26860674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9BDC-1460-4D13-96C3-5557F0ED47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1950-20AA-4A09-9ABE-2DAB9FA819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819520" y="1676520"/>
            <a:ext cx="6172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нтроль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процессов: Введение 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контроль кач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3EE3-4667-460E-BBFB-6A9E2409B2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552240"/>
            <a:ext cx="5715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К – 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536480"/>
            <a:ext cx="822960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ая часть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ль – выявить и исправить ошибки до выдачи результатов анализов пац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разные методы для количественных, качественных и полуколичественны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E05C-545E-46CC-B4BF-D51F0E1402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5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25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26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26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26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27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27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27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28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28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29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29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30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30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30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B247-AB5B-42D8-A402-88F582992A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Цели изучен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298520"/>
            <a:ext cx="845820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ь определение контролю качества и объяснить его связь с системой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ъяснить, чем различаются количественные, качественные и полуколичественные исследовани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E49B-55AA-416C-AB18-4801A2B167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7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1DD3-4304-424C-B9C6-0D2B262748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1371240"/>
            <a:ext cx="777240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троль качества (КК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это часть управления качеством, нацеленная на выполнение требований по качеству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ISO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9000:2000 (3.4.1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К исследует «контрольные» материалы  известных веществ параллельно с пробами пациентов для контроля правильности и воспроизводимости всего процесса исследования (анализ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BC49-FCCE-44AA-9653-6BC8B126C5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Content Placeholder 2"/>
          <p:cNvSpPr/>
          <p:nvPr/>
        </p:nvSpPr>
        <p:spPr>
          <a:xfrm>
            <a:off x="380880" y="1828800"/>
            <a:ext cx="838224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Целью КК </a:t>
            </a: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является выявление ошибок и их испр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до выд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результатов анализов пацие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3131-4D4E-4A2E-9692-A98A70295E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399600"/>
            <a:ext cx="8381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личественные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160" y="1206000"/>
            <a:ext cx="7467480" cy="10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змеряют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количество определенного вещества в пробе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7" name="Group 21"/>
          <p:cNvGrpSpPr/>
          <p:nvPr/>
        </p:nvGrpSpPr>
        <p:grpSpPr>
          <a:xfrm>
            <a:off x="609480" y="4114800"/>
            <a:ext cx="1828800" cy="1447560"/>
            <a:chOff x="609480" y="4114800"/>
            <a:chExt cx="1828800" cy="1447560"/>
          </a:xfrm>
        </p:grpSpPr>
        <p:grpSp>
          <p:nvGrpSpPr>
            <p:cNvPr id="208" name="Group 18"/>
            <p:cNvGrpSpPr/>
            <p:nvPr/>
          </p:nvGrpSpPr>
          <p:grpSpPr>
            <a:xfrm>
              <a:off x="609480" y="4114800"/>
              <a:ext cx="1828800" cy="1447560"/>
              <a:chOff x="609480" y="4114800"/>
              <a:chExt cx="1828800" cy="1447560"/>
            </a:xfrm>
          </p:grpSpPr>
          <p:sp>
            <p:nvSpPr>
              <p:cNvPr id="209" name="AutoShape 6"/>
              <p:cNvSpPr/>
              <p:nvPr/>
            </p:nvSpPr>
            <p:spPr>
              <a:xfrm>
                <a:off x="838080" y="457200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7"/>
              <p:cNvSpPr/>
              <p:nvPr/>
            </p:nvSpPr>
            <p:spPr>
              <a:xfrm>
                <a:off x="609480" y="449568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1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11480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Rectangle 17"/>
              <p:cNvSpPr/>
              <p:nvPr/>
            </p:nvSpPr>
            <p:spPr>
              <a:xfrm>
                <a:off x="2133360" y="426708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AutoShape 19"/>
            <p:cNvSpPr/>
            <p:nvPr/>
          </p:nvSpPr>
          <p:spPr>
            <a:xfrm>
              <a:off x="1257120" y="510516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920"/>
                <a:gd name="textAreaBottom" fmla="*/ 1094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20"/>
            <p:cNvSpPr/>
            <p:nvPr/>
          </p:nvSpPr>
          <p:spPr>
            <a:xfrm flipH="1" flipV="1">
              <a:off x="1447560" y="525744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Picture 47" descr="Beaker"/>
          <p:cNvPicPr/>
          <p:nvPr/>
        </p:nvPicPr>
        <p:blipFill>
          <a:blip r:embed="rId2"/>
          <a:stretch/>
        </p:blipFill>
        <p:spPr>
          <a:xfrm>
            <a:off x="7010280" y="4635360"/>
            <a:ext cx="1322640" cy="1384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494600"/>
            <a:ext cx="2203560" cy="1983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4"/>
          <p:cNvSpPr/>
          <p:nvPr/>
        </p:nvSpPr>
        <p:spPr>
          <a:xfrm>
            <a:off x="533520" y="242712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Измерения должны быть точными и воспроизводим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8" descr="10040_lores"/>
          <p:cNvPicPr/>
          <p:nvPr/>
        </p:nvPicPr>
        <p:blipFill>
          <a:blip r:embed="rId4"/>
          <a:stretch/>
        </p:blipFill>
        <p:spPr>
          <a:xfrm>
            <a:off x="2666880" y="3675240"/>
            <a:ext cx="3962520" cy="264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62BF-6C25-474C-8D8D-5D13E191C6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400" spc="-1" strike="noStrike">
                <a:solidFill>
                  <a:srgbClr val="00007d"/>
                </a:solidFill>
                <a:latin typeface="Verdana"/>
              </a:rPr>
              <a:t>Качественные методы исследования</a:t>
            </a:r>
            <a:endParaRPr b="0" lang="en-US" sz="3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62000" y="1143000"/>
            <a:ext cx="5857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сследования, не дающие результатов в цифрах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личие или отсутствие рос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ожительный или отрицательны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ктивный или не реактивны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менение цв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8" descr="qc_growth_poor_growth_cdc"/>
          <p:cNvPicPr/>
          <p:nvPr/>
        </p:nvPicPr>
        <p:blipFill>
          <a:blip r:embed="rId1"/>
          <a:stretch/>
        </p:blipFill>
        <p:spPr>
          <a:xfrm>
            <a:off x="5934240" y="1701720"/>
            <a:ext cx="2415960" cy="1617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pos_neg-urease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319560"/>
            <a:ext cx="2397240" cy="1700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qc_pos_neg_latex_agglut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51460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CF12-3005-49AD-8D5D-E3C8CD348F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400" spc="-1" strike="noStrike">
                <a:solidFill>
                  <a:srgbClr val="00007d"/>
                </a:solidFill>
                <a:latin typeface="Verdana"/>
              </a:rPr>
              <a:t>Полуколичественные методы исследования</a:t>
            </a:r>
            <a:endParaRPr b="0" lang="en-US" sz="3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2106360"/>
            <a:ext cx="8434440" cy="37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зультаты выражены в виде оценки количества вещества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следы»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умерено» или «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1+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2+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ли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3+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личество клеток в поле зр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тры и разведения в серологических тес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9604-AA6C-4C21-ABDE-B777F7DA20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Diagram 2"/>
          <p:cNvGrpSpPr/>
          <p:nvPr/>
        </p:nvGrpSpPr>
        <p:grpSpPr>
          <a:xfrm>
            <a:off x="379440" y="760320"/>
            <a:ext cx="8303400" cy="5411520"/>
            <a:chOff x="379440" y="760320"/>
            <a:chExt cx="8303400" cy="5411520"/>
          </a:xfrm>
        </p:grpSpPr>
        <p:sp>
          <p:nvSpPr>
            <p:cNvPr id="233" name="_s1028"/>
            <p:cNvSpPr/>
            <p:nvPr/>
          </p:nvSpPr>
          <p:spPr>
            <a:xfrm flipH="1">
              <a:off x="2556000" y="3351240"/>
              <a:ext cx="10209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29"/>
            <p:cNvSpPr/>
            <p:nvPr/>
          </p:nvSpPr>
          <p:spPr>
            <a:xfrm>
              <a:off x="379440" y="2664360"/>
              <a:ext cx="2439360" cy="13737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Проверяйте данны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К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30"/>
            <p:cNvSpPr/>
            <p:nvPr/>
          </p:nvSpPr>
          <p:spPr>
            <a:xfrm>
              <a:off x="4723560" y="4188960"/>
              <a:ext cx="0" cy="686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31"/>
            <p:cNvSpPr/>
            <p:nvPr/>
          </p:nvSpPr>
          <p:spPr>
            <a:xfrm>
              <a:off x="3505320" y="4809960"/>
              <a:ext cx="2427120" cy="1361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Обеспечьт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полну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документаци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32"/>
            <p:cNvSpPr/>
            <p:nvPr/>
          </p:nvSpPr>
          <p:spPr>
            <a:xfrm>
              <a:off x="5837400" y="3351240"/>
              <a:ext cx="10209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33"/>
            <p:cNvSpPr/>
            <p:nvPr/>
          </p:nvSpPr>
          <p:spPr>
            <a:xfrm>
              <a:off x="6780960" y="2664360"/>
              <a:ext cx="1901880" cy="13737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Обучит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вес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персон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34"/>
            <p:cNvSpPr/>
            <p:nvPr/>
          </p:nvSpPr>
          <p:spPr>
            <a:xfrm flipV="1">
              <a:off x="4723560" y="1907280"/>
              <a:ext cx="0" cy="686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35"/>
            <p:cNvSpPr/>
            <p:nvPr/>
          </p:nvSpPr>
          <p:spPr>
            <a:xfrm>
              <a:off x="2630520" y="760320"/>
              <a:ext cx="3615480" cy="13737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Разработайт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задокументирован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правила 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процеду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36"/>
            <p:cNvSpPr/>
            <p:nvPr/>
          </p:nvSpPr>
          <p:spPr>
            <a:xfrm>
              <a:off x="3577320" y="2594160"/>
              <a:ext cx="2041920" cy="13737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AutoShape 17"/>
          <p:cNvSpPr/>
          <p:nvPr/>
        </p:nvSpPr>
        <p:spPr>
          <a:xfrm>
            <a:off x="6348240" y="1066680"/>
            <a:ext cx="738360" cy="609840"/>
          </a:xfrm>
          <a:custGeom>
            <a:avLst/>
            <a:gdLst>
              <a:gd name="textAreaLeft" fmla="*/ 115200 w 738360"/>
              <a:gd name="textAreaRight" fmla="*/ 646200 w 73836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7162920" y="781200"/>
            <a:ext cx="16002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включите корректи-рующи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3048120" y="2514600"/>
            <a:ext cx="3352680" cy="16747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Эта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граммы К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Olga</cp:lastModifiedBy>
  <dcterms:modified xsi:type="dcterms:W3CDTF">2013-05-11T12:50:46Z</dcterms:modified>
  <cp:revision>57</cp:revision>
  <dc:subject/>
  <dc:title>Quality Control Overview</dc:title>
</cp:coreProperties>
</file>