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4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F9D7-397F-4586-BEBC-75E4B7170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379A-977B-4002-824F-54BD267FD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1E28-930A-4298-82FD-BB811D935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5B98-4521-4D1D-AF11-4811591EB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B10D-9E76-446B-9673-1083100E2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8337-7881-4917-91FD-0C4208879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D217-EDC0-424D-B6C0-147F8140F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EC93-78F4-4FAC-BBE9-79DCDDB87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CA58-28F4-46AE-9DB6-9191E20DD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2970-C740-4115-8FFC-E923A66B6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3E16-EAE4-4917-9660-2E1DEEB5C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0208-D1A2-4507-8326-C1A826D66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323D-FEC0-442C-93B9-DE568A0E3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58D3-9653-49BF-BB7A-E5AABCD78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BE4F-8666-40C8-B181-2B58A95E1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9D4FB-F41C-4911-A27A-80B3C9043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4066-B56B-4402-B26E-93B279467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3FEC-F609-4538-8F8E-DC560BF40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CD72-C1B7-42E6-B2F2-624B968E3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5EDB-7516-45A5-83F7-E5F54F6B3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7001-FC95-4CFD-B59C-8533D82AD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7EDE-27A7-44A2-83D6-3756A782A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F49A-0ACA-4277-9052-115BEDB7D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EA62-8157-40E3-8E60-19F007229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8B8C-26B8-477D-89FA-6992A17E9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DD22-B302-4BA4-9003-8F20302BB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B872-627F-4D18-A532-4D3B0FC8B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7454-9DF4-4892-A2A6-E1A0AE4C0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EF75-43AD-46F3-976D-16976B42D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79B6-C895-4EBE-822F-7255DCF57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7E2F-B563-4DEA-9F9A-24D288B20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6436-19CC-4C51-AF99-64F2F47CB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4F69-1E68-4C22-A58E-0D4AC39EC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61248-14A5-4CC5-B45A-DC18CBD0B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705C3-3110-4899-BBA2-1FFE99A1E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5AB05-E9D1-4471-B682-644216669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21C-0FCC-4AF0-BEA6-F76AFEA068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92F9-6265-46DA-97EC-2E0DF4CB31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DF16-F5ED-4A07-AF04-17B49F53AF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E74A-E520-466A-A2FA-E4A1E48B62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A42-6518-4AC2-85A0-368BE44DD2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ACA-9598-4BCC-9D9B-645AA5FD8D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2F4E-7A44-46D2-B0C7-0B6BD536C4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904B9-1297-488A-9A31-B5DAB46E5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69F6-7D15-4022-912F-2EFCEA27F0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02B3-E828-443B-A6AB-76A9FE5F27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71D-43EA-4C2D-BCCF-ACF286C972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848-EA2B-4E31-99BE-16037C025C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7143-F08E-4230-BE59-BCC97D9618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B0546-8BBE-4274-91E2-C15AB21AEF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1AD63-E048-4255-8F02-34DAD5364C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A76DC-C9F6-493B-AE78-A5CF18FB6C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CB8AB-C52A-4024-B3AA-FB6A92B41C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D0F2FB-BBFA-46A8-83D5-666C509506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AA50D-ABFA-4725-8F61-CA5E479D66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258DE-826E-487B-8BDF-B21E7174864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175C9-9F7C-4DCC-9FB3-EA792D45E4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8F034-FE11-47AA-B0FC-07E491DBB2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1181A-3EC5-48A3-B383-D001228311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0314F6-5B42-4963-9345-BC6FD61D0A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E2D75-FBD7-4529-847D-B2FCE72F80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643A8-BF70-45DE-A500-6885EE81E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97EBE-BE40-4828-A15F-C1566AB4E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B273-AC91-4134-9897-EE42C97E5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82AD1-21F4-4BAF-BFE6-A6DE025CB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8A02-CC2F-494A-8DDC-BFB8B7E35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5A2F5-3F64-4A5D-93C3-0147BE1E0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5C92-0ED6-427D-8572-BF2A70AD5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1976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F48D-651B-4525-B9BE-AE12A261A0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761976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BE6C-B1FF-4620-88CC-CD98C93ED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2D6A-B898-4738-AA06-ECEAE6A8BF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1080" y="1833480"/>
            <a:ext cx="7010640" cy="23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Контроль качества исследований на чувствительность к антимикробным препарата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D63F-F46B-45B4-9764-502CD9AEC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66636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колонии для анализ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38DF-E3DF-4098-9ACD-135E53DB45D8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07D2-6AF1-4C00-90EB-B3F17DB9C5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5760"/>
            <a:ext cx="82296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андарт МакФарланда 0,5 и доведенная суспензия исследуемого микроорганиз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A541-143E-4614-A140-6AAA7D4305D9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Object 2"/>
          <p:cNvGraphicFramePr/>
          <p:nvPr/>
        </p:nvGraphicFramePr>
        <p:xfrm>
          <a:off x="1220760" y="228600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228600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6139-23A6-4687-9FDF-FC096BD599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5651-1B04-4C79-A114-E3D63F5DC433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ование диспенсеров для диск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765080"/>
            <a:ext cx="518148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о, быстр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ивает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иски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мина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теряют навыки распределе-ния дисков вручну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distributeur"/>
          <p:cNvPicPr/>
          <p:nvPr/>
        </p:nvPicPr>
        <p:blipFill>
          <a:blip r:embed="rId1"/>
          <a:stretch/>
        </p:blipFill>
        <p:spPr>
          <a:xfrm>
            <a:off x="5105520" y="1905120"/>
            <a:ext cx="388620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2015-B0A4-4384-BDDB-B90187BB20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94EE-89AE-40D7-8A4C-FCDED6896B9A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ые проблемы при анализах на чувствительность с диска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58" name="Picture 12" descr="Too Heavy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44956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609480" y="5435640"/>
            <a:ext cx="2971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"/>
          <p:cNvSpPr/>
          <p:nvPr/>
        </p:nvSpPr>
        <p:spPr>
          <a:xfrm>
            <a:off x="5257800" y="5334120"/>
            <a:ext cx="31240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ишком ГУСТОЙ пос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0513-6433-4E5D-B30E-4BD15E920E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Disk moved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60044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11"/>
          <p:cNvSpPr/>
          <p:nvPr/>
        </p:nvSpPr>
        <p:spPr>
          <a:xfrm>
            <a:off x="380880" y="38556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ые проблемы при анализах на чувствительность с дис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6"/>
          <p:cNvSpPr/>
          <p:nvPr/>
        </p:nvSpPr>
        <p:spPr>
          <a:xfrm>
            <a:off x="685800" y="5257800"/>
            <a:ext cx="2971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ски расположены 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5410080" y="5265720"/>
            <a:ext cx="29718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оны неправильной формы, потому что диски расположены неравном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E1F0-55EF-437E-89D6-0649427186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DC2F-642E-43A4-89C7-CA9DB09D45D8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3374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змерение размера зон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2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8"/>
          <p:cNvSpPr/>
          <p:nvPr/>
        </p:nvSpPr>
        <p:spPr>
          <a:xfrm>
            <a:off x="6127200" y="403848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664640" y="403848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тангенцирк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беспечьте хорошее освещение, измеряйте с обратной стороны ча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 разных антибиотиков разный размер з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огут помочь увеличительные при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и миллиметры играют 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EB31-43DE-40F7-A9E9-2094A20747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698040"/>
            <a:ext cx="84582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 градиента антибиотик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5A06-B245-418E-8A1B-2754E4274E3C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2D00-C661-4B0B-80C9-AA4383BD27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3906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зультаты анализов будут неправильными, есл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15364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кроорганизм был неправильно идентифициров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сделана ошибка при записи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и выбраны неправильные антибиот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исследована проба не того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 запрошен неправильн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была обеспечена сохраннос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AF9B-C02D-4B63-ABB1-0AF0484878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D873-602E-43EF-8005-6B5E99082511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я на чувствительность к антибиотика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5" name="Picture 4" descr="k_b"/>
          <p:cNvPicPr/>
          <p:nvPr/>
        </p:nvPicPr>
        <p:blipFill>
          <a:blip r:embed="rId1"/>
          <a:stretch/>
        </p:blipFill>
        <p:spPr>
          <a:xfrm>
            <a:off x="457200" y="1963800"/>
            <a:ext cx="1714680" cy="1668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96380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micmlc2"/>
          <p:cNvPicPr/>
          <p:nvPr/>
        </p:nvPicPr>
        <p:blipFill>
          <a:blip r:embed="rId3"/>
          <a:stretch/>
        </p:blipFill>
        <p:spPr>
          <a:xfrm>
            <a:off x="4114800" y="1963800"/>
            <a:ext cx="2209680" cy="1749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vitek-2"/>
          <p:cNvPicPr/>
          <p:nvPr/>
        </p:nvPicPr>
        <p:blipFill>
          <a:blip r:embed="rId4"/>
          <a:stretch/>
        </p:blipFill>
        <p:spPr>
          <a:xfrm>
            <a:off x="6400800" y="19638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1"/>
          <p:cNvSpPr/>
          <p:nvPr/>
        </p:nvSpPr>
        <p:spPr>
          <a:xfrm>
            <a:off x="676440" y="4114800"/>
            <a:ext cx="793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оставляют информацию для выбора подходящих препаратов для антимикробного ле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457200" y="6429240"/>
            <a:ext cx="502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3A07-280E-45C9-B239-5CC4BD232A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666360"/>
            <a:ext cx="739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зультаты разных метод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етод диффузии в агар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качественные результаты в одной из категорий: чувствительные, промежуточные или устойчив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етоды микроразведений и градиентной диффузии в агар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ют количественный результат, минимальную ингибирующую концентр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948F-89B5-4813-A4D9-8D68C04BC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80880" y="45720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пределения чувстви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4"/>
          <p:cNvGrpSpPr/>
          <p:nvPr/>
        </p:nvGrpSpPr>
        <p:grpSpPr>
          <a:xfrm>
            <a:off x="685800" y="1143000"/>
            <a:ext cx="7558200" cy="5227560"/>
            <a:chOff x="685800" y="1143000"/>
            <a:chExt cx="7558200" cy="5227560"/>
          </a:xfrm>
        </p:grpSpPr>
        <p:pic>
          <p:nvPicPr>
            <p:cNvPr id="178" name="Picture 4" descr="PBL Susceptibility testing 2008"/>
            <p:cNvPicPr/>
            <p:nvPr/>
          </p:nvPicPr>
          <p:blipFill>
            <a:blip r:embed="rId1"/>
            <a:srcRect l="4364" t="8470" r="5455" b="8470"/>
            <a:stretch/>
          </p:blipFill>
          <p:spPr>
            <a:xfrm>
              <a:off x="685800" y="1143000"/>
              <a:ext cx="7558200" cy="52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Box 1"/>
            <p:cNvSpPr/>
            <p:nvPr/>
          </p:nvSpPr>
          <p:spPr>
            <a:xfrm>
              <a:off x="761760" y="2666880"/>
              <a:ext cx="1600200" cy="70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Пробирки со средой, бактериями и возрастающей концентрацией антибиотик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"/>
            <p:cNvSpPr/>
            <p:nvPr/>
          </p:nvSpPr>
          <p:spPr>
            <a:xfrm>
              <a:off x="972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7"/>
            <p:cNvSpPr/>
            <p:nvPr/>
          </p:nvSpPr>
          <p:spPr>
            <a:xfrm>
              <a:off x="15372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8"/>
            <p:cNvSpPr/>
            <p:nvPr/>
          </p:nvSpPr>
          <p:spPr>
            <a:xfrm>
              <a:off x="21132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9"/>
            <p:cNvSpPr/>
            <p:nvPr/>
          </p:nvSpPr>
          <p:spPr>
            <a:xfrm>
              <a:off x="262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1"/>
            <p:cNvSpPr/>
            <p:nvPr/>
          </p:nvSpPr>
          <p:spPr>
            <a:xfrm>
              <a:off x="316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6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2"/>
            <p:cNvSpPr/>
            <p:nvPr/>
          </p:nvSpPr>
          <p:spPr>
            <a:xfrm>
              <a:off x="3708000" y="1635120"/>
              <a:ext cx="31068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кг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Arial"/>
                </a:rPr>
                <a:t>м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5"/>
            <p:cNvSpPr/>
            <p:nvPr/>
          </p:nvSpPr>
          <p:spPr>
            <a:xfrm>
              <a:off x="2216520" y="2895480"/>
              <a:ext cx="106164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М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инимальн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И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нгибирующ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 Narrow"/>
                </a:rPr>
                <a:t>К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 Narrow"/>
                </a:rPr>
                <a:t>онцентрац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6"/>
            <p:cNvSpPr/>
            <p:nvPr/>
          </p:nvSpPr>
          <p:spPr>
            <a:xfrm>
              <a:off x="3238560" y="2666880"/>
              <a:ext cx="1638360" cy="64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Серийные разведения в бульон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15"/>
            <p:cNvSpPr/>
            <p:nvPr/>
          </p:nvSpPr>
          <p:spPr>
            <a:xfrm>
              <a:off x="3708000" y="5486400"/>
              <a:ext cx="17020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Диффузия в ага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6"/>
            <p:cNvSpPr/>
            <p:nvPr/>
          </p:nvSpPr>
          <p:spPr>
            <a:xfrm>
              <a:off x="858960" y="3869280"/>
              <a:ext cx="833400" cy="169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растущи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7"/>
            <p:cNvSpPr/>
            <p:nvPr/>
          </p:nvSpPr>
          <p:spPr>
            <a:xfrm>
              <a:off x="838800" y="3557880"/>
              <a:ext cx="137088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Чашка агара 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18"/>
            <p:cNvSpPr/>
            <p:nvPr/>
          </p:nvSpPr>
          <p:spPr>
            <a:xfrm>
              <a:off x="798840" y="3750480"/>
              <a:ext cx="893520" cy="13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газоно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9"/>
            <p:cNvSpPr/>
            <p:nvPr/>
          </p:nvSpPr>
          <p:spPr>
            <a:xfrm>
              <a:off x="802800" y="4038480"/>
              <a:ext cx="792000" cy="12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Arial"/>
                </a:rPr>
                <a:t>бактери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21"/>
            <p:cNvSpPr/>
            <p:nvPr/>
          </p:nvSpPr>
          <p:spPr>
            <a:xfrm>
              <a:off x="2736000" y="5562720"/>
              <a:ext cx="432000" cy="252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Размер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зон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22"/>
            <p:cNvSpPr/>
            <p:nvPr/>
          </p:nvSpPr>
          <p:spPr>
            <a:xfrm>
              <a:off x="2684160" y="4572000"/>
              <a:ext cx="897120" cy="483480"/>
            </a:xfrm>
            <a:prstGeom prst="rect">
              <a:avLst/>
            </a:prstGeom>
            <a:solidFill>
              <a:srgbClr val="fc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Зона задержки роста бактер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23"/>
            <p:cNvSpPr/>
            <p:nvPr/>
          </p:nvSpPr>
          <p:spPr>
            <a:xfrm>
              <a:off x="1617120" y="5014080"/>
              <a:ext cx="897120" cy="396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Диск, пропитанный антибиотико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24"/>
            <p:cNvSpPr/>
            <p:nvPr/>
          </p:nvSpPr>
          <p:spPr>
            <a:xfrm>
              <a:off x="1723680" y="5410080"/>
              <a:ext cx="432000" cy="252000"/>
            </a:xfrm>
            <a:prstGeom prst="rect">
              <a:avLst/>
            </a:prstGeom>
            <a:solidFill>
              <a:srgbClr val="ff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26"/>
            <p:cNvSpPr/>
            <p:nvPr/>
          </p:nvSpPr>
          <p:spPr>
            <a:xfrm>
              <a:off x="4876920" y="1260720"/>
              <a:ext cx="3200400" cy="20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Анализы на чувствительность определяют, будет ли бактериальный рост подавляться антибиотико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Чувствительность базируется на концентрации антибиотика, при которой нет заметного на глаз роста бактерий (см. МИК)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28"/>
            <p:cNvSpPr/>
            <p:nvPr/>
          </p:nvSpPr>
          <p:spPr>
            <a:xfrm>
              <a:off x="4068000" y="4536000"/>
              <a:ext cx="57852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МИ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TextBox 29" descr=""/>
            <p:cNvPicPr/>
            <p:nvPr/>
          </p:nvPicPr>
          <p:blipFill>
            <a:blip r:embed="rId2"/>
            <a:stretch/>
          </p:blipFill>
          <p:spPr>
            <a:xfrm>
              <a:off x="3584520" y="3474720"/>
              <a:ext cx="26208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30"/>
            <p:cNvSpPr/>
            <p:nvPr/>
          </p:nvSpPr>
          <p:spPr>
            <a:xfrm>
              <a:off x="4248000" y="3600000"/>
              <a:ext cx="1260000" cy="3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Примечание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По размеру зоны можно вычислить МИК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31"/>
            <p:cNvSpPr/>
            <p:nvPr/>
          </p:nvSpPr>
          <p:spPr>
            <a:xfrm>
              <a:off x="4572000" y="3961080"/>
              <a:ext cx="1049040" cy="19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800" spc="-1" strike="noStrike">
                  <a:solidFill>
                    <a:srgbClr val="000000"/>
                  </a:solidFill>
                  <a:latin typeface="Arial"/>
                </a:rPr>
                <a:t>Чем меньше зона, тем выше МИК.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32"/>
            <p:cNvSpPr/>
            <p:nvPr/>
          </p:nvSpPr>
          <p:spPr>
            <a:xfrm>
              <a:off x="5621400" y="3516840"/>
              <a:ext cx="2379960" cy="2438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Чувствитель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Бактерии считаются чувствительными к антибиотику, если подавление их роста происходит при такой концентрации антибиотика, которую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ЛЕГКО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создать в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СЫВОРОТКЕ КРОВИ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пациента и которая будет </a:t>
              </a:r>
              <a:r>
                <a:rPr b="1" lang="ru-RU" sz="1000" spc="-1" strike="noStrike">
                  <a:solidFill>
                    <a:srgbClr val="e68e00"/>
                  </a:solidFill>
                  <a:latin typeface="Arial"/>
                </a:rPr>
                <a:t>БЕЗОПАСНА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 для пациента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 этом случае ожидается положительная реакция на лечени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Устойчив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ротивоположность чувствительных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F7FB-EE7D-40D6-88C0-979173ADB5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E6B5-E67F-40B2-A98E-54E6498C8409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457200" y="3017880"/>
            <a:ext cx="2556000" cy="3306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7" name="Text Box 3"/>
          <p:cNvSpPr/>
          <p:nvPr/>
        </p:nvSpPr>
        <p:spPr>
          <a:xfrm>
            <a:off x="533520" y="1143000"/>
            <a:ext cx="822960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итут клинических и лабораторных стандартов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о микробиологии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о микробной химиотерапии 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2"/>
          <a:stretch/>
        </p:blipFill>
        <p:spPr>
          <a:xfrm>
            <a:off x="6172200" y="3017880"/>
            <a:ext cx="2362320" cy="330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09" name="Object 6"/>
          <p:cNvGraphicFramePr/>
          <p:nvPr/>
        </p:nvGraphicFramePr>
        <p:xfrm>
          <a:off x="3429000" y="3017880"/>
          <a:ext cx="2490840" cy="33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017880"/>
                    <a:ext cx="2490840" cy="3306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1" name="Text Box 8"/>
          <p:cNvSpPr/>
          <p:nvPr/>
        </p:nvSpPr>
        <p:spPr>
          <a:xfrm>
            <a:off x="457200" y="457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26F9-C5B9-4745-BE6B-AAFC7E1E8F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464760"/>
            <a:ext cx="822960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ля примера – выдержка из одного из источников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br>
              <a:rPr sz="28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препаратов для анализ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92BC-C7DC-4910-8FA0-1F65B4EBCFCD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2"/>
          <p:cNvGraphicFramePr/>
          <p:nvPr/>
        </p:nvGraphicFramePr>
        <p:xfrm>
          <a:off x="414360" y="232560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32560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TextBox 1" descr=""/>
          <p:cNvPicPr/>
          <p:nvPr/>
        </p:nvPicPr>
        <p:blipFill>
          <a:blip r:embed="rId3"/>
          <a:stretch/>
        </p:blipFill>
        <p:spPr>
          <a:xfrm>
            <a:off x="609480" y="2925720"/>
            <a:ext cx="706680" cy="13543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"/>
          <p:cNvSpPr/>
          <p:nvPr/>
        </p:nvSpPr>
        <p:spPr>
          <a:xfrm>
            <a:off x="533520" y="2124000"/>
            <a:ext cx="79675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блица 1. Группы одобренных Управлением по продовольствию и медикаментам США антимикробных препаратов, рекомендуемые лабораториям клинической микробиологии для плановых анализов и отчетности по «непривередливым» микроорганизмам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6052-052F-4645-960E-58E54CB014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EC0E-5814-495E-989A-21D3AC249739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455760"/>
            <a:ext cx="7543800" cy="17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может быть источником ошибки в анализах на чувствитель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381040"/>
            <a:ext cx="77724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икробиологические сред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тимикробные препара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ультура для посе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нкуб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борудование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7D89-FB3D-41B9-906B-F7ED72FFBD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C13E-B1ED-499D-BB18-5D5C0BA3B06B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71629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тод диффузии в агар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52760"/>
            <a:ext cx="8610480" cy="40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га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сотой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юллер-Хинтон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 7.2–7.4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имум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0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тибиотикам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севна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кФарланд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0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актери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культур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рмостат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душная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тмосферный возду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457200" y="6429240"/>
            <a:ext cx="49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исследований на чувствительность к антибиотикам – Тема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7620120" y="6404400"/>
            <a:ext cx="10666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AF49-8537-495E-A992-27DA971B9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E4DC-F92F-40B2-8105-D5EDF0788255}" type="slidenum">
              <a:rPr b="0" lang="en-US" sz="1400" spc="-1" strike="noStrike">
                <a:solidFill>
                  <a:srgbClr val="ffffcc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ные шт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685800" y="3809880"/>
            <a:ext cx="8077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икроорганизмы для КК должны быть получены из надежного источни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определенные микроорганизмы в анализах разных комбинаций «бактерии-антибиоти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Olga</cp:lastModifiedBy>
  <dcterms:modified xsi:type="dcterms:W3CDTF">2013-05-12T11:00:29Z</dcterms:modified>
  <cp:revision>32</cp:revision>
  <dc:subject/>
  <dc:title>Microbiology QC</dc:title>
</cp:coreProperties>
</file>