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7.wmf" ContentType="image/x-wmf"/>
  <Override PartName="/ppt/media/image26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9.wmf" ContentType="image/x-wmf"/>
  <Override PartName="/ppt/media/image18.jpeg" ContentType="image/jpeg"/>
  <Override PartName="/ppt/media/image17.wmf" ContentType="image/x-wmf"/>
  <Override PartName="/ppt/media/image16.png" ContentType="image/png"/>
  <Override PartName="/ppt/media/image14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12.png" ContentType="image/png"/>
  <Override PartName="/ppt/media/image33.png" ContentType="image/png"/>
  <Override PartName="/ppt/media/image39.wmf" ContentType="image/x-wmf"/>
  <Override PartName="/ppt/media/image41.wmf" ContentType="image/x-wmf"/>
  <Override PartName="/ppt/media/image31.jpeg" ContentType="image/jpeg"/>
  <Override PartName="/ppt/media/image45.wmf" ContentType="image/x-wmf"/>
  <Override PartName="/ppt/media/image40.wmf" ContentType="image/x-wmf"/>
  <Override PartName="/ppt/media/image32.png" ContentType="image/png"/>
  <Override PartName="/ppt/media/image44.png" ContentType="image/png"/>
  <Override PartName="/ppt/media/image34.png" ContentType="image/png"/>
  <Override PartName="/ppt/media/image43.jpeg" ContentType="image/jpeg"/>
  <Override PartName="/ppt/media/image35.png" ContentType="image/png"/>
  <Override PartName="/ppt/media/image5.jpeg" ContentType="image/jpeg"/>
  <Override PartName="/ppt/media/image20.wmf" ContentType="image/x-wmf"/>
  <Override PartName="/ppt/media/image46.wmf" ContentType="image/x-wmf"/>
  <Override PartName="/ppt/media/image7.wmf" ContentType="image/x-wmf"/>
  <Override PartName="/ppt/media/image37.wmf" ContentType="image/x-wmf"/>
  <Override PartName="/ppt/media/image30.jpeg" ContentType="image/jpeg"/>
  <Override PartName="/ppt/media/image9.jpeg" ContentType="image/jpeg"/>
  <Override PartName="/ppt/media/image13.png" ContentType="image/png"/>
  <Override PartName="/ppt/media/image4.jpeg" ContentType="image/jpeg"/>
  <Override PartName="/ppt/media/image38.wmf" ContentType="image/x-wmf"/>
  <Override PartName="/ppt/media/image8.wmf" ContentType="image/x-wmf"/>
  <Override PartName="/ppt/media/image36.png" ContentType="image/png"/>
  <Override PartName="/ppt/media/image6.png" ContentType="image/png"/>
  <Override PartName="/ppt/media/image10.jpeg" ContentType="image/jpeg"/>
  <Override PartName="/ppt/media/image28.png" ContentType="image/png"/>
  <Override PartName="/ppt/media/image29.jpeg" ContentType="image/jpeg"/>
  <Override PartName="/ppt/media/image25.png" ContentType="image/png"/>
  <Override PartName="/ppt/media/image4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885B8-B379-4684-8FE5-0E2915C96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87A82-A944-4D9B-BE77-A9D4CF983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37E299F-DD0D-4890-992E-C5F95AF5E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061C8EB-B856-4313-B282-4F8E2110C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E2AF3-0ED7-4C6A-B4A7-D982637D8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E5EE9-1E5B-4555-B026-AFBE0C8EE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FD533-BB92-4C53-90F0-11168A518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902A0-6E70-4D38-A582-A183B6855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8F2BD-E69E-4CAC-9189-B325ECBF8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C74F2-7A19-4488-9C57-19CFCE263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D65FE-840C-4E83-9471-947CACA86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CD5D4-D802-4863-A950-43AE9B0BA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9F436-A406-47FE-8530-1F8C7E9F4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096E2-D1C2-493D-AB90-185380CF0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57153-27E0-4D88-9408-77D22FA2F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B0005-2F72-4D1B-8637-FFA2F57AE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8FC52-FA6C-433E-ACFC-135EDF0F8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702A8-51D2-4FF1-B2F8-992715362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5F435-5251-4894-A97C-E3F58719B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F2555-06BF-4164-B43E-D1100E54B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1171" name="PlaceHolder 2"/>
          <p:cNvSpPr>
            <a:spLocks noGrp="1"/>
          </p:cNvSpPr>
          <p:nvPr>
            <p:ph type="body"/>
          </p:nvPr>
        </p:nvSpPr>
        <p:spPr>
          <a:xfrm>
            <a:off x="684360" y="4344840"/>
            <a:ext cx="548928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16683-1D4A-40A6-8DF5-C3577FF80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99BE6-3E75-4A66-8B1E-709B7F174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4D86E-1CD7-4251-8D7E-35B0829CD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1180" name="PlaceHolder 2"/>
          <p:cNvSpPr>
            <a:spLocks noGrp="1"/>
          </p:cNvSpPr>
          <p:nvPr>
            <p:ph type="body"/>
          </p:nvPr>
        </p:nvSpPr>
        <p:spPr>
          <a:xfrm>
            <a:off x="684360" y="4344840"/>
            <a:ext cx="548928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4971C-CFCA-426D-BFA5-E9AE8BD93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335D9-C712-4801-9E29-B3D24909F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1C044-1A7E-45E0-A81B-55EB695A8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50D2D-4081-4D68-BAE6-DA514E006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5C599-1F52-43A7-AD5A-BD5F6BFAF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08E5A-1F93-4D6D-8A71-99EC0AD5A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751A0-594E-49BF-A2C7-9955F625A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13F75-2F9D-4811-8B2E-46133BECF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2F4F2-3226-45A0-8378-241936C66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6961C-BE67-4269-AD0B-45705771B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D74FE-561C-41A7-861D-E80478B0FE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12B10-20A7-4A07-99CC-F121AEA640D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8FE939-EFAD-4B5F-B6E2-DEC3819F91E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83D709-9AC9-4396-9146-97D3F95B829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E098AA-8B94-47FF-B42E-F5AC752ED51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D5B724-2A4E-4641-AC81-C20C8AD8896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5B41C74-BD1F-4A0C-BAA9-F10F020FC79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D7E504-9A68-46F2-B5AE-5C4286E1F8A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6CDB3C-B13E-41B3-BAB0-F90B61724F5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64E60A-5DE9-4B66-89DC-CCD7C20F7D6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10F11D9-2ECC-4D5B-8B82-CECE40CD39A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721F8-7EE0-4F9E-BAAD-CFA673FD3D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463D3-14B4-477C-B588-6927D915B11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1B9E8-7B43-4141-97B4-3411194C07F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663EF-9662-4D9C-80F4-532265DF987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E2A8F-21CE-485B-B44C-6F611DE072D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2F5070-225E-4C2C-9A9E-FA412F6C9DB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1EFE0-56A9-465C-930A-8EE2522150E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D1454F-A045-467E-8672-B6371F1165E7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D55FF-0EB3-4506-9F4D-6977D112A76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AC2A03-20D5-42F4-BCE8-0706F5C6198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BAE66B-EE16-41AD-BA6D-0E176956404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E619C-315D-4FCF-99CF-B9DF0F896C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88A75-A59E-4937-8290-C575355FF7D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EC35E-AD57-4221-BD4D-A3033564131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1C4D56-2A26-420F-8394-406BF4447C0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EA1358-4029-41C3-9350-F5B0EF70567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8B48DC-BE53-4297-AB16-FAAC11ECA515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1B8665-21CA-43A1-A490-7A3A9182268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BC27D6-A706-41DA-9F45-0F2370ACA3F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58EC3E-ECFC-4270-8836-F4906756E1DC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582C02-C496-4544-81F3-37A71D40FD3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4D49A6-FB3C-4AE2-AFE2-A78E0785975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3D1D0A-7841-457F-9A61-55302B6D19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A5E72E-BF10-41BD-81F9-681470C103E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F4A144-7036-4C8C-A6C0-D31B2B065C0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436FCC-EAE9-4184-A403-96266475CCE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4AF0299-EC07-4148-A868-FFFE978A971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491E6E5-38B7-4108-A6F8-0A6841A94BE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41B6B65-BF16-4BC8-A612-EDCF96A39C71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5B7FD5C-F683-42B7-995D-EC5A6725940C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30374BE-0E99-4565-BCC9-52B3191118CA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8EADC0C-C91F-48D4-BD10-735E27D05A3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FC6E2C4-35DD-475D-9FCC-61BD3C4A42C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67C3B88-9432-4794-8D87-8BAD943A9C7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2B5A3E-F008-4A6C-A03A-19EA7B30095B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CB5CACB-DB74-4786-AE75-DAC10E25E8F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F93B04C-E9F3-446D-B94C-62C32FA34E2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A92169F-67C6-469D-927F-B5FDD830D67C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154484-D7A9-4C91-B1EA-C43ECD513B0E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73BA34-D7D0-44F6-8EF7-9BBC109EEF19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D54459-F259-4F73-B49A-37CB669878EC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46018D-DEEC-4A83-8032-2F6FABB84890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9ABAA7-688E-4E0E-BD36-B6A800E5289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026F31-4C39-4816-A5E6-6FC2C6C22DA0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4B91D4-344B-4232-9E53-B72FAE0BFD9A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83FD25-BCAA-42AD-B17B-3042329183F1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8B640B-AF86-4F9C-B9A7-90D0CA067BEC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F87584-01DF-438D-8862-D8F60555A7E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3E9CA8-CC5B-4308-80D1-137807A81EE2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DC59D4-D0BC-42F8-AB07-972244A4D9E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D6153-61A2-4C34-ACAB-09ECF1D14E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46630B-C919-48DA-B3CF-67E1174F3FB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8D6DE5-A407-4A4F-83AB-CF72D4BF651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13CBBC-0EEA-485E-958D-74F06E68836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CBB070-3BE0-4674-AD2F-0C54B442967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C7ACCB-A9E1-4936-A008-608401ECE5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ACC19-724B-43A9-8A68-BEE071E6DC9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864AF2-ED2E-4FB5-BFA0-090137D5FA2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1B08AE-9C84-4F71-860C-B11CFD3B7BD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96585C-EB91-4A97-84B5-C87BC516003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0F5A01-B644-4FEA-9BF5-68A33B4E960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04A710-7461-4EAB-87D6-DF9BDBB1A7F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313B07-DF17-4CC4-9D2B-F83006D3CEF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C4B2D0-05F1-4E5A-93D0-3EF825C9FF0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B4C89-87FF-4A0F-9878-B8DFC7214D7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4F3BC-1DCF-4A5F-9032-EBC2A44A22B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0C5A3-CB37-412F-B0BF-7209C519C1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910C3-1CE3-40AF-A014-98EAA6E71FC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6606D-6264-4E6A-B5A8-AF8707D2FDD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58503-4119-4504-96C9-35D65ED182B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53569-949C-437A-8337-4ABF786A871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BCDD0-7408-43E6-AF95-DB9BC801315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7F2C4-4E54-42BB-B8E4-04706D9C0FC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E86F3-D2C3-4E27-80BA-032AAA42971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93AA0-B444-4DE2-B1FA-5D63252B2BE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06D1B-FCF8-499D-8A8B-A5FDA0C3FAA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E235D-824A-4503-AE9F-935043D1392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2EFA06-59BB-4683-90F1-D9A4D3AFE8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F88B2-6926-4C37-954E-6A91724DF0D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1237C4-D369-467B-B5CB-CE416F2FDFA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A221A4-0038-48B7-8ADE-F39668AFEE3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F01BC0-A5D2-49EE-BF5F-B930A1C15C1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99A82B-3486-49B7-9C03-6FC4DC42AE0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FFEF60-47B9-4E30-A593-EE61E28B807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D86A7E-31D9-4B05-BE68-FA13118C252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8E8152-0785-48DE-B4C3-6C0E09C856A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CC030A-B1C8-40EA-876B-0A2F42E3E45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BD6C41-A59B-43D2-80EE-2CC53816575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54B8BD-5E0E-440E-9CFA-33D3399D9C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A27DE-732E-48F4-929F-DF29521DD35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575785-FF76-4D17-86D6-EB770E5B287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F5C1CB-AE53-463E-AB4E-663234BA36E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EF1E40-F280-4067-A6DD-858E348EC17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663C64-A42E-405F-8A9B-695D5E33EB2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81F80C-1E76-4906-81D4-96DB62037F1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92B786-6A27-4B8E-9FF7-5F6341F0B63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1F5922-295B-4E04-841A-49D153E2F7D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C5BE65-B2BD-4CC4-8269-DC630645002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CBAFD2-1A64-4792-84B2-CA1B2E68122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4138BD-1CD6-4F96-BAAD-4FBBAF56E7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A53D6-0F75-4301-9D23-E6ED2C0FE1D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21C32F-D937-4ABA-9228-94EFF32CD57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4F28CE-815D-4D6A-8A9C-66679A30232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AD0D22-4D29-4F61-83D1-FD0EF89E599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A8580-C180-41FF-ABB3-2A3E123CCED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34255-0C9D-4C5B-8856-06A4AC8C995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AB28D-B4AA-435F-BF61-35632E4F56C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3345B-AC8F-40E6-9351-10DF74F49C3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12C08-BC6A-4FE2-B1B1-67DCBBAB997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98A16-9871-4EF9-9EE6-9047AB1B617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307B0-F635-4322-8B1D-1B62D89E15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B285E-FCFC-4F70-BEB5-D311398EE54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0DD10-9913-45B8-B17D-7C8ADCCD329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F427E-7BFC-4268-9300-BD3AB181702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C4242-7A3B-44C5-92C5-84967663A4F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F097E-DB56-48A2-B2D9-B4067E448F8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BF946-D342-4D23-9792-FC9C4C98D1C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70F6CA-64C3-415F-8B08-506B6242017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9679EF-197C-43AE-B682-2DA30116E4C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C9A02A-883D-458C-9E96-04317442C70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5562E0-EEDB-4334-B294-79E321B16A4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1B2878-C53A-4AFB-9445-67578F61A9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0BA9F-E97F-421E-870C-7872024C748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A38E6D-3704-4DC8-BFA7-FC26660CA09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948DA7-EBF9-4F46-87C0-DA8C6AE7BD3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49923E-9C23-40D2-AF2F-C8C648DA1F2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8A9729-92D1-42FC-8761-7B824F1DD2F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A326F4-8B02-4DB2-972D-33AD45C1ECD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A07F6E-E25F-46EC-A4B7-C793032873B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29E798-D7C3-4728-93FD-09A2DB36397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CCA3E6-8608-4ECA-A379-135D075141A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C180BA-19AA-4082-956F-FCFB552905A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467397-8E05-4328-BCC8-74E07A724E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682AE-6CC6-4C39-867C-59930FFB64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ftr" idx="17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sldNum" idx="18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F78D5-00CD-400A-A15A-8CC26B9C83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ftr" idx="19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sldNum" idx="20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57749-861A-42D2-8040-AA3903B754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ftr" idx="2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sldNum" idx="2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48115-4EF1-4340-AC87-FB8A0040AE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ftr" idx="2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sldNum" idx="2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E7147-266D-4DC2-AAE8-4B482C2D95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7" descr="CLSI_WHO_Blue_CMYK1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ftr" idx="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120CB-D39D-4E18-815E-15A9F4AF76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ftr" idx="5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sldNum" idx="6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B2984-CDED-4DE1-BE92-3A3225E3CB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7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8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4D173-CB43-4977-BFAE-7597FA9131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ftr" idx="9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sldNum" idx="10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3DDA7-CAB4-4990-AA45-93C2A07F72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ftr" idx="1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sldNum" idx="1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AB8E9-5951-4C83-8C1D-676161360B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ftr" idx="1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sldNum" idx="1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022C6-6A90-4F96-AE04-8215849897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ftr" idx="15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sldNum" idx="16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F8F17-C639-47C1-8C8D-FD58C81161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wmf"/><Relationship Id="rId7" Type="http://schemas.openxmlformats.org/officeDocument/2006/relationships/image" Target="../media/image12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85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29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7.wmf"/><Relationship Id="rId8" Type="http://schemas.openxmlformats.org/officeDocument/2006/relationships/image" Target="../media/image38.wmf"/><Relationship Id="rId9" Type="http://schemas.openxmlformats.org/officeDocument/2006/relationships/image" Target="../media/image39.wmf"/><Relationship Id="rId10" Type="http://schemas.openxmlformats.org/officeDocument/2006/relationships/image" Target="../media/image40.wmf"/><Relationship Id="rId11" Type="http://schemas.openxmlformats.org/officeDocument/2006/relationships/image" Target="../media/image41.wmf"/><Relationship Id="rId12" Type="http://schemas.openxmlformats.org/officeDocument/2006/relationships/slideLayout" Target="../slideLayouts/slideLayout85.xml"/><Relationship Id="rId1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66688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Оценка</a:t>
            </a: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Аудиты</a:t>
            </a:r>
            <a:endParaRPr b="0" lang="en-US" sz="48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ение аудит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33160" y="1347840"/>
            <a:ext cx="8305560" cy="28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берите информацию о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сса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ерационных процедура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трудниках, оборудовани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тодах анализ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ловиях работ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ращении с проб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ействиях по проверке контроля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едении записей и предоставлении отчетов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3" name="Picture 4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648320" y="4267080"/>
            <a:ext cx="3525840" cy="223056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5" descr="MCj04349290000[1]"/>
          <p:cNvPicPr/>
          <p:nvPr/>
        </p:nvPicPr>
        <p:blipFill>
          <a:blip r:embed="rId2"/>
          <a:stretch/>
        </p:blipFill>
        <p:spPr>
          <a:xfrm>
            <a:off x="1676520" y="416232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805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8DCFA-B7C7-460A-9AFB-44C43AFEA6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Footer Placeholder 6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/>
          </p:nvPr>
        </p:nvSpPr>
        <p:spPr>
          <a:xfrm>
            <a:off x="1066680" y="1523520"/>
            <a:ext cx="784872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800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равните результаты с документами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800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явите нарушения в системе или отклонения от процедур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800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едпримите действия по результатам ауди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3BD78-3DE3-45CF-8531-3E5D1AC8A7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Footer Placeholder 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Rectangle 2"/>
          <p:cNvSpPr/>
          <p:nvPr/>
        </p:nvSpPr>
        <p:spPr>
          <a:xfrm>
            <a:off x="457200" y="3808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ение аудит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1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295280"/>
            <a:ext cx="7619760" cy="5029200"/>
          </a:xfrm>
          <a:prstGeom prst="rect">
            <a:avLst/>
          </a:prstGeom>
          <a:ln w="0">
            <a:noFill/>
          </a:ln>
        </p:spPr>
      </p:pic>
      <p:sp>
        <p:nvSpPr>
          <p:cNvPr id="812" name="Rectangle 7"/>
          <p:cNvSpPr/>
          <p:nvPr/>
        </p:nvSpPr>
        <p:spPr>
          <a:xfrm>
            <a:off x="533520" y="3808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шние аудитор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13" name="Picture 8" descr="lab_design"/>
          <p:cNvPicPr/>
          <p:nvPr/>
        </p:nvPicPr>
        <p:blipFill>
          <a:blip r:embed="rId2"/>
          <a:stretch/>
        </p:blipFill>
        <p:spPr>
          <a:xfrm>
            <a:off x="3200400" y="2133720"/>
            <a:ext cx="2593800" cy="3124080"/>
          </a:xfrm>
          <a:prstGeom prst="rect">
            <a:avLst/>
          </a:prstGeom>
          <a:ln w="0">
            <a:noFill/>
          </a:ln>
        </p:spPr>
      </p:pic>
      <p:sp>
        <p:nvSpPr>
          <p:cNvPr id="814" name="Rectangle 9"/>
          <p:cNvSpPr/>
          <p:nvPr/>
        </p:nvSpPr>
        <p:spPr>
          <a:xfrm>
            <a:off x="3200400" y="3276720"/>
            <a:ext cx="2819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Лаборатор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Slide Number Placeholder 9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DC718-7354-422E-BE30-B1018765E8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6" name="Footer Placeholder 10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Oval 3"/>
          <p:cNvSpPr/>
          <p:nvPr/>
        </p:nvSpPr>
        <p:spPr>
          <a:xfrm>
            <a:off x="228600" y="1371600"/>
            <a:ext cx="3581280" cy="15238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Oval 5"/>
          <p:cNvSpPr/>
          <p:nvPr/>
        </p:nvSpPr>
        <p:spPr>
          <a:xfrm>
            <a:off x="5486400" y="4495680"/>
            <a:ext cx="3505320" cy="153684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Oval 4"/>
          <p:cNvSpPr/>
          <p:nvPr/>
        </p:nvSpPr>
        <p:spPr>
          <a:xfrm>
            <a:off x="5181480" y="1523880"/>
            <a:ext cx="3505320" cy="129564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0" name="Oval 6"/>
          <p:cNvSpPr/>
          <p:nvPr/>
        </p:nvSpPr>
        <p:spPr>
          <a:xfrm>
            <a:off x="380880" y="4495680"/>
            <a:ext cx="289584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нансирующ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грамм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1" name="TextBox 1"/>
          <p:cNvSpPr/>
          <p:nvPr/>
        </p:nvSpPr>
        <p:spPr>
          <a:xfrm>
            <a:off x="304920" y="152388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Органы здравоохра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2" name="TextBox 2"/>
          <p:cNvSpPr/>
          <p:nvPr/>
        </p:nvSpPr>
        <p:spPr>
          <a:xfrm>
            <a:off x="5105520" y="1636560"/>
            <a:ext cx="350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рганы по аккредит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3" name="TextBox 3"/>
          <p:cNvSpPr/>
          <p:nvPr/>
        </p:nvSpPr>
        <p:spPr>
          <a:xfrm>
            <a:off x="5578560" y="4648320"/>
            <a:ext cx="3413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граммы  охраны здоровь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File"/>
          <p:cNvSpPr/>
          <p:nvPr/>
        </p:nvSpPr>
        <p:spPr>
          <a:xfrm>
            <a:off x="4724280" y="1598760"/>
            <a:ext cx="3733920" cy="15238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порядочит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25" name="Group 3"/>
          <p:cNvGrpSpPr/>
          <p:nvPr/>
        </p:nvGrpSpPr>
        <p:grpSpPr>
          <a:xfrm>
            <a:off x="4876920" y="2741760"/>
            <a:ext cx="3885840" cy="2971440"/>
            <a:chOff x="4876920" y="2741760"/>
            <a:chExt cx="3885840" cy="2971440"/>
          </a:xfrm>
        </p:grpSpPr>
        <p:sp>
          <p:nvSpPr>
            <p:cNvPr id="826" name="Puzzle3"/>
            <p:cNvSpPr/>
            <p:nvPr/>
          </p:nvSpPr>
          <p:spPr>
            <a:xfrm>
              <a:off x="6769440" y="2741760"/>
              <a:ext cx="1527480" cy="1579320"/>
            </a:xfrm>
            <a:custGeom>
              <a:avLst/>
              <a:gdLst>
                <a:gd name="textAreaLeft" fmla="*/ 160200 w 1527480"/>
                <a:gd name="textAreaRight" fmla="*/ 1354680 w 1527480"/>
                <a:gd name="textAreaTop" fmla="*/ 564120 h 1579320"/>
                <a:gd name="textAreaBottom" fmla="*/ 1479240 h 157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7" name="Puzzle2"/>
            <p:cNvSpPr/>
            <p:nvPr/>
          </p:nvSpPr>
          <p:spPr>
            <a:xfrm>
              <a:off x="6324840" y="3891960"/>
              <a:ext cx="2437920" cy="1438200"/>
            </a:xfrm>
            <a:custGeom>
              <a:avLst/>
              <a:gdLst>
                <a:gd name="textAreaLeft" fmla="*/ 608760 w 2437920"/>
                <a:gd name="textAreaRight" fmla="*/ 1826640 w 2437920"/>
                <a:gd name="textAreaTop" fmla="*/ 448200 h 1438200"/>
                <a:gd name="textAreaBottom" fmla="*/ 1361160 h 1438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8" name="Puzzle4"/>
            <p:cNvSpPr/>
            <p:nvPr/>
          </p:nvSpPr>
          <p:spPr>
            <a:xfrm>
              <a:off x="5381280" y="3874320"/>
              <a:ext cx="1469880" cy="1838880"/>
            </a:xfrm>
            <a:custGeom>
              <a:avLst/>
              <a:gdLst>
                <a:gd name="textAreaLeft" fmla="*/ 141120 w 1469880"/>
                <a:gd name="textAreaRight" fmla="*/ 1375560 w 1469880"/>
                <a:gd name="textAreaTop" fmla="*/ 481680 h 1838880"/>
                <a:gd name="textAreaBottom" fmla="*/ 1360080 h 183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9" name="Puzzle1"/>
            <p:cNvSpPr/>
            <p:nvPr/>
          </p:nvSpPr>
          <p:spPr>
            <a:xfrm>
              <a:off x="4876920" y="3219480"/>
              <a:ext cx="2468160" cy="1096200"/>
            </a:xfrm>
            <a:custGeom>
              <a:avLst/>
              <a:gdLst>
                <a:gd name="textAreaLeft" fmla="*/ 695160 w 2468160"/>
                <a:gd name="textAreaRight" fmla="*/ 1842840 w 2468160"/>
                <a:gd name="textAreaTop" fmla="*/ 130320 h 1096200"/>
                <a:gd name="textAreaBottom" fmla="*/ 992160 h 109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830" name="Picture 9" descr="j0213395"/>
          <p:cNvPicPr/>
          <p:nvPr/>
        </p:nvPicPr>
        <p:blipFill>
          <a:blip r:embed="rId1"/>
          <a:stretch/>
        </p:blipFill>
        <p:spPr>
          <a:xfrm>
            <a:off x="4367160" y="4724280"/>
            <a:ext cx="1652760" cy="1600200"/>
          </a:xfrm>
          <a:prstGeom prst="rect">
            <a:avLst/>
          </a:prstGeom>
          <a:ln w="0">
            <a:noFill/>
          </a:ln>
        </p:spPr>
      </p:pic>
      <p:pic>
        <p:nvPicPr>
          <p:cNvPr id="831" name="Picture 10" descr="j0433934"/>
          <p:cNvPicPr/>
          <p:nvPr/>
        </p:nvPicPr>
        <p:blipFill>
          <a:blip r:embed="rId2"/>
          <a:stretch/>
        </p:blipFill>
        <p:spPr>
          <a:xfrm>
            <a:off x="409680" y="4192560"/>
            <a:ext cx="1419120" cy="1827360"/>
          </a:xfrm>
          <a:prstGeom prst="rect">
            <a:avLst/>
          </a:prstGeom>
          <a:ln w="0">
            <a:noFill/>
          </a:ln>
        </p:spPr>
      </p:pic>
      <p:sp>
        <p:nvSpPr>
          <p:cNvPr id="832" name="Text Box 11"/>
          <p:cNvSpPr/>
          <p:nvPr/>
        </p:nvSpPr>
        <p:spPr>
          <a:xfrm>
            <a:off x="1371600" y="426708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spcBef>
                <a:spcPts val="1500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оставьте с сотрудниками распис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3" name="Rectangle 12"/>
          <p:cNvSpPr/>
          <p:nvPr/>
        </p:nvSpPr>
        <p:spPr>
          <a:xfrm>
            <a:off x="228600" y="457200"/>
            <a:ext cx="8001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дготовка к внешнему аудиту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4" name="Text Box 13"/>
          <p:cNvSpPr/>
          <p:nvPr/>
        </p:nvSpPr>
        <p:spPr>
          <a:xfrm>
            <a:off x="5715000" y="4417920"/>
            <a:ext cx="335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оберите информацию и запис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5" name="Picture 15" descr="MCj03636380000[1]"/>
          <p:cNvPicPr/>
          <p:nvPr/>
        </p:nvPicPr>
        <p:blipFill>
          <a:blip r:embed="rId3"/>
          <a:stretch/>
        </p:blipFill>
        <p:spPr>
          <a:xfrm>
            <a:off x="1065240" y="1598760"/>
            <a:ext cx="3201840" cy="2408040"/>
          </a:xfrm>
          <a:prstGeom prst="rect">
            <a:avLst/>
          </a:prstGeom>
          <a:ln w="0">
            <a:noFill/>
          </a:ln>
        </p:spPr>
      </p:pic>
      <p:sp>
        <p:nvSpPr>
          <p:cNvPr id="836" name="Text Box 16"/>
          <p:cNvSpPr/>
          <p:nvPr/>
        </p:nvSpPr>
        <p:spPr>
          <a:xfrm>
            <a:off x="1143000" y="201780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spcBef>
                <a:spcPts val="17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Сделайте пла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Slide Number Placeholder 1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3F7E5-C6EF-45FB-BDEB-845EEA3FFC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8" name="Footer Placeholder 1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чет внешнего аудита и план действи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0" name="Rectangle 4"/>
          <p:cNvSpPr/>
          <p:nvPr/>
        </p:nvSpPr>
        <p:spPr>
          <a:xfrm>
            <a:off x="5715000" y="2736720"/>
            <a:ext cx="2666880" cy="838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  <a:ea typeface="Arial"/>
              </a:rPr>
              <a:t>Выявите пробел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Rectangle 5"/>
          <p:cNvSpPr/>
          <p:nvPr/>
        </p:nvSpPr>
        <p:spPr>
          <a:xfrm>
            <a:off x="304920" y="4572000"/>
            <a:ext cx="2971800" cy="1523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Зарегистрируйте результаты и действ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пишите отч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2" name="Rectangle 6"/>
          <p:cNvSpPr/>
          <p:nvPr/>
        </p:nvSpPr>
        <p:spPr>
          <a:xfrm>
            <a:off x="4724280" y="3733920"/>
            <a:ext cx="3657600" cy="99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Запланируйте корректирующие действ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3" name="Rectangle 7"/>
          <p:cNvSpPr/>
          <p:nvPr/>
        </p:nvSpPr>
        <p:spPr>
          <a:xfrm>
            <a:off x="3962520" y="4876920"/>
            <a:ext cx="4190760" cy="1066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Определите срок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Распределите ответствен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4" name="Text Box 8"/>
          <p:cNvSpPr/>
          <p:nvPr/>
        </p:nvSpPr>
        <p:spPr>
          <a:xfrm>
            <a:off x="4495680" y="1684440"/>
            <a:ext cx="4419720" cy="825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Лаборатория понимает рекоменда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AutoShape 9"/>
          <p:cNvSpPr/>
          <p:nvPr/>
        </p:nvSpPr>
        <p:spPr>
          <a:xfrm>
            <a:off x="3048120" y="1752480"/>
            <a:ext cx="1371600" cy="76212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AutoShape 10"/>
          <p:cNvSpPr/>
          <p:nvPr/>
        </p:nvSpPr>
        <p:spPr>
          <a:xfrm rot="10800000">
            <a:off x="2819160" y="5715000"/>
            <a:ext cx="6019560" cy="838080"/>
          </a:xfrm>
          <a:custGeom>
            <a:avLst/>
            <a:gdLst>
              <a:gd name="textAreaLeft" fmla="*/ 940320 w 6019560"/>
              <a:gd name="textAreaRight" fmla="*/ 5267160 w 601956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7" name="AutoShape 11"/>
          <p:cNvSpPr/>
          <p:nvPr/>
        </p:nvSpPr>
        <p:spPr>
          <a:xfrm rot="5400000">
            <a:off x="6781320" y="3657600"/>
            <a:ext cx="3505320" cy="762120"/>
          </a:xfrm>
          <a:custGeom>
            <a:avLst/>
            <a:gdLst>
              <a:gd name="textAreaLeft" fmla="*/ 547560 w 3505320"/>
              <a:gd name="textAreaRight" fmla="*/ 3067200 w 35053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8" name="AutoShape 14"/>
          <p:cNvSpPr/>
          <p:nvPr/>
        </p:nvSpPr>
        <p:spPr>
          <a:xfrm>
            <a:off x="685800" y="1844640"/>
            <a:ext cx="2209680" cy="21938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ывод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и отчет аудито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Slide Number Placeholder 1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2BEF3-4ED3-43AA-852D-E8156A2FB6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0" name="Footer Placeholder 1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1" name="Picture 2" descr="spy_guy_bck_col"/>
          <p:cNvPicPr/>
          <p:nvPr/>
        </p:nvPicPr>
        <p:blipFill>
          <a:blip r:embed="rId1"/>
          <a:stretch/>
        </p:blipFill>
        <p:spPr>
          <a:xfrm>
            <a:off x="380880" y="1371600"/>
            <a:ext cx="1905120" cy="175248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3" descr="j0335232"/>
          <p:cNvPicPr/>
          <p:nvPr/>
        </p:nvPicPr>
        <p:blipFill>
          <a:blip r:embed="rId2"/>
          <a:stretch/>
        </p:blipFill>
        <p:spPr>
          <a:xfrm>
            <a:off x="6629400" y="1447920"/>
            <a:ext cx="2057400" cy="1954080"/>
          </a:xfrm>
          <a:prstGeom prst="rect">
            <a:avLst/>
          </a:prstGeom>
          <a:ln w="0">
            <a:noFill/>
          </a:ln>
        </p:spPr>
      </p:pic>
      <p:sp>
        <p:nvSpPr>
          <p:cNvPr id="853" name="Text Box 4"/>
          <p:cNvSpPr/>
          <p:nvPr/>
        </p:nvSpPr>
        <p:spPr>
          <a:xfrm>
            <a:off x="6553080" y="9144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Гибк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4" name="Picture 5" descr="j0424784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855" name="Text Box 6"/>
          <p:cNvSpPr/>
          <p:nvPr/>
        </p:nvSpPr>
        <p:spPr>
          <a:xfrm>
            <a:off x="6477120" y="36720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едорого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3808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утренний ауди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Text Box 74"/>
          <p:cNvSpPr/>
          <p:nvPr/>
        </p:nvSpPr>
        <p:spPr>
          <a:xfrm>
            <a:off x="2590920" y="4695840"/>
            <a:ext cx="662940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70000" indent="-2700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требуется стандартами ИСО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70000" indent="-2700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роводят регуляр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70000" indent="-2700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роводят, когда выявляют проблем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Text Box 75"/>
          <p:cNvSpPr/>
          <p:nvPr/>
        </p:nvSpPr>
        <p:spPr>
          <a:xfrm>
            <a:off x="2392200" y="14940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ассмотрите свои собственные процесс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9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06DDE-928D-42A6-8780-1AB2166E74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Footer Placeholder 1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1" name="Picture 1" descr=""/>
          <p:cNvPicPr/>
          <p:nvPr/>
        </p:nvPicPr>
        <p:blipFill>
          <a:blip r:embed="rId4"/>
          <a:stretch/>
        </p:blipFill>
        <p:spPr>
          <a:xfrm>
            <a:off x="392040" y="3932280"/>
            <a:ext cx="2198880" cy="204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нность внутренних ауди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476360"/>
            <a:ext cx="822960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готавливают к внешнему аудит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особствуют осознанию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зможности для улучш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упреждающие и корректирующие действия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зможности для повышения квалифик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ответствие стандартам каче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D96CA-ABEF-42A9-B660-A643853FD9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5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6840" y="507600"/>
            <a:ext cx="838188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нутренние аудиты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требования ИСО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7" name="Rectangle 3"/>
          <p:cNvSpPr/>
          <p:nvPr/>
        </p:nvSpPr>
        <p:spPr>
          <a:xfrm>
            <a:off x="685800" y="1371600"/>
            <a:ext cx="822960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лжна быть программа ауди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цедуры должны быть задокументирован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удиторы должны быть независимыми от проверяемой деяте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зультаты документируются и передаются руководству для анали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дение безотлагательных последующих действ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8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49DD4-A260-4A24-B1EF-288A872752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9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12"/>
          <p:cNvSpPr/>
          <p:nvPr/>
        </p:nvSpPr>
        <p:spPr>
          <a:xfrm>
            <a:off x="457200" y="465480"/>
            <a:ext cx="358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нутренние ауди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Text Box 13"/>
          <p:cNvSpPr/>
          <p:nvPr/>
        </p:nvSpPr>
        <p:spPr>
          <a:xfrm>
            <a:off x="304920" y="1905120"/>
            <a:ext cx="358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Не проводите аудит собственной работы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2" name="Slide Number Placeholder 1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C59A5-15B0-4215-9F06-A3AB506A41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3" name="Footer Placeholder 1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4" name="Rectangle 2"/>
          <p:cNvSpPr/>
          <p:nvPr/>
        </p:nvSpPr>
        <p:spPr>
          <a:xfrm>
            <a:off x="3886200" y="762120"/>
            <a:ext cx="5029200" cy="48765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5" name="Rectangle 3"/>
          <p:cNvSpPr/>
          <p:nvPr/>
        </p:nvSpPr>
        <p:spPr>
          <a:xfrm>
            <a:off x="5029200" y="175248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6" name="Rectangle 4"/>
          <p:cNvSpPr/>
          <p:nvPr/>
        </p:nvSpPr>
        <p:spPr>
          <a:xfrm>
            <a:off x="6248520" y="5181480"/>
            <a:ext cx="266688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русолог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7" name="Arc 5"/>
          <p:cNvSpPr/>
          <p:nvPr/>
        </p:nvSpPr>
        <p:spPr>
          <a:xfrm>
            <a:off x="7118280" y="2568600"/>
            <a:ext cx="1447920" cy="1523880"/>
          </a:xfrm>
          <a:prstGeom prst="pie">
            <a:avLst/>
          </a:prstGeom>
          <a:gradFill rotWithShape="0">
            <a:gsLst>
              <a:gs pos="0">
                <a:srgbClr val="b27e5e"/>
              </a:gs>
              <a:gs pos="100000">
                <a:srgbClr val="523a2c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льминт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8" name="Arc 6"/>
          <p:cNvSpPr/>
          <p:nvPr/>
        </p:nvSpPr>
        <p:spPr>
          <a:xfrm rot="5400000">
            <a:off x="5295600" y="3162240"/>
            <a:ext cx="1295640" cy="1676160"/>
          </a:xfrm>
          <a:prstGeom prst="pie">
            <a:avLst/>
          </a:prstGeom>
          <a:solidFill>
            <a:srgbClr val="ffd91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ч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9" name="AutoShape 7"/>
          <p:cNvSpPr/>
          <p:nvPr/>
        </p:nvSpPr>
        <p:spPr>
          <a:xfrm rot="10800000">
            <a:off x="7962840" y="3580920"/>
            <a:ext cx="603360" cy="1752840"/>
          </a:xfrm>
          <a:prstGeom prst="downArrow">
            <a:avLst>
              <a:gd name="adj1" fmla="val 55843"/>
              <a:gd name="adj2" fmla="val 87100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. ауди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0" name="AutoShape 8"/>
          <p:cNvSpPr/>
          <p:nvPr/>
        </p:nvSpPr>
        <p:spPr>
          <a:xfrm rot="3939000">
            <a:off x="6377400" y="2399400"/>
            <a:ext cx="537840" cy="1523880"/>
          </a:xfrm>
          <a:prstGeom prst="downArrow">
            <a:avLst>
              <a:gd name="adj1" fmla="val 50000"/>
              <a:gd name="adj2" fmla="val 8338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. ауди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1" name="AutoShape 9"/>
          <p:cNvSpPr/>
          <p:nvPr/>
        </p:nvSpPr>
        <p:spPr>
          <a:xfrm rot="17854200">
            <a:off x="4418640" y="4769280"/>
            <a:ext cx="1833480" cy="536400"/>
          </a:xfrm>
          <a:prstGeom prst="rightArrow">
            <a:avLst>
              <a:gd name="adj1" fmla="val 50000"/>
              <a:gd name="adj2" fmla="val 10950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. ауди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Text Box 10"/>
          <p:cNvSpPr/>
          <p:nvPr/>
        </p:nvSpPr>
        <p:spPr>
          <a:xfrm>
            <a:off x="4952880" y="190512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Бактериолог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3" name="Text Box 11"/>
          <p:cNvSpPr/>
          <p:nvPr/>
        </p:nvSpPr>
        <p:spPr>
          <a:xfrm>
            <a:off x="4648320" y="674640"/>
            <a:ext cx="419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Лаборатория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4" name="Rectangle 14"/>
          <p:cNvSpPr/>
          <p:nvPr/>
        </p:nvSpPr>
        <p:spPr>
          <a:xfrm>
            <a:off x="2362320" y="5029200"/>
            <a:ext cx="251460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нсультант, другая лаборатор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5" name="Group 17"/>
          <p:cNvGrpSpPr/>
          <p:nvPr/>
        </p:nvGrpSpPr>
        <p:grpSpPr>
          <a:xfrm>
            <a:off x="606600" y="785880"/>
            <a:ext cx="8537400" cy="5705280"/>
            <a:chOff x="606600" y="785880"/>
            <a:chExt cx="8537400" cy="5705280"/>
          </a:xfrm>
        </p:grpSpPr>
        <p:grpSp>
          <p:nvGrpSpPr>
            <p:cNvPr id="886" name="Diagram 2"/>
            <p:cNvGrpSpPr/>
            <p:nvPr/>
          </p:nvGrpSpPr>
          <p:grpSpPr>
            <a:xfrm>
              <a:off x="606600" y="785880"/>
              <a:ext cx="8084160" cy="4377960"/>
              <a:chOff x="606600" y="785880"/>
              <a:chExt cx="8084160" cy="4377960"/>
            </a:xfrm>
          </p:grpSpPr>
          <p:sp>
            <p:nvSpPr>
              <p:cNvPr id="887" name="_s1028"/>
              <p:cNvSpPr/>
              <p:nvPr/>
            </p:nvSpPr>
            <p:spPr>
              <a:xfrm flipH="1">
                <a:off x="2702520" y="3809520"/>
                <a:ext cx="969480" cy="54972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8" name="_s1029"/>
              <p:cNvSpPr/>
              <p:nvPr/>
            </p:nvSpPr>
            <p:spPr>
              <a:xfrm>
                <a:off x="606600" y="3734640"/>
                <a:ext cx="2441160" cy="1429200"/>
              </a:xfrm>
              <a:prstGeom prst="rect">
                <a:avLst/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Подготовьте 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документы</a:t>
                </a:r>
                <a:r>
                  <a:rPr b="1" lang="ru-RU" sz="25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br>
                  <a:rPr sz="1500"/>
                </a:br>
                <a:r>
                  <a:rPr b="1" lang="ru-RU" sz="1500" spc="-1" strike="noStrike">
                    <a:solidFill>
                      <a:srgbClr val="000000"/>
                    </a:solidFill>
                    <a:latin typeface="Verdana"/>
                  </a:rPr>
                  <a:t>контрольные списки</a:t>
                </a:r>
                <a:endParaRPr b="0" lang="en-US" sz="15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500" spc="-1" strike="noStrike">
                    <a:solidFill>
                      <a:srgbClr val="000000"/>
                    </a:solidFill>
                    <a:latin typeface="Verdana"/>
                  </a:rPr>
                  <a:t>формы</a:t>
                </a:r>
                <a:endParaRPr b="0" lang="en-US" sz="15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9" name="_s1030"/>
              <p:cNvSpPr/>
              <p:nvPr/>
            </p:nvSpPr>
            <p:spPr>
              <a:xfrm>
                <a:off x="5621400" y="4001760"/>
                <a:ext cx="973080" cy="35532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0" name="_s1031"/>
              <p:cNvSpPr/>
              <p:nvPr/>
            </p:nvSpPr>
            <p:spPr>
              <a:xfrm>
                <a:off x="6443280" y="3582000"/>
                <a:ext cx="2247480" cy="1581840"/>
              </a:xfrm>
              <a:prstGeom prst="rect">
                <a:avLst/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Составьте график регулярных аудитов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1" name="_s1032"/>
              <p:cNvSpPr/>
              <p:nvPr/>
            </p:nvSpPr>
            <p:spPr>
              <a:xfrm flipV="1">
                <a:off x="4573440" y="2214720"/>
                <a:ext cx="0" cy="71460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2" name="_s1033"/>
              <p:cNvSpPr/>
              <p:nvPr/>
            </p:nvSpPr>
            <p:spPr>
              <a:xfrm>
                <a:off x="3354120" y="785880"/>
                <a:ext cx="2418120" cy="1429200"/>
              </a:xfrm>
              <a:prstGeom prst="rect">
                <a:avLst/>
              </a:prstGeom>
              <a:blipFill rotWithShape="0">
                <a:blip r:embed="rId3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99"/>
                    </a:solidFill>
                    <a:latin typeface="Verdana"/>
                  </a:rPr>
                  <a:t>Программа внутреннего аудита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3" name="_s1034"/>
              <p:cNvSpPr/>
              <p:nvPr/>
            </p:nvSpPr>
            <p:spPr>
              <a:xfrm>
                <a:off x="3354120" y="2743560"/>
                <a:ext cx="2513520" cy="1429560"/>
              </a:xfrm>
              <a:prstGeom prst="rect">
                <a:avLst/>
              </a:prstGeom>
              <a:blipFill rotWithShape="0">
                <a:blip r:embed="rId4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cccce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Распределите обязанности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894" name="Text Box 11"/>
            <p:cNvSpPr/>
            <p:nvPr/>
          </p:nvSpPr>
          <p:spPr>
            <a:xfrm>
              <a:off x="6324480" y="5776920"/>
              <a:ext cx="281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895" name="Picture 12" descr="j0432664"/>
            <p:cNvPicPr/>
            <p:nvPr/>
          </p:nvPicPr>
          <p:blipFill>
            <a:blip r:embed="rId5"/>
            <a:stretch/>
          </p:blipFill>
          <p:spPr>
            <a:xfrm>
              <a:off x="4800600" y="4724280"/>
              <a:ext cx="2590920" cy="17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13" descr="bs00272_"/>
            <p:cNvPicPr/>
            <p:nvPr/>
          </p:nvPicPr>
          <p:blipFill>
            <a:blip r:embed="rId6"/>
            <a:stretch/>
          </p:blipFill>
          <p:spPr>
            <a:xfrm>
              <a:off x="2438280" y="4952880"/>
              <a:ext cx="2057400" cy="139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7" name="Picture 14" descr="MCj04349290000[1]"/>
            <p:cNvPicPr/>
            <p:nvPr/>
          </p:nvPicPr>
          <p:blipFill>
            <a:blip r:embed="rId7"/>
            <a:stretch/>
          </p:blipFill>
          <p:spPr>
            <a:xfrm>
              <a:off x="762120" y="1905120"/>
              <a:ext cx="1981080" cy="19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8" name="Picture 15" descr="head"/>
            <p:cNvPicPr/>
            <p:nvPr/>
          </p:nvPicPr>
          <p:blipFill>
            <a:blip r:embed="rId8"/>
            <a:stretch/>
          </p:blipFill>
          <p:spPr>
            <a:xfrm>
              <a:off x="6075360" y="1905120"/>
              <a:ext cx="1211400" cy="160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9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5B921-5C32-4D22-A78D-9D56C1BD8C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Footer Placeholder 9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14520" y="526680"/>
            <a:ext cx="791496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вы сможе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13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ть процесс для подготовки сотрудников своей лаборатории к внешнему аудит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13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ланировать программу внутренних аудитов и управлять 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13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удить, как использовать результаты ауди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13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ргументировать важность проведения корректирующих действ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CB541-5813-4A6E-87B8-A84402B5D3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Footer Placeholder 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AutoShape 2"/>
          <p:cNvSpPr/>
          <p:nvPr/>
        </p:nvSpPr>
        <p:spPr>
          <a:xfrm rot="16200000">
            <a:off x="3601800" y="3103560"/>
            <a:ext cx="3463920" cy="609480"/>
          </a:xfrm>
          <a:prstGeom prst="rightArrow">
            <a:avLst>
              <a:gd name="adj1" fmla="val 50000"/>
              <a:gd name="adj2" fmla="val 171581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AutoShape 3"/>
          <p:cNvSpPr/>
          <p:nvPr/>
        </p:nvSpPr>
        <p:spPr>
          <a:xfrm>
            <a:off x="5105520" y="4267080"/>
            <a:ext cx="274320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Rectangle 4"/>
          <p:cNvSpPr/>
          <p:nvPr/>
        </p:nvSpPr>
        <p:spPr>
          <a:xfrm>
            <a:off x="1066680" y="609480"/>
            <a:ext cx="7010640" cy="9907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Text Box 5"/>
          <p:cNvSpPr/>
          <p:nvPr/>
        </p:nvSpPr>
        <p:spPr>
          <a:xfrm>
            <a:off x="1066680" y="78732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Руководитель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5" name="AutoShape 6"/>
          <p:cNvSpPr/>
          <p:nvPr/>
        </p:nvSpPr>
        <p:spPr>
          <a:xfrm>
            <a:off x="762120" y="228600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6" name="Oval 7"/>
          <p:cNvSpPr/>
          <p:nvPr/>
        </p:nvSpPr>
        <p:spPr>
          <a:xfrm>
            <a:off x="380880" y="449568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Rectangle 8"/>
          <p:cNvSpPr/>
          <p:nvPr/>
        </p:nvSpPr>
        <p:spPr>
          <a:xfrm>
            <a:off x="5791320" y="2879640"/>
            <a:ext cx="2895480" cy="14637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Text Box 9"/>
          <p:cNvSpPr/>
          <p:nvPr/>
        </p:nvSpPr>
        <p:spPr>
          <a:xfrm>
            <a:off x="914400" y="2286000"/>
            <a:ext cx="3048120" cy="14101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определяет правила внутренних ауди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Text Box 10"/>
          <p:cNvSpPr/>
          <p:nvPr/>
        </p:nvSpPr>
        <p:spPr>
          <a:xfrm>
            <a:off x="457200" y="4648320"/>
            <a:ext cx="3962520" cy="12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распределяе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бязаннос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по программ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внутренних аудитов</a:t>
            </a:r>
            <a:br>
              <a:rPr sz="1800"/>
            </a:br>
            <a:r>
              <a:rPr b="1" lang="ru-RU" sz="1800" spc="-1" strike="noStrike">
                <a:solidFill>
                  <a:srgbClr val="ff6600"/>
                </a:solidFill>
                <a:latin typeface="Verdana"/>
              </a:rPr>
              <a:t>Менеджер по качеств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Text Box 11"/>
          <p:cNvSpPr/>
          <p:nvPr/>
        </p:nvSpPr>
        <p:spPr>
          <a:xfrm>
            <a:off x="5257800" y="489600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езультаты внутренних ауди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Text Box 12"/>
          <p:cNvSpPr/>
          <p:nvPr/>
        </p:nvSpPr>
        <p:spPr>
          <a:xfrm>
            <a:off x="5791320" y="2921040"/>
            <a:ext cx="29718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поддерживает проведение  корректирующих действ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AutoShape 13"/>
          <p:cNvSpPr/>
          <p:nvPr/>
        </p:nvSpPr>
        <p:spPr>
          <a:xfrm rot="5400000">
            <a:off x="2018880" y="1409760"/>
            <a:ext cx="685800" cy="1066680"/>
          </a:xfrm>
          <a:custGeom>
            <a:avLst/>
            <a:gdLst>
              <a:gd name="textAreaLeft" fmla="*/ 106920 w 685800"/>
              <a:gd name="textAreaRight" fmla="*/ 600120 w 685800"/>
              <a:gd name="textAreaTop" fmla="*/ 266760 h 1066680"/>
              <a:gd name="textAreaBottom" fmla="*/ 800280 h 1066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3" name="AutoShape 14"/>
          <p:cNvSpPr/>
          <p:nvPr/>
        </p:nvSpPr>
        <p:spPr>
          <a:xfrm rot="5400000">
            <a:off x="2018880" y="3543120"/>
            <a:ext cx="761760" cy="1143000"/>
          </a:xfrm>
          <a:custGeom>
            <a:avLst/>
            <a:gdLst>
              <a:gd name="textAreaLeft" fmla="*/ 118800 w 761760"/>
              <a:gd name="textAreaRight" fmla="*/ 666720 w 76176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4" name="AutoShape 15"/>
          <p:cNvSpPr/>
          <p:nvPr/>
        </p:nvSpPr>
        <p:spPr>
          <a:xfrm rot="5400000">
            <a:off x="6514920" y="1638360"/>
            <a:ext cx="1066680" cy="114300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AutoShape 16"/>
          <p:cNvSpPr/>
          <p:nvPr/>
        </p:nvSpPr>
        <p:spPr>
          <a:xfrm>
            <a:off x="4038480" y="5486400"/>
            <a:ext cx="1295640" cy="457200"/>
          </a:xfrm>
          <a:prstGeom prst="rightArrow">
            <a:avLst>
              <a:gd name="adj1" fmla="val 50000"/>
              <a:gd name="adj2" fmla="val 75018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6" name="AutoShape 19"/>
          <p:cNvSpPr/>
          <p:nvPr/>
        </p:nvSpPr>
        <p:spPr>
          <a:xfrm>
            <a:off x="457200" y="5486400"/>
            <a:ext cx="387360" cy="533520"/>
          </a:xfrm>
          <a:custGeom>
            <a:avLst/>
            <a:gdLst>
              <a:gd name="textAreaLeft" fmla="*/ 60480 w 387360"/>
              <a:gd name="textAreaRight" fmla="*/ 339120 w 387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7" name="Slide Number Placeholder 1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4DC4C-DFD7-473A-83CB-075306598E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8" name="Footer Placeholder 18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Text Box 2"/>
          <p:cNvSpPr/>
          <p:nvPr/>
        </p:nvSpPr>
        <p:spPr>
          <a:xfrm>
            <a:off x="304920" y="609480"/>
            <a:ext cx="8458200" cy="1014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Verdana"/>
              </a:rPr>
              <a:t>Обязанности менеджера по качеству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ввести и поддерживать систему внутренних аудитов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0" name="Oval 3"/>
          <p:cNvSpPr/>
          <p:nvPr/>
        </p:nvSpPr>
        <p:spPr>
          <a:xfrm>
            <a:off x="3048120" y="2438280"/>
            <a:ext cx="3124080" cy="16002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1" name="Text Box 4"/>
          <p:cNvSpPr/>
          <p:nvPr/>
        </p:nvSpPr>
        <p:spPr>
          <a:xfrm>
            <a:off x="3200400" y="281952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координирова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ть</a:t>
            </a: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 процесс ауди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2" name="AutoShape 7"/>
          <p:cNvSpPr/>
          <p:nvPr/>
        </p:nvSpPr>
        <p:spPr>
          <a:xfrm rot="5400000">
            <a:off x="4228920" y="1638360"/>
            <a:ext cx="609840" cy="838080"/>
          </a:xfrm>
          <a:custGeom>
            <a:avLst/>
            <a:gdLst>
              <a:gd name="textAreaLeft" fmla="*/ 95040 w 609840"/>
              <a:gd name="textAreaRight" fmla="*/ 533880 w 6098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3" name="AutoShape 10"/>
          <p:cNvSpPr/>
          <p:nvPr/>
        </p:nvSpPr>
        <p:spPr>
          <a:xfrm>
            <a:off x="3429000" y="4419720"/>
            <a:ext cx="2286000" cy="167616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4" name="Oval 11"/>
          <p:cNvSpPr/>
          <p:nvPr/>
        </p:nvSpPr>
        <p:spPr>
          <a:xfrm>
            <a:off x="6705720" y="5029200"/>
            <a:ext cx="2133360" cy="114300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5" name="Oval 12"/>
          <p:cNvSpPr/>
          <p:nvPr/>
        </p:nvSpPr>
        <p:spPr>
          <a:xfrm>
            <a:off x="380880" y="5105520"/>
            <a:ext cx="1981440" cy="9903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6" name="Text Box 13"/>
          <p:cNvSpPr/>
          <p:nvPr/>
        </p:nvSpPr>
        <p:spPr>
          <a:xfrm>
            <a:off x="457200" y="51814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тчет сотрудника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7" name="Text Box 14"/>
          <p:cNvSpPr/>
          <p:nvPr/>
        </p:nvSpPr>
        <p:spPr>
          <a:xfrm>
            <a:off x="6781680" y="52261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тчет руководств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8" name="AutoShape 16"/>
          <p:cNvSpPr/>
          <p:nvPr/>
        </p:nvSpPr>
        <p:spPr>
          <a:xfrm>
            <a:off x="5410080" y="5410080"/>
            <a:ext cx="1371600" cy="45720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9" name="AutoShape 17"/>
          <p:cNvSpPr/>
          <p:nvPr/>
        </p:nvSpPr>
        <p:spPr>
          <a:xfrm rot="10800000">
            <a:off x="228600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0" name="AutoShape 21"/>
          <p:cNvSpPr/>
          <p:nvPr/>
        </p:nvSpPr>
        <p:spPr>
          <a:xfrm>
            <a:off x="152280" y="2651040"/>
            <a:ext cx="2133720" cy="7779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1" name="Text Box 22"/>
          <p:cNvSpPr/>
          <p:nvPr/>
        </p:nvSpPr>
        <p:spPr>
          <a:xfrm>
            <a:off x="228600" y="266688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разработать </a:t>
            </a: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графи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AutoShape 23"/>
          <p:cNvSpPr/>
          <p:nvPr/>
        </p:nvSpPr>
        <p:spPr>
          <a:xfrm rot="11374200">
            <a:off x="2199960" y="2861640"/>
            <a:ext cx="1000080" cy="555480"/>
          </a:xfrm>
          <a:custGeom>
            <a:avLst/>
            <a:gdLst>
              <a:gd name="textAreaLeft" fmla="*/ 156240 w 1000080"/>
              <a:gd name="textAreaRight" fmla="*/ 875160 w 10000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3" name="AutoShape 24"/>
          <p:cNvSpPr/>
          <p:nvPr/>
        </p:nvSpPr>
        <p:spPr>
          <a:xfrm>
            <a:off x="152280" y="3565440"/>
            <a:ext cx="2133720" cy="9907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4" name="Text Box 25"/>
          <p:cNvSpPr/>
          <p:nvPr/>
        </p:nvSpPr>
        <p:spPr>
          <a:xfrm>
            <a:off x="304920" y="3565440"/>
            <a:ext cx="190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выбрать и</a:t>
            </a: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обучить аудитор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5" name="AutoShape 26"/>
          <p:cNvSpPr/>
          <p:nvPr/>
        </p:nvSpPr>
        <p:spPr>
          <a:xfrm rot="9818400">
            <a:off x="2244240" y="3549600"/>
            <a:ext cx="954360" cy="555840"/>
          </a:xfrm>
          <a:custGeom>
            <a:avLst/>
            <a:gdLst>
              <a:gd name="textAreaLeft" fmla="*/ 149040 w 954360"/>
              <a:gd name="textAreaRight" fmla="*/ 835200 w 954360"/>
              <a:gd name="textAreaTop" fmla="*/ 138960 h 555840"/>
              <a:gd name="textAreaBottom" fmla="*/ 416880 h 5558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6" name="Slide Number Placeholder 2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DE4AF-E828-459E-9610-6EBB4F7E1E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Footer Placeholder 2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8" name="AutoShape 31"/>
          <p:cNvSpPr/>
          <p:nvPr/>
        </p:nvSpPr>
        <p:spPr>
          <a:xfrm>
            <a:off x="6451560" y="2743200"/>
            <a:ext cx="2387520" cy="9810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9" name="Text Box 5"/>
          <p:cNvSpPr/>
          <p:nvPr/>
        </p:nvSpPr>
        <p:spPr>
          <a:xfrm>
            <a:off x="6451560" y="2819520"/>
            <a:ext cx="24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7d"/>
                </a:solidFill>
                <a:latin typeface="Verdana"/>
              </a:rPr>
              <a:t>управлять корректирующими действиям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0" name="AutoShape 6"/>
          <p:cNvSpPr/>
          <p:nvPr/>
        </p:nvSpPr>
        <p:spPr>
          <a:xfrm rot="19251600">
            <a:off x="5284800" y="4073040"/>
            <a:ext cx="2023920" cy="484200"/>
          </a:xfrm>
          <a:custGeom>
            <a:avLst/>
            <a:gdLst>
              <a:gd name="textAreaLeft" fmla="*/ 316080 w 2023920"/>
              <a:gd name="textAreaRight" fmla="*/ 1771200 w 202392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1" name="TextBox 1"/>
          <p:cNvSpPr/>
          <p:nvPr/>
        </p:nvSpPr>
        <p:spPr>
          <a:xfrm>
            <a:off x="3726360" y="4851360"/>
            <a:ext cx="1841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езультаты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нутренних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уди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ение внутренних аудитов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142640" y="1294920"/>
            <a:ext cx="762012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зработайте пла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ставьте контрольные спис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водное собр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берите и проанализируйте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шите результа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дите заключительное собр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чет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1AF0C-7906-488E-97D1-7C81BBE61A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Picture 1" descr=""/>
          <p:cNvPicPr/>
          <p:nvPr/>
        </p:nvPicPr>
        <p:blipFill>
          <a:blip r:embed="rId1"/>
          <a:stretch/>
        </p:blipFill>
        <p:spPr>
          <a:xfrm>
            <a:off x="3171960" y="3726000"/>
            <a:ext cx="2752560" cy="2557440"/>
          </a:xfrm>
          <a:prstGeom prst="rect">
            <a:avLst/>
          </a:prstGeom>
          <a:ln w="0">
            <a:noFill/>
          </a:ln>
        </p:spPr>
      </p:pic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становите график ауди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33520" y="1380600"/>
            <a:ext cx="8229600" cy="22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водите регуляр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олее частые аудиты там, где проблемы, или на участках, нуждающихся в улучшен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шаг за шагом аудиты должны рассмотреть все элементы системы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49" name="Diagram 2"/>
          <p:cNvGrpSpPr/>
          <p:nvPr/>
        </p:nvGrpSpPr>
        <p:grpSpPr>
          <a:xfrm>
            <a:off x="2989440" y="3763800"/>
            <a:ext cx="2876760" cy="2556720"/>
            <a:chOff x="2989440" y="3763800"/>
            <a:chExt cx="2876760" cy="2556720"/>
          </a:xfrm>
        </p:grpSpPr>
        <p:sp>
          <p:nvSpPr>
            <p:cNvPr id="950" name="_s2052"/>
            <p:cNvSpPr/>
            <p:nvPr/>
          </p:nvSpPr>
          <p:spPr>
            <a:xfrm>
              <a:off x="3535920" y="3907080"/>
              <a:ext cx="2026080" cy="1960560"/>
            </a:xfrm>
            <a:custGeom>
              <a:avLst/>
              <a:gdLst>
                <a:gd name="textAreaLeft" fmla="*/ 297000 w 2026080"/>
                <a:gd name="textAreaRight" fmla="*/ 1729080 w 2026080"/>
                <a:gd name="textAreaTop" fmla="*/ 286560 h 1960560"/>
                <a:gd name="textAreaBottom" fmla="*/ 1674000 h 196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1" name="_s2053"/>
            <p:cNvSpPr/>
            <p:nvPr/>
          </p:nvSpPr>
          <p:spPr>
            <a:xfrm rot="5695200">
              <a:off x="3698640" y="4101120"/>
              <a:ext cx="1829880" cy="2356920"/>
            </a:xfrm>
            <a:custGeom>
              <a:avLst/>
              <a:gdLst>
                <a:gd name="textAreaLeft" fmla="*/ 267840 w 1829880"/>
                <a:gd name="textAreaRight" fmla="*/ 1562040 w 1829880"/>
                <a:gd name="textAreaTop" fmla="*/ 344880 h 2356920"/>
                <a:gd name="textAreaBottom" fmla="*/ 2012040 h 235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2" name="_s2054"/>
            <p:cNvSpPr/>
            <p:nvPr/>
          </p:nvSpPr>
          <p:spPr>
            <a:xfrm rot="15971400">
              <a:off x="3524040" y="4209120"/>
              <a:ext cx="1839960" cy="2238120"/>
            </a:xfrm>
            <a:custGeom>
              <a:avLst/>
              <a:gdLst>
                <a:gd name="textAreaLeft" fmla="*/ 269640 w 1839960"/>
                <a:gd name="textAreaRight" fmla="*/ 1570320 w 1839960"/>
                <a:gd name="textAreaTop" fmla="*/ 327600 h 2238120"/>
                <a:gd name="textAreaBottom" fmla="*/ 1910520 h 223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3" name="_s2055"/>
            <p:cNvSpPr/>
            <p:nvPr/>
          </p:nvSpPr>
          <p:spPr>
            <a:xfrm>
              <a:off x="4912200" y="376380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4" name="_s2056"/>
            <p:cNvSpPr/>
            <p:nvPr/>
          </p:nvSpPr>
          <p:spPr>
            <a:xfrm>
              <a:off x="3950640" y="5275440"/>
              <a:ext cx="813240" cy="73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5" name="_s2057"/>
            <p:cNvSpPr/>
            <p:nvPr/>
          </p:nvSpPr>
          <p:spPr>
            <a:xfrm>
              <a:off x="2989440" y="376380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56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2124F-4C85-4416-8F06-E8F8A7E615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Footer Placeholder 6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21920" y="448920"/>
            <a:ext cx="791532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874800" y="1477800"/>
            <a:ext cx="5449680" cy="19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контрольные спис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разработайте формы для записи корректирующих действий и для отче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0" name="Picture 5" descr="MCj04349290000[1]"/>
          <p:cNvPicPr/>
          <p:nvPr/>
        </p:nvPicPr>
        <p:blipFill>
          <a:blip r:embed="rId1"/>
          <a:stretch/>
        </p:blipFill>
        <p:spPr>
          <a:xfrm>
            <a:off x="6629400" y="106668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961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F6BAF-AEC4-4D80-A09F-74B2A44D06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2" name="Footer Placeholder 7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3" name="Picture 2" descr=""/>
          <p:cNvPicPr/>
          <p:nvPr/>
        </p:nvPicPr>
        <p:blipFill>
          <a:blip r:embed="rId2"/>
          <a:stretch/>
        </p:blipFill>
        <p:spPr>
          <a:xfrm>
            <a:off x="2998800" y="3892680"/>
            <a:ext cx="3021120" cy="232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4" name="Diagram 2"/>
          <p:cNvGrpSpPr/>
          <p:nvPr/>
        </p:nvGrpSpPr>
        <p:grpSpPr>
          <a:xfrm>
            <a:off x="609480" y="758880"/>
            <a:ext cx="7878240" cy="5334840"/>
            <a:chOff x="609480" y="758880"/>
            <a:chExt cx="7878240" cy="5334840"/>
          </a:xfrm>
        </p:grpSpPr>
        <p:sp>
          <p:nvSpPr>
            <p:cNvPr id="965" name="_s3076"/>
            <p:cNvSpPr/>
            <p:nvPr/>
          </p:nvSpPr>
          <p:spPr>
            <a:xfrm flipH="1" flipV="1">
              <a:off x="2869560" y="3141360"/>
              <a:ext cx="925920" cy="21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6" name="_s3077"/>
            <p:cNvSpPr/>
            <p:nvPr/>
          </p:nvSpPr>
          <p:spPr>
            <a:xfrm>
              <a:off x="609480" y="2219400"/>
              <a:ext cx="2306160" cy="1410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Эффективное взаимодействие с людьми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7" name="_s3078"/>
            <p:cNvSpPr/>
            <p:nvPr/>
          </p:nvSpPr>
          <p:spPr>
            <a:xfrm flipH="1">
              <a:off x="3578040" y="4150440"/>
              <a:ext cx="571320" cy="5698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8" name="_s3079"/>
            <p:cNvSpPr/>
            <p:nvPr/>
          </p:nvSpPr>
          <p:spPr>
            <a:xfrm>
              <a:off x="1764000" y="4682880"/>
              <a:ext cx="2216880" cy="1410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Компетентность: 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Специальные знания</a:t>
              </a:r>
              <a:r>
                <a:rPr b="1" lang="en-US" sz="1700" spc="-1" strike="noStrike">
                  <a:solidFill>
                    <a:srgbClr val="000000"/>
                  </a:solidFill>
                  <a:latin typeface="Verdana"/>
                </a:rPr>
                <a:t>/ 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Управление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качеством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9" name="_s3080"/>
            <p:cNvSpPr/>
            <p:nvPr/>
          </p:nvSpPr>
          <p:spPr>
            <a:xfrm>
              <a:off x="5298480" y="4150440"/>
              <a:ext cx="574560" cy="5698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0" name="_s3081"/>
            <p:cNvSpPr/>
            <p:nvPr/>
          </p:nvSpPr>
          <p:spPr>
            <a:xfrm>
              <a:off x="5561640" y="4682880"/>
              <a:ext cx="2286000" cy="1410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Дипломатичный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1" name="_s3082"/>
            <p:cNvSpPr/>
            <p:nvPr/>
          </p:nvSpPr>
          <p:spPr>
            <a:xfrm flipV="1">
              <a:off x="5652720" y="3143880"/>
              <a:ext cx="928440" cy="2181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2" name="_s3083"/>
            <p:cNvSpPr/>
            <p:nvPr/>
          </p:nvSpPr>
          <p:spPr>
            <a:xfrm>
              <a:off x="6532920" y="2219400"/>
              <a:ext cx="1954800" cy="1410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бученный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3" name="_s3084"/>
            <p:cNvSpPr/>
            <p:nvPr/>
          </p:nvSpPr>
          <p:spPr>
            <a:xfrm flipV="1">
              <a:off x="4724280" y="2169360"/>
              <a:ext cx="0" cy="705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4" name="_s3085"/>
            <p:cNvSpPr/>
            <p:nvPr/>
          </p:nvSpPr>
          <p:spPr>
            <a:xfrm>
              <a:off x="3746880" y="758880"/>
              <a:ext cx="1954080" cy="1410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Внимание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к деталям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5" name="_s3086"/>
            <p:cNvSpPr/>
            <p:nvPr/>
          </p:nvSpPr>
          <p:spPr>
            <a:xfrm>
              <a:off x="3746880" y="2875320"/>
              <a:ext cx="1954080" cy="1411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76" name="Picture 15" descr="bs01872_"/>
          <p:cNvPicPr/>
          <p:nvPr/>
        </p:nvPicPr>
        <p:blipFill>
          <a:blip r:embed="rId7"/>
          <a:stretch/>
        </p:blipFill>
        <p:spPr>
          <a:xfrm>
            <a:off x="1752480" y="685800"/>
            <a:ext cx="2057400" cy="146520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6" descr="MCj02352750000[1]"/>
          <p:cNvPicPr/>
          <p:nvPr/>
        </p:nvPicPr>
        <p:blipFill>
          <a:blip r:embed="rId8"/>
          <a:stretch/>
        </p:blipFill>
        <p:spPr>
          <a:xfrm>
            <a:off x="3962520" y="457200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7" descr="MCj02341200000[1]"/>
          <p:cNvPicPr/>
          <p:nvPr/>
        </p:nvPicPr>
        <p:blipFill>
          <a:blip r:embed="rId9"/>
          <a:stretch/>
        </p:blipFill>
        <p:spPr>
          <a:xfrm>
            <a:off x="7086600" y="3657600"/>
            <a:ext cx="1555920" cy="175248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8" descr="bd20208_"/>
          <p:cNvPicPr/>
          <p:nvPr/>
        </p:nvPicPr>
        <p:blipFill>
          <a:blip r:embed="rId10"/>
          <a:stretch/>
        </p:blipFill>
        <p:spPr>
          <a:xfrm>
            <a:off x="6019920" y="758880"/>
            <a:ext cx="2278080" cy="1434960"/>
          </a:xfrm>
          <a:prstGeom prst="rect">
            <a:avLst/>
          </a:prstGeom>
          <a:ln w="0">
            <a:noFill/>
          </a:ln>
        </p:spPr>
      </p:pic>
      <p:sp>
        <p:nvSpPr>
          <p:cNvPr id="980" name="Text Box 20"/>
          <p:cNvSpPr/>
          <p:nvPr/>
        </p:nvSpPr>
        <p:spPr>
          <a:xfrm>
            <a:off x="3581280" y="2590920"/>
            <a:ext cx="2322720" cy="1697040"/>
          </a:xfrm>
          <a:prstGeom prst="rect">
            <a:avLst/>
          </a:prstGeom>
          <a:solidFill>
            <a:srgbClr val="99ff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Verdana"/>
              </a:rPr>
              <a:t>Навыки, нужные аудиторам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1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A47B0-6D19-40C0-BE7F-20C0DBC207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2" name="Footer Placeholder 9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3" name="Picture 12" descr="pe03301_"/>
          <p:cNvPicPr/>
          <p:nvPr/>
        </p:nvPicPr>
        <p:blipFill>
          <a:blip r:embed="rId11"/>
          <a:stretch/>
        </p:blipFill>
        <p:spPr>
          <a:xfrm>
            <a:off x="349200" y="3429000"/>
            <a:ext cx="140328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AutoShape 2"/>
          <p:cNvSpPr/>
          <p:nvPr/>
        </p:nvSpPr>
        <p:spPr>
          <a:xfrm>
            <a:off x="1523880" y="182880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Ауди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5" name="AutoShape 3"/>
          <p:cNvSpPr/>
          <p:nvPr/>
        </p:nvSpPr>
        <p:spPr>
          <a:xfrm rot="5400000">
            <a:off x="2019240" y="3009960"/>
            <a:ext cx="914400" cy="1295280"/>
          </a:xfrm>
          <a:custGeom>
            <a:avLst/>
            <a:gdLst>
              <a:gd name="textAreaLeft" fmla="*/ 142920 w 914400"/>
              <a:gd name="textAreaRight" fmla="*/ 800280 w 9144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Аудит должен приводить к действия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7" name="AutoShape 5"/>
          <p:cNvSpPr/>
          <p:nvPr/>
        </p:nvSpPr>
        <p:spPr>
          <a:xfrm>
            <a:off x="990720" y="4419720"/>
            <a:ext cx="3047760" cy="14475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ыявит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озможности для улучшен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AutoShape 6"/>
          <p:cNvSpPr/>
          <p:nvPr/>
        </p:nvSpPr>
        <p:spPr>
          <a:xfrm rot="20101800">
            <a:off x="3879360" y="3516120"/>
            <a:ext cx="2038320" cy="1295280"/>
          </a:xfrm>
          <a:custGeom>
            <a:avLst/>
            <a:gdLst>
              <a:gd name="textAreaLeft" fmla="*/ 318240 w 2038320"/>
              <a:gd name="textAreaRight" fmla="*/ 1783800 w 203832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9" name="AutoShape 7"/>
          <p:cNvSpPr/>
          <p:nvPr/>
        </p:nvSpPr>
        <p:spPr>
          <a:xfrm>
            <a:off x="5791320" y="1828800"/>
            <a:ext cx="3200400" cy="312408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Действуйт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Slide Number Placeholder 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18D34-77E6-48F5-93F4-A3D515064A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1" name="Footer Placeholder 8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орректирующие действ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993" name="Picture 4" descr="j0435880"/>
          <p:cNvPicPr/>
          <p:nvPr/>
        </p:nvPicPr>
        <p:blipFill>
          <a:blip r:embed="rId1"/>
          <a:stretch/>
        </p:blipFill>
        <p:spPr>
          <a:xfrm>
            <a:off x="5257800" y="2743200"/>
            <a:ext cx="3124080" cy="2705040"/>
          </a:xfrm>
          <a:prstGeom prst="rect">
            <a:avLst/>
          </a:prstGeom>
          <a:ln w="0">
            <a:noFill/>
          </a:ln>
        </p:spPr>
      </p:pic>
      <p:sp>
        <p:nvSpPr>
          <p:cNvPr id="994" name="Text Box 6"/>
          <p:cNvSpPr/>
          <p:nvPr/>
        </p:nvSpPr>
        <p:spPr>
          <a:xfrm>
            <a:off x="457200" y="4800600"/>
            <a:ext cx="5791320" cy="106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то ответственный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? </a:t>
            </a:r>
            <a:br>
              <a:rPr sz="3200"/>
            </a:br>
            <a:r>
              <a:rPr b="1" lang="ru-RU" sz="3200" spc="-1" strike="noStrike">
                <a:solidFill>
                  <a:srgbClr val="008000"/>
                </a:solidFill>
                <a:latin typeface="Verdana"/>
              </a:rPr>
              <a:t>Менеджер по каче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5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2BB30-7BA7-44F9-BE4E-37AEE5AA8D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Footer Placeholder 6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685440" y="1999800"/>
            <a:ext cx="7467480" cy="15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Это шаги, предпринятые для улучшения процессов или исправления недостатков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ение корректирующих действи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736200" y="1887120"/>
            <a:ext cx="810252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 командой по разрешению пробле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йдите корневую причину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план соответствующих корректирующих действ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дите корректирующие действ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рьт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х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ффектив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дите записи всех действий и вывод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дите наблюде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0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D038A-1D48-4892-9AE7-E971A72CFD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Форма регистрации возможностей для улучшен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3" name="Rectangle 67"/>
          <p:cNvSpPr/>
          <p:nvPr/>
        </p:nvSpPr>
        <p:spPr>
          <a:xfrm>
            <a:off x="609480" y="7162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4" name="Rectangle 79"/>
          <p:cNvSpPr/>
          <p:nvPr/>
        </p:nvSpPr>
        <p:spPr>
          <a:xfrm>
            <a:off x="1676520" y="1984320"/>
            <a:ext cx="5715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тирующие действия являются результатом: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_________   ___   _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ытия                            Дата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   __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Время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   ____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__________      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нутреннего аудита         Дата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   _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Время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   _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_______   __   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нешнего аудита              Дата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   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Время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   ___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05" name=""/>
          <p:cNvGraphicFramePr/>
          <p:nvPr/>
        </p:nvGraphicFramePr>
        <p:xfrm>
          <a:off x="1676520" y="2975040"/>
          <a:ext cx="5716440" cy="1747800"/>
        </p:xfrm>
        <a:graphic>
          <a:graphicData uri="http://schemas.openxmlformats.org/drawingml/2006/table">
            <a:tbl>
              <a:tblPr/>
              <a:tblGrid>
                <a:gridCol w="5716440"/>
              </a:tblGrid>
              <a:tr h="380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 проблемы или выводов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то случилось и почему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3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бщено: (Имя сотрудника) _____________________________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06" name=""/>
          <p:cNvGraphicFramePr/>
          <p:nvPr/>
        </p:nvGraphicFramePr>
        <p:xfrm>
          <a:off x="1676520" y="4905360"/>
          <a:ext cx="5715000" cy="1206360"/>
        </p:xfrm>
        <a:graphic>
          <a:graphicData uri="http://schemas.openxmlformats.org/drawingml/2006/table">
            <a:tbl>
              <a:tblPr/>
              <a:tblGrid>
                <a:gridCol w="571500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ные корректирующие действия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то было сделано, чтобы предотвратить повторение?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07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FCCD5-9D1E-41D7-AF7D-E3812A6E5F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8" name="Footer Placeholder 7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9" name="TextBox 1"/>
          <p:cNvSpPr/>
          <p:nvPr/>
        </p:nvSpPr>
        <p:spPr>
          <a:xfrm>
            <a:off x="3059640" y="1752480"/>
            <a:ext cx="29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корректирующих действ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33520" y="1952280"/>
            <a:ext cx="815328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ы являетесь менеджером по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ачеству в лаборатории 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хотите организовать внутренний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аудит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Какие шаги вы предпримете</a:t>
            </a:r>
            <a:r>
              <a:rPr b="1" lang="en-GB" sz="36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29896-8AF3-407F-A479-214858046C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Footer Placeholder 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6AE71-E0AE-4609-8207-DD9D77DEC8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2" name="Oval 9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3" name="Text Box 10"/>
          <p:cNvSpPr/>
          <p:nvPr/>
        </p:nvSpPr>
        <p:spPr>
          <a:xfrm>
            <a:off x="2438280" y="1905120"/>
            <a:ext cx="525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Постоянное отслеживание –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это ключ к успеху в системе качест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4" name="Picture 4" descr="MCj04326350000[1]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5" descr="MCj02153560000[1]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7" descr="MCj01567530000[1]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AB1BF-A04F-4A46-852F-D589CE40C1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19" name="Diagram 46"/>
          <p:cNvGrpSpPr/>
          <p:nvPr/>
        </p:nvGrpSpPr>
        <p:grpSpPr>
          <a:xfrm>
            <a:off x="533520" y="533520"/>
            <a:ext cx="8229240" cy="6152040"/>
            <a:chOff x="533520" y="533520"/>
            <a:chExt cx="8229240" cy="6152040"/>
          </a:xfrm>
        </p:grpSpPr>
        <p:sp>
          <p:nvSpPr>
            <p:cNvPr id="1020" name="AutoShape 45"/>
            <p:cNvSpPr/>
            <p:nvPr/>
          </p:nvSpPr>
          <p:spPr>
            <a:xfrm>
              <a:off x="533520" y="533520"/>
              <a:ext cx="8229240" cy="58017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1" name="_s1028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780120 w 5317200"/>
                <a:gd name="textAreaRight" fmla="*/ 4537080 w 5317200"/>
                <a:gd name="textAreaTop" fmla="*/ 549720 h 3748680"/>
                <a:gd name="textAreaBottom" fmla="*/ 319896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2" name="_s1029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549720 w 3748680"/>
                <a:gd name="textAreaRight" fmla="*/ 3198960 w 3748680"/>
                <a:gd name="textAreaTop" fmla="*/ 780120 h 5317920"/>
                <a:gd name="textAreaBottom" fmla="*/ 453780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3" name="_s1030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549720 w 3748680"/>
                <a:gd name="textAreaRight" fmla="*/ 3198960 w 3748680"/>
                <a:gd name="textAreaTop" fmla="*/ 780120 h 5317200"/>
                <a:gd name="textAreaBottom" fmla="*/ 453708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4" name="_s1031"/>
            <p:cNvSpPr/>
            <p:nvPr/>
          </p:nvSpPr>
          <p:spPr>
            <a:xfrm>
              <a:off x="533520" y="1470600"/>
              <a:ext cx="2896920" cy="22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1e21f"/>
                  </a:solidFill>
                  <a:latin typeface="Verdana"/>
                </a:rPr>
                <a:t>Отслеживание</a:t>
              </a:r>
              <a:r>
                <a:rPr b="1" lang="en-US" sz="2000" spc="-1" strike="noStrike">
                  <a:solidFill>
                    <a:srgbClr val="f1e21f"/>
                  </a:solidFill>
                  <a:latin typeface="Verdan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1e21f"/>
                  </a:solidFill>
                  <a:latin typeface="Verdana"/>
                </a:rPr>
                <a:t>и оценка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удовлетворенность клиентов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контроль качеств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проверк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компетентности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аудиты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5" name="_s1032"/>
            <p:cNvSpPr/>
            <p:nvPr/>
          </p:nvSpPr>
          <p:spPr>
            <a:xfrm>
              <a:off x="3582000" y="4735800"/>
              <a:ext cx="243756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1e21f"/>
                  </a:solidFill>
                  <a:latin typeface="Verdana"/>
                  <a:ea typeface="Times New Roman"/>
                </a:rPr>
                <a:t>План корректирующих действий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6" name="_s1033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1e21f"/>
                  </a:solidFill>
                  <a:latin typeface="Verdana"/>
                </a:rPr>
                <a:t>План по улучшению качеств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27" name="Text Box 65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Непрерывное улучшение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6C1F5-D327-4FEF-9761-AC6C75CCC1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Text Box 2"/>
          <p:cNvSpPr/>
          <p:nvPr/>
        </p:nvSpPr>
        <p:spPr>
          <a:xfrm>
            <a:off x="685800" y="914400"/>
            <a:ext cx="7696080" cy="489420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Verdana"/>
              </a:rPr>
              <a:t>«Важно не то, что вы обнаружили…,  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Verdana"/>
              </a:rPr>
              <a:t>важно то, что вы сделали с тем, что вы обнаружили"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Филип Кросб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6840" y="1181160"/>
            <a:ext cx="839484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ажная роль оценки – в отслеживании эффективности системы управления качеством в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 внешние, и внутренние аудиты дают полезную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 результатам оценки выявляют корневые причины проблем и проводят корректирующие действ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3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0F4FB-3B91-40CE-9B11-335F8EE5BD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4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2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се лаборатории должны организовать программу внутренних аудитов. При регулярном проведении программа будет предоставлять информацию для непрерывного улучш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блемы превратятся в возможности для улучш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7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A4480-6057-41B7-8D66-65F8E2D11C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3CFAA-D624-4CC9-9B46-0540580FF9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041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1042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3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4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5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6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7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8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9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0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1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2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3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4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5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56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057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058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059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0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061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062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63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064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5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66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067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1068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9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070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71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72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1073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4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75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6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77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1078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9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80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81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1082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3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84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1085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6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87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8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9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90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1091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2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93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1094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5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96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1097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8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099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BBC4B-73F0-48BB-AE94-E0B9DB255B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75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676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7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8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9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0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1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2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3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6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7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8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9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90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691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692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693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94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95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96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7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698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9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00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701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702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3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04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05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06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707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08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09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0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11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712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3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14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15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716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7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18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719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0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21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2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3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24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725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6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27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728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9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30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731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32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733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6840" y="452520"/>
            <a:ext cx="791532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ценка –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Аудит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22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истематический анализ некоторых (или всех) составных частей системы качеств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ответствие требования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6" name="Picture 34" descr="spy_guy"/>
          <p:cNvPicPr/>
          <p:nvPr/>
        </p:nvPicPr>
        <p:blipFill>
          <a:blip r:embed="rId1"/>
          <a:stretch/>
        </p:blipFill>
        <p:spPr>
          <a:xfrm>
            <a:off x="1752480" y="39625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737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6516E-37FE-4FC1-A728-4B2D514E71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Footer Placeholder 6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9" name="Picture 1" descr=""/>
          <p:cNvPicPr/>
          <p:nvPr/>
        </p:nvPicPr>
        <p:blipFill>
          <a:blip r:embed="rId2"/>
          <a:stretch/>
        </p:blipFill>
        <p:spPr>
          <a:xfrm>
            <a:off x="4114800" y="3535200"/>
            <a:ext cx="3084480" cy="286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ubOvalCallout"/>
          <p:cNvSpPr/>
          <p:nvPr/>
        </p:nvSpPr>
        <p:spPr>
          <a:xfrm>
            <a:off x="457200" y="1523880"/>
            <a:ext cx="6172200" cy="4953240"/>
          </a:xfrm>
          <a:custGeom>
            <a:avLst/>
            <a:gdLst>
              <a:gd name="textAreaLeft" fmla="*/ 903600 w 6172200"/>
              <a:gd name="textAreaRight" fmla="*/ 5268600 w 6172200"/>
              <a:gd name="textAreaTop" fmla="*/ 544320 h 4953240"/>
              <a:gd name="textAreaBottom" fmla="*/ 3173040 h 495324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8"/>
                </a:lnTo>
                <a:cubicBezTo>
                  <a:pt x="9991" y="16192"/>
                  <a:pt x="10395" y="16210"/>
                  <a:pt x="10800" y="16210"/>
                </a:cubicBezTo>
                <a:cubicBezTo>
                  <a:pt x="16764" y="16210"/>
                  <a:pt x="21600" y="12581"/>
                  <a:pt x="21600" y="8105"/>
                </a:cubicBezTo>
                <a:cubicBezTo>
                  <a:pt x="21600" y="3628"/>
                  <a:pt x="16764" y="0"/>
                  <a:pt x="10800" y="0"/>
                </a:cubicBezTo>
                <a:cubicBezTo>
                  <a:pt x="4835" y="0"/>
                  <a:pt x="0" y="3628"/>
                  <a:pt x="0" y="8105"/>
                </a:cubicBezTo>
                <a:cubicBezTo>
                  <a:pt x="-1" y="10568"/>
                  <a:pt x="1493" y="12898"/>
                  <a:pt x="4057" y="14436"/>
                </a:cubicBezTo>
                <a:lnTo>
                  <a:pt x="12321" y="21600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такое оценка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1447560" y="1905120"/>
            <a:ext cx="4647960" cy="64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Verdana"/>
              </a:rPr>
              <a:t>Спрашивают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3" name="Picture 5" descr="j0234625"/>
          <p:cNvPicPr/>
          <p:nvPr/>
        </p:nvPicPr>
        <p:blipFill>
          <a:blip r:embed="rId1"/>
          <a:stretch/>
        </p:blipFill>
        <p:spPr>
          <a:xfrm>
            <a:off x="6516720" y="2438280"/>
            <a:ext cx="2322360" cy="2590920"/>
          </a:xfrm>
          <a:prstGeom prst="rect">
            <a:avLst/>
          </a:prstGeom>
          <a:ln w="0">
            <a:noFill/>
          </a:ln>
        </p:spPr>
      </p:pic>
      <p:sp>
        <p:nvSpPr>
          <p:cNvPr id="744" name="Text Box 6"/>
          <p:cNvSpPr/>
          <p:nvPr/>
        </p:nvSpPr>
        <p:spPr>
          <a:xfrm>
            <a:off x="1219320" y="2600280"/>
            <a:ext cx="5486400" cy="20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  <a:ea typeface="Arial"/>
              </a:rPr>
              <a:t>Что делается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  <a:ea typeface="Arial"/>
              </a:rPr>
              <a:t>Соответствует ли это задокументированным правилам и процедурам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8E38E-30A5-4CAE-A8FC-F61764787F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Footer Placeholder 7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6840" y="525240"/>
            <a:ext cx="791532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ля чего проводят оценку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6840" y="1592280"/>
            <a:ext cx="80010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нять, «где мы находимся»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отношении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явить расхожд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учить информацию дл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96760" indent="-4395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ланирования и внедр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6760" indent="-4395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трол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6760" indent="-4395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ерывного улучш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C80D0-CBD8-48F1-9099-DE40F0521F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Footer Placeholder 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1" name="Picture 4" descr="MCBD19903_0000[1]"/>
          <p:cNvPicPr/>
          <p:nvPr/>
        </p:nvPicPr>
        <p:blipFill>
          <a:blip r:embed="rId1"/>
          <a:stretch/>
        </p:blipFill>
        <p:spPr>
          <a:xfrm>
            <a:off x="7086600" y="2873520"/>
            <a:ext cx="1905120" cy="177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2" name="Group 14"/>
          <p:cNvGrpSpPr/>
          <p:nvPr/>
        </p:nvGrpSpPr>
        <p:grpSpPr>
          <a:xfrm>
            <a:off x="685800" y="1219320"/>
            <a:ext cx="4495680" cy="4876560"/>
            <a:chOff x="685800" y="1219320"/>
            <a:chExt cx="4495680" cy="4876560"/>
          </a:xfrm>
        </p:grpSpPr>
        <p:pic>
          <p:nvPicPr>
            <p:cNvPr id="753" name="Picture 5" descr="lab_design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4495680" cy="48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Text Box 12"/>
            <p:cNvSpPr/>
            <p:nvPr/>
          </p:nvSpPr>
          <p:spPr>
            <a:xfrm>
              <a:off x="3803400" y="2560680"/>
              <a:ext cx="115200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5" name="TextBox 17"/>
            <p:cNvSpPr/>
            <p:nvPr/>
          </p:nvSpPr>
          <p:spPr>
            <a:xfrm>
              <a:off x="1357200" y="5286240"/>
              <a:ext cx="6303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биохим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серолог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6" name="TextBox 18"/>
            <p:cNvSpPr/>
            <p:nvPr/>
          </p:nvSpPr>
          <p:spPr>
            <a:xfrm>
              <a:off x="2688480" y="5384880"/>
              <a:ext cx="100980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комната ожидан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7" name="TextBox 19"/>
            <p:cNvSpPr/>
            <p:nvPr/>
          </p:nvSpPr>
          <p:spPr>
            <a:xfrm>
              <a:off x="2483280" y="4621320"/>
              <a:ext cx="76428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регистратура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8" name="TextBox 20"/>
            <p:cNvSpPr/>
            <p:nvPr/>
          </p:nvSpPr>
          <p:spPr>
            <a:xfrm>
              <a:off x="2192760" y="3795840"/>
              <a:ext cx="72936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гематолог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9" name="TextBox 21"/>
            <p:cNvSpPr/>
            <p:nvPr/>
          </p:nvSpPr>
          <p:spPr>
            <a:xfrm>
              <a:off x="4411440" y="5478480"/>
              <a:ext cx="46404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туалет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0" name="TextBox 22"/>
            <p:cNvSpPr/>
            <p:nvPr/>
          </p:nvSpPr>
          <p:spPr>
            <a:xfrm>
              <a:off x="4383000" y="4538520"/>
              <a:ext cx="5727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забор проб крови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1" name="TextBox 23"/>
            <p:cNvSpPr/>
            <p:nvPr/>
          </p:nvSpPr>
          <p:spPr>
            <a:xfrm>
              <a:off x="3871800" y="3838680"/>
              <a:ext cx="922320" cy="41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забор гинекологических проб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2" name="TextBox 24"/>
            <p:cNvSpPr/>
            <p:nvPr/>
          </p:nvSpPr>
          <p:spPr>
            <a:xfrm>
              <a:off x="4084560" y="2843280"/>
              <a:ext cx="66816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запасы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3" name="TextBox 25"/>
            <p:cNvSpPr/>
            <p:nvPr/>
          </p:nvSpPr>
          <p:spPr>
            <a:xfrm>
              <a:off x="4084560" y="1797120"/>
              <a:ext cx="66816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офис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4" name="TextBox 26"/>
            <p:cNvSpPr/>
            <p:nvPr/>
          </p:nvSpPr>
          <p:spPr>
            <a:xfrm>
              <a:off x="3002040" y="1612800"/>
              <a:ext cx="59832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ванная комната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5" name="TextBox 27"/>
            <p:cNvSpPr/>
            <p:nvPr/>
          </p:nvSpPr>
          <p:spPr>
            <a:xfrm>
              <a:off x="825480" y="4079880"/>
              <a:ext cx="8377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бактериолог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паразитолог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6" name="TextBox 28"/>
            <p:cNvSpPr/>
            <p:nvPr/>
          </p:nvSpPr>
          <p:spPr>
            <a:xfrm>
              <a:off x="1735200" y="2843280"/>
              <a:ext cx="45360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мойка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7" name="TextBox 29"/>
            <p:cNvSpPr/>
            <p:nvPr/>
          </p:nvSpPr>
          <p:spPr>
            <a:xfrm>
              <a:off x="2582640" y="2873520"/>
              <a:ext cx="6062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Verdana"/>
                </a:rPr>
                <a:t>приготовление сред</a:t>
              </a:r>
              <a:endParaRPr b="0" lang="en-US" sz="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8" name="TextBox 30"/>
            <p:cNvSpPr/>
            <p:nvPr/>
          </p:nvSpPr>
          <p:spPr>
            <a:xfrm>
              <a:off x="884160" y="2843280"/>
              <a:ext cx="547560" cy="33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стерилизац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9" name="TextBox 31"/>
            <p:cNvSpPr/>
            <p:nvPr/>
          </p:nvSpPr>
          <p:spPr>
            <a:xfrm>
              <a:off x="1060200" y="1712880"/>
              <a:ext cx="574560" cy="32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комната ночного дежурного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0" name="TextBox 32"/>
            <p:cNvSpPr/>
            <p:nvPr/>
          </p:nvSpPr>
          <p:spPr>
            <a:xfrm>
              <a:off x="1960560" y="1725480"/>
              <a:ext cx="4870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комната персонала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1" name="TextBox 33"/>
            <p:cNvSpPr/>
            <p:nvPr/>
          </p:nvSpPr>
          <p:spPr>
            <a:xfrm rot="5400000">
              <a:off x="3197880" y="3565800"/>
              <a:ext cx="55260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коридор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72" name="Rectangle 3"/>
          <p:cNvSpPr/>
          <p:nvPr/>
        </p:nvSpPr>
        <p:spPr>
          <a:xfrm>
            <a:off x="5867280" y="2133720"/>
            <a:ext cx="2971800" cy="38098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3" name="Oval 4"/>
          <p:cNvSpPr/>
          <p:nvPr/>
        </p:nvSpPr>
        <p:spPr>
          <a:xfrm>
            <a:off x="5867280" y="2514600"/>
            <a:ext cx="2971800" cy="28195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нешняя группа или ведомств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Text Box 6"/>
          <p:cNvSpPr/>
          <p:nvPr/>
        </p:nvSpPr>
        <p:spPr>
          <a:xfrm>
            <a:off x="5867280" y="83808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Внешний ауди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Text Box 13"/>
          <p:cNvSpPr/>
          <p:nvPr/>
        </p:nvSpPr>
        <p:spPr>
          <a:xfrm>
            <a:off x="1523880" y="1600200"/>
            <a:ext cx="2743200" cy="990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Внутренний ауди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6" name="Line 14"/>
          <p:cNvSpPr/>
          <p:nvPr/>
        </p:nvSpPr>
        <p:spPr>
          <a:xfrm flipH="1">
            <a:off x="4419360" y="380988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7" name="Line 15"/>
          <p:cNvSpPr/>
          <p:nvPr/>
        </p:nvSpPr>
        <p:spPr>
          <a:xfrm flipH="1">
            <a:off x="4343400" y="228600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8" name="Line 16"/>
          <p:cNvSpPr/>
          <p:nvPr/>
        </p:nvSpPr>
        <p:spPr>
          <a:xfrm flipH="1" flipV="1">
            <a:off x="4343400" y="5257800"/>
            <a:ext cx="1447920" cy="5335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Text Box 17"/>
          <p:cNvSpPr/>
          <p:nvPr/>
        </p:nvSpPr>
        <p:spPr>
          <a:xfrm>
            <a:off x="685800" y="914400"/>
            <a:ext cx="44956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Лаборатория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0" name="AutoShape 19"/>
          <p:cNvSpPr/>
          <p:nvPr/>
        </p:nvSpPr>
        <p:spPr>
          <a:xfrm rot="5400000">
            <a:off x="1066680" y="312408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AutoShape 20"/>
          <p:cNvSpPr/>
          <p:nvPr/>
        </p:nvSpPr>
        <p:spPr>
          <a:xfrm rot="13572000">
            <a:off x="2895480" y="472392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Slide Number Placeholder 1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B0DEA-0552-4413-A79F-547F242A69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Footer Placeholder 13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Footer Placeholder 3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5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EB721-62E5-418B-9BCE-32E74DD55D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86" name="Picture 2" descr="elderly_patient_doc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787" name="AutoShape 3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8" name="AutoShape 4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Text Box 5"/>
          <p:cNvSpPr/>
          <p:nvPr/>
        </p:nvSpPr>
        <p:spPr>
          <a:xfrm>
            <a:off x="762120" y="45720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ехнологическая цепоч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Text Box 6"/>
          <p:cNvSpPr/>
          <p:nvPr/>
        </p:nvSpPr>
        <p:spPr>
          <a:xfrm>
            <a:off x="990720" y="144792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анализ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AutoShape 7"/>
          <p:cNvSpPr/>
          <p:nvPr/>
        </p:nvSpPr>
        <p:spPr>
          <a:xfrm>
            <a:off x="2286000" y="1447920"/>
            <a:ext cx="1066680" cy="380880"/>
          </a:xfrm>
          <a:custGeom>
            <a:avLst/>
            <a:gdLst>
              <a:gd name="textAreaLeft" fmla="*/ 133200 w 1066680"/>
              <a:gd name="textAreaRight" fmla="*/ 933480 w 10666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AutoShape 8"/>
          <p:cNvSpPr/>
          <p:nvPr/>
        </p:nvSpPr>
        <p:spPr>
          <a:xfrm>
            <a:off x="5334120" y="1447920"/>
            <a:ext cx="1218960" cy="380880"/>
          </a:xfrm>
          <a:custGeom>
            <a:avLst/>
            <a:gdLst>
              <a:gd name="textAreaLeft" fmla="*/ 152280 w 1218960"/>
              <a:gd name="textAreaRight" fmla="*/ 1066680 w 12189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3" name="Text Box 9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бор проб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4" name="Text Box 10"/>
          <p:cNvSpPr/>
          <p:nvPr/>
        </p:nvSpPr>
        <p:spPr>
          <a:xfrm>
            <a:off x="5715000" y="23623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ировка проб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Text Box 11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ный анал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Text Box 12"/>
          <p:cNvSpPr/>
          <p:nvPr/>
        </p:nvSpPr>
        <p:spPr>
          <a:xfrm>
            <a:off x="6400800" y="50292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ление отче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7" name="Text Box 13"/>
          <p:cNvSpPr/>
          <p:nvPr/>
        </p:nvSpPr>
        <p:spPr>
          <a:xfrm>
            <a:off x="3733920" y="50292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отче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8" name="AutoShape 14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Text Box 15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до исследова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Text Box 16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претация результат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после исследова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5T12:33:11Z</dcterms:modified>
  <cp:revision>187</cp:revision>
  <dc:subject/>
  <dc:title>Slide 1</dc:title>
</cp:coreProperties>
</file>