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png" ContentType="image/png"/>
  <Override PartName="/ppt/media/image19.png" ContentType="image/png"/>
  <Override PartName="/ppt/media/image17.wmf" ContentType="image/x-wmf"/>
  <Override PartName="/ppt/media/image16.jpeg" ContentType="image/jpeg"/>
  <Override PartName="/ppt/media/image35.wmf" ContentType="image/x-wmf"/>
  <Override PartName="/ppt/media/image7.jpeg" ContentType="image/jpeg"/>
  <Override PartName="/ppt/media/image28.jpeg" ContentType="image/jpeg"/>
  <Override PartName="/ppt/media/image34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6.png" ContentType="image/png"/>
  <Override PartName="/ppt/media/image5.jpeg" ContentType="image/jpeg"/>
  <Override PartName="/ppt/media/image32.jpeg" ContentType="image/jpeg"/>
  <Override PartName="/ppt/media/image20.wmf" ContentType="image/x-wmf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dt" idx="3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ftr" idx="3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 type="sldNum" idx="3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92D3-5AFF-4ACD-8D99-B4E07EC5C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87E0-E675-46D8-8149-A83DAD8E0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19CF-2761-4746-85A8-963470346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1943-8F69-4ED8-8B19-C51679EEE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. Приложение, ссылки на литерату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04C0-16A1-4433-BD5A-AC224D65D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0DA6-1C17-41D7-A559-8D05564F1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55AB3BA-4913-4734-95B1-891A99421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28B2-77DC-4C2A-9AC5-C77FE15F0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473C4D6-2B9E-49F2-A1C6-53D97371A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9CB0-A43B-4D22-AB11-B2CACD894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13C6F8C-4D8C-411C-9246-58B533759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FEC4-838A-4986-8709-86B820639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72C71F2-87D0-48AD-B4F7-614269261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A239-C2FF-4460-9296-5E0A77F56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2034-4551-43FF-95DB-77DC0601D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5184719-89F2-461F-8566-17E8FFDB4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7229-7325-460B-8EE5-3875F61AD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38A5-4931-4BC2-962B-9E869C72B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DC2E62E-376F-485F-8D79-837A4831A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A346-3318-4C74-BEB7-516ED1FD0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5A88-645E-486D-81AB-1C84D0A5A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8A7DF34-A1DF-41D3-9DE5-3F3492223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шлитесь на проблемную ситуаци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ИТЕ: Какие показатели вы выбер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УДИ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аточное обучение персонала новому методу. Удовлетворенность клиентов.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atisfaction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компетентности. Своевременность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57FC-252E-4C79-AF83-EB8640AF4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2EC5-6F72-4CBD-8D33-20C7FD2F7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с использованием Бережливости в прилож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14C9-9B48-4EEE-8E68-3B0CBD2E7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4B51-3661-4009-A8F0-A510D53D7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7D62-9103-48A3-A6F8-7E3A19B74A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5971-1C39-4B96-BB60-8ED77A941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74CEEB1-6A06-45A2-8DF0-DACF2F217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ьте В. Эдвардса Деминга – одного из гигантов каче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ожение 15-А содержит все 14 принц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5D0B-2747-43B4-8435-934532853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EFA5-BDB4-4920-9498-6DA0BF43A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953D-C655-4EFB-A246-E68136A65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FB1E233-3653-44CF-8661-4BD8DA1D4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1F936-D584-4168-9E99-F761BDB20C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C5D72-0FC2-43D2-8B1F-3C67B314738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A6965D-C0B7-40EB-8F0C-C4023B3496C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9BC2E5-C35F-440B-9E8B-51981E758A0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F3A477-E8B0-42D4-87FF-A46496811FD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8C3CFB-3675-4313-B860-BA85DCC1888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0AFF3D-D96E-4F47-AE70-41E604B83EF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CE225C-8B2E-4CAC-BE94-6787C1FEC5C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7B616C-9F51-4C62-AE00-0FD981143A0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F09534-E743-42DC-809F-0216F9E670C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FF6B5C-71F0-4510-8E24-044630150B0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CCD187-ED08-45B1-9765-2062AAD213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BC4CD-0C6A-4078-B680-AF2618E9AF6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018A43-D402-4694-8123-4CB6CB13715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9554E3-BAFB-404F-964D-1E0C9E6527E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41819A-58BC-4B31-B9E0-BDC37A5E564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BF09E8-A754-46D6-A5EB-ACBE8CF525E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7598CE-7592-44B0-84ED-4677AF5C211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CDB734-B7E5-44D9-B5BF-18515D61E72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F83C18-EE7C-4FA1-82E0-98876202809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CE01DF-73FD-457E-95CD-C70DE8F7DE6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CEED58-4956-4B80-995A-555463A637F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124EAF-7525-4934-A6DA-74FF9894FA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1342A-93A3-4DDE-891D-F0FD542AFC5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39849F-488E-4797-929B-1CBAAF84EAA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966BB-4548-4BAF-B088-91DE1C48554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DF42F-1E52-4770-975E-0BA8D929097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2983D-FC97-4F98-A143-A74D7FAC200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BAAAE-5796-4074-A563-1E20CDCC48B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2A8D6-5A82-4F64-915F-AB2B5EC8E7D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69D80-6798-4C91-B03F-08B9D549786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D215C-7C14-4B62-8E2B-2A2DD923776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DC0FB-0B95-4A50-A126-C0356F829D5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D68A1-4719-412B-950C-8CAD398E0B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9125-5210-4F72-B21D-4A1556DF804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C209F-DC1C-428F-A7F1-FC8523FFB66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BD1DB-D71A-49EE-9CE1-A37C51453A2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AF051-E34E-4E70-A56A-58BA5F133E3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F6D66F-FB9A-438E-8D5D-5ED5E2F3A66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C6AE6C-3FEB-4E97-859E-4C96EB97AAD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C7476F-33AB-4F82-B3C8-86F17D11309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229A74-7A14-47A2-B8A5-3A9F7691AFC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E59941-BEC2-4565-9D70-773F8F97F3B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AA9863-943C-442C-AC04-1CF9086BD8E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15A30F-FFD9-4383-AF1D-9E70D5FC87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F1B5-F4AC-471F-A027-CB27FEAFD3C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E6F0F4-DA36-4F11-B272-ED27613DC7D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7F69FF-6CE8-44E5-9F52-C114AEEF2A9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7048C1-983C-42F6-A72D-137409285F4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D5493D-F014-440B-9F33-29A77B90206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E8B663-033E-48EA-80FA-B8BD6762B98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A13CD4-CBEB-47A1-8E22-6342081A440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3B3793-B5CA-4425-9475-1A928E81D8E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C152E3-8D1F-40CE-B424-84B7A93A77A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EC7F67-82C9-4793-8DC8-103594012DC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F98EBB-55CF-487E-AB0C-6018B7B240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78EC-DD4E-4686-A41F-186212FD01A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0CB11D-F888-4DF0-9C79-436CBC57262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29047D-5D94-45D0-9B91-29ADBB7F2B6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456236-82FA-49D0-93CA-3F1E1FB0AE7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96CCA5-BCA4-480A-A053-4B3520E67F5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14B8FB-0B50-49B9-A616-4187F23996B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A5444D-1E0E-45B5-905F-1852C8E99E6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4B75A6-E4FF-467F-8222-9776523A658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26C187-9C90-48ED-89F8-45B05AAA8F1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79F5B3-3AD4-4888-86A9-5811A16EF26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C96A3-BC80-42C9-9A2A-A4176D7A61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3A6E-AF99-4254-8D50-1606350B7FA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7002FF-D443-40C7-9049-7A1545A6BD9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14E97-D329-4A0F-A469-8B84298BBD4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3D5259-5FDF-4374-A477-4B34558C7B2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B3D3C0-511D-4DE8-8426-DAD727250DB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79A745-02AA-4CF0-A478-3312E082581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D7FAF-B7A2-441F-8C45-B7503FCAD84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511D4-E8DF-4D30-BBB3-2B76DB9522A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0A4A8A-BB49-4553-89D1-ACEE16B2194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13707-EEBD-4880-8AEE-BD2EB521262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115956-FC85-4264-BDB1-6DDA0EB299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8A9A-8AF5-4FB3-8B69-F39BD846FAB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6177508-16E0-4B79-A15D-795803B9594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55E93D-51BE-42B4-9E0D-6A851799D0E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5B8062-59BE-4C39-86AC-C59EAB72D58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1A8ECF-9F10-4680-BE19-9639B8A6B76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7D0910-69DD-48EE-9558-B3504208E50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1AAB7C-BCEE-4DF4-B6DA-74ECC099A9D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AAC185-B419-4DC0-BEE3-6FF4A6F7512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9B1EBA-1A73-4E79-9B91-288CDD607EE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27D458-3545-49E2-8839-D3693977D27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AC9865-F588-4BB1-B3B4-681804062C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4E76-CF57-48E5-B08C-1865D8CE4201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84EA3F-CC44-43AB-BF18-F93C020DF2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ED64-D2BC-412D-BE57-ABC2C50864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0C100-AAB6-4A3E-A304-4CCE43864E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C361-A115-4708-AFEB-D5132ECBF7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F028-DA98-4775-9118-48CCB31759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4BD4-092E-4FD7-8A83-C3D01CF200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6ED7-2948-458D-BBD9-C74D5B934E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5259-69EB-4D8F-B1F7-2559BDA4FE7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F8A35-B774-4687-A868-993EF132A38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07C66-531C-40B4-9A74-46108AF9067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B789A-6E2F-4B2B-B6C7-13FA29D9991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27EAF-F0DF-493F-8524-2C75A83EFBD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2BE02-95FA-432D-BB31-87227AA47F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F77F6-8DA9-440A-B0D5-E7677651CDF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E60DB-ABA2-48E9-AF5E-7D6C18B3FD7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8717C-B0AF-48CD-95D8-5657D168F1D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8F23A-4F99-4214-936A-BA39BA375B0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BC751-5624-4864-A5F9-E550A38069B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9B5A4-6912-4DEF-9EC5-781D21821C7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CFB63-444C-4CF9-81FC-82473D7DBBB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14066-BFC6-4861-A23E-2FE3B25191B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7A2B4B-CB46-429E-8CD2-D84ABFF3B0C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D9B0A2-D9AB-4FAA-87C5-AF32B2E4A64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4B8663-E66A-494B-A504-2C5E4076F3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4580D-88AD-47FF-94B3-B9457A939AC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90D3B6-EA99-4A9D-9313-C3B2B7C1CB1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3A71BF-BF11-4D89-8C59-BA87012C86E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1001F9-39EF-4A97-86DB-2B7D1E77A59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3A1679-B2DE-4B03-9535-58F623E7D13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559B63-943F-40E4-A097-B02D8D0829B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B8FA37-561A-4129-90DF-6E7ED76DB5B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0E889A-1861-4804-A483-A05C5B05613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7A03EA-B711-461B-A2CE-DC3D559D656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B72B78-D941-4C91-8522-55051E49838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91CBB-5E96-466B-8DC0-1054460FC2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CEA3E-4020-4E4E-9EDE-B0396F321D0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3929B-857D-413D-9D76-F474E3E8FC7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D3D0C-6B3D-4F16-BD0B-B83429DE0E0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70139-D0AC-47D5-A657-9624BDC4205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FC581-644A-47E2-81E5-76B6C4532F4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818F0-1719-4A0D-B86D-2C1C0139752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4ECB4-D2A7-4165-9679-511C1542E0F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3AECC-ECCD-4D31-B6C5-9CF6C36D0B6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2AFC8-84D8-44AE-AEAD-4A66E7D83F0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D2B71-2A91-4F44-AD3A-AFA893F1BD5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6B170-CA8E-49BF-806F-E836225328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19FEB-9A2D-44F1-AA88-D381E135C1B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8CF75-AA6C-4F15-94C5-4B6BA00D3EE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467B8A-852F-44DF-80BF-2C3F0D35DBF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C80253-765D-435A-9256-D2D5243BABE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F2CD47-1785-4B09-A1E0-840A1E714D2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2F8E37-4A37-427C-BA50-D37630F1E47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25CC92-7CB6-42CA-AF2F-6CEAB3E2E92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53F939-C08D-4084-8959-9517DF3B05D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FD6FAE-AFBA-40D7-B9A2-E8D280F51CE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DC301B-1217-41C0-84AC-F463B36804F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DDD977-B8CB-4D96-B4DC-3A8635B156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AAFED-1C0C-4D92-9843-9FCE8C34003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F2C8C8-B08B-4D56-817C-2D74C0238DB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4BD665-27E9-4B29-9784-6BC2BC6FA7F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6095AA-E9A4-4C50-B673-D1B73916BF2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42ECF9-A5F7-4FD9-BAB1-4F59627F2F3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BEF988-D601-412B-8F3E-03DD48286C6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4F6144-C149-4595-9360-07DABCE2FE4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A78FF9-D4B5-40C4-A85D-67B653FE379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8E68A8-E653-4FEE-A2ED-37C0CB8254D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3F847E-65B7-4F1A-A175-BBD1DA74183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0D67BF-A49A-402A-91D6-D0E1AEC5B3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E16BB-9F9F-4DC9-B007-3C3C3A940DD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A93C80-C763-49CB-8166-4B43C4433A9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62CEDC-134E-45F5-B5A0-07A845052D9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6E591C-5895-4B43-B3B7-B110A5541C7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6B6FC5-4A7C-4EAF-975D-6706DB680F4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F69505-86C0-4EB6-8263-ECA18538D59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F9569-F3E3-4153-8B14-ADE468D817C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AC696-9CF1-4C25-A4B3-9B771F31B42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916AF-124E-4469-996B-EB9CC03306E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D0874-3568-4887-AB5F-70EF14982D2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147F7-7554-403C-BCB2-0B4E6EE6BA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01BE5-2770-404A-B7A1-743CBBF9B65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24268-88FD-4DA5-BF14-59A8E54E443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C1F30-82A8-4316-9C0B-245242B286F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BBE40-7FF3-4E6A-9EDB-E38D4E98C72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673BA-55E8-452F-8DCE-CE0BE6C338A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1C8E6-DB85-4D73-82F2-D66B57C1F64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22399-9A01-46BA-9066-AFF941F5BD1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C19CA-E570-4A87-897E-D0B6CCDAD31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56B73B-0969-43F7-82DA-25ECE4A7E55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0967BC-5DFF-4C10-B40C-494344C62E8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4F920E-00FC-46BF-9C26-5D139E81E2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5159-A14E-4C5D-BDB4-895A7D43E2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ftr" idx="1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1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642E-A53F-4C6D-8B9E-472FB7C279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20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sldNum" idx="21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E9D5-C6EE-4E71-AF44-A26C7218E8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ftr" idx="22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sldNum" idx="2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CE4D-1205-427A-B798-D9B445B820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ftr" idx="2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sldNum" idx="2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B7BD-0731-495A-81F5-5164E3DCA1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ftr" idx="2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sldNum" idx="2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C02C-7DCF-4952-8CD1-60267ED902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ftr" idx="2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sldNum" idx="2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A195-5AE8-4644-B393-A6DC404782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03B1-1469-49DB-A3C0-68FA09AB86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B5FB-6DD4-4514-A7FE-F05F500E37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3C53-41F7-443A-B26E-207653B6E8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EF42-80F1-46C2-AA8B-8517932934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ftr" idx="10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sldNum" idx="11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9B22-21C2-4298-AFB6-F5AA290B52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ftr" idx="12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sldNum" idx="1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7CD8-35DE-465A-AACF-8AA23C0874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D3C4-0FEC-4655-A88E-4234B6B230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ftr" idx="1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sldNum" idx="1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7017-EABA-453D-AC80-A52B6E9CBB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6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76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Text Box 16"/>
          <p:cNvSpPr/>
          <p:nvPr/>
        </p:nvSpPr>
        <p:spPr>
          <a:xfrm>
            <a:off x="3200400" y="2209680"/>
            <a:ext cx="518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лучшение процес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0287-9A33-4540-8081-6E9A9497BF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Picture 4" descr="j0399245"/>
          <p:cNvPicPr/>
          <p:nvPr/>
        </p:nvPicPr>
        <p:blipFill>
          <a:blip r:embed="rId1"/>
          <a:stretch/>
        </p:blipFill>
        <p:spPr>
          <a:xfrm>
            <a:off x="4495680" y="1219320"/>
            <a:ext cx="3353040" cy="24717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9" descr="lab pic"/>
          <p:cNvPicPr/>
          <p:nvPr/>
        </p:nvPicPr>
        <p:blipFill>
          <a:blip r:embed="rId2"/>
          <a:stretch/>
        </p:blipFill>
        <p:spPr>
          <a:xfrm>
            <a:off x="1219320" y="1219320"/>
            <a:ext cx="3289320" cy="23493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0" descr="Equipment_3"/>
          <p:cNvPicPr/>
          <p:nvPr/>
        </p:nvPicPr>
        <p:blipFill>
          <a:blip r:embed="rId3"/>
          <a:srcRect l="0" t="0" r="16286" b="0"/>
          <a:stretch/>
        </p:blipFill>
        <p:spPr>
          <a:xfrm>
            <a:off x="4114800" y="3276720"/>
            <a:ext cx="3733920" cy="3047760"/>
          </a:xfrm>
          <a:prstGeom prst="rect">
            <a:avLst/>
          </a:prstGeom>
          <a:ln w="0">
            <a:noFill/>
          </a:ln>
        </p:spPr>
      </p:pic>
      <p:sp>
        <p:nvSpPr>
          <p:cNvPr id="931" name="Text Box 11"/>
          <p:cNvSpPr/>
          <p:nvPr/>
        </p:nvSpPr>
        <p:spPr>
          <a:xfrm>
            <a:off x="1143000" y="32004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2"/>
          <p:cNvSpPr/>
          <p:nvPr/>
        </p:nvSpPr>
        <p:spPr>
          <a:xfrm>
            <a:off x="1219320" y="3276720"/>
            <a:ext cx="3276360" cy="304776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тимизаци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странств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ремен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ля улучшения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транственно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рганизации процесс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4"/>
          <p:cNvSpPr/>
          <p:nvPr/>
        </p:nvSpPr>
        <p:spPr>
          <a:xfrm>
            <a:off x="457200" y="1182600"/>
            <a:ext cx="4267080" cy="642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Бережлив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Content Placeholder 106514"/>
          <p:cNvGrpSpPr/>
          <p:nvPr/>
        </p:nvGrpSpPr>
        <p:grpSpPr>
          <a:xfrm>
            <a:off x="2438280" y="1822320"/>
            <a:ext cx="4876560" cy="3206520"/>
            <a:chOff x="2438280" y="1822320"/>
            <a:chExt cx="4876560" cy="3206520"/>
          </a:xfrm>
        </p:grpSpPr>
        <p:sp>
          <p:nvSpPr>
            <p:cNvPr id="935" name="_s3076"/>
            <p:cNvSpPr/>
            <p:nvPr/>
          </p:nvSpPr>
          <p:spPr>
            <a:xfrm>
              <a:off x="3218400" y="1822320"/>
              <a:ext cx="3315600" cy="2180160"/>
            </a:xfrm>
            <a:custGeom>
              <a:avLst/>
              <a:gdLst>
                <a:gd name="textAreaLeft" fmla="*/ 485640 w 3315600"/>
                <a:gd name="textAreaRight" fmla="*/ 2829960 w 3315600"/>
                <a:gd name="textAreaTop" fmla="*/ 319320 h 2180160"/>
                <a:gd name="textAreaBottom" fmla="*/ 1860840 h 218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_s3077"/>
            <p:cNvSpPr/>
            <p:nvPr/>
          </p:nvSpPr>
          <p:spPr>
            <a:xfrm rot="5400000">
              <a:off x="4566960" y="1767600"/>
              <a:ext cx="2180160" cy="3315600"/>
            </a:xfrm>
            <a:custGeom>
              <a:avLst/>
              <a:gdLst>
                <a:gd name="textAreaLeft" fmla="*/ 319320 w 2180160"/>
                <a:gd name="textAreaRight" fmla="*/ 1860840 w 2180160"/>
                <a:gd name="textAreaTop" fmla="*/ 485640 h 3315600"/>
                <a:gd name="textAreaBottom" fmla="*/ 2829960 h 331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_s3078"/>
            <p:cNvSpPr/>
            <p:nvPr/>
          </p:nvSpPr>
          <p:spPr>
            <a:xfrm rot="10800000">
              <a:off x="3218400" y="2848320"/>
              <a:ext cx="3315600" cy="2180160"/>
            </a:xfrm>
            <a:custGeom>
              <a:avLst/>
              <a:gdLst>
                <a:gd name="textAreaLeft" fmla="*/ 485640 w 3315600"/>
                <a:gd name="textAreaRight" fmla="*/ 2829960 w 3315600"/>
                <a:gd name="textAreaTop" fmla="*/ 319320 h 2180160"/>
                <a:gd name="textAreaBottom" fmla="*/ 1860840 h 218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_s3079"/>
            <p:cNvSpPr/>
            <p:nvPr/>
          </p:nvSpPr>
          <p:spPr>
            <a:xfrm rot="16200000">
              <a:off x="3006000" y="1767960"/>
              <a:ext cx="2180160" cy="3315600"/>
            </a:xfrm>
            <a:custGeom>
              <a:avLst/>
              <a:gdLst>
                <a:gd name="textAreaLeft" fmla="*/ 319320 w 2180160"/>
                <a:gd name="textAreaRight" fmla="*/ 1860840 w 2180160"/>
                <a:gd name="textAreaTop" fmla="*/ 485640 h 3315600"/>
                <a:gd name="textAreaBottom" fmla="*/ 2829960 h 331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8a8ae6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_s3080"/>
            <p:cNvSpPr/>
            <p:nvPr/>
          </p:nvSpPr>
          <p:spPr>
            <a:xfrm>
              <a:off x="5759640" y="202248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_s3081"/>
            <p:cNvSpPr/>
            <p:nvPr/>
          </p:nvSpPr>
          <p:spPr>
            <a:xfrm>
              <a:off x="2746440" y="400788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_s3082"/>
            <p:cNvSpPr/>
            <p:nvPr/>
          </p:nvSpPr>
          <p:spPr>
            <a:xfrm>
              <a:off x="2742480" y="202500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_s3083"/>
            <p:cNvSpPr/>
            <p:nvPr/>
          </p:nvSpPr>
          <p:spPr>
            <a:xfrm>
              <a:off x="5761440" y="400500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Text Box 29"/>
          <p:cNvSpPr/>
          <p:nvPr/>
        </p:nvSpPr>
        <p:spPr>
          <a:xfrm>
            <a:off x="45720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овые инструменты улуч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43C0-17B4-4D0D-8511-0F1C0C2850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6" name="Picture 6" descr="lean_5_spag"/>
          <p:cNvPicPr/>
          <p:nvPr/>
        </p:nvPicPr>
        <p:blipFill>
          <a:blip r:embed="rId1"/>
          <a:stretch/>
        </p:blipFill>
        <p:spPr>
          <a:xfrm>
            <a:off x="4724280" y="1447920"/>
            <a:ext cx="4191120" cy="48006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4" descr="lean_4_spag"/>
          <p:cNvPicPr/>
          <p:nvPr/>
        </p:nvPicPr>
        <p:blipFill>
          <a:blip r:embed="rId2"/>
          <a:stretch/>
        </p:blipFill>
        <p:spPr>
          <a:xfrm>
            <a:off x="533520" y="1523880"/>
            <a:ext cx="4343400" cy="4724640"/>
          </a:xfrm>
          <a:prstGeom prst="rect">
            <a:avLst/>
          </a:prstGeom>
          <a:ln w="0">
            <a:noFill/>
          </a:ln>
        </p:spPr>
      </p:pic>
      <p:sp>
        <p:nvSpPr>
          <p:cNvPr id="948" name="Text Box 5"/>
          <p:cNvSpPr/>
          <p:nvPr/>
        </p:nvSpPr>
        <p:spPr>
          <a:xfrm>
            <a:off x="533520" y="533520"/>
            <a:ext cx="83818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ути передвижения лаборанта во время выполнения работы при культивировании 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7"/>
          <p:cNvSpPr/>
          <p:nvPr/>
        </p:nvSpPr>
        <p:spPr>
          <a:xfrm>
            <a:off x="533520" y="1143000"/>
            <a:ext cx="8381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До «Бережливости»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             </a:t>
            </a: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После «Бережливос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533160" y="1523520"/>
            <a:ext cx="784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Шесть сиг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428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  <a:ea typeface="Verdana"/>
              </a:rPr>
              <a:t>Формальная структура планирования проектов для внедрения изменений и улучшений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439D-F4ED-4116-9B87-6763AF7472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Picture 9" descr="six-sigma"/>
          <p:cNvPicPr/>
          <p:nvPr/>
        </p:nvPicPr>
        <p:blipFill>
          <a:blip r:embed="rId1"/>
          <a:stretch/>
        </p:blipFill>
        <p:spPr>
          <a:xfrm>
            <a:off x="4400640" y="4191120"/>
            <a:ext cx="2990880" cy="20001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54" name="Text Box 29"/>
          <p:cNvSpPr/>
          <p:nvPr/>
        </p:nvSpPr>
        <p:spPr>
          <a:xfrm>
            <a:off x="45720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овые инструменты улуч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D33C-CA58-4A32-9117-DF6BF405C4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руктура в «Шести сигмах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ссы организованы так, чтобы помочь  в принятии решений для непрерывного улучш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овер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преде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змер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нализиру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лучш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9" name="Picture 8" descr="six_sigma_idea"/>
          <p:cNvPicPr/>
          <p:nvPr/>
        </p:nvPicPr>
        <p:blipFill>
          <a:blip r:embed="rId1"/>
          <a:stretch/>
        </p:blipFill>
        <p:spPr>
          <a:xfrm>
            <a:off x="5276880" y="2743200"/>
            <a:ext cx="3570120" cy="3581280"/>
          </a:xfrm>
          <a:prstGeom prst="rect">
            <a:avLst/>
          </a:prstGeom>
          <a:ln w="0">
            <a:noFill/>
          </a:ln>
        </p:spPr>
      </p:pic>
      <p:sp>
        <p:nvSpPr>
          <p:cNvPr id="960" name="AutoShape 6"/>
          <p:cNvSpPr/>
          <p:nvPr/>
        </p:nvSpPr>
        <p:spPr>
          <a:xfrm rot="16863600">
            <a:off x="3222720" y="3022200"/>
            <a:ext cx="4343400" cy="213372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285840 h 2133720"/>
              <a:gd name="textAreaBottom" fmla="*/ 18478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101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1"/>
          <p:cNvSpPr/>
          <p:nvPr/>
        </p:nvSpPr>
        <p:spPr>
          <a:xfrm>
            <a:off x="6381720" y="3429000"/>
            <a:ext cx="13143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ров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8"/>
          <p:cNvSpPr/>
          <p:nvPr/>
        </p:nvSpPr>
        <p:spPr>
          <a:xfrm>
            <a:off x="7237080" y="4038480"/>
            <a:ext cx="13924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пред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9"/>
          <p:cNvSpPr/>
          <p:nvPr/>
        </p:nvSpPr>
        <p:spPr>
          <a:xfrm>
            <a:off x="7130880" y="4964040"/>
            <a:ext cx="14796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Изм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10"/>
          <p:cNvSpPr/>
          <p:nvPr/>
        </p:nvSpPr>
        <p:spPr>
          <a:xfrm>
            <a:off x="5486400" y="4979880"/>
            <a:ext cx="17906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Анализиру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11"/>
          <p:cNvSpPr/>
          <p:nvPr/>
        </p:nvSpPr>
        <p:spPr>
          <a:xfrm>
            <a:off x="5486400" y="3973680"/>
            <a:ext cx="15238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Улуч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B665-D886-43E0-91DE-A6DC265A35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33160" y="464760"/>
            <a:ext cx="6019560" cy="6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Что есть качество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9" name="Rectangle 3"/>
          <p:cNvSpPr/>
          <p:nvPr/>
        </p:nvSpPr>
        <p:spPr>
          <a:xfrm>
            <a:off x="609480" y="113040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«Качество – э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оответствие требованиям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доброкачественн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тонченн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».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Picture 4" descr="Philip Crosby photo"/>
          <p:cNvPicPr/>
          <p:nvPr/>
        </p:nvPicPr>
        <p:blipFill>
          <a:blip r:embed="rId1"/>
          <a:stretch/>
        </p:blipFill>
        <p:spPr>
          <a:xfrm>
            <a:off x="533520" y="3429000"/>
            <a:ext cx="1993680" cy="2590920"/>
          </a:xfrm>
          <a:prstGeom prst="rect">
            <a:avLst/>
          </a:prstGeom>
          <a:ln w="0">
            <a:noFill/>
          </a:ln>
        </p:spPr>
      </p:pic>
      <p:sp>
        <p:nvSpPr>
          <p:cNvPr id="971" name="Text Box 5"/>
          <p:cNvSpPr/>
          <p:nvPr/>
        </p:nvSpPr>
        <p:spPr>
          <a:xfrm>
            <a:off x="2590920" y="3809880"/>
            <a:ext cx="5029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лип Кросб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тыре основных принципа управления каче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A808-0C9E-4C96-A03A-CE2428B6BD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5345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пределение показателя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становленный критерий, используемый для определения того, насколько хорошо организация выполняет запросы и соответствует ожиданиям по проведению работы.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9001: 2000 (5.4.1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; 8.4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15189:200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(4.12.4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680D-DF6C-413D-8FBB-9F8A72A353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448920"/>
            <a:ext cx="59436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Таким образом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…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 каче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дают информацию об эффективности рабо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пределяют кач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ыявляют проблемные участ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пределяют участки, которые необходимо дополнительно изучи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ледят за динамикой изменени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D46F-1C5C-4BB2-8B06-F51BD858F3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ля оценки работы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80520" y="1174320"/>
            <a:ext cx="853452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лучше меньше показателей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ивяжите к факторам, требующимся для успех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снованы на потребностях клиентов и других заинтересованных сторо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ачните с руководства и двигайтесь вниз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заменяйте в соответствии с внешними переменами и изменениями в стратег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станавливайте цели и задачи на основе исследований, а не на произвольных оценк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Марк Грэм Брау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26B9-28CE-41FD-8B9D-96088B3C2C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осемь шагов на пути разработки работающих показател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762120" y="1568160"/>
            <a:ext cx="441936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цел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метод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еделы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интерпретац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гранич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едставление информа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лан действи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лан заверш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8" name="Picture 4" descr="j0427771"/>
          <p:cNvPicPr/>
          <p:nvPr/>
        </p:nvPicPr>
        <p:blipFill>
          <a:blip r:embed="rId1"/>
          <a:stretch/>
        </p:blipFill>
        <p:spPr>
          <a:xfrm>
            <a:off x="5192640" y="1676520"/>
            <a:ext cx="3570480" cy="4419360"/>
          </a:xfrm>
          <a:prstGeom prst="rect">
            <a:avLst/>
          </a:prstGeom>
          <a:ln w="57240">
            <a:solidFill>
              <a:srgbClr val="00007d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F5D8-6256-4955-9F7B-6066202FB7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БОЛЬШОЙ СЕКРЕТ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ля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команды по показателям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228600" y="2437920"/>
            <a:ext cx="4572000" cy="31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овлеките народ, который делает работу, потому что они знают, что они делают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3" name="Picture 8" descr="laboratory_botswana"/>
          <p:cNvPicPr/>
          <p:nvPr/>
        </p:nvPicPr>
        <p:blipFill>
          <a:blip r:embed="rId1"/>
          <a:srcRect l="0" t="0" r="30479" b="0"/>
          <a:stretch/>
        </p:blipFill>
        <p:spPr>
          <a:xfrm>
            <a:off x="5029200" y="2133720"/>
            <a:ext cx="35784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24AA-2708-4861-9EE3-6EBDC9EA18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533520" y="1441080"/>
            <a:ext cx="822960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 окончании данной части курса участники смогу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ередать историю улучшения процесс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бъяснить значение улучшения процессов для поддержания качеств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бъяснить потребность в средствах контроля лабораторных процесс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Rectangle 2"/>
          <p:cNvSpPr/>
          <p:nvPr/>
        </p:nvSpPr>
        <p:spPr>
          <a:xfrm>
            <a:off x="457200" y="43704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6E13-21F3-469E-817C-EDAEA05673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4902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арактеристик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997" name="Diagram 25"/>
          <p:cNvGrpSpPr/>
          <p:nvPr/>
        </p:nvGrpSpPr>
        <p:grpSpPr>
          <a:xfrm>
            <a:off x="457200" y="1143000"/>
            <a:ext cx="8457840" cy="5159160"/>
            <a:chOff x="457200" y="1143000"/>
            <a:chExt cx="8457840" cy="5159160"/>
          </a:xfrm>
        </p:grpSpPr>
        <p:sp>
          <p:nvSpPr>
            <p:cNvPr id="998" name="AutoShape 26"/>
            <p:cNvSpPr/>
            <p:nvPr/>
          </p:nvSpPr>
          <p:spPr>
            <a:xfrm>
              <a:off x="457200" y="1143000"/>
              <a:ext cx="8457840" cy="5159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_s4100"/>
            <p:cNvSpPr/>
            <p:nvPr/>
          </p:nvSpPr>
          <p:spPr>
            <a:xfrm flipH="1" flipV="1">
              <a:off x="2941920" y="2920320"/>
              <a:ext cx="798120" cy="39780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_s4101"/>
            <p:cNvSpPr/>
            <p:nvPr/>
          </p:nvSpPr>
          <p:spPr>
            <a:xfrm>
              <a:off x="837720" y="1524240"/>
              <a:ext cx="2890440" cy="1523880"/>
            </a:xfrm>
            <a:prstGeom prst="ellipse">
              <a:avLst/>
            </a:prstGeom>
            <a:solidFill>
              <a:srgbClr val="8989e5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ривяз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ко времен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раткосрочные и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долгосрочн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_s4102"/>
            <p:cNvSpPr/>
            <p:nvPr/>
          </p:nvSpPr>
          <p:spPr>
            <a:xfrm flipH="1">
              <a:off x="2552760" y="3863160"/>
              <a:ext cx="989280" cy="1465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_s4103"/>
            <p:cNvSpPr/>
            <p:nvPr/>
          </p:nvSpPr>
          <p:spPr>
            <a:xfrm>
              <a:off x="609120" y="3200400"/>
              <a:ext cx="2363040" cy="1294200"/>
            </a:xfrm>
            <a:prstGeom prst="ellipse">
              <a:avLst/>
            </a:prstGeom>
            <a:solidFill>
              <a:srgbClr val="7a7acc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хватывающ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все уровн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_s4104"/>
            <p:cNvSpPr/>
            <p:nvPr/>
          </p:nvSpPr>
          <p:spPr>
            <a:xfrm flipH="1">
              <a:off x="3047040" y="4344840"/>
              <a:ext cx="681120" cy="9367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_s4105"/>
            <p:cNvSpPr/>
            <p:nvPr/>
          </p:nvSpPr>
          <p:spPr>
            <a:xfrm>
              <a:off x="837720" y="4724280"/>
              <a:ext cx="2896200" cy="1287000"/>
            </a:xfrm>
            <a:prstGeom prst="ellipse">
              <a:avLst/>
            </a:prstGeom>
            <a:solidFill>
              <a:srgbClr val="8282d9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Сбалансиров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полный цик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_s4106"/>
            <p:cNvSpPr/>
            <p:nvPr/>
          </p:nvSpPr>
          <p:spPr>
            <a:xfrm>
              <a:off x="4978440" y="4300200"/>
              <a:ext cx="532440" cy="75528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_s4108"/>
            <p:cNvSpPr/>
            <p:nvPr/>
          </p:nvSpPr>
          <p:spPr>
            <a:xfrm>
              <a:off x="5524920" y="3863160"/>
              <a:ext cx="992880" cy="14256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_s4109"/>
            <p:cNvSpPr/>
            <p:nvPr/>
          </p:nvSpPr>
          <p:spPr>
            <a:xfrm>
              <a:off x="5854320" y="3809520"/>
              <a:ext cx="2984400" cy="1294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нтерпретируе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конкрет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_s4110"/>
            <p:cNvSpPr/>
            <p:nvPr/>
          </p:nvSpPr>
          <p:spPr>
            <a:xfrm flipV="1">
              <a:off x="5326920" y="2744640"/>
              <a:ext cx="1120680" cy="57384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_s4111"/>
            <p:cNvSpPr/>
            <p:nvPr/>
          </p:nvSpPr>
          <p:spPr>
            <a:xfrm>
              <a:off x="6079320" y="1903680"/>
              <a:ext cx="2488680" cy="1288800"/>
            </a:xfrm>
            <a:prstGeom prst="ellipse">
              <a:avLst/>
            </a:pr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Доступ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четко очерчен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_s4112"/>
            <p:cNvSpPr/>
            <p:nvPr/>
          </p:nvSpPr>
          <p:spPr>
            <a:xfrm flipV="1">
              <a:off x="4533840" y="2477520"/>
              <a:ext cx="468720" cy="6001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_s4113"/>
            <p:cNvSpPr/>
            <p:nvPr/>
          </p:nvSpPr>
          <p:spPr>
            <a:xfrm>
              <a:off x="3886200" y="1218240"/>
              <a:ext cx="2193120" cy="1290960"/>
            </a:xfrm>
            <a:prstGeom prst="ellipse">
              <a:avLst/>
            </a:pr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змеряе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бъектив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_s4114"/>
            <p:cNvSpPr/>
            <p:nvPr/>
          </p:nvSpPr>
          <p:spPr>
            <a:xfrm>
              <a:off x="3429360" y="2742840"/>
              <a:ext cx="2513520" cy="20574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Хорошие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показатели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качества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_s4107"/>
            <p:cNvSpPr/>
            <p:nvPr/>
          </p:nvSpPr>
          <p:spPr>
            <a:xfrm>
              <a:off x="4238280" y="4800600"/>
              <a:ext cx="2391480" cy="1425600"/>
            </a:xfrm>
            <a:prstGeom prst="ellipse">
              <a:avLst/>
            </a:prstGeom>
            <a:solidFill>
              <a:srgbClr val="8d8deb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уко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к действи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риентирова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на работ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7390-234A-4D53-842D-22BC490B33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5257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одведение итог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04920" y="1387440"/>
            <a:ext cx="853416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«Многие организации тратят тысячи часов на сбор и интерпретацию данных. Однако большая часть этого времени оказывается потраченной впустую, потому что анализируются неправильные измерения, что ведет к принятию неправильных решений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Text Box 4"/>
          <p:cNvSpPr/>
          <p:nvPr/>
        </p:nvSpPr>
        <p:spPr>
          <a:xfrm>
            <a:off x="990720" y="4648320"/>
            <a:ext cx="777240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арк Грэм Браун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Использование правильных метрик для достижения высокого класса работы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23096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Компьютерные показатели бессмыслиц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2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5FDB-054D-430A-A22B-F9C5E66A80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4"/>
          <p:cNvSpPr/>
          <p:nvPr/>
        </p:nvSpPr>
        <p:spPr>
          <a:xfrm>
            <a:off x="2721960" y="1839960"/>
            <a:ext cx="42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льтура моч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юкоз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"/>
          <p:cNvSpPr/>
          <p:nvPr/>
        </p:nvSpPr>
        <p:spPr>
          <a:xfrm>
            <a:off x="2590920" y="2322360"/>
            <a:ext cx="48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6"/>
          <p:cNvSpPr/>
          <p:nvPr/>
        </p:nvSpPr>
        <p:spPr>
          <a:xfrm>
            <a:off x="3062160" y="2398680"/>
            <a:ext cx="39481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тнес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Arial"/>
              </a:rPr>
              <a:t>ча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ефон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Arial"/>
              </a:rPr>
              <a:t>минут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7"/>
          <p:cNvSpPr/>
          <p:nvPr/>
        </p:nvSpPr>
        <p:spPr>
          <a:xfrm>
            <a:off x="7094160" y="200808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8"/>
          <p:cNvSpPr/>
          <p:nvPr/>
        </p:nvSpPr>
        <p:spPr>
          <a:xfrm>
            <a:off x="4724280" y="3697200"/>
            <a:ext cx="396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Только потому что компьютер может что</a:t>
            </a:r>
            <a:r>
              <a:rPr b="0" i="1" lang="ru-RU" sz="2800" spc="-1" strike="noStrike">
                <a:solidFill>
                  <a:srgbClr val="ff3300"/>
                </a:solidFill>
                <a:latin typeface="Verdana"/>
              </a:rPr>
              <a:t>-</a:t>
            </a: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то посчитать</a:t>
            </a:r>
            <a:r>
              <a:rPr b="1" i="1" lang="en-US" sz="2800" spc="-1" strike="noStrike">
                <a:solidFill>
                  <a:srgbClr val="ff3300"/>
                </a:solidFill>
                <a:latin typeface="Lucida Calligraphy"/>
              </a:rPr>
              <a:t>,</a:t>
            </a: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 это не значит, что это стоит делать</a:t>
            </a:r>
            <a:r>
              <a:rPr b="1" i="1" lang="en-US" sz="2800" spc="-1" strike="noStrike">
                <a:solidFill>
                  <a:srgbClr val="ff3300"/>
                </a:solidFill>
                <a:latin typeface="Lucida Calligraph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Picture 9" descr="j0290897[1]"/>
          <p:cNvPicPr/>
          <p:nvPr/>
        </p:nvPicPr>
        <p:blipFill>
          <a:blip r:embed="rId1"/>
          <a:stretch/>
        </p:blipFill>
        <p:spPr>
          <a:xfrm rot="20365800">
            <a:off x="609120" y="2398320"/>
            <a:ext cx="396252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Примеры показателей качеств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1029" name=""/>
          <p:cNvGraphicFramePr/>
          <p:nvPr/>
        </p:nvGraphicFramePr>
        <p:xfrm>
          <a:off x="380880" y="1160640"/>
          <a:ext cx="8458200" cy="5011560"/>
        </p:xfrm>
        <a:graphic>
          <a:graphicData uri="http://schemas.openxmlformats.org/drawingml/2006/table">
            <a:tbl>
              <a:tblPr/>
              <a:tblGrid>
                <a:gridCol w="2076480"/>
                <a:gridCol w="1781280"/>
                <a:gridCol w="2595600"/>
                <a:gridCol w="2004840"/>
              </a:tblGrid>
              <a:tr h="132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исте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Исследование</a:t>
                      </a:r>
                      <a:r>
                        <a:rPr b="0" lang="en-US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сл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35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 соответствие запроса на анал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дентификации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правильность анализов, выполненных рядом с пациен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отчеты о критических значениях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время обор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удовлетворенность медицинского персо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нформации о проб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корреляция цитологии и биопсии шейки ма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удовлетворенность медицинского персо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полнительные сообщения от мед.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полнительные сообщения от мед.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мониторинг диабета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скрининг гиперлипидем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контаминация культур кров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0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5EA5-1837-4FA3-B6AE-91489F5EB1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Object 4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772400" cy="4475160"/>
          </a:xfrm>
          <a:prstGeom prst="rect">
            <a:avLst/>
          </a:prstGeom>
          <a:ln w="0">
            <a:noFill/>
          </a:ln>
        </p:spPr>
      </p:pic>
      <p:sp>
        <p:nvSpPr>
          <p:cNvPr id="1033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75BF-3F62-4FD3-9FD4-8AEC2899AB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8"/>
          <p:cNvSpPr/>
          <p:nvPr/>
        </p:nvSpPr>
        <p:spPr>
          <a:xfrm>
            <a:off x="2438280" y="4572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9"/>
          <p:cNvSpPr/>
          <p:nvPr/>
        </p:nvSpPr>
        <p:spPr>
          <a:xfrm>
            <a:off x="533520" y="5335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ычно отслеживаемые показател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%)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11"/>
          <p:cNvSpPr/>
          <p:nvPr/>
        </p:nvSpPr>
        <p:spPr>
          <a:xfrm>
            <a:off x="685800" y="5562720"/>
            <a:ext cx="77724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сылка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Hilborne L. Developing a core set of laboratory based quality indicators.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QLM Conference; 2005 Apr 29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зработка основного набора показателей качества для лаборатории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924B-686A-481E-8263-68F3F83B5A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4076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Осторожно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еоретическ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, привязанные к результатам лечения пациентов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являютс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аиболее информативны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о их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уднее всего измеря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лишком много перемен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ебуется большое количество данны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ебуется собирать в течение длительного време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2" name="Text Box 4"/>
          <p:cNvSpPr/>
          <p:nvPr/>
        </p:nvSpPr>
        <p:spPr>
          <a:xfrm>
            <a:off x="838080" y="4724280"/>
            <a:ext cx="784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vid H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dicare Quality Improvement, Bad Apples or Bad Systems?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лучшение качества системы медицинского обслуживания пенсионеров, плохие яблоки или плохая система?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AMA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2003;289:354-35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Oval 2"/>
          <p:cNvSpPr/>
          <p:nvPr/>
        </p:nvSpPr>
        <p:spPr>
          <a:xfrm>
            <a:off x="4952880" y="1600200"/>
            <a:ext cx="3962520" cy="3733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4" name="Diagram 3"/>
          <p:cNvGrpSpPr/>
          <p:nvPr/>
        </p:nvGrpSpPr>
        <p:grpSpPr>
          <a:xfrm>
            <a:off x="4674240" y="1371600"/>
            <a:ext cx="4465800" cy="4572000"/>
            <a:chOff x="4674240" y="1371600"/>
            <a:chExt cx="4465800" cy="4572000"/>
          </a:xfrm>
        </p:grpSpPr>
        <p:sp>
          <p:nvSpPr>
            <p:cNvPr id="1045" name="AutoShape 4"/>
            <p:cNvSpPr/>
            <p:nvPr/>
          </p:nvSpPr>
          <p:spPr>
            <a:xfrm>
              <a:off x="4876920" y="1371600"/>
              <a:ext cx="40575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_s5124"/>
            <p:cNvSpPr/>
            <p:nvPr/>
          </p:nvSpPr>
          <p:spPr>
            <a:xfrm>
              <a:off x="5595840" y="1714680"/>
              <a:ext cx="2621160" cy="2954160"/>
            </a:xfrm>
            <a:custGeom>
              <a:avLst/>
              <a:gdLst>
                <a:gd name="textAreaLeft" fmla="*/ 384120 w 2621160"/>
                <a:gd name="textAreaRight" fmla="*/ 2237040 w 2621160"/>
                <a:gd name="textAreaTop" fmla="*/ 433440 h 2954160"/>
                <a:gd name="textAreaBottom" fmla="*/ 2520720 h 295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_s5125"/>
            <p:cNvSpPr/>
            <p:nvPr/>
          </p:nvSpPr>
          <p:spPr>
            <a:xfrm rot="7200000">
              <a:off x="5788800" y="2578680"/>
              <a:ext cx="2954160" cy="2622600"/>
            </a:xfrm>
            <a:custGeom>
              <a:avLst/>
              <a:gdLst>
                <a:gd name="textAreaLeft" fmla="*/ 433440 w 2954160"/>
                <a:gd name="textAreaRight" fmla="*/ 2520720 w 2954160"/>
                <a:gd name="textAreaTop" fmla="*/ 384120 h 2622600"/>
                <a:gd name="textAreaBottom" fmla="*/ 2238480 h 262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_s5126"/>
            <p:cNvSpPr/>
            <p:nvPr/>
          </p:nvSpPr>
          <p:spPr>
            <a:xfrm rot="14400000">
              <a:off x="5070960" y="2581560"/>
              <a:ext cx="2954160" cy="2622600"/>
            </a:xfrm>
            <a:custGeom>
              <a:avLst/>
              <a:gdLst>
                <a:gd name="textAreaLeft" fmla="*/ 433440 w 2954160"/>
                <a:gd name="textAreaRight" fmla="*/ 2520720 w 2954160"/>
                <a:gd name="textAreaTop" fmla="*/ 384120 h 2622600"/>
                <a:gd name="textAreaBottom" fmla="*/ 2238480 h 262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_s5127"/>
            <p:cNvSpPr/>
            <p:nvPr/>
          </p:nvSpPr>
          <p:spPr>
            <a:xfrm>
              <a:off x="7624800" y="2255760"/>
              <a:ext cx="10526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_s5128"/>
            <p:cNvSpPr/>
            <p:nvPr/>
          </p:nvSpPr>
          <p:spPr>
            <a:xfrm>
              <a:off x="6380280" y="468324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_s5129"/>
            <p:cNvSpPr/>
            <p:nvPr/>
          </p:nvSpPr>
          <p:spPr>
            <a:xfrm>
              <a:off x="5135400" y="2255760"/>
              <a:ext cx="10526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Rectangle 13"/>
            <p:cNvSpPr/>
            <p:nvPr/>
          </p:nvSpPr>
          <p:spPr>
            <a:xfrm>
              <a:off x="5029200" y="253368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Verdana"/>
                </a:rPr>
                <a:t>Непрерывно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Verdana"/>
                </a:rPr>
                <a:t>улучшени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E2AF-9C86-4B8F-B05B-FC08305E10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сновные элементы внедрения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6" name="Rectangle 12"/>
          <p:cNvSpPr/>
          <p:nvPr/>
        </p:nvSpPr>
        <p:spPr>
          <a:xfrm>
            <a:off x="457200" y="129528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AutoShape 14"/>
          <p:cNvSpPr/>
          <p:nvPr/>
        </p:nvSpPr>
        <p:spPr>
          <a:xfrm>
            <a:off x="152280" y="1371600"/>
            <a:ext cx="4800600" cy="4495680"/>
          </a:xfrm>
          <a:prstGeom prst="rightArrowCallout">
            <a:avLst>
              <a:gd name="adj1" fmla="val 25002"/>
              <a:gd name="adj2" fmla="val 25000"/>
              <a:gd name="adj3" fmla="val 17797"/>
              <a:gd name="adj4" fmla="val 6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5"/>
          <p:cNvSpPr/>
          <p:nvPr/>
        </p:nvSpPr>
        <p:spPr>
          <a:xfrm>
            <a:off x="152280" y="1795320"/>
            <a:ext cx="3429000" cy="34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Приверж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План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Струк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Лиде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и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Вовлеч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Планирова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0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AE22-288E-4D06-B4BB-162FE8B8B4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tebulb"/>
          <p:cNvSpPr/>
          <p:nvPr/>
        </p:nvSpPr>
        <p:spPr>
          <a:xfrm>
            <a:off x="4952880" y="838080"/>
            <a:ext cx="4038840" cy="5257800"/>
          </a:xfrm>
          <a:custGeom>
            <a:avLst/>
            <a:gdLst>
              <a:gd name="textAreaLeft" fmla="*/ 664920 w 4038840"/>
              <a:gd name="textAreaRight" fmla="*/ 3417480 w 4038840"/>
              <a:gd name="textAreaTop" fmla="*/ 532440 h 5257800"/>
              <a:gd name="textAreaBottom" fmla="*/ 2259360 h 525780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8"/>
          <p:cNvSpPr/>
          <p:nvPr/>
        </p:nvSpPr>
        <p:spPr>
          <a:xfrm>
            <a:off x="0" y="1219320"/>
            <a:ext cx="53341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читывайте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орневые причины оши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правление рис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бои, потенциальные сбои и ситуации на грани оши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тоимость, выигрыш и приорит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цена без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9"/>
          <p:cNvSpPr/>
          <p:nvPr/>
        </p:nvSpPr>
        <p:spPr>
          <a:xfrm>
            <a:off x="6248520" y="1066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шибк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10"/>
          <p:cNvSpPr/>
          <p:nvPr/>
        </p:nvSpPr>
        <p:spPr>
          <a:xfrm>
            <a:off x="5334120" y="15238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бо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Picture 12" descr="j0424784"/>
          <p:cNvPicPr/>
          <p:nvPr/>
        </p:nvPicPr>
        <p:blipFill>
          <a:blip r:embed="rId6"/>
          <a:stretch/>
        </p:blipFill>
        <p:spPr>
          <a:xfrm>
            <a:off x="5334120" y="2362320"/>
            <a:ext cx="1774800" cy="1631880"/>
          </a:xfrm>
          <a:prstGeom prst="rect">
            <a:avLst/>
          </a:prstGeom>
          <a:ln w="0">
            <a:noFill/>
          </a:ln>
        </p:spPr>
      </p:pic>
      <p:sp>
        <p:nvSpPr>
          <p:cNvPr id="1067" name="Text Box 13"/>
          <p:cNvSpPr/>
          <p:nvPr/>
        </p:nvSpPr>
        <p:spPr>
          <a:xfrm>
            <a:off x="6858000" y="2443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игры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4"/>
          <p:cNvSpPr/>
          <p:nvPr/>
        </p:nvSpPr>
        <p:spPr>
          <a:xfrm>
            <a:off x="6400800" y="1828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иоритет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1D5B-FA9C-4425-A305-73FC858188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191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Лидерство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-360" y="1352520"/>
            <a:ext cx="61722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ет благоприятную среду для улучшени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ткрытость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му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 каждого могут быть ценные иде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верженность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му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 улучшения будут иметь мес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змож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м участвова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3" name="Picture 6" descr="10031_lores"/>
          <p:cNvPicPr/>
          <p:nvPr/>
        </p:nvPicPr>
        <p:blipFill>
          <a:blip r:embed="rId1"/>
          <a:srcRect l="4686" t="0" r="0" b="0"/>
          <a:stretch/>
        </p:blipFill>
        <p:spPr>
          <a:xfrm>
            <a:off x="6172200" y="1371600"/>
            <a:ext cx="2806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E6A9-623A-42C1-AE5F-A2332B0B92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114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аст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о не всегда знает, что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нают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лают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трудни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постоянного улучшения требуетс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идерств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частие коман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8" name="Picture 7" descr="j0216070"/>
          <p:cNvPicPr/>
          <p:nvPr/>
        </p:nvPicPr>
        <p:blipFill>
          <a:blip r:embed="rId1"/>
          <a:stretch/>
        </p:blipFill>
        <p:spPr>
          <a:xfrm>
            <a:off x="4876920" y="3809880"/>
            <a:ext cx="3962160" cy="24955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9" descr="PHIL_2104_lores"/>
          <p:cNvPicPr/>
          <p:nvPr/>
        </p:nvPicPr>
        <p:blipFill>
          <a:blip r:embed="rId2"/>
          <a:stretch/>
        </p:blipFill>
        <p:spPr>
          <a:xfrm>
            <a:off x="4876920" y="1219320"/>
            <a:ext cx="39621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6D3F-EF08-4C8E-A9EC-178E07ADF4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3200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914400" y="1162080"/>
            <a:ext cx="7238880" cy="34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ы внедрили в лаборатории новый анализ на СД4. Ваши сотрудники прошли обучение и уверенно выполняют эти анализы. Метод был проверен, отчеты с результатами выдаются, и «кажется», что анализ работает хорош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Text Box 4"/>
          <p:cNvSpPr/>
          <p:nvPr/>
        </p:nvSpPr>
        <p:spPr>
          <a:xfrm>
            <a:off x="457200" y="4581360"/>
            <a:ext cx="84582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к вы можете убедиться, что анализ хорошо работает в настоящем и будет так же хорошо работать в будущ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1E39-734F-4F61-B9DB-127D55AED3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3" name="Text Box 7"/>
          <p:cNvSpPr/>
          <p:nvPr/>
        </p:nvSpPr>
        <p:spPr>
          <a:xfrm>
            <a:off x="609480" y="1390680"/>
            <a:ext cx="75438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ин проект каждые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6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сяцев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график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Group 17"/>
          <p:cNvGrpSpPr/>
          <p:nvPr/>
        </p:nvGrpSpPr>
        <p:grpSpPr>
          <a:xfrm>
            <a:off x="228600" y="3063960"/>
            <a:ext cx="8686800" cy="3184560"/>
            <a:chOff x="228600" y="3063960"/>
            <a:chExt cx="8686800" cy="3184560"/>
          </a:xfrm>
        </p:grpSpPr>
        <p:pic>
          <p:nvPicPr>
            <p:cNvPr id="1085" name="Picture 10" descr="gantt-process-improvement"/>
            <p:cNvPicPr/>
            <p:nvPr/>
          </p:nvPicPr>
          <p:blipFill>
            <a:blip r:embed="rId1"/>
            <a:stretch/>
          </p:blipFill>
          <p:spPr>
            <a:xfrm>
              <a:off x="228600" y="3063960"/>
              <a:ext cx="8686800" cy="31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6" name="Text Box 11"/>
            <p:cNvSpPr/>
            <p:nvPr/>
          </p:nvSpPr>
          <p:spPr>
            <a:xfrm>
              <a:off x="228600" y="3505320"/>
              <a:ext cx="3505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ид рабо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13"/>
            <p:cNvSpPr/>
            <p:nvPr/>
          </p:nvSpPr>
          <p:spPr>
            <a:xfrm>
              <a:off x="304920" y="4430880"/>
              <a:ext cx="43434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. Сбор образцов – гематолог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14"/>
            <p:cNvSpPr/>
            <p:nvPr/>
          </p:nvSpPr>
          <p:spPr>
            <a:xfrm>
              <a:off x="304920" y="4811760"/>
              <a:ext cx="3276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. Время оборота ИФ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15"/>
            <p:cNvSpPr/>
            <p:nvPr/>
          </p:nvSpPr>
          <p:spPr>
            <a:xfrm>
              <a:off x="304920" y="5268960"/>
              <a:ext cx="4495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. Жалобы врачей – мазки на КУБ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16"/>
            <p:cNvSpPr/>
            <p:nvPr/>
          </p:nvSpPr>
          <p:spPr>
            <a:xfrm>
              <a:off x="304920" y="5638680"/>
              <a:ext cx="59227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. Контроль качества химического оборудован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2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045C-BC72-4C5C-96FE-F827998714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6"/>
          <p:cNvSpPr/>
          <p:nvPr/>
        </p:nvSpPr>
        <p:spPr>
          <a:xfrm>
            <a:off x="457200" y="1041480"/>
            <a:ext cx="8229600" cy="16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ействуйте командой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влек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отрудников-исполнителе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Picture 8" descr="5721_lores"/>
          <p:cNvPicPr/>
          <p:nvPr/>
        </p:nvPicPr>
        <p:blipFill>
          <a:blip r:embed="rId1"/>
          <a:srcRect l="26742" t="0" r="0" b="0"/>
          <a:stretch/>
        </p:blipFill>
        <p:spPr>
          <a:xfrm>
            <a:off x="4724280" y="2666880"/>
            <a:ext cx="3930840" cy="354960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9" descr="meeting_africa"/>
          <p:cNvPicPr/>
          <p:nvPr/>
        </p:nvPicPr>
        <p:blipFill>
          <a:blip r:embed="rId2"/>
          <a:srcRect l="28138" t="0" r="0" b="0"/>
          <a:stretch/>
        </p:blipFill>
        <p:spPr>
          <a:xfrm>
            <a:off x="1143000" y="2666880"/>
            <a:ext cx="37242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8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0372-1E3A-4575-8536-8C80755786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0" name="Picture 7" descr="j0316798"/>
          <p:cNvPicPr/>
          <p:nvPr/>
        </p:nvPicPr>
        <p:blipFill>
          <a:blip r:embed="rId1"/>
          <a:stretch/>
        </p:blipFill>
        <p:spPr>
          <a:xfrm>
            <a:off x="3657600" y="2590920"/>
            <a:ext cx="4648320" cy="3043080"/>
          </a:xfrm>
          <a:prstGeom prst="rect">
            <a:avLst/>
          </a:prstGeom>
          <a:ln w="0">
            <a:noFill/>
          </a:ln>
        </p:spPr>
      </p:pic>
      <p:sp>
        <p:nvSpPr>
          <p:cNvPr id="1101" name="Text Box 5"/>
          <p:cNvSpPr/>
          <p:nvPr/>
        </p:nvSpPr>
        <p:spPr>
          <a:xfrm>
            <a:off x="1371600" y="12193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Используйте инструменты ка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9"/>
          <p:cNvSpPr/>
          <p:nvPr/>
        </p:nvSpPr>
        <p:spPr>
          <a:xfrm>
            <a:off x="533520" y="2536920"/>
            <a:ext cx="380988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уд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на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каза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Шесть сиг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ережл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4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58BE-C368-42EC-A886-9609BE4613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6" name="Picture 13" descr="manuals"/>
          <p:cNvPicPr/>
          <p:nvPr/>
        </p:nvPicPr>
        <p:blipFill>
          <a:blip r:embed="rId1"/>
          <a:srcRect l="63519" t="15741" r="0" b="15741"/>
          <a:stretch/>
        </p:blipFill>
        <p:spPr>
          <a:xfrm>
            <a:off x="4800600" y="3809880"/>
            <a:ext cx="1996920" cy="2387880"/>
          </a:xfrm>
          <a:prstGeom prst="rect">
            <a:avLst/>
          </a:prstGeom>
          <a:ln w="0">
            <a:noFill/>
          </a:ln>
        </p:spPr>
      </p:pic>
      <p:sp>
        <p:nvSpPr>
          <p:cNvPr id="1107" name="Text Box 5"/>
          <p:cNvSpPr/>
          <p:nvPr/>
        </p:nvSpPr>
        <p:spPr>
          <a:xfrm>
            <a:off x="550800" y="1112760"/>
            <a:ext cx="7678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равляйте и предупреждайте неправильное выполнение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Picture 10" descr=""/>
          <p:cNvPicPr/>
          <p:nvPr/>
        </p:nvPicPr>
        <p:blipFill>
          <a:blip r:embed="rId2"/>
          <a:srcRect l="16994" t="4707" r="0" b="14122"/>
          <a:stretch/>
        </p:blipFill>
        <p:spPr>
          <a:xfrm>
            <a:off x="609480" y="1944720"/>
            <a:ext cx="3657600" cy="277956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7" descr="5749_thumb"/>
          <p:cNvPicPr/>
          <p:nvPr/>
        </p:nvPicPr>
        <p:blipFill>
          <a:blip r:embed="rId3"/>
          <a:stretch/>
        </p:blipFill>
        <p:spPr>
          <a:xfrm>
            <a:off x="6553080" y="1905120"/>
            <a:ext cx="2438640" cy="3200400"/>
          </a:xfrm>
          <a:prstGeom prst="rect">
            <a:avLst/>
          </a:prstGeom>
          <a:ln w="0">
            <a:noFill/>
          </a:ln>
        </p:spPr>
      </p:pic>
      <p:sp>
        <p:nvSpPr>
          <p:cNvPr id="1110" name="AutoShape 12"/>
          <p:cNvSpPr/>
          <p:nvPr/>
        </p:nvSpPr>
        <p:spPr>
          <a:xfrm>
            <a:off x="4038480" y="1905120"/>
            <a:ext cx="2819520" cy="2057400"/>
          </a:xfrm>
          <a:custGeom>
            <a:avLst/>
            <a:gdLst>
              <a:gd name="textAreaLeft" fmla="*/ 440280 w 2819520"/>
              <a:gd name="textAreaRight" fmla="*/ 2467080 w 2819520"/>
              <a:gd name="textAreaTop" fmla="*/ 51408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Oval 20"/>
          <p:cNvSpPr/>
          <p:nvPr/>
        </p:nvSpPr>
        <p:spPr>
          <a:xfrm>
            <a:off x="2514600" y="2743200"/>
            <a:ext cx="1523880" cy="1600200"/>
          </a:xfrm>
          <a:prstGeom prst="ellipse">
            <a:avLst/>
          </a:pr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5"/>
          <p:cNvSpPr/>
          <p:nvPr/>
        </p:nvSpPr>
        <p:spPr>
          <a:xfrm>
            <a:off x="533520" y="4724280"/>
            <a:ext cx="403848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читывайтесь о результатах руководству и сотрудни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456840" y="1218960"/>
            <a:ext cx="84582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изучения используйте доступную информацию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ложения и жалобы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ошибки, выявлен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программой п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управлению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нештатными ситуация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лемы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явлен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утренними аудит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3B44-3367-4E26-83D8-1C17D73DE1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7" name="Picture 9" descr="6216_thumb"/>
          <p:cNvPicPr/>
          <p:nvPr/>
        </p:nvPicPr>
        <p:blipFill>
          <a:blip r:embed="rId1"/>
          <a:stretch/>
        </p:blipFill>
        <p:spPr>
          <a:xfrm>
            <a:off x="6095880" y="2895480"/>
            <a:ext cx="2743200" cy="17827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0" descr="j0409007"/>
          <p:cNvPicPr/>
          <p:nvPr/>
        </p:nvPicPr>
        <p:blipFill>
          <a:blip r:embed="rId2"/>
          <a:stretch/>
        </p:blipFill>
        <p:spPr>
          <a:xfrm>
            <a:off x="5611680" y="3772080"/>
            <a:ext cx="1779840" cy="2666880"/>
          </a:xfrm>
          <a:prstGeom prst="rect">
            <a:avLst/>
          </a:prstGeom>
          <a:ln w="0">
            <a:noFill/>
          </a:ln>
        </p:spPr>
      </p:pic>
      <p:sp>
        <p:nvSpPr>
          <p:cNvPr id="1119" name="WordArt 11"/>
          <p:cNvSpPr txBox="1"/>
          <p:nvPr/>
        </p:nvSpPr>
        <p:spPr>
          <a:xfrm>
            <a:off x="6095880" y="55627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228600" y="1219320"/>
            <a:ext cx="8686800" cy="6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 возможности,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запланируйте исследование так, чтобы результаты были статистически обработаны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8B80-DA9F-42F4-B329-41274CE306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Group 3"/>
          <p:cNvGrpSpPr/>
          <p:nvPr/>
        </p:nvGrpSpPr>
        <p:grpSpPr>
          <a:xfrm>
            <a:off x="380880" y="2209680"/>
            <a:ext cx="8686800" cy="4058280"/>
            <a:chOff x="380880" y="2209680"/>
            <a:chExt cx="8686800" cy="4058280"/>
          </a:xfrm>
        </p:grpSpPr>
        <p:grpSp>
          <p:nvGrpSpPr>
            <p:cNvPr id="1125" name="Group 9"/>
            <p:cNvGrpSpPr/>
            <p:nvPr/>
          </p:nvGrpSpPr>
          <p:grpSpPr>
            <a:xfrm>
              <a:off x="380880" y="2209680"/>
              <a:ext cx="8686800" cy="4058280"/>
              <a:chOff x="380880" y="2209680"/>
              <a:chExt cx="8686800" cy="4058280"/>
            </a:xfrm>
          </p:grpSpPr>
          <p:pic>
            <p:nvPicPr>
              <p:cNvPr id="1126" name="Picture 6" descr="lean_6_pre"/>
              <p:cNvPicPr/>
              <p:nvPr/>
            </p:nvPicPr>
            <p:blipFill>
              <a:blip r:embed="rId1"/>
              <a:stretch/>
            </p:blipFill>
            <p:spPr>
              <a:xfrm>
                <a:off x="1066680" y="2209680"/>
                <a:ext cx="2959200" cy="297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7" name="Picture 7" descr="lean_7_post"/>
              <p:cNvPicPr/>
              <p:nvPr/>
            </p:nvPicPr>
            <p:blipFill>
              <a:blip r:embed="rId2"/>
              <a:stretch/>
            </p:blipFill>
            <p:spPr>
              <a:xfrm>
                <a:off x="5257800" y="2286000"/>
                <a:ext cx="2971800" cy="29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8" name="Rectangle 8"/>
              <p:cNvSpPr/>
              <p:nvPr/>
            </p:nvSpPr>
            <p:spPr>
              <a:xfrm>
                <a:off x="380880" y="5200560"/>
                <a:ext cx="426744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Verdana"/>
                  </a:rPr>
                  <a:t>Время выдачи окончательных положительных результатов анализов культур крови ДО применения «Бережливости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8"/>
              <p:cNvSpPr/>
              <p:nvPr/>
            </p:nvSpPr>
            <p:spPr>
              <a:xfrm>
                <a:off x="4570560" y="5192640"/>
                <a:ext cx="449712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Verdana"/>
                  </a:rPr>
                  <a:t>Время выдачи окончательных положительных результатов анализов культур крови ПОСЛЕ применения «Бережливости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0" name="TextBox 4"/>
            <p:cNvSpPr/>
            <p:nvPr/>
          </p:nvSpPr>
          <p:spPr>
            <a:xfrm>
              <a:off x="3047760" y="4284000"/>
              <a:ext cx="304560" cy="28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TextBox 14"/>
            <p:cNvSpPr/>
            <p:nvPr/>
          </p:nvSpPr>
          <p:spPr>
            <a:xfrm>
              <a:off x="6553080" y="4359960"/>
              <a:ext cx="380880" cy="28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TextBox 15"/>
            <p:cNvSpPr/>
            <p:nvPr/>
          </p:nvSpPr>
          <p:spPr>
            <a:xfrm>
              <a:off x="7391520" y="3401640"/>
              <a:ext cx="380880" cy="28728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Arial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Box 16"/>
            <p:cNvSpPr/>
            <p:nvPr/>
          </p:nvSpPr>
          <p:spPr>
            <a:xfrm>
              <a:off x="2087640" y="2872080"/>
              <a:ext cx="252000" cy="252000"/>
            </a:xfrm>
            <a:prstGeom prst="rect">
              <a:avLst/>
            </a:prstGeom>
            <a:solidFill>
              <a:srgbClr val="b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Box 17"/>
            <p:cNvSpPr/>
            <p:nvPr/>
          </p:nvSpPr>
          <p:spPr>
            <a:xfrm>
              <a:off x="1676160" y="3632400"/>
              <a:ext cx="411480" cy="252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TextBox 18"/>
            <p:cNvSpPr/>
            <p:nvPr/>
          </p:nvSpPr>
          <p:spPr>
            <a:xfrm>
              <a:off x="6120000" y="3383640"/>
              <a:ext cx="356760" cy="252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TextBox 19"/>
            <p:cNvSpPr/>
            <p:nvPr/>
          </p:nvSpPr>
          <p:spPr>
            <a:xfrm>
              <a:off x="3024000" y="2987280"/>
              <a:ext cx="323640" cy="28872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Arial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j0157047"/>
          <p:cNvPicPr/>
          <p:nvPr/>
        </p:nvPicPr>
        <p:blipFill>
          <a:blip r:embed="rId1"/>
          <a:stretch/>
        </p:blipFill>
        <p:spPr>
          <a:xfrm>
            <a:off x="5848200" y="1676520"/>
            <a:ext cx="2838600" cy="4800600"/>
          </a:xfrm>
          <a:prstGeom prst="rect">
            <a:avLst/>
          </a:prstGeom>
          <a:ln w="0">
            <a:noFill/>
          </a:ln>
        </p:spPr>
      </p:pic>
      <p:sp>
        <p:nvSpPr>
          <p:cNvPr id="113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EB7F-5647-4B71-9C3C-26A41BE6BD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оказатели качества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и сроки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655344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Используйте показател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ачества до тех пор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 о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стается информативным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2" name="Text Box 5"/>
          <p:cNvSpPr/>
          <p:nvPr/>
        </p:nvSpPr>
        <p:spPr>
          <a:xfrm>
            <a:off x="763920" y="4876920"/>
            <a:ext cx="52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Lucida Calligraphy"/>
              </a:rPr>
              <a:t>Не привязывайтесь 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Lucida Calligraphy"/>
              </a:rPr>
              <a:t>своим показателям</a:t>
            </a:r>
            <a:r>
              <a:rPr b="1" lang="en-US" sz="3600" spc="-1" strike="noStrike">
                <a:solidFill>
                  <a:srgbClr val="ff0000"/>
                </a:solidFill>
                <a:latin typeface="Lucida Calligraphy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C30A-4E18-496C-A9D1-06B65B42CA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ыводы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6" name="Oval 3"/>
          <p:cNvSpPr/>
          <p:nvPr/>
        </p:nvSpPr>
        <p:spPr>
          <a:xfrm>
            <a:off x="1143000" y="2209680"/>
            <a:ext cx="3657600" cy="3429000"/>
          </a:xfrm>
          <a:prstGeom prst="ellipse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Oval 4"/>
          <p:cNvSpPr/>
          <p:nvPr/>
        </p:nvSpPr>
        <p:spPr>
          <a:xfrm>
            <a:off x="1371600" y="1523880"/>
            <a:ext cx="28195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ланиру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Oval 5"/>
          <p:cNvSpPr/>
          <p:nvPr/>
        </p:nvSpPr>
        <p:spPr>
          <a:xfrm>
            <a:off x="3352680" y="2895480"/>
            <a:ext cx="2057400" cy="152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дел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Oval 6"/>
          <p:cNvSpPr/>
          <p:nvPr/>
        </p:nvSpPr>
        <p:spPr>
          <a:xfrm>
            <a:off x="76320" y="2895480"/>
            <a:ext cx="2743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Действу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7"/>
          <p:cNvSpPr/>
          <p:nvPr/>
        </p:nvSpPr>
        <p:spPr>
          <a:xfrm>
            <a:off x="1600200" y="4343400"/>
            <a:ext cx="2895480" cy="2133720"/>
          </a:xfrm>
          <a:custGeom>
            <a:avLst/>
            <a:gdLst>
              <a:gd name="textAreaLeft" fmla="*/ 775080 w 2895480"/>
              <a:gd name="textAreaRight" fmla="*/ 2120400 w 2895480"/>
              <a:gd name="textAreaTop" fmla="*/ 571320 h 2133720"/>
              <a:gd name="textAreaBottom" fmla="*/ 156240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О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ubRRectCallout"/>
          <p:cNvSpPr/>
          <p:nvPr/>
        </p:nvSpPr>
        <p:spPr>
          <a:xfrm>
            <a:off x="5257800" y="1143000"/>
            <a:ext cx="3581280" cy="2590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ждый этап важен для того, чтобы цикл качества рабо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2" name="Picture 11" descr="head"/>
          <p:cNvPicPr/>
          <p:nvPr/>
        </p:nvPicPr>
        <p:blipFill>
          <a:blip r:embed="rId1"/>
          <a:stretch/>
        </p:blipFill>
        <p:spPr>
          <a:xfrm>
            <a:off x="4913280" y="3657600"/>
            <a:ext cx="202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4EE2-BB55-47F6-9583-C35471E234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1629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сновные положения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250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ачество важ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стоянное улучшение – это центральная часть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72EB-712E-49F2-A604-80ECF97C48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160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161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0"/>
            <p:cNvSpPr/>
            <p:nvPr/>
          </p:nvSpPr>
          <p:spPr>
            <a:xfrm>
              <a:off x="2272320" y="3614040"/>
              <a:ext cx="291960" cy="33588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5880"/>
                <a:gd name="textAreaBottom" fmla="*/ 335880 h 33588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1"/>
            <p:cNvSpPr/>
            <p:nvPr/>
          </p:nvSpPr>
          <p:spPr>
            <a:xfrm>
              <a:off x="2272320" y="3614040"/>
              <a:ext cx="291960" cy="33588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5880"/>
                <a:gd name="textAreaBottom" fmla="*/ 335880 h 33588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6"/>
            <p:cNvSpPr/>
            <p:nvPr/>
          </p:nvSpPr>
          <p:spPr>
            <a:xfrm>
              <a:off x="1062720" y="3061440"/>
              <a:ext cx="152280" cy="975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Line 24"/>
            <p:cNvSpPr/>
            <p:nvPr/>
          </p:nvSpPr>
          <p:spPr>
            <a:xfrm flipH="1" flipV="1">
              <a:off x="2673000" y="5500440"/>
              <a:ext cx="10080" cy="432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27"/>
            <p:cNvSpPr/>
            <p:nvPr/>
          </p:nvSpPr>
          <p:spPr>
            <a:xfrm>
              <a:off x="4066920" y="1722600"/>
              <a:ext cx="1440" cy="35690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Line 27"/>
            <p:cNvSpPr/>
            <p:nvPr/>
          </p:nvSpPr>
          <p:spPr>
            <a:xfrm>
              <a:off x="2616840" y="1862640"/>
              <a:ext cx="0" cy="35690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Line 27"/>
            <p:cNvSpPr/>
            <p:nvPr/>
          </p:nvSpPr>
          <p:spPr>
            <a:xfrm>
              <a:off x="1095840" y="1904400"/>
              <a:ext cx="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Line 27"/>
            <p:cNvSpPr/>
            <p:nvPr/>
          </p:nvSpPr>
          <p:spPr>
            <a:xfrm flipH="1">
              <a:off x="816120" y="1766160"/>
              <a:ext cx="356436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5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176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177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178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Text Box 71"/>
              <p:cNvSpPr/>
              <p:nvPr/>
            </p:nvSpPr>
            <p:spPr>
              <a:xfrm>
                <a:off x="561600" y="159228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2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183" name="Freeform 73"/>
              <p:cNvSpPr/>
              <p:nvPr/>
            </p:nvSpPr>
            <p:spPr>
              <a:xfrm>
                <a:off x="2078640" y="1223640"/>
                <a:ext cx="1045080" cy="1035360"/>
              </a:xfrm>
              <a:custGeom>
                <a:avLst/>
                <a:gdLst>
                  <a:gd name="textAreaLeft" fmla="*/ 0 w 1045080"/>
                  <a:gd name="textAreaRight" fmla="*/ 1045440 w 10450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Text Box 74"/>
              <p:cNvSpPr/>
              <p:nvPr/>
            </p:nvSpPr>
            <p:spPr>
              <a:xfrm>
                <a:off x="2043360" y="15937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5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186" name="Group 76"/>
              <p:cNvGrpSpPr/>
              <p:nvPr/>
            </p:nvGrpSpPr>
            <p:grpSpPr>
              <a:xfrm>
                <a:off x="3536280" y="1223640"/>
                <a:ext cx="1048680" cy="1035360"/>
                <a:chOff x="3536280" y="1223640"/>
                <a:chExt cx="1048680" cy="1035360"/>
              </a:xfrm>
            </p:grpSpPr>
            <p:sp>
              <p:nvSpPr>
                <p:cNvPr id="1187" name="Freeform 77"/>
                <p:cNvSpPr/>
                <p:nvPr/>
              </p:nvSpPr>
              <p:spPr>
                <a:xfrm>
                  <a:off x="3536280" y="1223640"/>
                  <a:ext cx="1048680" cy="1035360"/>
                </a:xfrm>
                <a:custGeom>
                  <a:avLst/>
                  <a:gdLst>
                    <a:gd name="textAreaLeft" fmla="*/ 0 w 1048680"/>
                    <a:gd name="textAreaRight" fmla="*/ 1049040 w 104868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Freeform 78"/>
                <p:cNvSpPr/>
                <p:nvPr/>
              </p:nvSpPr>
              <p:spPr>
                <a:xfrm>
                  <a:off x="3536280" y="1223640"/>
                  <a:ext cx="1048680" cy="1035360"/>
                </a:xfrm>
                <a:custGeom>
                  <a:avLst/>
                  <a:gdLst>
                    <a:gd name="textAreaLeft" fmla="*/ 0 w 1048680"/>
                    <a:gd name="textAreaRight" fmla="*/ 1049040 w 104868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9" name="Text Box 79"/>
              <p:cNvSpPr/>
              <p:nvPr/>
            </p:nvSpPr>
            <p:spPr>
              <a:xfrm>
                <a:off x="3495240" y="159624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0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192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4" name="Freeform 31"/>
            <p:cNvSpPr/>
            <p:nvPr/>
          </p:nvSpPr>
          <p:spPr>
            <a:xfrm>
              <a:off x="2086560" y="2443680"/>
              <a:ext cx="1044000" cy="1037160"/>
            </a:xfrm>
            <a:custGeom>
              <a:avLst/>
              <a:gdLst>
                <a:gd name="textAreaLeft" fmla="*/ 0 w 1044000"/>
                <a:gd name="textAreaRight" fmla="*/ 1044360 w 10440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6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197" name="Freeform 48"/>
              <p:cNvSpPr/>
              <p:nvPr/>
            </p:nvSpPr>
            <p:spPr>
              <a:xfrm>
                <a:off x="3512520" y="2404800"/>
                <a:ext cx="1047960" cy="1035360"/>
              </a:xfrm>
              <a:custGeom>
                <a:avLst/>
                <a:gdLst>
                  <a:gd name="textAreaLeft" fmla="*/ 0 w 1047960"/>
                  <a:gd name="textAreaRight" fmla="*/ 1048320 w 10479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Text Box 55"/>
              <p:cNvSpPr/>
              <p:nvPr/>
            </p:nvSpPr>
            <p:spPr>
              <a:xfrm>
                <a:off x="3489480" y="273996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9" name="Line 27"/>
            <p:cNvSpPr/>
            <p:nvPr/>
          </p:nvSpPr>
          <p:spPr>
            <a:xfrm flipH="1">
              <a:off x="816120" y="4051080"/>
              <a:ext cx="356436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0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201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Text Box 82"/>
              <p:cNvSpPr/>
              <p:nvPr/>
            </p:nvSpPr>
            <p:spPr>
              <a:xfrm>
                <a:off x="541080" y="384948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3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204" name="Freeform 30"/>
              <p:cNvSpPr/>
              <p:nvPr/>
            </p:nvSpPr>
            <p:spPr>
              <a:xfrm>
                <a:off x="2066040" y="3572280"/>
                <a:ext cx="1045800" cy="1036800"/>
              </a:xfrm>
              <a:custGeom>
                <a:avLst/>
                <a:gdLst>
                  <a:gd name="textAreaLeft" fmla="*/ 0 w 1045800"/>
                  <a:gd name="textAreaRight" fmla="*/ 1046160 w 104580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Text Box 54"/>
              <p:cNvSpPr/>
              <p:nvPr/>
            </p:nvSpPr>
            <p:spPr>
              <a:xfrm>
                <a:off x="2043360" y="378828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6" name="Freeform 50"/>
            <p:cNvSpPr/>
            <p:nvPr/>
          </p:nvSpPr>
          <p:spPr>
            <a:xfrm>
              <a:off x="3513960" y="3566160"/>
              <a:ext cx="1044000" cy="1037160"/>
            </a:xfrm>
            <a:custGeom>
              <a:avLst/>
              <a:gdLst>
                <a:gd name="textAreaLeft" fmla="*/ 0 w 1044000"/>
                <a:gd name="textAreaRight" fmla="*/ 1044360 w 10440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Text Box 51"/>
            <p:cNvSpPr/>
            <p:nvPr/>
          </p:nvSpPr>
          <p:spPr>
            <a:xfrm>
              <a:off x="3485160" y="3941640"/>
              <a:ext cx="112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Line 27"/>
            <p:cNvSpPr/>
            <p:nvPr/>
          </p:nvSpPr>
          <p:spPr>
            <a:xfrm flipH="1">
              <a:off x="883800" y="5227920"/>
              <a:ext cx="3561480" cy="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9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210" name="Freeform 57"/>
              <p:cNvSpPr/>
              <p:nvPr/>
            </p:nvSpPr>
            <p:spPr>
              <a:xfrm>
                <a:off x="60732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2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213" name="Freeform 34"/>
              <p:cNvSpPr/>
              <p:nvPr/>
            </p:nvSpPr>
            <p:spPr>
              <a:xfrm>
                <a:off x="2084760" y="4686840"/>
                <a:ext cx="1042560" cy="1035720"/>
              </a:xfrm>
              <a:custGeom>
                <a:avLst/>
                <a:gdLst>
                  <a:gd name="textAreaLeft" fmla="*/ 0 w 1042560"/>
                  <a:gd name="textAreaRight" fmla="*/ 1042920 w 104256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5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216" name="Freeform 63"/>
              <p:cNvSpPr/>
              <p:nvPr/>
            </p:nvSpPr>
            <p:spPr>
              <a:xfrm>
                <a:off x="3528000" y="4746240"/>
                <a:ext cx="1047240" cy="1035360"/>
              </a:xfrm>
              <a:custGeom>
                <a:avLst/>
                <a:gdLst>
                  <a:gd name="textAreaLeft" fmla="*/ 0 w 1047240"/>
                  <a:gd name="textAreaRight" fmla="*/ 1047600 w 10472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Arial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79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0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1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80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80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80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Text Box 70"/>
                <p:cNvSpPr/>
                <p:nvPr/>
              </p:nvSpPr>
              <p:spPr>
                <a:xfrm>
                  <a:off x="1848600" y="1418400"/>
                  <a:ext cx="14756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81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81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81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821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82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83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833" name="Freeform 30"/>
              <p:cNvSpPr/>
              <p:nvPr/>
            </p:nvSpPr>
            <p:spPr>
              <a:xfrm>
                <a:off x="3855240" y="3740040"/>
                <a:ext cx="1370520" cy="114120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83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842" name="Freeform 34"/>
              <p:cNvSpPr/>
              <p:nvPr/>
            </p:nvSpPr>
            <p:spPr>
              <a:xfrm>
                <a:off x="3879360" y="4966920"/>
                <a:ext cx="1368720" cy="1140120"/>
              </a:xfrm>
              <a:custGeom>
                <a:avLst/>
                <a:gdLst>
                  <a:gd name="textAreaLeft" fmla="*/ 0 w 1368720"/>
                  <a:gd name="textAreaRight" fmla="*/ 1369080 w 13687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845" name="Freeform 63"/>
              <p:cNvSpPr/>
              <p:nvPr/>
            </p:nvSpPr>
            <p:spPr>
              <a:xfrm>
                <a:off x="5774400" y="5032080"/>
                <a:ext cx="1370520" cy="113976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7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5EB0-572C-41F7-9A63-12819C9D66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A245-817B-4F1D-9811-57AD9F0C11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91760" y="428400"/>
            <a:ext cx="6442200" cy="13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. </a:t>
            </a: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Эдвардс Деминг</a:t>
            </a:r>
            <a:br>
              <a:rPr sz="44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14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ринципов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14400" y="35128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охраняйте верность цели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лучшайте постоянно, сегодня и всег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3" name="Picture 6" descr="Deming"/>
          <p:cNvPicPr/>
          <p:nvPr/>
        </p:nvPicPr>
        <p:blipFill>
          <a:blip r:embed="rId1"/>
          <a:stretch/>
        </p:blipFill>
        <p:spPr>
          <a:xfrm>
            <a:off x="7162920" y="533520"/>
            <a:ext cx="166680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54" name="Text Box 5"/>
          <p:cNvSpPr/>
          <p:nvPr/>
        </p:nvSpPr>
        <p:spPr>
          <a:xfrm>
            <a:off x="609480" y="202716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ва принципа относятся к постоянному улучшен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1F76-21F5-48E6-9328-4DD968A769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51051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Цикл Деминг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8" name="Rectangle 48"/>
          <p:cNvSpPr/>
          <p:nvPr/>
        </p:nvSpPr>
        <p:spPr>
          <a:xfrm>
            <a:off x="-1371600" y="492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3"/>
          <p:cNvSpPr/>
          <p:nvPr/>
        </p:nvSpPr>
        <p:spPr>
          <a:xfrm>
            <a:off x="2514600" y="1295280"/>
            <a:ext cx="4876920" cy="4876920"/>
          </a:xfrm>
          <a:prstGeom prst="ellipse">
            <a:avLst/>
          </a:prstGeom>
          <a:noFill/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4"/>
          <p:cNvSpPr/>
          <p:nvPr/>
        </p:nvSpPr>
        <p:spPr>
          <a:xfrm>
            <a:off x="1609560" y="2971800"/>
            <a:ext cx="21243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йству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4"/>
          <p:cNvSpPr/>
          <p:nvPr/>
        </p:nvSpPr>
        <p:spPr>
          <a:xfrm>
            <a:off x="3809880" y="1143000"/>
            <a:ext cx="22719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ланиру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val 4"/>
          <p:cNvSpPr/>
          <p:nvPr/>
        </p:nvSpPr>
        <p:spPr>
          <a:xfrm>
            <a:off x="6400800" y="2895480"/>
            <a:ext cx="19051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дел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val 4"/>
          <p:cNvSpPr/>
          <p:nvPr/>
        </p:nvSpPr>
        <p:spPr>
          <a:xfrm>
            <a:off x="3962520" y="5029200"/>
            <a:ext cx="19047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75"/>
          <p:cNvSpPr/>
          <p:nvPr/>
        </p:nvSpPr>
        <p:spPr>
          <a:xfrm rot="18073200">
            <a:off x="2819520" y="175212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AutoShape 76"/>
          <p:cNvSpPr/>
          <p:nvPr/>
        </p:nvSpPr>
        <p:spPr>
          <a:xfrm rot="13538400">
            <a:off x="2819160" y="502884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AutoShape 77"/>
          <p:cNvSpPr/>
          <p:nvPr/>
        </p:nvSpPr>
        <p:spPr>
          <a:xfrm rot="7687200">
            <a:off x="6476760" y="495288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AutoShape 78"/>
          <p:cNvSpPr/>
          <p:nvPr/>
        </p:nvSpPr>
        <p:spPr>
          <a:xfrm rot="2166600">
            <a:off x="6248160" y="152388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6E94-057D-4BB2-B4F0-19844EB3E5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Постоянное улучшение </a:t>
            </a:r>
            <a:br>
              <a:rPr sz="3600"/>
            </a:b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ИСО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15189:2007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1" name="AutoShape 4"/>
          <p:cNvSpPr/>
          <p:nvPr/>
        </p:nvSpPr>
        <p:spPr>
          <a:xfrm>
            <a:off x="5715000" y="1371600"/>
            <a:ext cx="3048120" cy="1828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работай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лан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луч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AutoShape 5"/>
          <p:cNvSpPr/>
          <p:nvPr/>
        </p:nvSpPr>
        <p:spPr>
          <a:xfrm>
            <a:off x="0" y="1600200"/>
            <a:ext cx="4383000" cy="32004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ыяв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отенци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оши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6"/>
          <p:cNvSpPr/>
          <p:nvPr/>
        </p:nvSpPr>
        <p:spPr>
          <a:xfrm>
            <a:off x="6248520" y="3429000"/>
            <a:ext cx="2361960" cy="1295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дрит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7"/>
          <p:cNvSpPr/>
          <p:nvPr/>
        </p:nvSpPr>
        <p:spPr>
          <a:xfrm>
            <a:off x="6039000" y="4800600"/>
            <a:ext cx="2571480" cy="1752480"/>
          </a:xfrm>
          <a:prstGeom prst="flowChartPunchedTap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анализируй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AutoShape 8"/>
          <p:cNvSpPr/>
          <p:nvPr/>
        </p:nvSpPr>
        <p:spPr>
          <a:xfrm>
            <a:off x="3124080" y="3581280"/>
            <a:ext cx="2895840" cy="26672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правь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лан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змен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9"/>
          <p:cNvSpPr/>
          <p:nvPr/>
        </p:nvSpPr>
        <p:spPr>
          <a:xfrm rot="20602200">
            <a:off x="2917440" y="1769760"/>
            <a:ext cx="3021120" cy="1143000"/>
          </a:xfrm>
          <a:custGeom>
            <a:avLst/>
            <a:gdLst>
              <a:gd name="textAreaLeft" fmla="*/ 471960 w 3021120"/>
              <a:gd name="textAreaRight" fmla="*/ 2643480 w 30211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Diagram 2"/>
          <p:cNvGrpSpPr/>
          <p:nvPr/>
        </p:nvGrpSpPr>
        <p:grpSpPr>
          <a:xfrm>
            <a:off x="4961880" y="3429000"/>
            <a:ext cx="2649960" cy="2247840"/>
            <a:chOff x="4961880" y="3429000"/>
            <a:chExt cx="2649960" cy="2247840"/>
          </a:xfrm>
        </p:grpSpPr>
        <p:sp>
          <p:nvSpPr>
            <p:cNvPr id="878" name="_s1028"/>
            <p:cNvSpPr/>
            <p:nvPr/>
          </p:nvSpPr>
          <p:spPr>
            <a:xfrm>
              <a:off x="5468040" y="3429000"/>
              <a:ext cx="1636560" cy="1571400"/>
            </a:xfrm>
            <a:custGeom>
              <a:avLst/>
              <a:gdLst>
                <a:gd name="textAreaLeft" fmla="*/ 240120 w 1636560"/>
                <a:gd name="textAreaRight" fmla="*/ 1396440 w 1636560"/>
                <a:gd name="textAreaTop" fmla="*/ 230400 h 1571400"/>
                <a:gd name="textAreaBottom" fmla="*/ 1341000 h 157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_s1029"/>
            <p:cNvSpPr/>
            <p:nvPr/>
          </p:nvSpPr>
          <p:spPr>
            <a:xfrm rot="7200000">
              <a:off x="5724720" y="3767760"/>
              <a:ext cx="1571040" cy="1636560"/>
            </a:xfrm>
            <a:custGeom>
              <a:avLst/>
              <a:gdLst>
                <a:gd name="textAreaLeft" fmla="*/ 230400 w 1571040"/>
                <a:gd name="textAreaRight" fmla="*/ 1340640 w 1571040"/>
                <a:gd name="textAreaTop" fmla="*/ 240120 h 1636560"/>
                <a:gd name="textAreaBottom" fmla="*/ 1396440 h 16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_s1030"/>
            <p:cNvSpPr/>
            <p:nvPr/>
          </p:nvSpPr>
          <p:spPr>
            <a:xfrm rot="14400000">
              <a:off x="5277240" y="3768840"/>
              <a:ext cx="1571400" cy="1636560"/>
            </a:xfrm>
            <a:custGeom>
              <a:avLst/>
              <a:gdLst>
                <a:gd name="textAreaLeft" fmla="*/ 230400 w 1571400"/>
                <a:gd name="textAreaRight" fmla="*/ 1341000 w 1571400"/>
                <a:gd name="textAreaTop" fmla="*/ 240120 h 1636560"/>
                <a:gd name="textAreaBottom" fmla="*/ 1396440 h 16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_s1031"/>
            <p:cNvSpPr/>
            <p:nvPr/>
          </p:nvSpPr>
          <p:spPr>
            <a:xfrm>
              <a:off x="6734520" y="371664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_s1032"/>
            <p:cNvSpPr/>
            <p:nvPr/>
          </p:nvSpPr>
          <p:spPr>
            <a:xfrm>
              <a:off x="5958000" y="500796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_s1033"/>
            <p:cNvSpPr/>
            <p:nvPr/>
          </p:nvSpPr>
          <p:spPr>
            <a:xfrm>
              <a:off x="5181480" y="371664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AutoShape 19"/>
          <p:cNvSpPr/>
          <p:nvPr/>
        </p:nvSpPr>
        <p:spPr>
          <a:xfrm flipH="1" rot="16200000">
            <a:off x="7657920" y="3009600"/>
            <a:ext cx="1066680" cy="533520"/>
          </a:xfrm>
          <a:custGeom>
            <a:avLst/>
            <a:gdLst>
              <a:gd name="textAreaLeft" fmla="*/ 166320 w 1066680"/>
              <a:gd name="textAreaRight" fmla="*/ 933120 w 10666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2AF0-686F-4CE7-9DC8-BB33503EA7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Традиционные средства для улучш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838080" y="1820520"/>
            <a:ext cx="83059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утренние ауди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ешняя оценка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ешний аудит и аккредитац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анализ руководство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озможности для улучш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69440"/>
            <a:ext cx="739944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тслеживание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0" name="Footer Placeholder 4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E5D7-1591-417A-A94F-0C71D00179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AutoShape 30"/>
          <p:cNvSpPr/>
          <p:nvPr/>
        </p:nvSpPr>
        <p:spPr>
          <a:xfrm>
            <a:off x="380880" y="1143000"/>
            <a:ext cx="8229600" cy="1143000"/>
          </a:xfrm>
          <a:prstGeom prst="bevel">
            <a:avLst>
              <a:gd name="adj" fmla="val 12500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План по каче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AutoShape 31"/>
          <p:cNvSpPr/>
          <p:nvPr/>
        </p:nvSpPr>
        <p:spPr>
          <a:xfrm>
            <a:off x="152280" y="2743200"/>
            <a:ext cx="211608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утрен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у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AutoShape 32"/>
          <p:cNvSpPr/>
          <p:nvPr/>
        </p:nvSpPr>
        <p:spPr>
          <a:xfrm>
            <a:off x="2465280" y="2743200"/>
            <a:ext cx="198144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ш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у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AutoShape 34"/>
          <p:cNvSpPr/>
          <p:nvPr/>
        </p:nvSpPr>
        <p:spPr>
          <a:xfrm>
            <a:off x="6858000" y="274320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35"/>
          <p:cNvSpPr/>
          <p:nvPr/>
        </p:nvSpPr>
        <p:spPr>
          <a:xfrm>
            <a:off x="2255760" y="5257800"/>
            <a:ext cx="4525920" cy="114300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Цель по каче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36"/>
          <p:cNvSpPr/>
          <p:nvPr/>
        </p:nvSpPr>
        <p:spPr>
          <a:xfrm>
            <a:off x="838080" y="3581280"/>
            <a:ext cx="20574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37"/>
          <p:cNvSpPr/>
          <p:nvPr/>
        </p:nvSpPr>
        <p:spPr>
          <a:xfrm flipH="1">
            <a:off x="6324120" y="3581280"/>
            <a:ext cx="20574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38"/>
          <p:cNvSpPr/>
          <p:nvPr/>
        </p:nvSpPr>
        <p:spPr>
          <a:xfrm flipH="1">
            <a:off x="5486400" y="3581280"/>
            <a:ext cx="53352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39"/>
          <p:cNvSpPr/>
          <p:nvPr/>
        </p:nvSpPr>
        <p:spPr>
          <a:xfrm>
            <a:off x="3200400" y="3581280"/>
            <a:ext cx="45720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40"/>
          <p:cNvSpPr/>
          <p:nvPr/>
        </p:nvSpPr>
        <p:spPr>
          <a:xfrm>
            <a:off x="2895480" y="4038480"/>
            <a:ext cx="3429000" cy="914400"/>
          </a:xfrm>
          <a:prstGeom prst="hexagon">
            <a:avLst>
              <a:gd name="adj" fmla="val 93750"/>
              <a:gd name="vf" fmla="val 11547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озможности д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луч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41"/>
          <p:cNvSpPr/>
          <p:nvPr/>
        </p:nvSpPr>
        <p:spPr>
          <a:xfrm>
            <a:off x="4267080" y="495288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42"/>
          <p:cNvSpPr/>
          <p:nvPr/>
        </p:nvSpPr>
        <p:spPr>
          <a:xfrm>
            <a:off x="312408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AutoShape 43"/>
          <p:cNvSpPr/>
          <p:nvPr/>
        </p:nvSpPr>
        <p:spPr>
          <a:xfrm>
            <a:off x="533412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44"/>
          <p:cNvSpPr/>
          <p:nvPr/>
        </p:nvSpPr>
        <p:spPr>
          <a:xfrm>
            <a:off x="91440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45"/>
          <p:cNvSpPr/>
          <p:nvPr/>
        </p:nvSpPr>
        <p:spPr>
          <a:xfrm>
            <a:off x="754380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Content Placeholder 187458"/>
          <p:cNvGrpSpPr/>
          <p:nvPr/>
        </p:nvGrpSpPr>
        <p:grpSpPr>
          <a:xfrm>
            <a:off x="1520640" y="4267080"/>
            <a:ext cx="1988280" cy="1652760"/>
            <a:chOff x="1520640" y="4267080"/>
            <a:chExt cx="1988280" cy="1652760"/>
          </a:xfrm>
        </p:grpSpPr>
        <p:sp>
          <p:nvSpPr>
            <p:cNvPr id="909" name="_s2052"/>
            <p:cNvSpPr/>
            <p:nvPr/>
          </p:nvSpPr>
          <p:spPr>
            <a:xfrm>
              <a:off x="1893960" y="4267080"/>
              <a:ext cx="1241280" cy="1146960"/>
            </a:xfrm>
            <a:custGeom>
              <a:avLst/>
              <a:gdLst>
                <a:gd name="textAreaLeft" fmla="*/ 182160 w 1241280"/>
                <a:gd name="textAreaRight" fmla="*/ 1059120 w 1241280"/>
                <a:gd name="textAreaTop" fmla="*/ 168120 h 1146960"/>
                <a:gd name="textAreaBottom" fmla="*/ 978840 h 114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_s2053"/>
            <p:cNvSpPr/>
            <p:nvPr/>
          </p:nvSpPr>
          <p:spPr>
            <a:xfrm rot="7200000">
              <a:off x="2111040" y="4490640"/>
              <a:ext cx="1146960" cy="1241280"/>
            </a:xfrm>
            <a:custGeom>
              <a:avLst/>
              <a:gdLst>
                <a:gd name="textAreaLeft" fmla="*/ 168120 w 1146960"/>
                <a:gd name="textAreaRight" fmla="*/ 978840 w 114696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_s2054"/>
            <p:cNvSpPr/>
            <p:nvPr/>
          </p:nvSpPr>
          <p:spPr>
            <a:xfrm rot="14400000">
              <a:off x="1771200" y="4492080"/>
              <a:ext cx="1146960" cy="1241280"/>
            </a:xfrm>
            <a:custGeom>
              <a:avLst/>
              <a:gdLst>
                <a:gd name="textAreaLeft" fmla="*/ 168120 w 1146960"/>
                <a:gd name="textAreaRight" fmla="*/ 978840 w 114696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_s2055"/>
            <p:cNvSpPr/>
            <p:nvPr/>
          </p:nvSpPr>
          <p:spPr>
            <a:xfrm>
              <a:off x="2854440" y="447732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_s2056"/>
            <p:cNvSpPr/>
            <p:nvPr/>
          </p:nvSpPr>
          <p:spPr>
            <a:xfrm>
              <a:off x="2265480" y="541980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_s2057"/>
            <p:cNvSpPr/>
            <p:nvPr/>
          </p:nvSpPr>
          <p:spPr>
            <a:xfrm>
              <a:off x="1676520" y="447732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Content Placeholder 187448"/>
          <p:cNvGrpSpPr/>
          <p:nvPr/>
        </p:nvGrpSpPr>
        <p:grpSpPr>
          <a:xfrm>
            <a:off x="5947560" y="4343400"/>
            <a:ext cx="1897200" cy="1576080"/>
            <a:chOff x="5947560" y="4343400"/>
            <a:chExt cx="1897200" cy="1576080"/>
          </a:xfrm>
        </p:grpSpPr>
        <p:sp>
          <p:nvSpPr>
            <p:cNvPr id="916" name="_s2060"/>
            <p:cNvSpPr/>
            <p:nvPr/>
          </p:nvSpPr>
          <p:spPr>
            <a:xfrm>
              <a:off x="6303240" y="4343400"/>
              <a:ext cx="1184760" cy="1094040"/>
            </a:xfrm>
            <a:custGeom>
              <a:avLst/>
              <a:gdLst>
                <a:gd name="textAreaLeft" fmla="*/ 173520 w 1184760"/>
                <a:gd name="textAreaRight" fmla="*/ 1011240 w 1184760"/>
                <a:gd name="textAreaTop" fmla="*/ 160560 h 1094040"/>
                <a:gd name="textAreaBottom" fmla="*/ 933480 h 109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_s2061"/>
            <p:cNvSpPr/>
            <p:nvPr/>
          </p:nvSpPr>
          <p:spPr>
            <a:xfrm rot="7200000">
              <a:off x="6511320" y="4556160"/>
              <a:ext cx="1093680" cy="1185120"/>
            </a:xfrm>
            <a:custGeom>
              <a:avLst/>
              <a:gdLst>
                <a:gd name="textAreaLeft" fmla="*/ 160200 w 1093680"/>
                <a:gd name="textAreaRight" fmla="*/ 933480 w 1093680"/>
                <a:gd name="textAreaTop" fmla="*/ 173880 h 1185120"/>
                <a:gd name="textAreaBottom" fmla="*/ 1011240 h 118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_s2062"/>
            <p:cNvSpPr/>
            <p:nvPr/>
          </p:nvSpPr>
          <p:spPr>
            <a:xfrm rot="14400000">
              <a:off x="6186600" y="4556880"/>
              <a:ext cx="1094040" cy="1184760"/>
            </a:xfrm>
            <a:custGeom>
              <a:avLst/>
              <a:gdLst>
                <a:gd name="textAreaLeft" fmla="*/ 160560 w 1094040"/>
                <a:gd name="textAreaRight" fmla="*/ 933480 w 1094040"/>
                <a:gd name="textAreaTop" fmla="*/ 173520 h 1184760"/>
                <a:gd name="textAreaBottom" fmla="*/ 1011240 h 118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_s2063"/>
            <p:cNvSpPr/>
            <p:nvPr/>
          </p:nvSpPr>
          <p:spPr>
            <a:xfrm>
              <a:off x="7220520" y="454356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_s2064"/>
            <p:cNvSpPr/>
            <p:nvPr/>
          </p:nvSpPr>
          <p:spPr>
            <a:xfrm>
              <a:off x="6658200" y="544248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_s2065"/>
            <p:cNvSpPr/>
            <p:nvPr/>
          </p:nvSpPr>
          <p:spPr>
            <a:xfrm>
              <a:off x="6095880" y="454356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AutoShape 76"/>
          <p:cNvSpPr/>
          <p:nvPr/>
        </p:nvSpPr>
        <p:spPr>
          <a:xfrm>
            <a:off x="4641840" y="2743200"/>
            <a:ext cx="201924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честв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78"/>
          <p:cNvSpPr/>
          <p:nvPr/>
        </p:nvSpPr>
        <p:spPr>
          <a:xfrm>
            <a:off x="1371600" y="2411280"/>
            <a:ext cx="175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78"/>
          <p:cNvSpPr/>
          <p:nvPr/>
        </p:nvSpPr>
        <p:spPr>
          <a:xfrm>
            <a:off x="3600360" y="2411280"/>
            <a:ext cx="1752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78"/>
          <p:cNvSpPr/>
          <p:nvPr/>
        </p:nvSpPr>
        <p:spPr>
          <a:xfrm>
            <a:off x="5796000" y="2411280"/>
            <a:ext cx="175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9T13:55:49Z</dcterms:modified>
  <cp:revision>222</cp:revision>
  <dc:subject/>
  <dc:title>Slide 1</dc:title>
</cp:coreProperties>
</file>