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media/image5.png" ContentType="image/png"/>
  <Override PartName="/ppt/media/image6.wmf" ContentType="image/x-wmf"/>
  <Override PartName="/ppt/media/image7.png" ContentType="image/png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D51F9-6A82-43EE-A3A8-4D7A6DD540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B67EF-590B-47DA-9CD0-43A31AB909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A80D5-498C-48C9-AB6A-F9E09F239F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F9324-CEB1-4D17-A645-EB624E3336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9475C-5400-4457-8DBD-3992CF3DA0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21494-1B64-4FC4-8084-73D1B97FF3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3049B-1ED8-4993-8323-0CD30E151D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A3074-44E2-4A1B-9985-2D0D2328A1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135C4-2B99-4CBE-A60C-BF7CF97A55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131F9-5468-4131-A57F-982819013E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4B95B-700A-4E9D-98B4-5A5A2D5C97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8752D-412A-46FD-A7A5-A03804685C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BCF5A-C5E1-4BF8-8D3D-ABB997EB97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9EEE7-385B-4350-9903-9858B74A96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00601-B738-4062-AFF6-EF0884D359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6D047-4636-4667-8DED-6FCE5D5706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DEDF4-D17A-4A10-A2AF-6ACCF3DB65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FF599-84F3-4CF3-8E41-E9F6461699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F3860-72DE-479F-AFD8-259AB93FFA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396F0-C86C-4993-B0D5-BB9274C5F1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818BD-45B4-4024-95C2-75169B2ED2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7972F-5137-43FC-A044-59D7B11753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3E174A-C1D7-4194-A49C-2CCD7CD03A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78EE9F-8C49-4C49-A787-1528F42226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CA77D7-1E4D-41B4-8322-B5BFBB6F83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51EEE2-EFBB-40E6-B869-ACC5B40C87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9D8B-2D82-4E55-9FEF-44BF05C50CF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D0E2-8DBC-4232-8C59-CF63B82FE31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E039-EDD4-4B1E-B641-E6F3F403A57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88EA-8005-4CFC-95DA-5B19D992AB3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170A-A56C-4C4A-BEAB-A9D6B7A7286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E2F2-59B1-4AF7-BBD3-A4555A1D14D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3A7A-3B10-4DA4-9728-48FA0324DED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40CAF5-F316-4659-BA22-CE376CCE2B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2D18-DB17-46F1-B2CE-2BCE5A577E2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42ED-D537-4E70-9768-BDE2FB12738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ADA9-A4DB-4907-A0C9-0CB5EF520E2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0A89-1CB9-4621-966C-1D85DA51CD5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D8CB-FF90-4980-A2A0-28712B0EB04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F1E577-2323-4251-A826-B60CA483F6B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75C960-7074-419F-B6E0-91064F4811F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267D46-7C67-4334-9FFE-66EC9CA59E1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EF7CC9-59E7-428C-845C-F1FC3D225D8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B8AF55-434C-462C-BB68-BC97109813A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5F9D43-222A-454A-9F65-96E8E2126BB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B26723-CEBB-4C72-A787-67CD0CC3386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77FA35-3172-4D5F-8569-A27B19448E7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9F23AF-8879-4437-81CB-585DEC5DE3B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773686-BDD7-4C0B-B112-58F514E70E4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1E139F-BB5D-4AEC-AAA1-93D8A3678E3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B9938C-5B52-42BA-89D8-7AF3449BE9F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AEAC82-FBCC-4973-BDA5-E807FE9043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D565A7-329A-49BD-9C5D-935570D3E7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FBD571-3978-4D81-9BD8-3042C7FA00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6758BD-B463-4515-81A9-9D86B9B0B9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81F248-234F-4E4A-AFDD-036B203060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2A80BD-6C99-4BCF-886E-803F33B0EA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C5F9F7-F8BB-43C8-A4C8-D087D3B05A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троль качества молекулярной диагностики – Тема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6BAA1-AC5A-4EF9-9ED6-FF672CFD768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72262-C111-4497-B3B3-4D9AACF28E3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4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ftr" idx="4"/>
          </p:nvPr>
        </p:nvSpPr>
        <p:spPr>
          <a:xfrm>
            <a:off x="380520" y="6429240"/>
            <a:ext cx="44197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троль качества молекулярной диагностики – Тема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 type="sldNum" idx="5"/>
          </p:nvPr>
        </p:nvSpPr>
        <p:spPr>
          <a:xfrm>
            <a:off x="792432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CD16B-CDF5-43FD-BF6B-3D7FC7D3647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895480" y="2023560"/>
            <a:ext cx="6096240" cy="193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Контроль качества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:  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Молекулярная диагностика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Footer Placeholder 1"/>
          <p:cNvSpPr/>
          <p:nvPr/>
        </p:nvSpPr>
        <p:spPr>
          <a:xfrm>
            <a:off x="380880" y="6429240"/>
            <a:ext cx="441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оль качества молекулярной диагностики – Тема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7A1D2-0B47-4C51-9E2C-1D613EFF1F8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02FDF-EE52-442F-849D-9C3C9CBEAB77}" type="slidenum">
              <a:rPr b="0" lang="en-US" sz="1400" spc="-1" strike="noStrike">
                <a:solidFill>
                  <a:srgbClr val="ffffcc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трицательный результат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24" name="Picture 3" descr=""/>
          <p:cNvPicPr/>
          <p:nvPr/>
        </p:nvPicPr>
        <p:blipFill>
          <a:blip r:embed="rId1"/>
          <a:stretch/>
        </p:blipFill>
        <p:spPr>
          <a:xfrm>
            <a:off x="469800" y="1676520"/>
            <a:ext cx="8202600" cy="38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Footer Placeholder 1"/>
          <p:cNvSpPr/>
          <p:nvPr/>
        </p:nvSpPr>
        <p:spPr>
          <a:xfrm>
            <a:off x="380880" y="6429240"/>
            <a:ext cx="441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оль качества молекулярной диагностики – Тема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70D63-A296-4507-9AB1-B4035FD88DB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5499A-46A2-4131-AFEF-D5DB2B88B198}" type="slidenum">
              <a:rPr b="0" lang="en-US" sz="1400" spc="-1" strike="noStrike">
                <a:solidFill>
                  <a:srgbClr val="ffffcc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Риск использования ПЦР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большинство методов ПЦР в реальном времени «домашнего изготовления»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аймеры не всегда оптимизированы для анализ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ложительные контроли «домашнего изготовления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трицательные контроли «домашнего изготовления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нтерпретировать результаты следует с осторожностью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ooter Placeholder 1"/>
          <p:cNvSpPr/>
          <p:nvPr/>
        </p:nvSpPr>
        <p:spPr>
          <a:xfrm>
            <a:off x="380880" y="6429240"/>
            <a:ext cx="441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оль качества молекулярной диагностики – Тема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6D039-5BDA-4353-893F-FFE76358F89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112F0-7F12-4C1B-8081-8F7AAE4398BA}" type="slidenum">
              <a:rPr b="0" lang="en-US" sz="1400" spc="-1" strike="noStrike">
                <a:solidFill>
                  <a:srgbClr val="ffffcc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441972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бщий подход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305560" cy="497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Verdana"/>
              </a:rPr>
              <a:t>Взятие, транспортировка и обработка проб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1800" indent="-2728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еспечьте сохранность нуклеиновых кислот во время этих процесс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Verdana"/>
              </a:rPr>
              <a:t>Контроль контаминац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1800" indent="-2728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становите одностороннее движение по технологической цепочке: от зоны, свободной от ДНК, где готовят реагенты, к зоне обработки проб, затем к зоне, где происходит амплификация и анализ продукт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Verdana"/>
              </a:rPr>
              <a:t>Положительные и отрицательные контрол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Verdana"/>
              </a:rPr>
              <a:t>Ссылка</a:t>
            </a: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: CLSI MM3-A (Molecular Diagnostic Methods for Infectious Diseases</a:t>
            </a:r>
            <a:r>
              <a:rPr b="0" lang="ru-RU" sz="2400" spc="-1" strike="noStrike">
                <a:solidFill>
                  <a:srgbClr val="8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800000"/>
                </a:solidFill>
                <a:latin typeface="Verdana"/>
              </a:rPr>
              <a:t>[</a:t>
            </a:r>
            <a:r>
              <a:rPr b="0" lang="ru-RU" sz="1800" spc="-1" strike="noStrike">
                <a:solidFill>
                  <a:srgbClr val="800000"/>
                </a:solidFill>
                <a:latin typeface="Verdana"/>
              </a:rPr>
              <a:t>Методы молекулярной диагностики инфекционных заболеваний</a:t>
            </a:r>
            <a:r>
              <a:rPr b="0" lang="en-US" sz="1800" spc="-1" strike="noStrike">
                <a:solidFill>
                  <a:srgbClr val="800000"/>
                </a:solidFill>
                <a:latin typeface="Verdana"/>
              </a:rPr>
              <a:t>]</a:t>
            </a: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Footer Placeholder 1"/>
          <p:cNvSpPr/>
          <p:nvPr/>
        </p:nvSpPr>
        <p:spPr>
          <a:xfrm>
            <a:off x="380880" y="6429240"/>
            <a:ext cx="441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оль качества молекулярной диагностики – Тема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08813-2309-4A3B-B5BB-2D14704F42E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98363-D48D-4841-96C9-5C9AE0D15377}" type="slidenum">
              <a:rPr b="0" lang="en-US" sz="1400" spc="-1" strike="noStrike">
                <a:solidFill>
                  <a:srgbClr val="ffffcc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Контроль качества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:  </a:t>
            </a:r>
            <a:br>
              <a:rPr sz="3600"/>
            </a:b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Молекулярная диагностика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70" name="Picture 3" descr=""/>
          <p:cNvPicPr/>
          <p:nvPr/>
        </p:nvPicPr>
        <p:blipFill>
          <a:blip r:embed="rId1"/>
          <a:stretch/>
        </p:blipFill>
        <p:spPr>
          <a:xfrm>
            <a:off x="884160" y="1981080"/>
            <a:ext cx="73738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Footer Placeholder 1"/>
          <p:cNvSpPr/>
          <p:nvPr/>
        </p:nvSpPr>
        <p:spPr>
          <a:xfrm>
            <a:off x="380880" y="6429240"/>
            <a:ext cx="441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оль качества молекулярной диагностики – Тема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40125-39AA-4AA5-8213-6EC58647C9A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B873B-4D20-4404-AB26-49A1D4F2992C}" type="slidenum">
              <a:rPr b="0" lang="en-US" sz="1400" spc="-1" strike="noStrike">
                <a:solidFill>
                  <a:srgbClr val="ffffcc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3" descr=""/>
          <p:cNvPicPr/>
          <p:nvPr/>
        </p:nvPicPr>
        <p:blipFill>
          <a:blip r:embed="rId1"/>
          <a:stretch/>
        </p:blipFill>
        <p:spPr>
          <a:xfrm>
            <a:off x="2057400" y="914400"/>
            <a:ext cx="4821120" cy="521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Footer Placeholder 1"/>
          <p:cNvSpPr/>
          <p:nvPr/>
        </p:nvSpPr>
        <p:spPr>
          <a:xfrm>
            <a:off x="380880" y="6429240"/>
            <a:ext cx="441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оль качества молекулярной диагностики – Тема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15E0A-2908-48C8-9C2C-45E5D384CA0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2363D-82FB-4EB9-902E-9A37B9BC1EDA}" type="slidenum">
              <a:rPr b="0" lang="en-US" sz="1400" spc="-1" strike="noStrike">
                <a:solidFill>
                  <a:srgbClr val="ffffcc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ЦР в реальном времени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9" name="Oval 3"/>
          <p:cNvSpPr/>
          <p:nvPr/>
        </p:nvSpPr>
        <p:spPr>
          <a:xfrm>
            <a:off x="457200" y="1676520"/>
            <a:ext cx="1143000" cy="609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Narrow"/>
              </a:rPr>
              <a:t>ПРОБ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4"/>
          <p:cNvSpPr/>
          <p:nvPr/>
        </p:nvSpPr>
        <p:spPr>
          <a:xfrm>
            <a:off x="533520" y="3124080"/>
            <a:ext cx="99036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Narrow"/>
              </a:rPr>
              <a:t>ПРАЙМ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5"/>
          <p:cNvSpPr/>
          <p:nvPr/>
        </p:nvSpPr>
        <p:spPr>
          <a:xfrm>
            <a:off x="685800" y="2362320"/>
            <a:ext cx="2895480" cy="609480"/>
          </a:xfrm>
          <a:prstGeom prst="rightArrow">
            <a:avLst>
              <a:gd name="adj1" fmla="val 50000"/>
              <a:gd name="adj2" fmla="val 118768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Taq </a:t>
            </a:r>
            <a:r>
              <a:rPr b="1" lang="ru-RU" sz="1800" spc="-1" strike="noStrike">
                <a:solidFill>
                  <a:srgbClr val="ffffff"/>
                </a:solidFill>
                <a:latin typeface="Arial Narrow"/>
              </a:rPr>
              <a:t>полимера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6"/>
          <p:cNvSpPr/>
          <p:nvPr/>
        </p:nvSpPr>
        <p:spPr>
          <a:xfrm>
            <a:off x="3733920" y="2209680"/>
            <a:ext cx="2971800" cy="91440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Амплифицирован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специфиче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нуклеиновая кисл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7"/>
          <p:cNvSpPr/>
          <p:nvPr/>
        </p:nvSpPr>
        <p:spPr>
          <a:xfrm>
            <a:off x="2514600" y="3962520"/>
            <a:ext cx="3352680" cy="533160"/>
          </a:xfrm>
          <a:prstGeom prst="rightArrow">
            <a:avLst>
              <a:gd name="adj1" fmla="val 50000"/>
              <a:gd name="adj2" fmla="val 157208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SYBR 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8"/>
          <p:cNvSpPr/>
          <p:nvPr/>
        </p:nvSpPr>
        <p:spPr>
          <a:xfrm>
            <a:off x="5562720" y="2895480"/>
            <a:ext cx="3352680" cy="2438640"/>
          </a:xfrm>
          <a:prstGeom prst="irregularSeal1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Измеряем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флуоресцен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9"/>
          <p:cNvSpPr/>
          <p:nvPr/>
        </p:nvSpPr>
        <p:spPr>
          <a:xfrm>
            <a:off x="2590920" y="4495680"/>
            <a:ext cx="609480" cy="1524240"/>
          </a:xfrm>
          <a:prstGeom prst="upArrow">
            <a:avLst>
              <a:gd name="adj1" fmla="val 50000"/>
              <a:gd name="adj2" fmla="val 6252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10"/>
          <p:cNvSpPr/>
          <p:nvPr/>
        </p:nvSpPr>
        <p:spPr>
          <a:xfrm>
            <a:off x="3505320" y="4495680"/>
            <a:ext cx="609480" cy="1524240"/>
          </a:xfrm>
          <a:prstGeom prst="upArrow">
            <a:avLst>
              <a:gd name="adj1" fmla="val 50000"/>
              <a:gd name="adj2" fmla="val 6252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11"/>
          <p:cNvSpPr/>
          <p:nvPr/>
        </p:nvSpPr>
        <p:spPr>
          <a:xfrm>
            <a:off x="4495680" y="4495680"/>
            <a:ext cx="609840" cy="1524240"/>
          </a:xfrm>
          <a:prstGeom prst="upArrow">
            <a:avLst>
              <a:gd name="adj1" fmla="val 50000"/>
              <a:gd name="adj2" fmla="val 62485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Footer Placeholder 1"/>
          <p:cNvSpPr/>
          <p:nvPr/>
        </p:nvSpPr>
        <p:spPr>
          <a:xfrm>
            <a:off x="380880" y="6429240"/>
            <a:ext cx="441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оль качества молекулярной диагностики – Тема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4F58B-C4B2-4F2A-90AA-860E69E913D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2566C-BB32-4D53-A728-CA5A785984A3}" type="slidenum">
              <a:rPr b="0" lang="en-US" sz="1400" spc="-1" strike="noStrike">
                <a:solidFill>
                  <a:srgbClr val="ffffcc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66636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Реакции амплификации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1295280" y="1752480"/>
            <a:ext cx="6400800" cy="3733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reeform 4"/>
          <p:cNvSpPr/>
          <p:nvPr/>
        </p:nvSpPr>
        <p:spPr>
          <a:xfrm>
            <a:off x="1752480" y="2811600"/>
            <a:ext cx="5612040" cy="2471760"/>
          </a:xfrm>
          <a:custGeom>
            <a:avLst/>
            <a:gdLst>
              <a:gd name="textAreaLeft" fmla="*/ 0 w 5612040"/>
              <a:gd name="textAreaRight" fmla="*/ 5612040 w 5612040"/>
              <a:gd name="textAreaTop" fmla="*/ 0 h 2471760"/>
              <a:gd name="textAreaBottom" fmla="*/ 2472120 h 2471760"/>
            </a:gdLst>
            <a:ahLst/>
            <a:rect l="textAreaLeft" t="textAreaTop" r="textAreaRight" b="textAreaBottom"/>
            <a:pathLst>
              <a:path w="3535" h="1557">
                <a:moveTo>
                  <a:pt x="0" y="1509"/>
                </a:moveTo>
                <a:cubicBezTo>
                  <a:pt x="544" y="1533"/>
                  <a:pt x="1088" y="1557"/>
                  <a:pt x="1392" y="1509"/>
                </a:cubicBezTo>
                <a:cubicBezTo>
                  <a:pt x="1696" y="1461"/>
                  <a:pt x="1712" y="1333"/>
                  <a:pt x="1824" y="1221"/>
                </a:cubicBezTo>
                <a:cubicBezTo>
                  <a:pt x="1936" y="1109"/>
                  <a:pt x="1988" y="1019"/>
                  <a:pt x="2064" y="837"/>
                </a:cubicBezTo>
                <a:cubicBezTo>
                  <a:pt x="2140" y="655"/>
                  <a:pt x="2148" y="252"/>
                  <a:pt x="2283" y="126"/>
                </a:cubicBezTo>
                <a:cubicBezTo>
                  <a:pt x="2418" y="0"/>
                  <a:pt x="2665" y="94"/>
                  <a:pt x="2874" y="80"/>
                </a:cubicBezTo>
                <a:cubicBezTo>
                  <a:pt x="3083" y="66"/>
                  <a:pt x="3397" y="49"/>
                  <a:pt x="3535" y="41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5"/>
          <p:cNvSpPr/>
          <p:nvPr/>
        </p:nvSpPr>
        <p:spPr>
          <a:xfrm>
            <a:off x="1752480" y="5638680"/>
            <a:ext cx="5867640" cy="533520"/>
          </a:xfrm>
          <a:prstGeom prst="rightArrow">
            <a:avLst>
              <a:gd name="adj1" fmla="val 50000"/>
              <a:gd name="adj2" fmla="val 27494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Narrow"/>
              </a:rPr>
              <a:t>Амплификация</a:t>
            </a: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 /</a:t>
            </a:r>
            <a:r>
              <a:rPr b="1" lang="ru-RU" sz="1800" spc="-1" strike="noStrike">
                <a:solidFill>
                  <a:srgbClr val="ffffff"/>
                </a:solidFill>
                <a:latin typeface="Arial Narrow"/>
              </a:rPr>
              <a:t> Врем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AutoShape 6" descr=""/>
          <p:cNvPicPr/>
          <p:nvPr/>
        </p:nvPicPr>
        <p:blipFill>
          <a:blip r:embed="rId1"/>
          <a:stretch/>
        </p:blipFill>
        <p:spPr>
          <a:xfrm>
            <a:off x="523800" y="1805040"/>
            <a:ext cx="561960" cy="3462120"/>
          </a:xfrm>
          <a:prstGeom prst="rect">
            <a:avLst/>
          </a:prstGeom>
          <a:ln w="0">
            <a:noFill/>
          </a:ln>
        </p:spPr>
      </p:pic>
      <p:sp>
        <p:nvSpPr>
          <p:cNvPr id="196" name="Freeform 7"/>
          <p:cNvSpPr/>
          <p:nvPr/>
        </p:nvSpPr>
        <p:spPr>
          <a:xfrm>
            <a:off x="1752480" y="5300640"/>
            <a:ext cx="5562720" cy="135000"/>
          </a:xfrm>
          <a:custGeom>
            <a:avLst/>
            <a:gdLst>
              <a:gd name="textAreaLeft" fmla="*/ 0 w 5562720"/>
              <a:gd name="textAreaRight" fmla="*/ 5563080 w 5562720"/>
              <a:gd name="textAreaTop" fmla="*/ 0 h 135000"/>
              <a:gd name="textAreaBottom" fmla="*/ 135360 h 135000"/>
            </a:gdLst>
            <a:ahLst/>
            <a:rect l="textAreaLeft" t="textAreaTop" r="textAreaRight" b="textAreaBottom"/>
            <a:pathLst>
              <a:path w="3504" h="85">
                <a:moveTo>
                  <a:pt x="0" y="69"/>
                </a:moveTo>
                <a:cubicBezTo>
                  <a:pt x="692" y="85"/>
                  <a:pt x="1375" y="79"/>
                  <a:pt x="1776" y="69"/>
                </a:cubicBezTo>
                <a:cubicBezTo>
                  <a:pt x="2177" y="59"/>
                  <a:pt x="2118" y="18"/>
                  <a:pt x="2406" y="9"/>
                </a:cubicBezTo>
                <a:cubicBezTo>
                  <a:pt x="2694" y="0"/>
                  <a:pt x="3275" y="15"/>
                  <a:pt x="3504" y="17"/>
                </a:cubicBezTo>
              </a:path>
            </a:pathLst>
          </a:custGeom>
          <a:noFill/>
          <a:ln w="7632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9"/>
          <p:cNvSpPr/>
          <p:nvPr/>
        </p:nvSpPr>
        <p:spPr>
          <a:xfrm>
            <a:off x="5268600" y="2406600"/>
            <a:ext cx="195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Narrow"/>
              </a:rPr>
              <a:t>ПОЛОЖИТЕЛЬ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0"/>
          <p:cNvSpPr/>
          <p:nvPr/>
        </p:nvSpPr>
        <p:spPr>
          <a:xfrm>
            <a:off x="5042160" y="4724280"/>
            <a:ext cx="224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Narrow"/>
              </a:rPr>
              <a:t>АМПЛИФИКАЦИИ 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Footer Placeholder 1"/>
          <p:cNvSpPr/>
          <p:nvPr/>
        </p:nvSpPr>
        <p:spPr>
          <a:xfrm>
            <a:off x="380880" y="6429240"/>
            <a:ext cx="441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оль качества молекулярной диагностики – Тема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60B25-96B0-458A-9FB7-33902D3CFF3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D7B5A-2A98-4514-BE61-44A7298337B0}" type="slidenum">
              <a:rPr b="0" lang="en-US" sz="1400" spc="-1" strike="noStrike">
                <a:solidFill>
                  <a:srgbClr val="ffffcc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ЦР в реальном времени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03" name="Picture 3" descr=""/>
          <p:cNvPicPr/>
          <p:nvPr/>
        </p:nvPicPr>
        <p:blipFill>
          <a:blip r:embed="rId1"/>
          <a:stretch/>
        </p:blipFill>
        <p:spPr>
          <a:xfrm>
            <a:off x="1373040" y="1676520"/>
            <a:ext cx="6397920" cy="3886200"/>
          </a:xfrm>
          <a:prstGeom prst="rect">
            <a:avLst/>
          </a:prstGeom>
          <a:ln w="0">
            <a:noFill/>
          </a:ln>
        </p:spPr>
      </p:pic>
      <p:pic>
        <p:nvPicPr>
          <p:cNvPr id="204" name="TextBox 1" descr=""/>
          <p:cNvPicPr/>
          <p:nvPr/>
        </p:nvPicPr>
        <p:blipFill>
          <a:blip r:embed="rId2"/>
          <a:stretch/>
        </p:blipFill>
        <p:spPr>
          <a:xfrm>
            <a:off x="1474920" y="2773440"/>
            <a:ext cx="353880" cy="1474560"/>
          </a:xfrm>
          <a:prstGeom prst="rect">
            <a:avLst/>
          </a:prstGeom>
          <a:ln w="0">
            <a:noFill/>
          </a:ln>
        </p:spPr>
      </p:pic>
      <p:sp>
        <p:nvSpPr>
          <p:cNvPr id="205" name="TextBox 7"/>
          <p:cNvSpPr/>
          <p:nvPr/>
        </p:nvSpPr>
        <p:spPr>
          <a:xfrm>
            <a:off x="3931200" y="5334120"/>
            <a:ext cx="1159200" cy="26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Verdana"/>
              </a:rPr>
              <a:t>Номер цикл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8"/>
          <p:cNvSpPr/>
          <p:nvPr/>
        </p:nvSpPr>
        <p:spPr>
          <a:xfrm>
            <a:off x="7023960" y="2114640"/>
            <a:ext cx="7095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Verdana"/>
              </a:rPr>
              <a:t>Проба 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0000"/>
                </a:solidFill>
                <a:latin typeface="Verdana"/>
              </a:rPr>
              <a:t>Проба Б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9"/>
          <p:cNvSpPr/>
          <p:nvPr/>
        </p:nvSpPr>
        <p:spPr>
          <a:xfrm>
            <a:off x="7113960" y="4021200"/>
            <a:ext cx="5724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0066"/>
                </a:solidFill>
                <a:latin typeface="Verdana"/>
              </a:rPr>
              <a:t>Поро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10"/>
          <p:cNvSpPr/>
          <p:nvPr/>
        </p:nvSpPr>
        <p:spPr>
          <a:xfrm>
            <a:off x="2879640" y="4770360"/>
            <a:ext cx="576360" cy="14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b0f0"/>
                </a:solidFill>
                <a:latin typeface="Verdana"/>
              </a:rPr>
              <a:t>Фо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11"/>
          <p:cNvSpPr/>
          <p:nvPr/>
        </p:nvSpPr>
        <p:spPr>
          <a:xfrm>
            <a:off x="2517480" y="3290760"/>
            <a:ext cx="115596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b0f0"/>
                </a:solidFill>
                <a:latin typeface="Verdana"/>
              </a:rPr>
              <a:t>Экспоненциальная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b0f0"/>
                </a:solidFill>
                <a:latin typeface="Verdana"/>
              </a:rPr>
              <a:t> </a:t>
            </a:r>
            <a:r>
              <a:rPr b="1" lang="ru-RU" sz="900" spc="-1" strike="noStrike">
                <a:solidFill>
                  <a:srgbClr val="00b0f0"/>
                </a:solidFill>
                <a:latin typeface="Verdana"/>
              </a:rPr>
              <a:t>фаз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ooter Placeholder 1"/>
          <p:cNvSpPr/>
          <p:nvPr/>
        </p:nvSpPr>
        <p:spPr>
          <a:xfrm>
            <a:off x="380880" y="6429240"/>
            <a:ext cx="441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оль качества молекулярной диагностики – Тема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4CA04-4CB2-4A8F-B7F3-04C8D44905D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0942A-3B38-4F23-960A-B426C7FB019B}" type="slidenum">
              <a:rPr b="0" lang="en-US" sz="1400" spc="-1" strike="noStrike">
                <a:solidFill>
                  <a:srgbClr val="ffffcc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66636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ирус гриппа </a:t>
            </a: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A/H3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14" name="Picture 3" descr=""/>
          <p:cNvPicPr/>
          <p:nvPr/>
        </p:nvPicPr>
        <p:blipFill>
          <a:blip r:embed="rId1"/>
          <a:stretch/>
        </p:blipFill>
        <p:spPr>
          <a:xfrm>
            <a:off x="581040" y="1676520"/>
            <a:ext cx="79804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Footer Placeholder 1"/>
          <p:cNvSpPr/>
          <p:nvPr/>
        </p:nvSpPr>
        <p:spPr>
          <a:xfrm>
            <a:off x="380880" y="6429240"/>
            <a:ext cx="441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оль качества молекулярной диагностики – Тема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B1E54-5F5B-46AB-86EF-7C20C27C0CB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4EB8E-281E-4ECC-8386-EC45EDCC8554}" type="slidenum">
              <a:rPr b="0" lang="en-US" sz="1400" spc="-1" strike="noStrike">
                <a:solidFill>
                  <a:srgbClr val="ffffcc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ирус гриппа </a:t>
            </a: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A/H5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19" name="Picture 3" descr=""/>
          <p:cNvPicPr/>
          <p:nvPr/>
        </p:nvPicPr>
        <p:blipFill>
          <a:blip r:embed="rId1"/>
          <a:stretch/>
        </p:blipFill>
        <p:spPr>
          <a:xfrm>
            <a:off x="650880" y="1676520"/>
            <a:ext cx="7883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7:02:05Z</dcterms:created>
  <dc:creator>Robin Barteluk</dc:creator>
  <dc:description/>
  <dc:language>en-US</dc:language>
  <cp:lastModifiedBy>Olga</cp:lastModifiedBy>
  <dcterms:modified xsi:type="dcterms:W3CDTF">2013-05-12T11:03:51Z</dcterms:modified>
  <cp:revision>17</cp:revision>
  <dc:subject/>
  <dc:title>Quality Control:   Molecular Diagnostics</dc:title>
</cp:coreProperties>
</file>