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47.png" ContentType="image/png"/>
  <Override PartName="/ppt/media/image50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11.jpeg" ContentType="image/jpeg"/>
  <Override PartName="/ppt/media/image9.jpeg" ContentType="image/jpeg"/>
  <Override PartName="/ppt/media/image48.png" ContentType="image/png"/>
  <Override PartName="/ppt/media/image13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1.png" ContentType="image/png"/>
  <Override PartName="/ppt/media/image49.wmf" ContentType="image/x-wmf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png" ContentType="image/png"/>
  <Override PartName="/ppt/media/image37.wmf" ContentType="image/x-wmf"/>
  <Override PartName="/ppt/media/image41.wmf" ContentType="image/x-wmf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4.png" ContentType="image/png"/>
  <Override PartName="/ppt/media/image7.jpeg" ContentType="image/jpeg"/>
  <Override PartName="/ppt/media/image4.jpeg" ContentType="image/jpeg"/>
  <Override PartName="/ppt/media/image40.png" ContentType="image/png"/>
  <Override PartName="/ppt/media/image38.wmf" ContentType="image/x-wmf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E6E5-9F35-4B91-9DA8-2C02392F4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D962-AA91-43EF-90A3-20A485C16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5B2F-E110-4EC5-BEA0-0FF336601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6A4A-E382-4AF1-B6C2-2DC1C4704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F008-BAD0-41FD-BA5B-B986060C8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3561-A3B7-4ADD-8A28-51ABCA0BF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E0FF-48E0-4F70-9068-D6770D989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5BBD-DD5B-466E-9691-3367887F0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3A52-5739-415F-BA7B-1B7C94BED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D684-14A5-447B-9644-65C1802B7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F865-8AF2-4322-9BC4-2C4CCA1AD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00E5-84E3-47E0-B149-88C231726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CF45-EE0E-4302-885C-1229B9081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88D3-3F68-4BA5-BAC9-CA37D335E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3C2B-4C8F-4064-8257-D1B7AE88E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73A6-9C0E-41F6-9EE3-BC21AA7D8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22E1-824A-4CC8-A562-C994BEC3E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FE30-D380-49AD-83FF-56C9DF0C9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8F8F-7AA6-4756-BE6D-FF5FFEE75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C5CE-629E-445D-8510-46903F6E2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A16A-72FA-49A6-BF4A-1383CB87F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9AC4-7225-4F86-AAF2-CA6533C0C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69A3-1AEC-4E48-81F3-1D5B47CDA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9B73-0D34-43E1-8276-5C4DFB19D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CE5B-8EEC-4128-96A9-AD90BA582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4BA1-EE2A-4E5B-A124-5B35F0811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BD4A-ED51-4896-96FD-328D4F76D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15D8-9AA1-4CD2-959F-975F2EC5D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B4B2-C389-465A-B14D-2ABEDF01C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863B-DFE1-4022-94D8-5832FF6FE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06428-104B-4651-9E9B-0D12BECE8C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5B6C6-FF2E-4DC8-AFAA-2FC8D0D0BA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BD419-A688-4580-B9F2-9964DF7563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F6FC1-5F16-4ABC-8919-1C0358DD8C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3E69B-49E0-4A5D-B102-E883B91B73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D4940-6FBC-4366-A632-F9CCB5AFAC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0446A-65A1-412B-995C-499A26DB52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2E8DE-E3CB-4219-9FEB-23DA8C3BC2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3A6FA-2EB3-42D4-B7EC-578AD9D870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EC008-1F82-4A42-A018-92210B4D53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F8E96-281C-4AA2-8486-14301D127C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6EAFE-1A2A-4839-BC67-B9A1A6FB88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9B4A-19D1-471A-BA0E-7E70C3740D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0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440" y="2062080"/>
            <a:ext cx="525780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Обслуживание клиентов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DC2E-BEA2-4880-B54C-6AC0FD79AB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7E2E-7A4B-4FB9-9B82-4A2FC36AC7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рач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609480" y="2324160"/>
            <a:ext cx="19051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6324480" y="2400480"/>
            <a:ext cx="221004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3124080" y="5486400"/>
            <a:ext cx="289584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8" name="AutoShape 7"/>
          <p:cNvCxnSpPr>
            <a:stCxn id="237" idx="0"/>
            <a:endCxn id="236" idx="2"/>
          </p:cNvCxnSpPr>
          <p:nvPr/>
        </p:nvCxnSpPr>
        <p:spPr>
          <a:xfrm flipV="1">
            <a:off x="4572000" y="3200040"/>
            <a:ext cx="2858400" cy="2286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AutoShape 8"/>
          <p:cNvCxnSpPr>
            <a:stCxn id="237" idx="0"/>
            <a:endCxn id="235" idx="2"/>
          </p:cNvCxnSpPr>
          <p:nvPr/>
        </p:nvCxnSpPr>
        <p:spPr>
          <a:xfrm flipH="1" flipV="1">
            <a:off x="1561320" y="3085560"/>
            <a:ext cx="301068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40" name="AutoShape 9"/>
          <p:cNvSpPr/>
          <p:nvPr/>
        </p:nvSpPr>
        <p:spPr>
          <a:xfrm>
            <a:off x="3124080" y="1447920"/>
            <a:ext cx="2895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1" name="AutoShape 10"/>
          <p:cNvCxnSpPr>
            <a:stCxn id="237" idx="0"/>
            <a:endCxn id="240" idx="2"/>
          </p:cNvCxnSpPr>
          <p:nvPr/>
        </p:nvCxnSpPr>
        <p:spPr>
          <a:xfrm flipV="1">
            <a:off x="4571640" y="2590200"/>
            <a:ext cx="10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11"/>
          <p:cNvCxnSpPr>
            <a:stCxn id="235" idx="3"/>
            <a:endCxn id="240" idx="1"/>
          </p:cNvCxnSpPr>
          <p:nvPr/>
        </p:nvCxnSpPr>
        <p:spPr>
          <a:xfrm flipV="1">
            <a:off x="2514240" y="2018520"/>
            <a:ext cx="61020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3" name="AutoShape 12"/>
          <p:cNvCxnSpPr>
            <a:stCxn id="240" idx="3"/>
            <a:endCxn id="236" idx="1"/>
          </p:cNvCxnSpPr>
          <p:nvPr/>
        </p:nvCxnSpPr>
        <p:spPr>
          <a:xfrm>
            <a:off x="6019920" y="2019240"/>
            <a:ext cx="305280" cy="7819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4" name="Rectangle 13"/>
          <p:cNvSpPr/>
          <p:nvPr/>
        </p:nvSpPr>
        <p:spPr>
          <a:xfrm>
            <a:off x="2133720" y="3809880"/>
            <a:ext cx="4800600" cy="12956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Точная 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Понятная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Своеврем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4FB7-1EE1-4312-B015-2AC623B449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40BC-DD26-4694-AFAF-2A89A37C2F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10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врачей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66760" y="2225520"/>
          <a:ext cx="8496360" cy="3870360"/>
        </p:xfrm>
        <a:graphic>
          <a:graphicData uri="http://schemas.openxmlformats.org/drawingml/2006/table">
            <a:tbl>
              <a:tblPr/>
              <a:tblGrid>
                <a:gridCol w="2411280"/>
                <a:gridCol w="3205080"/>
                <a:gridCol w="2880000"/>
              </a:tblGrid>
              <a:tr h="823320"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Исслед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После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04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речень анализ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уководство по взятию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ы запро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своевременной достав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верка компетент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алидация мет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ка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процесс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нештатными ситуаци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лабораторной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тверждение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нят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ккурат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50" name="AutoShape 47"/>
          <p:cNvSpPr/>
          <p:nvPr/>
        </p:nvSpPr>
        <p:spPr>
          <a:xfrm>
            <a:off x="533520" y="1371600"/>
            <a:ext cx="1600200" cy="6858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48"/>
          <p:cNvSpPr/>
          <p:nvPr/>
        </p:nvSpPr>
        <p:spPr>
          <a:xfrm>
            <a:off x="3200400" y="1371600"/>
            <a:ext cx="1752480" cy="685800"/>
          </a:xfrm>
          <a:custGeom>
            <a:avLst/>
            <a:gdLst>
              <a:gd name="textAreaLeft" fmla="*/ 273600 w 1752480"/>
              <a:gd name="textAreaRight" fmla="*/ 1533600 w 17524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49"/>
          <p:cNvSpPr/>
          <p:nvPr/>
        </p:nvSpPr>
        <p:spPr>
          <a:xfrm>
            <a:off x="6477120" y="1371600"/>
            <a:ext cx="1676160" cy="685800"/>
          </a:xfrm>
          <a:custGeom>
            <a:avLst/>
            <a:gdLst>
              <a:gd name="textAreaLeft" fmla="*/ 261720 w 1676160"/>
              <a:gd name="textAreaRight" fmla="*/ 1466640 w 167616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3" name="AutoShape 10"/>
          <p:cNvCxnSpPr>
            <a:stCxn id="254" idx="0"/>
          </p:cNvCxnSpPr>
          <p:nvPr/>
        </p:nvCxnSpPr>
        <p:spPr>
          <a:xfrm flipH="1" flipV="1">
            <a:off x="4799880" y="2895120"/>
            <a:ext cx="1220040" cy="19058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8F3C-7D5B-4199-9D93-73668BE56C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AF58-540B-4CD3-B766-1E8DE505F3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228600" y="3429000"/>
            <a:ext cx="3962520" cy="18288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Безопасность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пац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304920" y="1752480"/>
            <a:ext cx="25905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6400800" y="21337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4572000" y="4800600"/>
            <a:ext cx="2895480" cy="10666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3" name="AutoShape 7"/>
          <p:cNvCxnSpPr>
            <a:stCxn id="254" idx="0"/>
          </p:cNvCxnSpPr>
          <p:nvPr/>
        </p:nvCxnSpPr>
        <p:spPr>
          <a:xfrm flipV="1">
            <a:off x="6019920" y="3161520"/>
            <a:ext cx="915120" cy="1639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AutoShape 8"/>
          <p:cNvCxnSpPr>
            <a:stCxn id="254" idx="0"/>
          </p:cNvCxnSpPr>
          <p:nvPr/>
        </p:nvCxnSpPr>
        <p:spPr>
          <a:xfrm flipH="1" flipV="1">
            <a:off x="2894760" y="2742840"/>
            <a:ext cx="3125160" cy="205776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65" name="AutoShape 9"/>
          <p:cNvSpPr/>
          <p:nvPr/>
        </p:nvSpPr>
        <p:spPr>
          <a:xfrm>
            <a:off x="3581280" y="1752480"/>
            <a:ext cx="22100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6" name="AutoShape 11"/>
          <p:cNvCxnSpPr>
            <a:stCxn id="261" idx="3"/>
            <a:endCxn id="265" idx="1"/>
          </p:cNvCxnSpPr>
          <p:nvPr/>
        </p:nvCxnSpPr>
        <p:spPr>
          <a:xfrm>
            <a:off x="2895120" y="2323800"/>
            <a:ext cx="68652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7" name="AutoShape 12"/>
          <p:cNvCxnSpPr>
            <a:stCxn id="265" idx="3"/>
            <a:endCxn id="262" idx="1"/>
          </p:cNvCxnSpPr>
          <p:nvPr/>
        </p:nvCxnSpPr>
        <p:spPr>
          <a:xfrm>
            <a:off x="5790960" y="2323800"/>
            <a:ext cx="610200" cy="3243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4ECE-154D-42FE-8ACD-A51D08AF2C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D81B-9732-4494-A6E3-DB3C867ED5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пациентов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96880"/>
            <a:ext cx="86104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ставить информацию о взятии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условия для взятия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енный и знающий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докумен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"/>
          <p:cNvSpPr/>
          <p:nvPr/>
        </p:nvSpPr>
        <p:spPr>
          <a:xfrm>
            <a:off x="6019920" y="586728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конфиденциаль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6" name="Group 2"/>
          <p:cNvGrpSpPr/>
          <p:nvPr/>
        </p:nvGrpSpPr>
        <p:grpSpPr>
          <a:xfrm>
            <a:off x="3581640" y="4106160"/>
            <a:ext cx="2342880" cy="2597400"/>
            <a:chOff x="3581640" y="4106160"/>
            <a:chExt cx="2342880" cy="2597400"/>
          </a:xfrm>
        </p:grpSpPr>
        <p:pic>
          <p:nvPicPr>
            <p:cNvPr id="277" name="Picture 12" descr="14_instructions"/>
            <p:cNvPicPr/>
            <p:nvPr/>
          </p:nvPicPr>
          <p:blipFill>
            <a:blip r:embed="rId3"/>
            <a:stretch/>
          </p:blipFill>
          <p:spPr>
            <a:xfrm rot="20064600">
              <a:off x="3962160" y="4343400"/>
              <a:ext cx="158112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Box 1"/>
            <p:cNvSpPr/>
            <p:nvPr/>
          </p:nvSpPr>
          <p:spPr>
            <a:xfrm rot="20040000">
              <a:off x="4014720" y="4518360"/>
              <a:ext cx="1309680" cy="15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 Narrow"/>
                </a:rPr>
                <a:t>Услуги Лаборатории качеств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818ff"/>
                  </a:solidFill>
                  <a:latin typeface="Arial"/>
                </a:rPr>
                <a:t>Инструкции для пациентов по сбору проб для анализов на гельминты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2799-AF94-434A-8E51-1A8A798CDB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5B97-A106-498C-AF03-2A35C5CF55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доставьте пациентам следующую информацию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457200" y="2141640"/>
            <a:ext cx="35812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рес лаборатории и инструкции, как до нее добратьс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ть ли персонал, владеющий двум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/или более язы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0174-6D50-4BCA-8036-4AFFBEE3AC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1824-40F7-427F-86C0-F22F65E2DA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202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забору проб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1429920"/>
            <a:ext cx="79246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контейне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ловия обращ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ры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038480"/>
            <a:ext cx="3954240" cy="2079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562720" y="2590920"/>
            <a:ext cx="3200400" cy="15332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1084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94" name="Picture 8" descr="patient-wristband"/>
          <p:cNvPicPr/>
          <p:nvPr/>
        </p:nvPicPr>
        <p:blipFill>
          <a:blip r:embed="rId4"/>
          <a:stretch/>
        </p:blipFill>
        <p:spPr>
          <a:xfrm>
            <a:off x="7010280" y="1066680"/>
            <a:ext cx="152424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5F8C-54A9-4650-A024-6F4D4A2335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EDE2-25DC-48E9-B794-C9D29C6656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10" descr="13_clean_rooms_new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9" name="AutoShape 10"/>
          <p:cNvCxnSpPr>
            <a:stCxn id="300" idx="0"/>
            <a:endCxn id="301" idx="2"/>
          </p:cNvCxnSpPr>
          <p:nvPr/>
        </p:nvCxnSpPr>
        <p:spPr>
          <a:xfrm flipV="1">
            <a:off x="3200040" y="3199680"/>
            <a:ext cx="114372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8F39-7C22-4FF5-AF6F-98BFDDB6B4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85F6-80DC-4465-99EF-80C35690D4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6400800" y="1371600"/>
            <a:ext cx="19051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620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едомств охраны здоровья насел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5943600" y="2400480"/>
            <a:ext cx="2971800" cy="12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Группы и лица, вовлеченные в охрану здоровья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6"/>
          <p:cNvSpPr/>
          <p:nvPr/>
        </p:nvSpPr>
        <p:spPr>
          <a:xfrm>
            <a:off x="1905120" y="4876920"/>
            <a:ext cx="259056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09" name="AutoShape 7"/>
          <p:cNvCxnSpPr>
            <a:stCxn id="300" idx="0"/>
          </p:cNvCxnSpPr>
          <p:nvPr/>
        </p:nvCxnSpPr>
        <p:spPr>
          <a:xfrm flipV="1">
            <a:off x="3200040" y="3504960"/>
            <a:ext cx="2896200" cy="1372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AutoShape 8"/>
          <p:cNvCxnSpPr>
            <a:stCxn id="300" idx="0"/>
            <a:endCxn id="307" idx="2"/>
          </p:cNvCxnSpPr>
          <p:nvPr/>
        </p:nvCxnSpPr>
        <p:spPr>
          <a:xfrm flipH="1" flipV="1">
            <a:off x="1523160" y="3047760"/>
            <a:ext cx="167724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301" name="AutoShape 9"/>
          <p:cNvSpPr/>
          <p:nvPr/>
        </p:nvSpPr>
        <p:spPr>
          <a:xfrm>
            <a:off x="342900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11" name="AutoShape 11"/>
          <p:cNvCxnSpPr>
            <a:stCxn id="307" idx="3"/>
            <a:endCxn id="301" idx="1"/>
          </p:cNvCxnSpPr>
          <p:nvPr/>
        </p:nvCxnSpPr>
        <p:spPr>
          <a:xfrm>
            <a:off x="2438280" y="2666880"/>
            <a:ext cx="99144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2" name="AutoShape 12"/>
          <p:cNvCxnSpPr>
            <a:stCxn id="301" idx="3"/>
            <a:endCxn id="308" idx="1"/>
          </p:cNvCxnSpPr>
          <p:nvPr/>
        </p:nvCxnSpPr>
        <p:spPr>
          <a:xfrm>
            <a:off x="5257440" y="2705040"/>
            <a:ext cx="686520" cy="324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3" name="Rectangle 13"/>
          <p:cNvSpPr/>
          <p:nvPr/>
        </p:nvSpPr>
        <p:spPr>
          <a:xfrm>
            <a:off x="5334120" y="4114800"/>
            <a:ext cx="3429000" cy="2019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онные матери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беспечение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3D7F-282A-4302-9A4D-74C4887B3C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1994-3B5E-44C5-8F0A-50EC9E970F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7" name="Diagram 8"/>
          <p:cNvGrpSpPr/>
          <p:nvPr/>
        </p:nvGrpSpPr>
        <p:grpSpPr>
          <a:xfrm>
            <a:off x="380880" y="1092240"/>
            <a:ext cx="8395560" cy="5117760"/>
            <a:chOff x="380880" y="1092240"/>
            <a:chExt cx="8395560" cy="5117760"/>
          </a:xfrm>
        </p:grpSpPr>
        <p:sp>
          <p:nvSpPr>
            <p:cNvPr id="318" name="_s1028"/>
            <p:cNvSpPr/>
            <p:nvPr/>
          </p:nvSpPr>
          <p:spPr>
            <a:xfrm flipH="1" flipV="1">
              <a:off x="2362680" y="2895840"/>
              <a:ext cx="1395000" cy="5007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_s1029"/>
            <p:cNvSpPr/>
            <p:nvPr/>
          </p:nvSpPr>
          <p:spPr>
            <a:xfrm>
              <a:off x="457560" y="1941840"/>
              <a:ext cx="2053080" cy="13330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Удаление отходов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_s1030"/>
            <p:cNvSpPr/>
            <p:nvPr/>
          </p:nvSpPr>
          <p:spPr>
            <a:xfrm flipH="1">
              <a:off x="2869560" y="4064040"/>
              <a:ext cx="888480" cy="333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_s1031"/>
            <p:cNvSpPr/>
            <p:nvPr/>
          </p:nvSpPr>
          <p:spPr>
            <a:xfrm>
              <a:off x="380880" y="4190040"/>
              <a:ext cx="2398320" cy="1333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Транспортировка опасных материалов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_s1032"/>
            <p:cNvSpPr/>
            <p:nvPr/>
          </p:nvSpPr>
          <p:spPr>
            <a:xfrm>
              <a:off x="4570560" y="4397040"/>
              <a:ext cx="0" cy="6667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_s1033"/>
            <p:cNvSpPr/>
            <p:nvPr/>
          </p:nvSpPr>
          <p:spPr>
            <a:xfrm>
              <a:off x="3124440" y="4876920"/>
              <a:ext cx="289512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граничение распространени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_s1034"/>
            <p:cNvSpPr/>
            <p:nvPr/>
          </p:nvSpPr>
          <p:spPr>
            <a:xfrm>
              <a:off x="5791680" y="4064040"/>
              <a:ext cx="911880" cy="443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_s1035"/>
            <p:cNvSpPr/>
            <p:nvPr/>
          </p:nvSpPr>
          <p:spPr>
            <a:xfrm>
              <a:off x="6703560" y="4229640"/>
              <a:ext cx="2053080" cy="13334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щи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_s1036"/>
            <p:cNvSpPr/>
            <p:nvPr/>
          </p:nvSpPr>
          <p:spPr>
            <a:xfrm flipV="1">
              <a:off x="5791680" y="2971800"/>
              <a:ext cx="761400" cy="342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_s1037"/>
            <p:cNvSpPr/>
            <p:nvPr/>
          </p:nvSpPr>
          <p:spPr>
            <a:xfrm>
              <a:off x="6532560" y="1897920"/>
              <a:ext cx="2243880" cy="13334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Безопасность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_s1038"/>
            <p:cNvSpPr/>
            <p:nvPr/>
          </p:nvSpPr>
          <p:spPr>
            <a:xfrm flipV="1">
              <a:off x="4570560" y="2399040"/>
              <a:ext cx="0" cy="66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_s1039"/>
            <p:cNvSpPr/>
            <p:nvPr/>
          </p:nvSpPr>
          <p:spPr>
            <a:xfrm>
              <a:off x="3503520" y="1092240"/>
              <a:ext cx="2053080" cy="14990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повещения об инфекционных заболеваниях, эпиднадзор и меры реагировани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_s1040"/>
            <p:cNvSpPr/>
            <p:nvPr/>
          </p:nvSpPr>
          <p:spPr>
            <a:xfrm>
              <a:off x="3621240" y="3066120"/>
              <a:ext cx="2052360" cy="1333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1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Удовлетворение потребностей насе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26"/>
          <p:cNvSpPr/>
          <p:nvPr/>
        </p:nvSpPr>
        <p:spPr>
          <a:xfrm>
            <a:off x="3048120" y="2895480"/>
            <a:ext cx="2973240" cy="1689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6DC6-1F33-42D5-B21F-9453014BB7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3ED3-D356-45F9-B6F9-37BCE455BA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38080" y="1523880"/>
            <a:ext cx="7543800" cy="1409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Лаборатория проверена и аккредитована в соответствии с высшими стандар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39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40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1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Verdana"/>
                  <a:ea typeface="Verdana"/>
                </a:endParaRPr>
              </a:p>
            </p:txBody>
          </p:sp>
        </p:grpSp>
        <p:sp>
          <p:nvSpPr>
            <p:cNvPr id="342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3" name="Text Box 14"/>
            <p:cNvSpPr/>
            <p:nvPr/>
          </p:nvSpPr>
          <p:spPr>
            <a:xfrm>
              <a:off x="1587600" y="4746600"/>
              <a:ext cx="211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ЕРВИЧНА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4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5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46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47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8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Verdana"/>
                  <a:ea typeface="Verdana"/>
                </a:endParaRPr>
              </a:p>
            </p:txBody>
          </p:sp>
        </p:grpSp>
        <p:sp>
          <p:nvSpPr>
            <p:cNvPr id="349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Text Box 21"/>
            <p:cNvSpPr/>
            <p:nvPr/>
          </p:nvSpPr>
          <p:spPr>
            <a:xfrm>
              <a:off x="4934160" y="4645800"/>
              <a:ext cx="277956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оддержание статус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1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D9BE-C843-49DB-B4BC-C23312FF3D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6DB1-18C3-427F-92B1-63FF51AB7B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1256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елить разные категории клиенто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методы измерения удовлетворенност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 потенциальные проблемы с клиент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ложить решения проблем в обслуживани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, как процессы управления качеством помогают лаборатории удовлетворить потребности и требования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C574-486C-41B7-B10E-15B24614F2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D15F-54E9-45F3-94E8-13FCB53613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2666880"/>
            <a:ext cx="830592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орошее обслуживание клиентов предоставит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наилучшего леч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улучшения эпиднадз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фессиональный имидж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Обслуживание клиентов – неотъемлемая часть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Методы оценки удовлетворенности клиентов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6EFE-2DA3-441F-86E9-78EF726A94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0F53-B720-4D7B-8899-A0D9C18B5E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1" name="Diagram 5"/>
          <p:cNvGrpSpPr/>
          <p:nvPr/>
        </p:nvGrpSpPr>
        <p:grpSpPr>
          <a:xfrm>
            <a:off x="306360" y="1517760"/>
            <a:ext cx="8230320" cy="4547880"/>
            <a:chOff x="306360" y="1517760"/>
            <a:chExt cx="8230320" cy="4547880"/>
          </a:xfrm>
        </p:grpSpPr>
        <p:sp>
          <p:nvSpPr>
            <p:cNvPr id="362" name="_s2052"/>
            <p:cNvSpPr/>
            <p:nvPr/>
          </p:nvSpPr>
          <p:spPr>
            <a:xfrm flipH="1" flipV="1">
              <a:off x="2360160" y="2872800"/>
              <a:ext cx="1126440" cy="481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_s2053"/>
            <p:cNvSpPr/>
            <p:nvPr/>
          </p:nvSpPr>
          <p:spPr>
            <a:xfrm>
              <a:off x="306360" y="1955160"/>
              <a:ext cx="3035880" cy="10926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устные опросы, фокус-групп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_s2054"/>
            <p:cNvSpPr/>
            <p:nvPr/>
          </p:nvSpPr>
          <p:spPr>
            <a:xfrm flipH="1">
              <a:off x="2837880" y="3962160"/>
              <a:ext cx="104904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_s2055"/>
            <p:cNvSpPr/>
            <p:nvPr/>
          </p:nvSpPr>
          <p:spPr>
            <a:xfrm>
              <a:off x="306360" y="4278960"/>
              <a:ext cx="3885120" cy="947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кетирование удовлетворенност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_s2056"/>
            <p:cNvSpPr/>
            <p:nvPr/>
          </p:nvSpPr>
          <p:spPr>
            <a:xfrm>
              <a:off x="4570920" y="3962160"/>
              <a:ext cx="151920" cy="137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_s2057"/>
            <p:cNvSpPr/>
            <p:nvPr/>
          </p:nvSpPr>
          <p:spPr>
            <a:xfrm>
              <a:off x="3342240" y="5199480"/>
              <a:ext cx="2828520" cy="86616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ализ руководством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_s2058"/>
            <p:cNvSpPr/>
            <p:nvPr/>
          </p:nvSpPr>
          <p:spPr>
            <a:xfrm>
              <a:off x="5257440" y="3962160"/>
              <a:ext cx="1068840" cy="442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_s2059"/>
            <p:cNvSpPr/>
            <p:nvPr/>
          </p:nvSpPr>
          <p:spPr>
            <a:xfrm>
              <a:off x="5879880" y="4188600"/>
              <a:ext cx="265680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внутренний аудит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_s2060"/>
            <p:cNvSpPr/>
            <p:nvPr/>
          </p:nvSpPr>
          <p:spPr>
            <a:xfrm flipV="1">
              <a:off x="5430240" y="2971440"/>
              <a:ext cx="1045080" cy="51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_s2061"/>
            <p:cNvSpPr/>
            <p:nvPr/>
          </p:nvSpPr>
          <p:spPr>
            <a:xfrm>
              <a:off x="5961240" y="2121480"/>
              <a:ext cx="257544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показатели качеств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_s2062"/>
            <p:cNvSpPr/>
            <p:nvPr/>
          </p:nvSpPr>
          <p:spPr>
            <a:xfrm flipV="1">
              <a:off x="4533120" y="2209320"/>
              <a:ext cx="0" cy="970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_s2063"/>
            <p:cNvSpPr/>
            <p:nvPr/>
          </p:nvSpPr>
          <p:spPr>
            <a:xfrm>
              <a:off x="3534840" y="1517760"/>
              <a:ext cx="2071080" cy="8740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жалобы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_s2064"/>
            <p:cNvSpPr/>
            <p:nvPr/>
          </p:nvSpPr>
          <p:spPr>
            <a:xfrm>
              <a:off x="2360520" y="2971440"/>
              <a:ext cx="4344840" cy="112464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тслеживание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6DFC-5B58-422B-993F-3466B75CB4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87A7-4C81-498E-ACC0-740319950B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ученные жалобы отражают лишь «верхушку айсберга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0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B406-8786-4557-97C0-2D1112C06B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7D4B-051C-4FEF-B333-796FB3B639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алоб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51920" y="2757240"/>
            <a:ext cx="396252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7d"/>
                </a:solidFill>
                <a:latin typeface="Verdana"/>
              </a:rPr>
              <a:t>Фактически недовольные клиенты</a:t>
            </a:r>
            <a:r>
              <a:rPr b="1" lang="en-US" sz="34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8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AutoShape 10"/>
          <p:cNvSpPr/>
          <p:nvPr/>
        </p:nvSpPr>
        <p:spPr>
          <a:xfrm rot="5400000">
            <a:off x="3238200" y="2704680"/>
            <a:ext cx="3809880" cy="2667240"/>
          </a:xfrm>
          <a:custGeom>
            <a:avLst/>
            <a:gdLst>
              <a:gd name="textAreaLeft" fmla="*/ 380880 w 3809880"/>
              <a:gd name="textAreaRight" fmla="*/ 3429000 w 3809880"/>
              <a:gd name="textAreaTop" fmla="*/ 1524240 h 2667240"/>
              <a:gd name="textAreaBottom" fmla="*/ 2286360 h 2667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0642-10EA-4080-9E25-BF3B2EBBA9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5105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етоды оцен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AutoShape 14"/>
          <p:cNvSpPr/>
          <p:nvPr/>
        </p:nvSpPr>
        <p:spPr>
          <a:xfrm>
            <a:off x="914400" y="144792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казателей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AutoShape 16"/>
          <p:cNvSpPr/>
          <p:nvPr/>
        </p:nvSpPr>
        <p:spPr>
          <a:xfrm>
            <a:off x="5334120" y="1143000"/>
            <a:ext cx="3352680" cy="2209680"/>
          </a:xfrm>
          <a:prstGeom prst="hexagon">
            <a:avLst>
              <a:gd name="adj" fmla="val 37932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Text Box 17"/>
          <p:cNvSpPr/>
          <p:nvPr/>
        </p:nvSpPr>
        <p:spPr>
          <a:xfrm>
            <a:off x="5486400" y="167652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дение внутренних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AutoShape 21"/>
          <p:cNvSpPr/>
          <p:nvPr/>
        </p:nvSpPr>
        <p:spPr>
          <a:xfrm rot="4216800">
            <a:off x="2411280" y="2757240"/>
            <a:ext cx="1444680" cy="990720"/>
          </a:xfrm>
          <a:custGeom>
            <a:avLst/>
            <a:gdLst>
              <a:gd name="textAreaLeft" fmla="*/ 225720 w 1444680"/>
              <a:gd name="textAreaRight" fmla="*/ 1264320 w 144468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AutoShape 22"/>
          <p:cNvSpPr/>
          <p:nvPr/>
        </p:nvSpPr>
        <p:spPr>
          <a:xfrm rot="6607200">
            <a:off x="4489920" y="2743920"/>
            <a:ext cx="1452240" cy="990360"/>
          </a:xfrm>
          <a:custGeom>
            <a:avLst/>
            <a:gdLst>
              <a:gd name="textAreaLeft" fmla="*/ 226800 w 1452240"/>
              <a:gd name="textAreaRight" fmla="*/ 1270800 w 145224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AutoShape 23"/>
          <p:cNvSpPr/>
          <p:nvPr/>
        </p:nvSpPr>
        <p:spPr>
          <a:xfrm>
            <a:off x="1981080" y="3962520"/>
            <a:ext cx="4724640" cy="2133360"/>
          </a:xfrm>
          <a:prstGeom prst="downArrowCallout">
            <a:avLst>
              <a:gd name="adj1" fmla="val 55371"/>
              <a:gd name="adj2" fmla="val 55366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4"/>
          <p:cNvSpPr/>
          <p:nvPr/>
        </p:nvSpPr>
        <p:spPr>
          <a:xfrm>
            <a:off x="2286000" y="41911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Анализ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Text Box 25"/>
          <p:cNvSpPr/>
          <p:nvPr/>
        </p:nvSpPr>
        <p:spPr>
          <a:xfrm>
            <a:off x="3581280" y="5638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ДЕЙСТВ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D4F7-C164-4F4F-9DEC-72567D4A4A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7E18-0F54-4FC5-AA72-8E6D5A9497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533160" y="990720"/>
            <a:ext cx="434340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зучение мнения клиенто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является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требованием системы управления качеством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5181480" y="609480"/>
            <a:ext cx="38084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следование мне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9328-96B6-4292-9605-C89C3B83AF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EA47-AD46-4447-8ACA-C99B939951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2" name="Diagram 5"/>
          <p:cNvGrpSpPr/>
          <p:nvPr/>
        </p:nvGrpSpPr>
        <p:grpSpPr>
          <a:xfrm>
            <a:off x="457200" y="1295280"/>
            <a:ext cx="8152560" cy="4876560"/>
            <a:chOff x="457200" y="1295280"/>
            <a:chExt cx="8152560" cy="4876560"/>
          </a:xfrm>
        </p:grpSpPr>
        <p:sp>
          <p:nvSpPr>
            <p:cNvPr id="413" name="AutoShape 4"/>
            <p:cNvSpPr/>
            <p:nvPr/>
          </p:nvSpPr>
          <p:spPr>
            <a:xfrm>
              <a:off x="457200" y="1295280"/>
              <a:ext cx="8152560" cy="48765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своевременно проанализи-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_s3079"/>
            <p:cNvSpPr/>
            <p:nvPr/>
          </p:nvSpPr>
          <p:spPr>
            <a:xfrm>
              <a:off x="1219320" y="4600080"/>
              <a:ext cx="238140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без наводящих вопросов, объектив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_s3081"/>
            <p:cNvSpPr/>
            <p:nvPr/>
          </p:nvSpPr>
          <p:spPr>
            <a:xfrm>
              <a:off x="5687640" y="4601880"/>
              <a:ext cx="215964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ранее провере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_s3083"/>
            <p:cNvSpPr/>
            <p:nvPr/>
          </p:nvSpPr>
          <p:spPr>
            <a:xfrm>
              <a:off x="6261120" y="2558160"/>
              <a:ext cx="227160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рганиз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_s3085"/>
            <p:cNvSpPr/>
            <p:nvPr/>
          </p:nvSpPr>
          <p:spPr>
            <a:xfrm>
              <a:off x="3553200" y="1295280"/>
              <a:ext cx="2617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плани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5" name="Text Box 19"/>
          <p:cNvSpPr/>
          <p:nvPr/>
        </p:nvSpPr>
        <p:spPr>
          <a:xfrm>
            <a:off x="3048120" y="2819520"/>
            <a:ext cx="3047760" cy="15562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Успешно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5FD4-E1D9-4D16-84A4-D84521C036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1D07-F8C2-4529-9B93-DCB8FE2FF0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веты для устного опрос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68580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ранее напишите вопрос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давайте конкретные вопросы, а также вопросы, в ответ на которые клиент может высказать свое мнени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удут искренние отв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1" name="Picture 9" descr="MCj02955670000[1]"/>
          <p:cNvPicPr/>
          <p:nvPr/>
        </p:nvPicPr>
        <p:blipFill>
          <a:blip r:embed="rId1"/>
          <a:stretch/>
        </p:blipFill>
        <p:spPr>
          <a:xfrm>
            <a:off x="6324480" y="3276720"/>
            <a:ext cx="2713320" cy="342900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914400" y="467820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«Как мы можем улучшить обслуживание?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42CD-57B0-43A6-9868-F032C253C6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Фокус-групп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3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проведении обсужден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фокус-групп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небольшие группы из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8–10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лове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ите людей из разных социальных групп и с разными запросами к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чните с вопросов, которые установят довер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екомендации по отбору фокус-групп для сопоставимост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давайте открытые вопросы, на которые клиент может высказать свое мнение, а не отвечать «Да» или «Нет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8" name="Picture 9" descr="MCPE02097_0000[1]"/>
          <p:cNvPicPr/>
          <p:nvPr/>
        </p:nvPicPr>
        <p:blipFill>
          <a:blip r:embed="rId1"/>
          <a:srcRect l="0" t="0" r="10555" b="60635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46D6-8844-43EB-8B71-D1E65E9B5B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FEA5-CF6E-4FE7-9A06-19CD4ADC0E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змерение удовлетворенности клиентов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озможности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228600" y="1676520"/>
            <a:ext cx="876312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Опросы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2743200" y="3352680"/>
            <a:ext cx="348156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Информац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Улучшение процесс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0A6F-17DF-448D-A4D2-40F2A521D3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A42E-27FC-4F30-BA39-BE1787A1A6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которые клиенты пожаловались на значительные задержки в выдаче результатов анализов на ВИЧ. Вы убедились в том, что задержки были необоснованными, и устранили недостатк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к вы можете восстановить доверие клиентов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5F27-21CF-423C-A327-E96ADB1878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1436-3B72-4154-8458-F9AB2C8765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Активная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система управления качеством обеспечит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потребностей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всех клиентов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4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5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6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BFB8-E4A1-45EE-813E-E087E09F1C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85DC-AC50-43FF-A1B0-4106A82512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лиентов – неотъемлемая часть системы управления качеством. Важно, чтобы лаборатор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ктивно участвовала в этом процесс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одила планирование и отслежи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ла и понимала клиентов и их потреб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яла ресурсы для этой програм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0880" y="1219320"/>
            <a:ext cx="87631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овлетворение потребностей клиентов является основной целью лаборатор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ктивная система управления качеством в лаборатории обеспечит удовлетворение потребностей всех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ый сотрудник лаборатории несет ответственность за качество и, как следствие, за обслуживание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4CAF-9467-40D7-82CE-15491D2E94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1BD5-9E61-4DCE-8E3F-31FE4D0D8F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9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70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1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2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3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5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6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7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8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9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3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4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5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6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7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8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89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0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2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5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6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7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8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9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0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01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2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3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5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6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7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8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9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10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1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12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3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4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15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6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8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9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0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1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2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3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4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5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6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2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4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4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4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4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5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5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5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7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8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83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527A-798C-4FE6-AEBE-8A17524252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5115-EB8F-40AE-909A-C9389244BA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7D77-E7E0-47C8-B290-20F4F166AF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819520" y="487692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Четыре принципа управления качеств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80880" y="2661840"/>
            <a:ext cx="6248520" cy="1556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Качество – это удовлетворение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потребностей клиентов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FD9D-4638-4C7B-BB84-6A5826C708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EFE7-3D33-4728-B824-A0E45F01F4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отвечает за обслуживание клиента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2590920" y="3112920"/>
            <a:ext cx="419076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Кажды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лаборатории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программы повышения удовлетворенности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160" y="2057040"/>
            <a:ext cx="838188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с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верженность всех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лан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адение методами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е ресурс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9833-0B08-4160-9637-9E985669FE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9670-8AC1-424E-AD46-94205D2068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39CA-AB01-4709-AE32-BE6FA6EB8F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и ее кли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8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20" name="AutoShape 9"/>
          <p:cNvSpPr/>
          <p:nvPr/>
        </p:nvSpPr>
        <p:spPr>
          <a:xfrm>
            <a:off x="3505320" y="4800600"/>
            <a:ext cx="220968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ругие мед. работни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21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AutoShape 11"/>
          <p:cNvCxnSpPr>
            <a:stCxn id="215" idx="3"/>
            <a:endCxn id="220" idx="1"/>
          </p:cNvCxnSpPr>
          <p:nvPr/>
        </p:nvCxnSpPr>
        <p:spPr>
          <a:xfrm>
            <a:off x="2438280" y="5105520"/>
            <a:ext cx="106776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3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4F37-6A81-4D6F-98CC-53DF8AA98A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0AB5-8343-4F91-B5F3-90CA4D4617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должна иметь юридическую идентификаци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65530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дре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О руководите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актная информация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лефо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акс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лектронная поч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4" descr="j0286448"/>
          <p:cNvPicPr/>
          <p:nvPr/>
        </p:nvPicPr>
        <p:blipFill>
          <a:blip r:embed="rId1"/>
          <a:stretch/>
        </p:blipFill>
        <p:spPr>
          <a:xfrm>
            <a:off x="5562720" y="1905120"/>
            <a:ext cx="3286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21:21Z</dcterms:modified>
  <cp:revision>168</cp:revision>
  <dc:subject/>
  <dc:title>Slide 1</dc:title>
</cp:coreProperties>
</file>