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4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5870-2F2F-4B1F-B7CF-9B78E7FE5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948A-AF88-45BF-9AB5-8CB005FD8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2D77-BB34-4D25-AA03-C13D54C63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C3EE-C6DE-456C-BF19-EE3F439F2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B44F-5A3F-4649-9CAE-41A4F5125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852D-4BC2-4621-885D-2A5C727D6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A035-176D-44DA-8F21-EB9C31845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DDAE-61FA-4328-A406-D41DB9AA6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98AB-F949-436F-895E-3E9D5374B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D9BA-81E3-4194-9AD3-588449118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A1AC-2A62-4859-A8AA-1FC5655D2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B47F-1722-4BEA-9B76-EBFC405FE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822F-118D-4943-A11A-9158F69F9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568A-5A81-43D2-9B57-350AD174D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AEA2-26CF-4E5F-81FE-8101A6F64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6154-397B-4AC3-98CD-265DF682A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EA7E-55EE-4957-A469-AD2B052E0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FC56-C92A-43BE-BC29-DC9A5EB65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833B-AEA3-475B-AB6C-6FAE2E15B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0359-952D-45AB-8FE2-24CC54ECB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15DC-77CC-4211-99F1-9723E10DA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9051-EE27-4266-B380-515A40A41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4EEC-4698-4C50-915E-AF31ADDA6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239C-D907-443B-A19D-65B6D7980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1C01-4AE6-45A0-9E6E-05AA4430E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79DD-2FE3-4EE2-8627-A8BA91A4E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A70D-F011-4586-AD99-9C5A92826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6368-1F36-46A8-9DA7-929E7ADAD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96D1-7A79-46B2-8EFE-3069FC567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C360-C9BF-4906-BAE8-6CA34805F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6284-1800-4A9D-AFF7-F02BF3FDA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17B5-0504-4FCF-B1D7-27A7888F0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DE73D-69E7-4DC9-B4EE-778777CCFB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5E887-0F33-4723-BA7D-3C0F9C3AFF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B857C-7C7B-42E4-A236-8044F01109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3DAD8-5C87-41B8-9DBD-9F21EC56A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5EA7-D5DF-4B66-AEDF-4A12A74A97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1BB1-EA97-4908-858B-5087E4FAA0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7607-9D8F-4469-A9B7-0C7DF399F9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9F4B-F04C-4BA9-8212-BFA53FBA90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FD93-AB84-4632-B3AB-2CC887C56E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5CF8-6A85-425C-BB34-031041CA89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0DEC-1D07-4149-9C31-FC393F7247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85C6D-173C-491D-8476-E9E8B3E3E8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D253-F5A3-4C81-84D8-DD8A6550A3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3523-9CDA-40D9-8772-48945616F1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2D4E-A2DC-4339-84AC-6B7738B43B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0927-8221-41ED-B9F6-379572A53B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2FD1-8605-4EDF-BC6D-BE04AC93870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01C9B-7A73-4873-AAA2-E5293834AAF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60370-988E-43A0-BA4B-CF5DA0B5DB4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C3951-0E5B-495F-9BB6-8690D2563C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73F55-2CE4-4B23-BD23-FF1FDE387F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9E197-B401-4BFC-ABC6-FABD355018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02ED2-A306-46D7-878C-74809FFAD2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98028-68A3-4301-A121-0D0F2673A6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7FC05-DBB3-4BA9-B75B-0DB921EFE9F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4A389-0080-4458-8590-28B9111649F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02529-6C11-41CF-AB12-57C56BC0552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3F61C-A58B-4CB2-97E0-C6B842F0CF3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36727-4778-4FC5-9F7A-4B4C9083F6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5DBCC-16BA-40AC-B4AE-90FEB406BD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BCFA4-FCA4-40DC-A620-879DFDE91F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4590F-799D-4A04-ACFF-F72091DB7F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73E5F-20D4-487E-BE9B-CB9FA56328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88D97-9BB8-4602-B852-5CBAE72CCB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00091-D6EF-4A55-90F8-65D090E6E2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903C5-35CE-41B2-8E45-1E2719F0F4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61976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E4DF-0038-4620-BEC2-EDCD5A1F3C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761976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56B0-4C03-4CCE-A9D9-BECE576811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4"/>
          </p:nvPr>
        </p:nvSpPr>
        <p:spPr>
          <a:xfrm>
            <a:off x="457200" y="6429240"/>
            <a:ext cx="50292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5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3856-5613-41DA-BEE2-0D15B21F3A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81080" y="1833480"/>
            <a:ext cx="7010640" cy="23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Контроль качества исследований на чувствительность к антимикробным препарата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D665-F1EC-4F28-A652-D2037C46DB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66636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колонии для анализ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DDD9-43AF-4614-A30F-79DA10B4E24B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04B9-09C8-45F7-BDF5-87E0BFE0A2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5760"/>
            <a:ext cx="8229600" cy="17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андарт МакФарланда 0,5 и доведенная суспензия исследуемого микроорганиз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64CA-3919-42EE-9060-073754AF1153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Object 2"/>
          <p:cNvGraphicFramePr/>
          <p:nvPr/>
        </p:nvGraphicFramePr>
        <p:xfrm>
          <a:off x="1220760" y="228600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228600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1CB8-828D-41D5-A653-1EF895485E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B579-8361-4407-82E8-C4D91DE1E863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пользование диспенсеров для диск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765080"/>
            <a:ext cx="51814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имущ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но, быстр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еличивает воспроизвод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иски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аминац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трудники теряют навыки распределе-ния дисков вручну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4" descr="distributeur"/>
          <p:cNvPicPr/>
          <p:nvPr/>
        </p:nvPicPr>
        <p:blipFill>
          <a:blip r:embed="rId1"/>
          <a:stretch/>
        </p:blipFill>
        <p:spPr>
          <a:xfrm>
            <a:off x="5105520" y="1905120"/>
            <a:ext cx="3886200" cy="32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0D94-E5BD-47A7-81A4-DFA11E9791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7192-1D1C-4031-8839-317A7F2840DD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ые проблемы при анализах на чувствительность с диска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58" name="Picture 12" descr="Too Heavy"/>
          <p:cNvPicPr/>
          <p:nvPr/>
        </p:nvPicPr>
        <p:blipFill>
          <a:blip r:embed="rId1"/>
          <a:stretch/>
        </p:blipFill>
        <p:spPr>
          <a:xfrm>
            <a:off x="380880" y="1600200"/>
            <a:ext cx="8382240" cy="449568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609480" y="5435640"/>
            <a:ext cx="29718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ски расположены равномер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5257800" y="5334120"/>
            <a:ext cx="31240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ски расположены равномер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лишком ГУСТОЙ пос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8726-8E37-425A-85BB-564136BF3E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Disk moved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60044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11"/>
          <p:cNvSpPr/>
          <p:nvPr/>
        </p:nvSpPr>
        <p:spPr>
          <a:xfrm>
            <a:off x="380880" y="38556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ые проблемы при анализах на чувствительность с дис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685800" y="5257800"/>
            <a:ext cx="29718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ски расположены равномер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7"/>
          <p:cNvSpPr/>
          <p:nvPr/>
        </p:nvSpPr>
        <p:spPr>
          <a:xfrm>
            <a:off x="5410080" y="5265720"/>
            <a:ext cx="297180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оны неправильной формы, потому что диски расположены неравномер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3BC5-007B-4D0E-A4FD-33B16AF28C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6A01-2F20-4342-8353-42F72CBB5A76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3374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змерение размера зон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2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8"/>
          <p:cNvSpPr/>
          <p:nvPr/>
        </p:nvSpPr>
        <p:spPr>
          <a:xfrm>
            <a:off x="6127200" y="403848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1664640" y="4038480"/>
            <a:ext cx="27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тангенцирку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indent="-17928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беспечьте хорошее освещение, измеряйте с обратной стороны ча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 разных антибиотиков разный размер з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огут помочь увеличительные приб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 миллиметры играют 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2FB9-12B2-4B9E-A884-DDBB08F0D9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520" y="698040"/>
            <a:ext cx="84582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 градиента антибиотиков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BDCE-8106-48B1-AD13-AC7725DB248B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457200" y="6429240"/>
            <a:ext cx="502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87D8-E8E8-463B-B557-BA7D960BE4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39060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зультаты анализов будут неправильными, есл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153640" cy="43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икроорганизм был неправильно идентифицирова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а сделана ошибка при записи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и выбраны неправильные антибиоти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а исследована проба не того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 запрошен неправильный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была обеспечена сохранность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CA70-A935-4248-B18A-24F979333B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25E7-8944-4C67-87CC-CF68A565588E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8458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следования на чувствительность к антибиотика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5" name="Picture 4" descr="k_b"/>
          <p:cNvPicPr/>
          <p:nvPr/>
        </p:nvPicPr>
        <p:blipFill>
          <a:blip r:embed="rId1"/>
          <a:stretch/>
        </p:blipFill>
        <p:spPr>
          <a:xfrm>
            <a:off x="457200" y="1963800"/>
            <a:ext cx="1714680" cy="1668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96380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micmlc2"/>
          <p:cNvPicPr/>
          <p:nvPr/>
        </p:nvPicPr>
        <p:blipFill>
          <a:blip r:embed="rId3"/>
          <a:stretch/>
        </p:blipFill>
        <p:spPr>
          <a:xfrm>
            <a:off x="4114800" y="1963800"/>
            <a:ext cx="2209680" cy="1749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vitek-2"/>
          <p:cNvPicPr/>
          <p:nvPr/>
        </p:nvPicPr>
        <p:blipFill>
          <a:blip r:embed="rId4"/>
          <a:stretch/>
        </p:blipFill>
        <p:spPr>
          <a:xfrm>
            <a:off x="6400800" y="19638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1"/>
          <p:cNvSpPr/>
          <p:nvPr/>
        </p:nvSpPr>
        <p:spPr>
          <a:xfrm>
            <a:off x="676440" y="4114800"/>
            <a:ext cx="7934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доставляют информацию для выбора подходящих препаратов для антимикробного ле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457200" y="6429240"/>
            <a:ext cx="502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6453-9CD8-4103-9CF1-A9661C00C0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666360"/>
            <a:ext cx="7391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зультаты разных метод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етод диффузии в агар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ет качественные результаты в одной из категорий: чувствительные, промежуточные или устойчив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етоды микроразведений и градиентной диффузии в агар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ют количественный результат, минимальную ингибирующую концентр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199A-019A-4685-B40B-494016B680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380880" y="45720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ы определения чувстви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4"/>
          <p:cNvGrpSpPr/>
          <p:nvPr/>
        </p:nvGrpSpPr>
        <p:grpSpPr>
          <a:xfrm>
            <a:off x="685800" y="1143000"/>
            <a:ext cx="7558200" cy="5227560"/>
            <a:chOff x="685800" y="1143000"/>
            <a:chExt cx="7558200" cy="5227560"/>
          </a:xfrm>
        </p:grpSpPr>
        <p:pic>
          <p:nvPicPr>
            <p:cNvPr id="178" name="Picture 4" descr="PBL Susceptibility testing 2008"/>
            <p:cNvPicPr/>
            <p:nvPr/>
          </p:nvPicPr>
          <p:blipFill>
            <a:blip r:embed="rId1"/>
            <a:srcRect l="4364" t="8470" r="5455" b="8470"/>
            <a:stretch/>
          </p:blipFill>
          <p:spPr>
            <a:xfrm>
              <a:off x="685800" y="1143000"/>
              <a:ext cx="7558200" cy="522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Box 1"/>
            <p:cNvSpPr/>
            <p:nvPr/>
          </p:nvSpPr>
          <p:spPr>
            <a:xfrm>
              <a:off x="761760" y="2666880"/>
              <a:ext cx="1600200" cy="70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Пробирки со средой, бактериями и возрастающей концентрацией антибиотик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2"/>
            <p:cNvSpPr/>
            <p:nvPr/>
          </p:nvSpPr>
          <p:spPr>
            <a:xfrm>
              <a:off x="9720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7"/>
            <p:cNvSpPr/>
            <p:nvPr/>
          </p:nvSpPr>
          <p:spPr>
            <a:xfrm>
              <a:off x="15372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8"/>
            <p:cNvSpPr/>
            <p:nvPr/>
          </p:nvSpPr>
          <p:spPr>
            <a:xfrm>
              <a:off x="21132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9"/>
            <p:cNvSpPr/>
            <p:nvPr/>
          </p:nvSpPr>
          <p:spPr>
            <a:xfrm>
              <a:off x="26280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11"/>
            <p:cNvSpPr/>
            <p:nvPr/>
          </p:nvSpPr>
          <p:spPr>
            <a:xfrm>
              <a:off x="31680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2"/>
            <p:cNvSpPr/>
            <p:nvPr/>
          </p:nvSpPr>
          <p:spPr>
            <a:xfrm>
              <a:off x="37080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12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5"/>
            <p:cNvSpPr/>
            <p:nvPr/>
          </p:nvSpPr>
          <p:spPr>
            <a:xfrm>
              <a:off x="2216520" y="2895480"/>
              <a:ext cx="106164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 Narrow"/>
                </a:rPr>
                <a:t>М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 Narrow"/>
                </a:rPr>
                <a:t>инималь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 Narrow"/>
                </a:rPr>
                <a:t>И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 Narrow"/>
                </a:rPr>
                <a:t>нгибирующ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 Narrow"/>
                </a:rPr>
                <a:t>К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 Narrow"/>
                </a:rPr>
                <a:t>онцентрац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6"/>
            <p:cNvSpPr/>
            <p:nvPr/>
          </p:nvSpPr>
          <p:spPr>
            <a:xfrm>
              <a:off x="3238560" y="2666880"/>
              <a:ext cx="1638360" cy="64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Серийные разведения в бульон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15"/>
            <p:cNvSpPr/>
            <p:nvPr/>
          </p:nvSpPr>
          <p:spPr>
            <a:xfrm>
              <a:off x="3708000" y="5486400"/>
              <a:ext cx="17020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Диффузия в агар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6"/>
            <p:cNvSpPr/>
            <p:nvPr/>
          </p:nvSpPr>
          <p:spPr>
            <a:xfrm>
              <a:off x="858960" y="3869280"/>
              <a:ext cx="833400" cy="16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Arial"/>
                </a:rPr>
                <a:t>растущих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7"/>
            <p:cNvSpPr/>
            <p:nvPr/>
          </p:nvSpPr>
          <p:spPr>
            <a:xfrm>
              <a:off x="838800" y="3557880"/>
              <a:ext cx="137088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Arial"/>
                </a:rPr>
                <a:t>Чашка агара 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18"/>
            <p:cNvSpPr/>
            <p:nvPr/>
          </p:nvSpPr>
          <p:spPr>
            <a:xfrm>
              <a:off x="798840" y="3750480"/>
              <a:ext cx="893520" cy="13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Arial"/>
                </a:rPr>
                <a:t>газоно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19"/>
            <p:cNvSpPr/>
            <p:nvPr/>
          </p:nvSpPr>
          <p:spPr>
            <a:xfrm>
              <a:off x="802800" y="4038480"/>
              <a:ext cx="79200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Arial"/>
                </a:rPr>
                <a:t>бактери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21"/>
            <p:cNvSpPr/>
            <p:nvPr/>
          </p:nvSpPr>
          <p:spPr>
            <a:xfrm>
              <a:off x="2736000" y="5562720"/>
              <a:ext cx="432000" cy="252000"/>
            </a:xfrm>
            <a:prstGeom prst="rect">
              <a:avLst/>
            </a:prstGeom>
            <a:solidFill>
              <a:srgbClr val="ff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</a:rPr>
                <a:t>Размер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</a:rPr>
                <a:t>зон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22"/>
            <p:cNvSpPr/>
            <p:nvPr/>
          </p:nvSpPr>
          <p:spPr>
            <a:xfrm>
              <a:off x="2684160" y="4572000"/>
              <a:ext cx="897120" cy="483480"/>
            </a:xfrm>
            <a:prstGeom prst="rect">
              <a:avLst/>
            </a:prstGeom>
            <a:solidFill>
              <a:srgbClr val="fc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Зона задержки роста бактери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23"/>
            <p:cNvSpPr/>
            <p:nvPr/>
          </p:nvSpPr>
          <p:spPr>
            <a:xfrm>
              <a:off x="1617120" y="5014080"/>
              <a:ext cx="897120" cy="396000"/>
            </a:xfrm>
            <a:prstGeom prst="rect">
              <a:avLst/>
            </a:prstGeom>
            <a:solidFill>
              <a:srgbClr val="ff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Диск, пропитанный антибиотиком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24"/>
            <p:cNvSpPr/>
            <p:nvPr/>
          </p:nvSpPr>
          <p:spPr>
            <a:xfrm>
              <a:off x="1723680" y="5410080"/>
              <a:ext cx="432000" cy="252000"/>
            </a:xfrm>
            <a:prstGeom prst="rect">
              <a:avLst/>
            </a:prstGeom>
            <a:solidFill>
              <a:srgbClr val="ff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26"/>
            <p:cNvSpPr/>
            <p:nvPr/>
          </p:nvSpPr>
          <p:spPr>
            <a:xfrm>
              <a:off x="4876920" y="1260720"/>
              <a:ext cx="3200400" cy="201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Анализы на чувствительность определяют, будет ли бактериальный рост подавляться антибиотиком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Чувствительность базируется на концентрации антибиотика, при которой нет заметного на глаз роста бактерий (см. МИК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28"/>
            <p:cNvSpPr/>
            <p:nvPr/>
          </p:nvSpPr>
          <p:spPr>
            <a:xfrm>
              <a:off x="4068000" y="4536000"/>
              <a:ext cx="57852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М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TextBox 29" descr=""/>
            <p:cNvPicPr/>
            <p:nvPr/>
          </p:nvPicPr>
          <p:blipFill>
            <a:blip r:embed="rId2"/>
            <a:stretch/>
          </p:blipFill>
          <p:spPr>
            <a:xfrm>
              <a:off x="3584520" y="3474720"/>
              <a:ext cx="262080" cy="9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Box 30"/>
            <p:cNvSpPr/>
            <p:nvPr/>
          </p:nvSpPr>
          <p:spPr>
            <a:xfrm>
              <a:off x="4248000" y="3600000"/>
              <a:ext cx="1260000" cy="31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</a:rPr>
                <a:t>Примечание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</a:rPr>
                <a:t>По размеру зоны можно вычислить МИК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31"/>
            <p:cNvSpPr/>
            <p:nvPr/>
          </p:nvSpPr>
          <p:spPr>
            <a:xfrm>
              <a:off x="4572000" y="3961080"/>
              <a:ext cx="1049040" cy="19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</a:rPr>
                <a:t>Чем меньше зона, тем выше МИК.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32"/>
            <p:cNvSpPr/>
            <p:nvPr/>
          </p:nvSpPr>
          <p:spPr>
            <a:xfrm>
              <a:off x="5621400" y="3516840"/>
              <a:ext cx="2379960" cy="2438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Чувствитель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Бактерии считаются чувствительными к антибиотику, если подавление их роста происходит при такой концентрации антибиотика, которую </a:t>
              </a:r>
              <a:r>
                <a:rPr b="1" lang="ru-RU" sz="1000" spc="-1" strike="noStrike">
                  <a:solidFill>
                    <a:srgbClr val="e68e00"/>
                  </a:solidFill>
                  <a:latin typeface="Arial"/>
                </a:rPr>
                <a:t>ЛЕГКО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создать в </a:t>
              </a:r>
              <a:r>
                <a:rPr b="1" lang="ru-RU" sz="1000" spc="-1" strike="noStrike">
                  <a:solidFill>
                    <a:srgbClr val="e68e00"/>
                  </a:solidFill>
                  <a:latin typeface="Arial"/>
                </a:rPr>
                <a:t>СЫВОРОТКЕ КРОВИ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пациента и которая будет </a:t>
              </a:r>
              <a:r>
                <a:rPr b="1" lang="ru-RU" sz="1000" spc="-1" strike="noStrike">
                  <a:solidFill>
                    <a:srgbClr val="e68e00"/>
                  </a:solidFill>
                  <a:latin typeface="Arial"/>
                </a:rPr>
                <a:t>БЕЗОПАСНА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для пациента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В этом случае ожидается положительная реакция на лечение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Устойчив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ротивоположность чувствительных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40BF-F219-4348-8F8B-A99D03EED2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0B25-7337-4F67-AB97-9A49C87756D6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457200" y="3017880"/>
            <a:ext cx="2556000" cy="3306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07" name="Text Box 3"/>
          <p:cNvSpPr/>
          <p:nvPr/>
        </p:nvSpPr>
        <p:spPr>
          <a:xfrm>
            <a:off x="533520" y="1143000"/>
            <a:ext cx="822960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ститут клинических и лабораторных стандартов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щество микробиологии Фр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щество микробной химиотерапии Брит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"/>
          <p:cNvPicPr/>
          <p:nvPr/>
        </p:nvPicPr>
        <p:blipFill>
          <a:blip r:embed="rId2"/>
          <a:stretch/>
        </p:blipFill>
        <p:spPr>
          <a:xfrm>
            <a:off x="6172200" y="3017880"/>
            <a:ext cx="2362320" cy="330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209" name="Object 6"/>
          <p:cNvGraphicFramePr/>
          <p:nvPr/>
        </p:nvGraphicFramePr>
        <p:xfrm>
          <a:off x="3429000" y="3017880"/>
          <a:ext cx="2490840" cy="33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017880"/>
                    <a:ext cx="2490840" cy="3306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1" name="Text Box 8"/>
          <p:cNvSpPr/>
          <p:nvPr/>
        </p:nvSpPr>
        <p:spPr>
          <a:xfrm>
            <a:off x="457200" y="4572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сточники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1248-8696-48F2-89F2-F4A046FFBD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46476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Для примера – выдержка из одного из источников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:</a:t>
            </a:r>
            <a:br>
              <a:rPr sz="28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препаратов для анализ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1B3F-A1FC-46F1-8208-8C1124DBF03E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Object 2"/>
          <p:cNvGraphicFramePr/>
          <p:nvPr/>
        </p:nvGraphicFramePr>
        <p:xfrm>
          <a:off x="414360" y="232560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32560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8" name="TextBox 1" descr=""/>
          <p:cNvPicPr/>
          <p:nvPr/>
        </p:nvPicPr>
        <p:blipFill>
          <a:blip r:embed="rId3"/>
          <a:stretch/>
        </p:blipFill>
        <p:spPr>
          <a:xfrm>
            <a:off x="609480" y="2925720"/>
            <a:ext cx="706680" cy="13543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2"/>
          <p:cNvSpPr/>
          <p:nvPr/>
        </p:nvSpPr>
        <p:spPr>
          <a:xfrm>
            <a:off x="533520" y="2124000"/>
            <a:ext cx="796752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блица 1. Группы одобренных Управлением по продовольствию и медикаментам США антимикробных препаратов, рекомендуемые лабораториям клинической микробиологии для плановых анализов и отчетности по «непривередливым» микроорганизмам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7703-5CEF-4E30-A2E7-0E19098A7B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F82F-E414-4AC0-9D9A-0C1331B0DDF5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520" y="455760"/>
            <a:ext cx="7543800" cy="17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может быть источником ошибки в анализах на чувствительнос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381040"/>
            <a:ext cx="77724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микробиологические сред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нтимикробные препара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ультура для посе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нкуб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борудование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7679-308B-494B-8F4D-DFF8AD0BC4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A1E4-B5A0-4123-A811-1F66F3F6BA43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496440"/>
            <a:ext cx="71629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етод диффузии в агар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52760"/>
            <a:ext cx="8610480" cy="40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ред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гар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сотой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юллер-Хинтон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 7.2–7.4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ск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инимум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0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нтибиотикам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ран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евна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кФарланд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0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актерий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л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культур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рмостат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душная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тмосферный воздух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ред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A183-D047-488B-AFE1-6CEFC3D817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222C-2377-42A7-8AFF-BE79ABEBB672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ные штамм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92468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685800" y="380988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икроорганизмы для КК должны быть получены из надежного источни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определенные микроорганизмы в анализах разных комбинаций «бактерии-антибиот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Olga</cp:lastModifiedBy>
  <dcterms:modified xsi:type="dcterms:W3CDTF">2013-05-12T11:00:29Z</dcterms:modified>
  <cp:revision>32</cp:revision>
  <dc:subject/>
  <dc:title>Microbiology QC</dc:title>
</cp:coreProperties>
</file>