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CFC5-52D6-481A-9C3A-5D7B55C86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693B-1434-4DE3-AA60-3778F9528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3952-14DD-46E5-B20E-8278CB690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2A1A-AF32-40BB-AA50-92012AB8A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93AA-B9AD-4516-9E34-3442FB692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C691-7A96-4F2C-BF70-30ED10B79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8650-9222-49F0-8B29-764094B12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2837-04AB-4FB1-873B-361D8ADC9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6D1F-2DA3-4A2A-B7BC-1B673A5A4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784D-DC01-4717-91AF-9F885AF68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6CEA-5B14-46CB-99C5-8B65FD89B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E676-E65F-41FA-89D4-7034DB5AA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3B26-2A1F-4E12-8C71-85B776E24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00A4-1EDA-4807-9D59-9C6EE4E73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571A0-5D09-4A73-9B75-92D92174E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6E350-0CBE-4DE6-B096-CFCA9F79C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EAEA7-2532-426D-8264-AAB70C33B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34FEA-D4B5-473E-A8F6-47DB46E49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A48-4E33-44E4-A0D3-40FDA38156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6A87-1262-4AD1-9628-9DB6753E41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052F-5B8B-49C4-B624-94536E6353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A3DC-F8D6-4CD5-98E9-5D01327C7C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2477-ED69-45CF-87E8-B067766665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DF03-C548-4083-A3A2-13FA4783A0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49C3-17CB-4599-972D-219C8E6EF5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4600F-7AD7-4894-9B1A-1B826BF5BD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FC74-CA28-429D-BFE5-A0DC8D3866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38E-DB64-4CE9-A473-F52A11385A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6052-443E-4FEF-AFA1-5D59DF306C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43DA-AA98-4D53-9DDD-F35C40B42E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E017-E666-449A-82CE-13926A9646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DED87-0BA6-405F-9425-E4BCDFABBD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D5762-2DA0-4DF0-9986-AA0E97510B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3273E-88A9-468F-8616-CD44368B92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14E85-61D7-460F-9CBB-EC6F3C9B0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CA592-C7BD-495F-8F5A-EC6186CCE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D3708-4793-4404-983D-57112DEBE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99064-85B2-4D85-A168-DFF1AC108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47560" y="640008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37524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E700-7877-4681-B1A4-B90624468B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6521-3A3C-40F4-88F6-B4B49A11A8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A063-8EEA-4CD0-BA38-D677698ED7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24080" y="1668240"/>
            <a:ext cx="5181840" cy="25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Организация программы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Verdana"/>
                <a:ea typeface="Verdana"/>
              </a:rPr>
              <a:t>внешней оценки качества (ВОК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7112-0FA8-4213-8AEE-8A86B758A7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9120" y="2133360"/>
            <a:ext cx="807732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направленность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цели и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правила конфиденци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благодарности, признание вкл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онтактн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Verdana"/>
              </a:rPr>
              <a:t>календарный граф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F536-EEC9-48D9-865E-A24026BBD6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Отслежи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31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омментариев, отзывов на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оли «арбитра» организатора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замечаний и рекомендаций от участвующих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путей решения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илучших способов для рекомендации определенных мет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28796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495680"/>
            <a:ext cx="5105160" cy="1447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Отлично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  <a:ea typeface="SimSun"/>
              </a:rPr>
              <a:t>!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  <a:ea typeface="SimSun"/>
              </a:rPr>
              <a:t>Так и должно бы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E93B-BA1B-4C2C-A966-4FE6E4B15B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участвовать в международной 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прос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ма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еред началом проведите испы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начните с хорошим планом по взаимодействию и обмену информ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будьте очень внимательны к комментариям и отзыв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7d"/>
                </a:solidFill>
                <a:latin typeface="Verdana"/>
                <a:ea typeface="SimSun"/>
              </a:rPr>
              <a:t>Запуск программы ВОК для всей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235F-FAE8-4FA2-B22C-5600BE659F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41440" y="1209240"/>
            <a:ext cx="40258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Verdan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7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9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9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9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0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0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1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1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22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22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22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Footer Placeholder 1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533520" y="627660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1CD5-A97B-4860-B096-467A686018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Типы В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циональная программа проверки компете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ть лабораторий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жлабораторные сравнения, пере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ка на ме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533520" y="6429240"/>
            <a:ext cx="51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CCA2-869B-4BD9-8EAE-8D9CF57C27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45820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Для организатора ВОК необходимо предшествующее (успешное!) участие в программе В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971440"/>
            <a:ext cx="82296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SimSun"/>
              </a:rPr>
              <a:t>участие в международной програм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 (для организатора национальной пр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тслеживание качества в своей л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еобходимо и обяз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524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опрос об уверенности в своих си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92A9-2F3D-4840-B03C-F7FAB92DFD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4928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Привлеките вышестоящие орг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1320" y="1828800"/>
            <a:ext cx="834372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ходит в сферу их полномоч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еспеч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66"/>
                </a:solidFill>
                <a:latin typeface="Verdana"/>
                <a:ea typeface="SimSun"/>
              </a:rPr>
              <a:t>долгосроч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и способы обмена информацие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вязь с органами по лицензированию, сертификации, аккреди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финансирование 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мероприят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ВОК приводят к эконом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, финансирова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SimSun"/>
              </a:rPr>
              <a:t>их оправдан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4343400"/>
            <a:ext cx="213372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882B-3DEC-445F-B954-6E99E17D05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прост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3059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 компетен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шенные или неокраш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по Гр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окраска на К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арази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бактериальных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ишечных микроорганизмов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ере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предметные стекла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УБ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Гра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МЖ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другие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бактериальные штаммы, если имеются материальные и технические возможности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ллекция штам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5943600" y="22716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4267080" y="2438280"/>
            <a:ext cx="1600200" cy="4572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9C31-082C-42AA-AA4C-2F771734E5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609588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мал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92468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большое число лабора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регион для испы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верьте вариан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транспортир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и на ан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(еще не участвующие в программ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ервая проверка на простых задачах (предметные стек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лабораторий в течение 1-го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макс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пробы в одной рассылке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Verdana"/>
              </a:rPr>
              <a:t>не реже 2 раз в год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j0278576"/>
          <p:cNvPicPr/>
          <p:nvPr/>
        </p:nvPicPr>
        <p:blipFill>
          <a:blip r:embed="rId1"/>
          <a:stretch/>
        </p:blipFill>
        <p:spPr>
          <a:xfrm>
            <a:off x="6477120" y="1447920"/>
            <a:ext cx="2151000" cy="259056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8"/>
          <p:cNvSpPr/>
          <p:nvPr/>
        </p:nvSpPr>
        <p:spPr>
          <a:xfrm rot="19759200">
            <a:off x="6934320" y="19810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B471-7A8C-4019-99D0-58C39366DC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Начните с не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47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 начале избегайт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«особо опасных»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патог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инфекционных сыворо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полняйте национальные правила по транспортир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415C-25A6-4736-A013-4A4192D337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82320"/>
            <a:ext cx="62481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SimSun"/>
              </a:rPr>
              <a:t>Требующаяся инфра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2076120"/>
            <a:ext cx="426708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бочий 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ебольшая 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редства связ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nhls2"/>
          <p:cNvPicPr/>
          <p:nvPr/>
        </p:nvPicPr>
        <p:blipFill>
          <a:blip r:embed="rId1"/>
          <a:stretch/>
        </p:blipFill>
        <p:spPr>
          <a:xfrm>
            <a:off x="5105520" y="2131920"/>
            <a:ext cx="335268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547560" y="64004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граммы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DFB5-F896-452A-8CF6-E0BB6EEA5E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8912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Обмен информацией с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9132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частвующими лаборатор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вышестоящими орган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научными сооб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фессиональными ассоциац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юбыми другими сторонами, заинтересованными в 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6781680" y="2585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«В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Olga</cp:lastModifiedBy>
  <dcterms:modified xsi:type="dcterms:W3CDTF">2013-05-15T13:57:15Z</dcterms:modified>
  <cp:revision>52</cp:revision>
  <dc:subject/>
  <dc:title>EQA scheme Organization optional</dc:title>
</cp:coreProperties>
</file>