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12.png" ContentType="image/png"/>
  <Override PartName="/ppt/media/image9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2069D-E929-416F-917D-8BC7296C9F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97C9FA31-B7AB-47AF-9E23-38408A5C2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BC8C5-8DBD-4CCC-81B0-9C3604281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CB94ACA0-DE47-4B2C-AE7E-7556674B5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2D196C9C-D09E-412A-8805-0D631B343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527D43E8-6BC9-4B37-91F7-E50048FEF1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A2B3A492-BF20-4760-BE20-B8C478B9A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3C9D6AB5-9DC0-4355-BAB5-149E38AD2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C790F8F1-BD6C-4581-A046-505DEA0DA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4097B08C-0DEC-45E0-A0DD-BB2DAD1D7F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3209906B-C345-4AF5-A51D-973884A9E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6FE4A-C8D9-43EC-8C15-16719907C1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FC731-85F8-457E-B393-2DFE32EB9D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A4A9D-7EB5-4430-82C5-E8E104BD58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40980-5E29-4119-8E3D-4DF54CAE8F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9C61-6A72-4FBE-B5D8-BA2F982F15D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25B7-CE90-40D6-9CAD-1BEFB91671C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F85E-7527-4ACD-8F5E-CD84B8564D5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FA05-B04B-4FE5-BB11-AF196A991D3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4C5C-2EF0-4358-A5E5-C737FAF0B26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6B08-5611-4441-B3D3-147059F3150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24C7-6509-49AC-90FF-EB9DCBF139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27B9A-9F2B-40C4-A1EB-6990FA5AB0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A67D-834C-469C-A517-45A5D8BFF8E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F744-E108-475B-A240-8956D966CA1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1BC8-188C-4BF0-8CAC-84F30100E0F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21BB-BC4D-41D5-B84B-3067B56DD02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3400-0711-4FC1-B18A-8876B40FE2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B0DBD-841B-4165-8BCE-5E92994AAD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DE260-6D49-439F-9074-E2D20DEBB2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8B5AC-8EFB-4B57-B746-DEB34284DE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1BCD2-24D6-477D-84E1-6D6D3356BE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C2499-99B4-45D6-AE45-98ED426400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D5F13-FB4A-4C8C-AE65-48CDF80279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239E4-8CC2-41E9-B4CC-B3D2AAB9E2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ведение в контроль качества – Тема 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5EE93-F1D8-4F48-96A4-29FEBA1E16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5A950-C806-4158-87FB-BF36FDE080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4961E-6D61-4168-9D8F-3FA80133BB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Text Box 16"/>
          <p:cNvSpPr/>
          <p:nvPr/>
        </p:nvSpPr>
        <p:spPr>
          <a:xfrm>
            <a:off x="2819520" y="1676520"/>
            <a:ext cx="6172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Контроль</a:t>
            </a: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 процессов: Введение 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контроль каче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 в контроль качества – Тема 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F60FD-BDB4-4DEA-B0D7-4DC478979F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552240"/>
            <a:ext cx="5715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К – 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536480"/>
            <a:ext cx="8229600" cy="34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ая часть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цель – выявить и исправить ошибки до выдачи результатов анализов пациен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ют разные методы для количественных, качественных и полуколичественных анализ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6454E-6086-4B94-918D-E9226A1CDC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51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252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6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267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268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269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1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2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274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277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278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0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2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283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288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0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292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295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301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304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307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 в контроль качества – Тема 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 в контроль качества – Тема 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BBFD5-D33C-4F71-8F49-8A4A8FC56F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Arial"/>
              </a:rPr>
              <a:t>Цели изучения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298520"/>
            <a:ext cx="845820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ть определение контролю качества и объяснить его связь с системой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ъяснить, чем различаются количественные, качественные и полуколичественные исследования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6A867-40D6-4FFA-97BA-9BEACFE535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37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 в контроль качества – Тема 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 в контроль качества – Тема 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42E3B-D480-43C7-AED2-99B5C9DCDF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85800" y="1371240"/>
            <a:ext cx="7772400" cy="50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нтроль качества (КК)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– это часть управления качеством, нацеленная на выполнение требований по качеству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ISO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 9000:2000 (3.4.10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К исследует «контрольные» материалы  известных веществ параллельно с пробами пациентов для контроля правильности и воспроизводимости всего процесса исследования (анализа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 в контроль качества – Тема 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7C902-8CB6-49EC-84F3-C935D7B954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ь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Content Placeholder 2"/>
          <p:cNvSpPr/>
          <p:nvPr/>
        </p:nvSpPr>
        <p:spPr>
          <a:xfrm>
            <a:off x="380880" y="1828800"/>
            <a:ext cx="838224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Целью КК </a:t>
            </a:r>
            <a:r>
              <a:rPr b="0" lang="ru-RU" sz="3600" spc="-1" strike="noStrike">
                <a:solidFill>
                  <a:srgbClr val="ffff00"/>
                </a:solidFill>
                <a:latin typeface="Verdana"/>
              </a:rPr>
              <a:t>является выявление ошибок и их исправ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Verdana"/>
              </a:rPr>
              <a:t>до выда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Verdana"/>
              </a:rPr>
              <a:t>результатов анализов пациен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 в контроль качества – Тема 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E6CF7-EF85-4AB0-AEF6-5E3D6DF1E3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399600"/>
            <a:ext cx="83818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оличественные исследова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3160" y="1206000"/>
            <a:ext cx="7467480" cy="10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Измеряют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количество определенного вещества в пробе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7" name="Group 21"/>
          <p:cNvGrpSpPr/>
          <p:nvPr/>
        </p:nvGrpSpPr>
        <p:grpSpPr>
          <a:xfrm>
            <a:off x="609480" y="4114800"/>
            <a:ext cx="1828800" cy="1447560"/>
            <a:chOff x="609480" y="4114800"/>
            <a:chExt cx="1828800" cy="1447560"/>
          </a:xfrm>
        </p:grpSpPr>
        <p:grpSp>
          <p:nvGrpSpPr>
            <p:cNvPr id="208" name="Group 18"/>
            <p:cNvGrpSpPr/>
            <p:nvPr/>
          </p:nvGrpSpPr>
          <p:grpSpPr>
            <a:xfrm>
              <a:off x="609480" y="4114800"/>
              <a:ext cx="1828800" cy="1447560"/>
              <a:chOff x="609480" y="4114800"/>
              <a:chExt cx="1828800" cy="1447560"/>
            </a:xfrm>
          </p:grpSpPr>
          <p:sp>
            <p:nvSpPr>
              <p:cNvPr id="209" name="AutoShape 6"/>
              <p:cNvSpPr/>
              <p:nvPr/>
            </p:nvSpPr>
            <p:spPr>
              <a:xfrm>
                <a:off x="838080" y="457200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7"/>
              <p:cNvSpPr/>
              <p:nvPr/>
            </p:nvSpPr>
            <p:spPr>
              <a:xfrm>
                <a:off x="609480" y="449568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1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11480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Rectangle 17"/>
              <p:cNvSpPr/>
              <p:nvPr/>
            </p:nvSpPr>
            <p:spPr>
              <a:xfrm>
                <a:off x="2133360" y="426708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3" name="AutoShape 19"/>
            <p:cNvSpPr/>
            <p:nvPr/>
          </p:nvSpPr>
          <p:spPr>
            <a:xfrm>
              <a:off x="1257120" y="5105160"/>
              <a:ext cx="533520" cy="3049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04920"/>
                <a:gd name="textAreaBottom" fmla="*/ 10944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0800"/>
                  </a:moveTo>
                  <a:cubicBezTo>
                    <a:pt x="5400" y="7817"/>
                    <a:pt x="7817" y="5400"/>
                    <a:pt x="10800" y="5400"/>
                  </a:cubicBezTo>
                  <a:cubicBezTo>
                    <a:pt x="13782" y="5399"/>
                    <a:pt x="16199" y="7817"/>
                    <a:pt x="16200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5400" y="108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20"/>
            <p:cNvSpPr/>
            <p:nvPr/>
          </p:nvSpPr>
          <p:spPr>
            <a:xfrm flipH="1" flipV="1">
              <a:off x="1447560" y="525744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5" name="Picture 47" descr="Beaker"/>
          <p:cNvPicPr/>
          <p:nvPr/>
        </p:nvPicPr>
        <p:blipFill>
          <a:blip r:embed="rId2"/>
          <a:stretch/>
        </p:blipFill>
        <p:spPr>
          <a:xfrm>
            <a:off x="7010280" y="4635360"/>
            <a:ext cx="1322640" cy="1384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494600"/>
            <a:ext cx="2203560" cy="19836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54"/>
          <p:cNvSpPr/>
          <p:nvPr/>
        </p:nvSpPr>
        <p:spPr>
          <a:xfrm>
            <a:off x="533520" y="2427120"/>
            <a:ext cx="830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Измерения должны быть точными и воспроизводим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8" descr="10040_lores"/>
          <p:cNvPicPr/>
          <p:nvPr/>
        </p:nvPicPr>
        <p:blipFill>
          <a:blip r:embed="rId4"/>
          <a:stretch/>
        </p:blipFill>
        <p:spPr>
          <a:xfrm>
            <a:off x="2666880" y="3675240"/>
            <a:ext cx="3962520" cy="264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 в контроль качества – Тема 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78E64-A033-4D5A-8FAA-CBF1CAA914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915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400" spc="-1" strike="noStrike">
                <a:solidFill>
                  <a:srgbClr val="00007d"/>
                </a:solidFill>
                <a:latin typeface="Verdana"/>
              </a:rPr>
              <a:t>Качественные методы исследования</a:t>
            </a:r>
            <a:endParaRPr b="0" lang="en-US" sz="3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62000" y="1143000"/>
            <a:ext cx="5857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сследования, не дающие результатов в цифрах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личие или отсутствие рос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ожительный или отрицательны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активный или не реактивный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менение цве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8" descr="qc_growth_poor_growth_cdc"/>
          <p:cNvPicPr/>
          <p:nvPr/>
        </p:nvPicPr>
        <p:blipFill>
          <a:blip r:embed="rId1"/>
          <a:stretch/>
        </p:blipFill>
        <p:spPr>
          <a:xfrm>
            <a:off x="5934240" y="1701720"/>
            <a:ext cx="2415960" cy="16178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pos_neg-urease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319560"/>
            <a:ext cx="2397240" cy="17002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0" descr="qc_pos_neg_latex_agglut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514600" cy="13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 в контроль качества – Тема 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5BAC9-55CF-4AEA-A583-01337CA39D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400" spc="-1" strike="noStrike">
                <a:solidFill>
                  <a:srgbClr val="00007d"/>
                </a:solidFill>
                <a:latin typeface="Verdana"/>
              </a:rPr>
              <a:t>Полуколичественные методы исследования</a:t>
            </a:r>
            <a:endParaRPr b="0" lang="en-US" sz="3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6840" y="2106360"/>
            <a:ext cx="8434440" cy="37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зультаты выражены в виде оценки количества вещества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следы»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умерено» или «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1+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»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2+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»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ли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3+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личество клеток в поле зр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тры и разведения в серологических тест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 в контроль качества – Тема 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3DCC7-83E7-442C-B228-39D27D34AC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Diagram 2"/>
          <p:cNvGrpSpPr/>
          <p:nvPr/>
        </p:nvGrpSpPr>
        <p:grpSpPr>
          <a:xfrm>
            <a:off x="379440" y="760320"/>
            <a:ext cx="8303400" cy="5411520"/>
            <a:chOff x="379440" y="760320"/>
            <a:chExt cx="8303400" cy="5411520"/>
          </a:xfrm>
        </p:grpSpPr>
        <p:sp>
          <p:nvSpPr>
            <p:cNvPr id="233" name="_s1028"/>
            <p:cNvSpPr/>
            <p:nvPr/>
          </p:nvSpPr>
          <p:spPr>
            <a:xfrm flipH="1">
              <a:off x="2556000" y="3351240"/>
              <a:ext cx="102096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29"/>
            <p:cNvSpPr/>
            <p:nvPr/>
          </p:nvSpPr>
          <p:spPr>
            <a:xfrm>
              <a:off x="379440" y="2664360"/>
              <a:ext cx="2439360" cy="13737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Проверяйте данны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К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1030"/>
            <p:cNvSpPr/>
            <p:nvPr/>
          </p:nvSpPr>
          <p:spPr>
            <a:xfrm>
              <a:off x="4723560" y="4188960"/>
              <a:ext cx="0" cy="6868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1031"/>
            <p:cNvSpPr/>
            <p:nvPr/>
          </p:nvSpPr>
          <p:spPr>
            <a:xfrm>
              <a:off x="3505320" y="4809960"/>
              <a:ext cx="2427120" cy="13618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Обеспечьт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полную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документацию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_s1032"/>
            <p:cNvSpPr/>
            <p:nvPr/>
          </p:nvSpPr>
          <p:spPr>
            <a:xfrm>
              <a:off x="5837400" y="3351240"/>
              <a:ext cx="102096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1033"/>
            <p:cNvSpPr/>
            <p:nvPr/>
          </p:nvSpPr>
          <p:spPr>
            <a:xfrm>
              <a:off x="6780960" y="2664360"/>
              <a:ext cx="1901880" cy="13737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Обучит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весь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персона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_s1034"/>
            <p:cNvSpPr/>
            <p:nvPr/>
          </p:nvSpPr>
          <p:spPr>
            <a:xfrm flipV="1">
              <a:off x="4723560" y="1907280"/>
              <a:ext cx="0" cy="6868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_s1035"/>
            <p:cNvSpPr/>
            <p:nvPr/>
          </p:nvSpPr>
          <p:spPr>
            <a:xfrm>
              <a:off x="2630520" y="760320"/>
              <a:ext cx="3615480" cy="13737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Разработайт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задокументирован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правила 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процедур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1036"/>
            <p:cNvSpPr/>
            <p:nvPr/>
          </p:nvSpPr>
          <p:spPr>
            <a:xfrm>
              <a:off x="3577320" y="2594160"/>
              <a:ext cx="2041920" cy="13737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AutoShape 17"/>
          <p:cNvSpPr/>
          <p:nvPr/>
        </p:nvSpPr>
        <p:spPr>
          <a:xfrm>
            <a:off x="6348240" y="1066680"/>
            <a:ext cx="738360" cy="609840"/>
          </a:xfrm>
          <a:custGeom>
            <a:avLst/>
            <a:gdLst>
              <a:gd name="textAreaLeft" fmla="*/ 115200 w 738360"/>
              <a:gd name="textAreaRight" fmla="*/ 646200 w 73836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8"/>
          <p:cNvSpPr/>
          <p:nvPr/>
        </p:nvSpPr>
        <p:spPr>
          <a:xfrm>
            <a:off x="7162920" y="781200"/>
            <a:ext cx="160020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включите корректи-рующие 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6"/>
          <p:cNvSpPr/>
          <p:nvPr/>
        </p:nvSpPr>
        <p:spPr>
          <a:xfrm>
            <a:off x="3048120" y="2514600"/>
            <a:ext cx="3352680" cy="16747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Этап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программы К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Olga</cp:lastModifiedBy>
  <dcterms:modified xsi:type="dcterms:W3CDTF">2013-05-11T12:50:46Z</dcterms:modified>
  <cp:revision>57</cp:revision>
  <dc:subject/>
  <dc:title>Quality Control Overview</dc:title>
</cp:coreProperties>
</file>