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64B4-A2D1-4B0A-9966-6D1E54BF3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EBA2-A06A-44D5-B303-EA1B43096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FD51-CF6D-4D87-83AC-541E446DE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9481-96AF-4754-AD4B-4E48CA114C8A}" type="datetime3">
              <a:rPr b="0" lang="en-US" sz="1200" spc="-1" strike="noStrike">
                <a:solidFill>
                  <a:srgbClr val="000000"/>
                </a:solidFill>
                <a:latin typeface="Arial"/>
              </a:rPr>
              <a:t>July 31,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D41F-30A2-4DE4-9ABA-E9D8B74C2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AB35-2D7B-477C-87F8-371A9E972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90D2-5BF6-44D5-BEDD-EDA6DB677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F4B45-794B-41AC-B0D6-CF183505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6EC1-E603-40DF-8F32-B3D6D5A9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EC353-891D-4588-8CA8-3190C8BA2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768C1-01DA-47EA-994C-6398F1856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D36D9-2912-4E74-9E02-77FA0F8C8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BE648-C008-42A7-ADBD-7B36E14BC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FC4FC-3696-432E-B35A-8BAFA8FBA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0C9DA-E20B-440D-B95E-5588DC60B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82329-0243-42EF-9AD5-DF77B61FB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283AC-44E0-4A9F-8BF8-0D6AD0BB3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E50DC-B12D-4FDF-91CF-2F183F3F8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84246-C482-4F8A-9C49-98F499C3D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38AB4-82CC-4750-BB86-06BE8C5CD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7F90-8F3C-47A4-B821-8FBB070A4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3EEB3-1560-49D3-87E1-C9254670F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31B9B-5DE4-4AB8-A8BA-64C3C4CE5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DA654-8153-4141-BE55-88AB019AF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3BAAE-57A6-49F9-85DA-7F4A35F8D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495A3-78D1-4B86-8353-64708EA7A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6BCB4-B64C-4366-9642-E41BE52CD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0E569-5E20-46A2-8475-369A9FAE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FA42-570E-4CA6-9A1A-5404C7642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08BF-9BBF-4F21-800F-69DEA313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12E1-199D-4116-A725-3284D6D2C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0FB8-CD3F-404E-AE1A-4E024D2A0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06BA5F2-11AB-4BFE-8D78-20624062837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B078120-AE2D-4958-B3E1-9871AB0A12F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D938-FCDC-4019-A362-28976B770E42}" type="datetime">
              <a:rPr b="0" lang="en-US" sz="1400" spc="-1" strike="noStrike">
                <a:solidFill>
                  <a:srgbClr val="000000"/>
                </a:solidFill>
                <a:latin typeface="Arial"/>
              </a:rPr>
              <a:t>07/31/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299C-33C9-4F8E-8CC1-DA962261740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