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A05A1-DCAD-4062-975D-2198FE6206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D61DC-BC5F-4CC8-B1E3-2FC589395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2C56B-69E1-45CF-BD3A-470120F96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4B7B6-070C-4FFA-B8DB-C327560A9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2AC8E-7B46-4D28-8FC3-A2ED3761D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1951-DCC0-4CD0-8B49-6CF09E262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AF2B-6DD0-48E3-8C46-E3B3450E8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7277-A77F-4A0C-8BA8-1CC9E20BB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E5C7-FB73-4A75-996B-DD62EEF2D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700A59-8D24-4B9E-839F-120B8B5850F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D1408D-1157-4567-B569-47848C6F9F2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827A1D-F889-4059-998F-FE8F49B0D0C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9D01ED-B12C-4152-9DF2-047985FD1A4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43C409-8CD8-498F-938C-BFAAB31204F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AA8139-11F0-47C8-91E4-60859255056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3F2B39-4BE1-4938-A1EE-CC1783F380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7D90-00F1-4D6C-B121-6450FC530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BC80AF-26B0-4665-B9EF-92D45D94E17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BE1C40-03ED-4F01-B8BC-562C8BF5B03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47D9E7-F0B5-48A5-9B22-897A72E5CB1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FA954C-2D27-4F6F-AEC0-167293BB617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728855-B7D0-40EB-A395-3E4BEE4FB3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27E4-D482-4477-A27D-CE5D5055A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1A8B-1F0F-4307-8E5C-50C9B3E7C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A02C-F905-4D9E-B51D-1D27DBF1F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DC04-C967-4B44-A745-025BCA401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EF93-3722-41B2-A75E-59C8BB11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C666-86D8-4053-AFCD-C99ECAAF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D1F2-52F4-4AC0-81B3-D45AFE2C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70302-8320-410D-89E3-164F08C713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4A488DD1-BC2B-422B-87BD-7BCCDCFA5D09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0AEE88A3-6414-4D23-B4F1-4A9B3AE20500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D0954-00CA-4456-A0D5-8A3F82FA0E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40" y="2421000"/>
            <a:ext cx="914112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Rapid Response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General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8280" y="1844640"/>
            <a:ext cx="8217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describes the composition and role of functional, technical multi-disciplinary teams of experts (Rapid Response Teams) that should be deployed in case of emergenc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341360"/>
            <a:ext cx="814716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having fully operational Rapid Response Teams (RRTs) able to act immediately once a suspicious case is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omposition and terms of reference of the R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activities  of the R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46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RT is a group of experienced experts that are on stand-by and can reach any part of the country within 24 hours. Their actions will help to contain/stop an outbreak early on. They will survey the first case(s), provide health care in a central facility, engage with the community and carry out infection, prevention and control measures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Composition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236240"/>
            <a:ext cx="40320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psychosocial support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data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media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4356000" y="1236600"/>
            <a:ext cx="4537080" cy="32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Sub-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techn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worker, psychiatric n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data cl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local media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tent Placeholder 2"/>
          <p:cNvSpPr/>
          <p:nvPr/>
        </p:nvSpPr>
        <p:spPr>
          <a:xfrm>
            <a:off x="611280" y="5157720"/>
            <a:ext cx="820872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The number of subnational teams depends on the level of risk,</a:t>
            </a:r>
            <a:br>
              <a:rPr sz="2000"/>
            </a:b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human resource availability and geographic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et up one at National level and at least one at sub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medical staff on WHO-AFRO module applied in Liberia, including mock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apping of health facilities and identify potential ETC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Community volunteers and Epis in subnational RRT (24h hot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Financial support from 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imulation exerc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1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50920" y="1052640"/>
            <a:ext cx="8518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2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457200" y="1052640"/>
            <a:ext cx="8534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ppropriate strategies and control measures including risk communications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detailed investigation repo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e to the final evaluation of the outbreak respon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 rumors, reported outbreaks, and other public health emer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rapid response action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 and other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e the implementation of the propo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easures including capacit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3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5400" spc="-1" strike="noStrike">
                <a:solidFill>
                  <a:srgbClr val="0000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3:27:53Z</dcterms:modified>
  <cp:revision>145</cp:revision>
  <dc:subject/>
  <dc:title>DPC Training and Technical Update</dc:title>
</cp:coreProperties>
</file>