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BD91C-C4B9-4A6C-BD70-3AD6F2921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9D0E5-F010-4CCE-921C-4D71148785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42466-6299-4912-9F4A-A0E12ADA4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22A05-E533-4B8B-9DC1-41E3AFF2B2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60359-7DC8-4ACE-89E7-88B5802A3B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4BF2F-1A35-461E-A75F-011B2C0503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5EB75-9725-48B3-AD95-6B79E849B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DE23D-B070-4BDE-BAFF-AA9D3CADAE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13F82-DFDB-49D6-81C8-FDE8EDE60A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994AF-AF6D-4F2E-B8C4-B3EC4F8C3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ECA06-BF84-4BE6-8D5E-BCF756448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270B0-BEF4-4065-AD7E-75BEF30328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AD836-664F-48A6-9A9A-BED1F9885F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CF034-BA2D-4611-BA5D-E55075830C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00312-C194-4537-9A00-8ED3B579ED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DB4D-0094-49AA-BBA4-092B3450512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F6D3-4CC3-4CD7-8EBC-97B18CF3B62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39FC-8037-4BE8-AB10-249DA99E54C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212B-AAC3-4A7C-87AB-B23F1F78F87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7D49-C682-4428-ADA8-A5D4DD80F5B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ABF3-24FC-4BE5-A162-C924A93BFEB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67CF-D4A8-46F7-89F2-883803F371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A1FCC-54FE-410F-B0F1-81BA32D1C8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5600-6FD6-4449-8B86-BA0B0E745F5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C05F-8F8E-4987-AB46-4F69178ABE7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71B0-0A0D-460D-B1C6-64D2DC329BA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20E3-3E75-4D9C-A592-A173EF148E3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9A4D-56CB-4DA4-9C68-79685E7DB7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9DA98-A545-48C7-8253-01C7DCA1BB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1D50B-C2E4-44E8-8CA6-9B8FF7BC1B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9800C-1AFD-42B6-90B5-8115442F96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F8CD5-45AF-4C8F-A9A7-0855555823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EA6F6-5AB8-4367-88E6-68BC44BE48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99511-BD85-419C-A7EB-548E897459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DAD03-54A0-4003-BA59-9B9A836F53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5CA47-993D-4B90-B1F6-460C5F3865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67BA6-16C5-4157-AACA-FF665C8BCC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EQA Scheme Organization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040F-212B-4ED6-AC8B-B3EE1DC50E7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interests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im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fidentiali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cknowle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m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772EE-D753-451E-B78C-746378D86AB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ries, feedback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ference” role of the EQ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s and recommendation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participating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solv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recommending certai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2514600" cy="188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05320" y="4343400"/>
            <a:ext cx="5105160" cy="1641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erfect is not too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AAB37-FFB0-4368-A148-254EE9EE93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 already controlled by a international EQA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involve the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i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non-contaminat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good communication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ay careful attention to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SimSun"/>
              </a:rPr>
              <a:t>Starting an EQA Program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7d"/>
                </a:solidFill>
                <a:latin typeface="Verdana"/>
                <a:ea typeface="SimSu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C3FC5-FB06-45F9-ACB6-92E7E5A6996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38680" y="20574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148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163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164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165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170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74"/>
              <p:cNvSpPr/>
              <p:nvPr/>
            </p:nvSpPr>
            <p:spPr>
              <a:xfrm>
                <a:off x="22654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173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174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179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184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188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191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197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200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203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0BEE5-151D-419B-BCCD-E84CDC61DBFE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proficiency test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of laboratories – interlaboratory comparisons/re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on-site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76411-46E2-4C75-B618-3930BACE87E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rior Participation (and Success!) in a PT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SimSun"/>
              </a:rPr>
              <a:t>need to subscribe to a foreig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monitor its ow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mperative and oblig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 question o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A3C16-5EC8-4062-AF59-2B5CB2C9E2B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Involve th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guarantees </a:t>
            </a:r>
            <a:r>
              <a:rPr b="0" lang="en-GB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ed to the institution’s 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mean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liaise with operating licensing / certification / accreditation / national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(EQA activiti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reate saving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them is wor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213372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30862-6923-413C-B470-30B1E8496D5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im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roficienc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, stained or uns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Gram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acid-fast bacilli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of bacterial s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nteric microorganism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Re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 (AFB, Gram, CSF,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bacterial strains if materials and technical capability is present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strain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952880" y="2362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63466-7EB7-41AB-8ACD-BF376388BD9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mall number of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ilo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verify transport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ries for a tes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outside of the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first study with basic materials (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ries for the fir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items per parcel (minimum 2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51360" cy="2590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9759200">
            <a:off x="7238880" y="22096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0A7AB-5E6B-4AC3-B1B6-7226DA4768D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SimSun"/>
              </a:rPr>
              <a:t>Start with Non-Contaminat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n the beginning, avoid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dangerous” pathoge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ntaminated s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follow national transportation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32151-A75D-49D9-BD42-CE1D1B019B9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hysica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al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smal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85AE1-4C80-422B-932F-65052E5D409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articipating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scientific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rofession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ny other with interest in 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EQ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F4E1D-251B-4607-88AE-688E90B14BB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Robin Barteluk</cp:lastModifiedBy>
  <dcterms:modified xsi:type="dcterms:W3CDTF">2008-11-28T02:21:01Z</dcterms:modified>
  <cp:revision>12</cp:revision>
  <dc:subject/>
  <dc:title>EQA scheme Organization optional</dc:title>
</cp:coreProperties>
</file>