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jpeg" ContentType="image/jpeg"/>
  <Override PartName="/ppt/media/image5.jpeg" ContentType="image/jpeg"/>
  <Override PartName="/ppt/media/image6.gif" ContentType="image/gi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54855-0803-4DA5-BCB8-5750884BC9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C789E-65B1-4825-A07B-0847536A8C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F4E2A-CBCC-4347-8CF0-C1B2E99577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DCA59-A5B8-497A-AE67-97A02F83C3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200" spc="-1" strike="noStrike">
                <a:solidFill>
                  <a:srgbClr val="000000"/>
                </a:solidFill>
                <a:latin typeface="Arial"/>
                <a:ea typeface="SimSun"/>
              </a:rPr>
              <a:t>EQA program star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FFF46-A29B-4449-9FCD-34FDA57A9E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D963D-E3B1-4E9C-BDCB-A31DB532B8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8CD35-F238-4E9F-92DD-3B0DED1B5D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2D1DC-AB76-49C3-B46C-21AE0764A8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4ED5E-8D99-4683-8975-8454C0540E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F3B5A-41E6-4347-B21F-FA8E19A8FB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5D975-CF0C-4151-9BD7-7768A98EDC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CE - Content sheet X- 10 : </a:t>
            </a:r>
            <a:r>
              <a:rPr b="1" lang="en-ZA" sz="1200" spc="-1" strike="noStrike">
                <a:solidFill>
                  <a:srgbClr val="000000"/>
                </a:solidFill>
                <a:latin typeface="Arial"/>
                <a:ea typeface="SimSun"/>
              </a:rPr>
              <a:t>EQA program start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77B4A4-6723-43E5-96D5-AEE740D6BA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54F46F-4EA2-4488-B89B-60E5C77CF2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6979BA-B0F6-4739-B20B-095147F8DC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DB2617-2C6E-47A7-9837-5B13A06A0C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74D8-FC32-4866-B37D-6E9D992787A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8AFF-9970-4768-BDBE-44BFE96027C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CFB1-F3A8-4CAF-9BE1-343E272C351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CD27-0523-40AD-A71B-C40B1744DC4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68BD-63CC-46B9-94DF-517540C2248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B446-494C-4C29-B012-CCE2F2198C6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8FFC-4ED8-44B7-B306-7022F6838FF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727A72-EE49-45A9-983B-8D02E2E85C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DE61-4F6A-4321-B4A1-76A1D5BAB3B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A635-07D0-47CD-8659-E66726A529B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3C3D-235A-4D80-90C3-426AC961EC0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CF79-E642-4E54-8146-AD0F582D83B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F082-B1D2-4F6E-897E-54F9574825F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7FC37A-5CA6-4EAE-88CD-430A963629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CB1AE1-4B62-4CA8-B379-0274ED7DDD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9E48CC-F12D-4580-B8E0-B49EB33F3C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C67082-FD59-4666-940F-9B52D6E21D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FA98B3-8D03-4969-B769-70EF552941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FBAB53-D398-4EB1-B89F-2DA399E7A9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FDA395-433F-4387-B967-68CF55BB22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53316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B88FC-78EC-4619-AE95-83511C7F65F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E5C52-8A4A-4DA3-881E-6663E3AFF7E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EQA Scheme Organization</a:t>
            </a:r>
            <a:br>
              <a:rPr sz="5000"/>
            </a:b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ABCD-935B-4F36-A525-C803F4218FE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392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interests of the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aims and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nfidentiality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acknowledg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nt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time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9AAE81-4EAB-42C7-9440-89E422ECB2C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Monit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0773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taries, feedback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“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reference” role of the EQA 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ts and recommendations from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participating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st ways of solving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st ways of recommending certain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990720" y="4267080"/>
            <a:ext cx="2514600" cy="18846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505320" y="4343400"/>
            <a:ext cx="5105160" cy="16419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Perfect is not too</a:t>
            </a: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much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BDF021-47C4-47AA-ACD4-978D6DB1C10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36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8103960" cy="41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 already controlled by a international EQA organiz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involve the auth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sim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sm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non-contaminating 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a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a good communication strateg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pay careful attention to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" y="12193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Verdana"/>
                <a:ea typeface="SimSun"/>
              </a:rPr>
              <a:t>Starting an EQA Program at country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38088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7d"/>
                </a:solidFill>
                <a:latin typeface="Verdana"/>
                <a:ea typeface="SimSun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56B73F-C4DF-484D-A800-753DD790A9F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638680" y="2057400"/>
            <a:ext cx="33530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304920" y="609480"/>
            <a:ext cx="5181480" cy="5410080"/>
            <a:chOff x="304920" y="609480"/>
            <a:chExt cx="5181480" cy="5410080"/>
          </a:xfrm>
        </p:grpSpPr>
        <p:sp>
          <p:nvSpPr>
            <p:cNvPr id="148" name="AutoShape 4"/>
            <p:cNvSpPr/>
            <p:nvPr/>
          </p:nvSpPr>
          <p:spPr>
            <a:xfrm>
              <a:off x="3049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9"/>
            <p:cNvSpPr/>
            <p:nvPr/>
          </p:nvSpPr>
          <p:spPr>
            <a:xfrm>
              <a:off x="25495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0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1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2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3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6"/>
            <p:cNvSpPr/>
            <p:nvPr/>
          </p:nvSpPr>
          <p:spPr>
            <a:xfrm>
              <a:off x="11844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22"/>
            <p:cNvSpPr/>
            <p:nvPr/>
          </p:nvSpPr>
          <p:spPr>
            <a:xfrm>
              <a:off x="11732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24"/>
            <p:cNvSpPr/>
            <p:nvPr/>
          </p:nvSpPr>
          <p:spPr>
            <a:xfrm flipH="1" flipV="1">
              <a:off x="29588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25"/>
            <p:cNvSpPr/>
            <p:nvPr/>
          </p:nvSpPr>
          <p:spPr>
            <a:xfrm flipV="1">
              <a:off x="26971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27"/>
            <p:cNvSpPr/>
            <p:nvPr/>
          </p:nvSpPr>
          <p:spPr>
            <a:xfrm>
              <a:off x="44956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27"/>
            <p:cNvSpPr/>
            <p:nvPr/>
          </p:nvSpPr>
          <p:spPr>
            <a:xfrm>
              <a:off x="28954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27"/>
            <p:cNvSpPr/>
            <p:nvPr/>
          </p:nvSpPr>
          <p:spPr>
            <a:xfrm>
              <a:off x="12193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27"/>
            <p:cNvSpPr/>
            <p:nvPr/>
          </p:nvSpPr>
          <p:spPr>
            <a:xfrm flipH="1">
              <a:off x="9140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2" name="Group 65"/>
            <p:cNvGrpSpPr/>
            <p:nvPr/>
          </p:nvGrpSpPr>
          <p:grpSpPr>
            <a:xfrm>
              <a:off x="609480" y="702000"/>
              <a:ext cx="1261800" cy="1189800"/>
              <a:chOff x="609480" y="702000"/>
              <a:chExt cx="1261800" cy="1189800"/>
            </a:xfrm>
          </p:grpSpPr>
          <p:grpSp>
            <p:nvGrpSpPr>
              <p:cNvPr id="163" name="Group 66"/>
              <p:cNvGrpSpPr/>
              <p:nvPr/>
            </p:nvGrpSpPr>
            <p:grpSpPr>
              <a:xfrm>
                <a:off x="609480" y="702000"/>
                <a:ext cx="1239120" cy="1189800"/>
                <a:chOff x="609480" y="702000"/>
                <a:chExt cx="1239120" cy="1189800"/>
              </a:xfrm>
            </p:grpSpPr>
            <p:grpSp>
              <p:nvGrpSpPr>
                <p:cNvPr id="164" name="Group 67"/>
                <p:cNvGrpSpPr/>
                <p:nvPr/>
              </p:nvGrpSpPr>
              <p:grpSpPr>
                <a:xfrm>
                  <a:off x="660960" y="702000"/>
                  <a:ext cx="1152360" cy="1189800"/>
                  <a:chOff x="660960" y="702000"/>
                  <a:chExt cx="1152360" cy="1189800"/>
                </a:xfrm>
              </p:grpSpPr>
              <p:sp>
                <p:nvSpPr>
                  <p:cNvPr id="165" name="Freeform 68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Freeform 69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7" name="Text Box 70"/>
                <p:cNvSpPr/>
                <p:nvPr/>
              </p:nvSpPr>
              <p:spPr>
                <a:xfrm>
                  <a:off x="6094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Text Box 71"/>
              <p:cNvSpPr/>
              <p:nvPr/>
            </p:nvSpPr>
            <p:spPr>
              <a:xfrm>
                <a:off x="6321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9" name="Group 72"/>
            <p:cNvGrpSpPr/>
            <p:nvPr/>
          </p:nvGrpSpPr>
          <p:grpSpPr>
            <a:xfrm>
              <a:off x="2265480" y="702000"/>
              <a:ext cx="1239840" cy="1189800"/>
              <a:chOff x="2265480" y="702000"/>
              <a:chExt cx="1239840" cy="1189800"/>
            </a:xfrm>
          </p:grpSpPr>
          <p:sp>
            <p:nvSpPr>
              <p:cNvPr id="170" name="Freeform 73"/>
              <p:cNvSpPr/>
              <p:nvPr/>
            </p:nvSpPr>
            <p:spPr>
              <a:xfrm>
                <a:off x="23061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Text Box 74"/>
              <p:cNvSpPr/>
              <p:nvPr/>
            </p:nvSpPr>
            <p:spPr>
              <a:xfrm>
                <a:off x="22654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" name="Group 75"/>
            <p:cNvGrpSpPr/>
            <p:nvPr/>
          </p:nvGrpSpPr>
          <p:grpSpPr>
            <a:xfrm>
              <a:off x="3865680" y="702000"/>
              <a:ext cx="1239840" cy="1189800"/>
              <a:chOff x="3865680" y="702000"/>
              <a:chExt cx="1239840" cy="1189800"/>
            </a:xfrm>
          </p:grpSpPr>
          <p:grpSp>
            <p:nvGrpSpPr>
              <p:cNvPr id="173" name="Group 76"/>
              <p:cNvGrpSpPr/>
              <p:nvPr/>
            </p:nvGrpSpPr>
            <p:grpSpPr>
              <a:xfrm>
                <a:off x="3911040" y="702000"/>
                <a:ext cx="1153080" cy="1189800"/>
                <a:chOff x="3911040" y="702000"/>
                <a:chExt cx="1153080" cy="1189800"/>
              </a:xfrm>
            </p:grpSpPr>
            <p:sp>
              <p:nvSpPr>
                <p:cNvPr id="174" name="Freeform 77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Freeform 78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6" name="Text Box 79"/>
              <p:cNvSpPr/>
              <p:nvPr/>
            </p:nvSpPr>
            <p:spPr>
              <a:xfrm>
                <a:off x="38656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" name="Line 27"/>
            <p:cNvSpPr/>
            <p:nvPr/>
          </p:nvSpPr>
          <p:spPr>
            <a:xfrm flipH="1">
              <a:off x="9903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609480" y="2041560"/>
              <a:ext cx="1241280" cy="1189440"/>
              <a:chOff x="609480" y="2041560"/>
              <a:chExt cx="1241280" cy="1189440"/>
            </a:xfrm>
          </p:grpSpPr>
          <p:sp>
            <p:nvSpPr>
              <p:cNvPr id="179" name="Freeform 46"/>
              <p:cNvSpPr/>
              <p:nvPr/>
            </p:nvSpPr>
            <p:spPr>
              <a:xfrm>
                <a:off x="6141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Text Box 47"/>
              <p:cNvSpPr/>
              <p:nvPr/>
            </p:nvSpPr>
            <p:spPr>
              <a:xfrm>
                <a:off x="6094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" name="Freeform 31"/>
            <p:cNvSpPr/>
            <p:nvPr/>
          </p:nvSpPr>
          <p:spPr>
            <a:xfrm>
              <a:off x="23144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43"/>
            <p:cNvSpPr/>
            <p:nvPr/>
          </p:nvSpPr>
          <p:spPr>
            <a:xfrm>
              <a:off x="23544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3809880" y="2059560"/>
              <a:ext cx="1336680" cy="1189440"/>
              <a:chOff x="3809880" y="2059560"/>
              <a:chExt cx="1336680" cy="1189440"/>
            </a:xfrm>
          </p:grpSpPr>
          <p:sp>
            <p:nvSpPr>
              <p:cNvPr id="184" name="Freeform 48"/>
              <p:cNvSpPr/>
              <p:nvPr/>
            </p:nvSpPr>
            <p:spPr>
              <a:xfrm>
                <a:off x="38862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Text Box 55"/>
              <p:cNvSpPr/>
              <p:nvPr/>
            </p:nvSpPr>
            <p:spPr>
              <a:xfrm>
                <a:off x="38098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" name="Line 27"/>
            <p:cNvSpPr/>
            <p:nvPr/>
          </p:nvSpPr>
          <p:spPr>
            <a:xfrm flipH="1">
              <a:off x="9140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609480" y="3400920"/>
              <a:ext cx="1239840" cy="1191240"/>
              <a:chOff x="609480" y="3400920"/>
              <a:chExt cx="1239840" cy="1191240"/>
            </a:xfrm>
          </p:grpSpPr>
          <p:sp>
            <p:nvSpPr>
              <p:cNvPr id="188" name="Freeform 81"/>
              <p:cNvSpPr/>
              <p:nvPr/>
            </p:nvSpPr>
            <p:spPr>
              <a:xfrm>
                <a:off x="6415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82"/>
              <p:cNvSpPr/>
              <p:nvPr/>
            </p:nvSpPr>
            <p:spPr>
              <a:xfrm>
                <a:off x="6094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2265480" y="3400920"/>
              <a:ext cx="1239840" cy="1191240"/>
              <a:chOff x="2265480" y="3400920"/>
              <a:chExt cx="1239840" cy="1191240"/>
            </a:xfrm>
          </p:grpSpPr>
          <p:sp>
            <p:nvSpPr>
              <p:cNvPr id="191" name="Freeform 30"/>
              <p:cNvSpPr/>
              <p:nvPr/>
            </p:nvSpPr>
            <p:spPr>
              <a:xfrm>
                <a:off x="22924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Text Box 54"/>
              <p:cNvSpPr/>
              <p:nvPr/>
            </p:nvSpPr>
            <p:spPr>
              <a:xfrm>
                <a:off x="22654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3" name="Freeform 50"/>
            <p:cNvSpPr/>
            <p:nvPr/>
          </p:nvSpPr>
          <p:spPr>
            <a:xfrm>
              <a:off x="38862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51"/>
            <p:cNvSpPr/>
            <p:nvPr/>
          </p:nvSpPr>
          <p:spPr>
            <a:xfrm>
              <a:off x="38656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27"/>
            <p:cNvSpPr/>
            <p:nvPr/>
          </p:nvSpPr>
          <p:spPr>
            <a:xfrm flipH="1">
              <a:off x="9903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533520" y="4749840"/>
              <a:ext cx="1420560" cy="1189440"/>
              <a:chOff x="533520" y="4749840"/>
              <a:chExt cx="1420560" cy="1189440"/>
            </a:xfrm>
          </p:grpSpPr>
          <p:sp>
            <p:nvSpPr>
              <p:cNvPr id="197" name="Freeform 57"/>
              <p:cNvSpPr/>
              <p:nvPr/>
            </p:nvSpPr>
            <p:spPr>
              <a:xfrm>
                <a:off x="6825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Text Box 58"/>
              <p:cNvSpPr/>
              <p:nvPr/>
            </p:nvSpPr>
            <p:spPr>
              <a:xfrm>
                <a:off x="5335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9" name=""/>
            <p:cNvGrpSpPr/>
            <p:nvPr/>
          </p:nvGrpSpPr>
          <p:grpSpPr>
            <a:xfrm>
              <a:off x="2265480" y="4681800"/>
              <a:ext cx="1239840" cy="1189800"/>
              <a:chOff x="2265480" y="4681800"/>
              <a:chExt cx="1239840" cy="1189800"/>
            </a:xfrm>
          </p:grpSpPr>
          <p:sp>
            <p:nvSpPr>
              <p:cNvPr id="200" name="Freeform 34"/>
              <p:cNvSpPr/>
              <p:nvPr/>
            </p:nvSpPr>
            <p:spPr>
              <a:xfrm>
                <a:off x="23144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Text Box 61"/>
              <p:cNvSpPr/>
              <p:nvPr/>
            </p:nvSpPr>
            <p:spPr>
              <a:xfrm>
                <a:off x="22654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2" name=""/>
            <p:cNvGrpSpPr/>
            <p:nvPr/>
          </p:nvGrpSpPr>
          <p:grpSpPr>
            <a:xfrm>
              <a:off x="3886200" y="4749840"/>
              <a:ext cx="1239840" cy="1189440"/>
              <a:chOff x="3886200" y="4749840"/>
              <a:chExt cx="1239840" cy="1189440"/>
            </a:xfrm>
          </p:grpSpPr>
          <p:sp>
            <p:nvSpPr>
              <p:cNvPr id="203" name="Freeform 63"/>
              <p:cNvSpPr/>
              <p:nvPr/>
            </p:nvSpPr>
            <p:spPr>
              <a:xfrm>
                <a:off x="39052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Text Box 64"/>
              <p:cNvSpPr/>
              <p:nvPr/>
            </p:nvSpPr>
            <p:spPr>
              <a:xfrm>
                <a:off x="38862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9C05A1-94EF-4310-9049-B0FF645EA2FF}" type="slidenum">
              <a:t>13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EQA O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839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ational proficiency testing sche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twork of laboratories – interlaboratory comparisons/rechec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+/- on-site evalu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D46C57-1C7E-4C80-B80A-5083909D2B6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Prior Participation (and Success!) in a PT sche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8229600" cy="40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  <a:ea typeface="SimSun"/>
              </a:rPr>
              <a:t>need to subscribe to a foreign sche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monitor its own 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imperative and oblig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 question of confi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0F1AF8-EC24-49DA-A47A-18D384BE3F2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Involve the Author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guarantees </a:t>
            </a:r>
            <a:r>
              <a:rPr b="0" lang="en-GB" sz="3200" spc="-1" strike="noStrike">
                <a:solidFill>
                  <a:srgbClr val="ff0066"/>
                </a:solidFill>
                <a:latin typeface="Verdana"/>
                <a:ea typeface="SimSun"/>
              </a:rPr>
              <a:t>dur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tied to the institution’s man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means of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liaise with operating licensing / certification / accreditation / national regu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funding (EQA activities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reate savings,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funding them is worth i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400800" y="3962520"/>
            <a:ext cx="2133720" cy="2119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1CB72F-0CF8-448A-9F8C-8569CE0EA5F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Start Simp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Proficiency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lides, stained or unsta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Gram st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acid-fast bacilli st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paras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identification of bacterial stra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enteric microorganisms (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E. coli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, 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almonella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Recheck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lides (AFB, Gram, CSF, oth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bacterial strains if materials and technical capability is present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 strain coll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943600" y="2057400"/>
            <a:ext cx="2514600" cy="852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1" name=""/>
          <p:cNvSpPr/>
          <p:nvPr/>
        </p:nvSpPr>
        <p:spPr>
          <a:xfrm>
            <a:off x="4952880" y="2362320"/>
            <a:ext cx="914400" cy="457200"/>
          </a:xfrm>
          <a:custGeom>
            <a:avLst/>
            <a:gdLst>
              <a:gd name="textAreaLeft" fmla="*/ 142920 w 914400"/>
              <a:gd name="textAreaRight" fmla="*/ 800280 w 9144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72094F-69C1-4648-A134-6A7854F3A5B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Start Sm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mall number of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pilot 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verify transportation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4-5 laboratories for a test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(outside of the progra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first study with basic materials (slid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max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. 15 laboratories for the first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max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. 3 items per parcel (minimum 2 per ye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553080" y="1600200"/>
            <a:ext cx="2151360" cy="25909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 rot="19759200">
            <a:off x="7238880" y="2209680"/>
            <a:ext cx="914400" cy="533520"/>
          </a:xfrm>
          <a:custGeom>
            <a:avLst/>
            <a:gdLst>
              <a:gd name="textAreaLeft" fmla="*/ 142920 w 914400"/>
              <a:gd name="textAreaRight" fmla="*/ 800280 w 9144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0B07C9-CF6A-4D8A-A18C-9E60384F26A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Verdana"/>
                <a:ea typeface="SimSun"/>
              </a:rPr>
              <a:t>Start with Non-Contaminating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7391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in the beginning, avoid: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dangerous” pathogen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ntaminated s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follow national transportation la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6172200" y="1905120"/>
            <a:ext cx="2590920" cy="2288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FC7081-BE4C-4401-8A0D-F5D36E929E6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153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Physical nee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51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personal de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small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mmunication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105520" y="1622520"/>
            <a:ext cx="3352680" cy="251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C7CFBE-7AA8-4CBB-8F59-CB7262147FD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5715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participating labora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uthor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scientific 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professional associ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ny other with interest in EQ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172200" y="1981080"/>
            <a:ext cx="2644920" cy="28195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6858000" y="25909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“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EQ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5A0860-CE07-466A-99ED-154793BFE6C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5:14:54Z</dcterms:created>
  <dc:creator>sharon granade</dc:creator>
  <dc:description/>
  <dc:language>en-US</dc:language>
  <cp:lastModifiedBy>Robin Barteluk</cp:lastModifiedBy>
  <dcterms:modified xsi:type="dcterms:W3CDTF">2008-11-28T02:21:01Z</dcterms:modified>
  <cp:revision>12</cp:revision>
  <dc:subject/>
  <dc:title>EQA scheme Organization optional</dc:title>
</cp:coreProperties>
</file>