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01D4D-C51B-4D96-8BE0-6711C1A0B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D8944-B900-4BFB-98F5-8D07CA4DB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75554-69A3-4EE9-B221-F7461A371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88CC0-0FBF-4E01-88D4-F6CADC25A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34E7E-384F-44F9-8ABF-CF281AE75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3E2A9-B15E-45CD-ABD0-83B9635E4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5155B-2986-46A4-B4D7-8461AE31F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10929-31D7-4478-A606-08B30C99C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21B1B-63B6-49C7-9BBE-52A948606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3F889-D5EB-4CA3-9C0F-F2300EB60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24705-65AE-49C6-A87B-0C00F1A35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15C36-64A3-42A1-A5F1-CF2DCAED3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B549B-39E7-4460-AC82-2DCBA1E81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5AFA2-B6C5-415A-B00C-FCB64091D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19D79-04FC-468E-BCD4-7F150026D9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6629A-3EF1-4CC6-91F2-73E728B5CC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61481-F263-451E-89A7-F1CFBD5B37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EB57E-9A1A-444C-BB87-9F9AA771F0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C3E0-E83A-41A7-9338-C962214DDED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ECBD-0F7C-47F0-880C-B1AD82E5D33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B271-2127-453E-BCE5-1FF0A164592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9CAE-DA3E-4100-929A-ABD03C723AA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BCD6-2C86-4CE0-B612-ED10B3AE95B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7148-9436-4850-8648-8A0B9E40C49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60C5-E98F-44D5-841D-005D0F248E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624F1-599B-4A71-9B9B-24639C0353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30DC-6E60-4ACF-A1B1-21C5916BF46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3C57-8746-4F85-9A7E-C9089C203F3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FB15-9F55-4AA5-B144-3FBDA438C1C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7753-02A2-4CF0-B793-543E9471ED8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9E47-1F71-46EF-8B45-ECFD5EC88E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98A77-E9BC-4015-A1AB-59BC6B529F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E0437-257C-4A4D-AD17-8DE286054D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A8967-05C5-4238-B0D2-41E334BE1B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294F2-3959-427E-93CF-7924678261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5C04E-BA4A-4A33-B993-586A46AA1F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54F5B-70CA-4BDF-B356-0FFD6AB172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65E46-26AC-4920-A86B-4EC98140A0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65CF3-AF91-4891-A79C-BCB90DE026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40000" indent="-205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51480" indent="-205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7D38C-87DB-4548-BF1B-CC0567226F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2971800" y="1600200"/>
            <a:ext cx="61722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cess Control: Q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uality Control of Qualitative and Semi-Quantitative Procedure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5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665F-F0DB-4016-9AFE-F988E5EB8C8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sing 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 as per patient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positive and negative contr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a weak positive control for immunological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oose positive controls close to the cut-off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control to monitor extraction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CF2C0-7308-4981-8E4E-5BC50ADA2A9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C4156-7F62-4705-9428-DF668BB9250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3200400" cy="275616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21EF6-DF01-4A1F-AC3E-29A2905E1C9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ck Cultures for QC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ence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in-house developed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able reactions in stains and medi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media, reag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supplies work as int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886200" y="434340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06CF3-0B15-4932-9B41-EB9D46D8AD7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ources for Obtaining Reference Strai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C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merican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TCC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ional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(UK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teur Institute Collection (Fran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04C5D-234E-47DF-B9AD-B7F01510963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D000B-43EB-4B4A-A92C-1533CE210AC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06223-9190-46C2-81AC-446FD7AB5BE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s are important—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e care of them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21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5659560" y="525780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o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95520" y="52578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Continued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06640-7887-4496-B5A6-444500C1FFD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D0EC0-635F-481C-B528-72A1D601DB3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 Manag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established procedure for preparation or reconstit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el: content, concentration, date prepared and placed in service, expiration, initi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appropriate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2AB04-486C-4FE3-B4B3-C2CA0893363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CF184-B9DD-4F44-B3B2-E7A7747E553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for St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s appropriate for particular stain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with known organisms or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rystal shards or for precip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ontaminants such as bacteria and fung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581280" y="4800600"/>
            <a:ext cx="2057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right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am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668CD-3A81-4335-A4D4-F7BEA39926F9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21942-355C-4DD9-B7D4-9A53C6DB646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ram Stain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6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"/>
          <p:cNvSpPr/>
          <p:nvPr/>
        </p:nvSpPr>
        <p:spPr>
          <a:xfrm>
            <a:off x="83808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9900"/>
                </a:solidFill>
                <a:latin typeface="Verdana"/>
              </a:rPr>
              <a:t>Good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5178240" y="502920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Verdana"/>
              </a:rPr>
              <a:t>Poor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40252-9AB9-4641-9E7C-4D98B786092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4AF16-9154-40AC-A447-7A721003AB1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of Microbiology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erformance of all med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-house prepared: all batch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ercially prepared: new lot on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581280" y="3505320"/>
            <a:ext cx="22100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cConkey Aga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C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non-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E8422-945A-4C9E-BA78-7DF7F952D9B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6A8ED-830B-4437-B9DF-55228D5DF8F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dia Problems to Avoi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3809880" y="1447920"/>
            <a:ext cx="2514600" cy="914400"/>
            <a:chOff x="3809880" y="1447920"/>
            <a:chExt cx="2514600" cy="914400"/>
          </a:xfrm>
        </p:grpSpPr>
        <p:sp>
          <p:nvSpPr>
            <p:cNvPr id="249" name="AutoShape 8"/>
            <p:cNvSpPr/>
            <p:nvPr/>
          </p:nvSpPr>
          <p:spPr>
            <a:xfrm>
              <a:off x="3888360" y="190512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AutoShape 9"/>
            <p:cNvSpPr/>
            <p:nvPr/>
          </p:nvSpPr>
          <p:spPr>
            <a:xfrm>
              <a:off x="3809880" y="144792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5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5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5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5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6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6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6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70" name="Text Box 32"/>
          <p:cNvSpPr/>
          <p:nvPr/>
        </p:nvSpPr>
        <p:spPr>
          <a:xfrm>
            <a:off x="912960" y="1523880"/>
            <a:ext cx="275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-d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ied-ou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min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609480" y="3200400"/>
            <a:ext cx="8229600" cy="26535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Human bloo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hould not be used because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 much batch to batch vari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include inhibitory substanc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including antimicrobial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contain biohazar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(e.g., hepatitis virus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1950840" cy="15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B52BF-8768-41F6-8AD5-7285C763F77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7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00854-C039-438A-8A98-7D0BE92EB31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of Growth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eep records for media prepared in-h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ord outcomes in a dedicated media logbook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,  sterility,  ability to support growth using stock cultures,  biochemical response of stock cul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st each new batch or lot nu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D9421-2AD9-4C7D-824E-A61AFF9AE6F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26BF6-1020-4CEC-82ED-1984F97EF4B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between built-in and traditional contro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use stock cultures for microbiology Q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use of quality control procedures for stains used in microscopic examin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methods for verifying performance of microbiological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116AF-1EC2-4257-96C1-C95A9759B4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8EAD1-DCEF-4CC9-B741-F66B2252E63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qualitative tests produce non-numerical resul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mi-quantitative tests give an estim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stablish a QC program for qualitative and semi-quantitative tes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EF68D-7980-4AE4-8FFD-BB156992BC4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QC procedures followed by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lways record QC results and corrective 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f QC results are not acceptable, do not report patient result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E60A7-DA83-4D51-A3CA-D90BAECBB5A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8CCAB-FD42-4E5A-A400-1513A84352A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85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99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300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301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302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03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04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05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6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307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8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9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310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311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2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13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4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316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8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321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23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325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6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328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9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30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334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5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337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8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340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1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1BCB6-34DC-4A8B-8494-57B5E0A35FD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y A performs a culture, a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identified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QC measures can you use to confirm that the isolate is correctly identified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3A809-3600-49B1-839C-A69E7FD2AB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09680" y="1066680"/>
            <a:ext cx="5105520" cy="5257440"/>
            <a:chOff x="2209680" y="1066680"/>
            <a:chExt cx="5105520" cy="5257440"/>
          </a:xfrm>
        </p:grpSpPr>
        <p:sp>
          <p:nvSpPr>
            <p:cNvPr id="136" name="AutoShape 4"/>
            <p:cNvSpPr/>
            <p:nvPr/>
          </p:nvSpPr>
          <p:spPr>
            <a:xfrm>
              <a:off x="2209680" y="1066680"/>
              <a:ext cx="5105520" cy="5257440"/>
            </a:xfrm>
            <a:custGeom>
              <a:avLst/>
              <a:gdLst>
                <a:gd name="textAreaLeft" fmla="*/ 249120 w 5105520"/>
                <a:gd name="textAreaRight" fmla="*/ 4856400 w 5105520"/>
                <a:gd name="textAreaTop" fmla="*/ 249120 h 5257440"/>
                <a:gd name="textAreaBottom" fmla="*/ 5008320 h 5257440"/>
              </a:gdLst>
              <a:ahLst/>
              <a:rect l="textAreaLeft" t="textAreaTop" r="textAreaRight" b="textAreaBottom"/>
              <a:pathLst>
                <a:path w="21600" h="22243">
                  <a:moveTo>
                    <a:pt x="3600" y="0"/>
                  </a:moveTo>
                  <a:arcTo wR="3600" hR="3600" stAng="16200000" swAng="-5400000"/>
                  <a:lnTo>
                    <a:pt x="0" y="18643"/>
                  </a:lnTo>
                  <a:arcTo wR="3600" hR="3600" stAng="10800000" swAng="-5400000"/>
                  <a:lnTo>
                    <a:pt x="18000" y="22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21160" y="3834000"/>
              <a:ext cx="118800" cy="705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76200" y="3210480"/>
              <a:ext cx="165600" cy="1108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65040" y="3148920"/>
              <a:ext cx="168840" cy="385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24720" y="5932440"/>
              <a:ext cx="10800" cy="450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566600" y="4794120"/>
              <a:ext cx="1440" cy="101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338880" y="1713960"/>
              <a:ext cx="1440" cy="39837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762080" y="1868760"/>
              <a:ext cx="144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10400" y="1917000"/>
              <a:ext cx="108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09800" y="1760400"/>
              <a:ext cx="38682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09560" y="1156680"/>
              <a:ext cx="1243080" cy="1156320"/>
              <a:chOff x="2509560" y="1156680"/>
              <a:chExt cx="1243080" cy="115632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09560" y="1156680"/>
                <a:ext cx="1220760" cy="1156320"/>
                <a:chOff x="2509560" y="1156680"/>
                <a:chExt cx="1220760" cy="115632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0320" y="1156680"/>
                  <a:ext cx="1135440" cy="1156320"/>
                  <a:chOff x="2560320" y="1156680"/>
                  <a:chExt cx="1135440" cy="115632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09560" y="1423080"/>
                  <a:ext cx="122076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1880" y="156672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41440" y="1156680"/>
              <a:ext cx="1221480" cy="1156320"/>
              <a:chOff x="4141440" y="1156680"/>
              <a:chExt cx="1221480" cy="115632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181760" y="1156680"/>
                <a:ext cx="1136160" cy="115632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41440" y="156672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18240" y="1156680"/>
              <a:ext cx="1221480" cy="1156320"/>
              <a:chOff x="5718240" y="1156680"/>
              <a:chExt cx="1221480" cy="115632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762880" y="1156680"/>
                <a:ext cx="1136160" cy="1156320"/>
                <a:chOff x="5762880" y="1156680"/>
                <a:chExt cx="1136160" cy="115632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18240" y="15710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85040" y="307512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509560" y="2458440"/>
              <a:ext cx="1223280" cy="1155960"/>
              <a:chOff x="2509560" y="2458440"/>
              <a:chExt cx="1223280" cy="115596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3880" y="2458440"/>
                <a:ext cx="11386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09560" y="273708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189680" y="2519280"/>
              <a:ext cx="113580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28920" y="2535480"/>
              <a:ext cx="113400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663160" y="2475720"/>
              <a:ext cx="1316880" cy="1155960"/>
              <a:chOff x="5663160" y="2475720"/>
              <a:chExt cx="1316880" cy="115596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38040" y="247572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663160" y="276696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09800" y="431388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509560" y="3779280"/>
              <a:ext cx="1221480" cy="1157400"/>
              <a:chOff x="2509560" y="3779280"/>
              <a:chExt cx="1221480" cy="115740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0880" y="3779280"/>
                <a:ext cx="113652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09560" y="400428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141440" y="3779280"/>
              <a:ext cx="1221480" cy="1157400"/>
              <a:chOff x="4141440" y="3779280"/>
              <a:chExt cx="1221480" cy="115740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67720" y="3779280"/>
                <a:ext cx="113688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41440" y="4022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38400" y="3772800"/>
              <a:ext cx="113724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18240" y="385020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85040" y="562680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434680" y="5090400"/>
              <a:ext cx="1399680" cy="1155960"/>
              <a:chOff x="2434680" y="5090400"/>
              <a:chExt cx="1399680" cy="115596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1200" y="5090400"/>
                <a:ext cx="113544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4680" y="5319000"/>
                <a:ext cx="139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41440" y="5024160"/>
              <a:ext cx="1221480" cy="1156320"/>
              <a:chOff x="4141440" y="5024160"/>
              <a:chExt cx="1221480" cy="115632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189320" y="5024160"/>
                <a:ext cx="1135440" cy="115632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41440" y="53186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738400" y="5090400"/>
              <a:ext cx="1221480" cy="1155960"/>
              <a:chOff x="5738400" y="5090400"/>
              <a:chExt cx="1221480" cy="115596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757120" y="509040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38400" y="531900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57C9E-0FB4-4B94-9AF5-2845A3E4358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ative or semi-quantitative tests - Exampl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scopic examin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pstick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rologic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biological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y reaction that produces non-numeric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0A12A-8736-4F32-9392-21C6C20FC69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98" name="wbcrbc" descr="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903AE-164B-46EA-AFD7-C896D4DD3A5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ortant Concep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mple manageme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ff competenc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mainten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ins, media and reagents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50821-1FAE-4D6C-96DB-DB540659118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62F63-75E7-4B89-993B-0F740BC533F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Materia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ontrol materials that mimic patient samp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ference organis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380BB-D791-4402-921D-A43C710179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tegrated into the design of a test kit dev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utomatically run with each test perform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certain aspects of kit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y not assess enti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esting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A0C40-8537-4AF5-9E1F-2CBB01E6C54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terials with known reacti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imic patient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the integrity of the entir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C51DE-4C82-4C18-AEAC-76714D0FD68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09:52:17Z</dcterms:modified>
  <cp:revision>464</cp:revision>
  <dc:subject/>
  <dc:title>Slide 1</dc:title>
</cp:coreProperties>
</file>