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E198FE-618C-43E1-8ED8-6ABD5200FF4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79BF70-7B8A-4769-B606-2CA5E9675D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1A9880-3509-46C9-8499-E76D04EF0BE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B5B496-2E7B-44CD-9564-F2A11C765D3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27B0C3-1034-45AB-A74F-33A5277C09CE}" type="datetime3">
              <a:rPr b="0" lang="en-US" sz="1200" spc="-1" strike="noStrike">
                <a:solidFill>
                  <a:srgbClr val="000000"/>
                </a:solidFill>
                <a:latin typeface="Arial"/>
                <a:ea typeface="MS PGothic"/>
              </a:rPr>
              <a:t>July 30,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825688-E23D-4BDF-AD78-2FB7404578E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D00A6E-2731-4066-A149-1211B2FF675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C74AFE-3CBD-465C-9F82-F703B258E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3CDAEF-EEB3-4C32-8677-40144BB3952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ECC08A-7804-4104-AF14-AA4886776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88DCBC-5804-4F33-B602-43122D38D2E4}" type="datetime3">
              <a:rPr b="0" lang="en-GB" sz="1200" spc="-1" strike="noStrike">
                <a:solidFill>
                  <a:srgbClr val="000000"/>
                </a:solidFill>
                <a:latin typeface="Arial"/>
              </a:rPr>
              <a:t>30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AB923D-E905-413A-9F15-FCF6F6519D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51AF923-B89A-4D57-A07E-016F24B3B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4182F3-89D9-466B-AF6E-DAAC699F89A2}"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0ED0F2-D34D-4D09-89C8-D6B68E57D531}"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612E2C-E6D0-45CF-9B14-C2BE4BC3658D}"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