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E886FA-2133-4DBF-9AC5-1231436F829A}"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85F809-71E3-46F3-8B8B-EEB6621AF20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7737770-D6B0-4EBA-B322-7DEA86030B5F}"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29DBCC-2417-4DB3-B34A-24B2705ED71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6898DA-D454-46E5-8A50-9519538D161D}" type="datetime3">
              <a:rPr b="0" lang="en-US" sz="1200" spc="-1" strike="noStrike">
                <a:solidFill>
                  <a:srgbClr val="000000"/>
                </a:solidFill>
                <a:latin typeface="Arial"/>
                <a:ea typeface="MS PGothic"/>
              </a:rPr>
              <a:t>July 31,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27D141-976B-4B58-B121-2761F78A879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69983C-9DBE-4380-BD6D-137F5F205C7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FEED36-3CA3-4232-AD8B-CDDAE793D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0136EB-38EC-4020-81C5-D4251FB40AA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301C4A-1D84-44EC-B2F6-48F8DEEF1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ECC5E30-D6D1-4415-AB37-2263102D89FB}" type="datetime3">
              <a:rPr b="0" lang="en-GB" sz="1200" spc="-1" strike="noStrike">
                <a:solidFill>
                  <a:srgbClr val="000000"/>
                </a:solidFill>
                <a:latin typeface="Arial"/>
              </a:rPr>
              <a:t>31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EF03599-CDC0-4D55-B0AF-10F99C2751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465C0F-9BF3-46F5-A0C5-3E5F4DF2E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10488E-00CB-4885-B56C-BBFC8B1F57DE}"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87E930-A2F5-48CA-900C-65790156659B}"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326CE2-D4E4-4B33-84E7-5C429F80FA8F}"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