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5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6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7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F5D9D-00C6-4550-AFE3-26AEF024DB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E67C8-D8EA-4258-AEB7-4547AB3301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94EA3-12CF-4AED-94AC-7E67FD0355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DCF75-ECEF-4422-88F6-074933FFC8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C8DFB-817A-493D-996E-B958924C92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93A15-7566-4F0F-805F-3ACCBDF3C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3DF45-77A5-46CB-B698-2B1AE1935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04AF8-A366-4A12-B7DC-018C499BF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61217-69EE-47A8-9AC5-4EBBC632C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52ABDB-0D31-436D-B7E8-1C6DF1F4602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0BC58F-DB38-490D-82EC-145047A6996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C95366-294D-4A5A-8CDD-66D6DB1FE36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D7118E-ABB5-4D8B-8E09-D88367A30CC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46B2E2-2870-43C8-8822-299AAFF9620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AF8319-4425-41C1-9CAB-B91EE7F3AAB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06A4A6-A969-4D0C-B284-5529AB28DF8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362A0-8891-43CF-81B8-61B0DF3A6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C6C22D-832E-46EA-9833-2DE8FBF08F0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628A98-6896-4B22-8ED8-7098988F3C3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5A60B5-EEB4-404E-9D55-D84BE3D4273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2F7AD4-5A5E-4C0C-AE4D-EAA6519F079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03145A-ADF1-4E82-A1C4-BFCEE6C0857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05528-FA63-4167-9E53-9603D4B46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21C0A-3F16-4DE8-87D5-B42FED9EA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371BB-A1EA-4D2A-8004-491C99D18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E3602-EA0B-49F7-9C33-FB1AB0D22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0FA84-AE44-4F65-8EB4-9CE1A6F53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74CD1-4CCF-42EF-B6B3-D34E6FD5F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8F8FD-1AD3-4E05-B42C-BA459D4A3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3B053-9AFC-4F4E-868D-F1394D12E1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119B3B67-2D9E-4C4A-8BC3-DB513BEA2A0F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9" name="Rectangle 13"/>
          <p:cNvSpPr/>
          <p:nvPr/>
        </p:nvSpPr>
        <p:spPr>
          <a:xfrm>
            <a:off x="755640" y="6391440"/>
            <a:ext cx="619272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Rapid Response Te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F2C8B489-2991-4177-A468-B049000FDB44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13"/>
          <p:cNvSpPr/>
          <p:nvPr/>
        </p:nvSpPr>
        <p:spPr>
          <a:xfrm>
            <a:off x="755640" y="6391440"/>
            <a:ext cx="619272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Rapid Response Te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F2BD3-54CA-4DF9-8C74-033395E557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"/>
          <p:cNvSpPr/>
          <p:nvPr/>
        </p:nvSpPr>
        <p:spPr>
          <a:xfrm>
            <a:off x="1440" y="2421000"/>
            <a:ext cx="9141120" cy="167328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Verdana"/>
              </a:rPr>
              <a:t>Rapid Response Te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Arial"/>
              </a:rPr>
              <a:t>General objectiv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8280" y="1844640"/>
            <a:ext cx="821700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presentation describes the composition and role of functional, technical multi-disciplinary teams of experts (Rapid Response Teams) that should be deployed in case of emergenci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Arial"/>
              </a:rPr>
              <a:t>Learning objectiv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6840" y="1341360"/>
            <a:ext cx="8147160" cy="43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the end of the session you will be able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the importance of having fully operational Rapid Response Teams (RRTs) able to act immediately once a suspicious case is repor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the composition and terms of reference of the RR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the activities  of the RR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Defin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8360" y="764640"/>
            <a:ext cx="822960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RT is a group of experienced experts that are on stand-by and can reach any part of the country within 24 hours. Their actions will help to contain/stop an outbreak early on. They will survey the first case(s), provide health care in a central facility, engage with the community and carry out infection, prevention and control measures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2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RRTs: Composition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24000" y="1236240"/>
            <a:ext cx="4032000" cy="356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b0f0"/>
                </a:solidFill>
                <a:latin typeface="Arial"/>
                <a:ea typeface="Arial"/>
              </a:rPr>
              <a:t>Nation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2 clinici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2 epidemiologi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laboratory exp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social mob/anthropolog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logistici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psychosocial support exp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data 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7 burial staff (1 burial tea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media exp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Content Placeholder 2"/>
          <p:cNvSpPr/>
          <p:nvPr/>
        </p:nvSpPr>
        <p:spPr>
          <a:xfrm>
            <a:off x="4356000" y="1236600"/>
            <a:ext cx="4537080" cy="32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b0f0"/>
                </a:solidFill>
                <a:latin typeface="Arial"/>
                <a:ea typeface="Arial"/>
              </a:rPr>
              <a:t>Sub-Nation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2 clinici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2 epidemiologi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laboratory technici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social mob/anthropolog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logistici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1 social worker, psychiatric nur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1 data cle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7 burial staff (1 burial tea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1 local media per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Content Placeholder 2"/>
          <p:cNvSpPr/>
          <p:nvPr/>
        </p:nvSpPr>
        <p:spPr>
          <a:xfrm>
            <a:off x="611280" y="5157720"/>
            <a:ext cx="8208720" cy="8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2060"/>
                </a:solidFill>
                <a:latin typeface="Arial"/>
              </a:rPr>
              <a:t>The number of subnational teams depends on the level of risk,</a:t>
            </a:r>
            <a:br>
              <a:rPr sz="2000"/>
            </a:br>
            <a:r>
              <a:rPr b="0" i="1" lang="en-US" sz="2000" spc="-1" strike="noStrike">
                <a:solidFill>
                  <a:srgbClr val="002060"/>
                </a:solidFill>
                <a:latin typeface="Arial"/>
              </a:rPr>
              <a:t>human resource availability and geographic lo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Set up one at National level and at least one at subnat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Train medical staff on WHO-AFRO module applied in Liberia, including mock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Mapping of health facilities and identify potential ETC si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Train Community volunteers and Epis in subnational RRT (24h hotlin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Financial support from ET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Simulation exerci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2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RRTs: Role 1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50920" y="1052640"/>
            <a:ext cx="851832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2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RRTs: Role (2)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"/>
          <p:cNvSpPr/>
          <p:nvPr/>
        </p:nvSpPr>
        <p:spPr>
          <a:xfrm>
            <a:off x="457200" y="1052640"/>
            <a:ext cx="85345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ose appropriate strategies and control measures including risk communications activit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pare detailed investigation repor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ibute to the final evaluation of the outbreak respon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estigate rumors, reported outbreaks, and other public health emerg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ordinate rapid response actions wi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ners and other ag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itiate the implementation of the propo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ol measures including capacity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ild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2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RRTs: Role (3)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55640" y="2492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W" sz="5400" spc="-1" strike="noStrike">
                <a:solidFill>
                  <a:srgbClr val="0000ff"/>
                </a:solidFill>
                <a:latin typeface="Arial"/>
              </a:rPr>
              <a:t>Thank yo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14:06:57Z</dcterms:created>
  <dc:creator>Etienne M Minkoulou</dc:creator>
  <dc:description/>
  <dc:language>en-US</dc:language>
  <cp:lastModifiedBy>Gomez, Paula</cp:lastModifiedBy>
  <cp:lastPrinted>2013-10-01T07:19:12Z</cp:lastPrinted>
  <dcterms:modified xsi:type="dcterms:W3CDTF">2014-12-15T13:27:53Z</dcterms:modified>
  <cp:revision>145</cp:revision>
  <dc:subject/>
  <dc:title>DPC Training and Technical Update</dc:title>
</cp:coreProperties>
</file>