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5.jpeg" ContentType="image/jpeg"/>
  <Override PartName="/ppt/media/image14.png" ContentType="image/png"/>
  <Override PartName="/ppt/media/image1.wmf" ContentType="image/x-wmf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C4A3-D31B-4422-8900-900EBBA30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1A00-FA06-4276-AAF4-73EB62E50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146A-E962-4C85-93CF-96920AACE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D981-C923-4B0A-8232-A0A2F3601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 Health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854520" y="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8FEB-DF2B-413B-967C-444B9F41DEB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6456-8074-46CC-B6B8-A36E21ACD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2560" y="4721400"/>
            <a:ext cx="544032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8462-67D0-4BBF-93F1-C960E36FE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7B21-8119-4711-A1F2-3F0B0B424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B30A-9CF8-4D15-8D6C-CC28C938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5ADA-6518-4BDA-A33B-3ED72D0A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4564-1B08-4AAF-B030-FC850217B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C4FF-6C08-463D-8A57-048AFA210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DDD9-1173-4B96-AD82-5CD7E400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4644-2EA4-4371-A5E0-28725C21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7EF4-8871-4563-AA2F-FB169D29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2177-E99B-4AB5-AE0C-09863E65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025F-641F-406F-8E6D-075A2135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13C2-3C72-4C95-A2FF-6E288B52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A2CB-D5A4-4BF3-AE3D-428FA240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DE0F-06A2-44C3-B278-96558789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663F-D6FC-4261-993F-0898D4AB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01E6-E0B3-401C-A283-9A29B672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FFFC-5011-4542-B999-87F22069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3B05-11C9-4741-B780-7F5D7B9B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AA39-6F07-4C0C-8E7A-08F38AA5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7925-A911-45B3-B40F-CCB8CBEA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5D5B-C5F6-4BDB-B4A2-D143780B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F275-CE60-4EE6-AB12-2CA6C249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5EC1-FEAE-4E84-9E5B-9427CE19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18C6-026B-4F65-B39C-AA1A3944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8CD8-3D9A-40F3-AF70-7FBA41E5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F2EB-D354-4A78-AD02-BF154BC7D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EVD PREPAREDNESS AND RESPONSE TRAINING 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Budget, Logistics and Resource Mobi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6350BFF-0ED2-450D-B1C1-2BE0CF99C0A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EVD PREPAREDNESS AND RESPONSE TRAINING 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Budget, Logistics and Resource Mobi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B364CA7-FD70-482D-9FFF-5E115AED440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1"/>
          <p:cNvSpPr/>
          <p:nvPr/>
        </p:nvSpPr>
        <p:spPr>
          <a:xfrm>
            <a:off x="0" y="493560"/>
            <a:ext cx="9144000" cy="4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6086520" y="3505320"/>
            <a:ext cx="275256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3"/>
          <a:srcRect l="28209" t="0" r="0" b="0"/>
          <a:stretch/>
        </p:blipFill>
        <p:spPr>
          <a:xfrm>
            <a:off x="0" y="1066680"/>
            <a:ext cx="9144000" cy="14097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4"/>
          <p:cNvSpPr/>
          <p:nvPr/>
        </p:nvSpPr>
        <p:spPr>
          <a:xfrm>
            <a:off x="0" y="0"/>
            <a:ext cx="9144000" cy="49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BOTTOMBAR_blue.png"/>
          <p:cNvPicPr/>
          <p:nvPr/>
        </p:nvPicPr>
        <p:blipFill>
          <a:blip r:embed="rId4"/>
          <a:stretch/>
        </p:blipFill>
        <p:spPr>
          <a:xfrm>
            <a:off x="0" y="205740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9897-7971-45FB-BF29-79FC4B5A937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-1600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C525-1A04-4F1A-B1BB-CF04842324C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0" y="2205000"/>
            <a:ext cx="9144000" cy="1657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ff"/>
                </a:solidFill>
                <a:latin typeface="Arial"/>
                <a:ea typeface="Verdana"/>
              </a:rPr>
              <a:t>Mobilização de Recursos, Orçamento e Logíst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mostra de Necessidades Orçamentais e Financei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003640" y="1700280"/>
          <a:ext cx="3251520" cy="5056200"/>
        </p:xfrm>
        <a:graphic>
          <a:graphicData uri="http://schemas.openxmlformats.org/drawingml/2006/table">
            <a:tbl>
              <a:tblPr/>
              <a:tblGrid>
                <a:gridCol w="3251520"/>
              </a:tblGrid>
              <a:tr h="763560"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ídio para os voluntários da comunid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31800"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ídio para os supervis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31080"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 do combustível (mota) para os supervis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452240"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 do combustível (veículo) para os supervis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360">
                        <a:lnSpc>
                          <a:spcPts val="1397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ídio para o condu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47520"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ídio para o gestor de dados do distrito nos distritos afect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31080"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 dos telefones e carrega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25" name="Rectangle 2"/>
          <p:cNvSpPr/>
          <p:nvPr/>
        </p:nvSpPr>
        <p:spPr>
          <a:xfrm>
            <a:off x="755640" y="162864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Sal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Epidemiologista-che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Supervisores no ter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Investig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Gestor de D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Perito psicos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Condutor (se utiliz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95280" y="1773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Equip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Ver anexo no diapositivo seguinte, mas considerar també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Custo dos carregamentos dos telemóv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mpressão de formul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nti-séptico para as mã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Transporte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(para os supervisores no terreno, investigadores e equipa de investigaçã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áxis (se utiliza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Combustível se forem utilizados veículos próp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mostra de Necessidades de Equipamento/Apoi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mostra de lista de equipament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79280" y="765000"/>
          <a:ext cx="8785440" cy="5872320"/>
        </p:xfrm>
        <a:graphic>
          <a:graphicData uri="http://schemas.openxmlformats.org/drawingml/2006/table">
            <a:tbl>
              <a:tblPr/>
              <a:tblGrid>
                <a:gridCol w="1970280"/>
                <a:gridCol w="1058760"/>
                <a:gridCol w="824040"/>
                <a:gridCol w="944280"/>
                <a:gridCol w="831960"/>
                <a:gridCol w="703440"/>
                <a:gridCol w="909360"/>
                <a:gridCol w="881280"/>
                <a:gridCol w="662040"/>
              </a:tblGrid>
              <a:tr h="20484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a de Identificação de Contact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s equip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11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pidemiologista-chef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ervisor no Terre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a de Investiga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a de Identifica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stor de Dad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a de Transpor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a de Desinfec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a de Enterr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5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amento de Protecção Pesso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uvas descartáve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936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556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ecção Facial (ou óculo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áscara Facial N95/FFP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556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áscara cirúrgica para o ca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592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cos de plástico para riscos biológic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68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nologia de Informa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592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stema de Posicionamento Mundia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556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lemóveis (com carregamento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936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ut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484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rramentas de Recolha de Dados Electrónic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93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amento no Terre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mómetr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936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teriais de Escritó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mulários Apropriad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93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tor/Car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231840" y="1249200"/>
            <a:ext cx="8881920" cy="4950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Exemplo de um orçamento para a implementação e gestão da identificação de contactos num distrito afec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Content Placeholder 2"/>
          <p:cNvSpPr/>
          <p:nvPr/>
        </p:nvSpPr>
        <p:spPr>
          <a:xfrm>
            <a:off x="395280" y="1557360"/>
            <a:ext cx="886140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necer uma compreensão ampla para a necessidade de uma disponibilidade sustentável de abastecimentos de emergência e apoio logístico às operações de alerta e resposta à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ilhar desafios logísticos práticos, incluindo os encontrados nos países com surtos corr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gerir possíveis soluções para os desafios identific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bjectivos Intermédios: Abastecimentos e Logí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07880" y="1196640"/>
            <a:ext cx="82296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bjectivos da ses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necessidade de uma Função de Abastecimentos e Logística na resposta a emergê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Quadro de resposta a sur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Quadro de Abastecimentos e Logí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rincipais prioridades na resposta ao surto do Éb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Fornecimento de Abastec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oio ao Pessoal no Ter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safios de Logí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pções/propo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Resumo da Apresentação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79280" y="1196640"/>
            <a:ext cx="885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0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bastecimento refere-se à quantidade total de um produto (bem ou serviço) disponível para aquisição a qualquer preço especifica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ogística é o processo de planeamento, implementação e controlo de um fluxo de mercadorias e serviços 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eficaz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eficiente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do ponto de origem ao consum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Fornecer uma logística eficaz para a criação e procura, o mais rápido possível, dos contributos necessários e assegurar o mais cedo possível os movimentos de peritos, doentes e abastecimentos para os pontos de uso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ZW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8000" y="123480"/>
            <a:ext cx="8856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 necessidade de uma Função de Abastecimentos e Logí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856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Book Antiqua"/>
              </a:rPr>
              <a:t>Estrutura organizacional das diferentes comissões envolvidas nas actividades de controlo do surto do Ébo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7975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1800" y="115920"/>
            <a:ext cx="76028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Quadro de Resposta a Sur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468360" y="1230480"/>
            <a:ext cx="8206920" cy="4627080"/>
            <a:chOff x="468360" y="1230480"/>
            <a:chExt cx="8206920" cy="4627080"/>
          </a:xfrm>
        </p:grpSpPr>
        <p:sp>
          <p:nvSpPr>
            <p:cNvPr id="142" name="Rectangle 2"/>
            <p:cNvSpPr/>
            <p:nvPr/>
          </p:nvSpPr>
          <p:spPr>
            <a:xfrm>
              <a:off x="468360" y="4641120"/>
              <a:ext cx="8206920" cy="121644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000066"/>
                  </a:solidFill>
                  <a:latin typeface="Arial"/>
                </a:rPr>
                <a:t>Morbilidade e mortalidade reduzid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000066"/>
                  </a:solidFill>
                  <a:latin typeface="Arial"/>
                </a:rPr>
                <a:t>Resposta ao surto reforçada</a:t>
              </a:r>
              <a:r>
                <a:rPr b="0" lang="pt-PT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"/>
            <p:cNvSpPr/>
            <p:nvPr/>
          </p:nvSpPr>
          <p:spPr>
            <a:xfrm>
              <a:off x="468360" y="1230480"/>
              <a:ext cx="3722760" cy="1706400"/>
            </a:xfrm>
            <a:prstGeom prst="rect">
              <a:avLst/>
            </a:prstGeom>
            <a:solidFill>
              <a:srgbClr val="0000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Arial"/>
                </a:rPr>
                <a:t>Equipas de Resposta Rápi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4"/>
            <p:cNvSpPr/>
            <p:nvPr/>
          </p:nvSpPr>
          <p:spPr>
            <a:xfrm>
              <a:off x="4868280" y="1230480"/>
              <a:ext cx="3807000" cy="1706400"/>
            </a:xfrm>
            <a:prstGeom prst="rect">
              <a:avLst/>
            </a:prstGeom>
            <a:solidFill>
              <a:srgbClr val="0000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Arial"/>
                </a:rPr>
                <a:t>Logística e abastec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5"/>
            <p:cNvSpPr/>
            <p:nvPr/>
          </p:nvSpPr>
          <p:spPr>
            <a:xfrm>
              <a:off x="468360" y="3202920"/>
              <a:ext cx="8206920" cy="1217520"/>
            </a:xfrm>
            <a:prstGeom prst="rect">
              <a:avLst/>
            </a:prstGeom>
            <a:solidFill>
              <a:srgbClr val="3366ff">
                <a:alpha val="75000"/>
              </a:srgbClr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Arial"/>
                </a:rPr>
                <a:t>Operações de respos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6"/>
            <p:cNvSpPr/>
            <p:nvPr/>
          </p:nvSpPr>
          <p:spPr>
            <a:xfrm rot="10800000">
              <a:off x="4444920" y="4201560"/>
              <a:ext cx="423360" cy="584280"/>
            </a:xfrm>
            <a:prstGeom prst="upArrow">
              <a:avLst>
                <a:gd name="adj1" fmla="val 50000"/>
                <a:gd name="adj2" fmla="val 43294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8"/>
            <p:cNvSpPr/>
            <p:nvPr/>
          </p:nvSpPr>
          <p:spPr>
            <a:xfrm rot="10800000">
              <a:off x="2117160" y="2820240"/>
              <a:ext cx="423360" cy="525600"/>
            </a:xfrm>
            <a:prstGeom prst="upArrow">
              <a:avLst>
                <a:gd name="adj1" fmla="val 50000"/>
                <a:gd name="adj2" fmla="val 43274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9"/>
            <p:cNvSpPr/>
            <p:nvPr/>
          </p:nvSpPr>
          <p:spPr>
            <a:xfrm rot="10800000">
              <a:off x="6559560" y="2778480"/>
              <a:ext cx="423360" cy="525600"/>
            </a:xfrm>
            <a:prstGeom prst="upArrow">
              <a:avLst>
                <a:gd name="adj1" fmla="val 50000"/>
                <a:gd name="adj2" fmla="val 43274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-360" y="790560"/>
            <a:ext cx="89917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Font typeface="Bookman Old Style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14320" y="117000"/>
            <a:ext cx="760752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Quadro de Abastecimentos e Logística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430200" y="936720"/>
            <a:ext cx="8713440" cy="4952520"/>
            <a:chOff x="430200" y="936720"/>
            <a:chExt cx="8713440" cy="4952520"/>
          </a:xfrm>
        </p:grpSpPr>
        <p:sp>
          <p:nvSpPr>
            <p:cNvPr id="152" name="Rectangle 5"/>
            <p:cNvSpPr/>
            <p:nvPr/>
          </p:nvSpPr>
          <p:spPr>
            <a:xfrm>
              <a:off x="430200" y="2499840"/>
              <a:ext cx="3333960" cy="140688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900" spc="-1" strike="noStrike">
                  <a:solidFill>
                    <a:srgbClr val="ffffff"/>
                  </a:solidFill>
                  <a:latin typeface="Arial"/>
                </a:rPr>
                <a:t>Transporte, segurança e bem-estar do pessoal</a:t>
              </a:r>
              <a:r>
                <a:rPr b="0" lang="pt-PT" sz="29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0" lang="en-US" sz="2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6"/>
            <p:cNvSpPr/>
            <p:nvPr/>
          </p:nvSpPr>
          <p:spPr>
            <a:xfrm>
              <a:off x="430200" y="936720"/>
              <a:ext cx="3333960" cy="13287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3000"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900" spc="-1" strike="noStrike">
                  <a:solidFill>
                    <a:srgbClr val="ffffff"/>
                  </a:solidFill>
                  <a:latin typeface="Arial"/>
                </a:rPr>
                <a:t>Abastecimentos para o alerta e resposta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7"/>
            <p:cNvSpPr/>
            <p:nvPr/>
          </p:nvSpPr>
          <p:spPr>
            <a:xfrm>
              <a:off x="430200" y="4298400"/>
              <a:ext cx="3333960" cy="159084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900" spc="-1" strike="noStrike">
                  <a:solidFill>
                    <a:srgbClr val="ffffff"/>
                  </a:solidFill>
                  <a:latin typeface="Arial"/>
                </a:rPr>
                <a:t>Apoio à logística no terreno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8"/>
            <p:cNvSpPr/>
            <p:nvPr/>
          </p:nvSpPr>
          <p:spPr>
            <a:xfrm>
              <a:off x="4521600" y="936720"/>
              <a:ext cx="4622040" cy="1191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8000"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100" spc="-1" strike="noStrike">
                  <a:solidFill>
                    <a:srgbClr val="ffffff"/>
                  </a:solidFill>
                  <a:latin typeface="Arial"/>
                </a:rPr>
                <a:t>Abastecimentos de laboratório, medicamentos, kits de emergência, meios de transporte, materiais de escritóri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9"/>
            <p:cNvSpPr/>
            <p:nvPr/>
          </p:nvSpPr>
          <p:spPr>
            <a:xfrm>
              <a:off x="4521600" y="2499840"/>
              <a:ext cx="4622040" cy="13291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ffffff"/>
                  </a:solidFill>
                  <a:latin typeface="Arial"/>
                </a:rPr>
                <a:t>Gestão de veículo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100" spc="-1" strike="noStrike">
                  <a:solidFill>
                    <a:srgbClr val="ffffff"/>
                  </a:solidFill>
                  <a:latin typeface="Arial"/>
                </a:rPr>
                <a:t>Telecomunicações</a:t>
              </a:r>
              <a:r>
                <a:rPr b="0" lang="pt-PT" sz="25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ffffff"/>
                  </a:solidFill>
                  <a:latin typeface="Arial"/>
                </a:rPr>
                <a:t>Alojamento/bem-estar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0"/>
            <p:cNvSpPr/>
            <p:nvPr/>
          </p:nvSpPr>
          <p:spPr>
            <a:xfrm>
              <a:off x="4521600" y="4141800"/>
              <a:ext cx="4622040" cy="174744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100" spc="-1" strike="noStrike">
                  <a:solidFill>
                    <a:srgbClr val="ffffff"/>
                  </a:solidFill>
                  <a:latin typeface="Arial"/>
                </a:rPr>
                <a:t>Avaliação no terreno</a:t>
              </a:r>
              <a:r>
                <a:rPr b="0" lang="pt-PT" sz="21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100" spc="-1" strike="noStrike">
                  <a:solidFill>
                    <a:srgbClr val="ffffff"/>
                  </a:solidFill>
                  <a:latin typeface="Arial"/>
                </a:rPr>
                <a:t>Supervisão do movimento de abastecimentos</a:t>
              </a:r>
              <a:r>
                <a:rPr b="0" lang="pt-PT" sz="2100" spc="-1" strike="noStrike">
                  <a:solidFill>
                    <a:srgbClr val="ffffff"/>
                  </a:solidFill>
                  <a:latin typeface="Arial"/>
                </a:rPr>
                <a:t>.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ffffff"/>
                  </a:solidFill>
                  <a:latin typeface="Arial"/>
                </a:rPr>
                <a:t>Avaliação de impacto</a:t>
              </a:r>
              <a:r>
                <a:rPr b="0" lang="pt-PT" sz="25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11"/>
            <p:cNvSpPr/>
            <p:nvPr/>
          </p:nvSpPr>
          <p:spPr>
            <a:xfrm>
              <a:off x="3764160" y="1483920"/>
              <a:ext cx="757440" cy="390600"/>
            </a:xfrm>
            <a:prstGeom prst="rightArrow">
              <a:avLst>
                <a:gd name="adj1" fmla="val 50000"/>
                <a:gd name="adj2" fmla="val 53327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12"/>
            <p:cNvSpPr/>
            <p:nvPr/>
          </p:nvSpPr>
          <p:spPr>
            <a:xfrm>
              <a:off x="3764160" y="2968920"/>
              <a:ext cx="757440" cy="390960"/>
            </a:xfrm>
            <a:prstGeom prst="rightArrow">
              <a:avLst>
                <a:gd name="adj1" fmla="val 50000"/>
                <a:gd name="adj2" fmla="val 48435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3"/>
            <p:cNvSpPr/>
            <p:nvPr/>
          </p:nvSpPr>
          <p:spPr>
            <a:xfrm>
              <a:off x="3764160" y="4767480"/>
              <a:ext cx="757440" cy="326880"/>
            </a:xfrm>
            <a:prstGeom prst="rightArrow">
              <a:avLst>
                <a:gd name="adj1" fmla="val 50000"/>
                <a:gd name="adj2" fmla="val 60644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Line 14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101520">
            <a:solidFill>
              <a:srgbClr val="651d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bjectivo G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2133360"/>
            <a:ext cx="82296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ordenação bem sucedida das operações, prevenção e controlo da epidemia através da mobilização de recursos por parte do Grupo de Acção/Comissão Nacional do Ébol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Principais prioridades na resposta ao surto do Ébola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460400" y="17586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Fornecimento de apoio às operações no terr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149040" y="1620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Fornecimento de abastec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D:\PICTURES\EBOLA DRC 2007\receiving and dispatching ppe.jpg"/>
          <p:cNvPicPr/>
          <p:nvPr/>
        </p:nvPicPr>
        <p:blipFill>
          <a:blip r:embed="rId1"/>
          <a:stretch/>
        </p:blipFill>
        <p:spPr>
          <a:xfrm>
            <a:off x="133200" y="2562120"/>
            <a:ext cx="4040280" cy="3036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L1040346 (Small)"/>
          <p:cNvPicPr/>
          <p:nvPr/>
        </p:nvPicPr>
        <p:blipFill>
          <a:blip r:embed="rId2"/>
          <a:stretch/>
        </p:blipFill>
        <p:spPr>
          <a:xfrm>
            <a:off x="4305240" y="2954160"/>
            <a:ext cx="4349880" cy="26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63080" y="1271160"/>
            <a:ext cx="8828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Reservas adequadas de materiais necessários às investigações epidemiológicas a nível subnacional e nacion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68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Kits de EPP, módulos A e B do catálogo da 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68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Produtos de desinfecção e outros materiais para se colocar em prática as medidas básicas de combate à infec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68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Kits de recolha de amostras e materiais de transpor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68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Reagentes laborator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68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Equipamento médico e medicamen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Fonte fiável de reabastecimento de materia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Gestão e sistema de distribuição de reservas eficaz a todos os níve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Procedimentos de alfândega simplificados para uma rápida autorização de importaçõ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Fornecimento de abastecimento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30320" y="1196640"/>
            <a:ext cx="901368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Criação de escritórios funcionais para actividades do pessoal e reuniões das comissõ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Sustentabilidade das operações, por exemplo, pequenas aquisições, pagamento de subsídios diários e aliment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Equipamento de escritório (computadores, impressoras, fotocopiadoras)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Fornecer meios de comunicação – telemóveis, etc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Reabastecimento dos produtos necessários / encomendar recursos a tempo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76200" y="223560"/>
            <a:ext cx="822960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Fornecimento de abastecimentos</a:t>
            </a: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ansporte para as equipas de proximid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C:\Users\chindedzak\Desktop\Ebola July 2014 documents_YZ\SLE EBOLA RESPONSE PHOTO LIBRARY\4   WHO mobile laboratory equipment being loaded to support ebola case confirmation in Kailahun District in eastern Sierra Leone.jpg"/>
          <p:cNvPicPr/>
          <p:nvPr/>
        </p:nvPicPr>
        <p:blipFill>
          <a:blip r:embed="rId1"/>
          <a:stretch/>
        </p:blipFill>
        <p:spPr>
          <a:xfrm>
            <a:off x="-41400" y="1557360"/>
            <a:ext cx="4537080" cy="4103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:\Users\chindedzak\Desktop\Ebola July 2014 documents_YZ\SLE EBOLA RESPONSE PHOTO LIBRARY\5   A team of WHO laboratory sciientists crossing from Guinea into Sierra Leone to set up a mobile lab in Kailahun District to test Ebola cases.jpg"/>
          <p:cNvPicPr/>
          <p:nvPr/>
        </p:nvPicPr>
        <p:blipFill>
          <a:blip r:embed="rId2"/>
          <a:stretch/>
        </p:blipFill>
        <p:spPr>
          <a:xfrm>
            <a:off x="4648320" y="1628640"/>
            <a:ext cx="44956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63080" y="1197000"/>
            <a:ext cx="8812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Transporte e movimentação de pess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Gestão de veículos e meios de transporte para as necessidades das actividades de controlo das equipas (vigilância, mobilização social, funerai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Coordenação dos movimentos das equipas móveis (vigilância, mobilização social, funerai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Elaboração e aplicação de mapas de serviço regulares para o pessoal nacional e internacion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Coordenação e facilitação de deslocações para o pessoal internacion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0600" y="274320"/>
            <a:ext cx="84549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Apoio para o pessoal no terreno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-360" y="1125360"/>
            <a:ext cx="902484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Apoio para os programas e abasteci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Assegurar o abastecimento e transporte do EPP (batas, máscaras, óculos, botas e outro equipamento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Assegurar o abastecimento de equipamento de desinfecção às equipas de controlo da infecção e ao pessoal responsável pelos funerais segur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Facilitar a gestão de resíduos biomédicos e das áreas de isolamento em coordenação com a subcomissão para a gestão dos cas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Apoio para o pessoal no terreno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08000" y="1197000"/>
            <a:ext cx="8856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02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Administração, segurança e protec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Dependendo das circunstâncias, atender às necessidades alimentares dos doentes e das equipas de intervençã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Assegurar a segurança dos espaços e a participação do pessoal nas actividades de control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Comunicar as instruções de segurança ao pessoal antes que estes cheguem ao terren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Sempre que necessário, formar o pessoal sobre as bases da logístic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Apoio para o pessoal no terreno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7066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Desaf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05840" y="1125000"/>
            <a:ext cx="892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Financiamento inadequado para os abastecimentos e logística necessári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Coordenação e colaboração do apoio dos parceiros, incluindo recurs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Previsão e aquisição de quantidades óptimas de abastecimentos e logística devido à elevada procura actu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Isolamento dos países com surtos de EVD por parte de algumas empresas está a afectar a disponibilidade de abasteciment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Diferentes conceitos, qualidade e padrões de EPP para a EV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Desafios da Logística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78920" y="981000"/>
            <a:ext cx="88772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Escassez de especialistas em logística com formação adequad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Rotação elevada de pessoal devido ao medo, pânico e exaust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Distribuição tardia das equipas operacionais em novas frentes do sur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Ambiente sociopolític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Transporte e instalações de comunicação pouco adequad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Escassez de pessoal para as equipas de enterros, especialmente devido a compensações pouco adequadas para o risco e estigma associad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Acesso a algumas áreas não é fáci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Desafios (cont…..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339920"/>
            <a:ext cx="8686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alçar o papel da comissão de coordenação acerca da preparação e resposta ao surto de EV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screver a composição e termos de referência da comissão de coorden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finir as actividades da comissão de coordenação a nível do distrito (loc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bjectivos Intermédios: para o Grupo de Acção/Comissão Nacional do Ébol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08000" y="1197000"/>
            <a:ext cx="8856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São propostas as seguintes medidas tendo em conta as considerações específicas ao país e comunidad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Compromisso da liderança política e social e dos parceiros em criar um ambiente propício à mobilização de recurs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Assegurar e monitorizar a segurança das equipas no terreno e do equipamento sempre que adequad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Reforçar a capacidade logística nacional (cadeia de abastecimento nacional, formações), assegurar o compromisso dos parceiros com base nas suas vantagens comparativ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Possíveis soluçõ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su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 logística deve ser o primeiro componente a ser devidamente abordado na preparação para qualquer emergência, incluindo surtos de EV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533520" y="1143000"/>
            <a:ext cx="815328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rcerias na preparação e resposta ao surto de EV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3164040" y="6213600"/>
            <a:ext cx="35258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7010280" y="2441520"/>
            <a:ext cx="1376640" cy="1812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1878120" y="2676600"/>
            <a:ext cx="2573280" cy="1299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3"/>
          <a:stretch/>
        </p:blipFill>
        <p:spPr>
          <a:xfrm>
            <a:off x="4856040" y="2676600"/>
            <a:ext cx="1868760" cy="14526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"/>
          <p:cNvPicPr/>
          <p:nvPr/>
        </p:nvPicPr>
        <p:blipFill>
          <a:blip r:embed="rId4"/>
          <a:stretch/>
        </p:blipFill>
        <p:spPr>
          <a:xfrm>
            <a:off x="466560" y="2514600"/>
            <a:ext cx="1256040" cy="2068560"/>
          </a:xfrm>
          <a:prstGeom prst="rect">
            <a:avLst/>
          </a:prstGeom>
          <a:ln w="0">
            <a:noFill/>
          </a:ln>
        </p:spPr>
      </p:pic>
      <p:sp>
        <p:nvSpPr>
          <p:cNvPr id="196" name="TextBox 1"/>
          <p:cNvSpPr/>
          <p:nvPr/>
        </p:nvSpPr>
        <p:spPr>
          <a:xfrm>
            <a:off x="2700360" y="4129200"/>
            <a:ext cx="1676520" cy="764280"/>
          </a:xfrm>
          <a:prstGeom prst="rect">
            <a:avLst/>
          </a:prstGeom>
          <a:solidFill>
            <a:srgbClr val="ffff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Arial"/>
              </a:rPr>
              <a:t>MS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0"/>
          <p:cNvSpPr/>
          <p:nvPr/>
        </p:nvSpPr>
        <p:spPr>
          <a:xfrm>
            <a:off x="5396040" y="4721400"/>
            <a:ext cx="2655720" cy="947160"/>
          </a:xfrm>
          <a:prstGeom prst="rect">
            <a:avLst/>
          </a:prstGeom>
          <a:solidFill>
            <a:srgbClr val="f1f9f9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70c0"/>
                </a:solidFill>
                <a:latin typeface="Arial"/>
              </a:rPr>
              <a:t>Instituto </a:t>
            </a: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1"/>
          <p:cNvSpPr/>
          <p:nvPr/>
        </p:nvSpPr>
        <p:spPr>
          <a:xfrm>
            <a:off x="609480" y="4648320"/>
            <a:ext cx="167652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70c0"/>
                </a:solidFill>
                <a:latin typeface="Arial"/>
              </a:rPr>
              <a:t>IF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D:\userprofiles\gaturukup\My Documents\Old HDD documents 14 March 2012\Desktop Documents\WHO LOGO NEW\WHO-AFRO-EN-C.jpg"/>
          <p:cNvPicPr/>
          <p:nvPr/>
        </p:nvPicPr>
        <p:blipFill>
          <a:blip r:embed="rId5"/>
          <a:stretch/>
        </p:blipFill>
        <p:spPr>
          <a:xfrm>
            <a:off x="2471760" y="5172120"/>
            <a:ext cx="2282760" cy="9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2320"/>
            <a:ext cx="8229600" cy="8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Papel do Grupo de Acção Nacional do Ébola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Aprovar as estratégias de controlo da epidemia recomendadas pela 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Desenvolver um plano de acção detalhado para a resposta à epidem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Definir as responsabilidades das diferentes equipas no terre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Organizar a mobilização de recursos em colaboração com os parcei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Definir os canais de informação durante as operações de resposta à epidem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Comunicar regularmente com a imprensa nacional e internac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A nível local, com a ajuda de parceiros internacionais, criar uma comissão técnica e científica internacional para coordenar as medidas de controlo da epidemia que será responsável pela organização das actividades diárias das equipas no terre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itle 1"/>
          <p:cNvSpPr/>
          <p:nvPr/>
        </p:nvSpPr>
        <p:spPr>
          <a:xfrm>
            <a:off x="468360" y="22320"/>
            <a:ext cx="82296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Papel do Grupo de Acção Nacional do Ébol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rganizar reuniões de coordenação e monitorizar as oper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rganizar a coordenação com os serviços responsáveis pela saúde animal na vida selv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arques nacio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erviços veterin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ssegurar uma rotação regular do pessoal no ter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F:\Ebola July 2014 documents_YZ\SLE EBOLA RESPONSE PHOTO LIBRARY\7   Sierra Leone Ebola_Photo credit_WHO Saffea Gborie.jpg"/>
          <p:cNvPicPr/>
          <p:nvPr/>
        </p:nvPicPr>
        <p:blipFill>
          <a:blip r:embed="rId1"/>
          <a:stretch/>
        </p:blipFill>
        <p:spPr>
          <a:xfrm>
            <a:off x="4444920" y="2073240"/>
            <a:ext cx="4407120" cy="29401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2320"/>
            <a:ext cx="8229600" cy="8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Papel do Grupo de Acção Nacional do Ébol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Evitar a aplicação de medidas restritivas, de acordo com o RSI (200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Preparar o fim do relatório da epidem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écnico, Administrativo, Financeiro e Logí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Avaliar o impacto económico e social da epidem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Avaliar a gestão da epidem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Com base nas experiências adquiridas, fazer recomendações para a prevenção e gestão de futuras epidemi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2320"/>
            <a:ext cx="8229600" cy="8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Papel do Grupo de Acção Nacional do Ébol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640" y="-10044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omissão de Coordenação Nacional (Grupo de Acção Nacional): Composi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 liderança nacional é da máxima importância e a composição pode variar de país para país, mas é essencialmen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scritório do Presidente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érios da Saúde, Finanças, Agricultura, Veterinário, Serviços Sociais, Educação e Defesa, etc.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arceiros internacionais e locais: por exemplo, OMS, MSF, CDC, UNICEF, USAID, FAO, IEO, Cruz Vermelha/Crescente Vermelho, IFRC, etc.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Grupos de interesses especiais: indústrias extractivas (mineira, petrolífera, madeira), turismo, companhias aéreas, etc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Content Placeholder 2"/>
          <p:cNvSpPr/>
          <p:nvPr/>
        </p:nvSpPr>
        <p:spPr>
          <a:xfrm>
            <a:off x="539640" y="1268280"/>
            <a:ext cx="83743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Definir o orçamento operacional para as actividades (comunicação, vigilância reforçada, investigação, etc.), para a detecção pré-epidémica e para a resposta preliminar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Identificar as fontes de financiamento, incluindo a alocação de recursos domésticos e criação e conhecimento de mecanismos para obter recursos adicionais sempre que necessário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Desenvolver modelos para a mobilização de recursos e para a notificação dos países e dos doadores, incluindo mecanismos para monitorizar e seguir a implementação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Estabelecer fundos de contingência facilmente acessíveis para uma resposta imediata a um surto de EVD a nível nacional e noutros locais apropriados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Identificar o processo de transferência de dinheiro do nível central para uma utilização de emergência loca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bjectivos Intermédios: Orç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User</cp:lastModifiedBy>
  <cp:lastPrinted>2013-10-01T07:19:12Z</cp:lastPrinted>
  <dcterms:modified xsi:type="dcterms:W3CDTF">2014-11-29T16:30:50Z</dcterms:modified>
  <cp:revision>198</cp:revision>
  <dc:subject/>
  <dc:title>DPC Training and Technical Update</dc:title>
</cp:coreProperties>
</file>