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1B0-7132-4EFA-9045-E6AB24EE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84B-1BB3-4B14-ABB7-7ABC8FCD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AC2D-009E-47D4-BBBA-5489B1C0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76CF-CB1C-4483-8858-8A693F9E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762B-F42A-49E3-80FA-1E23030E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E582-ADD2-4B2E-9BC5-19968522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842-BBF4-47EC-A819-B0572F75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43E-2FF0-498F-9FB9-62269D71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ED4-B89F-48B3-924D-DFCA5F29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FFA-0247-460F-B6EF-53794481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5B4-D404-4F21-A3EB-10FD28C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33C-EFDF-45FF-B6AE-176792AA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1D18-6DE5-435B-80AC-1CA1F0D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E77-3E9F-40C1-8939-733DF474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41FA-8D22-4156-9CA4-9D11087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2A5-3F68-49E6-A4CB-4A67FB7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C29-F146-4FCB-97D5-AB5BED9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AB6-F2C1-4C6A-A571-BABF042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CB50-F3EB-4C09-94CA-F90BA07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B378-4C98-473D-8A2A-3CB63859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9C22-F18E-4223-BA3F-924F8122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496-5FDD-4BB3-9F56-E6113E99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439-240D-44C7-B21B-B0AA0643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35A-4E54-4BC2-869A-6C5A8A1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6D6-64B9-42B0-ACD2-FCB9B1F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678-6E68-4267-A2A0-15CB674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AB5-95D0-4BC8-BF4B-AD5CCFC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BCC-67AD-475B-A3DE-7FE63B92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D7A-FDCD-4241-B7E3-6694C49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C39-CF52-4F38-9B24-3F1F25B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966-A5C3-4B62-BEFC-C9FADE56B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902E90-67CB-42FD-BC96-D91FEDFC8BA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Overall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3B5084-823A-4B37-BF1C-0D6BCAECFE5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F18E-7688-487B-A1E7-FA20F273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165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Verdana"/>
              </a:rPr>
              <a:t>Coordenação G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130320"/>
            <a:ext cx="8589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Definir os canais de informação durante as operações de resposta à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Comunicar regularmente com a imprensa nacional e internac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</a:rPr>
              <a:t>A nível local, com a ajuda de parceiros internacionais, criar uma comissão de coordenação técnica e científica internacional para coordenar as medidas de controlo da epidemia que será responsável pela organização das actividades diárias das equipas no terre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reuniões de coordenação e monitorizar as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r a coordenação com os serviços responsáveis pela saúde animal na vida selv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ques 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rviços veterin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egurar uma rotação regular do pessoal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F:\Ebola July 2014 documents_YZ\SLE EBOLA RESPONSE PHOTO LIBRARY\7   Sierra Leone Ebola_Photo credit_WHO Saffea Gborie.jpg"/>
          <p:cNvPicPr/>
          <p:nvPr/>
        </p:nvPicPr>
        <p:blipFill>
          <a:blip r:embed="rId1"/>
          <a:stretch/>
        </p:blipFill>
        <p:spPr>
          <a:xfrm>
            <a:off x="4444920" y="2073240"/>
            <a:ext cx="4407120" cy="294012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a aplicação de medidas restritivas, de acordo com o RSI (20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 fim do relatóri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o, Administrativo, Financeiro e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impacto económico e social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a gestão da epidem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om base nas experiências adquiridas, fazer recomendações para a prevenção e gestão de futuras epidem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 de um EOC/IMC de E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92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365040" y="981000"/>
            <a:ext cx="7907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peracionalização do EOC/I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7300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dentificar e nomear pessoal para diferentes áre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riar o espaço para o E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er termos de referência e actividades prioritárias para orientar o trabalho de cada área temática (Grupo de Acção do Ébola: ET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locar pessoal, desenvolver listas de materiais e necessidades financeiras, assim como um plano operacional com objectivos definidos (grupos de áreas temátic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ver e aprovar os planos operacionais (ETF) e os recursos necessá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mear parceiros técnicos para as várias áreas temáticas com base nas suas compet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3622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MISSÃO DE COORDENAÇÃO LOCAL (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01600"/>
            <a:ext cx="885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tura da Comissão de Coordenação Lo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CCL está dividida em subcomissões que reflectem os princípios básicos de combate à EVD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igilância e 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estão de casos e controlo de infec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ção social 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o psicos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ística 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F:\Ebola July 2014 documents_YZ\SLE EBOLA RESPONSE PHOTO LIBRARY\12 WHO Mobile lab equipment for Kailahun ebola outbreak_WHO Saffea Gborie.jpg"/>
          <p:cNvPicPr/>
          <p:nvPr/>
        </p:nvPicPr>
        <p:blipFill>
          <a:blip r:embed="rId1"/>
          <a:stretch/>
        </p:blipFill>
        <p:spPr>
          <a:xfrm>
            <a:off x="4648320" y="2276640"/>
            <a:ext cx="43974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Com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idente do Conselh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o-assistente local / Equipa de Gestã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elheiros, Técnicos Distr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sup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Depart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hefes de Agências de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resentante das Organizações da Sociedad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íderes Religi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rganizações Internacionais, Nacionais e Parceiros Locais (OMS, CDC, MSF, ONG, Organizações com base na Comunidad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missão de Coordenação Local: Pa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ordena todos os aspectos de coordenação da resposta no terreno de acordo com as directivas d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voca reuniões diárias para coordenar a resposta no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obiliza e aloca recursos para a resposta a su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duz relatórios de situação diários e comunica com 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aliza quaisquer outras funções atribuídas pela comissão nacional de co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PT" sz="4400" spc="-1" strike="noStrike">
                <a:solidFill>
                  <a:srgbClr val="ffffff"/>
                </a:solidFill>
                <a:latin typeface="Arial"/>
              </a:rPr>
              <a:t>Obrig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s Ministros da Saúde e outros líderes sanitários devem assumir um papel de liderança proeminente na coordenação e implementação das medidas de resposta de emergência ao Ébola…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laração da Directora-Geral da OMS na Reunião da Comissão de Emergência do RSI relativamente ao Surto do Ébola na África Ocidental de 2014. 8 de Agosto de 2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4464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final da sessão, os participantes devem dominar a coordenação da preparação e resposta à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0000"/>
                </a:solidFill>
                <a:latin typeface="Arial"/>
              </a:rPr>
              <a:t>Objectivos da Sessão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560" y="126828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Objectivos Inter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alçar o papel da commissão de coordenação sobre a preparação e resposta ao surto de E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ever a composição e termos de referência da comissão de coorden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sumir as actividades da comissão de coordenação a nível distrital (lo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ornecer um exemplo de um EOC/I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 multissec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nacional de coordenaçã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xemplo de EOC/I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issão de Coordenação Local (Distrital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apéis e taref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ção: Estratégia mult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9440" y="1114560"/>
            <a:ext cx="66945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strutura da Comissão Nacional de Coordenação (ET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Nacional de Coordenação: Composiçã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liderança nacional é da máxima importância e a composição pode variar de país para país, mas é essencialm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critório do Presidente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érios da Saúde, Finanças, Agricultura, Veterinário, Serviços Sociais, Educação e Defesa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ceiros internacionais e locais: por exemplo, OMS, MSF, CDC, UNICEF, USAID, FAO, IEO, Cruz Vermelha/Crescente Vermelho, IFRC, etc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upos de interesses especiais: indústrias extractivas (mineira, petrolífera, madeira), turismo, companhias aéreas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apel da Comissão Nacional de Coorden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apel da comissão é assegurar a coordenação geral das operações, actividades de prevenção e controlo de epidemias e mobilização de recurso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23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apel da Comissão Nacional de Coordenação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provar as estratégias de controlo da epidemia do Ébola recomendadas pela 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senvolver um plano de acção detalhado para a resposta à epid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Definir as responsabilidades das diferentes equipas no terr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Organizar a mobilização de recursos em colaboração com os parcei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User</cp:lastModifiedBy>
  <cp:lastPrinted>2013-10-01T07:19:12Z</cp:lastPrinted>
  <dcterms:modified xsi:type="dcterms:W3CDTF">2014-11-29T16:39:34Z</dcterms:modified>
  <cp:revision>234</cp:revision>
  <dc:subject/>
  <dc:title>DPC Training and Technical Update</dc:title>
</cp:coreProperties>
</file>