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47EF8-E3AA-490C-BBF8-AE510186B9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8D523-D937-4A54-84B4-140D619870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83CEC915-2011-4815-9D08-8BFDE31E125C}"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AF1D866-46B7-4178-888D-8B9729961E3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E536212-83CE-4D9F-AC50-452031E890D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4AAF2EB-845E-4D47-AEA5-CB382F05EA5D}" type="datetime">
              <a:rPr b="0" lang="en-US" sz="1200" spc="-1" strike="noStrike">
                <a:solidFill>
                  <a:srgbClr val="000000"/>
                </a:solidFill>
                <a:latin typeface="Times New Roman"/>
                <a:ea typeface="Arial"/>
              </a:rPr>
              <a:t>07/29/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3764B95-EFC4-43E3-B285-0CA09BE92993}" type="datetime3">
              <a:rPr b="0" lang="en-US" sz="1200" spc="-1" strike="noStrike">
                <a:solidFill>
                  <a:srgbClr val="000000"/>
                </a:solidFill>
                <a:latin typeface="Times New Roman"/>
                <a:ea typeface="Arial"/>
              </a:rPr>
              <a:t>July 29,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45EFE42-42EC-4366-84DD-B91EE388E88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844579-1942-4C0D-B056-7333E24E3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10B9D-2FD9-4984-BBB2-E731B7361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C251D-85BA-4CF8-B66F-66E8B774A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817CD-15D7-4BB8-8F81-C23F50062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24BD9-CCAD-49F7-95A5-D6330D615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27309E-ABA7-41D0-B651-FBF8664B52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CBFFE2-E5C8-43F2-A019-9C0DA163D2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72219B-677B-45DE-8ABB-EDAD555596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B67FA9-F0C2-4AEC-BF6A-DB3509D67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BB8E87-6B00-49D3-A7E1-909CC1C3CB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38E73-B67C-42ED-96C0-BFBE7396E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7DEE2-6DAD-42CF-BD43-73771E324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044C4-0456-4E4A-90A6-39A1DBAF7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3309B-858C-4113-9561-32F2F039A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5663A-DBB3-488D-9B26-8F2EA0FD0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0E4795-07F0-405A-A69A-5734542B01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B35672-4C21-4688-A9A4-09FD00E045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46032F-C5D9-4388-8CBE-4ACF46AC47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83BEA-0458-4D95-A6CA-C62C73EF0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D8885-8C4D-4A2C-9FA8-E302F992D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EA71D-5295-4B90-ABE7-D658C5B37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79FE3-CD63-4E67-99FF-32FFEB22E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F5D84-7852-46AB-BED3-4805D5625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734B8-20C7-4545-BC3C-3758D30553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E1937-AC32-46AB-BEBF-18203C330F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1AE33EB-7ADE-46C5-88EF-6FDEB0FA42D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B1DD399-D4C6-4688-B91A-C25F51E1E06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3DCE891-FBB5-4029-83A9-0EB2A7D23CE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22F55-2AB3-440B-8CC4-78CB156D0AE4}"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9D1495E-C35D-4CE8-A620-361606E9325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1609AA9-79B8-4F23-994B-666F80B73DD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70B6200-D790-44E4-B72D-06117861580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