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5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6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7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73D50-8DB2-41BA-ADA4-A6F7929EC0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DCAAA-C937-4610-9962-EA44D46DF9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A6FAA-6F59-470F-9DC9-0142F2B9AE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EB6C9-7991-4BA2-9142-3DB6680131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55ABE-CDCC-47EF-9C26-1D59A00ACC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686BE-BBFF-4432-87B9-9589528AD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F7CEB-0214-4F5B-B347-C06A6B55B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95DF5-74D7-4860-9B04-75454EFEC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EB355-5483-4EA3-ADD9-1C9BF3BB5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6A18A8-DE53-4FB9-826B-74B705262B0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4FAE3A-44FD-45FF-A428-65024F74C26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5DAF3B-5F3F-4834-855A-6AEE669BC17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80818E-2EDD-4CF5-8DDA-5BA0C2BD1E0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947796-9D8E-46A4-9C2D-C2C43F08C85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13449D-FEB9-4CFF-89A3-A8D83CECDA1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3B8282-BAA0-40DF-AFBE-E4DA4ED03C3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BB0E5-CAB1-4970-A815-C881BCDDE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DB82E0-329C-4E92-ACA8-B91A8104DC9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34CD33-FD4B-4EB2-A7A6-801B528699E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40D2E7-E340-42E2-9842-EF502B0259F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A224C7-32F4-43EF-BA41-25E4714CDEF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FB6DD7-5A26-4321-BDE8-CE0C556330C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30161-775E-4BC1-8457-64D79047A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B07E5-6010-4EE4-869E-97E37EE32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EEBE9-FBE6-4782-BFAD-303DCC2CB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F4965-9FC2-44F2-B314-35ABEC126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25375-EE4A-4D80-8569-81BA9E38D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B50C2-E992-458C-BC8F-4C8F4821A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1C1DE-19EF-4331-90EE-2A58E1625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15969-424B-47E4-B329-6DE48CA093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7F0CB879-52CC-4A80-8F6E-5D0D7AEEEAC0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9" name="Rectangle 13"/>
          <p:cNvSpPr/>
          <p:nvPr/>
        </p:nvSpPr>
        <p:spPr>
          <a:xfrm>
            <a:off x="755640" y="6391440"/>
            <a:ext cx="619272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Rapid Response Te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8C92F03C-AE73-4D15-9878-6CD8ABB9F3AC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13"/>
          <p:cNvSpPr/>
          <p:nvPr/>
        </p:nvSpPr>
        <p:spPr>
          <a:xfrm>
            <a:off x="755640" y="6391440"/>
            <a:ext cx="619272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Rapid Response Te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2EB84-469E-4839-BFCB-CFF64F8432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"/>
          <p:cNvSpPr/>
          <p:nvPr/>
        </p:nvSpPr>
        <p:spPr>
          <a:xfrm>
            <a:off x="1440" y="2421000"/>
            <a:ext cx="9141120" cy="167328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Verdana"/>
              </a:rPr>
              <a:t>Rapid Response Te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Arial"/>
              </a:rPr>
              <a:t>General objectiv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8280" y="1844640"/>
            <a:ext cx="821700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presentation describes the composition and role of functional, technical multi-disciplinary teams of experts (Rapid Response Teams) that should be deployed in case of emergenci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Arial"/>
              </a:rPr>
              <a:t>Learning objectiv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6840" y="1341360"/>
            <a:ext cx="8147160" cy="43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the end of the session you will be able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the importance of having fully operational Rapid Response Teams (RRTs) able to act immediately once a suspicious case is repor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the composition and terms of reference of the RR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the activities  of the RR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Defin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8360" y="764640"/>
            <a:ext cx="822960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RT is a group of experienced experts that are on stand-by and can reach any part of the country within 24 hours. Their actions will help to contain/stop an outbreak early on. They will survey the first case(s), provide health care in a central facility, engage with the community and carry out infection, prevention and control measures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2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RRTs: Composition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24000" y="1236240"/>
            <a:ext cx="4032000" cy="356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b0f0"/>
                </a:solidFill>
                <a:latin typeface="Arial"/>
                <a:ea typeface="Arial"/>
              </a:rPr>
              <a:t>Nation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2 clinici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2 epidemiologi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laboratory exp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social mob/anthropolog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logistici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psychosocial support exp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data 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7 burial staff (1 burial tea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media exp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Content Placeholder 2"/>
          <p:cNvSpPr/>
          <p:nvPr/>
        </p:nvSpPr>
        <p:spPr>
          <a:xfrm>
            <a:off x="4356000" y="1236600"/>
            <a:ext cx="4537080" cy="32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b0f0"/>
                </a:solidFill>
                <a:latin typeface="Arial"/>
                <a:ea typeface="Arial"/>
              </a:rPr>
              <a:t>Sub-Nation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2 clinici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2 epidemiologi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laboratory technici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social mob/anthropolog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logistici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1 social worker, psychiatric nur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1 data cle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7 burial staff (1 burial tea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1 local media per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Content Placeholder 2"/>
          <p:cNvSpPr/>
          <p:nvPr/>
        </p:nvSpPr>
        <p:spPr>
          <a:xfrm>
            <a:off x="611280" y="5157720"/>
            <a:ext cx="8208720" cy="8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2060"/>
                </a:solidFill>
                <a:latin typeface="Arial"/>
              </a:rPr>
              <a:t>The number of subnational teams depends on the level of risk,</a:t>
            </a:r>
            <a:br>
              <a:rPr sz="2000"/>
            </a:br>
            <a:r>
              <a:rPr b="0" i="1" lang="en-US" sz="2000" spc="-1" strike="noStrike">
                <a:solidFill>
                  <a:srgbClr val="002060"/>
                </a:solidFill>
                <a:latin typeface="Arial"/>
              </a:rPr>
              <a:t>human resource availability and geographic lo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Set up one at National level and at least one at subnat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Train medical staff on WHO-AFRO module applied in Liberia, including mock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Mapping of health facilities and identify potential ETC si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Train Community volunteers and Epis in subnational RRT (24h hotlin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Financial support from ET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Simulation exerci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2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RRTs: Role 1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50920" y="1052640"/>
            <a:ext cx="851832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2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RRTs: Role (2)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"/>
          <p:cNvSpPr/>
          <p:nvPr/>
        </p:nvSpPr>
        <p:spPr>
          <a:xfrm>
            <a:off x="457200" y="1052640"/>
            <a:ext cx="85345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ose appropriate strategies and control measures including risk communications activit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pare detailed investigation repor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ibute to the final evaluation of the outbreak respon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estigate rumors, reported outbreaks, and other public health emerg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ordinate rapid response actions wi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ners and other ag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itiate the implementation of the propo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ol measures including capacity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ild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2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RRTs: Role (3)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55640" y="2492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W" sz="5400" spc="-1" strike="noStrike">
                <a:solidFill>
                  <a:srgbClr val="0000ff"/>
                </a:solidFill>
                <a:latin typeface="Arial"/>
              </a:rPr>
              <a:t>Thank yo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14:06:57Z</dcterms:created>
  <dc:creator>Etienne M Minkoulou</dc:creator>
  <dc:description/>
  <dc:language>en-US</dc:language>
  <cp:lastModifiedBy>Gomez, Paula</cp:lastModifiedBy>
  <cp:lastPrinted>2013-10-01T07:19:12Z</cp:lastPrinted>
  <dcterms:modified xsi:type="dcterms:W3CDTF">2014-12-15T13:27:53Z</dcterms:modified>
  <cp:revision>145</cp:revision>
  <dc:subject/>
  <dc:title>DPC Training and Technical Update</dc:title>
</cp:coreProperties>
</file>