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919080" y="745920"/>
            <a:ext cx="496584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a4743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1"/>
          </p:nvPr>
        </p:nvSpPr>
        <p:spPr>
          <a:xfrm>
            <a:off x="-3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2"/>
          </p:nvPr>
        </p:nvSpPr>
        <p:spPr>
          <a:xfrm>
            <a:off x="385560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13E8-0CDB-4D7F-A70A-F5F176512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55800" y="768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3760" y="4694040"/>
            <a:ext cx="4988160" cy="4460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3 million deaths in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88260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04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8826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5160" y="38826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9440" y="38826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04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0" r="0" b="10499"/>
          <a:stretch/>
        </p:blipFill>
        <p:spPr>
          <a:xfrm>
            <a:off x="0" y="0"/>
            <a:ext cx="9145440" cy="6138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a4743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a474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743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a474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743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4a474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743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4a474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743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743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743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743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3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Overview of checklist</a:t>
            </a: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0" y="63244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ffffff"/>
                </a:solidFill>
                <a:latin typeface="Arial"/>
                <a:ea typeface="SimSun"/>
              </a:rPr>
              <a:t>Visão Geral da Lista de Verificação</a:t>
            </a:r>
            <a:endParaRPr b="0" lang="en-US" sz="4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5080" y="97920"/>
            <a:ext cx="8604360" cy="6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5 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Gestão de Casos</a:t>
            </a:r>
            <a:br>
              <a:rPr sz="3200"/>
            </a:br>
            <a:r>
              <a:rPr b="0" i="1" lang="pt-PT" sz="2400" spc="-1" strike="noStrike">
                <a:solidFill>
                  <a:srgbClr val="002060"/>
                </a:solidFill>
                <a:latin typeface="Arial"/>
              </a:rPr>
              <a:t>5a) Centro de Tratamento do Ébola (CTE)</a:t>
            </a:r>
            <a:endParaRPr b="0" lang="en-US" sz="24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36" name="Rectangle 10"/>
          <p:cNvSpPr/>
          <p:nvPr/>
        </p:nvSpPr>
        <p:spPr>
          <a:xfrm>
            <a:off x="326880" y="3787920"/>
            <a:ext cx="6438960" cy="24112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                 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A nível nacional, 24/7, </a:t>
            </a:r>
            <a:r>
              <a:rPr b="1" i="1" lang="pt-PT" sz="900" spc="-1" strike="noStrike">
                <a:solidFill>
                  <a:srgbClr val="002060"/>
                </a:solidFill>
                <a:latin typeface="Arial"/>
              </a:rPr>
              <a:t>5 equipas 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(de preferência pessoal do           Para cada CTE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hospital nacional de referência), </a:t>
            </a:r>
            <a:r>
              <a:rPr b="1" i="1" lang="pt-PT" sz="900" spc="-1" strike="noStrike">
                <a:solidFill>
                  <a:srgbClr val="002060"/>
                </a:solidFill>
                <a:latin typeface="Arial"/>
              </a:rPr>
              <a:t>cada uma com: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Em áreas de risco elevado: 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3 equipas, cada uma com (ver acima,</a:t>
            </a:r>
            <a:br>
              <a:rPr sz="900"/>
            </a:b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esma composição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7" name="Rectangle 11"/>
          <p:cNvSpPr/>
          <p:nvPr/>
        </p:nvSpPr>
        <p:spPr>
          <a:xfrm>
            <a:off x="6850080" y="3787920"/>
            <a:ext cx="1973160" cy="24112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ponente 2; 3; 4; 7; 8; 9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DC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SF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8" name="Rectangle 61"/>
          <p:cNvSpPr/>
          <p:nvPr/>
        </p:nvSpPr>
        <p:spPr>
          <a:xfrm>
            <a:off x="325440" y="795240"/>
            <a:ext cx="643896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6850080" y="795240"/>
            <a:ext cx="197316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0" name="Rectangle 63"/>
          <p:cNvSpPr/>
          <p:nvPr/>
        </p:nvSpPr>
        <p:spPr>
          <a:xfrm>
            <a:off x="325440" y="3549600"/>
            <a:ext cx="643896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1" name="Rectangle 64"/>
          <p:cNvSpPr/>
          <p:nvPr/>
        </p:nvSpPr>
        <p:spPr>
          <a:xfrm>
            <a:off x="6850080" y="3549600"/>
            <a:ext cx="1973160" cy="23508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2" name="Rectangle 25"/>
          <p:cNvSpPr/>
          <p:nvPr/>
        </p:nvSpPr>
        <p:spPr>
          <a:xfrm>
            <a:off x="325440" y="1033560"/>
            <a:ext cx="6438960" cy="2533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Descrição: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 Estar pronto para fornecer cuidados seguros para todos os doentes do Ébola em unidades de saúde devidamente equipad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3" name="Rectangle 26"/>
          <p:cNvSpPr/>
          <p:nvPr/>
        </p:nvSpPr>
        <p:spPr>
          <a:xfrm>
            <a:off x="6848640" y="1033560"/>
            <a:ext cx="1973160" cy="2533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82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eaeaea"/>
              </a:solidFill>
              <a:latin typeface="Tahoma"/>
            </a:endParaRPr>
          </a:p>
          <a:p>
            <a:pPr marL="82440" indent="-824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Gestão clínica de doentes com febre hemorrágica viral: um guia de bolso para o profissional de saúde da linha da frente – 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2440" indent="-824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so de sangue ou plasma convalescente recolhido de doentes recuperados da doença do vírus do Ébola: tratamento empírico durante surtos – 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2440" indent="-824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rientações da OMS sobre como tirar sangue: melhores práticas na flebotomi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2440" indent="-824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87440" y="1360440"/>
          <a:ext cx="6191280" cy="2129040"/>
        </p:xfrm>
        <a:graphic>
          <a:graphicData uri="http://schemas.openxmlformats.org/drawingml/2006/table">
            <a:tbl>
              <a:tblPr/>
              <a:tblGrid>
                <a:gridCol w="360360"/>
                <a:gridCol w="4809960"/>
                <a:gridCol w="500040"/>
                <a:gridCol w="520920"/>
              </a:tblGrid>
              <a:tr h="473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 </a:t>
                      </a:r>
                      <a:r>
                        <a:rPr b="1" i="1" lang="pt-PT" sz="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(dias)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im/N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67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5a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pelo menos uma unidade com pessoal formado, abastecimentos adequados, pronta para fornecer cuidados a um doente ou conjunto de doentes com suspeitas de EVD. Esta unidade deve satisfazer inicialmente 15 doentes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501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5a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quipar e formar de forma adequada equipas das ambulâncias para transportarem casos suspeitos de EVD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5a.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unidades de saúde a nível distrital que podem ser transformadas num CTE a curto praz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12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5a.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unidades de saúde a nível local que podem ser transformadas num CTE a curto praz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245" name="Rectangle 7"/>
          <p:cNvSpPr/>
          <p:nvPr/>
        </p:nvSpPr>
        <p:spPr>
          <a:xfrm>
            <a:off x="515880" y="4309920"/>
            <a:ext cx="19209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médico e 1 assistent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3 enfermeir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nutricionist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psicossoci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assistentes de enfermari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auxiliares de limpez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higienista/desinfectante/ sanitarist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2244600" y="4302000"/>
            <a:ext cx="1533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Segurança/condutor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ssoa de gestão de resídu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equipa das ambulâncias com: 1 supervisor, 2 auxiliares de enfermagem, trabalhores das morgues, desinfecção, </a:t>
            </a:r>
            <a:br>
              <a:rPr sz="900"/>
            </a:b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condutor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247" name="Group 14"/>
          <p:cNvGrpSpPr/>
          <p:nvPr/>
        </p:nvGrpSpPr>
        <p:grpSpPr>
          <a:xfrm>
            <a:off x="488880" y="4808520"/>
            <a:ext cx="73080" cy="622440"/>
            <a:chOff x="488880" y="4808520"/>
            <a:chExt cx="73080" cy="622440"/>
          </a:xfrm>
        </p:grpSpPr>
        <p:sp>
          <p:nvSpPr>
            <p:cNvPr id="248" name="Rectangle 57"/>
            <p:cNvSpPr/>
            <p:nvPr/>
          </p:nvSpPr>
          <p:spPr>
            <a:xfrm>
              <a:off x="488880" y="480852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49" name="Rectangle 57"/>
            <p:cNvSpPr/>
            <p:nvPr/>
          </p:nvSpPr>
          <p:spPr>
            <a:xfrm>
              <a:off x="488880" y="494640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50" name="Rectangle 57"/>
            <p:cNvSpPr/>
            <p:nvPr/>
          </p:nvSpPr>
          <p:spPr>
            <a:xfrm>
              <a:off x="488880" y="5083200"/>
              <a:ext cx="73080" cy="730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51" name="Rectangle 57"/>
            <p:cNvSpPr/>
            <p:nvPr/>
          </p:nvSpPr>
          <p:spPr>
            <a:xfrm>
              <a:off x="488880" y="52214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52" name="Rectangle 57"/>
            <p:cNvSpPr/>
            <p:nvPr/>
          </p:nvSpPr>
          <p:spPr>
            <a:xfrm>
              <a:off x="488880" y="53596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253" name="Group 13"/>
          <p:cNvGrpSpPr/>
          <p:nvPr/>
        </p:nvGrpSpPr>
        <p:grpSpPr>
          <a:xfrm>
            <a:off x="2209680" y="4381560"/>
            <a:ext cx="71640" cy="477720"/>
            <a:chOff x="2209680" y="4381560"/>
            <a:chExt cx="71640" cy="477720"/>
          </a:xfrm>
        </p:grpSpPr>
        <p:sp>
          <p:nvSpPr>
            <p:cNvPr id="254" name="Rectangle 57"/>
            <p:cNvSpPr/>
            <p:nvPr/>
          </p:nvSpPr>
          <p:spPr>
            <a:xfrm>
              <a:off x="2209680" y="438156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55" name="Rectangle 57"/>
            <p:cNvSpPr/>
            <p:nvPr/>
          </p:nvSpPr>
          <p:spPr>
            <a:xfrm>
              <a:off x="2209680" y="451944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56" name="Rectangle 57"/>
            <p:cNvSpPr/>
            <p:nvPr/>
          </p:nvSpPr>
          <p:spPr>
            <a:xfrm>
              <a:off x="2209680" y="478800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257" name="Rectangle 15"/>
          <p:cNvSpPr/>
          <p:nvPr/>
        </p:nvSpPr>
        <p:spPr>
          <a:xfrm>
            <a:off x="3868560" y="4129200"/>
            <a:ext cx="1987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5 cam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5 colchõ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50 lençói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veícul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ambulânci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Electricidade e água corrent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Outro equipamento médic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Áreas de manutenção (trânsito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Instalações de gestão de resídu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Fluídos intravenosos (antibióticos, analgésicos, antipalúdicos, etc.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Comida para o pessoal e doent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ateriais de formação e auxiliares de trabalho para a prevenção e controlo de infecções, cuidados clínicos e enterros segur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258" name="Group 183"/>
          <p:cNvGrpSpPr/>
          <p:nvPr/>
        </p:nvGrpSpPr>
        <p:grpSpPr>
          <a:xfrm>
            <a:off x="3835440" y="4202280"/>
            <a:ext cx="73080" cy="623880"/>
            <a:chOff x="3835440" y="4202280"/>
            <a:chExt cx="73080" cy="623880"/>
          </a:xfrm>
        </p:grpSpPr>
        <p:sp>
          <p:nvSpPr>
            <p:cNvPr id="259" name="Rectangle 57"/>
            <p:cNvSpPr/>
            <p:nvPr/>
          </p:nvSpPr>
          <p:spPr>
            <a:xfrm>
              <a:off x="3835440" y="42022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60" name="Rectangle 57"/>
            <p:cNvSpPr/>
            <p:nvPr/>
          </p:nvSpPr>
          <p:spPr>
            <a:xfrm>
              <a:off x="3835440" y="434016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61" name="Rectangle 57"/>
            <p:cNvSpPr/>
            <p:nvPr/>
          </p:nvSpPr>
          <p:spPr>
            <a:xfrm>
              <a:off x="3835440" y="447840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62" name="Rectangle 57"/>
            <p:cNvSpPr/>
            <p:nvPr/>
          </p:nvSpPr>
          <p:spPr>
            <a:xfrm>
              <a:off x="3835440" y="46166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63" name="Rectangle 57"/>
            <p:cNvSpPr/>
            <p:nvPr/>
          </p:nvSpPr>
          <p:spPr>
            <a:xfrm>
              <a:off x="3835440" y="47548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264" name="Group 50"/>
          <p:cNvGrpSpPr/>
          <p:nvPr/>
        </p:nvGrpSpPr>
        <p:grpSpPr>
          <a:xfrm>
            <a:off x="487440" y="4381560"/>
            <a:ext cx="71280" cy="347760"/>
            <a:chOff x="487440" y="4381560"/>
            <a:chExt cx="71280" cy="347760"/>
          </a:xfrm>
        </p:grpSpPr>
        <p:sp>
          <p:nvSpPr>
            <p:cNvPr id="265" name="Rectangle 57"/>
            <p:cNvSpPr/>
            <p:nvPr/>
          </p:nvSpPr>
          <p:spPr>
            <a:xfrm>
              <a:off x="487440" y="43815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66" name="Rectangle 57"/>
            <p:cNvSpPr/>
            <p:nvPr/>
          </p:nvSpPr>
          <p:spPr>
            <a:xfrm>
              <a:off x="487440" y="46580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267" name="Group 60"/>
          <p:cNvGrpSpPr/>
          <p:nvPr/>
        </p:nvGrpSpPr>
        <p:grpSpPr>
          <a:xfrm>
            <a:off x="3835440" y="4876920"/>
            <a:ext cx="73080" cy="623880"/>
            <a:chOff x="3835440" y="4876920"/>
            <a:chExt cx="73080" cy="623880"/>
          </a:xfrm>
        </p:grpSpPr>
        <p:sp>
          <p:nvSpPr>
            <p:cNvPr id="268" name="Rectangle 57"/>
            <p:cNvSpPr/>
            <p:nvPr/>
          </p:nvSpPr>
          <p:spPr>
            <a:xfrm>
              <a:off x="3835440" y="487692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69" name="Rectangle 57"/>
            <p:cNvSpPr/>
            <p:nvPr/>
          </p:nvSpPr>
          <p:spPr>
            <a:xfrm>
              <a:off x="3835440" y="501480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70" name="Rectangle 57"/>
            <p:cNvSpPr/>
            <p:nvPr/>
          </p:nvSpPr>
          <p:spPr>
            <a:xfrm>
              <a:off x="3835440" y="51530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71" name="Rectangle 57"/>
            <p:cNvSpPr/>
            <p:nvPr/>
          </p:nvSpPr>
          <p:spPr>
            <a:xfrm>
              <a:off x="3835440" y="52912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72" name="Rectangle 57"/>
            <p:cNvSpPr/>
            <p:nvPr/>
          </p:nvSpPr>
          <p:spPr>
            <a:xfrm>
              <a:off x="3835440" y="542952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273" name="Group 70"/>
          <p:cNvGrpSpPr/>
          <p:nvPr/>
        </p:nvGrpSpPr>
        <p:grpSpPr>
          <a:xfrm>
            <a:off x="3833640" y="5564160"/>
            <a:ext cx="71640" cy="484200"/>
            <a:chOff x="3833640" y="5564160"/>
            <a:chExt cx="71640" cy="484200"/>
          </a:xfrm>
        </p:grpSpPr>
        <p:sp>
          <p:nvSpPr>
            <p:cNvPr id="274" name="Rectangle 57"/>
            <p:cNvSpPr/>
            <p:nvPr/>
          </p:nvSpPr>
          <p:spPr>
            <a:xfrm>
              <a:off x="3833640" y="556416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75" name="Rectangle 57"/>
            <p:cNvSpPr/>
            <p:nvPr/>
          </p:nvSpPr>
          <p:spPr>
            <a:xfrm>
              <a:off x="3833640" y="570204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76" name="Rectangle 57"/>
            <p:cNvSpPr/>
            <p:nvPr/>
          </p:nvSpPr>
          <p:spPr>
            <a:xfrm>
              <a:off x="3833640" y="583884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77" name="Rectangle 57"/>
            <p:cNvSpPr/>
            <p:nvPr/>
          </p:nvSpPr>
          <p:spPr>
            <a:xfrm>
              <a:off x="3833640" y="597708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278" name="Rectangle 5"/>
          <p:cNvSpPr/>
          <p:nvPr/>
        </p:nvSpPr>
        <p:spPr>
          <a:xfrm>
            <a:off x="5680080" y="4138560"/>
            <a:ext cx="1263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300 conjuntos de EPP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0 conjuntos de enterr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Desinfectant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edicament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ateriais de protecção do higienist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Incentiv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279" name="Group 76"/>
          <p:cNvGrpSpPr/>
          <p:nvPr/>
        </p:nvGrpSpPr>
        <p:grpSpPr>
          <a:xfrm>
            <a:off x="5567400" y="4202280"/>
            <a:ext cx="71280" cy="623880"/>
            <a:chOff x="5567400" y="4202280"/>
            <a:chExt cx="71280" cy="623880"/>
          </a:xfrm>
        </p:grpSpPr>
        <p:sp>
          <p:nvSpPr>
            <p:cNvPr id="280" name="Rectangle 57"/>
            <p:cNvSpPr/>
            <p:nvPr/>
          </p:nvSpPr>
          <p:spPr>
            <a:xfrm>
              <a:off x="5567400" y="42022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81" name="Rectangle 57"/>
            <p:cNvSpPr/>
            <p:nvPr/>
          </p:nvSpPr>
          <p:spPr>
            <a:xfrm>
              <a:off x="5567400" y="43401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82" name="Rectangle 57"/>
            <p:cNvSpPr/>
            <p:nvPr/>
          </p:nvSpPr>
          <p:spPr>
            <a:xfrm>
              <a:off x="5567400" y="44784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83" name="Rectangle 57"/>
            <p:cNvSpPr/>
            <p:nvPr/>
          </p:nvSpPr>
          <p:spPr>
            <a:xfrm>
              <a:off x="5567400" y="46166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84" name="Rectangle 57"/>
            <p:cNvSpPr/>
            <p:nvPr/>
          </p:nvSpPr>
          <p:spPr>
            <a:xfrm>
              <a:off x="5567400" y="47548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285" name="Rectangle 57"/>
          <p:cNvSpPr/>
          <p:nvPr/>
        </p:nvSpPr>
        <p:spPr>
          <a:xfrm>
            <a:off x="5567400" y="5046840"/>
            <a:ext cx="7128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520" y="237600"/>
            <a:ext cx="8604360" cy="6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5 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Gestão de Casos</a:t>
            </a:r>
            <a:br>
              <a:rPr sz="3200"/>
            </a:br>
            <a:r>
              <a:rPr b="0" i="1" lang="pt-PT" sz="2400" spc="-1" strike="noStrike">
                <a:solidFill>
                  <a:srgbClr val="002060"/>
                </a:solidFill>
                <a:latin typeface="Arial"/>
              </a:rPr>
              <a:t>5b) Enterros seguros</a:t>
            </a:r>
            <a:endParaRPr b="0" lang="en-US" sz="24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325440" y="4071960"/>
            <a:ext cx="6438960" cy="207972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</a:t>
            </a:r>
            <a:r>
              <a:rPr b="1" lang="en-GB" sz="900" spc="-1" strike="noStrike" u="sng">
                <a:solidFill>
                  <a:srgbClr val="002060"/>
                </a:solidFill>
                <a:uFillTx/>
                <a:latin typeface="Arial"/>
              </a:rPr>
              <a:t>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2 equipas de enterro por CTE, cada uma com: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Para cada CTE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6848640" y="4071960"/>
            <a:ext cx="1973160" cy="207972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ponente 2; 3; 4; 7; 8; 9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inistéri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9" name="Rectangle 61"/>
          <p:cNvSpPr/>
          <p:nvPr/>
        </p:nvSpPr>
        <p:spPr>
          <a:xfrm>
            <a:off x="324000" y="1006560"/>
            <a:ext cx="643860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6848640" y="1006560"/>
            <a:ext cx="197316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1" name="Rectangle 63"/>
          <p:cNvSpPr/>
          <p:nvPr/>
        </p:nvSpPr>
        <p:spPr>
          <a:xfrm>
            <a:off x="324000" y="3833640"/>
            <a:ext cx="643860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2" name="Rectangle 64"/>
          <p:cNvSpPr/>
          <p:nvPr/>
        </p:nvSpPr>
        <p:spPr>
          <a:xfrm>
            <a:off x="6848640" y="3833640"/>
            <a:ext cx="1973160" cy="23508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3" name="Rectangle 25"/>
          <p:cNvSpPr/>
          <p:nvPr/>
        </p:nvSpPr>
        <p:spPr>
          <a:xfrm>
            <a:off x="324000" y="1244520"/>
            <a:ext cx="6438600" cy="2533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Descrição: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 Assegurar que não ocorrem contaminações durante o processo de enterro.</a:t>
            </a:r>
            <a:r>
              <a:rPr b="0" lang="en-GB" sz="9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4" name="Rectangle 26"/>
          <p:cNvSpPr/>
          <p:nvPr/>
        </p:nvSpPr>
        <p:spPr>
          <a:xfrm>
            <a:off x="6846840" y="1244520"/>
            <a:ext cx="1973160" cy="2533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 – Práticas Seguras de Enterr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38120" y="1739880"/>
          <a:ext cx="6238800" cy="1722600"/>
        </p:xfrm>
        <a:graphic>
          <a:graphicData uri="http://schemas.openxmlformats.org/drawingml/2006/table">
            <a:tbl>
              <a:tblPr/>
              <a:tblGrid>
                <a:gridCol w="417600"/>
                <a:gridCol w="4800600"/>
                <a:gridCol w="488880"/>
                <a:gridCol w="531720"/>
              </a:tblGrid>
              <a:tr h="473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 </a:t>
                      </a:r>
                      <a:r>
                        <a:rPr b="1" i="1" lang="pt-PT" sz="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(dias)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im/N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15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5b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senvolver procedimentos operacionais padrão para enterros seguros e descontaminaç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48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5b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um cemitério seguro e apropriado com a concordância da comunidad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33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5b.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ormar a equipa de enterros (8 pessoas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15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5b.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ssegurar que um processo dedicado de transportação está em vigor para enterrar restos mortais humanos de forma segur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296" name="Rectangle 7"/>
          <p:cNvSpPr/>
          <p:nvPr/>
        </p:nvSpPr>
        <p:spPr>
          <a:xfrm>
            <a:off x="514440" y="4381560"/>
            <a:ext cx="214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4 pessoas para carregarem os corp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pessoas para desinfectarem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seguranç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condutor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7" name="Rectangle 15"/>
          <p:cNvSpPr/>
          <p:nvPr/>
        </p:nvSpPr>
        <p:spPr>
          <a:xfrm>
            <a:off x="4270320" y="4381560"/>
            <a:ext cx="2216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EPP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Sacos de cadáver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Desinfectant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veículos (carrinhas 4x4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Rádio, telemóve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Cemitério apropriado e segur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Tenda/instalação mortuári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298" name="Group 183"/>
          <p:cNvGrpSpPr/>
          <p:nvPr/>
        </p:nvGrpSpPr>
        <p:grpSpPr>
          <a:xfrm>
            <a:off x="4249800" y="4451400"/>
            <a:ext cx="71280" cy="623880"/>
            <a:chOff x="4249800" y="4451400"/>
            <a:chExt cx="71280" cy="623880"/>
          </a:xfrm>
        </p:grpSpPr>
        <p:sp>
          <p:nvSpPr>
            <p:cNvPr id="299" name="Rectangle 57"/>
            <p:cNvSpPr/>
            <p:nvPr/>
          </p:nvSpPr>
          <p:spPr>
            <a:xfrm>
              <a:off x="4249800" y="44514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00" name="Rectangle 57"/>
            <p:cNvSpPr/>
            <p:nvPr/>
          </p:nvSpPr>
          <p:spPr>
            <a:xfrm>
              <a:off x="4249800" y="45892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01" name="Rectangle 57"/>
            <p:cNvSpPr/>
            <p:nvPr/>
          </p:nvSpPr>
          <p:spPr>
            <a:xfrm>
              <a:off x="4249800" y="472752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02" name="Rectangle 57"/>
            <p:cNvSpPr/>
            <p:nvPr/>
          </p:nvSpPr>
          <p:spPr>
            <a:xfrm>
              <a:off x="4249800" y="48657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03" name="Rectangle 57"/>
            <p:cNvSpPr/>
            <p:nvPr/>
          </p:nvSpPr>
          <p:spPr>
            <a:xfrm>
              <a:off x="4249800" y="50040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304" name="Rectangle 57"/>
          <p:cNvSpPr/>
          <p:nvPr/>
        </p:nvSpPr>
        <p:spPr>
          <a:xfrm>
            <a:off x="4249800" y="5154480"/>
            <a:ext cx="71280" cy="730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305" name="Group 183"/>
          <p:cNvGrpSpPr/>
          <p:nvPr/>
        </p:nvGrpSpPr>
        <p:grpSpPr>
          <a:xfrm>
            <a:off x="487440" y="4451400"/>
            <a:ext cx="71280" cy="485640"/>
            <a:chOff x="487440" y="4451400"/>
            <a:chExt cx="71280" cy="485640"/>
          </a:xfrm>
        </p:grpSpPr>
        <p:sp>
          <p:nvSpPr>
            <p:cNvPr id="306" name="Rectangle 57"/>
            <p:cNvSpPr/>
            <p:nvPr/>
          </p:nvSpPr>
          <p:spPr>
            <a:xfrm>
              <a:off x="487440" y="44514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07" name="Rectangle 57"/>
            <p:cNvSpPr/>
            <p:nvPr/>
          </p:nvSpPr>
          <p:spPr>
            <a:xfrm>
              <a:off x="487440" y="45892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08" name="Rectangle 57"/>
            <p:cNvSpPr/>
            <p:nvPr/>
          </p:nvSpPr>
          <p:spPr>
            <a:xfrm>
              <a:off x="487440" y="472752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09" name="Rectangle 57"/>
            <p:cNvSpPr/>
            <p:nvPr/>
          </p:nvSpPr>
          <p:spPr>
            <a:xfrm>
              <a:off x="487440" y="48657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310" name="Rectangle 57"/>
          <p:cNvSpPr/>
          <p:nvPr/>
        </p:nvSpPr>
        <p:spPr>
          <a:xfrm>
            <a:off x="4249800" y="5307120"/>
            <a:ext cx="71280" cy="730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80520" y="96840"/>
            <a:ext cx="860436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6 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Vigilância Epidemiológica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12" name="Rectangle 10"/>
          <p:cNvSpPr/>
          <p:nvPr/>
        </p:nvSpPr>
        <p:spPr>
          <a:xfrm>
            <a:off x="325440" y="4017960"/>
            <a:ext cx="6438960" cy="21430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</a:t>
            </a:r>
            <a:r>
              <a:rPr b="1" lang="en-GB" sz="900" spc="-1" strike="noStrike" u="sng">
                <a:solidFill>
                  <a:srgbClr val="002060"/>
                </a:solidFill>
                <a:uFillTx/>
                <a:latin typeface="Arial"/>
              </a:rPr>
              <a:t>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en-GB" sz="5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en-GB" sz="500" spc="-1" strike="noStrike">
                <a:solidFill>
                  <a:srgbClr val="002060"/>
                </a:solidFill>
                <a:latin typeface="Arial"/>
              </a:rPr>
              <a:t>	</a:t>
            </a: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A nível nacional</a:t>
            </a:r>
            <a:r>
              <a:rPr b="0" i="1" lang="en-US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en-US" sz="900" spc="-1" strike="noStrike">
                <a:solidFill>
                  <a:srgbClr val="00206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en-GB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en-GB" sz="900" spc="-1" strike="noStrike">
                <a:solidFill>
                  <a:srgbClr val="00206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Em áreas/distritos de risco elevado: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3" name="Rectangle 11"/>
          <p:cNvSpPr/>
          <p:nvPr/>
        </p:nvSpPr>
        <p:spPr>
          <a:xfrm>
            <a:off x="6848640" y="4017960"/>
            <a:ext cx="1973160" cy="21430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ponente 2; 4; 7; 8; 9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inistéri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DC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WCC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4" name="Rectangle 61"/>
          <p:cNvSpPr/>
          <p:nvPr/>
        </p:nvSpPr>
        <p:spPr>
          <a:xfrm>
            <a:off x="324000" y="771480"/>
            <a:ext cx="643860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6848640" y="771480"/>
            <a:ext cx="197316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Rectangle 63"/>
          <p:cNvSpPr/>
          <p:nvPr/>
        </p:nvSpPr>
        <p:spPr>
          <a:xfrm>
            <a:off x="324000" y="3780000"/>
            <a:ext cx="643860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7" name="Rectangle 64"/>
          <p:cNvSpPr/>
          <p:nvPr/>
        </p:nvSpPr>
        <p:spPr>
          <a:xfrm>
            <a:off x="6848640" y="3780000"/>
            <a:ext cx="1973160" cy="23472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8" name="Rectangle 25"/>
          <p:cNvSpPr/>
          <p:nvPr/>
        </p:nvSpPr>
        <p:spPr>
          <a:xfrm>
            <a:off x="324000" y="1009800"/>
            <a:ext cx="6438600" cy="268920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Descrição: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 Assegurar que está instituído um sistema de alerta e notificação eficaz por todo o paí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9" name="Rectangle 26"/>
          <p:cNvSpPr/>
          <p:nvPr/>
        </p:nvSpPr>
        <p:spPr>
          <a:xfrm>
            <a:off x="6846840" y="1009800"/>
            <a:ext cx="1973160" cy="268920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00" spc="-1" strike="noStrike">
              <a:solidFill>
                <a:srgbClr val="eaeaea"/>
              </a:solidFill>
              <a:latin typeface="Tahoma"/>
            </a:endParaRPr>
          </a:p>
          <a:p>
            <a:pPr marL="190440" indent="-1904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Vigilância do Ébola em países sem casos notificados da doença do vírus do Ébol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190440" indent="-1904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Recomendações de definições de casos para as doenças do vírus do Ébola e de Marburg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190440" indent="-1904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Detecção, avaliação e resposta precoces a eventos de saúde pública: Implementação de Avisos e Respostas Precoces com ênfase numa Vigilância com Base em Event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436680" y="1184400"/>
          <a:ext cx="6325920" cy="2830320"/>
        </p:xfrm>
        <a:graphic>
          <a:graphicData uri="http://schemas.openxmlformats.org/drawingml/2006/table">
            <a:tbl>
              <a:tblPr/>
              <a:tblGrid>
                <a:gridCol w="264960"/>
                <a:gridCol w="5199120"/>
                <a:gridCol w="488880"/>
                <a:gridCol w="372960"/>
              </a:tblGrid>
              <a:tr h="298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 </a:t>
                      </a:r>
                      <a:r>
                        <a:rPr b="1" i="1" lang="pt-PT" sz="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(dia)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/N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6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uma ligação telefónica directa 24/7 às unidades especializadas, que têm pessoal com formação médic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6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ormar o pessoal da ligação telefónica directa sobre identificação de casos e gestão da comunicação com potenciais cas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6.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ornecer orientações (formulários de identificação de casos, definições padrão de casos) para todos os paíse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85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6.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odos os países devem testar os sistemas actuais de IDSR para o Ébola, identificar lacunas e começar a implementação de medidas correctivas sempre que necessári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6.5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linhas imediatas de notificação para casos suspeitos, clara responsabilidade para essas medid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10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6.6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os recursos humanos para a vigilância da comunidade (profissionais de saúde, voluntários da Cruz Vermelha/Crescente Vermelho, ONG, parteiras, curandeiros, líderes, etc.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34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6.7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ornecer Assistência Técnica e formação para corrigir as lacunas ainda existentes na IDSR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85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6.8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istribuir as definições de casos aos níveis provincial, distrital e unidades de saúde; fornecer formação sobre a definição de cas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16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6.9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istribuir definições simplificadas de casos para o uso comunitári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</a:tbl>
          </a:graphicData>
        </a:graphic>
      </p:graphicFrame>
      <p:sp>
        <p:nvSpPr>
          <p:cNvPr id="321" name="Rectangle 7"/>
          <p:cNvSpPr/>
          <p:nvPr/>
        </p:nvSpPr>
        <p:spPr>
          <a:xfrm>
            <a:off x="514440" y="4351320"/>
            <a:ext cx="1797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gestores de da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responsáveis pelo registo de da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técnicos de investigaçã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322" name="Group 14"/>
          <p:cNvGrpSpPr/>
          <p:nvPr/>
        </p:nvGrpSpPr>
        <p:grpSpPr>
          <a:xfrm>
            <a:off x="487440" y="4421160"/>
            <a:ext cx="73080" cy="485640"/>
            <a:chOff x="487440" y="4421160"/>
            <a:chExt cx="73080" cy="485640"/>
          </a:xfrm>
        </p:grpSpPr>
        <p:sp>
          <p:nvSpPr>
            <p:cNvPr id="323" name="Rectangle 57"/>
            <p:cNvSpPr/>
            <p:nvPr/>
          </p:nvSpPr>
          <p:spPr>
            <a:xfrm>
              <a:off x="487440" y="442116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24" name="Rectangle 57"/>
            <p:cNvSpPr/>
            <p:nvPr/>
          </p:nvSpPr>
          <p:spPr>
            <a:xfrm>
              <a:off x="487440" y="45590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25" name="Rectangle 57"/>
            <p:cNvSpPr/>
            <p:nvPr/>
          </p:nvSpPr>
          <p:spPr>
            <a:xfrm>
              <a:off x="487440" y="46972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26" name="Rectangle 57"/>
            <p:cNvSpPr/>
            <p:nvPr/>
          </p:nvSpPr>
          <p:spPr>
            <a:xfrm>
              <a:off x="487440" y="483552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327" name="Rectangle 141"/>
          <p:cNvSpPr/>
          <p:nvPr/>
        </p:nvSpPr>
        <p:spPr>
          <a:xfrm>
            <a:off x="501480" y="5237280"/>
            <a:ext cx="210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coordenadores de zon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epidemiologist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responsável pelo registo de da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Equipa de saúde distrital (técnico de saúde distrital, técnico de vigilância/investigação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328" name="Group 143"/>
          <p:cNvGrpSpPr/>
          <p:nvPr/>
        </p:nvGrpSpPr>
        <p:grpSpPr>
          <a:xfrm>
            <a:off x="476280" y="5307120"/>
            <a:ext cx="71280" cy="485640"/>
            <a:chOff x="476280" y="5307120"/>
            <a:chExt cx="71280" cy="485640"/>
          </a:xfrm>
        </p:grpSpPr>
        <p:sp>
          <p:nvSpPr>
            <p:cNvPr id="329" name="Rectangle 57"/>
            <p:cNvSpPr/>
            <p:nvPr/>
          </p:nvSpPr>
          <p:spPr>
            <a:xfrm>
              <a:off x="476280" y="530712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0" name="Rectangle 57"/>
            <p:cNvSpPr/>
            <p:nvPr/>
          </p:nvSpPr>
          <p:spPr>
            <a:xfrm>
              <a:off x="476280" y="54450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1" name="Rectangle 57"/>
            <p:cNvSpPr/>
            <p:nvPr/>
          </p:nvSpPr>
          <p:spPr>
            <a:xfrm>
              <a:off x="476280" y="55832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2" name="Rectangle 57"/>
            <p:cNvSpPr/>
            <p:nvPr/>
          </p:nvSpPr>
          <p:spPr>
            <a:xfrm>
              <a:off x="476280" y="57214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333" name="Rectangle 15"/>
          <p:cNvSpPr/>
          <p:nvPr/>
        </p:nvSpPr>
        <p:spPr>
          <a:xfrm>
            <a:off x="4270320" y="4280040"/>
            <a:ext cx="23446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ateriais de vigilância epidemiológica (orientações, formulários de investigação de casos, etc.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Sistema de gestão da base de da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Veículos/mot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Voluntários da comunidade necessitam de telefones e de minut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Luvas e equipamento sanitário (sem contacto directo com doentes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334" name="Group 183"/>
          <p:cNvGrpSpPr/>
          <p:nvPr/>
        </p:nvGrpSpPr>
        <p:grpSpPr>
          <a:xfrm>
            <a:off x="4249800" y="4349880"/>
            <a:ext cx="71280" cy="647640"/>
            <a:chOff x="4249800" y="4349880"/>
            <a:chExt cx="71280" cy="647640"/>
          </a:xfrm>
        </p:grpSpPr>
        <p:sp>
          <p:nvSpPr>
            <p:cNvPr id="335" name="Rectangle 57"/>
            <p:cNvSpPr/>
            <p:nvPr/>
          </p:nvSpPr>
          <p:spPr>
            <a:xfrm>
              <a:off x="4249800" y="43498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6" name="Rectangle 57"/>
            <p:cNvSpPr/>
            <p:nvPr/>
          </p:nvSpPr>
          <p:spPr>
            <a:xfrm>
              <a:off x="4249800" y="46260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7" name="Rectangle 57"/>
            <p:cNvSpPr/>
            <p:nvPr/>
          </p:nvSpPr>
          <p:spPr>
            <a:xfrm>
              <a:off x="4249800" y="47642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8" name="Rectangle 57"/>
            <p:cNvSpPr/>
            <p:nvPr/>
          </p:nvSpPr>
          <p:spPr>
            <a:xfrm>
              <a:off x="4249800" y="49262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339" name="Rectangle 57"/>
          <p:cNvSpPr/>
          <p:nvPr/>
        </p:nvSpPr>
        <p:spPr>
          <a:xfrm>
            <a:off x="4248000" y="5186520"/>
            <a:ext cx="7164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0" name="Rectangle 141"/>
          <p:cNvSpPr/>
          <p:nvPr/>
        </p:nvSpPr>
        <p:spPr>
          <a:xfrm>
            <a:off x="2200320" y="4194000"/>
            <a:ext cx="179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Para a linha directa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: 14 pessoas (2 linhas directas com 2 pessoas para 3 turnos; 2 supervisores; uma ligação directa como primeiro contacto/informação, com especialização na outra ligação directa para casos suspeit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60436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7 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Identificação de Contactos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42" name="Rectangle 10"/>
          <p:cNvSpPr/>
          <p:nvPr/>
        </p:nvSpPr>
        <p:spPr>
          <a:xfrm>
            <a:off x="325440" y="4071960"/>
            <a:ext cx="6438960" cy="207324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Área/distrito de risco elevado, 2 equipas cada uma com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3" name="Rectangle 11"/>
          <p:cNvSpPr/>
          <p:nvPr/>
        </p:nvSpPr>
        <p:spPr>
          <a:xfrm>
            <a:off x="6848640" y="4071960"/>
            <a:ext cx="1973160" cy="207324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ponente  2; 3; 4; 5; 6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inistéri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DC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IANPHI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WCC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4" name="Rectangle 61"/>
          <p:cNvSpPr/>
          <p:nvPr/>
        </p:nvSpPr>
        <p:spPr>
          <a:xfrm>
            <a:off x="324000" y="1006560"/>
            <a:ext cx="643860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6848640" y="1006560"/>
            <a:ext cx="197316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Rectangle 63"/>
          <p:cNvSpPr/>
          <p:nvPr/>
        </p:nvSpPr>
        <p:spPr>
          <a:xfrm>
            <a:off x="324000" y="3833640"/>
            <a:ext cx="643860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7" name="Rectangle 64"/>
          <p:cNvSpPr/>
          <p:nvPr/>
        </p:nvSpPr>
        <p:spPr>
          <a:xfrm>
            <a:off x="6848640" y="3833640"/>
            <a:ext cx="1973160" cy="23508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8" name="Rectangle 25"/>
          <p:cNvSpPr/>
          <p:nvPr/>
        </p:nvSpPr>
        <p:spPr>
          <a:xfrm>
            <a:off x="324000" y="1244520"/>
            <a:ext cx="6438600" cy="2533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Descrição: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 Detectar todos os casos suspeitos e identificar os contactos de todos os casos confirmados até 72 hor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Rectangle 26"/>
          <p:cNvSpPr/>
          <p:nvPr/>
        </p:nvSpPr>
        <p:spPr>
          <a:xfrm>
            <a:off x="6846840" y="1244520"/>
            <a:ext cx="1973160" cy="2533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Guia do CDC sobre identificação de contact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Guia da OMS sobre identificação de contact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Guia do Facilitador sobre a Identificação de Contactos de EVD – formação na identificação de contactos com cenári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438120" y="1589040"/>
          <a:ext cx="6227640" cy="1790640"/>
        </p:xfrm>
        <a:graphic>
          <a:graphicData uri="http://schemas.openxmlformats.org/drawingml/2006/table">
            <a:tbl>
              <a:tblPr/>
              <a:tblGrid>
                <a:gridCol w="338040"/>
                <a:gridCol w="4880160"/>
                <a:gridCol w="488880"/>
                <a:gridCol w="520560"/>
              </a:tblGrid>
              <a:tr h="473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 </a:t>
                      </a:r>
                      <a:r>
                        <a:rPr b="1" i="1" lang="pt-PT" sz="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(dias)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im/N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416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7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ormar as equipas tanto a nível nacional como subnacional de ERR e ToT sobre identificação de contactos e gestão de dad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55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7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ornecer a UNMEER com uma lista de equipamento e materiais necessários para a identificação de contactos a nível nacional e subnacional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4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7.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ormar pessoal a nível distrital na identificação de contac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61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7.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ormar pessoal a nível subdistrital e comunitário na identificação de contac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e8e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51" name="Rectangle 7"/>
          <p:cNvSpPr/>
          <p:nvPr/>
        </p:nvSpPr>
        <p:spPr>
          <a:xfrm>
            <a:off x="514440" y="4405320"/>
            <a:ext cx="2311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coordenador de zon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técnico distrital de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técnico de vigilância/investigaçã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supervisores de identificação de contact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0 investigadores de contactos da comunida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352" name="Group 14"/>
          <p:cNvGrpSpPr/>
          <p:nvPr/>
        </p:nvGrpSpPr>
        <p:grpSpPr>
          <a:xfrm>
            <a:off x="487440" y="4475160"/>
            <a:ext cx="73080" cy="627120"/>
            <a:chOff x="487440" y="4475160"/>
            <a:chExt cx="73080" cy="627120"/>
          </a:xfrm>
        </p:grpSpPr>
        <p:sp>
          <p:nvSpPr>
            <p:cNvPr id="353" name="Rectangle 57"/>
            <p:cNvSpPr/>
            <p:nvPr/>
          </p:nvSpPr>
          <p:spPr>
            <a:xfrm>
              <a:off x="487440" y="447516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4" name="Rectangle 57"/>
            <p:cNvSpPr/>
            <p:nvPr/>
          </p:nvSpPr>
          <p:spPr>
            <a:xfrm>
              <a:off x="487440" y="46130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5" name="Rectangle 57"/>
            <p:cNvSpPr/>
            <p:nvPr/>
          </p:nvSpPr>
          <p:spPr>
            <a:xfrm>
              <a:off x="487440" y="4749840"/>
              <a:ext cx="73080" cy="7272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6" name="Rectangle 57"/>
            <p:cNvSpPr/>
            <p:nvPr/>
          </p:nvSpPr>
          <p:spPr>
            <a:xfrm>
              <a:off x="487440" y="503100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357" name="Rectangle 15"/>
          <p:cNvSpPr/>
          <p:nvPr/>
        </p:nvSpPr>
        <p:spPr>
          <a:xfrm>
            <a:off x="4270320" y="4264200"/>
            <a:ext cx="2344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ateriais de vigilância epidemiológica (orientações, formulários de investigação de casos, folhas e listas de identificação de contactos, etc.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Sistema de gestão da base de da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Termómetros de infravermelh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Luvas e equipamento sanitário (sem contacto directo com o doente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veícul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mot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Desenvolver um módulo de aprendizagem electrónic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Lista do equipamento na nota de orientações do CDC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358" name="Group 183"/>
          <p:cNvGrpSpPr/>
          <p:nvPr/>
        </p:nvGrpSpPr>
        <p:grpSpPr>
          <a:xfrm>
            <a:off x="4249800" y="4344840"/>
            <a:ext cx="71280" cy="636840"/>
            <a:chOff x="4249800" y="4344840"/>
            <a:chExt cx="71280" cy="636840"/>
          </a:xfrm>
        </p:grpSpPr>
        <p:sp>
          <p:nvSpPr>
            <p:cNvPr id="359" name="Rectangle 57"/>
            <p:cNvSpPr/>
            <p:nvPr/>
          </p:nvSpPr>
          <p:spPr>
            <a:xfrm>
              <a:off x="4249800" y="43448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60" name="Rectangle 57"/>
            <p:cNvSpPr/>
            <p:nvPr/>
          </p:nvSpPr>
          <p:spPr>
            <a:xfrm>
              <a:off x="4249800" y="47484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61" name="Rectangle 57"/>
            <p:cNvSpPr/>
            <p:nvPr/>
          </p:nvSpPr>
          <p:spPr>
            <a:xfrm>
              <a:off x="4249800" y="49104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362" name="Group 50"/>
          <p:cNvGrpSpPr/>
          <p:nvPr/>
        </p:nvGrpSpPr>
        <p:grpSpPr>
          <a:xfrm>
            <a:off x="4248000" y="5027760"/>
            <a:ext cx="71640" cy="342720"/>
            <a:chOff x="4248000" y="5027760"/>
            <a:chExt cx="71640" cy="342720"/>
          </a:xfrm>
        </p:grpSpPr>
        <p:sp>
          <p:nvSpPr>
            <p:cNvPr id="363" name="Rectangle 57"/>
            <p:cNvSpPr/>
            <p:nvPr/>
          </p:nvSpPr>
          <p:spPr>
            <a:xfrm>
              <a:off x="4248000" y="502776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64" name="Rectangle 57"/>
            <p:cNvSpPr/>
            <p:nvPr/>
          </p:nvSpPr>
          <p:spPr>
            <a:xfrm>
              <a:off x="4248000" y="529920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365" name="Rectangle 57"/>
          <p:cNvSpPr/>
          <p:nvPr/>
        </p:nvSpPr>
        <p:spPr>
          <a:xfrm>
            <a:off x="4248000" y="5451480"/>
            <a:ext cx="7164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6" name="Rectangle 57"/>
          <p:cNvSpPr/>
          <p:nvPr/>
        </p:nvSpPr>
        <p:spPr>
          <a:xfrm>
            <a:off x="4248000" y="5580000"/>
            <a:ext cx="71640" cy="7164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7" name="Rectangle 57"/>
          <p:cNvSpPr/>
          <p:nvPr/>
        </p:nvSpPr>
        <p:spPr>
          <a:xfrm>
            <a:off x="4248000" y="5732640"/>
            <a:ext cx="7164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8" name="Rectangle 57"/>
          <p:cNvSpPr/>
          <p:nvPr/>
        </p:nvSpPr>
        <p:spPr>
          <a:xfrm>
            <a:off x="487440" y="5172120"/>
            <a:ext cx="7308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60436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8 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Laboratório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70" name="Rectangle 10"/>
          <p:cNvSpPr/>
          <p:nvPr/>
        </p:nvSpPr>
        <p:spPr>
          <a:xfrm>
            <a:off x="325440" y="4581360"/>
            <a:ext cx="6438960" cy="1552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</a:t>
            </a:r>
            <a:r>
              <a:rPr b="1" lang="en-GB" sz="900" spc="-1" strike="noStrike" u="sng">
                <a:solidFill>
                  <a:srgbClr val="002060"/>
                </a:solidFill>
                <a:uFillTx/>
                <a:latin typeface="Arial"/>
              </a:rPr>
              <a:t>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A nível nacional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Em áreas/distritos de risco elevado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1" name="Rectangle 11"/>
          <p:cNvSpPr/>
          <p:nvPr/>
        </p:nvSpPr>
        <p:spPr>
          <a:xfrm>
            <a:off x="6848640" y="4581360"/>
            <a:ext cx="1973160" cy="1552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ponente  2; 4; 5; 6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inistéri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2" name="Rectangle 61"/>
          <p:cNvSpPr/>
          <p:nvPr/>
        </p:nvSpPr>
        <p:spPr>
          <a:xfrm>
            <a:off x="324000" y="1006560"/>
            <a:ext cx="643860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6848640" y="1006560"/>
            <a:ext cx="197316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4" name="Rectangle 63"/>
          <p:cNvSpPr/>
          <p:nvPr/>
        </p:nvSpPr>
        <p:spPr>
          <a:xfrm>
            <a:off x="324000" y="4343400"/>
            <a:ext cx="643860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5" name="Rectangle 64"/>
          <p:cNvSpPr/>
          <p:nvPr/>
        </p:nvSpPr>
        <p:spPr>
          <a:xfrm>
            <a:off x="6848640" y="4343400"/>
            <a:ext cx="1973160" cy="23508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6" name="Rectangle 25"/>
          <p:cNvSpPr/>
          <p:nvPr/>
        </p:nvSpPr>
        <p:spPr>
          <a:xfrm>
            <a:off x="324000" y="1244520"/>
            <a:ext cx="6438600" cy="298764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Descrição: </a:t>
            </a:r>
            <a:r>
              <a:rPr b="0" lang="pt-PT" sz="900" spc="-1" strike="noStrike">
                <a:solidFill>
                  <a:srgbClr val="0c0945"/>
                </a:solidFill>
                <a:latin typeface="Arial"/>
              </a:rPr>
              <a:t> Assegurar uma recolha, transporte e análise seguros das amostras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7" name="Rectangle 26"/>
          <p:cNvSpPr/>
          <p:nvPr/>
        </p:nvSpPr>
        <p:spPr>
          <a:xfrm>
            <a:off x="6848640" y="1249200"/>
            <a:ext cx="1973160" cy="298800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167040" indent="-1670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" spc="-1" strike="noStrike">
              <a:solidFill>
                <a:srgbClr val="eaeaea"/>
              </a:solidFill>
              <a:latin typeface="Tahoma"/>
            </a:endParaRPr>
          </a:p>
          <a:p>
            <a:pPr marL="167040" indent="-1670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o enviar de forma segura amostras de sangue humano de casos suspeitos de Ébola dentro de um paí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167040" indent="-1670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o recolher de forma segura amostras de sangue de pessoas com suspeitas de estarem infectadas com patogénicos sanguíneos altamente infeccios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167040" indent="-1670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rientações laboratoriais para o diagnóstico da doença do vírus do Ébol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167040" indent="-1670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rientações para o transporte de materiais infeccios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167040" indent="-1670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anual do Sistema de Gestão de Qualidade Laboratorial, OMS/CDC/Instituto de Padrões Clínicos e Laboratoriais, 2011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167040" indent="-1670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rientações sobre a regulamentação do transporte de substâncias infecciosas 2007-2008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167040" indent="-16704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438120" y="1546200"/>
          <a:ext cx="6238800" cy="2666880"/>
        </p:xfrm>
        <a:graphic>
          <a:graphicData uri="http://schemas.openxmlformats.org/drawingml/2006/table">
            <a:tbl>
              <a:tblPr/>
              <a:tblGrid>
                <a:gridCol w="335160"/>
                <a:gridCol w="4871880"/>
                <a:gridCol w="500040"/>
                <a:gridCol w="531720"/>
              </a:tblGrid>
              <a:tr h="333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0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 </a:t>
                      </a:r>
                      <a:r>
                        <a:rPr b="1" i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(dias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im/N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16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8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676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ara cada distrito, identificar o laboratório responsável pela análise e/ou manuseamento de amostras biológicas e os meios de transporte das amostr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85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8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xistência de acordos e contratos contingentes com os Centros de Colaboração da OMS para testes de confirmaç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16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8.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xistência de acordos e contratos contingentes com companhias aéreas relevantes para o envio de amostras de casos suspeitos para os Centros de Colaboração da OM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8.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isponibilidade de recursos para facilitar o transporte e o envio de amostr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31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8.5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xistência de protocolos para: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ecolha de amostras;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ncaminhamento e envio de amostras de casos suspeitos de EVD para laboratórios definidos para uma confirmação em laboratórios nacionais e subnacionais de saúde públic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11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8.6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essoal de laboratório formado em procedimentos para a recolha, empacotamento, rotulação, encaminhamento e envio de amostras, incluindo o manuseamento de substâncias infeccios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79" name="Rectangle 7"/>
          <p:cNvSpPr/>
          <p:nvPr/>
        </p:nvSpPr>
        <p:spPr>
          <a:xfrm>
            <a:off x="514440" y="4915080"/>
            <a:ext cx="179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coordenadores de laboratóri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biologistas/virologist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4 técnicos de laboratóri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gestor de da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responsável pelo registo de da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0" name="Rectangle 15"/>
          <p:cNvSpPr/>
          <p:nvPr/>
        </p:nvSpPr>
        <p:spPr>
          <a:xfrm>
            <a:off x="4282920" y="4795920"/>
            <a:ext cx="23432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laboratório de nível 3 disponível e/ou laboratórios de referência nomeados pela 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0 conjuntos de materiais numa embalagem tripla, disponível nas ERR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00 conjuntos de EPP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incinerador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veículos identifica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Consumívei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1" name="Rectangle 57"/>
          <p:cNvSpPr/>
          <p:nvPr/>
        </p:nvSpPr>
        <p:spPr>
          <a:xfrm>
            <a:off x="4249800" y="4867200"/>
            <a:ext cx="71280" cy="7164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2" name="Rectangle 57"/>
          <p:cNvSpPr/>
          <p:nvPr/>
        </p:nvSpPr>
        <p:spPr>
          <a:xfrm>
            <a:off x="4249800" y="5280120"/>
            <a:ext cx="7128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3" name="Rectangle 57"/>
          <p:cNvSpPr/>
          <p:nvPr/>
        </p:nvSpPr>
        <p:spPr>
          <a:xfrm>
            <a:off x="4249800" y="5572080"/>
            <a:ext cx="71280" cy="7164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384" name="Group 50"/>
          <p:cNvGrpSpPr/>
          <p:nvPr/>
        </p:nvGrpSpPr>
        <p:grpSpPr>
          <a:xfrm>
            <a:off x="4248000" y="5702400"/>
            <a:ext cx="71640" cy="342720"/>
            <a:chOff x="4248000" y="5702400"/>
            <a:chExt cx="71640" cy="342720"/>
          </a:xfrm>
        </p:grpSpPr>
        <p:sp>
          <p:nvSpPr>
            <p:cNvPr id="385" name="Rectangle 57"/>
            <p:cNvSpPr/>
            <p:nvPr/>
          </p:nvSpPr>
          <p:spPr>
            <a:xfrm>
              <a:off x="4248000" y="570240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86" name="Rectangle 57"/>
            <p:cNvSpPr/>
            <p:nvPr/>
          </p:nvSpPr>
          <p:spPr>
            <a:xfrm>
              <a:off x="4248000" y="597384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387" name="Group 30"/>
          <p:cNvGrpSpPr/>
          <p:nvPr/>
        </p:nvGrpSpPr>
        <p:grpSpPr>
          <a:xfrm>
            <a:off x="476280" y="4984920"/>
            <a:ext cx="71280" cy="623880"/>
            <a:chOff x="476280" y="4984920"/>
            <a:chExt cx="71280" cy="623880"/>
          </a:xfrm>
        </p:grpSpPr>
        <p:sp>
          <p:nvSpPr>
            <p:cNvPr id="388" name="Rectangle 57"/>
            <p:cNvSpPr/>
            <p:nvPr/>
          </p:nvSpPr>
          <p:spPr>
            <a:xfrm>
              <a:off x="476280" y="498492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89" name="Rectangle 57"/>
            <p:cNvSpPr/>
            <p:nvPr/>
          </p:nvSpPr>
          <p:spPr>
            <a:xfrm>
              <a:off x="476280" y="51228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90" name="Rectangle 57"/>
            <p:cNvSpPr/>
            <p:nvPr/>
          </p:nvSpPr>
          <p:spPr>
            <a:xfrm>
              <a:off x="476280" y="52610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91" name="Rectangle 57"/>
            <p:cNvSpPr/>
            <p:nvPr/>
          </p:nvSpPr>
          <p:spPr>
            <a:xfrm>
              <a:off x="476280" y="53992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92" name="Rectangle 57"/>
            <p:cNvSpPr/>
            <p:nvPr/>
          </p:nvSpPr>
          <p:spPr>
            <a:xfrm>
              <a:off x="476280" y="553752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393" name="Rectangle 39"/>
          <p:cNvSpPr/>
          <p:nvPr/>
        </p:nvSpPr>
        <p:spPr>
          <a:xfrm>
            <a:off x="514440" y="5972040"/>
            <a:ext cx="179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técnicos de laboratóri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4" name="Rectangle 57"/>
          <p:cNvSpPr/>
          <p:nvPr/>
        </p:nvSpPr>
        <p:spPr>
          <a:xfrm>
            <a:off x="487440" y="6041880"/>
            <a:ext cx="73080" cy="7164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5" name="Rectangle 57"/>
          <p:cNvSpPr/>
          <p:nvPr/>
        </p:nvSpPr>
        <p:spPr>
          <a:xfrm>
            <a:off x="4249800" y="5840280"/>
            <a:ext cx="71280" cy="730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25080" y="82080"/>
            <a:ext cx="86043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9 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Capacidades nos Pontos de Entrada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397" name="Rectangle 10"/>
          <p:cNvSpPr/>
          <p:nvPr/>
        </p:nvSpPr>
        <p:spPr>
          <a:xfrm>
            <a:off x="324000" y="4178160"/>
            <a:ext cx="6989760" cy="197964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Em cada Ponto de Entrada e fronteiras oficiais, 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                     Para cada Ponto de Entrada e fronteira oficial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(24 h por dia, 7 dias por semana, i.e. 3 turnos) 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para cada turno:</a:t>
            </a:r>
            <a:br>
              <a:rPr sz="900"/>
            </a:b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8" name="Rectangle 11"/>
          <p:cNvSpPr/>
          <p:nvPr/>
        </p:nvSpPr>
        <p:spPr>
          <a:xfrm>
            <a:off x="7389720" y="4178160"/>
            <a:ext cx="1430280" cy="197964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ponente  2; 3; 4; 5; 6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NMEER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9" name="Rectangle 61"/>
          <p:cNvSpPr/>
          <p:nvPr/>
        </p:nvSpPr>
        <p:spPr>
          <a:xfrm>
            <a:off x="322200" y="655560"/>
            <a:ext cx="698976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7389720" y="655560"/>
            <a:ext cx="143028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1" name="Rectangle 63"/>
          <p:cNvSpPr/>
          <p:nvPr/>
        </p:nvSpPr>
        <p:spPr>
          <a:xfrm>
            <a:off x="322200" y="3940200"/>
            <a:ext cx="698976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2" name="Rectangle 64"/>
          <p:cNvSpPr/>
          <p:nvPr/>
        </p:nvSpPr>
        <p:spPr>
          <a:xfrm>
            <a:off x="7389720" y="3940200"/>
            <a:ext cx="1430280" cy="23508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3" name="Rectangle 25"/>
          <p:cNvSpPr/>
          <p:nvPr/>
        </p:nvSpPr>
        <p:spPr>
          <a:xfrm>
            <a:off x="322200" y="893880"/>
            <a:ext cx="6989760" cy="297000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Descrição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:  Assegurar que todos os Pontos de Entrada (PdE) estão prontos para lidar com um caso de Ébola à chegad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4" name="Rectangle 26"/>
          <p:cNvSpPr/>
          <p:nvPr/>
        </p:nvSpPr>
        <p:spPr>
          <a:xfrm>
            <a:off x="7388280" y="893880"/>
            <a:ext cx="1430280" cy="297000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7840" indent="-177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00" spc="-1" strike="noStrike">
              <a:solidFill>
                <a:srgbClr val="eaeaea"/>
              </a:solidFill>
              <a:latin typeface="Tahoma"/>
            </a:endParaRPr>
          </a:p>
          <a:p>
            <a:pPr marL="177840" indent="-177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Avaliação do risco de viagens e transporte: orientações de viagens para as autoridades sanitárias e para o sector do transport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177840" indent="-177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rientações provisórias da OMS para a gestão de eventos do Ébola nos pontos de entrad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177840" indent="-177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Infográfico Parar o Surto do Ébol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390600" y="1095480"/>
          <a:ext cx="6921360" cy="3235320"/>
        </p:xfrm>
        <a:graphic>
          <a:graphicData uri="http://schemas.openxmlformats.org/drawingml/2006/table">
            <a:tbl>
              <a:tblPr/>
              <a:tblGrid>
                <a:gridCol w="276120"/>
                <a:gridCol w="6199200"/>
                <a:gridCol w="201600"/>
                <a:gridCol w="244440"/>
              </a:tblGrid>
              <a:tr h="158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/N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9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equipas nos PdE para trabalharem 24/7, ajudarem os viajantes e assegurarem um isolamento correcto, se necessári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63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9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ntregar abastecimentos identificados (9 conjuntos completos de EPP em cada PdE, equipamento para investigar casos, 3 termómetros infravermelhos manuais, 1 scanner, 2 salas de observação/2 unidades de saúde e abastecimentos para o isolamento e observação seguros de casos suspeitos, se possível numa sala separada, se não numa área separada. Dependendo da localização geográfica, 1 ambulância) aos PdE. Cada PdE necessita ter ou uma sala separada ou uma área dedicada para manter os casos suspei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5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9.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ormar pessoal em prevenção e controlo de infecções (Formação de Formadores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164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9.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o centro/área de “manutenção”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Tahoma"/>
                        </a:rPr>
                        <a:t>9.5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egurar que existe um plano de contingência de emergência sanitária nos PdE de risco elevado (portos, aeroportos e passagens terrestres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Tahoma"/>
                        </a:rPr>
                        <a:t>9.6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quipar e alocar pessoal suficiente para as avaliações e gestão sanitárias de suspeitas de passageiros doentes em todos os Pd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Tahoma"/>
                        </a:rPr>
                        <a:t>9.7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tilizar os POP para identificar, gerir e encaminhar os passageiros doentes suspeitos dos PdE para hospitais/instalações de isolamento designad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87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Tahoma"/>
                        </a:rPr>
                        <a:t>9.8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ver e testar os actuais sistemas de comunicação entre as autoridades sanitárias e os operadores de transporte nos PdE e os sistemas nacionais de vigilância da saúd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7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Tahoma"/>
                        </a:rPr>
                        <a:t>9.9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nsibilizar as autoridades de saúde pública nos PdE relativamente à EVD, rever os seus papéis e processos de lidar, notificar e encaminhar casos suspeitos de EVD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165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Tahoma"/>
                        </a:rPr>
                        <a:t>9.1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tilizar os POP para implementar rastreios à saída em caso de confirmação de um surto de EVD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Tahoma"/>
                        </a:rPr>
                        <a:t>9.1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ver os sistemas e procedimentos para a implementação das medidas sanitárias relacionadas com a prevenção e controlo de infecçõe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</a:tbl>
          </a:graphicData>
        </a:graphic>
      </p:graphicFrame>
      <p:sp>
        <p:nvSpPr>
          <p:cNvPr id="406" name="Rectangle 7"/>
          <p:cNvSpPr/>
          <p:nvPr/>
        </p:nvSpPr>
        <p:spPr>
          <a:xfrm>
            <a:off x="512640" y="4562640"/>
            <a:ext cx="26751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enfermeiros (ou, se não estiverem disponíveis, pessoal formado na identificação de casos, pelo menos um formado em desinfecção)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ssoa de imigraçã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ssoa de seguranç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407" name="Group 14"/>
          <p:cNvGrpSpPr/>
          <p:nvPr/>
        </p:nvGrpSpPr>
        <p:grpSpPr>
          <a:xfrm>
            <a:off x="485640" y="4632480"/>
            <a:ext cx="73080" cy="639720"/>
            <a:chOff x="485640" y="4632480"/>
            <a:chExt cx="73080" cy="639720"/>
          </a:xfrm>
        </p:grpSpPr>
        <p:sp>
          <p:nvSpPr>
            <p:cNvPr id="408" name="Rectangle 57"/>
            <p:cNvSpPr/>
            <p:nvPr/>
          </p:nvSpPr>
          <p:spPr>
            <a:xfrm>
              <a:off x="485640" y="46324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09" name="Rectangle 57"/>
            <p:cNvSpPr/>
            <p:nvPr/>
          </p:nvSpPr>
          <p:spPr>
            <a:xfrm>
              <a:off x="485640" y="5050080"/>
              <a:ext cx="73080" cy="7272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0" name="Rectangle 57"/>
            <p:cNvSpPr/>
            <p:nvPr/>
          </p:nvSpPr>
          <p:spPr>
            <a:xfrm>
              <a:off x="485640" y="520092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411" name="Rectangle 15"/>
          <p:cNvSpPr/>
          <p:nvPr/>
        </p:nvSpPr>
        <p:spPr>
          <a:xfrm>
            <a:off x="3971880" y="4432320"/>
            <a:ext cx="334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Higiene básica, saneamento, desinfecção e equipamento de protecção (luvas, sabão, água clorada, desinfectante, eliminação de resíduos, etc.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9 conjuntos de EPP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Equipamento médico para investigar cas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3 termómetros infravermelhos manuai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scanner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sala de observaçã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unidades de saúde e abastecimentos para um isolamento e observação seguros de casos suspeitos; se possível numa sala separada, se não numa área separad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Dependendo da localização geográfica, 1 ambulânci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412" name="Group 183"/>
          <p:cNvGrpSpPr/>
          <p:nvPr/>
        </p:nvGrpSpPr>
        <p:grpSpPr>
          <a:xfrm>
            <a:off x="3951360" y="4502160"/>
            <a:ext cx="71280" cy="646200"/>
            <a:chOff x="3951360" y="4502160"/>
            <a:chExt cx="71280" cy="646200"/>
          </a:xfrm>
        </p:grpSpPr>
        <p:sp>
          <p:nvSpPr>
            <p:cNvPr id="413" name="Rectangle 57"/>
            <p:cNvSpPr/>
            <p:nvPr/>
          </p:nvSpPr>
          <p:spPr>
            <a:xfrm>
              <a:off x="3951360" y="45021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4" name="Rectangle 57"/>
            <p:cNvSpPr/>
            <p:nvPr/>
          </p:nvSpPr>
          <p:spPr>
            <a:xfrm>
              <a:off x="3951360" y="49150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5" name="Rectangle 57"/>
            <p:cNvSpPr/>
            <p:nvPr/>
          </p:nvSpPr>
          <p:spPr>
            <a:xfrm>
              <a:off x="3951360" y="50770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416" name="Group 50"/>
          <p:cNvGrpSpPr/>
          <p:nvPr/>
        </p:nvGrpSpPr>
        <p:grpSpPr>
          <a:xfrm>
            <a:off x="3949560" y="5195880"/>
            <a:ext cx="71640" cy="343080"/>
            <a:chOff x="3949560" y="5195880"/>
            <a:chExt cx="71640" cy="343080"/>
          </a:xfrm>
        </p:grpSpPr>
        <p:sp>
          <p:nvSpPr>
            <p:cNvPr id="417" name="Rectangle 57"/>
            <p:cNvSpPr/>
            <p:nvPr/>
          </p:nvSpPr>
          <p:spPr>
            <a:xfrm>
              <a:off x="3949560" y="519588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8" name="Rectangle 57"/>
            <p:cNvSpPr/>
            <p:nvPr/>
          </p:nvSpPr>
          <p:spPr>
            <a:xfrm>
              <a:off x="3949560" y="546768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419" name="Rectangle 57"/>
          <p:cNvSpPr/>
          <p:nvPr/>
        </p:nvSpPr>
        <p:spPr>
          <a:xfrm>
            <a:off x="3949560" y="5619600"/>
            <a:ext cx="71640" cy="7164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0" name="Rectangle 57"/>
          <p:cNvSpPr/>
          <p:nvPr/>
        </p:nvSpPr>
        <p:spPr>
          <a:xfrm>
            <a:off x="3949560" y="5343480"/>
            <a:ext cx="71640" cy="730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1" name="Rectangle 57"/>
          <p:cNvSpPr/>
          <p:nvPr/>
        </p:nvSpPr>
        <p:spPr>
          <a:xfrm>
            <a:off x="3949560" y="6031080"/>
            <a:ext cx="7164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60436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10 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Orçamento geral para o surto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423" name="Rectangle 10"/>
          <p:cNvSpPr/>
          <p:nvPr/>
        </p:nvSpPr>
        <p:spPr>
          <a:xfrm>
            <a:off x="325440" y="4475160"/>
            <a:ext cx="6438960" cy="170640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4" name="Rectangle 11"/>
          <p:cNvSpPr/>
          <p:nvPr/>
        </p:nvSpPr>
        <p:spPr>
          <a:xfrm>
            <a:off x="6848640" y="4475160"/>
            <a:ext cx="1973160" cy="170640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00" spc="-1" strike="noStrike">
              <a:solidFill>
                <a:srgbClr val="eaeaea"/>
              </a:solidFill>
              <a:latin typeface="Tahoma"/>
            </a:endParaRPr>
          </a:p>
          <a:p>
            <a:pPr lvl="1" marL="262080" indent="-1695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To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2080" indent="-1695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inistéri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2080" indent="-1695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Banco Mundi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2080" indent="-1695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FMI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2080" indent="-1695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2080" indent="-1695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stados-Membros da 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2080" indent="-1695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Fundaçõ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2080" indent="-1695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5" name="Rectangle 61"/>
          <p:cNvSpPr/>
          <p:nvPr/>
        </p:nvSpPr>
        <p:spPr>
          <a:xfrm>
            <a:off x="324000" y="1006560"/>
            <a:ext cx="643860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6848640" y="1006560"/>
            <a:ext cx="197316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7" name="Rectangle 63"/>
          <p:cNvSpPr/>
          <p:nvPr/>
        </p:nvSpPr>
        <p:spPr>
          <a:xfrm>
            <a:off x="324000" y="4237200"/>
            <a:ext cx="643860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8" name="Rectangle 64"/>
          <p:cNvSpPr/>
          <p:nvPr/>
        </p:nvSpPr>
        <p:spPr>
          <a:xfrm>
            <a:off x="6848640" y="4237200"/>
            <a:ext cx="1973160" cy="23472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9" name="Rectangle 25"/>
          <p:cNvSpPr/>
          <p:nvPr/>
        </p:nvSpPr>
        <p:spPr>
          <a:xfrm>
            <a:off x="324000" y="1244520"/>
            <a:ext cx="6438600" cy="290052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Descrição: </a:t>
            </a:r>
            <a:r>
              <a:rPr b="0" lang="pt-PT" sz="900" spc="-1" strike="noStrike">
                <a:solidFill>
                  <a:srgbClr val="0c0945"/>
                </a:solidFill>
                <a:latin typeface="Arial"/>
              </a:rPr>
              <a:t> Ter a certeza que existem fundos suficientes a nível nacional e subnacional para a preparação e resposta rápida à EVD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0" name="Rectangle 26"/>
          <p:cNvSpPr/>
          <p:nvPr/>
        </p:nvSpPr>
        <p:spPr>
          <a:xfrm>
            <a:off x="6846840" y="1244520"/>
            <a:ext cx="1973160" cy="290052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438120" y="1676520"/>
          <a:ext cx="6249960" cy="2162160"/>
        </p:xfrm>
        <a:graphic>
          <a:graphicData uri="http://schemas.openxmlformats.org/drawingml/2006/table">
            <a:tbl>
              <a:tblPr/>
              <a:tblGrid>
                <a:gridCol w="338040"/>
                <a:gridCol w="4859640"/>
                <a:gridCol w="509400"/>
                <a:gridCol w="542880"/>
              </a:tblGrid>
              <a:tr h="38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72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 </a:t>
                      </a:r>
                      <a:r>
                        <a:rPr b="1" i="1" lang="pt-PT" sz="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(dias)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im/N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10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72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r orçamentos operacionais para as actividades (comunicação, vigilância reforçada, investigação, etc.), detecção pré-epidémica e para a resposta preliminar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72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10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72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entificação de fontes de financiamento, incluindo a alocação de recursos domésticos e mecanismos para obter recursos adicionais sempre que necessário, já existe e é conhecid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72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8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10.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72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envolver modelos para a mobilização de recursos e para a notificação dos países e dos doadores, incluindo mecanismos para monitorizar e seguir a implementaç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72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66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10.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72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fundos de contingência de fácil acesso para uma resposta imediata ao surto de EVD em locais nacionais e outros apropriad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72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6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10.5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72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o processo de transferir dinheiro do nível central para o uso em emergências locai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72000" marR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</a:tbl>
          </a:graphicData>
        </a:graphic>
      </p:graphicFrame>
      <p:sp>
        <p:nvSpPr>
          <p:cNvPr id="432" name="Rectangle 7"/>
          <p:cNvSpPr/>
          <p:nvPr/>
        </p:nvSpPr>
        <p:spPr>
          <a:xfrm>
            <a:off x="514440" y="4665600"/>
            <a:ext cx="1797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Representantes do escritório do Primeiro Ministro, com Organizações Internacionais, como o Banco Mundial, FMI, UE, OMS, etc.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3" name="Rectangle 15"/>
          <p:cNvSpPr/>
          <p:nvPr/>
        </p:nvSpPr>
        <p:spPr>
          <a:xfrm>
            <a:off x="4282920" y="4689360"/>
            <a:ext cx="23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Plano Nacional de Preparação para as Emergênci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4" name="Rectangle 57"/>
          <p:cNvSpPr/>
          <p:nvPr/>
        </p:nvSpPr>
        <p:spPr>
          <a:xfrm>
            <a:off x="4249800" y="4761000"/>
            <a:ext cx="7128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5" name="Rectangle 57"/>
          <p:cNvSpPr/>
          <p:nvPr/>
        </p:nvSpPr>
        <p:spPr>
          <a:xfrm>
            <a:off x="476280" y="4735440"/>
            <a:ext cx="71280" cy="730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28320" y="247680"/>
            <a:ext cx="8815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Lista dos Documentos de Referência </a:t>
            </a: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	</a:t>
            </a: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	</a:t>
            </a: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1/3 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437" name="Rectangle 6"/>
          <p:cNvSpPr/>
          <p:nvPr/>
        </p:nvSpPr>
        <p:spPr>
          <a:xfrm>
            <a:off x="1147680" y="1228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272880" y="1262160"/>
          <a:ext cx="8633160" cy="5189400"/>
        </p:xfrm>
        <a:graphic>
          <a:graphicData uri="http://schemas.openxmlformats.org/drawingml/2006/table">
            <a:tbl>
              <a:tblPr/>
              <a:tblGrid>
                <a:gridCol w="1187640"/>
                <a:gridCol w="3503520"/>
                <a:gridCol w="3942000"/>
              </a:tblGrid>
              <a:tr h="288360">
                <a:tc>
                  <a:txBody>
                    <a:bodyPr lIns="57240" rIns="572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Component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ítulo do document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Ligação na internet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346680">
                <a:tc rowSpan="2"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Coordenaç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ulamento Sanitário Internacional (2005) Segunda Ediç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ihr/publications/9789241596664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7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idemias do vírus do Ébola e Marburgo: preparação, alerta, controlo e avaliaç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apps.who.int/iris/bitstream/10665/130160/1/WHO_HSE_PED_CED_2014.05_eng.pdf?ua=1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46680">
                <a:tc rowSpan="3"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Equipas de Resposta Rápid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idemias do vírus do Ébola e Marburgo: preparação, alerta, controlo e avaliaç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resources/publications/ebola/manual_EVD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7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ambées épidémiques de maladie à virus Ebola et Marburg: préparation, alerte, lutte et évaluation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disease/ebola/manual_EVD/fr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0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ientações Técnicas para a Vigilância e Resposta Integrada às Doenças (IDSR) na Região African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afro.who.int/en/clusters-a-programmes/dpc/integrated-disease-surveillance/features/2775-technical-guidelines-for-integrated-disease-surveillance-and-response-in-the-african-region.html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46680">
                <a:tc rowSpan="7"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Sensibilização do Público e Envolvimento da Comunidad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unicação Eficaz dos Meios de Comunicação durante as Emergências de Saúde Públic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resources/publications/WHO_CDS_2005_31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8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unicação para o impacto comportamental (COMBI): livro de exercícios no terreno para os passos de planeamento da COMBI na resposta a sur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ihr/publications/combi_toolkit_fieldwkbk_outbreaks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8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unicação para o impacto comportamental (COMBI): conjunto de instrumentos para a comunicação comportamental e social na resposta a sur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ihr/publications/combi_toolkit_outbreaks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4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unicação Eficaz dos Meios de Comunicação durante as Emergências de Saúde Pública: Um manual da OM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entity/csr/resources/publications/WHO%20MEDIA%20HANDBOOK.pdf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unicação Eficaz dos Meios de Comunicação durante as Emergências de Saúde Pública: Um guia da OMS para o terren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entity/csr/resources/publications/WHO%20MEDIA%20FIELD%20GUIDE.pdf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4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junto de instrumentos da COMBI para a comunicação comportamental e social na resposta a sur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entity/ihr/publications/combi_toolkit_outbreaks/en/index.html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vro de exercícios no terreno para os passos de planeamento da COMBI na resposta a sur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entity/ihr/publications/combi_toolkit_fieldwkbk_outbreaks/en/index.html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609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Lista dos Documentos de Referência </a:t>
            </a:r>
            <a:r>
              <a:rPr b="0" lang="fr-FR" sz="2800" spc="-1" strike="noStrike">
                <a:solidFill>
                  <a:srgbClr val="4a4743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4a4743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4a4743"/>
                </a:solidFill>
                <a:latin typeface="Tahoma"/>
              </a:rPr>
              <a:t>2/3 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320760" y="1143000"/>
          <a:ext cx="8491320" cy="5157720"/>
        </p:xfrm>
        <a:graphic>
          <a:graphicData uri="http://schemas.openxmlformats.org/drawingml/2006/table">
            <a:tbl>
              <a:tblPr/>
              <a:tblGrid>
                <a:gridCol w="1149120"/>
                <a:gridCol w="3672000"/>
                <a:gridCol w="3670200"/>
              </a:tblGrid>
              <a:tr h="316080">
                <a:tc>
                  <a:txBody>
                    <a:bodyPr lIns="57240" rIns="572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Component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ítulo do document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Ligação na internet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680760">
                <a:tc rowSpan="6"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Prevenção e Controlo de Infecçõe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ientações provisórias para a Prevenção e Controlo de Infecções nos cuidados de doentes com casos suspeitos ou confirmados de Febre Hemorrágica de Filovírus nos Contextos dos Cuidados de Saúde, com foco no Ébol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apps.who.int/iris/bitstream/10665/130596/1/WHO_HIS_SDS_2014.4_eng.pdf?ua=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umo das orientações para a prevenção e controlo de infecçõe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resources/publications/ebola/evd-guidance-summary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ssos para colocar o equipamento de protecção pessoal (EPP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disease/ebola/put_on_ppequipment.pdf?ua=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ssos para retirar o equipamento de protecção pessoal (EPP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disease/ebola/remove_ppequipment.pdf?ua=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3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ientações para a prevenção e controlo de infecções nos cuidados de doentes em contextos de cuidados de saúde, com foco no Ébola (inclui cartazes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resources/publications/ebola/filovirus_infection_control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53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MORANDO: para a prevenção e controlo de infecções numa unidade de saúd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injection_safety/toolbox/docs/en/AideMemoireInfectionControl.pdf?ua=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80760">
                <a:tc rowSpan="3"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Gestão de Casos / Tratamento dos Doente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stão clínica de doentes com febre hemorrágica viral: um guia de bolso para o profissional de saúde da linha da frent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resouhttp://www.who.int/csr/resources/publications/ebola/convalescent-treatment/en/rces/publications/clinical-management-patients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53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o de sangue ou plasma convalescente recolhido de doentes recuperados da doença do vírus do Ébola: tratamento empírico durante sur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resources/publications/ebola/convalescent-treatment/en/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ientações da OMS sobre como tirar sangue: melhores práticas na flebotomi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entity/injection_safety/sign/drawing_blood_best/en/index.html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77640"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Enterros Segur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tilização de Práticas Seguras de Enterr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600" rIns="4860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resources/publications/ebola/whoemcesr982sec7-9.pdf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600" marR="486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Lista dos Documentos de Referência </a:t>
            </a:r>
            <a:r>
              <a:rPr b="0" lang="fr-FR" sz="2800" spc="-1" strike="noStrike">
                <a:solidFill>
                  <a:srgbClr val="4a4743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4a4743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4a4743"/>
                </a:solidFill>
                <a:latin typeface="Tahoma"/>
              </a:rPr>
              <a:t>3/3 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344520" y="909720"/>
          <a:ext cx="8550360" cy="5360760"/>
        </p:xfrm>
        <a:graphic>
          <a:graphicData uri="http://schemas.openxmlformats.org/drawingml/2006/table">
            <a:tbl>
              <a:tblPr/>
              <a:tblGrid>
                <a:gridCol w="1166760"/>
                <a:gridCol w="3811680"/>
                <a:gridCol w="3571920"/>
              </a:tblGrid>
              <a:tr h="250920">
                <a:tc>
                  <a:txBody>
                    <a:bodyPr lIns="57240" rIns="572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Component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ítulo do document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57240" rIns="5724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Ligação na internet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339480">
                <a:tc rowSpan="3"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Vigilância Epidemiológic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gilância do Ébola em países sem casos notificados da doença do vírus do Ébola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http://www.who.int/csr/resources/publications/ebola/ebola-surveillance/en/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3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comendações de definições de casos para as doenças do vírus do Ébola e de Marburg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http://www.who.int/csr/resources/publications/ebola/ebola-case-definition-contact-en.pdf?ua=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8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tecção, avaliação e resposta precoces a eventos agudos de saúde pública: Implementação de Avisos e Respostas Precoces com ênfase numa Vigilância com Base em Even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iris/bitstream/10665/112667/1/WHO_HSE_GCR_LYO_2014.4_eng.pdf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39840">
                <a:tc rowSpan="3"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Identificação de Contac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entificação de contactos durante um surto da doença do vírus do Ébol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entity/csr/resources/publications/ebola/contact-tracing/en/index.html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entificação de contactos durante um surto da doença do vírus do Ébol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resources/publications/ebola/contact-tracing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1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ográfico de Identificação de Contac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cdc.gov/vhf/ebola/pdf/contact-tracing.pdf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39840">
                <a:tc rowSpan="6"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Laboratóri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o enviar de forma segura amostras de sangue humano de casos suspeitos de Ébola dentro de um paí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entity/csr/resources/publications/ebola/blood-shipment-en.pdf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7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o recolher de forma segura amostras de sangue de pessoas com suspeitas de estarem infectadas com patogénicos sanguíneos altamente infeccios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entity/csr/resources/publications/ebola/blood-collect-en.pdf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3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ientações laboratoriais para o diagnóstico da doença do vírus do Ébol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entity/csr/resources/publications/ebola/laboratory-guidance/en/index.html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ientações para o transporte de materiais infeccios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resources/publications/ebola/travel-guidance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3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ual do Sistema de Gestão de Qualidade Laboratorial, OMS/CDC/Instituto de Padrões Clínicos e Laboratoriais, 201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hqlibdoc.who.int/publications/2011/9789241548274_eng.pdf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3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ientações sobre a regulamentação do transporte de substâncias infecciosas 2007-2008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csr/resources/publications/biosafety/WHO_CDS_EPR_2007_2/en/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39840">
                <a:tc rowSpan="3"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Capacidades nos Pontos de Entrad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aliação do risco de viagens e transporte: orientações de viagens para as autoridades sanitárias e para o sector do transport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who.int/entity/csr/resources/publications/ebola/travel-guidance/en/index.html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3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ientações provisórias da OMS para a gestão de eventos do Ébola nos pontos de entrad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apps.who.int/iris/bitstream/10665/131827/1/WHO_EVD_Guidance_PoE_14.1_eng.pdf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1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ográfico Parar o Surto do Ébol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48240" rIns="48240" tIns="30240" bIns="30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cdc.gov/vhf/ebola/pdf/ghs-ebola-materials.pdf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Lista de Verificação da Preparação para a Doença do Vírus do Ébola </a:t>
            </a: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	</a:t>
            </a: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1/2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57040" y="1171440"/>
            <a:ext cx="8382240" cy="45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4a4743"/>
                </a:solidFill>
                <a:latin typeface="Arial"/>
                <a:ea typeface="Arial"/>
              </a:rPr>
              <a:t>O surto de Ébola em três países afectados da África Ocidental não tem precedentes em termos de escala e extensão geográfica. Tem o potencial de se propagar para outros países em África e não só. A OMS identificou quatro grupos de países para facilitar a implementação mais eficaz de medidas. </a:t>
            </a:r>
            <a:endParaRPr b="0" lang="en-US" sz="1500" spc="-1" strike="noStrike">
              <a:solidFill>
                <a:srgbClr val="4a474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a474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4a4743"/>
                </a:solidFill>
                <a:latin typeface="Arial"/>
                <a:ea typeface="Arial"/>
              </a:rPr>
              <a:t>É, por isso, altamente recomendável que todos, mas especialmente os países nos grupos 1 e 2, se assegurem que estão preparados para fazer face à EVD, caso esta surja no seu país. Esta lista de verificação deve ajudar os países a avaliar e testar o seu nível de prontidão e deve ser utilizada como um instrumento para identificar medidas concretas a serem tomadas pelos países e como estes serão apoiados pela comunidade internacional para abordarem as lacunas que possam existir. </a:t>
            </a:r>
            <a:endParaRPr b="0" lang="en-US" sz="1500" spc="-1" strike="noStrike">
              <a:solidFill>
                <a:srgbClr val="4a474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a474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4a4743"/>
                </a:solidFill>
                <a:latin typeface="Arial"/>
                <a:ea typeface="Arial"/>
              </a:rPr>
              <a:t>A Lista de Verificação Consolidada da Preparação para a Doença do Vírus do Ébola tem como base esforços feitos por várias instituições nacionais e internacionais, incluindo OMS, CDC e UN OCHA. </a:t>
            </a:r>
            <a:endParaRPr b="0" lang="en-US" sz="1500" spc="-1" strike="noStrike">
              <a:solidFill>
                <a:srgbClr val="4a474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a474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4a4743"/>
                </a:solidFill>
                <a:latin typeface="Arial"/>
                <a:ea typeface="Arial"/>
              </a:rPr>
              <a:t>Identifica 10 principais componentes e tarefas para os países e para a comunidade internacional que devem ser concluídos até 30, 60 e 90 dias, respectivamente, a partir da data da emissão desta lista. São definidos recursos mínimos necessários em termos de equipamento e materiais, assim como recursos humanos. Os peritos técnicos terão a ajuda de documentos-chave de referência como orientações, manuais de formação e notas de orientação para implementarem as medidas necessárias nos principais componentes. Os principais componentes são (ver próxima página):</a:t>
            </a:r>
            <a:endParaRPr b="0" lang="en-US" sz="15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9120" y="34560"/>
            <a:ext cx="8894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Lista de Verificação da Preparação para a Doença do Vírus do Ébola 2/2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84320" y="541440"/>
          <a:ext cx="8754840" cy="5933880"/>
        </p:xfrm>
        <a:graphic>
          <a:graphicData uri="http://schemas.openxmlformats.org/drawingml/2006/table">
            <a:tbl>
              <a:tblPr/>
              <a:tblGrid>
                <a:gridCol w="1274760"/>
                <a:gridCol w="3852720"/>
                <a:gridCol w="3627360"/>
              </a:tblGrid>
              <a:tr h="42192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Component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O que é este component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Por que tem de estar a funcionar e preparad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</a:tr>
              <a:tr h="46620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Coordenação Geral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São esforços para clarificar os papéis e responsabilidades das autoridades nacionais e dos parceiros internacionais nas actividades de preparação sob um conjunto partilhado de objectivos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Irá permitir reduzir a duplicação de esforços e assegurar o impacto máximo dos recursos limitados que estão actualmente disponíveis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82332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Equipa de Resposta Rápida (ERR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A ERR é um grupo de peritos experientes que estão preparados e conseguem chegar a qualquer parte dos país em 24 horas. As suas acções irão ajudar a conter/parar um surto no seu início. Irão observar o(s) primeiro(s) caso(s), fornecer cuidados de saúde numa unidade central, envolver-se com a comunidade e realizar medidas de prevenção e controlo da infecção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ma vez que os países não sabem exactamente em que área geográfica irá aparecer o primeiro caso, uma ERR totalmente operacional é fundamental para ser capaz de agir imediatamente assim que seja notificado um caso suspeito. Irá agir como um recurso de estabilização inicial durante a primeira fase de um surto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3108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Sensibilização do público e envolvimento da comunidad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São esforços para promover a compreensão do Ébola por parte das comunidades em risco e para abordar qualquer estigma que dificulta os cuidados de saúde de emergência e a vigilância eficaz da EVD. Em vez disso, a comunidade tem um papel fundamental no alerta.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s países actualmente afectados, os centros de saúde foram atacados, uma vez que as pessoas tinham muito medo e foram espalhados falsos rumores sobre a doença.    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68616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Prevenção e Controlo de Infecçõe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Serve para desenvolver uma capacidade óptima de prevenção e controlo de infecções e para apoiar as instalações a assegurar condições de trabalho seguras dentro das unidades de saúde e da mobilização social.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epidemia corrente na África Ocidental resultou num número de mortes de profissionais de saúde considerável (taxa média de infecção de 5-6%). A prevenção e controlo de infecções e condições de trabalho seguras são componentes fundamentais para a prestação de cuidados de saúde de emergência.   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3108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Gestão de casos e Centros de Tratamento do Ébola (CTE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São esforços para desenvolver ou reajustar uma unidade existente como um CTE da EVD para tratar 15 doentes e deixá-los totalmente operacionais. Inclui a infra-estrutura física, assim como as capacidades do pessoal para gerir casos de EVD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falta de CTE funcionais no início de um surto pode levar a que um pequeno surto fique fora de controlo. Por isso, ter pelo menos um CTE totalmente operacional antes da ocorrência do primeiro caso é importante para conter um surto logo no início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54900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ssegurar enterros segur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ão esforços para assegurar enterros seguros tendo em conta os costumes e religião locais, ao mesmo tempo que se lida de forma segura com os mortos, sendo necessários para prevenir uma maior transmissão às comunidades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Enterros pouco seguros de vítimas do Ébola têm causado infecções consideráveis às comunidades durante as cerimónias de enterro e é um dos principais factores de risco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1184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Vigilânci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É um sistema de alerta/notificação entre países para investigar imediatamente uma pessoa com um potencial caso de EVD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chave para o sucesso em controlar a EVD está altamente dependente de uma vigilância atempada e precisa com base na comunidade.  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6620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Identificação de Contac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São esforços que devem ser postos em prática para identificar e detectar a cadeia de transmissão nas primeiras 72 horas após a notificação de um caso confirmado/suspeito.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identificação rápida de contactos e a monitorização imediata são essenciais para parar/limitar a transmissão para outras pessoas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1184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Laboratóri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São esforços para assegurar que as amostras são levadas de forma segura e transportadas para os laboratórios que estão prontos para analisá-las rapidamente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confirmação rápida de casos é fundamental para conter um surto, identificar contactos e fornecer cuidados de saúde de emergência.  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3524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Capacidades nos Pontos de Entrada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868686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forços para ter os Pontos de Entrada prontos para lidarem com um caso de Ébola assim que este ocorra. Isto inclui a preparação de instalações, assim como o reforço da capacidade do pessoal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m rastreio selectivo eficaz nos Pontos de Entrada irá ajudar a prevenir o transporte de infecções entre fronteiras.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1840" marR="518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15560"/>
            <a:ext cx="84819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800" spc="-1" strike="noStrike">
                <a:solidFill>
                  <a:srgbClr val="4a4743"/>
                </a:solidFill>
                <a:latin typeface="Tahoma"/>
              </a:rPr>
              <a:t>Principais Elementos da Preparação da EVD</a:t>
            </a:r>
            <a:endParaRPr b="0" lang="en-US" sz="3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55" name="Oval 13"/>
          <p:cNvSpPr/>
          <p:nvPr/>
        </p:nvSpPr>
        <p:spPr>
          <a:xfrm>
            <a:off x="2413080" y="2755800"/>
            <a:ext cx="1871640" cy="19544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aeaea"/>
                </a:solidFill>
                <a:latin typeface="Tahoma"/>
              </a:rPr>
              <a:t>Mobilização Geral do Orçamento e Recursos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6" name="Oval 15"/>
          <p:cNvSpPr/>
          <p:nvPr/>
        </p:nvSpPr>
        <p:spPr>
          <a:xfrm>
            <a:off x="5327640" y="2755800"/>
            <a:ext cx="1908360" cy="19544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aeaea"/>
                </a:solidFill>
                <a:latin typeface="Tahoma"/>
              </a:rPr>
              <a:t>Equipas de Resposta Rápida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7" name="Rounded Rectangle 19"/>
          <p:cNvSpPr/>
          <p:nvPr/>
        </p:nvSpPr>
        <p:spPr>
          <a:xfrm>
            <a:off x="925560" y="1384200"/>
            <a:ext cx="1439640" cy="1094040"/>
          </a:xfrm>
          <a:prstGeom prst="roundRect">
            <a:avLst>
              <a:gd name="adj" fmla="val 16667"/>
            </a:avLst>
          </a:prstGeom>
          <a:solidFill>
            <a:srgbClr val="990000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aeaea"/>
                </a:solidFill>
                <a:latin typeface="Tahoma"/>
              </a:rPr>
              <a:t>Enterro seguro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8" name="Left-Right Arrow 23"/>
          <p:cNvSpPr/>
          <p:nvPr/>
        </p:nvSpPr>
        <p:spPr>
          <a:xfrm>
            <a:off x="7091280" y="3624120"/>
            <a:ext cx="577800" cy="287640"/>
          </a:xfrm>
          <a:prstGeom prst="leftRightArrow">
            <a:avLst>
              <a:gd name="adj1" fmla="val 50000"/>
              <a:gd name="adj2" fmla="val 49940"/>
            </a:avLst>
          </a:prstGeom>
          <a:solidFill>
            <a:srgbClr val="17118b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" name="Left-Right Arrow 25"/>
          <p:cNvSpPr/>
          <p:nvPr/>
        </p:nvSpPr>
        <p:spPr>
          <a:xfrm>
            <a:off x="1836720" y="3632040"/>
            <a:ext cx="576360" cy="287640"/>
          </a:xfrm>
          <a:prstGeom prst="leftRightArrow">
            <a:avLst>
              <a:gd name="adj1" fmla="val 50000"/>
              <a:gd name="adj2" fmla="val 49954"/>
            </a:avLst>
          </a:prstGeom>
          <a:solidFill>
            <a:srgbClr val="17118b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" name="Left-Right Arrow 26"/>
          <p:cNvSpPr/>
          <p:nvPr/>
        </p:nvSpPr>
        <p:spPr>
          <a:xfrm rot="19206600">
            <a:off x="6504120" y="2475000"/>
            <a:ext cx="723600" cy="288720"/>
          </a:xfrm>
          <a:prstGeom prst="leftRightArrow">
            <a:avLst>
              <a:gd name="adj1" fmla="val 50000"/>
              <a:gd name="adj2" fmla="val 50020"/>
            </a:avLst>
          </a:prstGeom>
          <a:solidFill>
            <a:srgbClr val="17118b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1" name="Left-Right Arrow 27"/>
          <p:cNvSpPr/>
          <p:nvPr/>
        </p:nvSpPr>
        <p:spPr>
          <a:xfrm rot="19173600">
            <a:off x="2185920" y="4696920"/>
            <a:ext cx="860400" cy="287640"/>
          </a:xfrm>
          <a:prstGeom prst="leftRightArrow">
            <a:avLst>
              <a:gd name="adj1" fmla="val 50000"/>
              <a:gd name="adj2" fmla="val 49951"/>
            </a:avLst>
          </a:prstGeom>
          <a:solidFill>
            <a:srgbClr val="17118b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" name="Left-Right Arrow 28"/>
          <p:cNvSpPr/>
          <p:nvPr/>
        </p:nvSpPr>
        <p:spPr>
          <a:xfrm rot="5400000">
            <a:off x="3959640" y="2669040"/>
            <a:ext cx="1636560" cy="289080"/>
          </a:xfrm>
          <a:prstGeom prst="leftRightArrow">
            <a:avLst>
              <a:gd name="adj1" fmla="val 50000"/>
              <a:gd name="adj2" fmla="val 49955"/>
            </a:avLst>
          </a:prstGeom>
          <a:solidFill>
            <a:srgbClr val="17118b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3" name="Left-Right Arrow 29"/>
          <p:cNvSpPr/>
          <p:nvPr/>
        </p:nvSpPr>
        <p:spPr>
          <a:xfrm rot="5400000">
            <a:off x="3998160" y="4580640"/>
            <a:ext cx="1581120" cy="287280"/>
          </a:xfrm>
          <a:prstGeom prst="leftRightArrow">
            <a:avLst>
              <a:gd name="adj1" fmla="val 50000"/>
              <a:gd name="adj2" fmla="val 50018"/>
            </a:avLst>
          </a:prstGeom>
          <a:solidFill>
            <a:srgbClr val="17118b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" name="Left-Right Arrow 30"/>
          <p:cNvSpPr/>
          <p:nvPr/>
        </p:nvSpPr>
        <p:spPr>
          <a:xfrm rot="2418000">
            <a:off x="6622560" y="4704840"/>
            <a:ext cx="835200" cy="287640"/>
          </a:xfrm>
          <a:prstGeom prst="leftRightArrow">
            <a:avLst>
              <a:gd name="adj1" fmla="val 50000"/>
              <a:gd name="adj2" fmla="val 49953"/>
            </a:avLst>
          </a:prstGeom>
          <a:solidFill>
            <a:srgbClr val="17118b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5" name="Left-Right Arrow 31"/>
          <p:cNvSpPr/>
          <p:nvPr/>
        </p:nvSpPr>
        <p:spPr>
          <a:xfrm rot="2535000">
            <a:off x="2169720" y="2593800"/>
            <a:ext cx="789120" cy="287640"/>
          </a:xfrm>
          <a:prstGeom prst="leftRightArrow">
            <a:avLst>
              <a:gd name="adj1" fmla="val 50000"/>
              <a:gd name="adj2" fmla="val 49953"/>
            </a:avLst>
          </a:prstGeom>
          <a:solidFill>
            <a:srgbClr val="17118b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6" name="Rounded Rectangle 33"/>
          <p:cNvSpPr/>
          <p:nvPr/>
        </p:nvSpPr>
        <p:spPr>
          <a:xfrm>
            <a:off x="3995640" y="1128600"/>
            <a:ext cx="1656000" cy="866880"/>
          </a:xfrm>
          <a:prstGeom prst="roundRect">
            <a:avLst>
              <a:gd name="adj" fmla="val 16667"/>
            </a:avLst>
          </a:prstGeom>
          <a:solidFill>
            <a:srgbClr val="8b8aae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aeaea"/>
                </a:solidFill>
                <a:latin typeface="Tahoma"/>
              </a:rPr>
              <a:t>Prevenção e Controlo de Infecções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7" name="Rounded Rectangle 34"/>
          <p:cNvSpPr/>
          <p:nvPr/>
        </p:nvSpPr>
        <p:spPr>
          <a:xfrm>
            <a:off x="6948360" y="1341360"/>
            <a:ext cx="1990800" cy="1079640"/>
          </a:xfrm>
          <a:prstGeom prst="roundRect">
            <a:avLst>
              <a:gd name="adj" fmla="val 16667"/>
            </a:avLst>
          </a:prstGeom>
          <a:solidFill>
            <a:srgbClr val="00ffcc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aeaea"/>
                </a:solidFill>
                <a:latin typeface="Tahoma"/>
              </a:rPr>
              <a:t>Vigilância Epidemiológica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8" name="Rounded Rectangle 35"/>
          <p:cNvSpPr/>
          <p:nvPr/>
        </p:nvSpPr>
        <p:spPr>
          <a:xfrm>
            <a:off x="7669080" y="3284640"/>
            <a:ext cx="1440000" cy="106992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aeaea"/>
                </a:solidFill>
                <a:latin typeface="Tahoma"/>
              </a:rPr>
              <a:t>Identificação de Contactos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Rounded Rectangle 36"/>
          <p:cNvSpPr/>
          <p:nvPr/>
        </p:nvSpPr>
        <p:spPr>
          <a:xfrm>
            <a:off x="3995640" y="5478480"/>
            <a:ext cx="1727280" cy="87156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aeaea"/>
                </a:solidFill>
                <a:latin typeface="Tahoma"/>
              </a:rPr>
              <a:t>Gestão de Casos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0" name="Rounded Rectangle 37"/>
          <p:cNvSpPr/>
          <p:nvPr/>
        </p:nvSpPr>
        <p:spPr>
          <a:xfrm>
            <a:off x="7236000" y="5102280"/>
            <a:ext cx="1611000" cy="868320"/>
          </a:xfrm>
          <a:prstGeom prst="roundRect">
            <a:avLst>
              <a:gd name="adj" fmla="val 16667"/>
            </a:avLst>
          </a:prstGeom>
          <a:solidFill>
            <a:srgbClr val="bbdde0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Laboratório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1" name="Rounded Rectangle 38"/>
          <p:cNvSpPr/>
          <p:nvPr/>
        </p:nvSpPr>
        <p:spPr>
          <a:xfrm>
            <a:off x="587520" y="5032440"/>
            <a:ext cx="1752480" cy="9176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eaeaea"/>
                </a:solidFill>
                <a:latin typeface="Tahoma"/>
              </a:rPr>
              <a:t>Capacidades nos Pontos de Entrada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2" name="Oval 22"/>
          <p:cNvSpPr/>
          <p:nvPr/>
        </p:nvSpPr>
        <p:spPr>
          <a:xfrm>
            <a:off x="3851280" y="2760840"/>
            <a:ext cx="1871640" cy="195408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Tahoma"/>
              </a:rPr>
              <a:t>Coordenação Geral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Rounded Rectangle 39"/>
          <p:cNvSpPr/>
          <p:nvPr/>
        </p:nvSpPr>
        <p:spPr>
          <a:xfrm>
            <a:off x="50760" y="2543400"/>
            <a:ext cx="1760400" cy="2398320"/>
          </a:xfrm>
          <a:custGeom>
            <a:avLst/>
            <a:gdLst>
              <a:gd name="textAreaLeft" fmla="*/ 85680 w 1760400"/>
              <a:gd name="textAreaRight" fmla="*/ 1674720 w 1760400"/>
              <a:gd name="textAreaTop" fmla="*/ 85680 h 2398320"/>
              <a:gd name="textAreaBottom" fmla="*/ 2312640 h 2398320"/>
            </a:gdLst>
            <a:ahLst/>
            <a:rect l="textAreaLeft" t="textAreaTop" r="textAreaRight" b="textAreaBottom"/>
            <a:pathLst>
              <a:path w="21600" h="29426">
                <a:moveTo>
                  <a:pt x="3600" y="0"/>
                </a:moveTo>
                <a:arcTo wR="3600" hR="3600" stAng="16200000" swAng="-5400000"/>
                <a:lnTo>
                  <a:pt x="0" y="25826"/>
                </a:lnTo>
                <a:arcTo wR="3600" hR="3600" stAng="10800000" swAng="-5400000"/>
                <a:lnTo>
                  <a:pt x="18000" y="294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99"/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Sensibilização do Público e Envolvimento da Comunidade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74520"/>
            <a:ext cx="860436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1 </a:t>
            </a:r>
            <a:r>
              <a:rPr b="0" lang="pt-PT" sz="3200" spc="-1" strike="noStrike">
                <a:solidFill>
                  <a:srgbClr val="4a4743"/>
                </a:solidFill>
                <a:latin typeface="Tahoma"/>
              </a:rPr>
              <a:t>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Coordenação Geral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325440" y="4105440"/>
            <a:ext cx="7048440" cy="207000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 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               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              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Área/distrito de risco elevado, 2 equipas cada uma com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Nível subnacional/distrital e operacional em áreas de risco elevado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7458120" y="4105440"/>
            <a:ext cx="1363680" cy="207000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87480" indent="-87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To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87480" indent="-87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inistéri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87480" indent="-87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87480" indent="-87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DC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87480" indent="-87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IANPHI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87480" indent="-87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WCC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87480" indent="-87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Rectangle 61"/>
          <p:cNvSpPr/>
          <p:nvPr/>
        </p:nvSpPr>
        <p:spPr>
          <a:xfrm>
            <a:off x="324000" y="550800"/>
            <a:ext cx="704844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7458120" y="550800"/>
            <a:ext cx="136368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90000" bIns="46800" anchor="ctr">
            <a:noAutofit/>
          </a:bodyPr>
          <a:p>
            <a:pPr algn="ctr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9" name="Rectangle 63"/>
          <p:cNvSpPr/>
          <p:nvPr/>
        </p:nvSpPr>
        <p:spPr>
          <a:xfrm>
            <a:off x="324000" y="3867120"/>
            <a:ext cx="704844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0" name="Rectangle 64"/>
          <p:cNvSpPr/>
          <p:nvPr/>
        </p:nvSpPr>
        <p:spPr>
          <a:xfrm>
            <a:off x="7458120" y="3867120"/>
            <a:ext cx="1363680" cy="23508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1" name="Rectangle 25"/>
          <p:cNvSpPr/>
          <p:nvPr/>
        </p:nvSpPr>
        <p:spPr>
          <a:xfrm>
            <a:off x="324000" y="789120"/>
            <a:ext cx="7048440" cy="29890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Descrição: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Assegurar a coordenação dos componentes 2 a 10 a nível nacional e alinhar o nível de preparação com o envolvimento dos riscos</a:t>
            </a:r>
            <a:r>
              <a:rPr b="0" lang="pt-PT" sz="900" spc="-1" strike="noStrike">
                <a:solidFill>
                  <a:srgbClr val="0c0945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Rectangle 26"/>
          <p:cNvSpPr/>
          <p:nvPr/>
        </p:nvSpPr>
        <p:spPr>
          <a:xfrm>
            <a:off x="7456320" y="789120"/>
            <a:ext cx="1363680" cy="29890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pidemias do vírus do Ébola e Marburgo: preparação, alerta, controlo e avaliação, OMS 2014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68280" y="1104840"/>
          <a:ext cx="6973920" cy="2613240"/>
        </p:xfrm>
        <a:graphic>
          <a:graphicData uri="http://schemas.openxmlformats.org/drawingml/2006/table">
            <a:tbl>
              <a:tblPr/>
              <a:tblGrid>
                <a:gridCol w="206280"/>
                <a:gridCol w="6112080"/>
                <a:gridCol w="396720"/>
                <a:gridCol w="258840"/>
              </a:tblGrid>
              <a:tr h="1890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S/N.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</a:tr>
              <a:tr h="1463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1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issões / Grupo de Acção do Ébola (ETF) para Emergências e epidemias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istência de Comissões/Grupo de Acção do Ébola (ETF) e de subcomissões técnicas a nível nacional e distrital; 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issões de emergência/epidemia pré-existentes transformadas num ETF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novação e actualização da adesão ao ETF a nível nacional e subnacional nos distritos “em risco” e toda a gente informada acerca dos papéis e responsabilidades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comissões técnicas do ETF com pontos focais e mandatos claros constituídos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istência de TR do ETF e das subcomissões técnicas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dimentos definidos para o comando e controlo, mecanismos de coordenação, aprovação de produtos técnicos e de informação fundamentais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Representação das Nações Unidas está a coordenar o apoio dos doadores a nível nacional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evisão dos quadros políticos e legislativos actuais para assegurar que irão fornecer a autorização para as medidas de preparação (incluindo financiamento) que são propostas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 di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4e4e4"/>
                    </a:solidFill>
                  </a:tcPr>
                </a:tc>
              </a:tr>
              <a:tr h="960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ntros de Operações de Emergência (EOC) / Estrutura de Gestão de Incidentes (IMS):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abelecidos a nível nacional para abranger áreas de densidade populacional baixa e alta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entificar, formar e nomear um Gestor de Incidentes e um Gestor de Operações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monstrar sucessos durante os exercícios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ocar pessoal a nível subnacional para uma coordenação e gestão localizadas dos EOC/IMS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envolver planos para canais de comunicação dentro dos EOC/IMS e entre os EOC/IMS e o público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r claramente responsabilidades de comunicação a papéis específicos do EOC/IMS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 di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84" name="Rectangle 7"/>
          <p:cNvSpPr/>
          <p:nvPr/>
        </p:nvSpPr>
        <p:spPr>
          <a:xfrm>
            <a:off x="514440" y="4352760"/>
            <a:ext cx="398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Coordenador nacion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inistr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Representação dedicada dos Ministérios da Informação, Educação, Interior/governo local, Saúde, Defesa, Agricultura, Desenvolvimento Rural, Comunidade – religião/opinião/jovens/mulheres/líder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Parceir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85" name="Group 14"/>
          <p:cNvGrpSpPr/>
          <p:nvPr/>
        </p:nvGrpSpPr>
        <p:grpSpPr>
          <a:xfrm>
            <a:off x="487440" y="4422600"/>
            <a:ext cx="73080" cy="735120"/>
            <a:chOff x="487440" y="4422600"/>
            <a:chExt cx="73080" cy="735120"/>
          </a:xfrm>
        </p:grpSpPr>
        <p:sp>
          <p:nvSpPr>
            <p:cNvPr id="86" name="Rectangle 57"/>
            <p:cNvSpPr/>
            <p:nvPr/>
          </p:nvSpPr>
          <p:spPr>
            <a:xfrm>
              <a:off x="487440" y="442260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7" name="Rectangle 57"/>
            <p:cNvSpPr/>
            <p:nvPr/>
          </p:nvSpPr>
          <p:spPr>
            <a:xfrm>
              <a:off x="487440" y="45604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8" name="Rectangle 57"/>
            <p:cNvSpPr/>
            <p:nvPr/>
          </p:nvSpPr>
          <p:spPr>
            <a:xfrm>
              <a:off x="487440" y="469872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" name="Rectangle 57"/>
            <p:cNvSpPr/>
            <p:nvPr/>
          </p:nvSpPr>
          <p:spPr>
            <a:xfrm>
              <a:off x="487440" y="50864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90" name="Rectangle 15"/>
          <p:cNvSpPr/>
          <p:nvPr/>
        </p:nvSpPr>
        <p:spPr>
          <a:xfrm>
            <a:off x="4735440" y="4286160"/>
            <a:ext cx="27892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Plano Nacional de Preparação de Emergênci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Plano operacion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Logística (escritório, veículos, abastecimentos, equipamento de comunicação, computadores, etc.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Reservas estratégicas (colchões, cobertores e outros; combustível, alimentos, medicamentos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ateriais para o centro de emergências operacion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91" name="Group 183"/>
          <p:cNvGrpSpPr/>
          <p:nvPr/>
        </p:nvGrpSpPr>
        <p:grpSpPr>
          <a:xfrm>
            <a:off x="4714920" y="4356000"/>
            <a:ext cx="71280" cy="647640"/>
            <a:chOff x="4714920" y="4356000"/>
            <a:chExt cx="71280" cy="647640"/>
          </a:xfrm>
        </p:grpSpPr>
        <p:sp>
          <p:nvSpPr>
            <p:cNvPr id="92" name="Rectangle 57"/>
            <p:cNvSpPr/>
            <p:nvPr/>
          </p:nvSpPr>
          <p:spPr>
            <a:xfrm>
              <a:off x="4714920" y="43560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3" name="Rectangle 57"/>
            <p:cNvSpPr/>
            <p:nvPr/>
          </p:nvSpPr>
          <p:spPr>
            <a:xfrm>
              <a:off x="4714920" y="46274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4" name="Rectangle 57"/>
            <p:cNvSpPr/>
            <p:nvPr/>
          </p:nvSpPr>
          <p:spPr>
            <a:xfrm>
              <a:off x="4714920" y="49323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95" name="Rectangle 57"/>
          <p:cNvSpPr/>
          <p:nvPr/>
        </p:nvSpPr>
        <p:spPr>
          <a:xfrm>
            <a:off x="4713120" y="5211720"/>
            <a:ext cx="71640" cy="730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6" name="Rectangle 37"/>
          <p:cNvSpPr/>
          <p:nvPr/>
        </p:nvSpPr>
        <p:spPr>
          <a:xfrm>
            <a:off x="501480" y="5310360"/>
            <a:ext cx="43675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O líder politico local com poderes de tomada de decisões e autoridade orçament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coordenador subnacion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onto focal dos Ministérios da Informação, Educação, Interior/governo local, Saúde, Defesa, Agricultura, Desenvolvimento Rur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representante da comunidade/religião/opinião/jovens/mulheres/líder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Parceir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97" name="Group 38"/>
          <p:cNvGrpSpPr/>
          <p:nvPr/>
        </p:nvGrpSpPr>
        <p:grpSpPr>
          <a:xfrm>
            <a:off x="476280" y="5380200"/>
            <a:ext cx="71280" cy="758520"/>
            <a:chOff x="476280" y="5380200"/>
            <a:chExt cx="71280" cy="758520"/>
          </a:xfrm>
        </p:grpSpPr>
        <p:sp>
          <p:nvSpPr>
            <p:cNvPr id="98" name="Rectangle 57"/>
            <p:cNvSpPr/>
            <p:nvPr/>
          </p:nvSpPr>
          <p:spPr>
            <a:xfrm>
              <a:off x="476280" y="53802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9" name="Rectangle 57"/>
            <p:cNvSpPr/>
            <p:nvPr/>
          </p:nvSpPr>
          <p:spPr>
            <a:xfrm>
              <a:off x="476280" y="55180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00" name="Rectangle 57"/>
            <p:cNvSpPr/>
            <p:nvPr/>
          </p:nvSpPr>
          <p:spPr>
            <a:xfrm>
              <a:off x="476280" y="60674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01" name="Rectangle 57"/>
            <p:cNvSpPr/>
            <p:nvPr/>
          </p:nvSpPr>
          <p:spPr>
            <a:xfrm>
              <a:off x="476280" y="5931000"/>
              <a:ext cx="71280" cy="7272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02" name="Rectangle 57"/>
          <p:cNvSpPr/>
          <p:nvPr/>
        </p:nvSpPr>
        <p:spPr>
          <a:xfrm>
            <a:off x="4714920" y="4508640"/>
            <a:ext cx="71280" cy="7272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Rectangle 57"/>
          <p:cNvSpPr/>
          <p:nvPr/>
        </p:nvSpPr>
        <p:spPr>
          <a:xfrm>
            <a:off x="476280" y="5646600"/>
            <a:ext cx="71280" cy="7164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4" name="Rounded Rectangular Callout 1"/>
          <p:cNvSpPr/>
          <p:nvPr/>
        </p:nvSpPr>
        <p:spPr>
          <a:xfrm>
            <a:off x="7581960" y="96840"/>
            <a:ext cx="1452600" cy="318960"/>
          </a:xfrm>
          <a:prstGeom prst="wedgeRoundRectCallout">
            <a:avLst>
              <a:gd name="adj1" fmla="val 3916"/>
              <a:gd name="adj2" fmla="val 93453"/>
              <a:gd name="adj3" fmla="val 16667"/>
            </a:avLst>
          </a:prstGeom>
          <a:solidFill>
            <a:srgbClr val="54abb2"/>
          </a:solidFill>
          <a:ln w="12600">
            <a:solidFill>
              <a:srgbClr val="3b7d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ffffff"/>
                </a:solidFill>
                <a:latin typeface="Arial"/>
              </a:rPr>
              <a:t>Para todos os documentos recomendados; url no fim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102960"/>
            <a:ext cx="860436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2 </a:t>
            </a:r>
            <a:r>
              <a:rPr b="0" lang="pt-PT" sz="3200" spc="-1" strike="noStrike">
                <a:solidFill>
                  <a:srgbClr val="4a4743"/>
                </a:solidFill>
                <a:latin typeface="Tahoma"/>
              </a:rPr>
              <a:t>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Equipas de Resposta Rápida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325440" y="3516480"/>
            <a:ext cx="6438960" cy="259056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 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Pelo menos 1 ERR a nível nacional com: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Cada equipa deve estar equipada com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Pelo menos 1 ERR a nível subnacional com: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A unidade a nível central deve ter 15 camas 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equipadas com equipamento médico padrão e 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abastecimentos para funcionar pelo menos 10 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dias e estar totalmente operacional.</a:t>
            </a:r>
            <a:r>
              <a:rPr b="0" i="1" lang="en-US" sz="900" spc="-1" strike="noStrike">
                <a:solidFill>
                  <a:srgbClr val="00206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Cada unidade deve te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O número de equipas subnacionais depende do nível de risco,</a:t>
            </a:r>
            <a:br>
              <a:rPr sz="900"/>
            </a:b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disponibilidade dos recursos humanos e localização geográfica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6848640" y="3516480"/>
            <a:ext cx="1973160" cy="259056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ponente 4; 5; 6; 7; 8; 9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inistéri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DC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NICEF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IANPHI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NMEER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8" name="Rectangle 61"/>
          <p:cNvSpPr/>
          <p:nvPr/>
        </p:nvSpPr>
        <p:spPr>
          <a:xfrm>
            <a:off x="324000" y="636480"/>
            <a:ext cx="643860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6848640" y="636480"/>
            <a:ext cx="197316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Rectangle 63"/>
          <p:cNvSpPr/>
          <p:nvPr/>
        </p:nvSpPr>
        <p:spPr>
          <a:xfrm>
            <a:off x="324000" y="3278160"/>
            <a:ext cx="643860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Rectangle 64"/>
          <p:cNvSpPr/>
          <p:nvPr/>
        </p:nvSpPr>
        <p:spPr>
          <a:xfrm>
            <a:off x="6848640" y="3278160"/>
            <a:ext cx="1973160" cy="23508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Rectangle 25"/>
          <p:cNvSpPr/>
          <p:nvPr/>
        </p:nvSpPr>
        <p:spPr>
          <a:xfrm>
            <a:off x="324000" y="874800"/>
            <a:ext cx="6438600" cy="233676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Descrição: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riar pelo menos 2 ERR especializadas (1 a nível nacional e 1 a nível subnacional) responsáveis pela detecção precoce e vigilância, assim como pela identificação de contact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Rectangle 26"/>
          <p:cNvSpPr/>
          <p:nvPr/>
        </p:nvSpPr>
        <p:spPr>
          <a:xfrm>
            <a:off x="6846840" y="874800"/>
            <a:ext cx="1973160" cy="233676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RSI e IDSR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tilização das seguintes orientaçõ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00" spc="-1" strike="noStrike">
              <a:solidFill>
                <a:srgbClr val="eaeaea"/>
              </a:solidFill>
              <a:latin typeface="Tahoma"/>
            </a:endParaRPr>
          </a:p>
          <a:p>
            <a:pPr lvl="1" marL="361800" indent="-1825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Guia de Identificação de Contactos da 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361800" indent="-1825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POP do Manual de investigação de casos;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361800" indent="-1825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rientações do CDC e OMS sobre a recolha e envio de amostras;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361800" indent="-1825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aterial dos módulos de formação da AFRO/CDC a serem finalizados nas duas próximas seman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361800" indent="-1825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rientações sobre os CT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47560" y="1166760"/>
          <a:ext cx="6249960" cy="2681280"/>
        </p:xfrm>
        <a:graphic>
          <a:graphicData uri="http://schemas.openxmlformats.org/drawingml/2006/table">
            <a:tbl>
              <a:tblPr/>
              <a:tblGrid>
                <a:gridCol w="339840"/>
                <a:gridCol w="4878360"/>
                <a:gridCol w="500040"/>
                <a:gridCol w="531720"/>
              </a:tblGrid>
              <a:tr h="315720"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 </a:t>
                      </a:r>
                      <a:r>
                        <a:rPr b="1" i="1" lang="pt-PT" sz="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(dias)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im/N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6992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2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entificar e nomear membros das equip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16992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2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mar pessoal médico sobre as ERR de EVD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1572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2.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mar pessoal médico utilizando os módulos da OMS-AFRO aplicados na Libéria, incluindo simulações de CT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1572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2.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entificar um espaço numa unidade de saúde existente e transformá-lo num CTE totalmente funcional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1572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2.5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pear potenciais unidades de saúde a nível distrital que podem ser transformadas em CTE a curto praz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17028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2.6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entificar e formar voluntários comunitários na comunidad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1572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2.7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mar os epidemiologistas das ERR subnacionais como parte do segundo nível do serviço de linha aberta 24h/7 di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1572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2.8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Assegurar que não existe um problema de fluxo de caixa e existe um mecanismo de facilitação de contrat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4680"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2.9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 ausência de um caso de EVD no país após 60 dias, realizar pelo menos um exercício de simulação para manter a capacidad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e8e0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</a:tbl>
          </a:graphicData>
        </a:graphic>
      </p:graphicFrame>
      <p:sp>
        <p:nvSpPr>
          <p:cNvPr id="115" name="Rectangle 7"/>
          <p:cNvSpPr/>
          <p:nvPr/>
        </p:nvSpPr>
        <p:spPr>
          <a:xfrm>
            <a:off x="514440" y="3848040"/>
            <a:ext cx="1797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médic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de laboratóri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de mob. social/antropólog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especialista em logístic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2246400" y="3838680"/>
            <a:ext cx="19843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em apoio psicossoci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gestor de da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7 pessoal de enterros (1 equipa de enterros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em meios de comunicaçã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funcionário administrativo para contratar e executar as finanç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17" name="Group 14"/>
          <p:cNvGrpSpPr/>
          <p:nvPr/>
        </p:nvGrpSpPr>
        <p:grpSpPr>
          <a:xfrm>
            <a:off x="487440" y="3917880"/>
            <a:ext cx="73080" cy="623880"/>
            <a:chOff x="487440" y="3917880"/>
            <a:chExt cx="73080" cy="623880"/>
          </a:xfrm>
        </p:grpSpPr>
        <p:sp>
          <p:nvSpPr>
            <p:cNvPr id="118" name="Rectangle 57"/>
            <p:cNvSpPr/>
            <p:nvPr/>
          </p:nvSpPr>
          <p:spPr>
            <a:xfrm>
              <a:off x="487440" y="39178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19" name="Rectangle 57"/>
            <p:cNvSpPr/>
            <p:nvPr/>
          </p:nvSpPr>
          <p:spPr>
            <a:xfrm>
              <a:off x="487440" y="405576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20" name="Rectangle 57"/>
            <p:cNvSpPr/>
            <p:nvPr/>
          </p:nvSpPr>
          <p:spPr>
            <a:xfrm>
              <a:off x="487440" y="419400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21" name="Rectangle 57"/>
            <p:cNvSpPr/>
            <p:nvPr/>
          </p:nvSpPr>
          <p:spPr>
            <a:xfrm>
              <a:off x="487440" y="43322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22" name="Rectangle 57"/>
            <p:cNvSpPr/>
            <p:nvPr/>
          </p:nvSpPr>
          <p:spPr>
            <a:xfrm>
              <a:off x="487440" y="44704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23" name="Rectangle 141"/>
          <p:cNvSpPr/>
          <p:nvPr/>
        </p:nvSpPr>
        <p:spPr>
          <a:xfrm>
            <a:off x="501480" y="4890960"/>
            <a:ext cx="1798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médic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técnico de laboratóri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de mob. social/antropólog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especialista em logístic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Rectangle 142"/>
          <p:cNvSpPr/>
          <p:nvPr/>
        </p:nvSpPr>
        <p:spPr>
          <a:xfrm>
            <a:off x="2282760" y="4881600"/>
            <a:ext cx="18954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assistente social, enfermeiro psiquiátric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verificador de dad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7 pessoal de enterros (1 equipa de enterros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ssoa para os meios de comunicação loc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25" name="Group 143"/>
          <p:cNvGrpSpPr/>
          <p:nvPr/>
        </p:nvGrpSpPr>
        <p:grpSpPr>
          <a:xfrm>
            <a:off x="476280" y="4960800"/>
            <a:ext cx="71280" cy="622440"/>
            <a:chOff x="476280" y="4960800"/>
            <a:chExt cx="71280" cy="622440"/>
          </a:xfrm>
        </p:grpSpPr>
        <p:sp>
          <p:nvSpPr>
            <p:cNvPr id="126" name="Rectangle 57"/>
            <p:cNvSpPr/>
            <p:nvPr/>
          </p:nvSpPr>
          <p:spPr>
            <a:xfrm>
              <a:off x="476280" y="49608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27" name="Rectangle 57"/>
            <p:cNvSpPr/>
            <p:nvPr/>
          </p:nvSpPr>
          <p:spPr>
            <a:xfrm>
              <a:off x="476280" y="50986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28" name="Rectangle 57"/>
            <p:cNvSpPr/>
            <p:nvPr/>
          </p:nvSpPr>
          <p:spPr>
            <a:xfrm>
              <a:off x="476280" y="5235480"/>
              <a:ext cx="71280" cy="730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29" name="Rectangle 57"/>
            <p:cNvSpPr/>
            <p:nvPr/>
          </p:nvSpPr>
          <p:spPr>
            <a:xfrm>
              <a:off x="476280" y="537372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30" name="Rectangle 57"/>
            <p:cNvSpPr/>
            <p:nvPr/>
          </p:nvSpPr>
          <p:spPr>
            <a:xfrm>
              <a:off x="476280" y="55119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131" name="Group 177"/>
          <p:cNvGrpSpPr/>
          <p:nvPr/>
        </p:nvGrpSpPr>
        <p:grpSpPr>
          <a:xfrm>
            <a:off x="2246400" y="4960800"/>
            <a:ext cx="73080" cy="486000"/>
            <a:chOff x="2246400" y="4960800"/>
            <a:chExt cx="73080" cy="486000"/>
          </a:xfrm>
        </p:grpSpPr>
        <p:sp>
          <p:nvSpPr>
            <p:cNvPr id="132" name="Rectangle 57"/>
            <p:cNvSpPr/>
            <p:nvPr/>
          </p:nvSpPr>
          <p:spPr>
            <a:xfrm>
              <a:off x="2246400" y="496080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33" name="Rectangle 57"/>
            <p:cNvSpPr/>
            <p:nvPr/>
          </p:nvSpPr>
          <p:spPr>
            <a:xfrm>
              <a:off x="2246400" y="50990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34" name="Rectangle 57"/>
            <p:cNvSpPr/>
            <p:nvPr/>
          </p:nvSpPr>
          <p:spPr>
            <a:xfrm>
              <a:off x="2246400" y="52372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35" name="Rectangle 57"/>
            <p:cNvSpPr/>
            <p:nvPr/>
          </p:nvSpPr>
          <p:spPr>
            <a:xfrm>
              <a:off x="2246400" y="537552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36" name="Rectangle 15"/>
          <p:cNvSpPr/>
          <p:nvPr/>
        </p:nvSpPr>
        <p:spPr>
          <a:xfrm>
            <a:off x="4267080" y="3809880"/>
            <a:ext cx="2756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formulários sobre guias de identificação de contact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ateriais de laboratório (kits especiais de recolha de amostras de sangue para a EVD numa embalagem tripla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ateriais de IEC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5 veículos e 2 ambulânci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37" name="Group 183"/>
          <p:cNvGrpSpPr/>
          <p:nvPr/>
        </p:nvGrpSpPr>
        <p:grpSpPr>
          <a:xfrm>
            <a:off x="4249800" y="3917880"/>
            <a:ext cx="71280" cy="623880"/>
            <a:chOff x="4249800" y="3917880"/>
            <a:chExt cx="71280" cy="623880"/>
          </a:xfrm>
        </p:grpSpPr>
        <p:sp>
          <p:nvSpPr>
            <p:cNvPr id="138" name="Rectangle 57"/>
            <p:cNvSpPr/>
            <p:nvPr/>
          </p:nvSpPr>
          <p:spPr>
            <a:xfrm>
              <a:off x="4249800" y="39178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39" name="Rectangle 57"/>
            <p:cNvSpPr/>
            <p:nvPr/>
          </p:nvSpPr>
          <p:spPr>
            <a:xfrm>
              <a:off x="4249800" y="40557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40" name="Rectangle 57"/>
            <p:cNvSpPr/>
            <p:nvPr/>
          </p:nvSpPr>
          <p:spPr>
            <a:xfrm>
              <a:off x="4249800" y="41940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41" name="Rectangle 57"/>
            <p:cNvSpPr/>
            <p:nvPr/>
          </p:nvSpPr>
          <p:spPr>
            <a:xfrm>
              <a:off x="4249800" y="43322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42" name="Rectangle 57"/>
            <p:cNvSpPr/>
            <p:nvPr/>
          </p:nvSpPr>
          <p:spPr>
            <a:xfrm>
              <a:off x="4249800" y="44704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43" name="Rectangle 17"/>
          <p:cNvSpPr/>
          <p:nvPr/>
        </p:nvSpPr>
        <p:spPr>
          <a:xfrm>
            <a:off x="4270320" y="5356080"/>
            <a:ext cx="254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3 áreas separadas: para casos suspeitos, prováveis e confirmados, de acordo com as orientações da OMS/MSF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casa de banho para cada cam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área para a troca do EPP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área de recolha de resídu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44" name="Group 189"/>
          <p:cNvGrpSpPr/>
          <p:nvPr/>
        </p:nvGrpSpPr>
        <p:grpSpPr>
          <a:xfrm>
            <a:off x="4248000" y="5432400"/>
            <a:ext cx="73080" cy="612720"/>
            <a:chOff x="4248000" y="5432400"/>
            <a:chExt cx="73080" cy="612720"/>
          </a:xfrm>
        </p:grpSpPr>
        <p:sp>
          <p:nvSpPr>
            <p:cNvPr id="145" name="Rectangle 57"/>
            <p:cNvSpPr/>
            <p:nvPr/>
          </p:nvSpPr>
          <p:spPr>
            <a:xfrm>
              <a:off x="4248000" y="543240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46" name="Rectangle 57"/>
            <p:cNvSpPr/>
            <p:nvPr/>
          </p:nvSpPr>
          <p:spPr>
            <a:xfrm>
              <a:off x="4248000" y="569736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47" name="Rectangle 57"/>
            <p:cNvSpPr/>
            <p:nvPr/>
          </p:nvSpPr>
          <p:spPr>
            <a:xfrm>
              <a:off x="4248000" y="583560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48" name="Rectangle 57"/>
            <p:cNvSpPr/>
            <p:nvPr/>
          </p:nvSpPr>
          <p:spPr>
            <a:xfrm>
              <a:off x="4248000" y="59738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49" name="Rectangle 57"/>
          <p:cNvSpPr/>
          <p:nvPr/>
        </p:nvSpPr>
        <p:spPr>
          <a:xfrm>
            <a:off x="4249800" y="4602240"/>
            <a:ext cx="71280" cy="730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50" name="Group 14"/>
          <p:cNvGrpSpPr/>
          <p:nvPr/>
        </p:nvGrpSpPr>
        <p:grpSpPr>
          <a:xfrm>
            <a:off x="2257560" y="3925800"/>
            <a:ext cx="72720" cy="623880"/>
            <a:chOff x="2257560" y="3925800"/>
            <a:chExt cx="72720" cy="623880"/>
          </a:xfrm>
        </p:grpSpPr>
        <p:sp>
          <p:nvSpPr>
            <p:cNvPr id="151" name="Rectangle 57"/>
            <p:cNvSpPr/>
            <p:nvPr/>
          </p:nvSpPr>
          <p:spPr>
            <a:xfrm>
              <a:off x="2257560" y="3925800"/>
              <a:ext cx="7272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52" name="Rectangle 57"/>
            <p:cNvSpPr/>
            <p:nvPr/>
          </p:nvSpPr>
          <p:spPr>
            <a:xfrm>
              <a:off x="2257560" y="4063680"/>
              <a:ext cx="7272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53" name="Rectangle 57"/>
            <p:cNvSpPr/>
            <p:nvPr/>
          </p:nvSpPr>
          <p:spPr>
            <a:xfrm>
              <a:off x="2257560" y="4201920"/>
              <a:ext cx="7272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54" name="Rectangle 57"/>
            <p:cNvSpPr/>
            <p:nvPr/>
          </p:nvSpPr>
          <p:spPr>
            <a:xfrm>
              <a:off x="2257560" y="4340160"/>
              <a:ext cx="7272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55" name="Rectangle 57"/>
            <p:cNvSpPr/>
            <p:nvPr/>
          </p:nvSpPr>
          <p:spPr>
            <a:xfrm>
              <a:off x="2257560" y="4478400"/>
              <a:ext cx="7272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5080" y="179280"/>
            <a:ext cx="8604360" cy="4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3 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Sensibilização do público e envolvimento da comunidade 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4a4743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4a4743"/>
                </a:solidFill>
                <a:latin typeface="Tahoma"/>
              </a:rPr>
              <a:t>1/2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326880" y="3770280"/>
            <a:ext cx="6438960" cy="24112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 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                   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A nível nacional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A nível subnacional e operacion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6850080" y="3770280"/>
            <a:ext cx="1973160" cy="24112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ponente 5; 7; 9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inistério da Saúde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DC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NICEF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IANPHI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NMEER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Rectangle 61"/>
          <p:cNvSpPr/>
          <p:nvPr/>
        </p:nvSpPr>
        <p:spPr>
          <a:xfrm>
            <a:off x="325440" y="800280"/>
            <a:ext cx="643896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850080" y="800280"/>
            <a:ext cx="197316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Rectangle 63"/>
          <p:cNvSpPr/>
          <p:nvPr/>
        </p:nvSpPr>
        <p:spPr>
          <a:xfrm>
            <a:off x="325440" y="3576600"/>
            <a:ext cx="643896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Rectangle 64"/>
          <p:cNvSpPr/>
          <p:nvPr/>
        </p:nvSpPr>
        <p:spPr>
          <a:xfrm>
            <a:off x="6850080" y="3576600"/>
            <a:ext cx="1973160" cy="23508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Rectangle 25"/>
          <p:cNvSpPr/>
          <p:nvPr/>
        </p:nvSpPr>
        <p:spPr>
          <a:xfrm>
            <a:off x="325440" y="1038240"/>
            <a:ext cx="6438960" cy="2533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Descrição: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pt-PT" sz="900" spc="-1" strike="noStrike">
                <a:solidFill>
                  <a:srgbClr val="4a4743"/>
                </a:solidFill>
                <a:latin typeface="Arial"/>
                <a:ea typeface="Arial"/>
              </a:rPr>
              <a:t>Reduzir a ansiedade através da comunicação de mensagens correctas em termos técnicos à população-alvo e mobilizar as comunidades para identificar casos ao comunicar a importância da notificação rápida de casos suspeitos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Rectangle 26"/>
          <p:cNvSpPr/>
          <p:nvPr/>
        </p:nvSpPr>
        <p:spPr>
          <a:xfrm>
            <a:off x="6848640" y="1038240"/>
            <a:ext cx="1973160" cy="2533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74520" indent="-74520">
              <a:lnSpc>
                <a:spcPct val="85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" spc="-1" strike="noStrike">
              <a:solidFill>
                <a:srgbClr val="eaeaea"/>
              </a:solidFill>
              <a:latin typeface="Tahoma"/>
            </a:endParaRPr>
          </a:p>
          <a:p>
            <a:pPr marL="74520" indent="-7452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m guia para o terreno sobre Comunicação Eficaz dos Meios de Comunicação durante as Emergências de Saúde Públic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74520" indent="-7452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m manual da OMS sobre Comunicação Eficaz dos Meios de Comunicação durante as Emergências de Saúde Públic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74520" indent="-7452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unicação para o Impacto Comportamental – ferramentas COMBI – livro de exercícios no terreno para os passos de planeamento da COMBI na resposta a surtos – UNICEF, FAO, OMS (2012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74520" indent="-7452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unicação para o Impacto Comportamental – ferramentas COMBI – ferramentas para os passos de planeamento da COMBI na resposta a surtos – UNICEF, FAO, OMS (2012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74520" indent="-74520">
              <a:lnSpc>
                <a:spcPct val="85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74520" indent="-74520">
              <a:lnSpc>
                <a:spcPct val="85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77720" y="1482840"/>
          <a:ext cx="6239160" cy="2289240"/>
        </p:xfrm>
        <a:graphic>
          <a:graphicData uri="http://schemas.openxmlformats.org/drawingml/2006/table">
            <a:tbl>
              <a:tblPr/>
              <a:tblGrid>
                <a:gridCol w="338400"/>
                <a:gridCol w="4868640"/>
                <a:gridCol w="511200"/>
                <a:gridCol w="520920"/>
              </a:tblGrid>
              <a:tr h="315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 </a:t>
                      </a:r>
                      <a:r>
                        <a:rPr b="1" i="1" lang="pt-PT" sz="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(dias)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im/N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49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senvolver ou adaptar, rever, traduzir para as línguas locais e divulgar mensagens direccionadas para os meios de comunicação, profissionais de saúde, líderes locais e tradicionais, igrejas, escolas, curandeiros tradicionais e outras partes interessadas da comunidade.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11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e envolver pessoas influentes/principais intervenientes/mobilizadores, como líderes religiosos, políticos, curandeiros tradicionais e meios de comunicação nas áreas urbanas e rurai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15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Mapear as capacidades e competências de comunicação do público dentro dos sectores da saúde e outr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40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Identificar e estabelecer mecanismos para o envolvimento com redes nacionais para a mobilização social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4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</a:tbl>
          </a:graphicData>
        </a:graphic>
      </p:graphicFrame>
      <p:sp>
        <p:nvSpPr>
          <p:cNvPr id="166" name="Rectangle 7"/>
          <p:cNvSpPr/>
          <p:nvPr/>
        </p:nvSpPr>
        <p:spPr>
          <a:xfrm>
            <a:off x="515880" y="4175280"/>
            <a:ext cx="2000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de mob. social/antropólog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em meios de comunicaçã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na saúde comunitári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em relações pública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4 representantes de associações de jornalistas (1 </a:t>
            </a:r>
            <a:r>
              <a:rPr b="0" i="1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blogger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 da saúde, 1 da rádio, 1 da TV, 1 da imprensa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2495520" y="4165560"/>
            <a:ext cx="22366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ssoa focal dos Ministérios da Informação, Educação, Interior/governo local, Saúde, Defesa, Agricultura, Desenvolvimento Rur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representante da comunidade/religião/opinião/jovens/mulheres/líder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68" name="Group 14"/>
          <p:cNvGrpSpPr/>
          <p:nvPr/>
        </p:nvGrpSpPr>
        <p:grpSpPr>
          <a:xfrm>
            <a:off x="488880" y="4245120"/>
            <a:ext cx="73080" cy="623880"/>
            <a:chOff x="488880" y="4245120"/>
            <a:chExt cx="73080" cy="623880"/>
          </a:xfrm>
        </p:grpSpPr>
        <p:sp>
          <p:nvSpPr>
            <p:cNvPr id="169" name="Rectangle 57"/>
            <p:cNvSpPr/>
            <p:nvPr/>
          </p:nvSpPr>
          <p:spPr>
            <a:xfrm>
              <a:off x="488880" y="424512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70" name="Rectangle 57"/>
            <p:cNvSpPr/>
            <p:nvPr/>
          </p:nvSpPr>
          <p:spPr>
            <a:xfrm>
              <a:off x="488880" y="438300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71" name="Rectangle 57"/>
            <p:cNvSpPr/>
            <p:nvPr/>
          </p:nvSpPr>
          <p:spPr>
            <a:xfrm>
              <a:off x="488880" y="45212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72" name="Rectangle 57"/>
            <p:cNvSpPr/>
            <p:nvPr/>
          </p:nvSpPr>
          <p:spPr>
            <a:xfrm>
              <a:off x="488880" y="46594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73" name="Rectangle 57"/>
            <p:cNvSpPr/>
            <p:nvPr/>
          </p:nvSpPr>
          <p:spPr>
            <a:xfrm>
              <a:off x="488880" y="479772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174" name="Group 13"/>
          <p:cNvGrpSpPr/>
          <p:nvPr/>
        </p:nvGrpSpPr>
        <p:grpSpPr>
          <a:xfrm>
            <a:off x="2460600" y="4245120"/>
            <a:ext cx="71640" cy="623880"/>
            <a:chOff x="2460600" y="4245120"/>
            <a:chExt cx="71640" cy="623880"/>
          </a:xfrm>
        </p:grpSpPr>
        <p:sp>
          <p:nvSpPr>
            <p:cNvPr id="175" name="Rectangle 57"/>
            <p:cNvSpPr/>
            <p:nvPr/>
          </p:nvSpPr>
          <p:spPr>
            <a:xfrm>
              <a:off x="2460600" y="424512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76" name="Rectangle 57"/>
            <p:cNvSpPr/>
            <p:nvPr/>
          </p:nvSpPr>
          <p:spPr>
            <a:xfrm>
              <a:off x="2460600" y="479772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77" name="Rectangle 141"/>
          <p:cNvSpPr/>
          <p:nvPr/>
        </p:nvSpPr>
        <p:spPr>
          <a:xfrm>
            <a:off x="503280" y="5378400"/>
            <a:ext cx="200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de mob. social/antropólogo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pessoas dos meios de comunicação locai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rofissional comunitári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Rectangle 142"/>
          <p:cNvSpPr/>
          <p:nvPr/>
        </p:nvSpPr>
        <p:spPr>
          <a:xfrm>
            <a:off x="2484360" y="5216400"/>
            <a:ext cx="23749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2060"/>
                </a:solidFill>
                <a:latin typeface="Arial"/>
                <a:ea typeface="Arial"/>
              </a:rPr>
              <a:t>1 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pessoa focal local dos Ministérios da Informação, Educação, Interior/governo local, Saúde, Defesa, Agricultura, Desenvolvimento Rur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2060"/>
                </a:solidFill>
                <a:latin typeface="Arial"/>
                <a:ea typeface="Arial"/>
              </a:rPr>
              <a:t>1 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representante da comunidade/religião/opinião/jovens/mulheres/líder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79" name="Group 143"/>
          <p:cNvGrpSpPr/>
          <p:nvPr/>
        </p:nvGrpSpPr>
        <p:grpSpPr>
          <a:xfrm>
            <a:off x="477720" y="5450040"/>
            <a:ext cx="71640" cy="345960"/>
            <a:chOff x="477720" y="5450040"/>
            <a:chExt cx="71640" cy="345960"/>
          </a:xfrm>
        </p:grpSpPr>
        <p:sp>
          <p:nvSpPr>
            <p:cNvPr id="180" name="Rectangle 57"/>
            <p:cNvSpPr/>
            <p:nvPr/>
          </p:nvSpPr>
          <p:spPr>
            <a:xfrm>
              <a:off x="477720" y="545004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81" name="Rectangle 57"/>
            <p:cNvSpPr/>
            <p:nvPr/>
          </p:nvSpPr>
          <p:spPr>
            <a:xfrm>
              <a:off x="477720" y="5586480"/>
              <a:ext cx="71640" cy="7272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82" name="Rectangle 57"/>
            <p:cNvSpPr/>
            <p:nvPr/>
          </p:nvSpPr>
          <p:spPr>
            <a:xfrm>
              <a:off x="477720" y="572472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183" name="Group 177"/>
          <p:cNvGrpSpPr/>
          <p:nvPr/>
        </p:nvGrpSpPr>
        <p:grpSpPr>
          <a:xfrm>
            <a:off x="2449440" y="5450040"/>
            <a:ext cx="71640" cy="610920"/>
            <a:chOff x="2449440" y="5450040"/>
            <a:chExt cx="71640" cy="610920"/>
          </a:xfrm>
        </p:grpSpPr>
        <p:sp>
          <p:nvSpPr>
            <p:cNvPr id="184" name="Rectangle 57"/>
            <p:cNvSpPr/>
            <p:nvPr/>
          </p:nvSpPr>
          <p:spPr>
            <a:xfrm>
              <a:off x="2449440" y="545004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85" name="Rectangle 57"/>
            <p:cNvSpPr/>
            <p:nvPr/>
          </p:nvSpPr>
          <p:spPr>
            <a:xfrm>
              <a:off x="2449440" y="598968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86" name="Rectangle 15"/>
          <p:cNvSpPr/>
          <p:nvPr/>
        </p:nvSpPr>
        <p:spPr>
          <a:xfrm>
            <a:off x="4878360" y="4175280"/>
            <a:ext cx="19702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ateriais de IEC (cartazes, megafones, autocolantes de carros, folhetos, panfletos, t-shirts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A aplicação do telemóvel / telemóveis que funcionam a energia solar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2 carrinhas/incentivos ao cinema móve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Rádios locai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Rede de comunicação local (mensagens de igrejas, mesquitas, líderes tradicionais, escolas, associação de quintas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7" name="Rectangle 57"/>
          <p:cNvSpPr/>
          <p:nvPr/>
        </p:nvSpPr>
        <p:spPr>
          <a:xfrm>
            <a:off x="4857840" y="4245120"/>
            <a:ext cx="7128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8" name="Rectangle 57"/>
          <p:cNvSpPr/>
          <p:nvPr/>
        </p:nvSpPr>
        <p:spPr>
          <a:xfrm>
            <a:off x="4857840" y="4659480"/>
            <a:ext cx="7128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Rectangle 57"/>
          <p:cNvSpPr/>
          <p:nvPr/>
        </p:nvSpPr>
        <p:spPr>
          <a:xfrm>
            <a:off x="4857840" y="4946760"/>
            <a:ext cx="71280" cy="712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Rectangle 57"/>
          <p:cNvSpPr/>
          <p:nvPr/>
        </p:nvSpPr>
        <p:spPr>
          <a:xfrm>
            <a:off x="4857840" y="5073480"/>
            <a:ext cx="71280" cy="7164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Rectangle 57"/>
          <p:cNvSpPr/>
          <p:nvPr/>
        </p:nvSpPr>
        <p:spPr>
          <a:xfrm>
            <a:off x="4857840" y="5210280"/>
            <a:ext cx="71280" cy="73080"/>
          </a:xfrm>
          <a:prstGeom prst="rect">
            <a:avLst/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TextBox 3"/>
          <p:cNvSpPr/>
          <p:nvPr/>
        </p:nvSpPr>
        <p:spPr>
          <a:xfrm>
            <a:off x="5207040" y="3513240"/>
            <a:ext cx="149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[…] ver próxima págin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1"/>
          <p:cNvSpPr/>
          <p:nvPr/>
        </p:nvSpPr>
        <p:spPr>
          <a:xfrm>
            <a:off x="324000" y="1006560"/>
            <a:ext cx="6438600" cy="23472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4" name="Rectangle 25"/>
          <p:cNvSpPr/>
          <p:nvPr/>
        </p:nvSpPr>
        <p:spPr>
          <a:xfrm>
            <a:off x="324000" y="1244520"/>
            <a:ext cx="6438600" cy="394020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96720" y="1332000"/>
          <a:ext cx="6293160" cy="3736800"/>
        </p:xfrm>
        <a:graphic>
          <a:graphicData uri="http://schemas.openxmlformats.org/drawingml/2006/table">
            <a:tbl>
              <a:tblPr/>
              <a:tblGrid>
                <a:gridCol w="338400"/>
                <a:gridCol w="4900680"/>
                <a:gridCol w="500040"/>
                <a:gridCol w="554040"/>
              </a:tblGrid>
              <a:tr h="344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 </a:t>
                      </a:r>
                      <a:r>
                        <a:rPr b="1" i="1" lang="pt-PT" sz="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(dias)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im/N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1588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5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4a4743"/>
                          </a:solidFill>
                          <a:latin typeface="Arial"/>
                          <a:ea typeface="Arial"/>
                        </a:rPr>
                        <a:t>Identificar um mecanismo de coordenação de comunicação funcional estabelecido que envolva todos os sectores do governo e outras partes interessadas (incluindo organizações e comunidades da sociedade civil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4452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6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mecanismos de coordenação para colaborar com a comunidade (envolvendo líderes tradicionais, sectores relevantes numa abordagem ascendente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8864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7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mecanismos de coordenação para colaborar com parceiros (por exemplo, ONG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4452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8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laborar uma escala com papéis e responsabilidades claros para as comunicações e porta-vozes internos e extern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4452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9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procedimentos funcionais e atempados para rever, validar e autorizar produtos de informaç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18900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1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e formar porta-vozes e a equipa de comunicaç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4452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1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senvolver uma estratégia, plano e orçamento detalhados para colaborar com os meios de comunicação e com o público (incluindo uma abordagem ascendente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18900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1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um sistema para a monitorização, investigação e resposta a rumore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8864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1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um plano para analisar, rever e monitorizar o impacto da estratégia de comunicaç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37152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1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redes de comunicação fundamentais (TV, rádio, meios de comunicação social, SMS, contadores de histórias, teatros) e planear o uso nas línguas apropriad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152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3.15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mecanismos de monitorização dos meios de comunicação com os instrumentos apropriado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3600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</a:tbl>
          </a:graphicData>
        </a:graphic>
      </p:graphicFrame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520" y="303120"/>
            <a:ext cx="8604360" cy="4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3 – 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Sensibilização do público e envolvimento da comunidade</a:t>
            </a:r>
            <a:r>
              <a:rPr b="0" lang="pt-PT" sz="28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a4743"/>
                </a:solidFill>
                <a:latin typeface="Tahoma"/>
              </a:rPr>
              <a:t>2/2</a:t>
            </a:r>
            <a:endParaRPr b="0" lang="en-US" sz="2800" spc="-1" strike="noStrike">
              <a:solidFill>
                <a:srgbClr val="4a474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5080" y="68040"/>
            <a:ext cx="860436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a4743"/>
                </a:solidFill>
                <a:latin typeface="Tahoma"/>
              </a:rPr>
              <a:t>Componente 4 </a:t>
            </a:r>
            <a:r>
              <a:rPr b="0" lang="pt-PT" sz="3200" spc="-1" strike="noStrike">
                <a:solidFill>
                  <a:srgbClr val="4a4743"/>
                </a:solidFill>
                <a:latin typeface="Tahoma"/>
              </a:rPr>
              <a:t>– </a:t>
            </a:r>
            <a:r>
              <a:rPr b="0" lang="pt-PT" sz="3200" spc="-1" strike="noStrike">
                <a:solidFill>
                  <a:srgbClr val="c00000"/>
                </a:solidFill>
                <a:latin typeface="Tahoma"/>
              </a:rPr>
              <a:t>Prevenção e Controlo de Infecções</a:t>
            </a:r>
            <a:endParaRPr b="0" lang="en-US" sz="3200" spc="-1" strike="noStrike">
              <a:solidFill>
                <a:srgbClr val="4a4743"/>
              </a:solidFill>
              <a:latin typeface="Tahoma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336600" y="3683160"/>
            <a:ext cx="6437160" cy="24112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Recursos Humanos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PT" sz="900" spc="-1" strike="noStrike">
                <a:solidFill>
                  <a:srgbClr val="002060"/>
                </a:solidFill>
                <a:latin typeface="Arial"/>
              </a:rPr>
              <a:t>                      </a:t>
            </a: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Materiais e Equipament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A nível nacion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pt-PT" sz="900" spc="-1" strike="noStrike">
                <a:solidFill>
                  <a:srgbClr val="002060"/>
                </a:solidFill>
                <a:latin typeface="Arial"/>
              </a:rPr>
              <a:t>Nível subnacional em cada uma das áreas de risco elevado</a:t>
            </a:r>
            <a:r>
              <a:rPr b="0" i="1" lang="en-US" sz="900" spc="-1" strike="noStrike">
                <a:solidFill>
                  <a:srgbClr val="00206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6859440" y="3683160"/>
            <a:ext cx="1973520" cy="24112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Com outros componentes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omponentes 2; 5; 6; 7; 8; 9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Apoio fornecido por: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Ministéri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M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DC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NICEF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UNMEER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lvl="1" marL="264960" indent="-17136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Etc.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0" name="Rectangle 61"/>
          <p:cNvSpPr/>
          <p:nvPr/>
        </p:nvSpPr>
        <p:spPr>
          <a:xfrm>
            <a:off x="334800" y="617400"/>
            <a:ext cx="643896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Descrição e tarefa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6859440" y="617400"/>
            <a:ext cx="197352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Principais documentos de referência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2" name="Rectangle 63"/>
          <p:cNvSpPr/>
          <p:nvPr/>
        </p:nvSpPr>
        <p:spPr>
          <a:xfrm>
            <a:off x="334800" y="3444840"/>
            <a:ext cx="6438960" cy="235080"/>
          </a:xfrm>
          <a:prstGeom prst="rect">
            <a:avLst/>
          </a:prstGeom>
          <a:solidFill>
            <a:srgbClr val="1e7fb8"/>
          </a:solidFill>
          <a:ln w="936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3" name="Rectangle 64"/>
          <p:cNvSpPr/>
          <p:nvPr/>
        </p:nvSpPr>
        <p:spPr>
          <a:xfrm>
            <a:off x="6859440" y="3444840"/>
            <a:ext cx="1973520" cy="235080"/>
          </a:xfrm>
          <a:prstGeom prst="rect">
            <a:avLst/>
          </a:prstGeom>
          <a:solidFill>
            <a:srgbClr val="1e7fb8"/>
          </a:solidFill>
          <a:ln w="6480">
            <a:solidFill>
              <a:srgbClr val="009d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Arial"/>
              </a:rPr>
              <a:t>Ligações</a:t>
            </a:r>
            <a:endParaRPr b="0" lang="en-US" sz="1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4" name="Rectangle 25"/>
          <p:cNvSpPr/>
          <p:nvPr/>
        </p:nvSpPr>
        <p:spPr>
          <a:xfrm>
            <a:off x="334800" y="855720"/>
            <a:ext cx="6438960" cy="2533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5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pt-PT" sz="900" spc="-1" strike="noStrike" u="sng">
                <a:solidFill>
                  <a:srgbClr val="002060"/>
                </a:solidFill>
                <a:uFillTx/>
                <a:latin typeface="Arial"/>
              </a:rPr>
              <a:t>Descrição:</a:t>
            </a: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 Sensibilizar e reforçar a capacidade de todos os envolvidos na preparação para o facto que existem medidas importantes para prevenir as infecções e controlar a EVD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Rectangle 26"/>
          <p:cNvSpPr/>
          <p:nvPr/>
        </p:nvSpPr>
        <p:spPr>
          <a:xfrm>
            <a:off x="6858000" y="855720"/>
            <a:ext cx="1973160" cy="2533680"/>
          </a:xfrm>
          <a:prstGeom prst="rect">
            <a:avLst/>
          </a:prstGeom>
          <a:noFill/>
          <a:ln w="9360">
            <a:solidFill>
              <a:srgbClr val="004f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Orientações provisórias da OMS para a Prevenção e Controlo de Infecções nos cuidados de doentes com Febre Hemorrágica de Filovírus nos Contextos dos Cuidados de Saúde, com foco no Ébola, 2014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Resumo das Orientações provisórias da OMS para a Prevenção e Controlo de Infecções (2014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 marL="85680" indent="-856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</a:rPr>
              <a:t>Cartaz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49280" y="1228680"/>
          <a:ext cx="6292800" cy="2367000"/>
        </p:xfrm>
        <a:graphic>
          <a:graphicData uri="http://schemas.openxmlformats.org/drawingml/2006/table">
            <a:tbl>
              <a:tblPr/>
              <a:tblGrid>
                <a:gridCol w="338040"/>
                <a:gridCol w="4508640"/>
                <a:gridCol w="593640"/>
                <a:gridCol w="852480"/>
              </a:tblGrid>
              <a:tr h="315720"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arefas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Até (dias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Sim/Não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3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4.1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ornecer as unidades de saúde com higiene básica, saneamento, equipamento de desinfecção/protecção e cartazes. Deve ser dada prioridade aos hospitais; depois aos centros de saúde em áreas de risco elevado (começar aos 30 dias e cobrir distritos prioritários em 60 dias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 – 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73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4.2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umentar a sensibilização geral sobre a higiene e como implementar de forma eficaz a prevenção e controlo de infecções (começar aos 30 dias e completar em 60 dias para os distritos prioritários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 – 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73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4.3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dentificar as unidades de saúde para criar unidades básicas de isolamento (2 camas) para os casos suspeitos em todos os principais hospitais e todos os pontos fronteiriços (idealmente hospitais regionais e distritais)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ff9e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473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eaeaea"/>
                          </a:solidFill>
                          <a:latin typeface="Arial"/>
                          <a:ea typeface="Calibri"/>
                        </a:rPr>
                        <a:t>4.4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iar um pacote de indemnizações e benefícios para os profissionais de saúde para: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emuneração e motivação para tarefas de risco elevado; 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m caso de infecção e morte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ctr" marL="57240" marR="57240">
                    <a:lnL w="5760">
                      <a:solidFill>
                        <a:srgbClr val="d3d3d3"/>
                      </a:solidFill>
                    </a:lnL>
                    <a:lnR w="5760">
                      <a:solidFill>
                        <a:srgbClr val="d3d3d3"/>
                      </a:solidFill>
                    </a:lnR>
                    <a:lnT w="5760">
                      <a:solidFill>
                        <a:srgbClr val="d3d3d3"/>
                      </a:solidFill>
                    </a:lnT>
                    <a:lnB w="5760">
                      <a:solidFill>
                        <a:srgbClr val="d3d3d3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207" name="Rectangle 7"/>
          <p:cNvSpPr/>
          <p:nvPr/>
        </p:nvSpPr>
        <p:spPr>
          <a:xfrm>
            <a:off x="525600" y="4016520"/>
            <a:ext cx="17967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na prevenção e controlo de infecçõ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em água e saneamento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na promoçã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2325600" y="4006800"/>
            <a:ext cx="15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administrador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especialista em logística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 perito em saúde ambient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209" name="Group 14"/>
          <p:cNvGrpSpPr/>
          <p:nvPr/>
        </p:nvGrpSpPr>
        <p:grpSpPr>
          <a:xfrm>
            <a:off x="498600" y="4086360"/>
            <a:ext cx="73080" cy="485640"/>
            <a:chOff x="498600" y="4086360"/>
            <a:chExt cx="73080" cy="485640"/>
          </a:xfrm>
        </p:grpSpPr>
        <p:sp>
          <p:nvSpPr>
            <p:cNvPr id="210" name="Rectangle 57"/>
            <p:cNvSpPr/>
            <p:nvPr/>
          </p:nvSpPr>
          <p:spPr>
            <a:xfrm>
              <a:off x="498600" y="408636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11" name="Rectangle 57"/>
            <p:cNvSpPr/>
            <p:nvPr/>
          </p:nvSpPr>
          <p:spPr>
            <a:xfrm>
              <a:off x="498600" y="43624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12" name="Rectangle 57"/>
            <p:cNvSpPr/>
            <p:nvPr/>
          </p:nvSpPr>
          <p:spPr>
            <a:xfrm>
              <a:off x="498600" y="450072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213" name="Group 13"/>
          <p:cNvGrpSpPr/>
          <p:nvPr/>
        </p:nvGrpSpPr>
        <p:grpSpPr>
          <a:xfrm>
            <a:off x="2289240" y="4086360"/>
            <a:ext cx="73080" cy="347400"/>
            <a:chOff x="2289240" y="4086360"/>
            <a:chExt cx="73080" cy="347400"/>
          </a:xfrm>
        </p:grpSpPr>
        <p:sp>
          <p:nvSpPr>
            <p:cNvPr id="214" name="Rectangle 57"/>
            <p:cNvSpPr/>
            <p:nvPr/>
          </p:nvSpPr>
          <p:spPr>
            <a:xfrm>
              <a:off x="2289240" y="408636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15" name="Rectangle 57"/>
            <p:cNvSpPr/>
            <p:nvPr/>
          </p:nvSpPr>
          <p:spPr>
            <a:xfrm>
              <a:off x="2289240" y="422424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16" name="Rectangle 57"/>
            <p:cNvSpPr/>
            <p:nvPr/>
          </p:nvSpPr>
          <p:spPr>
            <a:xfrm>
              <a:off x="2289240" y="4362480"/>
              <a:ext cx="730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217" name="Rectangle 141"/>
          <p:cNvSpPr/>
          <p:nvPr/>
        </p:nvSpPr>
        <p:spPr>
          <a:xfrm>
            <a:off x="512640" y="4902120"/>
            <a:ext cx="27655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édic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Enfermeir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Profissional de protecção e controlo de infecçõ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Pessoas de promoção da saúde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Pessoas da saúde ambiental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218" name="Group 143"/>
          <p:cNvGrpSpPr/>
          <p:nvPr/>
        </p:nvGrpSpPr>
        <p:grpSpPr>
          <a:xfrm>
            <a:off x="487440" y="4971960"/>
            <a:ext cx="71280" cy="623880"/>
            <a:chOff x="487440" y="4971960"/>
            <a:chExt cx="71280" cy="623880"/>
          </a:xfrm>
        </p:grpSpPr>
        <p:sp>
          <p:nvSpPr>
            <p:cNvPr id="219" name="Rectangle 57"/>
            <p:cNvSpPr/>
            <p:nvPr/>
          </p:nvSpPr>
          <p:spPr>
            <a:xfrm>
              <a:off x="487440" y="49719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20" name="Rectangle 57"/>
            <p:cNvSpPr/>
            <p:nvPr/>
          </p:nvSpPr>
          <p:spPr>
            <a:xfrm>
              <a:off x="487440" y="510984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21" name="Rectangle 57"/>
            <p:cNvSpPr/>
            <p:nvPr/>
          </p:nvSpPr>
          <p:spPr>
            <a:xfrm>
              <a:off x="487440" y="52480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22" name="Rectangle 57"/>
            <p:cNvSpPr/>
            <p:nvPr/>
          </p:nvSpPr>
          <p:spPr>
            <a:xfrm>
              <a:off x="487440" y="538632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23" name="Rectangle 57"/>
            <p:cNvSpPr/>
            <p:nvPr/>
          </p:nvSpPr>
          <p:spPr>
            <a:xfrm>
              <a:off x="487440" y="55245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224" name="Rectangle 15"/>
          <p:cNvSpPr/>
          <p:nvPr/>
        </p:nvSpPr>
        <p:spPr>
          <a:xfrm>
            <a:off x="4021200" y="3822840"/>
            <a:ext cx="275904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Unidades de isolamento nos principais hospitais (pelo menos 2 camas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Instalações de gestão de resídu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Materiais de formação e auxiliares de trabalho, por exemplo, formação/cartazes sobre higiene das mãos, precauções convencionais, produção local ou aquisição de soluções para as mãos à base de álcool, preparação e uso de soluções cloradas, esterilização, etc. 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100 conjuntos de EPP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Higiene básica, saneamento, desinfecção e equipamento de protecção (luvas, sabão, solução à base de álcool, água clorada, desinfectante, eliminação de resíduos, etc.)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Abastecimentos médic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Incentivo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2060"/>
                </a:solidFill>
                <a:latin typeface="Arial"/>
                <a:ea typeface="Arial"/>
              </a:rPr>
              <a:t>Incineradores</a:t>
            </a:r>
            <a:endParaRPr b="0" lang="en-US" sz="9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225" name="Group 183"/>
          <p:cNvGrpSpPr/>
          <p:nvPr/>
        </p:nvGrpSpPr>
        <p:grpSpPr>
          <a:xfrm>
            <a:off x="3987720" y="3900600"/>
            <a:ext cx="71640" cy="1170000"/>
            <a:chOff x="3987720" y="3900600"/>
            <a:chExt cx="71640" cy="1170000"/>
          </a:xfrm>
        </p:grpSpPr>
        <p:sp>
          <p:nvSpPr>
            <p:cNvPr id="226" name="Rectangle 57"/>
            <p:cNvSpPr/>
            <p:nvPr/>
          </p:nvSpPr>
          <p:spPr>
            <a:xfrm>
              <a:off x="3987720" y="390060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27" name="Rectangle 57"/>
            <p:cNvSpPr/>
            <p:nvPr/>
          </p:nvSpPr>
          <p:spPr>
            <a:xfrm>
              <a:off x="3987720" y="404640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28" name="Rectangle 57"/>
            <p:cNvSpPr/>
            <p:nvPr/>
          </p:nvSpPr>
          <p:spPr>
            <a:xfrm>
              <a:off x="3987720" y="4183200"/>
              <a:ext cx="71640" cy="7272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29" name="Rectangle 57"/>
            <p:cNvSpPr/>
            <p:nvPr/>
          </p:nvSpPr>
          <p:spPr>
            <a:xfrm>
              <a:off x="3987720" y="4999320"/>
              <a:ext cx="7164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230" name="Group 50"/>
          <p:cNvGrpSpPr/>
          <p:nvPr/>
        </p:nvGrpSpPr>
        <p:grpSpPr>
          <a:xfrm>
            <a:off x="3986280" y="5129280"/>
            <a:ext cx="71280" cy="901800"/>
            <a:chOff x="3986280" y="5129280"/>
            <a:chExt cx="71280" cy="901800"/>
          </a:xfrm>
        </p:grpSpPr>
        <p:sp>
          <p:nvSpPr>
            <p:cNvPr id="231" name="Rectangle 57"/>
            <p:cNvSpPr/>
            <p:nvPr/>
          </p:nvSpPr>
          <p:spPr>
            <a:xfrm>
              <a:off x="3986280" y="512928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32" name="Rectangle 57"/>
            <p:cNvSpPr/>
            <p:nvPr/>
          </p:nvSpPr>
          <p:spPr>
            <a:xfrm>
              <a:off x="3986280" y="568332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33" name="Rectangle 57"/>
            <p:cNvSpPr/>
            <p:nvPr/>
          </p:nvSpPr>
          <p:spPr>
            <a:xfrm>
              <a:off x="3986280" y="582156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34" name="Rectangle 57"/>
            <p:cNvSpPr/>
            <p:nvPr/>
          </p:nvSpPr>
          <p:spPr>
            <a:xfrm>
              <a:off x="3986280" y="5959800"/>
              <a:ext cx="71280" cy="712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rm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21:40:42Z</dcterms:created>
  <dc:creator>Sonbol Shahid-Salles</dc:creator>
  <dc:description/>
  <dc:language>en-US</dc:language>
  <cp:lastModifiedBy>User</cp:lastModifiedBy>
  <cp:lastPrinted>2014-10-17T13:29:24Z</cp:lastPrinted>
  <dcterms:modified xsi:type="dcterms:W3CDTF">2014-11-30T12:40:30Z</dcterms:modified>
  <cp:revision>346</cp:revision>
  <dc:subject/>
  <dc:title>PowerPoint Presentation</dc:title>
</cp:coreProperties>
</file>