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A7F-5F70-4869-AA46-85BBF243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ACOTE DE FORMAÇÃO DE PREPARAÇÃO E RESPOSTA À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pacidades nos Pontos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A96-51BE-4592-8986-752D75D6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E of departur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PE de partida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embarkation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embarque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On board conveyanc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transporte a bordo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transit between flights or stopover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trânsito entre vôos ou paragens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At PoE of destination (desembarkation)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PE de destino (desembarque)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 ;  After travel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Após a viagem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24EF-4A4D-435E-9BC1-CC3E7AFB0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2B5-0336-45D0-91C2-37866C4E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F6E-08B6-4176-BE89-22860E50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ACF-35FA-4C74-B602-F2C6A75F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972-FF73-4B94-8107-BF64E853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306-E7F5-45E0-A514-AA8C564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348-2326-4B5E-B287-AC660071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096-3A3F-432D-B846-E00E392B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06E-4E5C-48AE-BB16-B977E8B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E24-6438-4AC7-8FA3-BE38FC6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FD7-D8DF-4086-AFD1-7D515B1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3BB-8E30-4997-8E7F-14B0DC3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5B5-7960-4B76-94C7-F753A95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04D7-326A-4064-9D7E-8D26311A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FDA8B07-2B6F-4230-8663-339A2E5D2D1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apacidades nos Pontos de Entr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treio da EVD no Ponto de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764640"/>
            <a:ext cx="8642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chegada de países afectados pela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a trabalhar em PE deverá observar os passageiros e detectar sinais e sintomas da do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as pessoas chegadas de países afectados pela EVD deverão fornecer informações sobre o seu contacto e endereço fís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e-á o controlo da temperatura dos passageiros oriundos de países afectados pela EVD (opc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uncionários de saúde deverão dar informações sobre a EVD e números telefónicos das Emergências, aconselhando a automonitorização dos sinais e sintomas de E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3. Dispositivos médicos usados para rastr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de rastr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ómetros de infravermelh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e flux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361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Outro material: 9 Conjuntos completos PPE no equipamento médico de cada PE para vigiar os c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Termómetros manuais de infravermelhos, 1 Scanner, 2 salas de obser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2 salas e material sanitário para um isolamento seguro e observação de casos suspeitos, se possível em salas separadas, caso contrário numa área sepa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Em função da localização geográfica, 1 ambulância no 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4. Instalações, Equipamento 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sagens-C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484280"/>
            <a:ext cx="8518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deverá haver nenhuma proibição geral nos transportes ou no comércio internacional, nem à saída nem à entrada nos países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fornecer aos passageiros para países e zonas afectadas pelo Ébola informações relevantes sobre os ris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estar preparados para detectar, investigar e tratar casos de Ébola e ter ainda a capacidade de tratar os passageiros oriundos de conhecidas zonas infectadas pelo Ébola, que cheguem aos PE com doença febril inexpl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rá ser dada informação rigorosa e relevante ao público em geral acerca do surto do Ébola e das medidas para reduzir o risco de ex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ências e outras orient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 de Orientações para Rastreio de Saída do Ébola - OMS, Setembro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s riscos de viagens e transportes: Orientações internas para autoridades de saúde pública e do sector dos trans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ções internas da OMS para Gestão de Eventos de Ébola nos Pontos de Entrada, Setembro 20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os da Aprendizag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inal da sessão, os participantes deverão saber rastrear os passageiros para a EVD, nos pontos de Saída e de Entr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jectivos Interméd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1: Compreender a finalidade do rastreio dos passageiros para a EVD, nos Pontos de Entrada (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2: Familiar-se com o necessário processo de rastreio da EVD nos 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3. Conhecer os instrumentos usados para rastrear nos Pontos de Entr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4. Conhecer as instalações, POP, equipamento, e material necessário nos Pontos de Ent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1: Finalidade do rastreio para a EVD no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huma pessoa com uma doença consistente com o Ébola deverá ser autorizada a viajar, a menos que essa viagem faça parte de uma evacuação médica adequ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.ª Margaret Chan, Directora-Geral da OMS,8 de Agosto de 2014, Gen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lidade do rastre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planos de Emergência de Saúde Pública (ESP) e os POP deverão ser implementados nos Pontos de Entrada (PE) designados. A finalidade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necer uma detecção precoce das pessoas potencialmente infectadas, isoladas e tratar os caso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r as recomendações da OMS relativas à prevenção e controlo da EV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ir a propagação internacional da doença, permitindo às autoridades que evitem restrições e atrasos desnecessários nos 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ntenciais pontos de detecção e notificação de riscos para a saúde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bjectivo 2: Processo de rastreio à Saída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íses com transmissão do Ébola deverão efectuar um rastreio à saída para todas as pessoas, nos aeroportos internacionais, portos marítimos e principais fronteiras terrestres, para doenças febris não explicadas consistentes com potencial infecção pelo É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 aeroportos, os rastreios deverão ser feitos no primeiro controlo de segurança, antes do balcão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eck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mínim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est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dispositivo para medir 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ouver febre, avaliação do risco da febre ser causada por E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privado para identificar passageiros em risco de exposição e com sinais de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assageiros deverão preencher um questionário sanitário para detectar o risco de ex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l formado a trabalhar no PE para observar os passageiros e detectar sinais e sintomas da 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o da temperatura para todos os passagei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um passageiro tiver febre ou estiver em risco de exposição, deverá fazer um segundo rastr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secundário para uma avaliação mais profunda do risco de exposição/infecção de passageiros, por pessoal formado em saúde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identificadas com suspeitas de infecção /exposição à EVD são avaliadas pelos sinais e sintomas por pessoal formado em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em saúde pública procederá a uma entrevista de saúde pública (questionário mais aprofundado) e repetirá o controlo d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o rastreio secundário, o funcionário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úde pública poderá liberar o passageiro ou transferi-lo para as autoridades médicas de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rocesso de rastreio: Transferência para as autoridades </a:t>
            </a:r>
            <a:r>
              <a:rPr b="1" lang="pt-PT" sz="2900" spc="-1" strike="noStrike">
                <a:solidFill>
                  <a:srgbClr val="000000"/>
                </a:solidFill>
                <a:latin typeface="Arial"/>
              </a:rPr>
              <a:t>sanitár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decisão do funcionário de saúde pública for transfer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r transporte para o estabelecimento de saúde e notificar as autoridades d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ôr o passageiro em causa na lista de restrições de vi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processo de rastreio à saída deverá ser acompanhado de uma extensa campanha de sensibilização do público para esta questão de saúde pú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Ana</cp:lastModifiedBy>
  <cp:lastPrinted>2013-10-01T07:19:12Z</cp:lastPrinted>
  <dcterms:modified xsi:type="dcterms:W3CDTF">2014-11-24T13:03:58Z</dcterms:modified>
  <cp:revision>364</cp:revision>
  <dc:subject/>
  <dc:title>DPC Training and Technical Update</dc:title>
</cp:coreProperties>
</file>