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4BAC-A2AD-4ECF-9730-EBC5F8863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PACOTE DE FORMAÇÃO DE PREPARAÇÃO E RESPOSTA À E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Capacidades nos Pontos de En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arcador de Posição do Número do Diapositivo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2F76-9692-48E4-B0C2-E30F7D36A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PoE of departure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PE de partida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During embarkation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Durante o embarque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On board conveyance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No transporte a bordo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During transit between flights or stopover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Durante o trânsito entre vôos ou paragens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;  At PoE of destination (desembarkation)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No PE de destino (desembarque)</a:t>
            </a:r>
            <a:r>
              <a:rPr b="0" lang="pt-PT" sz="1200" spc="-1" strike="noStrike">
                <a:solidFill>
                  <a:srgbClr val="ff0000"/>
                </a:solidFill>
                <a:latin typeface="Arial"/>
              </a:rPr>
              <a:t> ;  After travel = </a:t>
            </a: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Após a viagem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arcador de Posição do Número do Diapositivo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1C60-C995-4464-907D-47A5F9D19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2CC-0ED2-4266-BB62-3353890C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DAD-4D34-4EA4-9F57-569E9C37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7F8-CC9B-4070-97BD-3878ECF0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BB2-02BA-4D05-98C4-472082E2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3B6-8967-4172-8EFA-EDF714ED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D7E-BC22-46FF-8892-8FBAEFFB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A41-EDC9-42ED-8A92-4F31C386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6037-29D9-444B-AFBA-8F50400F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F612-ACFA-40ED-95D1-F0882F44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59EF-DF4E-4E68-AC91-117ED643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0F11-13A6-40CA-BC84-FC4ACAC9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4687-0ACB-4D0F-B66A-62B83E5C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39C9-5619-4BC8-A37A-E69EACF6B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A7A6A19-2A97-46F4-80DB-08723B68C1D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2205000"/>
            <a:ext cx="9144000" cy="1657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apacidades nos Pontos de Entr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streio da EVD no Ponto de Entr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0920" y="764640"/>
            <a:ext cx="86421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À chegada de países afectados pela EV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essoal formado a trabalhar em PE deverá observar os passageiros e detectar sinais e sintomas da doenç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s as pessoas chegadas de países afectados pela EVD deverão fornecer informações sobre o seu contacto e endereço fís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-se-á o controlo da temperatura dos passageiros oriundos de países afectados pela EVD (opc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funcionários de saúde deverão dar informações sobre a EVD e números telefónicos das Emergências, aconselhando a automonitorização dos sinais e sintomas de EV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o 3. Dispositivos médicos usados para rastre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s de rastre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ómetros de infravermelh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 e fluxogra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36104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4920" y="10526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Outro material: 9 Conjuntos completos PPE no equipamento médico de cada PE para vigiar os ca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Termómetros manuais de infravermelhos, 1 Scanner, 2 salas de observ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2 salas e material sanitário para um isolamento seguro e observação de casos suspeitos, se possível em salas separadas, caso contrário numa área separ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Em função da localização geográfica, 1 ambulância no 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o 4. Instalações, Equipamento 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nsagens-Cha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78920" y="1484280"/>
            <a:ext cx="85186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ão deverá haver nenhuma proibição geral nos transportes ou no comércio internacional, nem à saída nem à entrada nos países afect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 países deverão fornecer aos passageiros para países e zonas afectadas pelo Ébola informações relevantes sobre os ris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 países deverão estar preparados para detectar, investigar e tratar casos de Ébola e ter ainda a capacidade de tratar os passageiros oriundos de conhecidas zonas infectadas pelo Ébola, que cheguem aos PE com doença febril inexplic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rá ser dada informação rigorosa e relevante ao público em geral acerca do surto do Ébola e das medidas para reduzir o risco de exposi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erências e outras orient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ote de Orientações para Rastreio de Saída do Ébola - OMS, Setembro 20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liação dos riscos de viagens e transportes: Orientações internas para autoridades de saúde pública e do sector dos transpo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entações internas da OMS para Gestão de Eventos de Ébola nos Pontos de Entrada, Setembro 20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os da Aprendizag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o G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 final da sessão, os participantes deverão saber rastrear os passageiros para a EVD, nos pontos de Saída e de Entra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bjectivos Intermédio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1: Compreender a finalidade do rastreio dos passageiros para a EVD, nos Pontos de Entrada (P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2: Familiar-se com o necessário processo de rastreio da EVD nos 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3. Conhecer os instrumentos usados para rastrear nos Pontos de Entrad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ctivo 4. Conhecer as instalações, POP, equipamento, e material necessário nos Pontos de Entrad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ctivo 1: Finalidade do rastreio para a EVD nos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nhuma pessoa com uma doença consistente com o Ébola deverá ser autorizada a viajar, a menos que essa viagem faça parte de uma evacuação médica adequa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.ª Margaret Chan, Directora-Geral da OMS,8 de Agosto de 2014, Gen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nalidade do rastrei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 planos de Emergência de Saúde Pública (ESP) e os POP deverão ser implementados nos Pontos de Entrada (PE) designados. A finalidade 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necer uma detecção precoce das pessoas potencialmente infectadas, isoladas e tratar os casos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ar as recomendações da OMS relativas à prevenção e controlo da EV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venir a propagação internacional da doença, permitindo às autoridades que evitem restrições e atrasos desnecessários nos 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86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ntenciais pontos de detecção e notificação de riscos para a saúde 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856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Objectivo 2: Processo de rastreio à Saída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12500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países com transmissão do Ébola deverão efectuar um rastreio à saída para todas as pessoas, nos aeroportos internacionais, portos marítimos e principais fronteiras terrestres, para doenças febris não explicadas consistentes com potencial infecção pelo Éb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s aeroportos, os rastreios deverão ser feitos no primeiro controlo de segurança, antes do balcão d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heck-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requisitos mínimos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question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dispositivo para medir a 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houver febre, avaliação do risco da febre ser causada por EV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85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o de rastreio: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Rastreio de Saíd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streio privado para identificar passageiros em risco de exposição e com sinais de EV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passageiros deverão preencher um questionário sanitário para detectar o risco de expos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soal formado a trabalhar no PE para observar os passageiros e detectar sinais e sintomas da doe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o da temperatura para todos os passageir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 um passageiro tiver febre ou estiver em risco de exposição, deverá fazer um segundo rastre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o de rastreio: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Rastreio de Saí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streio secundário para uma avaliação mais profunda do risco de exposição/infecção de passageiros, por pessoal formado em saúde públ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essoas identificadas com suspeitas de infecção /exposição à EVD são avaliadas pelos sinais e sintomas por pessoal formado em saúde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essoal formado em saúde pública procederá a uma entrevista de saúde pública (questionário mais aprofundado) e repetirá o controlo da temper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 base no rastreio secundário, o funcionário 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úde pública poderá liberar o passageiro ou transferi-lo para as autoridades médicas de saúde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rocesso de rastreio: Transferência para as autoridades </a:t>
            </a:r>
            <a:r>
              <a:rPr b="1" lang="pt-PT" sz="2900" spc="-1" strike="noStrike">
                <a:solidFill>
                  <a:srgbClr val="000000"/>
                </a:solidFill>
                <a:latin typeface="Arial"/>
              </a:rPr>
              <a:t>sanitári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056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a decisão do funcionário de saúde pública for transfer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r transporte para o estabelecimento de saúde e notificar as autoridades de saúde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ôr o passageiro em causa na lista de restrições de viag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 processo de rastreio à saída deverá ser acompanhado de uma extensa campanha de sensibilização do público para esta questão de saúde públ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Ana</cp:lastModifiedBy>
  <cp:lastPrinted>2013-10-01T07:19:12Z</cp:lastPrinted>
  <dcterms:modified xsi:type="dcterms:W3CDTF">2014-11-24T13:03:58Z</dcterms:modified>
  <cp:revision>364</cp:revision>
  <dc:subject/>
  <dc:title>DPC Training and Technical Update</dc:title>
</cp:coreProperties>
</file>