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DD7E-06EE-4BF5-A401-39B9D366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33CD-813A-43D4-92E4-31CDBC21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A821-3028-4597-A840-A0CB8A34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F37-74A5-4B16-8FD9-6DCCB41B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729-D291-413B-A257-B2454E29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D26-49E1-4690-B2FA-F40F9F3B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95F-1472-4E0D-BA38-61A5FC05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B26-1CF0-4EB4-BD42-77379375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71C-571E-47A8-A6D8-0FB5874B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F01-2070-464B-9156-067C17BA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C6B3-1842-4227-ACC5-365994C9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2DC-70FA-48BF-B4B3-7270125A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A14-A758-4E49-9068-FBB76EB1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5F59-83AD-41C3-838F-AF6E3623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2770-4F9B-44DE-B36F-228B03F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D94D-8FD9-4475-B14D-8D8BB3A0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8CC3-FACD-40D8-BABA-AD76103E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8BB-D4BD-46EA-BEDD-72F6464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5469-14BD-4FAF-8F98-93AE7DBE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66E8-41F5-42BF-97C6-14933EA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B580-AF4E-4692-946F-55B0590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F813-8984-443B-87B8-A252EBE0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F47A-0C1B-4486-A872-7BB27306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224-A46A-4F59-BD34-631DC8D9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5C6-7651-4352-864D-71784705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EDD-31FC-4A90-8AAC-0D1C3F5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B88-D0D7-4FF2-8D06-43AAA8B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127-A4E8-4A0E-9E58-1CC12A5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3A8-3F24-44F7-8210-A6210F0B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1FB-0C7E-47B1-860C-6005D08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E6C4-9635-4CAB-BF6B-FE3E773DA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D9531C3-946B-4A05-AE46-12683AF140E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CD18A37-1600-4E90-88E2-3DA7623A2F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B9E3-820E-4ECE-A85C-8BBD37119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Coordenação G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130320"/>
            <a:ext cx="8589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de coordenação técnica e científica internacional para coordenar as medidas de controlo da epidemia que será responsável pela organização das actividades diárias das equipas n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 de um EOC/IMC de E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65040" y="981000"/>
            <a:ext cx="7907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peracionalização do EOC/I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car e nomear pessoal para diferentes áre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riar o espaço para o E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er termos de referência e actividades prioritárias para orientar o trabalho de cada área temática (Grupo de Acção do Ébola: ET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ocar pessoal, desenvolver listas de materiais e necessidades financeiras, assim como um plano operacional com objectivos definidos (grupos de áreas temátic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ver e aprovar os planos operacionais (ETF) e os recursos necessá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mear parceiros técnicos para as várias áreas temáticas com base nas suas compet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3622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MISSÃO DE COORDENAÇÃO LOCAL (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0160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tura da Comissão de Coordenação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CCL está dividida em subcomissões que reflectem os princípios básicos de combate à EVD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igilância e 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estão de casos e controlo de infec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ção social 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psicos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Ebola July 2014 documents_YZ\SLE EBOLA RESPONSE PHOTO LIBRARY\12 WHO Mobile lab equipment for Kailahun ebola outbreak_WHO Saffea Gborie.jpg"/>
          <p:cNvPicPr/>
          <p:nvPr/>
        </p:nvPicPr>
        <p:blipFill>
          <a:blip r:embed="rId1"/>
          <a:stretch/>
        </p:blipFill>
        <p:spPr>
          <a:xfrm>
            <a:off x="4648320" y="2276640"/>
            <a:ext cx="43974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Com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idente do Conselh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o-assistente local / Equipa de Gestão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elheiros, Técnicos Distr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sup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Depart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Agências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resentante das Organizações da Sociedad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íderes Relig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ções Internacionais, Nacionais e Parceiros Locais (OMS, CDC, MSF, ONG, Organizações com base na Comunidad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Pa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 todos os aspectos de coordenação da resposta no terreno de acordo com as directivas d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voca reuniões diárias para coordenar a resposta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 e aloca recursos para a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duz relatórios de situação diários e comunica com 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aliza quaisquer outras funções atribuídas pel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PT" sz="4400" spc="-1" strike="noStrike">
                <a:solidFill>
                  <a:srgbClr val="ffffff"/>
                </a:solidFill>
                <a:latin typeface="Arial"/>
              </a:rPr>
              <a:t>Obrig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s Ministros da Saúde e outros líderes sanitários devem assumir um papel de liderança proeminente na coordenação e implementação das medidas de resposta de emergência ao Ébola…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laração da Directora-Geral da OMS na Reunião da Comissão de Emergência do RSI relativamente ao Surto do Ébola na África Ocidental de 2014. 8 de Agosto de 2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4464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final da sessão, os participantes devem dominar a coordenação da preparação e resposta à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268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s Inter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missão de coordenação sobre 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umir as actividades da comissão de coordenação a nível distrital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ornecer um exemplo de um EOC/I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multissec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nacional de coordenaçã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xemplo de EOC/I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de Coordenação Local (Distrita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 e taref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: Estratégia mult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9440" y="1114560"/>
            <a:ext cx="66945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rutura da Comissão Nacional de Coordenação (ET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19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Nacional de Coordenação: Composiçã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a Comissão Nacional de Coorden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apel da comissão é assegurar a coordenação geral das operações, actividades de prevenção e controlo de epidemias e mobilização de recurso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do Ébol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9:34Z</dcterms:modified>
  <cp:revision>234</cp:revision>
  <dc:subject/>
  <dc:title>DPC Training and Technical Update</dc:title>
</cp:coreProperties>
</file>