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1469-A538-43A6-AA13-10073A4E8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ACOTE DE FORMAÇÃO DE PREPARAÇÃO E RESPOSTA À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Capacidades nos Pontos de En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Posição do Número do Diapositivo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B38C-097F-4C56-94C4-C2C82D988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oE of departure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PE de partida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During embarkation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Durante o embarque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On board conveyance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No transporte a bordo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During transit between flights or stopover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Durante o trânsito entre vôos ou paragens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At PoE of destination (desembarkation)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No PE de destino (desembarque)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 ;  After travel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Após a viagem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arcador de Posição do Número do Diapositivo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2DF9-7373-4B74-A92E-19EFCE9FA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2BD-62AB-4061-8516-2AD2E2CC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53D-5A60-46BB-9968-9AAE9578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770-841B-4EFE-B0A7-5640168F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2CA-7969-4569-83A2-2476AEC9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D08-EB1B-4179-8D0B-2FDBC48F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1F9-CA01-4D1D-BDF0-89668E2D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477-91D9-4099-B46E-3115E97B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E3A-7597-4750-86BA-E138F96F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A91-B7B8-41C3-83B1-73F61A29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15E-5B48-4011-B41A-95A6779A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E87-5E88-4903-A178-F17D75E3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B82-95CB-4AD5-9BF2-51D9DDD8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FA9B-7E5C-4F8A-BC6A-0F23492AD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F9CF50F-1160-48E4-B312-46E21A9EE62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apacidades nos Pontos de Entr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streio da EVD no Ponto de Entr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920" y="764640"/>
            <a:ext cx="86421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chegada de países afectados pela EV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essoal formado a trabalhar em PE deverá observar os passageiros e detectar sinais e sintomas da doen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s as pessoas chegadas de países afectados pela EVD deverão fornecer informações sobre o seu contacto e endereço fís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-se-á o controlo da temperatura dos passageiros oriundos de países afectados pela EVD (opc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funcionários de saúde deverão dar informações sobre a EVD e números telefónicos das Emergências, aconselhando a automonitorização dos sinais e sintomas de E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o 3. Dispositivos médicos usados para rastre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s de rastre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ómetros de infravermelh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e flux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3610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1052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Outro material: 9 Conjuntos completos PPE no equipamento médico de cada PE para vigiar os c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Termómetros manuais de infravermelhos, 1 Scanner, 2 salas de observ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2 salas e material sanitário para um isolamento seguro e observação de casos suspeitos, se possível em salas separadas, caso contrário numa área sepa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Em função da localização geográfica, 1 ambulância no 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o 4. Instalações, Equipamento 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nsagens-Cha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8920" y="1484280"/>
            <a:ext cx="85186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ão deverá haver nenhuma proibição geral nos transportes ou no comércio internacional, nem à saída nem à entrada nos países afec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aíses deverão fornecer aos passageiros para países e zonas afectadas pelo Ébola informações relevantes sobre os ris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aíses deverão estar preparados para detectar, investigar e tratar casos de Ébola e ter ainda a capacidade de tratar os passageiros oriundos de conhecidas zonas infectadas pelo Ébola, que cheguem aos PE com doença febril inexpl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rá ser dada informação rigorosa e relevante ao público em geral acerca do surto do Ébola e das medidas para reduzir o risco de expos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ências e outras orient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ote de Orientações para Rastreio de Saída do Ébola - OMS, Setembro 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liação dos riscos de viagens e transportes: Orientações internas para autoridades de saúde pública e do sector dos transpo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entações internas da OMS para Gestão de Eventos de Ébola nos Pontos de Entrada, Setembro 20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os da Aprendizag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o G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final da sessão, os participantes deverão saber rastrear os passageiros para a EVD, nos pontos de Saída e de Entra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bjectivos Intermédi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1: Compreender a finalidade do rastreio dos passageiros para a EVD, nos Pontos de Entrada (P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2: Familiar-se com o necessário processo de rastreio da EVD nos 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3. Conhecer os instrumentos usados para rastrear nos Pontos de Entrad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4. Conhecer as instalações, POP, equipamento, e material necessário nos Pontos de Entrad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vo 1: Finalidade do rastreio para a EVD nos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nhuma pessoa com uma doença consistente com o Ébola deverá ser autorizada a viajar, a menos que essa viagem faça parte de uma evacuação médica adequ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.ª Margaret Chan, Directora-Geral da OMS,8 de Agosto de 2014, Gen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nalidade do rastre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planos de Emergência de Saúde Pública (ESP) e os POP deverão ser implementados nos Pontos de Entrada (PE) designados. A finalidade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necer uma detecção precoce das pessoas potencialmente infectadas, isoladas e tratar os casos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ar as recomendações da OMS relativas à prevenção e controlo da EV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enir a propagação internacional da doença, permitindo às autoridades que evitem restrições e atrasos desnecessários nos 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ntenciais pontos de detecção e notificação de riscos para a saúde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Objectivo 2: Processo de rastreio à Saída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aíses com transmissão do Ébola deverão efectuar um rastreio à saída para todas as pessoas, nos aeroportos internacionais, portos marítimos e principais fronteiras terrestres, para doenças febris não explicadas consistentes com potencial infecção pelo Éb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s aeroportos, os rastreios deverão ser feitos no primeiro controlo de segurança, antes do balcão d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heck-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requisitos mínim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questio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dispositivo para medir a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houver febre, avaliação do risco da febre ser causada por EV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o de rastreio: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Rastreio de Saíd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treio privado para identificar passageiros em risco de exposição e com sinais de EV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assageiros deverão preencher um questionário sanitário para detectar o risco de expos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soal formado a trabalhar no PE para observar os passageiros e detectar sinais e sintomas da do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o da temperatura para todos os passagei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 um passageiro tiver febre ou estiver em risco de exposição, deverá fazer um segundo rastre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o de rastreio: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Rastreio de Saí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treio secundário para uma avaliação mais profunda do risco de exposição/infecção de passageiros, por pessoal formado em saúde púb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essoas identificadas com suspeitas de infecção /exposição à EVD são avaliadas pelos sinais e sintomas por pessoal formado em saúde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essoal formado em saúde pública procederá a uma entrevista de saúde pública (questionário mais aprofundado) e repetirá o controlo da temp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 base no rastreio secundário, o funcionário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úde pública poderá liberar o passageiro ou transferi-lo para as autoridades médicas de saúde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rocesso de rastreio: Transferência para as autoridades </a:t>
            </a:r>
            <a:r>
              <a:rPr b="1" lang="pt-PT" sz="2900" spc="-1" strike="noStrike">
                <a:solidFill>
                  <a:srgbClr val="000000"/>
                </a:solidFill>
                <a:latin typeface="Arial"/>
              </a:rPr>
              <a:t>sanitári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56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 decisão do funcionário de saúde pública for transfer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r transporte para o estabelecimento de saúde e notificar as autoridades de saúd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ôr o passageiro em causa na lista de restrições de via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processo de rastreio à saída deverá ser acompanhado de uma extensa campanha de sensibilização do público para esta questão de saúde públ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Ana</cp:lastModifiedBy>
  <cp:lastPrinted>2013-10-01T07:19:12Z</cp:lastPrinted>
  <dcterms:modified xsi:type="dcterms:W3CDTF">2014-11-24T13:03:58Z</dcterms:modified>
  <cp:revision>364</cp:revision>
  <dc:subject/>
  <dc:title>DPC Training and Technical Update</dc:title>
</cp:coreProperties>
</file>