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C3A-A45C-43D2-9437-A4931B55B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CF9-1332-41B0-89B2-24DE5395C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C5A0-FFB7-473E-8BF9-380DB47D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E400-734A-4C69-94F8-9C1D9C4F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5452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3110-3891-4830-A578-DB24CDA4A14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584E-5A24-448F-8451-02F08AA52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03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0FE5-EB0D-4571-88B3-2962AC4B0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72D-AEFB-4FAD-9560-7320A58C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4DC-AA62-4510-BCCE-B6F0B511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86A-DFF0-44C5-9417-13BCD49D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980-0333-421E-841F-7493BB14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68C-AD55-4B18-A22F-8E3F2960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059B-4272-4F52-8F69-44B8EDD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F9E4-B1F4-4F39-BB5F-F38BD67D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8F23-2BA8-4109-9DB3-02079B31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5ADB-73E8-478D-B66A-FFA85A18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BA26-046B-4B32-90F7-2B2445B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54D-F115-4766-B6C4-CB0A3096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B0F-0526-4641-89F3-4005EDB3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775-BB1B-4E33-A642-071696AD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1F6A-2279-4AF2-93B5-EA8D5479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D26-AA67-488F-AC52-9C18A1D5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5145-7A67-44A0-8141-23EF0D3F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DE30-4DA7-4D6A-9453-B86EF27A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A8C-A35F-4C99-A40E-CEB3EA58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798-ADEA-4A86-B159-14AC356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EA5-CAB2-4BEA-8EB2-668E3D51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FEC-4683-4C6B-A0E9-D73A3870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A8B-B717-417D-A8B7-44A2893A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58E-B5EE-4185-92DB-C8A724AB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E17-EDD0-46F2-836F-3B1BD075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7222-6619-439C-BA0F-D5EC267E5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0AC0D25-82C6-4570-9DA9-C1D304684AF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EEDA7C2-B47D-4CBD-A444-698B81E5682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0" y="493560"/>
            <a:ext cx="9144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086520" y="3505320"/>
            <a:ext cx="275256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rcRect l="28209" t="0" r="0" b="0"/>
          <a:stretch/>
        </p:blipFill>
        <p:spPr>
          <a:xfrm>
            <a:off x="0" y="1066680"/>
            <a:ext cx="9144000" cy="140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4"/>
          <p:cNvSpPr/>
          <p:nvPr/>
        </p:nvSpPr>
        <p:spPr>
          <a:xfrm>
            <a:off x="0" y="0"/>
            <a:ext cx="914400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BAR_blue.png"/>
          <p:cNvPicPr/>
          <p:nvPr/>
        </p:nvPicPr>
        <p:blipFill>
          <a:blip r:embed="rId4"/>
          <a:stretch/>
        </p:blipFill>
        <p:spPr>
          <a:xfrm>
            <a:off x="0" y="205740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B837-A26D-48F6-BD75-7AB506EAFB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-1600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5F15-389D-4EDA-951B-414E9B70E1D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Mobilização de Recursos, Orçamento e Logí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mostra de Necessidades Orçamentais e Financei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1700280"/>
          <a:ext cx="3251520" cy="5056200"/>
        </p:xfrm>
        <a:graphic>
          <a:graphicData uri="http://schemas.openxmlformats.org/drawingml/2006/table">
            <a:tbl>
              <a:tblPr/>
              <a:tblGrid>
                <a:gridCol w="3251520"/>
              </a:tblGrid>
              <a:tr h="76356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voluntários da comun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mota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5224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veículo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ts val="1397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condu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752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gestor de dados do distrito nos distritos afec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s telefones e carreg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755640" y="162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a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pidemiologista-ch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upervisores no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vestig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estor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rito psicos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dutor (se utiliz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quip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er anexo no diapositivo seguinte, mas considerar també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usto dos carregamentos dos tele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mpressão de formul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nti-séptico para as m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Transport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para os supervisores no terreno, investigadores e equipa de investig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áxis (se utiliz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mbustível se forem utilizados veículos próp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Necessidades de Equipamento/Apo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lista de equipament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765000"/>
          <a:ext cx="8785440" cy="5872320"/>
        </p:xfrm>
        <a:graphic>
          <a:graphicData uri="http://schemas.openxmlformats.org/drawingml/2006/table">
            <a:tbl>
              <a:tblPr/>
              <a:tblGrid>
                <a:gridCol w="1970280"/>
                <a:gridCol w="1058760"/>
                <a:gridCol w="824040"/>
                <a:gridCol w="944280"/>
                <a:gridCol w="831960"/>
                <a:gridCol w="703440"/>
                <a:gridCol w="909360"/>
                <a:gridCol w="881280"/>
                <a:gridCol w="662040"/>
              </a:tblGrid>
              <a:tr h="20484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 de Identificação de Cont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equip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demiologista-che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visor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nvestig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dentific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or de D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Transpor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Desinfec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Enter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de Protecção Pesso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vas descartáve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ção Facial (ou ócul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Facial N95/FFP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cirúrgica para o ca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cos de plástico para riscos biológ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8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ologia de In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e Posicionamento Mundi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óveis (com carregament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8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ramentas de Recolha de Dados Electrón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óme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is de Escritó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ários Apropri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tor/Ca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31840" y="1249200"/>
            <a:ext cx="8881920" cy="4950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xemplo de um orçamento para a implementação e gestão da identificação de contactos num distrito af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tent Placeholder 2"/>
          <p:cNvSpPr/>
          <p:nvPr/>
        </p:nvSpPr>
        <p:spPr>
          <a:xfrm>
            <a:off x="395280" y="1557360"/>
            <a:ext cx="88614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necer uma compreensão ampla para a necessidade de uma disponibilidade sustentável de abastecimentos de emergência e apoio logístico às operações de alerta e resposta à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ilhar desafios logísticos práticos, incluindo os encontrados nos países com surtos cor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gerir possíveis soluções para os desafios ident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07880" y="1196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 na resposta a emerg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a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afios d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pções/prop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Resumo da Apresentaçã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19664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bastecimento refere-se à quantidade total de um produto (bem ou serviço) disponível para aquisição a qualquer preço especific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é o processo de planeamento, implementação e controlo de um fluxo de mercadorias e serviç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az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ient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o ponto de origem ao consum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er uma logística eficaz para a criação e procura, o mais rápido possível, dos contributos necessários e assegurar o mais cedo possível os movimentos de peritos, doentes e abastecimentos para os pontos de us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Z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123480"/>
            <a:ext cx="8856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Book Antiqua"/>
              </a:rPr>
              <a:t>Estrutura organizacional das diferentes comissões envolvidas nas actividades de controlo do surto do Éb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75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1800" y="115920"/>
            <a:ext cx="7602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68360" y="1230480"/>
            <a:ext cx="8206920" cy="4627080"/>
            <a:chOff x="468360" y="1230480"/>
            <a:chExt cx="8206920" cy="4627080"/>
          </a:xfrm>
        </p:grpSpPr>
        <p:sp>
          <p:nvSpPr>
            <p:cNvPr id="142" name="Rectangle 2"/>
            <p:cNvSpPr/>
            <p:nvPr/>
          </p:nvSpPr>
          <p:spPr>
            <a:xfrm>
              <a:off x="468360" y="4641120"/>
              <a:ext cx="8206920" cy="121644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Morbilidade e mortalidade reduzi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Resposta ao surto reforçada</a:t>
              </a: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"/>
            <p:cNvSpPr/>
            <p:nvPr/>
          </p:nvSpPr>
          <p:spPr>
            <a:xfrm>
              <a:off x="468360" y="1230480"/>
              <a:ext cx="372276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Equipas de Resposta Ráp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4868280" y="1230480"/>
              <a:ext cx="380700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Logística e abastec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468360" y="3202920"/>
              <a:ext cx="8206920" cy="1217520"/>
            </a:xfrm>
            <a:prstGeom prst="rect">
              <a:avLst/>
            </a:prstGeom>
            <a:solidFill>
              <a:srgbClr val="3366ff">
                <a:alpha val="75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Operações de respo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"/>
            <p:cNvSpPr/>
            <p:nvPr/>
          </p:nvSpPr>
          <p:spPr>
            <a:xfrm rot="10800000">
              <a:off x="4444920" y="4201560"/>
              <a:ext cx="423360" cy="584280"/>
            </a:xfrm>
            <a:prstGeom prst="upArrow">
              <a:avLst>
                <a:gd name="adj1" fmla="val 50000"/>
                <a:gd name="adj2" fmla="val 4329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0800000">
              <a:off x="2117160" y="282024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 rot="10800000">
              <a:off x="6559560" y="277848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790560"/>
            <a:ext cx="8991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Bookman Old Styl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4320" y="117000"/>
            <a:ext cx="760752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430200" y="936720"/>
            <a:ext cx="8713440" cy="4952520"/>
            <a:chOff x="430200" y="936720"/>
            <a:chExt cx="8713440" cy="4952520"/>
          </a:xfrm>
        </p:grpSpPr>
        <p:sp>
          <p:nvSpPr>
            <p:cNvPr id="152" name="Rectangle 5"/>
            <p:cNvSpPr/>
            <p:nvPr/>
          </p:nvSpPr>
          <p:spPr>
            <a:xfrm>
              <a:off x="430200" y="2499840"/>
              <a:ext cx="3333960" cy="14068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Transporte, segurança e bem-estar do pessoal</a:t>
              </a: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430200" y="936720"/>
              <a:ext cx="3333960" cy="13287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bastecimentos para o alerta e respost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430200" y="4298400"/>
              <a:ext cx="3333960" cy="1590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poio à logística no terren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4521600" y="936720"/>
              <a:ext cx="4622040" cy="1191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bastecimentos de laboratório, medicamentos, kits de emergência, meios de transporte, materiais de escritóri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4521600" y="2499840"/>
              <a:ext cx="4622040" cy="1329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Gestão de veícul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Telecomunicações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lojamento/bem-esta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4521600" y="4141800"/>
              <a:ext cx="4622040" cy="17474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valiação no terreno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Supervisão do movimento de abastecimentos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valiação de impacto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3764160" y="1483920"/>
              <a:ext cx="757440" cy="390600"/>
            </a:xfrm>
            <a:prstGeom prst="rightArrow">
              <a:avLst>
                <a:gd name="adj1" fmla="val 50000"/>
                <a:gd name="adj2" fmla="val 5332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2"/>
            <p:cNvSpPr/>
            <p:nvPr/>
          </p:nvSpPr>
          <p:spPr>
            <a:xfrm>
              <a:off x="3764160" y="2968920"/>
              <a:ext cx="757440" cy="390960"/>
            </a:xfrm>
            <a:prstGeom prst="rightArrow">
              <a:avLst>
                <a:gd name="adj1" fmla="val 50000"/>
                <a:gd name="adj2" fmla="val 48435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>
              <a:off x="3764160" y="4767480"/>
              <a:ext cx="757440" cy="326880"/>
            </a:xfrm>
            <a:prstGeom prst="rightArrow">
              <a:avLst>
                <a:gd name="adj1" fmla="val 50000"/>
                <a:gd name="adj2" fmla="val 60644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1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101520">
            <a:solidFill>
              <a:srgbClr val="651d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bem sucedida das operações, prevenção e controlo da epidemia através da mobilização de recursos por parte do Grupo de Acção/Comissão Nacional do Ébol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0" y="17586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Fornecimento de apoio às operações no terr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9040" y="162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:\PICTURES\EBOLA DRC 2007\receiving and dispatching ppe.jpg"/>
          <p:cNvPicPr/>
          <p:nvPr/>
        </p:nvPicPr>
        <p:blipFill>
          <a:blip r:embed="rId1"/>
          <a:stretch/>
        </p:blipFill>
        <p:spPr>
          <a:xfrm>
            <a:off x="133200" y="2562120"/>
            <a:ext cx="4040280" cy="303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L1040346 (Small)"/>
          <p:cNvPicPr/>
          <p:nvPr/>
        </p:nvPicPr>
        <p:blipFill>
          <a:blip r:embed="rId2"/>
          <a:stretch/>
        </p:blipFill>
        <p:spPr>
          <a:xfrm>
            <a:off x="4305240" y="2954160"/>
            <a:ext cx="43498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63080" y="1271160"/>
            <a:ext cx="8828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servas adequadas de materiais necessários às investigações epidemiológicas a nível subnacional e na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EPP, módulos A e B do catálogo da 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rodutos de desinfecção e outros materiais para se colocar em prática as medidas básicas de combate à infec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recolha de amostras e materiais de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Reagentes laborato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quipamento médico e medica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onte fiável de reabastecimento de materia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Gestão e sistema de distribuição de reservas eficaz a todos os níve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ocedimentos de alfândega simplificados para uma rápida autorização de import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30320" y="1196640"/>
            <a:ext cx="90136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riação de escritórios funcionais para actividades do pessoal e reuniões das comissõ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ustentabilidade das operações, por exemplo, pequenas aquisições, pagamento de subsídios diários e alimen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quipamento de escritório (computadores, impressoras, fotocopiadoras)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ornecer meios de comunicação – telemóveis,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Reabastecimento dos produtos necessários / encomendar recursos a temp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6200" y="223560"/>
            <a:ext cx="8229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ansporte para as equipas de proxim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chindedzak\Desktop\Ebola July 2014 documents_YZ\SLE EBOLA RESPONSE PHOTO LIBRARY\4   WHO mobile laboratory equipment being loaded to support ebola case confirmation in Kailahun District in eastern Sierra Leone.jpg"/>
          <p:cNvPicPr/>
          <p:nvPr/>
        </p:nvPicPr>
        <p:blipFill>
          <a:blip r:embed="rId1"/>
          <a:stretch/>
        </p:blipFill>
        <p:spPr>
          <a:xfrm>
            <a:off x="-41400" y="1557360"/>
            <a:ext cx="4537080" cy="410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chindedzak\Desktop\Ebola July 2014 documents_YZ\SLE EBOLA RESPONSE PHOTO LIBRARY\5   A team of WHO laboratory sciientists crossing from Guinea into Sierra Leone to set up a mobile lab in Kailahun District to test Ebola cases.jpg"/>
          <p:cNvPicPr/>
          <p:nvPr/>
        </p:nvPicPr>
        <p:blipFill>
          <a:blip r:embed="rId2"/>
          <a:stretch/>
        </p:blipFill>
        <p:spPr>
          <a:xfrm>
            <a:off x="4648320" y="1628640"/>
            <a:ext cx="4495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63080" y="1197000"/>
            <a:ext cx="8812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Transporte e movimentação de pess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Gestão de veículos e meios de transporte para as necessidades das actividades de controlo das equipa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dos movimentos das equipas móvei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laboração e aplicação de mapas de serviço regulares para o pessoal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e facilitação de deslocações para o pessoal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0600" y="274320"/>
            <a:ext cx="8454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60" y="1125360"/>
            <a:ext cx="90248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poio para os programas e abastec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e transporte do EPP (batas, máscaras, óculos, botas e outro equipament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de equipamento de desinfecção às equipas de controlo da infecção e ao pessoal responsável pelos funerais segu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acilitar a gestão de resíduos biomédicos e das áreas de isolamento em coordenação com a subcomissão para a gestão dos ca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dministração, segurança e prot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pendendo das circunstâncias, atender às necessidades alimentares dos doentes e das equipas de interven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a segurança dos espaços e a participação do pessoal nas actividades de control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as instruções de segurança ao pessoal antes que estes cheguem a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empre que necessário, formar o pessoal sobre as bases da logíst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706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5840" y="1125000"/>
            <a:ext cx="892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inanciamento inadequado para os abastecimentos e logística necessár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ordenação e colaboração do apoio dos parceiros, incluindo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evisão e aquisição de quantidades óptimas de abastecimentos e logística devido à elevada procura act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Isolamento dos países com surtos de EVD por parte de algumas empresas está a afectar a disponibilidade de abastecimen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ferentes conceitos, qualidade e padrões de EPP para a EV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da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8920" y="981000"/>
            <a:ext cx="8877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especialistas em logística com formação adequ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otação elevada de pessoal devido ao medo, pânico e exaust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stribuição tardia das equipas operacionais em novas frentes do sur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mbiente sociopolí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Transporte e instalações de comunicação pouco adequ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pessoal para as equipas de enterros, especialmente devido a compensações pouco adequadas para o risco e estigma associ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cesso a algumas áreas não é fác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(cont….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339920"/>
            <a:ext cx="8686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issão de coordenação acerca d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finir as actividades da comissão de coordenação a nível do distrito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para o Grupo de Acção/Comissão Nacional do Ébo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São propostas as seguintes medidas tendo em conta as considerações específicas ao país e comunid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mpromisso da liderança política e social e dos parceiros em criar um ambiente propício à mobilização de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ssegurar e monitorizar a segurança das equipas no terreno e do equipamento sempre que adequ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forçar a capacidade logística nacional (cadeia de abastecimento nacional, formações), assegurar o compromisso dos parceiros com base nas suas vantagens comparati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ossíveis soluçõ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logística deve ser o primeiro componente a ser devidamente abordado na preparação para qualquer emergência, incluindo surtos de EV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533520" y="1143000"/>
            <a:ext cx="81532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cerias n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164040" y="6213600"/>
            <a:ext cx="3525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010280" y="2441520"/>
            <a:ext cx="137664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1878120" y="2676600"/>
            <a:ext cx="2573280" cy="129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4856040" y="2676600"/>
            <a:ext cx="1868760" cy="1452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466560" y="2514600"/>
            <a:ext cx="1256040" cy="2068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700360" y="4129200"/>
            <a:ext cx="16765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"/>
              </a:rPr>
              <a:t>MS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5396040" y="4721400"/>
            <a:ext cx="2655720" cy="947160"/>
          </a:xfrm>
          <a:prstGeom prst="rect">
            <a:avLst/>
          </a:prstGeom>
          <a:solidFill>
            <a:srgbClr val="f1f9f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70c0"/>
                </a:solidFill>
                <a:latin typeface="Arial"/>
              </a:rPr>
              <a:t>Instituto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609480" y="4648320"/>
            <a:ext cx="1676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Arial"/>
              </a:rPr>
              <a:t>IF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D:\userprofiles\gaturukup\My Documents\Old HDD documents 14 March 2012\Desktop Documents\WHO LOGO NEW\WHO-AFRO-EN-C.jpg"/>
          <p:cNvPicPr/>
          <p:nvPr/>
        </p:nvPicPr>
        <p:blipFill>
          <a:blip r:embed="rId5"/>
          <a:stretch/>
        </p:blipFill>
        <p:spPr>
          <a:xfrm>
            <a:off x="2471760" y="5172120"/>
            <a:ext cx="22827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técnica e científica internacional para coordenar as medidas de controlo da epidemia que será responsável pela organização das actividades diárias da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-10044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de Coordenação Nacional (Grupo de Acção Nacional): Compos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539640" y="1268280"/>
            <a:ext cx="83743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finir o orçamento operacional para as actividades (comunicação, vigilância reforçada, investigação, etc.), para a detecção pré-epidémica e para a resposta preliminar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as fontes de financiamento, incluindo a alocação de recursos domésticos e criação e conhecimento de mecanismos para obter recursos adicionais sempre que necessári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envolver modelos para a mobilização de recursos e para a notificação dos países e dos doadores, incluindo mecanismos para monitorizar e seguir a implementaçã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stabelecer fundos de contingência facilmente acessíveis para uma resposta imediata a um surto de EVD a nível nacional e noutros locais apropriados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o processo de transferência de dinheiro do nível central para uma utilização de emergência loc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0:50Z</dcterms:modified>
  <cp:revision>198</cp:revision>
  <dc:subject/>
  <dc:title>DPC Training and Technical Update</dc:title>
</cp:coreProperties>
</file>