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965F6-817B-4FEA-BF30-9B4E5425F4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810D5-1D02-49CA-BF9D-C91E45E0BF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BB578-B568-4B59-BF22-733CED9357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1629A-18DC-4A3F-A04F-1BD20EC809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DAF71-1D0D-4010-A4DA-0B29C64B70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69B1F-2B77-4EDB-96D8-4C0EA7B009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6674A-5936-4861-8EAF-D2DF235C65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39A57-1AE0-4765-BD74-F39589C3C6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63EF8-738D-4132-914D-9FA4A7E00D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41A3C-7996-4FBE-BDB1-D2B8743E70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60BB8-5AB4-4E8E-B05B-C756ADAF05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8F8CA-B58E-49A8-A40E-A9679DA77D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0194F-D454-46E0-A7DC-A610CEA37B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724EB-272D-4BD0-8FA0-F1DEE428B4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CD8984-C4EC-4173-839A-10D5DC3774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6C07E8-A99A-4B4A-82B9-E72F26E4B3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272006-C9CF-4394-9DDC-3FCD044404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FC8351-A1D9-4497-8E09-198044AB55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511F4-0D37-471E-AC33-105DF8B5512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1FDB7-85AD-4514-99D0-67FAA0A899E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8D338-73E9-4EFD-91C1-5768E4CE005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F31E8-4EDB-499B-8065-051B8A7F2CA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C0CAB-ABC1-4EDB-A138-DEF5855F6FE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C683B-5738-4BD9-87E1-D00574CA924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5CBC5-1EF1-4EA1-89CF-D546C2C96FA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9A93C2-09F0-4949-86E8-3FD184016C3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8AD5C-26DA-4186-A06A-FD47D1F3998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13531-5475-4158-ADDC-CBF5528335C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9F059-5C39-4AAF-8963-487E4B51275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51CC2-702A-4D55-A876-8B38E4AA239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910EB-254C-4089-BA82-A2AC851905B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A2BA67-FB10-4989-840D-A7FC71381B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F4EF62-382D-4C39-B5A8-2858B43C61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875571-6254-47CC-9B2B-FFB6DDC5F0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3E0032-DC32-4C7E-9E0C-D061EE090B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4F1D48-612E-4BC1-93E4-7553FA2E7B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BACE11-0344-4536-8A02-218AF099D8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690C0D-0480-43CE-A5A9-43A0295C2B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C1A8B-822D-47BF-9B47-30D346FC63B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28520" indent="-205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440000" indent="-205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851480" indent="-205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851480" indent="-205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851480" indent="-205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D10A8-2F6F-47EA-A984-C7663D9DF8F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1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124" name=""/>
          <p:cNvSpPr/>
          <p:nvPr/>
        </p:nvSpPr>
        <p:spPr>
          <a:xfrm>
            <a:off x="2971800" y="1600200"/>
            <a:ext cx="617220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Process Control: Q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uality Control of Qualitative and Semi-Quantitative Procedures</a:t>
            </a:r>
            <a:endParaRPr b="1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25" name="Picture 16" descr="WHO-EN-C-H"/>
          <p:cNvPicPr/>
          <p:nvPr/>
        </p:nvPicPr>
        <p:blipFill>
          <a:blip r:embed="rId1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7" descr="2BSLATH"/>
          <p:cNvPicPr/>
          <p:nvPr/>
        </p:nvPicPr>
        <p:blipFill>
          <a:blip r:embed="rId2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1" descr="HHS-Logo-blue"/>
          <p:cNvPicPr/>
          <p:nvPr/>
        </p:nvPicPr>
        <p:blipFill>
          <a:blip r:embed="rId3"/>
          <a:stretch/>
        </p:blipFill>
        <p:spPr>
          <a:xfrm>
            <a:off x="426708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A003E-C966-41C4-B748-290A3ECB365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Using Traditional Control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est as per patient samp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use a positive and negative control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clude a weak positive control for immunological procedu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choose positive controls close to the cut-off valu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clude control to monitor extraction pha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E9C57-DDAB-44B2-B743-066C1298BF68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46F3F5-C5FB-4543-86CB-31E22F6A764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5715000" y="2438280"/>
            <a:ext cx="3200400" cy="2756160"/>
          </a:xfrm>
          <a:prstGeom prst="rect">
            <a:avLst/>
          </a:prstGeom>
          <a:ln w="0">
            <a:noFill/>
          </a:ln>
        </p:spPr>
      </p:pic>
      <p:sp>
        <p:nvSpPr>
          <p:cNvPr id="21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DEF0F-DA41-4CB1-A9E2-AAE4BE833763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ock Cultures for QC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8740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ference strai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88740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Verdana"/>
              </a:rPr>
              <a:t>in-house developed strai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88740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edictable reactions in stains and media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88740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sure media, reagent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d supplies work as intend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887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3886200" y="4343400"/>
            <a:ext cx="2895480" cy="1938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E1445C-ECC8-4598-8024-13C15E758007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85341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Sources for Obtaining Reference Strain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52280" y="1676160"/>
            <a:ext cx="876312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ATCC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-American Type Culture Collect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NTCC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ational Type Culture Collect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        (UK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IP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steur Institute Collection (France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CC2D1-7A8F-4DB8-B42A-C1F3ABF027CF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01581E-29B8-4DD9-89E5-DD16A606145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505E3-7979-49AB-B2C4-B01A61C92EA6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ains are important—</a:t>
            </a: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ake care of them!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21" name="Picture 5" descr="PICT0136"/>
          <p:cNvPicPr/>
          <p:nvPr/>
        </p:nvPicPr>
        <p:blipFill>
          <a:blip r:embed="rId1"/>
          <a:stretch/>
        </p:blipFill>
        <p:spPr>
          <a:xfrm>
            <a:off x="380880" y="2097000"/>
            <a:ext cx="4114800" cy="29955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7" descr="PICT0018"/>
          <p:cNvPicPr/>
          <p:nvPr/>
        </p:nvPicPr>
        <p:blipFill>
          <a:blip r:embed="rId2"/>
          <a:stretch/>
        </p:blipFill>
        <p:spPr>
          <a:xfrm>
            <a:off x="4952880" y="2097000"/>
            <a:ext cx="3581640" cy="2971800"/>
          </a:xfrm>
          <a:prstGeom prst="rect">
            <a:avLst/>
          </a:prstGeom>
          <a:ln w="0">
            <a:noFill/>
          </a:ln>
        </p:spPr>
      </p:pic>
      <p:sp>
        <p:nvSpPr>
          <p:cNvPr id="223" name="Text Box 10"/>
          <p:cNvSpPr/>
          <p:nvPr/>
        </p:nvSpPr>
        <p:spPr>
          <a:xfrm>
            <a:off x="5659560" y="5257800"/>
            <a:ext cx="21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No Attention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4" name="Text Box 11"/>
          <p:cNvSpPr/>
          <p:nvPr/>
        </p:nvSpPr>
        <p:spPr>
          <a:xfrm>
            <a:off x="695520" y="5257800"/>
            <a:ext cx="33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Verdana"/>
              </a:rPr>
              <a:t>Continued Attention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AED5A8-3184-4918-AB09-4A85837570F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9E07A-DC7A-468B-AF76-DA4B143EAE38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ain Managemen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e established procedure for preparation or reconstitu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abel: content, concentration, date prepared and placed in service, expiration, initial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ore appropriatel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36C9A6-E4C0-43CB-99BE-F7508CD51A4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Slide Number Placeholder 4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A0194-76B3-4BD8-A569-9DE421DC521D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Control for Stai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84582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s appropriate for particular stain: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eck with known organisms or cel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ine for crystal shards or for precipit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ine for contaminants such as bacteria and fung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1295280" y="4648320"/>
            <a:ext cx="2243160" cy="151272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3581280" y="4800600"/>
            <a:ext cx="20574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Left: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Wright stain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ight: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Gram stain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2"/>
          <a:srcRect l="7204" t="0" r="10802" b="0"/>
          <a:stretch/>
        </p:blipFill>
        <p:spPr>
          <a:xfrm>
            <a:off x="6019920" y="4572000"/>
            <a:ext cx="1828800" cy="167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393BF0-71BF-4859-A0E5-B12EA6B9F42E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660D5-BCB7-43F8-B492-C57E902281F1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Gram Stain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36" name="Picture 4" descr="g061_large"/>
          <p:cNvPicPr/>
          <p:nvPr/>
        </p:nvPicPr>
        <p:blipFill>
          <a:blip r:embed="rId1"/>
          <a:stretch/>
        </p:blipFill>
        <p:spPr>
          <a:xfrm>
            <a:off x="380880" y="1676520"/>
            <a:ext cx="4038840" cy="32763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9" descr="Poor2"/>
          <p:cNvPicPr/>
          <p:nvPr/>
        </p:nvPicPr>
        <p:blipFill>
          <a:blip r:embed="rId2"/>
          <a:stretch/>
        </p:blipFill>
        <p:spPr>
          <a:xfrm>
            <a:off x="4419720" y="1676520"/>
            <a:ext cx="4195800" cy="3276360"/>
          </a:xfrm>
          <a:prstGeom prst="rect">
            <a:avLst/>
          </a:prstGeom>
          <a:ln w="0">
            <a:noFill/>
          </a:ln>
        </p:spPr>
      </p:pic>
      <p:sp>
        <p:nvSpPr>
          <p:cNvPr id="238" name="Text Box 10"/>
          <p:cNvSpPr/>
          <p:nvPr/>
        </p:nvSpPr>
        <p:spPr>
          <a:xfrm>
            <a:off x="838080" y="5029200"/>
            <a:ext cx="32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9900"/>
                </a:solidFill>
                <a:latin typeface="Verdana"/>
              </a:rPr>
              <a:t>Good Quality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39" name="Text Box 11"/>
          <p:cNvSpPr/>
          <p:nvPr/>
        </p:nvSpPr>
        <p:spPr>
          <a:xfrm>
            <a:off x="5178240" y="5029200"/>
            <a:ext cx="272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Verdana"/>
              </a:rPr>
              <a:t>Poor Quality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997A8E-31EC-43D7-ADDA-B9E12F3F7E1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Slide Number Placeholder 4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1B3A7-E4D4-4EDC-9C1E-CFA6A06D9324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C of Microbiology Media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153280" cy="213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verify performance of all medi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-house prepared: all batch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mercially prepared: new lot onl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rcRect l="6557" t="10960" r="6557" b="6576"/>
          <a:stretch/>
        </p:blipFill>
        <p:spPr>
          <a:xfrm>
            <a:off x="609480" y="3505320"/>
            <a:ext cx="2895840" cy="27414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rcRect l="6557" t="10960" r="6557" b="6576"/>
          <a:stretch/>
        </p:blipFill>
        <p:spPr>
          <a:xfrm>
            <a:off x="5867280" y="3581280"/>
            <a:ext cx="2819520" cy="266868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3581280" y="3505320"/>
            <a:ext cx="221004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MacConkey Agar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QC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Left: non-lactose fermenter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ight: lactose fermenter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85E0F7-699A-417D-B2B2-518E29C4541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1C158-BE3E-4413-86BC-CD36CA74FCFB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edia Problems to Avoid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48" name="Group 7"/>
          <p:cNvGrpSpPr/>
          <p:nvPr/>
        </p:nvGrpSpPr>
        <p:grpSpPr>
          <a:xfrm>
            <a:off x="3809880" y="1447920"/>
            <a:ext cx="2514600" cy="914400"/>
            <a:chOff x="3809880" y="1447920"/>
            <a:chExt cx="2514600" cy="914400"/>
          </a:xfrm>
        </p:grpSpPr>
        <p:sp>
          <p:nvSpPr>
            <p:cNvPr id="249" name="AutoShape 8"/>
            <p:cNvSpPr/>
            <p:nvPr/>
          </p:nvSpPr>
          <p:spPr>
            <a:xfrm>
              <a:off x="3888360" y="1905120"/>
              <a:ext cx="2396880" cy="399960"/>
            </a:xfrm>
            <a:prstGeom prst="can">
              <a:avLst>
                <a:gd name="adj" fmla="val 50000"/>
              </a:avLst>
            </a:prstGeom>
            <a:solidFill>
              <a:srgbClr val="ff260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50" name="AutoShape 9"/>
            <p:cNvSpPr/>
            <p:nvPr/>
          </p:nvSpPr>
          <p:spPr>
            <a:xfrm>
              <a:off x="3809880" y="1447920"/>
              <a:ext cx="2514600" cy="914400"/>
            </a:xfrm>
            <a:prstGeom prst="can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251" name="Group 10"/>
          <p:cNvGrpSpPr/>
          <p:nvPr/>
        </p:nvGrpSpPr>
        <p:grpSpPr>
          <a:xfrm>
            <a:off x="5791320" y="2057400"/>
            <a:ext cx="2514600" cy="914400"/>
            <a:chOff x="5791320" y="2057400"/>
            <a:chExt cx="2514600" cy="914400"/>
          </a:xfrm>
        </p:grpSpPr>
        <p:sp>
          <p:nvSpPr>
            <p:cNvPr id="252" name="AutoShape 11"/>
            <p:cNvSpPr/>
            <p:nvPr/>
          </p:nvSpPr>
          <p:spPr>
            <a:xfrm>
              <a:off x="5791320" y="2171520"/>
              <a:ext cx="2514600" cy="800280"/>
            </a:xfrm>
            <a:prstGeom prst="can">
              <a:avLst>
                <a:gd name="adj" fmla="val 50000"/>
              </a:avLst>
            </a:prstGeom>
            <a:solidFill>
              <a:srgbClr val="ff260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253" name="Group 12"/>
            <p:cNvGrpSpPr/>
            <p:nvPr/>
          </p:nvGrpSpPr>
          <p:grpSpPr>
            <a:xfrm>
              <a:off x="6591240" y="2171520"/>
              <a:ext cx="457200" cy="199800"/>
              <a:chOff x="6591240" y="2171520"/>
              <a:chExt cx="457200" cy="199800"/>
            </a:xfrm>
          </p:grpSpPr>
          <p:sp>
            <p:nvSpPr>
              <p:cNvPr id="254" name="Oval 13"/>
              <p:cNvSpPr/>
              <p:nvPr/>
            </p:nvSpPr>
            <p:spPr>
              <a:xfrm>
                <a:off x="6762600" y="2171520"/>
                <a:ext cx="114120" cy="5688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5" name="Oval 14"/>
              <p:cNvSpPr/>
              <p:nvPr/>
            </p:nvSpPr>
            <p:spPr>
              <a:xfrm>
                <a:off x="6591240" y="2171520"/>
                <a:ext cx="457200" cy="19980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6" name="Oval 15"/>
              <p:cNvSpPr/>
              <p:nvPr/>
            </p:nvSpPr>
            <p:spPr>
              <a:xfrm>
                <a:off x="6619680" y="2171520"/>
                <a:ext cx="400320" cy="17136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7" name="Oval 16"/>
              <p:cNvSpPr/>
              <p:nvPr/>
            </p:nvSpPr>
            <p:spPr>
              <a:xfrm>
                <a:off x="6648120" y="2171520"/>
                <a:ext cx="343080" cy="1429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8" name="Oval 17"/>
              <p:cNvSpPr/>
              <p:nvPr/>
            </p:nvSpPr>
            <p:spPr>
              <a:xfrm>
                <a:off x="6676920" y="2171520"/>
                <a:ext cx="285840" cy="1141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9" name="Oval 18"/>
              <p:cNvSpPr/>
              <p:nvPr/>
            </p:nvSpPr>
            <p:spPr>
              <a:xfrm>
                <a:off x="6705360" y="2171520"/>
                <a:ext cx="228600" cy="8568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24480" bIns="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0" name="Oval 19"/>
              <p:cNvSpPr/>
              <p:nvPr/>
            </p:nvSpPr>
            <p:spPr>
              <a:xfrm>
                <a:off x="6734160" y="2171520"/>
                <a:ext cx="171360" cy="56880"/>
              </a:xfrm>
              <a:prstGeom prst="ellipse">
                <a:avLst/>
              </a:prstGeom>
              <a:noFill/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261" name="AutoShape 20"/>
            <p:cNvSpPr/>
            <p:nvPr/>
          </p:nvSpPr>
          <p:spPr>
            <a:xfrm>
              <a:off x="5791320" y="2057400"/>
              <a:ext cx="2514600" cy="914400"/>
            </a:xfrm>
            <a:prstGeom prst="can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262" name="Group 21"/>
            <p:cNvGrpSpPr/>
            <p:nvPr/>
          </p:nvGrpSpPr>
          <p:grpSpPr>
            <a:xfrm>
              <a:off x="7534440" y="2228760"/>
              <a:ext cx="457200" cy="199800"/>
              <a:chOff x="7534440" y="2228760"/>
              <a:chExt cx="457200" cy="199800"/>
            </a:xfrm>
          </p:grpSpPr>
          <p:sp>
            <p:nvSpPr>
              <p:cNvPr id="263" name="Oval 22"/>
              <p:cNvSpPr/>
              <p:nvPr/>
            </p:nvSpPr>
            <p:spPr>
              <a:xfrm>
                <a:off x="7705800" y="2228760"/>
                <a:ext cx="114120" cy="5688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4" name="Oval 23"/>
              <p:cNvSpPr/>
              <p:nvPr/>
            </p:nvSpPr>
            <p:spPr>
              <a:xfrm>
                <a:off x="7534440" y="2228760"/>
                <a:ext cx="457200" cy="19980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5" name="Oval 24"/>
              <p:cNvSpPr/>
              <p:nvPr/>
            </p:nvSpPr>
            <p:spPr>
              <a:xfrm>
                <a:off x="7562880" y="2228760"/>
                <a:ext cx="400320" cy="17136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6" name="Oval 25"/>
              <p:cNvSpPr/>
              <p:nvPr/>
            </p:nvSpPr>
            <p:spPr>
              <a:xfrm>
                <a:off x="7591320" y="2228760"/>
                <a:ext cx="343080" cy="1429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7" name="Oval 26"/>
              <p:cNvSpPr/>
              <p:nvPr/>
            </p:nvSpPr>
            <p:spPr>
              <a:xfrm>
                <a:off x="7620120" y="2228760"/>
                <a:ext cx="285840" cy="1141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8" name="Oval 27"/>
              <p:cNvSpPr/>
              <p:nvPr/>
            </p:nvSpPr>
            <p:spPr>
              <a:xfrm>
                <a:off x="7648560" y="2228760"/>
                <a:ext cx="228600" cy="8568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24480" bIns="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9" name="Oval 28"/>
              <p:cNvSpPr/>
              <p:nvPr/>
            </p:nvSpPr>
            <p:spPr>
              <a:xfrm>
                <a:off x="7677360" y="2228760"/>
                <a:ext cx="171360" cy="56880"/>
              </a:xfrm>
              <a:prstGeom prst="ellipse">
                <a:avLst/>
              </a:prstGeom>
              <a:noFill/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270" name="Text Box 32"/>
          <p:cNvSpPr/>
          <p:nvPr/>
        </p:nvSpPr>
        <p:spPr>
          <a:xfrm>
            <a:off x="912960" y="1523880"/>
            <a:ext cx="2758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ut-dated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ried-out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taminated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1" name="Text Box 9"/>
          <p:cNvSpPr/>
          <p:nvPr/>
        </p:nvSpPr>
        <p:spPr>
          <a:xfrm>
            <a:off x="609480" y="3200400"/>
            <a:ext cx="8229600" cy="2653560"/>
          </a:xfrm>
          <a:prstGeom prst="rect">
            <a:avLst/>
          </a:prstGeom>
          <a:solidFill>
            <a:srgbClr val="ffffff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Human blood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should not be used because: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o much batch to batch variation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y include inhibitory substances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including antimicrobials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y contain biohazard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(e.g., hepatitis virus)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5791320" y="4724280"/>
            <a:ext cx="1950840" cy="1521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B3EBC4-B43B-4692-A203-D86216BB79E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" descr=""/>
          <p:cNvPicPr/>
          <p:nvPr/>
        </p:nvPicPr>
        <p:blipFill>
          <a:blip r:embed="rId1"/>
          <a:srcRect l="10286" t="10360" r="10286" b="20720"/>
          <a:stretch/>
        </p:blipFill>
        <p:spPr>
          <a:xfrm>
            <a:off x="914400" y="1143000"/>
            <a:ext cx="7924680" cy="5064120"/>
          </a:xfrm>
          <a:prstGeom prst="rect">
            <a:avLst/>
          </a:prstGeom>
          <a:ln w="0">
            <a:noFill/>
          </a:ln>
        </p:spPr>
      </p:pic>
      <p:sp>
        <p:nvSpPr>
          <p:cNvPr id="274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62BFB-035A-464F-BCE6-228378914E81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Control of Growth Media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381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keep records for media prepared in-hou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ecord outcomes in a dedicated media logbook for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H,  sterility,  ability to support growth using stock cultures,  biochemical response of stock cultu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requenc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est each new batch or lot numb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79C20E-07DB-4F10-91C9-4419CE1158B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C6880-708A-448F-870A-DA75B914D590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83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module, participants should be able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fferentiate between built-in and traditional control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how to use stock cultures for microbiology QC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uss the use of quality control procedures for stains used in microscopic examinati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methods for verifying performance of microbiological medi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815355-8A86-4A70-A5D8-25AD8D552E0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3C4FD-A41B-49EE-96BA-D61AA6D5E96B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qualitative tests produce non-numerical results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emi-quantitative tests give an estimat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establish a QC program for qualitative and semi-quantitative test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BD4909-424E-4D72-B220-359AD12E6F3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QC procedures followed by ALL staff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lways record QC results and corrective ac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If QC results are not acceptable, do not report patient results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4DC43-C966-4650-A2F5-E943DE7B9022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418221-E11B-46CE-8091-B70DC22D64D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791320" y="762120"/>
            <a:ext cx="30477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533520" y="609480"/>
            <a:ext cx="5181480" cy="5410080"/>
            <a:chOff x="533520" y="609480"/>
            <a:chExt cx="5181480" cy="5410080"/>
          </a:xfrm>
        </p:grpSpPr>
        <p:sp>
          <p:nvSpPr>
            <p:cNvPr id="285" name="AutoShape 4"/>
            <p:cNvSpPr/>
            <p:nvPr/>
          </p:nvSpPr>
          <p:spPr>
            <a:xfrm>
              <a:off x="5335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6" name="Freeform 9"/>
            <p:cNvSpPr/>
            <p:nvPr/>
          </p:nvSpPr>
          <p:spPr>
            <a:xfrm>
              <a:off x="27781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7" name="Freeform 10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8" name="Freeform 11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9" name="Freeform 12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0" name="Freeform 13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1" name="Freeform 16"/>
            <p:cNvSpPr/>
            <p:nvPr/>
          </p:nvSpPr>
          <p:spPr>
            <a:xfrm>
              <a:off x="14130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2" name="Freeform 22"/>
            <p:cNvSpPr/>
            <p:nvPr/>
          </p:nvSpPr>
          <p:spPr>
            <a:xfrm>
              <a:off x="14018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3" name="Line 24"/>
            <p:cNvSpPr/>
            <p:nvPr/>
          </p:nvSpPr>
          <p:spPr>
            <a:xfrm flipH="1" flipV="1">
              <a:off x="31874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4" name="Line 25"/>
            <p:cNvSpPr/>
            <p:nvPr/>
          </p:nvSpPr>
          <p:spPr>
            <a:xfrm flipV="1">
              <a:off x="29257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5" name="Line 27"/>
            <p:cNvSpPr/>
            <p:nvPr/>
          </p:nvSpPr>
          <p:spPr>
            <a:xfrm>
              <a:off x="47242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6" name="Line 27"/>
            <p:cNvSpPr/>
            <p:nvPr/>
          </p:nvSpPr>
          <p:spPr>
            <a:xfrm>
              <a:off x="31240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7" name="Line 27"/>
            <p:cNvSpPr/>
            <p:nvPr/>
          </p:nvSpPr>
          <p:spPr>
            <a:xfrm>
              <a:off x="14479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8" name="Line 27"/>
            <p:cNvSpPr/>
            <p:nvPr/>
          </p:nvSpPr>
          <p:spPr>
            <a:xfrm flipH="1">
              <a:off x="11426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299" name="Group 65"/>
            <p:cNvGrpSpPr/>
            <p:nvPr/>
          </p:nvGrpSpPr>
          <p:grpSpPr>
            <a:xfrm>
              <a:off x="838080" y="702000"/>
              <a:ext cx="1261800" cy="1189800"/>
              <a:chOff x="838080" y="702000"/>
              <a:chExt cx="1261800" cy="1189800"/>
            </a:xfrm>
          </p:grpSpPr>
          <p:grpSp>
            <p:nvGrpSpPr>
              <p:cNvPr id="300" name="Group 66"/>
              <p:cNvGrpSpPr/>
              <p:nvPr/>
            </p:nvGrpSpPr>
            <p:grpSpPr>
              <a:xfrm>
                <a:off x="838080" y="702000"/>
                <a:ext cx="1239120" cy="1189800"/>
                <a:chOff x="838080" y="702000"/>
                <a:chExt cx="1239120" cy="1189800"/>
              </a:xfrm>
            </p:grpSpPr>
            <p:grpSp>
              <p:nvGrpSpPr>
                <p:cNvPr id="301" name="Group 67"/>
                <p:cNvGrpSpPr/>
                <p:nvPr/>
              </p:nvGrpSpPr>
              <p:grpSpPr>
                <a:xfrm>
                  <a:off x="889560" y="702000"/>
                  <a:ext cx="1152360" cy="1189800"/>
                  <a:chOff x="889560" y="702000"/>
                  <a:chExt cx="1152360" cy="1189800"/>
                </a:xfrm>
              </p:grpSpPr>
              <p:sp>
                <p:nvSpPr>
                  <p:cNvPr id="302" name="Freeform 68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303" name="Freeform 69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</p:grpSp>
            <p:sp>
              <p:nvSpPr>
                <p:cNvPr id="304" name="Text Box 70"/>
                <p:cNvSpPr/>
                <p:nvPr/>
              </p:nvSpPr>
              <p:spPr>
                <a:xfrm>
                  <a:off x="8380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305" name="Text Box 71"/>
              <p:cNvSpPr/>
              <p:nvPr/>
            </p:nvSpPr>
            <p:spPr>
              <a:xfrm>
                <a:off x="8607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06" name="Group 72"/>
            <p:cNvGrpSpPr/>
            <p:nvPr/>
          </p:nvGrpSpPr>
          <p:grpSpPr>
            <a:xfrm>
              <a:off x="2494080" y="702000"/>
              <a:ext cx="1239840" cy="1189800"/>
              <a:chOff x="2494080" y="702000"/>
              <a:chExt cx="1239840" cy="1189800"/>
            </a:xfrm>
          </p:grpSpPr>
          <p:sp>
            <p:nvSpPr>
              <p:cNvPr id="307" name="Freeform 73"/>
              <p:cNvSpPr/>
              <p:nvPr/>
            </p:nvSpPr>
            <p:spPr>
              <a:xfrm>
                <a:off x="25347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08" name="Text Box 74"/>
              <p:cNvSpPr/>
              <p:nvPr/>
            </p:nvSpPr>
            <p:spPr>
              <a:xfrm>
                <a:off x="2494080" y="112392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09" name="Group 75"/>
            <p:cNvGrpSpPr/>
            <p:nvPr/>
          </p:nvGrpSpPr>
          <p:grpSpPr>
            <a:xfrm>
              <a:off x="4094280" y="702000"/>
              <a:ext cx="1239840" cy="1189800"/>
              <a:chOff x="4094280" y="702000"/>
              <a:chExt cx="1239840" cy="1189800"/>
            </a:xfrm>
          </p:grpSpPr>
          <p:grpSp>
            <p:nvGrpSpPr>
              <p:cNvPr id="310" name="Group 76"/>
              <p:cNvGrpSpPr/>
              <p:nvPr/>
            </p:nvGrpSpPr>
            <p:grpSpPr>
              <a:xfrm>
                <a:off x="4139640" y="702000"/>
                <a:ext cx="1153080" cy="1189800"/>
                <a:chOff x="4139640" y="702000"/>
                <a:chExt cx="1153080" cy="1189800"/>
              </a:xfrm>
            </p:grpSpPr>
            <p:sp>
              <p:nvSpPr>
                <p:cNvPr id="311" name="Freeform 77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312" name="Freeform 78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313" name="Text Box 79"/>
              <p:cNvSpPr/>
              <p:nvPr/>
            </p:nvSpPr>
            <p:spPr>
              <a:xfrm>
                <a:off x="40942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314" name="Line 27"/>
            <p:cNvSpPr/>
            <p:nvPr/>
          </p:nvSpPr>
          <p:spPr>
            <a:xfrm flipH="1">
              <a:off x="12189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315" name=""/>
            <p:cNvGrpSpPr/>
            <p:nvPr/>
          </p:nvGrpSpPr>
          <p:grpSpPr>
            <a:xfrm>
              <a:off x="838080" y="2041560"/>
              <a:ext cx="1241280" cy="1189440"/>
              <a:chOff x="838080" y="2041560"/>
              <a:chExt cx="1241280" cy="1189440"/>
            </a:xfrm>
          </p:grpSpPr>
          <p:sp>
            <p:nvSpPr>
              <p:cNvPr id="316" name="Freeform 46"/>
              <p:cNvSpPr/>
              <p:nvPr/>
            </p:nvSpPr>
            <p:spPr>
              <a:xfrm>
                <a:off x="8427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17" name="Text Box 47"/>
              <p:cNvSpPr/>
              <p:nvPr/>
            </p:nvSpPr>
            <p:spPr>
              <a:xfrm>
                <a:off x="8380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318" name="Freeform 31"/>
            <p:cNvSpPr/>
            <p:nvPr/>
          </p:nvSpPr>
          <p:spPr>
            <a:xfrm>
              <a:off x="25430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19" name="Text Box 43"/>
            <p:cNvSpPr/>
            <p:nvPr/>
          </p:nvSpPr>
          <p:spPr>
            <a:xfrm>
              <a:off x="25830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320" name=""/>
            <p:cNvGrpSpPr/>
            <p:nvPr/>
          </p:nvGrpSpPr>
          <p:grpSpPr>
            <a:xfrm>
              <a:off x="4038480" y="2059560"/>
              <a:ext cx="1336680" cy="1189440"/>
              <a:chOff x="4038480" y="2059560"/>
              <a:chExt cx="1336680" cy="1189440"/>
            </a:xfrm>
          </p:grpSpPr>
          <p:sp>
            <p:nvSpPr>
              <p:cNvPr id="321" name="Freeform 48"/>
              <p:cNvSpPr/>
              <p:nvPr/>
            </p:nvSpPr>
            <p:spPr>
              <a:xfrm>
                <a:off x="41148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22" name="Text Box 55"/>
              <p:cNvSpPr/>
              <p:nvPr/>
            </p:nvSpPr>
            <p:spPr>
              <a:xfrm>
                <a:off x="40384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323" name="Line 27"/>
            <p:cNvSpPr/>
            <p:nvPr/>
          </p:nvSpPr>
          <p:spPr>
            <a:xfrm flipH="1">
              <a:off x="11426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324" name=""/>
            <p:cNvGrpSpPr/>
            <p:nvPr/>
          </p:nvGrpSpPr>
          <p:grpSpPr>
            <a:xfrm>
              <a:off x="838080" y="3400920"/>
              <a:ext cx="1239840" cy="1191240"/>
              <a:chOff x="838080" y="3400920"/>
              <a:chExt cx="1239840" cy="1191240"/>
            </a:xfrm>
          </p:grpSpPr>
          <p:sp>
            <p:nvSpPr>
              <p:cNvPr id="325" name="Freeform 81"/>
              <p:cNvSpPr/>
              <p:nvPr/>
            </p:nvSpPr>
            <p:spPr>
              <a:xfrm>
                <a:off x="8701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26" name="Text Box 82"/>
              <p:cNvSpPr/>
              <p:nvPr/>
            </p:nvSpPr>
            <p:spPr>
              <a:xfrm>
                <a:off x="8380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27" name=""/>
            <p:cNvGrpSpPr/>
            <p:nvPr/>
          </p:nvGrpSpPr>
          <p:grpSpPr>
            <a:xfrm>
              <a:off x="2494080" y="3400920"/>
              <a:ext cx="1239840" cy="1191240"/>
              <a:chOff x="2494080" y="3400920"/>
              <a:chExt cx="1239840" cy="1191240"/>
            </a:xfrm>
          </p:grpSpPr>
          <p:sp>
            <p:nvSpPr>
              <p:cNvPr id="328" name="Freeform 30"/>
              <p:cNvSpPr/>
              <p:nvPr/>
            </p:nvSpPr>
            <p:spPr>
              <a:xfrm>
                <a:off x="25210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29" name="Text Box 54"/>
              <p:cNvSpPr/>
              <p:nvPr/>
            </p:nvSpPr>
            <p:spPr>
              <a:xfrm>
                <a:off x="24940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330" name="Freeform 50"/>
            <p:cNvSpPr/>
            <p:nvPr/>
          </p:nvSpPr>
          <p:spPr>
            <a:xfrm>
              <a:off x="41148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31" name="Text Box 51"/>
            <p:cNvSpPr/>
            <p:nvPr/>
          </p:nvSpPr>
          <p:spPr>
            <a:xfrm>
              <a:off x="40942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32" name="Line 27"/>
            <p:cNvSpPr/>
            <p:nvPr/>
          </p:nvSpPr>
          <p:spPr>
            <a:xfrm flipH="1">
              <a:off x="12189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333" name=""/>
            <p:cNvGrpSpPr/>
            <p:nvPr/>
          </p:nvGrpSpPr>
          <p:grpSpPr>
            <a:xfrm>
              <a:off x="762120" y="4749840"/>
              <a:ext cx="1420560" cy="1189440"/>
              <a:chOff x="762120" y="4749840"/>
              <a:chExt cx="1420560" cy="1189440"/>
            </a:xfrm>
          </p:grpSpPr>
          <p:sp>
            <p:nvSpPr>
              <p:cNvPr id="334" name="Freeform 57"/>
              <p:cNvSpPr/>
              <p:nvPr/>
            </p:nvSpPr>
            <p:spPr>
              <a:xfrm>
                <a:off x="9111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35" name="Text Box 58"/>
              <p:cNvSpPr/>
              <p:nvPr/>
            </p:nvSpPr>
            <p:spPr>
              <a:xfrm>
                <a:off x="7621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36" name=""/>
            <p:cNvGrpSpPr/>
            <p:nvPr/>
          </p:nvGrpSpPr>
          <p:grpSpPr>
            <a:xfrm>
              <a:off x="2494080" y="4681800"/>
              <a:ext cx="1239840" cy="1189800"/>
              <a:chOff x="2494080" y="4681800"/>
              <a:chExt cx="1239840" cy="1189800"/>
            </a:xfrm>
          </p:grpSpPr>
          <p:sp>
            <p:nvSpPr>
              <p:cNvPr id="337" name="Freeform 34"/>
              <p:cNvSpPr/>
              <p:nvPr/>
            </p:nvSpPr>
            <p:spPr>
              <a:xfrm>
                <a:off x="25430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38" name="Text Box 61"/>
              <p:cNvSpPr/>
              <p:nvPr/>
            </p:nvSpPr>
            <p:spPr>
              <a:xfrm>
                <a:off x="24940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39" name=""/>
            <p:cNvGrpSpPr/>
            <p:nvPr/>
          </p:nvGrpSpPr>
          <p:grpSpPr>
            <a:xfrm>
              <a:off x="4114800" y="4749840"/>
              <a:ext cx="1239840" cy="1189440"/>
              <a:chOff x="4114800" y="4749840"/>
              <a:chExt cx="1239840" cy="1189440"/>
            </a:xfrm>
          </p:grpSpPr>
          <p:sp>
            <p:nvSpPr>
              <p:cNvPr id="340" name="Freeform 63"/>
              <p:cNvSpPr/>
              <p:nvPr/>
            </p:nvSpPr>
            <p:spPr>
              <a:xfrm>
                <a:off x="41338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41" name="Text Box 64"/>
              <p:cNvSpPr/>
              <p:nvPr/>
            </p:nvSpPr>
            <p:spPr>
              <a:xfrm>
                <a:off x="41148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56EA47-3A3D-4D37-B6A0-14CAB20BFE4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aboratory A performs a culture, and 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Pseudomonas aeruginosa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is identified.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hat QC measures can you use to confirm that the isolate is correctly identified?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5A7033-2967-48EE-8CCB-0B619EAB5B3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680" y="457200"/>
            <a:ext cx="746784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2209680" y="1066680"/>
            <a:ext cx="5105520" cy="5257440"/>
            <a:chOff x="2209680" y="1066680"/>
            <a:chExt cx="5105520" cy="5257440"/>
          </a:xfrm>
        </p:grpSpPr>
        <p:sp>
          <p:nvSpPr>
            <p:cNvPr id="136" name="AutoShape 4"/>
            <p:cNvSpPr/>
            <p:nvPr/>
          </p:nvSpPr>
          <p:spPr>
            <a:xfrm>
              <a:off x="2209680" y="1066680"/>
              <a:ext cx="5105520" cy="5257440"/>
            </a:xfrm>
            <a:custGeom>
              <a:avLst/>
              <a:gdLst>
                <a:gd name="textAreaLeft" fmla="*/ 249120 w 5105520"/>
                <a:gd name="textAreaRight" fmla="*/ 4856400 w 5105520"/>
                <a:gd name="textAreaTop" fmla="*/ 249120 h 5257440"/>
                <a:gd name="textAreaBottom" fmla="*/ 5008320 h 5257440"/>
              </a:gdLst>
              <a:ahLst/>
              <a:rect l="textAreaLeft" t="textAreaTop" r="textAreaRight" b="textAreaBottom"/>
              <a:pathLst>
                <a:path w="21600" h="22243">
                  <a:moveTo>
                    <a:pt x="3600" y="0"/>
                  </a:moveTo>
                  <a:arcTo wR="3600" hR="3600" stAng="16200000" swAng="-5400000"/>
                  <a:lnTo>
                    <a:pt x="0" y="18643"/>
                  </a:lnTo>
                  <a:arcTo wR="3600" hR="3600" stAng="10800000" swAng="-5400000"/>
                  <a:lnTo>
                    <a:pt x="18000" y="2224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7" name="Freeform 9"/>
            <p:cNvSpPr/>
            <p:nvPr/>
          </p:nvSpPr>
          <p:spPr>
            <a:xfrm>
              <a:off x="4421160" y="3834000"/>
              <a:ext cx="118800" cy="705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8" name="Freeform 10"/>
            <p:cNvSpPr/>
            <p:nvPr/>
          </p:nvSpPr>
          <p:spPr>
            <a:xfrm>
              <a:off x="4389840" y="3826080"/>
              <a:ext cx="317160" cy="3783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9" name="Freeform 11"/>
            <p:cNvSpPr/>
            <p:nvPr/>
          </p:nvSpPr>
          <p:spPr>
            <a:xfrm>
              <a:off x="4389840" y="3826080"/>
              <a:ext cx="317160" cy="3783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0" name="Freeform 12"/>
            <p:cNvSpPr/>
            <p:nvPr/>
          </p:nvSpPr>
          <p:spPr>
            <a:xfrm>
              <a:off x="4647960" y="2567880"/>
              <a:ext cx="528840" cy="9453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1" name="Freeform 13"/>
            <p:cNvSpPr/>
            <p:nvPr/>
          </p:nvSpPr>
          <p:spPr>
            <a:xfrm>
              <a:off x="4647960" y="2567880"/>
              <a:ext cx="528840" cy="9453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2" name="Freeform 16"/>
            <p:cNvSpPr/>
            <p:nvPr/>
          </p:nvSpPr>
          <p:spPr>
            <a:xfrm>
              <a:off x="3076200" y="3210480"/>
              <a:ext cx="165600" cy="11088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3" name="Freeform 22"/>
            <p:cNvSpPr/>
            <p:nvPr/>
          </p:nvSpPr>
          <p:spPr>
            <a:xfrm>
              <a:off x="3065040" y="3148920"/>
              <a:ext cx="168840" cy="385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4" name="Line 24"/>
            <p:cNvSpPr/>
            <p:nvPr/>
          </p:nvSpPr>
          <p:spPr>
            <a:xfrm flipH="1" flipV="1">
              <a:off x="4824720" y="5932440"/>
              <a:ext cx="10800" cy="450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5" name="Line 25"/>
            <p:cNvSpPr/>
            <p:nvPr/>
          </p:nvSpPr>
          <p:spPr>
            <a:xfrm flipV="1">
              <a:off x="4566600" y="4794120"/>
              <a:ext cx="1440" cy="1015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>
              <a:off x="6338880" y="1713960"/>
              <a:ext cx="1440" cy="39837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>
              <a:off x="4762080" y="1868760"/>
              <a:ext cx="1440" cy="39834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8" name="Line 27"/>
            <p:cNvSpPr/>
            <p:nvPr/>
          </p:nvSpPr>
          <p:spPr>
            <a:xfrm>
              <a:off x="3110400" y="1917000"/>
              <a:ext cx="1080" cy="39834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9" name="Line 27"/>
            <p:cNvSpPr/>
            <p:nvPr/>
          </p:nvSpPr>
          <p:spPr>
            <a:xfrm flipH="1">
              <a:off x="2809800" y="1760400"/>
              <a:ext cx="38682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50" name="Group 65"/>
            <p:cNvGrpSpPr/>
            <p:nvPr/>
          </p:nvGrpSpPr>
          <p:grpSpPr>
            <a:xfrm>
              <a:off x="2509560" y="1156680"/>
              <a:ext cx="1243080" cy="1156320"/>
              <a:chOff x="2509560" y="1156680"/>
              <a:chExt cx="1243080" cy="1156320"/>
            </a:xfrm>
          </p:grpSpPr>
          <p:grpSp>
            <p:nvGrpSpPr>
              <p:cNvPr id="151" name="Group 66"/>
              <p:cNvGrpSpPr/>
              <p:nvPr/>
            </p:nvGrpSpPr>
            <p:grpSpPr>
              <a:xfrm>
                <a:off x="2509560" y="1156680"/>
                <a:ext cx="1220760" cy="1156320"/>
                <a:chOff x="2509560" y="1156680"/>
                <a:chExt cx="1220760" cy="1156320"/>
              </a:xfrm>
            </p:grpSpPr>
            <p:grpSp>
              <p:nvGrpSpPr>
                <p:cNvPr id="152" name="Group 67"/>
                <p:cNvGrpSpPr/>
                <p:nvPr/>
              </p:nvGrpSpPr>
              <p:grpSpPr>
                <a:xfrm>
                  <a:off x="2560320" y="1156680"/>
                  <a:ext cx="1135440" cy="1156320"/>
                  <a:chOff x="2560320" y="1156680"/>
                  <a:chExt cx="1135440" cy="1156320"/>
                </a:xfrm>
              </p:grpSpPr>
              <p:sp>
                <p:nvSpPr>
                  <p:cNvPr id="153" name="Freeform 68"/>
                  <p:cNvSpPr/>
                  <p:nvPr/>
                </p:nvSpPr>
                <p:spPr>
                  <a:xfrm>
                    <a:off x="2560320" y="1156680"/>
                    <a:ext cx="1135440" cy="115632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54" name="Freeform 69"/>
                  <p:cNvSpPr/>
                  <p:nvPr/>
                </p:nvSpPr>
                <p:spPr>
                  <a:xfrm>
                    <a:off x="2560320" y="1156680"/>
                    <a:ext cx="1135440" cy="115632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</p:grpSp>
            <p:sp>
              <p:nvSpPr>
                <p:cNvPr id="155" name="Text Box 70"/>
                <p:cNvSpPr/>
                <p:nvPr/>
              </p:nvSpPr>
              <p:spPr>
                <a:xfrm>
                  <a:off x="2509560" y="1423080"/>
                  <a:ext cx="1220760" cy="36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156" name="Text Box 71"/>
              <p:cNvSpPr/>
              <p:nvPr/>
            </p:nvSpPr>
            <p:spPr>
              <a:xfrm>
                <a:off x="2531880" y="1566720"/>
                <a:ext cx="122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57" name="Group 72"/>
            <p:cNvGrpSpPr/>
            <p:nvPr/>
          </p:nvGrpSpPr>
          <p:grpSpPr>
            <a:xfrm>
              <a:off x="4141440" y="1156680"/>
              <a:ext cx="1221480" cy="1156320"/>
              <a:chOff x="4141440" y="1156680"/>
              <a:chExt cx="1221480" cy="1156320"/>
            </a:xfrm>
          </p:grpSpPr>
          <p:sp>
            <p:nvSpPr>
              <p:cNvPr id="158" name="Freeform 73"/>
              <p:cNvSpPr/>
              <p:nvPr/>
            </p:nvSpPr>
            <p:spPr>
              <a:xfrm>
                <a:off x="4181760" y="1156680"/>
                <a:ext cx="1136160" cy="115632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59" name="Text Box 74"/>
              <p:cNvSpPr/>
              <p:nvPr/>
            </p:nvSpPr>
            <p:spPr>
              <a:xfrm>
                <a:off x="4141440" y="156672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60" name="Group 75"/>
            <p:cNvGrpSpPr/>
            <p:nvPr/>
          </p:nvGrpSpPr>
          <p:grpSpPr>
            <a:xfrm>
              <a:off x="5718240" y="1156680"/>
              <a:ext cx="1221480" cy="1156320"/>
              <a:chOff x="5718240" y="1156680"/>
              <a:chExt cx="1221480" cy="1156320"/>
            </a:xfrm>
          </p:grpSpPr>
          <p:grpSp>
            <p:nvGrpSpPr>
              <p:cNvPr id="161" name="Group 76"/>
              <p:cNvGrpSpPr/>
              <p:nvPr/>
            </p:nvGrpSpPr>
            <p:grpSpPr>
              <a:xfrm>
                <a:off x="5762880" y="1156680"/>
                <a:ext cx="1136160" cy="1156320"/>
                <a:chOff x="5762880" y="1156680"/>
                <a:chExt cx="1136160" cy="1156320"/>
              </a:xfrm>
            </p:grpSpPr>
            <p:sp>
              <p:nvSpPr>
                <p:cNvPr id="162" name="Freeform 77"/>
                <p:cNvSpPr/>
                <p:nvPr/>
              </p:nvSpPr>
              <p:spPr>
                <a:xfrm>
                  <a:off x="5762880" y="1156680"/>
                  <a:ext cx="1136160" cy="115632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63" name="Freeform 78"/>
                <p:cNvSpPr/>
                <p:nvPr/>
              </p:nvSpPr>
              <p:spPr>
                <a:xfrm>
                  <a:off x="5762880" y="1156680"/>
                  <a:ext cx="1136160" cy="115632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164" name="Text Box 79"/>
              <p:cNvSpPr/>
              <p:nvPr/>
            </p:nvSpPr>
            <p:spPr>
              <a:xfrm>
                <a:off x="5718240" y="157104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165" name="Line 27"/>
            <p:cNvSpPr/>
            <p:nvPr/>
          </p:nvSpPr>
          <p:spPr>
            <a:xfrm flipH="1">
              <a:off x="2885040" y="3075120"/>
              <a:ext cx="38682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66" name=""/>
            <p:cNvGrpSpPr/>
            <p:nvPr/>
          </p:nvGrpSpPr>
          <p:grpSpPr>
            <a:xfrm>
              <a:off x="2509560" y="2458440"/>
              <a:ext cx="1223280" cy="1155960"/>
              <a:chOff x="2509560" y="2458440"/>
              <a:chExt cx="1223280" cy="1155960"/>
            </a:xfrm>
          </p:grpSpPr>
          <p:sp>
            <p:nvSpPr>
              <p:cNvPr id="167" name="Freeform 46"/>
              <p:cNvSpPr/>
              <p:nvPr/>
            </p:nvSpPr>
            <p:spPr>
              <a:xfrm>
                <a:off x="2513880" y="2458440"/>
                <a:ext cx="1138680" cy="1155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68" name="Text Box 47"/>
              <p:cNvSpPr/>
              <p:nvPr/>
            </p:nvSpPr>
            <p:spPr>
              <a:xfrm>
                <a:off x="2509560" y="2737080"/>
                <a:ext cx="1223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169" name="Freeform 31"/>
            <p:cNvSpPr/>
            <p:nvPr/>
          </p:nvSpPr>
          <p:spPr>
            <a:xfrm>
              <a:off x="4189680" y="2519280"/>
              <a:ext cx="1135800" cy="115812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70" name="Text Box 43"/>
            <p:cNvSpPr/>
            <p:nvPr/>
          </p:nvSpPr>
          <p:spPr>
            <a:xfrm>
              <a:off x="4228920" y="2535480"/>
              <a:ext cx="113400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71" name=""/>
            <p:cNvGrpSpPr/>
            <p:nvPr/>
          </p:nvGrpSpPr>
          <p:grpSpPr>
            <a:xfrm>
              <a:off x="5663160" y="2475720"/>
              <a:ext cx="1316880" cy="1155960"/>
              <a:chOff x="5663160" y="2475720"/>
              <a:chExt cx="1316880" cy="1155960"/>
            </a:xfrm>
          </p:grpSpPr>
          <p:sp>
            <p:nvSpPr>
              <p:cNvPr id="172" name="Freeform 48"/>
              <p:cNvSpPr/>
              <p:nvPr/>
            </p:nvSpPr>
            <p:spPr>
              <a:xfrm>
                <a:off x="5738040" y="2475720"/>
                <a:ext cx="1136880" cy="1155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73" name="Text Box 55"/>
              <p:cNvSpPr/>
              <p:nvPr/>
            </p:nvSpPr>
            <p:spPr>
              <a:xfrm>
                <a:off x="5663160" y="2766960"/>
                <a:ext cx="13168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174" name="Line 27"/>
            <p:cNvSpPr/>
            <p:nvPr/>
          </p:nvSpPr>
          <p:spPr>
            <a:xfrm flipH="1">
              <a:off x="2809800" y="4313880"/>
              <a:ext cx="38682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75" name=""/>
            <p:cNvGrpSpPr/>
            <p:nvPr/>
          </p:nvGrpSpPr>
          <p:grpSpPr>
            <a:xfrm>
              <a:off x="2509560" y="3779280"/>
              <a:ext cx="1221480" cy="1157400"/>
              <a:chOff x="2509560" y="3779280"/>
              <a:chExt cx="1221480" cy="1157400"/>
            </a:xfrm>
          </p:grpSpPr>
          <p:sp>
            <p:nvSpPr>
              <p:cNvPr id="176" name="Freeform 81"/>
              <p:cNvSpPr/>
              <p:nvPr/>
            </p:nvSpPr>
            <p:spPr>
              <a:xfrm>
                <a:off x="2540880" y="3779280"/>
                <a:ext cx="1136520" cy="11574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77" name="Text Box 82"/>
              <p:cNvSpPr/>
              <p:nvPr/>
            </p:nvSpPr>
            <p:spPr>
              <a:xfrm>
                <a:off x="2509560" y="400428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78" name=""/>
            <p:cNvGrpSpPr/>
            <p:nvPr/>
          </p:nvGrpSpPr>
          <p:grpSpPr>
            <a:xfrm>
              <a:off x="4141440" y="3779280"/>
              <a:ext cx="1221480" cy="1157400"/>
              <a:chOff x="4141440" y="3779280"/>
              <a:chExt cx="1221480" cy="1157400"/>
            </a:xfrm>
          </p:grpSpPr>
          <p:sp>
            <p:nvSpPr>
              <p:cNvPr id="179" name="Freeform 30"/>
              <p:cNvSpPr/>
              <p:nvPr/>
            </p:nvSpPr>
            <p:spPr>
              <a:xfrm>
                <a:off x="4167720" y="3779280"/>
                <a:ext cx="1136880" cy="11574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80" name="Text Box 54"/>
              <p:cNvSpPr/>
              <p:nvPr/>
            </p:nvSpPr>
            <p:spPr>
              <a:xfrm>
                <a:off x="4141440" y="402228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181" name="Freeform 50"/>
            <p:cNvSpPr/>
            <p:nvPr/>
          </p:nvSpPr>
          <p:spPr>
            <a:xfrm>
              <a:off x="5738400" y="3772800"/>
              <a:ext cx="1137240" cy="115812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82" name="Text Box 51"/>
            <p:cNvSpPr/>
            <p:nvPr/>
          </p:nvSpPr>
          <p:spPr>
            <a:xfrm>
              <a:off x="5718240" y="3850200"/>
              <a:ext cx="122148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83" name="Line 27"/>
            <p:cNvSpPr/>
            <p:nvPr/>
          </p:nvSpPr>
          <p:spPr>
            <a:xfrm flipH="1">
              <a:off x="2885040" y="5626800"/>
              <a:ext cx="38682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84" name=""/>
            <p:cNvGrpSpPr/>
            <p:nvPr/>
          </p:nvGrpSpPr>
          <p:grpSpPr>
            <a:xfrm>
              <a:off x="2434680" y="5090400"/>
              <a:ext cx="1399680" cy="1155960"/>
              <a:chOff x="2434680" y="5090400"/>
              <a:chExt cx="1399680" cy="1155960"/>
            </a:xfrm>
          </p:grpSpPr>
          <p:sp>
            <p:nvSpPr>
              <p:cNvPr id="185" name="Freeform 57"/>
              <p:cNvSpPr/>
              <p:nvPr/>
            </p:nvSpPr>
            <p:spPr>
              <a:xfrm>
                <a:off x="2581200" y="5090400"/>
                <a:ext cx="1135440" cy="1155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86" name="Text Box 58"/>
              <p:cNvSpPr/>
              <p:nvPr/>
            </p:nvSpPr>
            <p:spPr>
              <a:xfrm>
                <a:off x="2434680" y="5319000"/>
                <a:ext cx="1399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4141440" y="5024160"/>
              <a:ext cx="1221480" cy="1156320"/>
              <a:chOff x="4141440" y="5024160"/>
              <a:chExt cx="1221480" cy="1156320"/>
            </a:xfrm>
          </p:grpSpPr>
          <p:sp>
            <p:nvSpPr>
              <p:cNvPr id="188" name="Freeform 34"/>
              <p:cNvSpPr/>
              <p:nvPr/>
            </p:nvSpPr>
            <p:spPr>
              <a:xfrm>
                <a:off x="4189320" y="5024160"/>
                <a:ext cx="1135440" cy="115632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89" name="Text Box 61"/>
              <p:cNvSpPr/>
              <p:nvPr/>
            </p:nvSpPr>
            <p:spPr>
              <a:xfrm>
                <a:off x="4141440" y="531864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90" name=""/>
            <p:cNvGrpSpPr/>
            <p:nvPr/>
          </p:nvGrpSpPr>
          <p:grpSpPr>
            <a:xfrm>
              <a:off x="5738400" y="5090400"/>
              <a:ext cx="1221480" cy="1155960"/>
              <a:chOff x="5738400" y="5090400"/>
              <a:chExt cx="1221480" cy="1155960"/>
            </a:xfrm>
          </p:grpSpPr>
          <p:sp>
            <p:nvSpPr>
              <p:cNvPr id="191" name="Freeform 63"/>
              <p:cNvSpPr/>
              <p:nvPr/>
            </p:nvSpPr>
            <p:spPr>
              <a:xfrm>
                <a:off x="5757120" y="5090400"/>
                <a:ext cx="1136880" cy="1155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92" name="Text Box 64"/>
              <p:cNvSpPr/>
              <p:nvPr/>
            </p:nvSpPr>
            <p:spPr>
              <a:xfrm>
                <a:off x="5738400" y="531900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21456E-3B29-4D61-B48C-41A4194A4C1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alitative or semi-quantitative tests - Example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6840" y="1599840"/>
            <a:ext cx="8077320" cy="360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microscopic examination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dipstick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erologic procedur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microbiological procedur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ny reaction that produces non-numeric resul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8A8AC-B275-4343-AF26-B509E0152359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rcRect l="0" t="0" r="4400" b="1607"/>
          <a:stretch/>
        </p:blipFill>
        <p:spPr>
          <a:xfrm>
            <a:off x="5638680" y="4572000"/>
            <a:ext cx="2457720" cy="168264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2"/>
          <a:srcRect l="15272" t="17455" r="15272" b="14546"/>
          <a:stretch/>
        </p:blipFill>
        <p:spPr>
          <a:xfrm>
            <a:off x="3429000" y="4572000"/>
            <a:ext cx="2209680" cy="1676520"/>
          </a:xfrm>
          <a:prstGeom prst="rect">
            <a:avLst/>
          </a:prstGeom>
          <a:ln w="0">
            <a:noFill/>
          </a:ln>
        </p:spPr>
      </p:pic>
      <p:pic>
        <p:nvPicPr>
          <p:cNvPr id="198" name="wbcrbc" descr=""/>
          <p:cNvPicPr/>
          <p:nvPr/>
        </p:nvPicPr>
        <p:blipFill>
          <a:blip r:embed="rId3"/>
          <a:srcRect l="20336" t="0" r="0" b="0"/>
          <a:stretch/>
        </p:blipFill>
        <p:spPr>
          <a:xfrm>
            <a:off x="1523880" y="4572000"/>
            <a:ext cx="1941480" cy="1690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D47077-A525-4C3C-8968-7DED19B0F73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mportant Concep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ample management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aff competency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uipment mainten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trol material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ains, media and reagents manag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 keep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FBA23-E9B4-447D-81B9-E30D05BE5C4D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93F973-C5B7-4B05-8A86-52CA63DE945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Control Material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built-in control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control materials that mimic patient sample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reference organism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634DA8-8BCE-45CE-92DC-9F33B8E58E1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Built-in Control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integrated into the design of a test kit devi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utomatically run with each test perform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ssess certain aspects of kit perform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may not assess entir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testing proces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2A75DA-3641-4EEC-A38D-C6657C245EA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raditional Control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materials with known reactiv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mimic patient sampl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ssess the integrity of the entire tes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030C93-2501-46C3-BE8F-5DC59DC24C4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9T17:20:49Z</dcterms:created>
  <dc:creator>exw2</dc:creator>
  <dc:description/>
  <dc:language>en-US</dc:language>
  <cp:lastModifiedBy>bergera</cp:lastModifiedBy>
  <dcterms:modified xsi:type="dcterms:W3CDTF">2009-05-19T09:52:17Z</dcterms:modified>
  <cp:revision>464</cp:revision>
  <dc:subject/>
  <dc:title>Slide 1</dc:title>
</cp:coreProperties>
</file>