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dt" idx="2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ftr" idx="3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 type="sldNum" idx="3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A77C-0FAA-48FE-B9DC-96A55D2910F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2328-C8F2-4C11-B9D5-4D9F949156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 quer continuar eficiente, deve arranjar tempo para repousar e fazer actividades que restabeleçam a sua energ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4A93-1551-4B69-9FCB-CEAF96F669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1579-6EE2-4652-9C26-BB1F56F4C11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B84E-9C86-4DC7-AEC9-123869CCACB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DB5D-F0CE-4ADD-98D7-4C46B2FF4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4699-2127-4429-BE95-56FA0C37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DF2AA-8DE1-400D-8A5C-5593DCB65E2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9401D-C4E8-406B-B49C-4398FAB9CCB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059F3-C3F7-444C-A201-2EC533A4384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4013F-FB80-4DC1-B8AD-97210C8CAC8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63C36-A434-49F3-99EF-7BB4F4772BF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2DB53-B99D-4464-90BD-FB1B6525767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E59A7-0B6B-40B6-8666-352C29C3CAF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E1AAF-178E-41E0-98BF-C4B4CB78117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7333C-E44D-4452-8307-3F64EE5D8D2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738A9A-F147-4D61-8F50-4972F893E1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FAF0-0B98-4E32-AD4A-0FFB36AF4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898480-29E0-4E38-90EE-0933B7D85DE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9BD0FE-A8DA-465F-AEFC-8E3B0CEE9B3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12080D-3786-4F43-B767-FB131C7B501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7C5A46-0200-4BE6-B271-FBEBD28BDCF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934ED8-DBBA-4420-BC6C-1806BF8784D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09E938-2618-4A4D-86AB-FBFF2CBF7D2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A81A11-D854-4E93-8906-55BEF9FF3D0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248E92-B246-4AAD-95EC-8EEFD961644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C77997-FAF9-44A9-8938-6C63032E00A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958149-3A42-4CAF-8B4D-86EF109E06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6924-7A6B-420D-BAAF-90EEEE512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0AE612-6498-45F7-83B0-3638A529500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398730-1BCB-4D30-9D4A-10495768D35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2D1BB4-4C50-43BB-82B6-2AC5A469E00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DCDDC2-7A33-4EC6-9FB6-EBEF01A14EA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4A8C7B-2A7A-4C67-BECF-235ED011187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BDA92E-4777-4DF7-97E4-2407833F90D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C4FC13-B889-451A-96BF-DE25E890D49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D70F8F-F604-4DEB-8392-E9585F3DBF3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3AD473-2768-49F7-8DC5-1E7F9C0815A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1B6571-D74C-49CE-989D-AC40BD22A0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87C2E-F43B-4CA0-B38B-481E552BA37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4D79E6-0CA4-4794-8B25-5ECFF2865F3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4A50A2-B983-4555-B59C-A0506C138A2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05C419-A7DF-4BCA-B63A-0BAEE4D7787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795E8-19C6-4C8A-BC23-854479BD319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6D214-137C-4F6C-9032-AA415EF1E51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76B54-AEFA-4E62-8CB5-A70859E1553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B6C1E-59C2-4417-A17E-2BAB11AC5FE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375CF-68C1-4E27-B3E9-164FC366D77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F7FC7-BA8C-4216-96AE-25985B53EA6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BB92B-E0D1-43A1-8550-5344FD20DD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15C43-B7E5-4B31-808F-FD77A31D402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C6F10-30CA-447E-B35A-10B01FE96C4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293AC-55A3-4809-ADC0-1CBE8D29C2B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EE51D-D537-4BE6-A0D9-E45D5F43C66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36DED-5373-4CCF-98DC-C689F112B1B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AE5B6-ECEB-4AD4-8E45-30EB1843048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1C67B1-07A0-4952-A94F-D58FBB36F08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646B27-07CD-4934-8A02-F115122186D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1FD9A1-79AE-4510-8912-63602717FD7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666017-A886-4DE0-8725-4E635AE0F56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89BD99-8211-47C4-957F-BADF737841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5D3C4-FA66-48E2-9F43-9BF5833AC22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862C60-01A8-4881-AA18-786810D89A7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748999-594F-4B9A-8B71-C02C59ACA4F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0229B1-C8AF-4CFD-BE01-BEB712023C9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303641-984B-44E5-BD6B-86D9F7E8B08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088DF6-D05B-4C28-BB03-7AC87E70736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6F5C81-AC58-4094-A8E3-A2B407911B7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D4AF48-851B-44E5-8C0C-C167F6D661D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9E8A35-6311-458B-B5D6-68032A35D13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EF7DEE-4DEF-4268-9711-9A3BE01DC24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F66301-2219-492C-B1BA-FDF0E100DB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F44F93-D852-4BB6-AB4F-6E68DE948FA5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2D8312-4927-4EA2-9BD8-6675AF29E91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784827-699B-4787-86B4-D17A0F3DD9A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EB8BD5-2943-4CE5-A1C1-3906FBB9F96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3CCF02-C6B2-4B30-9DAA-4F9E8E464BC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7D65D6-02C3-4DE7-8D9D-E7440AA5368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BE7383-AF90-4AB5-BF5B-0CF801F3EC5A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06E35B-7911-45BD-9A6D-E61467731F9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36FEDD-BBAF-4EAF-AA23-EEAAA6C52C9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A9C75B-50FF-4250-8A6B-DBAAB85F55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D46A2-A671-4C6A-9D0D-5589DAF630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3E881-F605-4FBF-9437-7E0C0496A7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9A3B9B-364B-4F28-82C8-C57FC8A9EF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656A-6E1E-44C3-9641-5D090414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CCEE8-8922-4D0F-A160-014F5D360A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BDDE8-A40F-46B9-BC03-FEBD21C6E8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07EDAD-BC05-4DE8-868B-F76CBF2327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E3506-1CFC-48BE-A36E-0890D48D09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11B9E-CD9A-4DC2-BC99-50D9AE286F6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21A4-167B-4E58-ACD9-EB065D7FDC8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A86B-7BBD-4318-9E67-6A7307AD478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C92B-A82A-46A1-BB34-19368A494B4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0352C-593D-40A5-A2BB-1B823C6B04D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E864-8EC1-4C8A-B2D6-E42684466F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9858-F475-4D92-A875-A6EC13CF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4874-384A-4AA9-A657-2E2B47ADDEC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5D67-53D0-411C-A866-DFBEDA736EC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5068-CC1F-43DB-AAF1-0450D2DA7FE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045B-6F11-4564-81DD-2881E14134E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A4E3-4E44-43B3-9F67-B20DC901999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C153-5BC7-4B2E-AD60-0B3A4AA3FDB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E4148-9205-4899-875E-8C95D07FFD8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555594-D106-4742-962B-96A6D416544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72291C-DF04-4154-8306-489C984D787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D2F97B-F82F-495E-AB4A-552388E433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AFEA-72BA-4FDD-B7E7-948F42D1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17C423-5A9D-48A7-9E77-F5BB2CB608F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A518E3-69BF-48BD-8E96-0CEF48E5E85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3CA968-EDA4-470B-9519-74F839D9411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43A486-7BA5-498E-AE23-B2C3372E5D8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662AD5-650A-4469-8042-EAAA44074CB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56DEEC-D436-40B3-92AB-800353FB934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BC123D-3CC7-4461-BBA3-DFAECC0F16C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3FF056-37E9-4731-A886-7FCD8B3A24A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7287F9-3614-4030-A58E-D004EFF2799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C932ED-C9CA-4D01-A5D1-5176E3D9DC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B175-063B-4C2E-9A33-65B3676B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536081-E869-4D55-B686-4DF5EA703EF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0F9FA0-23C4-41BD-B3BC-F2A1B09DBAE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4D2065-4FAD-4AB6-9918-6F500B02FAD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025C3C-1B02-4BC5-A2FE-155DF4A6AF5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19B2C0-950D-4312-B41B-0E528EA6BCC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F6DFBC-5355-47CF-9028-B5DC4349DB9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491234-B577-4EE0-8D91-C6D5AA4F2BE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8F66E2-3C8C-4A1A-85C8-FB25F601713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FD1A12-EA61-4A51-BA9E-150F21BBBFB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FD5CAE-A20D-4550-BD87-0CD0085598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FCED-9E17-4578-8F8A-D3FE9F6E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473054-B044-4E3F-A314-D368AE64EB2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7D0B0-42A7-4E59-B553-C4B910D506F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54942-C5C2-4E75-B446-C28DB5E730A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2FB09-0EEB-472A-8131-31639238B24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BB4F3-9704-4FE8-8A16-740801F86D7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5059B-E324-4E29-8BB6-DB20D895F25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4CAC1-9656-4925-A966-7ADEDCE923A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350AD-8B07-4203-87A4-2CA53F98B43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7D157-052D-42C8-BBFE-998BE345C63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BC4E5-6640-4DF9-B3F8-ADD2DC38DD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1A33-E949-4170-8289-1E85E741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B2518-B1C2-4F25-A4EA-2B0E634A549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2C35E-FAE2-4F3C-9313-4657BEC396D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6F495-0DDE-4465-9638-6A8529E9702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020532-6771-40C0-85AF-95DE48A329E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383DE2-5398-4356-B247-802123E708E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12E60B-CF92-4DC8-9FBD-57C23EE04FE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6A968F-4378-4EB0-8CF0-A3F3FF1A2AF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ACB2F9-EBA7-4E6C-895F-DEC4AEE9AD0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9D04EB-E6CE-4D31-AFB0-250A13093FD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26027E-9459-45DF-A251-198F0257BA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F00A-BD79-4FBA-9754-1409FFF2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A4631B-758E-474C-B498-2FF309A9116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7B2BF1-290B-4646-892F-B66C9D303A9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34FBEE-5FA0-420C-93A3-48254C64F8D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806EB0-8C2A-4159-98F0-26922E41428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BE119C-2C2C-448D-9687-75E5E296D37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8819D8-9026-4CA6-8098-E77F59D5436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E35341-E0E0-417B-9046-D784B952BB7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4DDE7F-F765-4457-8D10-90FBF41B63A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EA7116-2030-4096-9391-D3545920A1A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305AC9-0206-4D20-A04A-C5C721118E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5E09-0014-4A41-8896-6DDD7ACB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88E0F5-3047-4E3D-BE9F-C8AE287B94E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60B865-4D98-49FD-9B1A-0F88B654AEE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935F09-D042-41CF-9E67-0661391433F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593F64-B77F-4D88-9C02-4AC04F4824A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7D670A-7707-4546-9237-F15A1AD4871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853F9B-6E94-4E02-B72E-EFCACD26E83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36003B-C637-4E22-8DDE-1104F1E245B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B27F8-D8DA-4D6B-B174-7EC190B2815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1B5E4-4DE7-4B20-89B7-60AC65A51E7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32BC4-78F6-4761-B914-464FB5599C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A6C3-EC00-442D-8354-BE83F2BC1A0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6747-2235-4CCB-9EAA-A590D62874CB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424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5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6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ftr" idx="19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sldNum" idx="20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DFEC-7C57-4C39-B6C6-EF0FD90435CF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946E-8AF2-4C0D-A80E-BA42D73ABF6E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471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2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3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ftr" idx="21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sldNum" idx="22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B964-08C4-46DE-A008-D75B4EB9ED51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3F58-E4B8-4483-B3A8-272858467630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518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9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ftr" idx="23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sldNum" idx="24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60A2-C095-4769-9D4C-BE53890D941C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1E97-DBB0-4C35-9FDA-26BF5947450E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565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6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TextBox 18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ftr" idx="25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sldNum" idx="26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DDC5-4D80-462E-A0A6-E44AC3FA29C1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A83D-BEF8-498E-8874-5850F8E2DA17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612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3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4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ftr" idx="27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sldNum" idx="28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C783-2097-4CC9-A77A-E4788AE25D76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A41E-FDAB-4B87-B3AF-24FE4C83D6CE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5B8F-62AF-4950-B52A-7975B5BF9A8A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49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9560-9556-403B-809B-11E5097083BD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92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97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image1.png" descr=""/>
            <p:cNvPicPr/>
            <p:nvPr/>
          </p:nvPicPr>
          <p:blipFill>
            <a:blip r:embed="rId3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6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6626-73D6-4C2F-ACB5-27375C203415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1FBE-09C6-4BE3-83AA-F8598AEE006F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142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7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8"/>
          </p:nvPr>
        </p:nvSpPr>
        <p:spPr>
          <a:xfrm>
            <a:off x="845784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86CE-523F-48DC-ACBC-DE84CC7AAAFE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1F6E-9DE7-4574-8023-601AB8A0DF5A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189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0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9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0"/>
          </p:nvPr>
        </p:nvSpPr>
        <p:spPr>
          <a:xfrm>
            <a:off x="83818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AED2-34A2-4B28-87BA-3DE095ECD90D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43FD-6F71-4730-821E-F4F4366E9BBB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236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7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8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ftr" idx="11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sldNum" idx="12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CDBE-BF5D-48F6-845A-021A7FE7E04A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52CF-DA35-4DF3-BC7C-CC4D9390FC26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283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4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TextBox 18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ftr" idx="13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sldNum" idx="14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645A-6468-4B32-B851-9FAB3644E592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585D-835B-490D-B146-1FFC632D438C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330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2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ftr" idx="15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16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6A4B-4CD3-461F-B249-6141C1FC5B3F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218A-FCF0-46C5-BB3B-A2668E4091D6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377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8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9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17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sldNum" idx="18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C022-E002-4A9D-97C5-1676C69C8218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extranet.who.int/hslp" TargetMode="External"/><Relationship Id="rId2" Type="http://schemas.openxmlformats.org/officeDocument/2006/relationships/hyperlink" Target="mailto:ihrhrt@who.int" TargetMode="External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361960" y="84240"/>
            <a:ext cx="67482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3200" spc="-1" strike="noStrike">
                <a:solidFill>
                  <a:srgbClr val="002060"/>
                </a:solidFill>
                <a:latin typeface="Arial"/>
                <a:ea typeface="Arial"/>
              </a:rPr>
              <a:t>Equipas de Resposta Rápida </a:t>
            </a:r>
            <a:br>
              <a:rPr sz="3200"/>
            </a:br>
            <a:r>
              <a:rPr b="1" lang="pt-PT" sz="3200" spc="-1" strike="noStrike">
                <a:solidFill>
                  <a:srgbClr val="0070c0"/>
                </a:solidFill>
                <a:latin typeface="Arial"/>
                <a:ea typeface="Arial"/>
              </a:rPr>
              <a:t>Formaçã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0" y="4724280"/>
            <a:ext cx="90360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Preparação antes da partid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Duração: 30’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Box 1"/>
          <p:cNvSpPr/>
          <p:nvPr/>
        </p:nvSpPr>
        <p:spPr>
          <a:xfrm>
            <a:off x="73440" y="6477120"/>
            <a:ext cx="23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Arial"/>
              </a:rPr>
              <a:t>Actualizado em: 24/11/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O seu pacote básico de viagem?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7621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Uma mala pequena, se possível rígida (15 Kg)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Passaporte e outros documentos de identificação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Boletim de vacinas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Cartões bancários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Medicamentos prescritos 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Lanterna com pilhas novas 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Dispositivos de comunicação: telemóveis, telefones por satélite com carregadores e acumuladores de carga 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Adaptadores eléctricos 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Alimentos não perecíveis …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Instruções Iniciais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10253f"/>
                </a:solidFill>
                <a:latin typeface="Arial"/>
              </a:rPr>
              <a:t>As instruções antes do destacamento da equipa de ERR incluem a seguinte informação: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Objectivos da missão 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Dados mais recentes disponíveis (mesmo não tratados)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Mecanismo de relatórios esperado (dentro da equipa, para a Sede, etc.)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Indicadores/métrica por sector (isto é, epidemiologia, laboratório, WASH, etc.)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Intervenções em curso/anteriores (se existirem)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Instruções Iniciais (continuação)</a:t>
            </a:r>
            <a:br>
              <a:rPr sz="2600"/>
            </a:br>
            <a:endParaRPr b="0" lang="en-US" sz="26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10253f"/>
                </a:solidFill>
                <a:latin typeface="Arial"/>
              </a:rPr>
              <a:t>Informação, que pode ser recolhida individualmente pelos membros da equipa</a:t>
            </a: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, sobre os factores que podem ter impacto sobre a equipa no terreno, nas seguintes áreas-chave: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Geografia   – local (topografia, cidades, comodidades)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Demografia  - práticas socioculturais, religião, língua, grupos tribais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Política/Segurança  – conflitos na comunidade, reuniões/eventos sociopolíticos, festivais, etc.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Riscos ambientais – mosquitos, água... 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Logística pessoal  – o que está disponível no terreno – alimentos, água, abrigo, roupa, protecção contra intempéries.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Evento de saúde pública em curso (para o qual estão a preparar-se).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Outros.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2060"/>
                </a:solidFill>
                <a:latin typeface="Arial"/>
              </a:rPr>
              <a:t>Instruções Iniciais: Ex., Lista de verificação de material da ERR para a DVE</a:t>
            </a:r>
            <a:endParaRPr b="0" lang="en-US" sz="20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70c0"/>
                </a:solidFill>
                <a:latin typeface="Arial"/>
              </a:rPr>
              <a:t>Saúde individual e da equipa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Fazer a vacinação apropriada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400" spc="-1" strike="noStrike">
                <a:solidFill>
                  <a:srgbClr val="10253f"/>
                </a:solidFill>
                <a:latin typeface="Arial"/>
              </a:rPr>
              <a:t>Kit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de saúde pessoal e prescrições de rotina, profilaxia antipalúdica, desinfectante de mãos à base de álcool,</a:t>
            </a:r>
            <a:r>
              <a:rPr b="0" i="1" lang="pt-PT" sz="1400" spc="-1" strike="noStrike">
                <a:solidFill>
                  <a:srgbClr val="10253f"/>
                </a:solidFill>
                <a:latin typeface="Arial"/>
              </a:rPr>
              <a:t> kit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de primeiros socorros, termómetro IV, plano de evacuação médica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70c0"/>
                </a:solidFill>
                <a:latin typeface="Arial"/>
              </a:rPr>
              <a:t>Materiais impressos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Termos de referência para investigações e toda a informação disponível sobre o evento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Planos de contingência nacional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Procedimentos operacionais padrão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Lista de contactos das equipas centrais, intermédias e distritais, do coordenador geral do evento e das partes interessadas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Formulários de pesquisa de casos impressos, formulários de listagens, questionário das entrevistas, definição de casos, formulários de envio para os laboratórios, modelo de relatórios de situação, formulários de identificação e localização de contactos, formulários de consentimento para colheita de amostras, etc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Materiais para formação rápida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Orientações técnicas em papel, cartazes, material de comunicação de riscos.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70c0"/>
                </a:solidFill>
                <a:latin typeface="Arial"/>
              </a:rPr>
              <a:t>Tecnologias de Informação e Comunicação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Computadores portáteis e impressoras, sinal de internet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Telemóveis e recargas extra, rádios, se for necessário, etc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Informação da lista de contactos dos principais parceiros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Instruções Iniciais: Ex. Lista de Verificação da ERR para a DVE 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70c0"/>
                </a:solidFill>
                <a:latin typeface="Arial"/>
              </a:rPr>
              <a:t>Medicamento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Conjunto de infusão para reidratação 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SRO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Cursos de tratamento 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70c0"/>
                </a:solidFill>
                <a:latin typeface="Arial"/>
              </a:rPr>
              <a:t>Equipamento de terreno e EPP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Desinfectante para as mãos à base de álcool  sabão, HTH/lixívia 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EPP- vestuário não esterilizado, luvas nitrílicas descartáveis, luvas resistentes, máscaras N95, fato-macaco e/ou batas, botas de borracha, aventais resistentes, máscaras e/ou óculos de protecção, máscaras cirúrgicas.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Termómetros de infravermelho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Sacos para transporte de cadávere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Pulverizadores dorsai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Sacos descartáveis para resíduos biológicos perigosos 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200" spc="-1" strike="noStrike">
                <a:solidFill>
                  <a:srgbClr val="10253f"/>
                </a:solidFill>
                <a:latin typeface="Arial"/>
              </a:rPr>
              <a:t>Kit </a:t>
            </a: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para amostras (UN 2814,</a:t>
            </a:r>
            <a:r>
              <a:rPr b="0" i="1" lang="pt-PT" sz="1200" spc="-1" strike="noStrike">
                <a:solidFill>
                  <a:srgbClr val="10253f"/>
                </a:solidFill>
                <a:latin typeface="Arial"/>
              </a:rPr>
              <a:t> kit </a:t>
            </a: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para colheita de sangue, bastonetes para esfregaço oral, luvas, bastonetes com álcool )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Embalagem tripla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Caixa de segurança/recipiente para objectos cortante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70c0"/>
                </a:solidFill>
                <a:latin typeface="Arial"/>
              </a:rPr>
              <a:t>Transporte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Acesso a carros ou motorizadas e combustível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70c0"/>
                </a:solidFill>
                <a:latin typeface="Arial"/>
              </a:rPr>
              <a:t>Finança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Ajudas de custo, dinheiro para pequenas despesa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Acesso e mecanismo para libertar fundos do orçamento para emergência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 txBox="1"/>
          <p:nvPr/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Agora que chegou ao local com segurança, que primeiros passos deve dar?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UGESTÕES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Manter uma discussão preliminar (mesmo informal) com os colegas e parceiros no terreno: apresentar a sua perspectiva pessoal sobre a situação (incluindo segurança e protecção)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Procurar entender a dinâmica da situação e os actores envolvidos (parceiros do sector da saúde, líderes políticos, militares e outros actores não humanitários)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Distinguir o importante e urgente do trivial  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Ser prático e pragmático e manter-se em contacto próximo com as realidades do terreno … </a:t>
            </a:r>
            <a:r>
              <a:rPr b="0" lang="pt-PT" sz="2200" spc="-1" strike="noStrike">
                <a:solidFill>
                  <a:srgbClr val="ff0000"/>
                </a:solidFill>
                <a:latin typeface="Arial"/>
              </a:rPr>
              <a:t>Cuidado com a síndrome de excesso de confiança do 3.º dia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Não se esquecer de notificar e informar o seu supervisor!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Gestão do </a:t>
            </a:r>
            <a:r>
              <a:rPr b="1" i="1" lang="fr-FR" sz="3200" spc="-1" strike="noStrike">
                <a:solidFill>
                  <a:srgbClr val="002060"/>
                </a:solidFill>
                <a:latin typeface="Arial"/>
              </a:rPr>
              <a:t>stress</a:t>
            </a: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 …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O </a:t>
            </a:r>
            <a:r>
              <a:rPr b="0" i="1" lang="pt-PT" sz="2800" spc="-1" strike="noStrike">
                <a:solidFill>
                  <a:srgbClr val="10253f"/>
                </a:solidFill>
                <a:latin typeface="Arial"/>
              </a:rPr>
              <a:t>stress</a:t>
            </a: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 é um alarme fisiológico.. O seu corpo não aguenta mais …relaxe…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Reconheça os sinais e sintomas do </a:t>
            </a:r>
            <a:r>
              <a:rPr b="0" i="1" lang="pt-PT" sz="2800" spc="-1" strike="noStrike">
                <a:solidFill>
                  <a:srgbClr val="10253f"/>
                </a:solidFill>
                <a:latin typeface="Arial"/>
              </a:rPr>
              <a:t>stress</a:t>
            </a: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….. </a:t>
            </a:r>
            <a:r>
              <a:rPr b="0" lang="pt-PT" sz="2800" spc="-1" strike="noStrike">
                <a:solidFill>
                  <a:srgbClr val="ff0000"/>
                </a:solidFill>
                <a:latin typeface="Arial"/>
              </a:rPr>
              <a:t>Conheça-se a si mesmo...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Identifique os seus próprios mecanismos de resistência … 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É normal e humano pedir ajuda ou pedir um período de descanso...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Tahoma"/>
                <a:ea typeface="Tahoma"/>
              </a:rPr>
              <a:t>Gestão do </a:t>
            </a:r>
            <a:r>
              <a:rPr b="1" i="1" lang="fr-FR" sz="3200" spc="-1" strike="noStrike">
                <a:solidFill>
                  <a:srgbClr val="002060"/>
                </a:solidFill>
                <a:latin typeface="Tahoma"/>
                <a:ea typeface="Tahoma"/>
              </a:rPr>
              <a:t>stress</a:t>
            </a:r>
            <a:r>
              <a:rPr b="1" lang="fr-FR" sz="3200" spc="-1" strike="noStrike">
                <a:solidFill>
                  <a:srgbClr val="002060"/>
                </a:solidFill>
                <a:latin typeface="Tahoma"/>
                <a:ea typeface="Tahoma"/>
              </a:rPr>
              <a:t>...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pic>
        <p:nvPicPr>
          <p:cNvPr id="697" name="Picture 3" descr=""/>
          <p:cNvPicPr/>
          <p:nvPr/>
        </p:nvPicPr>
        <p:blipFill>
          <a:blip r:embed="rId1"/>
          <a:stretch/>
        </p:blipFill>
        <p:spPr>
          <a:xfrm>
            <a:off x="5443560" y="3646440"/>
            <a:ext cx="3510000" cy="234000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4" descr=""/>
          <p:cNvPicPr/>
          <p:nvPr/>
        </p:nvPicPr>
        <p:blipFill>
          <a:blip r:embed="rId2"/>
          <a:stretch/>
        </p:blipFill>
        <p:spPr>
          <a:xfrm>
            <a:off x="228600" y="1828800"/>
            <a:ext cx="4762440" cy="3171960"/>
          </a:xfrm>
          <a:prstGeom prst="rect">
            <a:avLst/>
          </a:prstGeom>
          <a:ln w="0">
            <a:noFill/>
          </a:ln>
        </p:spPr>
      </p:pic>
      <p:sp>
        <p:nvSpPr>
          <p:cNvPr id="699" name="TextBox 1"/>
          <p:cNvSpPr/>
          <p:nvPr/>
        </p:nvSpPr>
        <p:spPr>
          <a:xfrm>
            <a:off x="477720" y="1155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CANSO E RECUPERAÇÃO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2060"/>
                </a:solidFill>
                <a:latin typeface="Arial"/>
              </a:rPr>
              <a:t>De volta ao escritório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arque uma consulta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édica, se necessário …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tifique qualquer incidente ou condição de saúde que tenha ocorrido durante o seu destacamento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Converse com o seu supervisor e técnico psicossocial, se necessário 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Apresente o seu relatório electrónico da missão e documentos de despesas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0000"/>
                </a:solidFill>
                <a:latin typeface="Arial"/>
              </a:rPr>
              <a:t>Divirta-se…..Você merece…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pt-PT" sz="2900" spc="-1" strike="noStrike">
                <a:solidFill>
                  <a:srgbClr val="002060"/>
                </a:solidFill>
                <a:latin typeface="Arial"/>
              </a:rPr>
              <a:t>Objectivos da aprendizagem</a:t>
            </a:r>
            <a:br>
              <a:rPr sz="2900"/>
            </a:br>
            <a:endParaRPr b="0" lang="en-US" sz="29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No final desta apresentação, o participante deverá ser capaz de: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Identificar a informação-chave que a Equipa de Resposta Rápida (ERR) deve receber ou recolher antes de um destacamento, para cumprir a sua missão de forma eficaz e segura.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Identificar as actividades-chave que os membros da ERR devem realizar antes de um destacamento, para cumprir a sua missão de forma eficaz e segura</a:t>
            </a: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2060"/>
                </a:solidFill>
                <a:latin typeface="Arial"/>
              </a:rPr>
              <a:t>Exoneração de responsabilidade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03" name="Content Placeholder 2"/>
          <p:cNvSpPr/>
          <p:nvPr/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Plataforma da OMS para a Aprendizagem sobre Segurança Sanitária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Materiais de Form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Estes Materiais de Formação da OMS são propriedade da © Organização Mundial da Saúde (WHO) 2018. Todos os direitos reserv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 sua utilização destes materiais está sujeita aos “</a:t>
            </a:r>
            <a:r>
              <a:rPr b="0" lang="pt-PT" sz="1600" spc="-1" strike="noStrike">
                <a:solidFill>
                  <a:srgbClr val="0000ff"/>
                </a:solidFill>
                <a:latin typeface="Arial"/>
              </a:rPr>
              <a:t>Termos de Utilização dos Materia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ff"/>
                </a:solidFill>
                <a:latin typeface="Arial"/>
              </a:rPr>
              <a:t>de Formação da Plataforma da OMS para a Aprendizagem sobre Segurança Sanitária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”, que aceitou ao descarregá-los e que estão disponíveis na Plataforma da OMS para a Aprendizagem sobre Segurança Sanitária em: </a:t>
            </a:r>
            <a:r>
              <a:rPr b="0" lang="pt-PT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s://extranet.who.int/hslp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Caso adapte, modifique, traduza ou de alguma forma altere o conteúdo destes materiais, não poderá sugerir que a OMS de algum modo aprova essas modificações, como não poderá usar o nome ou o símbolo da OMS nos materiais modificado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Solicita-se ainda que informe a OMS de quaisquer alterações que tenha efectuado para utilização pública destes materiais, para fins de manutenção de registos e desenvolvimento contínuo, através do endereço electrónico </a:t>
            </a:r>
            <a:r>
              <a:rPr b="0" lang="pt-PT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ihrhrt@who.int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2060"/>
                </a:solidFill>
                <a:latin typeface="Arial"/>
              </a:rPr>
              <a:t>Obrigado!</a:t>
            </a:r>
            <a:endParaRPr b="0" lang="en-US" sz="6600" spc="-1" strike="noStrike">
              <a:solidFill>
                <a:srgbClr val="63252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Title 3" descr=""/>
          <p:cNvPicPr/>
          <p:nvPr/>
        </p:nvPicPr>
        <p:blipFill>
          <a:blip r:embed="rId1"/>
          <a:stretch/>
        </p:blipFill>
        <p:spPr>
          <a:xfrm>
            <a:off x="457200" y="546120"/>
            <a:ext cx="8229600" cy="59688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1800"/>
              </a:spcBef>
              <a:spcAft>
                <a:spcPts val="1199"/>
              </a:spcAft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500" spc="-1" strike="noStrike">
                <a:solidFill>
                  <a:srgbClr val="ff0000"/>
                </a:solidFill>
                <a:latin typeface="Arial"/>
              </a:rPr>
              <a:t>Conheça-se a si mesmo e os requisitos do seu local de trabalho </a:t>
            </a:r>
            <a:endParaRPr b="0" lang="en-US" sz="2500" spc="-1" strike="noStrike">
              <a:solidFill>
                <a:srgbClr val="10253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500" spc="-1" strike="noStrike">
                <a:solidFill>
                  <a:srgbClr val="000000"/>
                </a:solidFill>
                <a:latin typeface="Arial"/>
              </a:rPr>
              <a:t>Cumpra as normas e regulamentos que regem o seu destacamento: eles protegem-no...</a:t>
            </a:r>
            <a:endParaRPr b="0" lang="en-US" sz="2500" spc="-1" strike="noStrike">
              <a:solidFill>
                <a:srgbClr val="10253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spcAft>
                <a:spcPts val="1199"/>
              </a:spcAft>
              <a:buClr>
                <a:srgbClr val="558ed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500" spc="-1" strike="noStrike">
                <a:solidFill>
                  <a:srgbClr val="558ed5"/>
                </a:solidFill>
                <a:latin typeface="Arial"/>
              </a:rPr>
              <a:t>Tenha cuidado com as potenciais zonas cinzentas. </a:t>
            </a:r>
            <a:r>
              <a:rPr b="1" i="1" lang="pt-PT" sz="2400" spc="-1" strike="noStrike">
                <a:solidFill>
                  <a:srgbClr val="558ed5"/>
                </a:solidFill>
                <a:latin typeface="Arial"/>
              </a:rPr>
              <a:t>Não confie em compromissos verbais..</a:t>
            </a:r>
            <a:r>
              <a:rPr b="1" i="1" lang="pt-PT" sz="2500" spc="-1" strike="noStrike">
                <a:solidFill>
                  <a:srgbClr val="558ed5"/>
                </a:solidFill>
                <a:latin typeface="Arial"/>
              </a:rPr>
              <a:t>. </a:t>
            </a:r>
            <a:endParaRPr b="0" lang="en-US" sz="2500" spc="-1" strike="noStrike">
              <a:solidFill>
                <a:srgbClr val="10253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spcAft>
                <a:spcPts val="1199"/>
              </a:spcAft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500" spc="-1" strike="noStrike">
                <a:solidFill>
                  <a:srgbClr val="008000"/>
                </a:solidFill>
                <a:latin typeface="Arial"/>
              </a:rPr>
              <a:t>Está a gerir uma emergência de saúde pública…Não seja você a emergência … </a:t>
            </a:r>
            <a:endParaRPr b="0" lang="en-US" sz="25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2600" spc="-1" strike="noStrike">
                <a:solidFill>
                  <a:srgbClr val="002060"/>
                </a:solidFill>
                <a:latin typeface="Arial"/>
              </a:rPr>
              <a:t>Considere esta situação:</a:t>
            </a:r>
            <a:br>
              <a:rPr sz="2300"/>
            </a:br>
            <a:r>
              <a:rPr b="0" i="1" lang="pt-PT" sz="2300" spc="-1" strike="noStrike">
                <a:solidFill>
                  <a:srgbClr val="002060"/>
                </a:solidFill>
                <a:latin typeface="Arial"/>
              </a:rPr>
              <a:t>…Depois de uma noite de insónia …</a:t>
            </a:r>
            <a:br>
              <a:rPr sz="2300"/>
            </a:br>
            <a:r>
              <a:rPr b="0" i="1" lang="pt-PT" sz="2300" spc="-1" strike="noStrike">
                <a:solidFill>
                  <a:srgbClr val="002060"/>
                </a:solidFill>
                <a:latin typeface="Arial"/>
              </a:rPr>
              <a:t>…Acabou de receber uma mensagem electrónica informando-o de que foi destacado para responder a um surto de magnitude sem precedentes, de rápida propagação, com um alto nível de mortalidade, num distrito rural com um intenso conflito militar</a:t>
            </a:r>
            <a:endParaRPr b="0" lang="en-US" sz="23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0" name="TextBox 2"/>
          <p:cNvSpPr/>
          <p:nvPr/>
        </p:nvSpPr>
        <p:spPr>
          <a:xfrm>
            <a:off x="31680" y="495288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omo é que prepararia a sua acção? Por onde começaria?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2060"/>
                </a:solidFill>
                <a:latin typeface="Arial"/>
              </a:rPr>
              <a:t>Aspectos críticos: Preparação para o destacamento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Organize a sua família/vida social no local de partida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Organize a sua vida no local de chegada: obtenha informação sobre a área para onde vai ser destacado: clima, cultura, hábitos alimentares, segurança...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Organize a sua logística no local de chegada: prepare transporte e alojamento...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Leia os Termos de Referência ou, pelo menos, procure entender os objectivos da sua missão e os resultados esperados …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Procure a lista de contactos importantes: autoridades administrativas/políticas do distrito, autoridades locais de administração da saúde, contactos de hotéis e de colegas que já estejam no terreno … 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Sugestões: use uma lista de verificação para não esquecer alguns aspectos importantes…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Lista de verificação - 1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Bem-estar da família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Perguntas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  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Sim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Não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A missão foi discutida com a família?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                                                       □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              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                                                  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A possibilidade de extensão da missão?  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Foi estabelecido um plano de comunicação com a família?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                 □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Seguros actualizados e designados os beneficiários?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Contas pagas, como propinas escolares, ou tudo preparado?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                                                              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  <a:ea typeface="Calibri"/>
              </a:rPr>
              <a:t>Plano de sa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úde para a sua família acautelado?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Passaporte e vistos válidos?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400" spc="-1" strike="noStrike">
                <a:solidFill>
                  <a:srgbClr val="10253f"/>
                </a:solidFill>
                <a:latin typeface="TimesNewRoman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TimesNewRoman"/>
              </a:rPr>
              <a:t> 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                                  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Lista de verificação - 2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Bem-estar pessoal …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Sim            Não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Medicamentos prescritos suficientes?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□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Vacinação actualizada?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               □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Informação sobre como gerir o </a:t>
            </a:r>
            <a:r>
              <a:rPr b="0" i="1" lang="pt-PT" sz="1600" spc="-1" strike="noStrike">
                <a:solidFill>
                  <a:srgbClr val="10253f"/>
                </a:solidFill>
                <a:latin typeface="Arial"/>
              </a:rPr>
              <a:t>stress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?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               □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rtigos de uso pessoal (livro de orações, artigos de desporto …)?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Material de sobrevivência (produtos não perecíveis, água, lanterna …)?   □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spcAft>
                <a:spcPts val="10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lgo mais??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Lista de Verificação - 3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Logística…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Sim            Não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Viagem até ao local do destacamento?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□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Transporte durante o destacamento?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              □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lojamento?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              □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Fundos para material adicional ou acesso a esse material ?                   □ 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spcAft>
                <a:spcPts val="10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lgo mais ????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Lista de Verificação - 4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457200" y="10663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2060"/>
                </a:solidFill>
                <a:latin typeface="Arial"/>
              </a:rPr>
              <a:t>Questões administrativas e relativas ao trabalho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          Sim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Não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O seu contrato ainda é válido?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              □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Tem a autorização de viagem, com o itinerário oficial aprovado?     □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O certificado de formação obrigatório está válido?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Certificado de segurança aprovado ou, pelo menos, solicitado?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O certificado de segurança apenas é válido para o período de tempo e local especificados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Se o destacamento for internacional, obteve um visto válido?           □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Já foi feita a reserva de hotel ou preparativos de alojamento.            □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Perguntar sobre os modos de pagamento aceites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Arial"/>
              </a:rPr>
              <a:t>Não considere que a autorização para a missão é automática, mesmo que se trate de um destacamento interno para nacionais</a:t>
            </a: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4T15:29:54Z</dcterms:created>
  <dc:creator>User</dc:creator>
  <dc:description/>
  <dc:language>en-US</dc:language>
  <cp:lastModifiedBy>GOMEZ, Paula</cp:lastModifiedBy>
  <dcterms:modified xsi:type="dcterms:W3CDTF">2019-06-28T10:25:36Z</dcterms:modified>
  <cp:revision>129</cp:revision>
  <dc:subject/>
  <dc:title>Rapid Response Teams Training</dc:title>
</cp:coreProperties>
</file>