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A053-52B0-4894-9868-58E5EEA867D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E401-5A10-43FC-8F47-43738B2F41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 quer continuar eficiente, deve arranjar tempo para repousar e fazer actividades que restabeleçam a sua energ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ACDE-2CE4-463C-A14A-B762CD896C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C6A8-71E2-4364-A905-5FE0F57E834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CEE2-79A3-451D-92E9-68D82C4635A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02E4-1FCE-4FD0-9EBC-73155D40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E713-B2D8-4575-969F-6883C595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5272E-4B7C-49C9-9116-3736F808106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D654F-5B8A-47EE-ADC3-D06F3B1048B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AAC3A-13CE-46D1-92F9-ED389071062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4CF68-B1D7-4D11-9A84-EF788842AD5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F85BC-6380-48AD-B1F2-47585D4F791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A310F-1097-4AEF-89AB-F576D0A4E72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1FFAC-6840-4E4D-8EDB-2B3176D894D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D9522-D752-4498-BF3A-039BF938171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5242D-E85C-41CB-8EA7-5A9EBC190BC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1D9BFD-000A-4D87-9978-BF4E6CE11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FF9B-1F0E-4F76-9CF1-ADB4B8CE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F119CB-4AA4-4107-85C2-34982A25464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368213-A351-44C3-8B07-5BAAA123E80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3975FF-8562-440C-B534-3CFCCA668D9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1C8CCC-82AF-49FB-BAD5-A40CF1A0C1C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22C083-0EE9-4DB5-9489-3CC16EC0B12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7CC0CE-1DE7-4B9A-BB2E-401D13C0954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61C4D8-CA8E-4243-B1BB-5BF3F410E24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2C9D6A-0741-44FC-8109-99718DC70FA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595F39-63B2-4042-B9DD-4F48AE90F01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416AAA-5850-446F-9CD8-392E34F6E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D8F6-489F-4879-8356-C36F9595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BBD550-D23F-45B4-A1A2-87AFD480FB2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4B374C-8F63-4D65-A5E6-85A35292934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4AFC68-0F01-498D-96F7-DA61733DDF4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33BA4E-A0CF-4D76-A48A-F71E4DC24BB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20B61D-8FBB-4025-BCCD-D9DC3BA1CB5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8363A1-8D19-480A-8311-9668D31816C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25CD93-6081-46BD-9E21-C26A00A023A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AA2554-DF4A-4DBF-A9BB-5EDF9398481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EDE76E-075F-4EC4-B66B-107553D540C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B41D47-FB63-47F3-B21C-01E4BC045A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BE751-A2A1-4413-B9C0-0E5AEA1C366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ED4DF4-8BA3-4686-9721-9B2FE0210FE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0D1BE3-45B0-4621-809F-B017C702D1C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458C5D-B02F-4C2E-8043-D38D28F39E2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C5C91-AFDB-4267-9C77-CC324CE1ED6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94372-D800-4113-80F6-0CFD71EEAEA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22373-EA5C-4A44-9B2D-2F17B034570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E5A1F-FDB6-439D-B170-8BA500FF7B8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08517-D582-4AFA-BAC3-88D684BEDC4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064E4-A0D1-41C6-96D4-08D7E8C9DCC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1CE18-6B5E-4471-884D-969C4634FD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D2E6E-1BCD-49FE-B304-0064D6C60DB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150E3-DD43-4974-8245-CEA6D912E90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BD57C-E072-4F41-B8D9-17B08D2CB19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01E37-3E46-40BE-96F9-37E1C30F0A3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DB01A-C1A7-426A-A983-D06F39726EB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25338-E966-4B03-9327-83C98988A73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89D6E1-36BB-4C73-9801-2201C41007C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7C414B-35BB-4F8B-A429-2B9D640969A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C99DD0-31EC-47AD-93F6-0EB91EC871C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60A802-E521-46B1-A7C5-A3B1D2102A4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40D644-4422-4828-B899-F6B14D96E8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26DFD-DBFC-40B0-8490-DC3FE56A067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B1A362-A857-4DEE-A85B-A18A10A42CA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C04936-71EA-4E59-A6E6-D4687B195EA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AD2BB5-EAF5-4EBE-B4BD-B16E189B6E4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8CF51C-5121-47D0-BC45-EC081790AFB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9AFCB1-D170-4DDB-ADE9-493AE22FEE4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2A9453-7DD5-42C7-9A40-581D212FD9B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6ABB67-E857-4951-A45B-83E9A3B1CCE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F332E5-09F8-4801-BBD4-CF0F61D80C9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BAADC1-432B-433E-B450-53E71DCB1A7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E6E17D-0320-457E-9E2D-BEF7DE06F4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519C5-6ADF-41A5-AE4B-6F710A0A810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3DCA85-2127-45B9-BBCE-A8D6BEA48B3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7CFE66-7230-40BF-BCBE-8D499A621FA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5CF16F-A72E-45F2-B2CD-51AF4D1AA0A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1A3C80-D1D0-4A30-BCB2-2418E50C12E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BFB062-1F1B-46E8-B3B0-600EB9A213B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66328D-26D9-4A8A-B9E2-A4E88D95FC5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055614-AEEF-46C0-9118-34A77D52933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70E26E-440E-483E-A989-F301DAE9E7A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7CDEF3-47BE-4731-A676-BFC7874481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864D1-23AE-4CD2-AC0F-4E8EE8CB41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73FF5-A33A-413F-A948-3BDC8BB6C0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E7F5D-320B-4CD9-9B2F-B8BA367798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B1A3-BB2D-42DD-8B65-EF2FCFE9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43BE8-DAFC-463E-8332-C61A6298A2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C2CE2-D444-44AB-BD17-71C44D6EC8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48D41-BC88-4430-8EC8-9CDC4D8222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CA17F-5C04-43AC-8FF0-FD1F4870B4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C3F10-FF7C-493D-8277-58496643E5F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FC5C-6BB9-4C79-AAAB-B796DFA3C0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9E7D-5E07-4EF4-B6ED-82F8555275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E11A-0F4C-4B2C-BA65-F1D21B93C4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BE47-9C1C-48C0-9555-E249271E2B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979D-FD81-46A2-914F-0655E7BC7E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1B42-DAEF-4BB6-A213-3F75BF9D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C7BF-DF9F-4035-A13C-D820B0DB44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820A-3903-48FE-A87D-B3D1A21691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6A60-C8E4-450E-BCFC-59988C81BD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FD27-6A7D-4F5E-B386-07E7F523E8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FC99-2ED4-4EB1-8AA7-CAD0968467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0780-7FA1-457E-A3FB-E10C5F1EF9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C444-0E15-4A40-A4C7-5B4931B151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AA8C0-0D43-432B-901D-DE4398489E2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492E66-D45E-4E42-BA73-96AA0B570D0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904D02-7435-471D-8382-A9CD69C775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3EDC-ABAE-4218-B66F-A35BA026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FF88F5-A214-43E3-9FA1-9D95853E87D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17B271-C686-40FC-BD58-FFC522D5992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977014-478E-48EF-8974-20FBF13B18A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8FAAEA-BA5C-46FA-AD01-2FABF2F5F1B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04F0E-3367-4FCC-B28F-C65C6F8D7F8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20568-306B-4725-AB78-25BFBAB6D90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9568E7-F0DA-49A9-8CBC-A8E855E913A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372E0-DD6A-4FE3-A59D-75830D0B3DE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47770-F566-4419-8CA7-AFE222D8273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5DC363-6FF8-41FC-8963-A45A61199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C2E9-47D4-4991-BA92-9459A712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10D274-1DB9-4DA2-B6B9-0D579BAA835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D88AE5-9E1B-4FCC-A021-201B9B7811E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3EEA31-B6C5-43C9-967B-794B62185A5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020113-8BBB-427C-A266-92E06A6B19A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CEEDD9-8F6B-49E9-9449-511DA3A48DF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2037EB-0423-4ED4-BBBD-4FC48F7EF8F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BC6696-55EF-47A1-B7C1-7B5081A2172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FE6696-E03F-48B4-95F4-0A202E90D9F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8D073D-CF71-45EB-8338-7BA7D069164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D07942-18C1-4BE0-9F3A-DDEB9B2AB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2FAD-C961-45DB-8681-BE831363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D26F29-6290-41B4-B66B-1CA0D0B18D6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B60EA-FA27-42AC-8045-57989CA2103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B9A86-A08B-4B25-978F-8BC0B164DCD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2A0D9-7A1B-48EF-92FC-E12895CB690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D3627-264D-42F3-87AB-95448F1EAEA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6BEA7-C68E-4C78-BA8A-BDABFE95177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BFFE4-AD51-45A7-A0CF-76F3694CA35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D532A-4DC8-47ED-BE05-98ABF7C61E1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C0F1B-241C-4981-A418-287F8CABE52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CF1F4-8DD4-477C-AA16-BC1B4742E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BEEB-4C7C-4A4D-8C95-A1FD9F56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BE2C0-C946-45CD-A67B-00D836B92F6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3700C-9547-4E32-AE1E-E955F4BB1F8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36589-321A-432D-AA8E-AECD6FC1233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C22416-2B56-4110-B0D0-8A5AAC37167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87ABC5-D9C2-45B0-A120-0D0966DE7CE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00AFFA-D713-4759-8F1A-7F5B44EE0F5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C0591B-D485-469A-BBB9-B9B5D179C6C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BCBFE1-1105-4BB5-A454-1AB9153ADC6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402A1D-85DB-49D6-8ACF-041FBAF0C3B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15FA7F-B8F7-48C5-B1DC-E04FFBCFD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3DEC-6B1F-4089-BD5E-788BDE9C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93A16E-C9E6-453D-B643-C8B6ED37B1C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C4BF56-C39B-4B19-B29D-CFDE19DCB78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D5A1CD-D1C9-4970-9497-4B885F4042D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A0394C-C626-4277-AE50-8EDC0410E70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1D1DF6-97C4-47B3-A60D-52947CD5E88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37E14A-B0C9-4B26-8D24-337CDCD47D9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687BB3-9E00-4B88-9FB2-A9C4FB29F47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BA52DC-E36C-45CD-B297-C386C9EBC99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C5F662-6ED3-4AF9-990D-2DDDE1A5F58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F3B345-D126-4650-AED1-03F434ADDB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C272-3E5E-47A7-9CE3-97B43D05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70394B-6C22-4F4D-A8B7-0EB56951EED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BCBB1F-F521-4192-AB24-6D6974083C2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5A605C-4BAE-49C0-8AE3-16E71520358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373B01-E843-4C15-AE42-1A196DAD7A0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D18A4E-311D-4056-9FEF-DF4DF22B44C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893709-FC96-4188-8EDE-CF729BB75B0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FE861B-2AE3-4276-803F-77367F9F9ED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199CF-ECBC-41F9-8FB8-841B244BCC4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B6A27-79DA-4FAE-9D55-F4E8E91BCCF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4251A-E17A-4759-8A54-C3F0DD97C7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ECCC-6573-4BA9-B762-39B119465BA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F3DB-0A41-47D0-9A27-8B7312DD6566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24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19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20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1F2C-655C-4332-BD9E-C8FD466F6C7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F157-CBFF-4EC4-A0BA-50D943C1DA95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71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2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3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21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22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A43C-C960-4BF5-83B3-C6B1F87BB1B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A9FF-F807-42D6-9F95-173D1DF4A9F7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518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9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ftr" idx="23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sldNum" idx="24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BFC8-648D-46EC-83C8-C68D4A1F16C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D31F-2CDB-43CA-BC90-3E576DDB6855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565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TextBox 18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25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sldNum" idx="2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34F5-3D5F-497D-893C-3D5F5117939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4B9E-94B4-4ED8-AADF-3949E8922230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61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2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28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F974-5293-4F8A-BD5B-48540E36C26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AAA8-6D25-4B19-9A26-2E73D7945D4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3477-71E1-451E-94C2-51C7145DD703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9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BC12-DADE-4030-92BE-6B9C141C69EF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9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97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image1.png" descr=""/>
            <p:cNvPicPr/>
            <p:nvPr/>
          </p:nvPicPr>
          <p:blipFill>
            <a:blip r:embed="rId3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524C-8884-4BE9-8520-C007667B9F0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E717-B1A1-4642-8D4A-655D1830799F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14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8"/>
          </p:nvPr>
        </p:nvSpPr>
        <p:spPr>
          <a:xfrm>
            <a:off x="845784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C928-8DE4-4B59-BF7A-668080D1083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C787-E7E2-48FF-A76B-656E465B90AA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189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9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3818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1EB0-CFC6-4726-8C96-E628CF92AB9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6AB2-7BAA-4D0F-ABC7-C652DF62D16B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236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1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2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F177-073A-4699-B79D-2D22A394649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58A2-A20E-42D7-923A-EDA054F83D22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283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4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TextBox 18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13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14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A958-EB69-4924-A1ED-70165C5DD56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CFFF-1ACB-4E99-B814-7A01C6FFED5C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330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5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9FF2-FAFF-4E80-B84F-6A0966E2D28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4E6D-A41E-438D-B0CB-C666D9C77883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377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18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4570-5A4A-4372-B6AA-E2E982C7586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extranet.who.int/hslp" TargetMode="External"/><Relationship Id="rId2" Type="http://schemas.openxmlformats.org/officeDocument/2006/relationships/hyperlink" Target="mailto:ihrhrt@who.int" TargetMode="External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361960" y="84240"/>
            <a:ext cx="67482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002060"/>
                </a:solidFill>
                <a:latin typeface="Arial"/>
                <a:ea typeface="Arial"/>
              </a:rPr>
              <a:t>Equipas de Resposta Rápida </a:t>
            </a:r>
            <a:br>
              <a:rPr sz="3200"/>
            </a:br>
            <a:r>
              <a:rPr b="1" lang="pt-PT" sz="3200" spc="-1" strike="noStrike">
                <a:solidFill>
                  <a:srgbClr val="0070c0"/>
                </a:solidFill>
                <a:latin typeface="Arial"/>
                <a:ea typeface="Arial"/>
              </a:rPr>
              <a:t>Form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0" y="4724280"/>
            <a:ext cx="90360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Preparação antes da parti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Duração: 30’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"/>
          <p:cNvSpPr/>
          <p:nvPr/>
        </p:nvSpPr>
        <p:spPr>
          <a:xfrm>
            <a:off x="73440" y="6477120"/>
            <a:ext cx="23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Arial"/>
              </a:rPr>
              <a:t>Actualizado em: 24/1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O seu pacote básico de viagem?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7621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Uma mala pequena, se possível rígida (15 Kg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Passaporte e outros documentos de identificação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Boletim de vacinas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Cartões bancários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Medicamentos prescrito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Lanterna com pilhas nova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Dispositivos de comunicação: telemóveis, telefones por satélite com carregadores e acumuladores de carga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Adaptadores eléctrico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Alimentos não perecíveis …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Instruções Iniciais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0253f"/>
                </a:solidFill>
                <a:latin typeface="Arial"/>
              </a:rPr>
              <a:t>As instruções antes do destacamento da equipa de ERR incluem a seguinte informação: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Objectivos da missão 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Dados mais recentes disponíveis (mesmo não tratados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Mecanismo de relatórios esperado (dentro da equipa, para a Sede, etc.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Indicadores/métrica por sector (isto é, epidemiologia, laboratório, WASH, etc.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Intervenções em curso/anteriores (se existirem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Instruções Iniciais (continuação)</a:t>
            </a:r>
            <a:br>
              <a:rPr sz="2600"/>
            </a:br>
            <a:endParaRPr b="0" lang="en-US" sz="26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10253f"/>
                </a:solidFill>
                <a:latin typeface="Arial"/>
              </a:rPr>
              <a:t>Informação, que pode ser recolhida individualmente pelos membros da equipa</a:t>
            </a: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, sobre os factores que podem ter impacto sobre a equipa no terreno, nas seguintes áreas-chave: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Geografia   – local (topografia, cidades, comodidades)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Demografia  - práticas socioculturais, religião, língua, grupos tribais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Política/Segurança  – conflitos na comunidade, reuniões/eventos sociopolíticos, festivais, etc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Riscos ambientais – mosquitos, água... 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Logística pessoal  – o que está disponível no terreno – alimentos, água, abrigo, roupa, protecção contra intempéries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Evento de saúde pública em curso (para o qual estão a preparar-se)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Outros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Instruções Iniciais: Ex., Lista de verificação de material da ERR para a DVE</a:t>
            </a:r>
            <a:endParaRPr b="0" lang="en-US" sz="20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Saúde individual e da equipa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azer a vacinação apropriada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10253f"/>
                </a:solidFill>
                <a:latin typeface="Arial"/>
              </a:rPr>
              <a:t>Kit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de saúde pessoal e prescrições de rotina, profilaxia antipalúdica, desinfectante de mãos à base de álcool,</a:t>
            </a:r>
            <a:r>
              <a:rPr b="0" i="1" lang="pt-PT" sz="1400" spc="-1" strike="noStrike">
                <a:solidFill>
                  <a:srgbClr val="10253f"/>
                </a:solidFill>
                <a:latin typeface="Arial"/>
              </a:rPr>
              <a:t> kit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de primeiros socorros, termómetro IV, plano de evacuação médica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Materiais impress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Termos de referência para investigações e toda a informação disponível sobre o evento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lanos de contingência nacional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rocedimentos operacionais padrão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Lista de contactos das equipas centrais, intermédias e distritais, do coordenador geral do evento e das partes interessadas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ormulários de pesquisa de casos impressos, formulários de listagens, questionário das entrevistas, definição de casos, formulários de envio para os laboratórios, modelo de relatórios de situação, formulários de identificação e localização de contactos, formulários de consentimento para colheita de amostras, etc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Materiais para formação rápida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Orientações técnicas em papel, cartazes, material de comunicação de riscos.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Tecnologias de Informação e Comunicação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Computadores portáteis e impressoras, sinal de internet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Telemóveis e recargas extra, rádios, se for necessário, etc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Informação da lista de contactos dos principais parceir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Instruções Iniciais: Ex. Lista de Verificação da ERR para a DVE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Medicamento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onjunto de infusão para reidratação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RO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ursos de tratamento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Equipamento de terreno e EPP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Desinfectante para as mãos à base de álcool  sabão, HTH/lixívia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EPP- vestuário não esterilizado, luvas nitrílicas descartáveis, luvas resistentes, máscaras N95, fato-macaco e/ou batas, botas de borracha, aventais resistentes, máscaras e/ou óculos de protecção, máscaras cirúrgicas.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Termómetros de infravermelho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acos para transporte de cadávere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ulverizadores dorsai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acos descartáveis para resíduos biológicos perigosos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10253f"/>
                </a:solidFill>
                <a:latin typeface="Arial"/>
              </a:rPr>
              <a:t>Kit </a:t>
            </a: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ara amostras (UN 2814,</a:t>
            </a:r>
            <a:r>
              <a:rPr b="0" i="1" lang="pt-PT" sz="1200" spc="-1" strike="noStrike">
                <a:solidFill>
                  <a:srgbClr val="10253f"/>
                </a:solidFill>
                <a:latin typeface="Arial"/>
              </a:rPr>
              <a:t> kit </a:t>
            </a: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ara colheita de sangue, bastonetes para esfregaço oral, luvas, bastonetes com álcool )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Embalagem tripla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aixa de segurança/recipiente para objectos cortante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Transporte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cesso a carros ou motorizadas e combustível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Finanç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judas de custo, dinheiro para pequenas despes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cesso e mecanismo para libertar fundos do orçamento para emergênci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Agora que chegou ao local com segurança, que primeiros passos deve dar?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UGESTÕES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Manter uma discussão preliminar (mesmo informal) com os colegas e parceiros no terreno: apresentar a sua perspectiva pessoal sobre a situação (incluindo segurança e protecção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Procurar entender a dinâmica da situação e os actores envolvidos (parceiros do sector da saúde, líderes políticos, militares e outros actores não humanitários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Distinguir o importante e urgente do trivial  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Ser prático e pragmático e manter-se em contacto próximo com as realidades do terreno … </a:t>
            </a:r>
            <a:r>
              <a:rPr b="0" lang="pt-PT" sz="2200" spc="-1" strike="noStrike">
                <a:solidFill>
                  <a:srgbClr val="ff0000"/>
                </a:solidFill>
                <a:latin typeface="Arial"/>
              </a:rPr>
              <a:t>Cuidado com a síndrome de excesso de confiança do 3.º dia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Não se esquecer de notificar e informar o seu supervisor!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Gestão do </a:t>
            </a:r>
            <a:r>
              <a:rPr b="1" i="1" lang="fr-FR" sz="3200" spc="-1" strike="noStrike">
                <a:solidFill>
                  <a:srgbClr val="002060"/>
                </a:solidFill>
                <a:latin typeface="Arial"/>
              </a:rPr>
              <a:t>stress</a:t>
            </a: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O </a:t>
            </a:r>
            <a:r>
              <a:rPr b="0" i="1" lang="pt-PT" sz="28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 é um alarme fisiológico.. O seu corpo não aguenta mais …relaxe…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Reconheça os sinais e sintomas do </a:t>
            </a:r>
            <a:r>
              <a:rPr b="0" i="1" lang="pt-PT" sz="28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….. </a:t>
            </a:r>
            <a:r>
              <a:rPr b="0" lang="pt-PT" sz="2800" spc="-1" strike="noStrike">
                <a:solidFill>
                  <a:srgbClr val="ff0000"/>
                </a:solidFill>
                <a:latin typeface="Arial"/>
              </a:rPr>
              <a:t>Conheça-se a si mesmo..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Identifique os seus próprios mecanismos de resistência … 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É normal e humano pedir ajuda ou pedir um período de descanso..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Gestão do </a:t>
            </a:r>
            <a:r>
              <a:rPr b="1" i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stress</a:t>
            </a:r>
            <a:r>
              <a:rPr b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...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pic>
        <p:nvPicPr>
          <p:cNvPr id="697" name="Picture 3" descr=""/>
          <p:cNvPicPr/>
          <p:nvPr/>
        </p:nvPicPr>
        <p:blipFill>
          <a:blip r:embed="rId1"/>
          <a:stretch/>
        </p:blipFill>
        <p:spPr>
          <a:xfrm>
            <a:off x="5443560" y="3646440"/>
            <a:ext cx="3510000" cy="23400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4762440" cy="3171960"/>
          </a:xfrm>
          <a:prstGeom prst="rect">
            <a:avLst/>
          </a:prstGeom>
          <a:ln w="0">
            <a:noFill/>
          </a:ln>
        </p:spPr>
      </p:pic>
      <p:sp>
        <p:nvSpPr>
          <p:cNvPr id="699" name="TextBox 1"/>
          <p:cNvSpPr/>
          <p:nvPr/>
        </p:nvSpPr>
        <p:spPr>
          <a:xfrm>
            <a:off x="477720" y="1155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ANSO E RECUPERAÇÃO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2060"/>
                </a:solidFill>
                <a:latin typeface="Arial"/>
              </a:rPr>
              <a:t>De volta ao escritório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arque uma consulta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édica, se necessário …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tifique qualquer incidente ou condição de saúde que tenha ocorrido durante o seu destacamento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Converse com o seu supervisor e técnico psicossocial, se necessário 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Apresente o seu relatório electrónico da missão e documentos de despesas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Arial"/>
              </a:rPr>
              <a:t>Divirta-se…..Você merece…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pt-PT" sz="2900" spc="-1" strike="noStrike">
                <a:solidFill>
                  <a:srgbClr val="002060"/>
                </a:solidFill>
                <a:latin typeface="Arial"/>
              </a:rPr>
              <a:t>Objectivos da aprendizagem</a:t>
            </a:r>
            <a:br>
              <a:rPr sz="2900"/>
            </a:br>
            <a:endParaRPr b="0" lang="en-US" sz="29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No final desta apresentação, o participante deverá ser capaz de: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Identificar a informação-chave que a Equipa de Resposta Rápida (ERR) deve receber ou recolher antes de um destacamento, para cumprir a sua missão de forma eficaz e segura.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Identificar as actividades-chave que os membros da ERR devem realizar antes de um destacamento, para cumprir a sua missão de forma eficaz e segura</a:t>
            </a: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2060"/>
                </a:solidFill>
                <a:latin typeface="Arial"/>
              </a:rPr>
              <a:t>Exoneração de responsabilidade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3" name="Content Placeholder 2"/>
          <p:cNvSpPr/>
          <p:nvPr/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Plataforma da OMS para a Aprendizagem sobre Segurança Sanitária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Materiais de Form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Estes Materiais de Formação da OMS são propriedade da © Organização Mundial da Saúde (WHO) 2018. Todos os direitos reserv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 sua utilização destes materiais está sujeita aos “</a:t>
            </a:r>
            <a:r>
              <a:rPr b="0" lang="pt-PT" sz="1600" spc="-1" strike="noStrike">
                <a:solidFill>
                  <a:srgbClr val="0000ff"/>
                </a:solidFill>
                <a:latin typeface="Arial"/>
              </a:rPr>
              <a:t>Termos de Utilização dos Materi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ff"/>
                </a:solidFill>
                <a:latin typeface="Arial"/>
              </a:rPr>
              <a:t>de Formação da Plataforma da OMS para a Aprendizagem sobre Segurança Sanitária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”, que aceitou ao descarregá-los e que estão disponíveis na Plataforma da OMS para a Aprendizagem sobre Segurança Sanitária em: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extranet.who.int/hslp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Caso adapte, modifique, traduza ou de alguma forma altere o conteúdo destes materiais, não poderá sugerir que a OMS de algum modo aprova essas modificações, como não poderá usar o nome ou o símbolo da OMS nos materiais modificado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olicita-se ainda que informe a OMS de quaisquer alterações que tenha efectuado para utilização pública destes materiais, para fins de manutenção de registos e desenvolvimento contínuo, através do endereço electrónico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ihrhrt@who.int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2060"/>
                </a:solidFill>
                <a:latin typeface="Arial"/>
              </a:rPr>
              <a:t>Obrigado!</a:t>
            </a:r>
            <a:endParaRPr b="0" lang="en-US" sz="6600" spc="-1" strike="noStrike">
              <a:solidFill>
                <a:srgbClr val="63252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Title 3" descr=""/>
          <p:cNvPicPr/>
          <p:nvPr/>
        </p:nvPicPr>
        <p:blipFill>
          <a:blip r:embed="rId1"/>
          <a:stretch/>
        </p:blipFill>
        <p:spPr>
          <a:xfrm>
            <a:off x="457200" y="546120"/>
            <a:ext cx="8229600" cy="59688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ff0000"/>
                </a:solidFill>
                <a:latin typeface="Arial"/>
              </a:rPr>
              <a:t>Conheça-se a si mesmo e os requisitos do seu local de trabalho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000000"/>
                </a:solidFill>
                <a:latin typeface="Arial"/>
              </a:rPr>
              <a:t>Cumpra as normas e regulamentos que regem o seu destacamento: eles protegem-no...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558ed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558ed5"/>
                </a:solidFill>
                <a:latin typeface="Arial"/>
              </a:rPr>
              <a:t>Tenha cuidado com as potenciais zonas cinzentas. </a:t>
            </a:r>
            <a:r>
              <a:rPr b="1" i="1" lang="pt-PT" sz="2400" spc="-1" strike="noStrike">
                <a:solidFill>
                  <a:srgbClr val="558ed5"/>
                </a:solidFill>
                <a:latin typeface="Arial"/>
              </a:rPr>
              <a:t>Não confie em compromissos verbais..</a:t>
            </a:r>
            <a:r>
              <a:rPr b="1" i="1" lang="pt-PT" sz="2500" spc="-1" strike="noStrike">
                <a:solidFill>
                  <a:srgbClr val="558ed5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008000"/>
                </a:solidFill>
                <a:latin typeface="Arial"/>
              </a:rPr>
              <a:t>Está a gerir uma emergência de saúde pública…Não seja você a emergência …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2600" spc="-1" strike="noStrike">
                <a:solidFill>
                  <a:srgbClr val="002060"/>
                </a:solidFill>
                <a:latin typeface="Arial"/>
              </a:rPr>
              <a:t>Considere esta situação:</a:t>
            </a:r>
            <a:br>
              <a:rPr sz="2300"/>
            </a:br>
            <a:r>
              <a:rPr b="0" i="1" lang="pt-PT" sz="2300" spc="-1" strike="noStrike">
                <a:solidFill>
                  <a:srgbClr val="002060"/>
                </a:solidFill>
                <a:latin typeface="Arial"/>
              </a:rPr>
              <a:t>…Depois de uma noite de insónia …</a:t>
            </a:r>
            <a:br>
              <a:rPr sz="2300"/>
            </a:br>
            <a:r>
              <a:rPr b="0" i="1" lang="pt-PT" sz="2300" spc="-1" strike="noStrike">
                <a:solidFill>
                  <a:srgbClr val="002060"/>
                </a:solidFill>
                <a:latin typeface="Arial"/>
              </a:rPr>
              <a:t>…Acabou de receber uma mensagem electrónica informando-o de que foi destacado para responder a um surto de magnitude sem precedentes, de rápida propagação, com um alto nível de mortalidade, num distrito rural com um intenso conflito militar</a:t>
            </a:r>
            <a:endParaRPr b="0" lang="en-US" sz="23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0" name="TextBox 2"/>
          <p:cNvSpPr/>
          <p:nvPr/>
        </p:nvSpPr>
        <p:spPr>
          <a:xfrm>
            <a:off x="31680" y="495288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mo é que prepararia a sua acção? Por onde começaria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2060"/>
                </a:solidFill>
                <a:latin typeface="Arial"/>
              </a:rPr>
              <a:t>Aspectos críticos: Preparação para o destacamento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família/vida social no local de partida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vida no local de chegada: obtenha informação sobre a área para onde vai ser destacado: clima, cultura, hábitos alimentares, segurança...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logística no local de chegada: prepare transporte e alojamento...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Leia os Termos de Referência ou, pelo menos, procure entender os objectivos da sua missão e os resultados esperados …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Procure a lista de contactos importantes: autoridades administrativas/políticas do distrito, autoridades locais de administração da saúde, contactos de hotéis e de colegas que já estejam no terreno … 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Sugestões: use uma lista de verificação para não esquecer alguns aspectos importantes…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1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Bem-estar da família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Perguntas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  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Sim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Não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A missão foi discutida com a família?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                    □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              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               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A possibilidade de extensão da missão?  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oi estabelecido um plano de comunicação com a família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               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Seguros actualizados e designados os beneficiários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Contas pagas, como propinas escolares, ou tudo preparado?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                                                              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  <a:ea typeface="Calibri"/>
              </a:rPr>
              <a:t>Plano de sa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úde para a sua família acautelado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assaporte e vistos válidos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400" spc="-1" strike="noStrike">
                <a:solidFill>
                  <a:srgbClr val="10253f"/>
                </a:solidFill>
                <a:latin typeface="TimesNewRoman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TimesNewRoman"/>
              </a:rPr>
              <a:t> 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2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Bem-estar pessoal …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im            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Medicamentos prescritos suficientes?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Vacinação actualizada?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Informação sobre como gerir o </a:t>
            </a:r>
            <a:r>
              <a:rPr b="0" i="1" lang="pt-PT" sz="16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rtigos de uso pessoal (livro de orações, artigos de desporto …)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Material de sobrevivência (produtos não perecíveis, água, lanterna …)?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spcAft>
                <a:spcPts val="10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go mais?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3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Logística…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im            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Viagem até ao local do destacamento?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Transporte durante o destacamento?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ojamento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Fundos para material adicional ou acesso a esse material ?                   □ 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spcAft>
                <a:spcPts val="10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go mais ???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4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2060"/>
                </a:solidFill>
                <a:latin typeface="Arial"/>
              </a:rPr>
              <a:t>Questões administrativas e relativas ao trabalho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         Sim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O seu contrato ainda é válido?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             □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Tem a autorização de viagem, com o itinerário oficial aprovado?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O certificado de formação obrigatório está válido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Certificado de segurança aprovado ou, pelo menos, solicitado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O certificado de segurança apenas é válido para o período de tempo e local especificad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Se o destacamento for internacional, obteve um visto válido?      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Já foi feita a reserva de hotel ou preparativos de alojamento.       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Perguntar sobre os modos de pagamento aceite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Arial"/>
              </a:rPr>
              <a:t>Não considere que a autorização para a missão é automática, mesmo que se trate de um destacamento interno para nacionais</a:t>
            </a: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4T15:29:54Z</dcterms:created>
  <dc:creator>User</dc:creator>
  <dc:description/>
  <dc:language>en-US</dc:language>
  <cp:lastModifiedBy>GOMEZ, Paula</cp:lastModifiedBy>
  <dcterms:modified xsi:type="dcterms:W3CDTF">2019-06-28T10:25:36Z</dcterms:modified>
  <cp:revision>129</cp:revision>
  <dc:subject/>
  <dc:title>Rapid Response Teams Training</dc:title>
</cp:coreProperties>
</file>