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DCF3-0CC2-4E56-B112-2FA3B374B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65480" cy="3725640"/>
          </a:xfrm>
          <a:prstGeom prst="rect">
            <a:avLst/>
          </a:prstGeom>
          <a:ln w="0">
            <a:noFill/>
          </a:ln>
        </p:spPr>
      </p:sp>
      <p:sp>
        <p:nvSpPr>
          <p:cNvPr id="21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43C0-A832-4196-AA29-9C8C1B162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3D8EE-DDA4-4EFE-B2FA-A08E638E3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ABB10-867D-45D3-923B-4D8C94FE9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FFC16-886C-4AAD-8BC0-8E94920A8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6ED13-7D2A-4C98-AC56-875AC6612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DD226C-BC51-4FC1-AFB6-7B37265A68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2CB710-E259-41A2-83ED-E143868905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098F5C-6E19-40E4-A148-23643B60E4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DDA51B-A2A1-4C33-B48E-FAF334592D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97799D-22E7-42C3-866B-4562481F2C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6D19CBC-377F-4315-807E-058D900492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8C7DE-B613-428F-9799-F4DB508FF8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071C4-E043-44E3-8E2D-7E27344A1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066FFD-9094-41F9-B3DC-F1F8BB8527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1C6517-EC3B-4FFF-84DB-E00612D4EC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2ACF62-E536-4A6F-B426-E1401BA41A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AA51AC-35B4-493E-BCB1-B87F1C9EA9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0C4F07-E967-4B82-93EB-A40B3A76B1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26281-B337-4302-B04D-F3AAF1E51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BADBA-AF2A-429D-A835-963A4ED80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B908C-E417-4115-9B19-8B32BC071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E8177-335F-4D05-A69C-706917827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DCBB-CD98-4A22-B785-A8B3B2051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EE025-9F4B-49E6-A45F-A09E76225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B5583-1D6C-4E66-8BE5-7C0435F60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1C1F-D532-4910-A46B-1979BD4DB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F0057C6-BD27-4F2D-800E-81FB1220F5C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907D6D6-097E-470D-B207-691061D6ED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E05F-3F4B-4793-8875-60ABDC5B0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rm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ffffff"/>
                </a:solidFill>
                <a:latin typeface="Arial"/>
                <a:ea typeface="Verdana"/>
              </a:rPr>
              <a:t>Identificação de Contac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Sistema de vigilância sindrómic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Ênfase nos centros de transporte e nas fronteira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adro de Gestão de Incident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l formado para liderar a respost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Autoridade para tomar decisões e disponibilizar fund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Unidade de Tratamento do Ébola (UTE) [mínimo: 1]</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ara </a:t>
            </a:r>
            <a:r>
              <a:rPr b="1" lang="pt-PT" sz="2600" spc="-1" strike="noStrike">
                <a:solidFill>
                  <a:srgbClr val="000000"/>
                </a:solidFill>
                <a:latin typeface="Arial"/>
              </a:rPr>
              <a:t>CASOS CONFIRMAD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externo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riada utilizando orientações da OMS 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nfra-estruturas</a:t>
            </a:r>
            <a:endParaRPr b="0" lang="en-US" sz="4400" spc="-1" strike="noStrike">
              <a:solidFill>
                <a:srgbClr val="000000"/>
              </a:solidFill>
              <a:latin typeface="Arial"/>
            </a:endParaRPr>
          </a:p>
        </p:txBody>
      </p:sp>
      <p:sp>
        <p:nvSpPr>
          <p:cNvPr id="117"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Unidade de Contenção/Isolament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solamento de </a:t>
            </a:r>
            <a:r>
              <a:rPr b="1" lang="pt-PT" sz="2200" spc="-1" strike="noStrike">
                <a:solidFill>
                  <a:srgbClr val="000000"/>
                </a:solidFill>
                <a:latin typeface="Arial"/>
              </a:rPr>
              <a:t>CASOS SUSPEIT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fra-estruturas existe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rnece alimentos/necessidades básica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 houver necessidade de novo teste até 72 horas depoi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Tecnologia de Informação [não necessário]</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rograma EpiInfo V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Gestor de Dado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Plataforma para uma fácil partilha de dad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Notificação obrigatória à 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rviços Laboratoriais devem ser identific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necessitam estar no paí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Empacotamento e envio adequados das amostr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de Hierarquia do Pessoal</a:t>
            </a:r>
            <a:endParaRPr b="0" lang="en-US" sz="4400" spc="-1" strike="noStrike">
              <a:solidFill>
                <a:srgbClr val="000000"/>
              </a:solidFill>
              <a:latin typeface="Arial"/>
            </a:endParaRPr>
          </a:p>
        </p:txBody>
      </p:sp>
      <p:pic>
        <p:nvPicPr>
          <p:cNvPr id="119" name="Diagram 3" descr=""/>
          <p:cNvPicPr/>
          <p:nvPr/>
        </p:nvPicPr>
        <p:blipFill>
          <a:blip r:embed="rId1"/>
          <a:stretch/>
        </p:blipFill>
        <p:spPr>
          <a:xfrm>
            <a:off x="1494000" y="476280"/>
            <a:ext cx="5986440" cy="3589200"/>
          </a:xfrm>
          <a:prstGeom prst="rect">
            <a:avLst/>
          </a:prstGeom>
          <a:ln w="0">
            <a:noFill/>
          </a:ln>
        </p:spPr>
      </p:pic>
      <p:sp>
        <p:nvSpPr>
          <p:cNvPr id="120"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Diagram 7" descr=""/>
          <p:cNvPicPr/>
          <p:nvPr/>
        </p:nvPicPr>
        <p:blipFill>
          <a:blip r:embed="rId2"/>
          <a:stretch/>
        </p:blipFill>
        <p:spPr>
          <a:xfrm>
            <a:off x="914400" y="3743280"/>
            <a:ext cx="6480000" cy="26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quipa de Investigaçã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ntecedentes/Experiência:</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pidemiologistas, peritos em comportamento psicossocial (para problemas relacionados com estigmas e saúde mental) e peritos em comunicação da saúde (para problemas de educação e de trabalho em re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eriência e formação em investigar questões de identificação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Responsabilidades</a:t>
            </a:r>
            <a:r>
              <a:rPr b="0" lang="pt-P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r um caso acerca de potenciai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investigador estiver preocupado com o estado de saúde de um contacto</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r o contacto para determinar se deve ser considerado um caso de EVD</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Se o contacto estiver sintomático e, por isso, seja um caso suspeito, devem alertar o supervisor no terreno</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da se um novo caso for identificado através de outros meios (i.e. unidade de cuidados de saúde)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Visita domiciliária para identificar todos os contacto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r os contactos acerca do seu estado, do procedimento da identificação de contactos e oferecer apoio</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umerar todos os contactos n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Quantidade: </a:t>
            </a:r>
            <a:r>
              <a:rPr b="0" lang="pt-PT" sz="1800" spc="-1" strike="noStrike">
                <a:solidFill>
                  <a:srgbClr val="000000"/>
                </a:solidFill>
                <a:latin typeface="Arial"/>
              </a:rPr>
              <a:t>mínimo de duas pesso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Resposta Rápida (ERR):</a:t>
            </a:r>
            <a:r>
              <a:rPr b="0" lang="pt-PT"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Igual à Equipa de Investigação; subgrupo da E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r>
              <a:rPr b="0" lang="pt-PT"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sável pelo primeiro caso detectado no paí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serviço 24 horas por dia e 7 dias por seman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a:t>
            </a:r>
            <a:r>
              <a:rPr b="0" lang="pt-PT" sz="2800" spc="-1" strike="noStrike">
                <a:solidFill>
                  <a:srgbClr val="000000"/>
                </a:solidFill>
                <a:latin typeface="Arial"/>
              </a:rPr>
              <a:t> mínimo de duas pesso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28"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pidemiologista-chefe</a:t>
            </a:r>
            <a:r>
              <a:rPr b="0" lang="en-US" sz="2700" spc="-1" strike="noStrike" u="sng">
                <a:solidFill>
                  <a:srgbClr val="000000"/>
                </a:solidFill>
                <a:uFillTx/>
                <a:latin typeface="Arial"/>
              </a:rPr>
              <a:t>:</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do na identificação de contactos a nível nacion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iona todos os supervisores no terren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devem continuar a ser seguid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prioritár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cide quais os contactos que podem ser dispensados do seguime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unica com outros ramos, como a equipa de gestão de casos e a equipa de logística, quando um contacto se torna num caso suspeito</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 </a:t>
            </a:r>
            <a:r>
              <a:rPr b="0" lang="pt-PT" sz="2400" spc="-1" strike="noStrike">
                <a:solidFill>
                  <a:srgbClr val="000000"/>
                </a:solidFill>
                <a:latin typeface="Arial"/>
              </a:rPr>
              <a:t>mínimo de uma pessoa a nível na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Supervisor no Terreno:</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Um epidemiologista com experiência prévia de identificação de contacto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ribuir investigadores a contacto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Lidar com desafios e questões que surgem no terren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ctivar a equipa de investigação para um contacto sintomático</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as medidas de garantia de qualidad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colher dados sobre os actuais esforços de identificação</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a:t>
            </a:r>
            <a:r>
              <a:rPr b="0" lang="pt-PT" sz="2600" spc="-1" strike="noStrike">
                <a:solidFill>
                  <a:srgbClr val="000000"/>
                </a:solidFill>
                <a:latin typeface="Arial"/>
              </a:rPr>
              <a:t>: um supervisor no terreno para cada 5-10 investigado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Identifica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a:t>
            </a:r>
            <a:r>
              <a:rPr b="0" lang="pt-PT"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formação em identificação de contact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iáveis e responsáveis, com sensibilização cultural</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Responsabilidades</a:t>
            </a:r>
            <a:r>
              <a:rPr b="0" lang="pt-PT"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Visitar os contactos todos os dias durante 21 di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r / perguntar sobre o estado de saúde do contacto</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Organizar as equipas de identificação por áreas geográficas pode maximizar a eficácia</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Inclui investigadores das comunidades específicas ou vizinhas para aumentar a aceitabilidade das actividades de identificação de contactos entre os residentes da comunidade</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Quantidade:</a:t>
            </a:r>
            <a:r>
              <a:rPr b="0" lang="pt-PT" sz="2400" spc="-1" strike="noStrike">
                <a:solidFill>
                  <a:srgbClr val="000000"/>
                </a:solidFill>
                <a:latin typeface="Arial"/>
              </a:rPr>
              <a:t> pelo menos dois investigadores atribuídos a cada equip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1 equipa deve observar 10-20 contactos por dia, ou mais, dependendo do lo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a:t>
            </a:r>
            <a:endParaRPr b="0" lang="en-US" sz="4400" spc="-1" strike="noStrike">
              <a:solidFill>
                <a:srgbClr val="000000"/>
              </a:solidFill>
              <a:latin typeface="Arial"/>
            </a:endParaRPr>
          </a:p>
        </p:txBody>
      </p:sp>
      <p:sp>
        <p:nvSpPr>
          <p:cNvPr id="134" name=""/>
          <p:cNvSpPr txBox="1"/>
          <p:nvPr/>
        </p:nvSpPr>
        <p:spPr>
          <a:xfrm>
            <a:off x="457200" y="1197000"/>
            <a:ext cx="82296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Gestor de Dados:</a:t>
            </a:r>
            <a:r>
              <a:rPr b="0" lang="pt-PT" sz="3200" spc="-1" strike="noStrike">
                <a:solidFill>
                  <a:srgbClr val="000000"/>
                </a:solidFill>
                <a:latin typeface="Arial"/>
              </a:rPr>
              <a:t>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a:t>
            </a:r>
            <a:r>
              <a:rPr b="0"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periência prévia em gestão de dados e competências informáticas proficiente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hecimento da base de dados VHF EpiInfo</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 </a:t>
            </a:r>
            <a:r>
              <a:rPr b="1" lang="pt-PT" sz="2800" spc="-1" strike="noStrike">
                <a:solidFill>
                  <a:srgbClr val="000000"/>
                </a:solidFill>
                <a:latin typeface="Arial"/>
              </a:rPr>
              <a:t>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ssegurar que todos os dados são introduzidos electronicament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viar relatórios ao epidemiologista-chefe e à O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upervisionar quem faz a introdução dos dados</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mínimo de uma pessoa</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u="sng">
                <a:solidFill>
                  <a:srgbClr val="000000"/>
                </a:solidFill>
                <a:uFillTx/>
                <a:latin typeface="Arial"/>
              </a:rPr>
              <a:t>Equipa de Transportes:</a:t>
            </a:r>
            <a:r>
              <a:rPr b="0" lang="pt-PT"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Antecedentes/Experiência:</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mpreender o terreno e a geografia</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am formação de prevenção e controlo de infecções</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Responsabilidades</a:t>
            </a:r>
            <a:r>
              <a:rPr b="0" lang="pt-PT"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ransportar casos suspeitos e casos confirmados identificados para as unidades de isolamento e para as UTE</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Equipada com um veículo de transporte que pode lidar com as precauções relativamente a gotículas e permite a desinfecçã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Quantidade: </a:t>
            </a:r>
            <a:r>
              <a:rPr b="0" lang="pt-PT" sz="2600" spc="-1" strike="noStrike">
                <a:solidFill>
                  <a:srgbClr val="000000"/>
                </a:solidFill>
                <a:latin typeface="Arial"/>
              </a:rPr>
              <a:t>mínimo de três pessoas numa equipa</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2 para o transporte; 1 condu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bjectivos de Aprendizagem</a:t>
            </a:r>
            <a:endParaRPr b="0" lang="en-US" sz="44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Geral – os participantes deverão dominar a identificação de contactos como uma parte integrante do controlo eficaz da doença do vírus do Ébola (EVD).</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1 – Aprender definições relacionadas com casos e contactos de doentes com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2 – Compreender como se preparar para 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3 – Compreender a implementação da identificação de contactos relacionados com a EVD</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Arial"/>
              </a:rPr>
              <a:t>Objectivo Intermédio 4 – Compreender a gestão da identificação de contacto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Objectivo Intermédio 5 – Rever a forma de manter a garantia de qualidade durante a identificação de contactos relacionados com a EV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3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u="sng">
                <a:solidFill>
                  <a:srgbClr val="000000"/>
                </a:solidFill>
                <a:uFillTx/>
                <a:latin typeface="Arial"/>
              </a:rPr>
              <a:t>Equipa de Desinfecção</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Antecedentes/Experiênci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mbros da comunida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ncionários ou sanitaristas da saúde ambienta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beram a formação sobre o controlo da infecção do Ébola</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Responsabilidades:</a:t>
            </a:r>
            <a:r>
              <a:rPr b="0" lang="pt-PT"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sinfecção d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Locais onde se encontravam casos prováveis, suspeitos e confirmados, locais onde ocorreu a identificação inicial e/ou locais de enterro [depend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infecção dos veículos de transporte</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Coordenar com a equipa de transpor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Devem seguir as orientações da OMS e do CDC</a:t>
            </a:r>
            <a:endParaRPr b="0" lang="en-US" sz="1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700" spc="-1" strike="noStrike">
                <a:solidFill>
                  <a:srgbClr val="000000"/>
                </a:solidFill>
                <a:latin typeface="Arial"/>
              </a:rPr>
              <a:t>Quantidade</a:t>
            </a:r>
            <a:r>
              <a:rPr b="0" lang="pt-PT" sz="2700" spc="-1" strike="noStrike">
                <a:solidFill>
                  <a:srgbClr val="000000"/>
                </a:solidFill>
                <a:latin typeface="Arial"/>
              </a:rPr>
              <a:t>: mínimo de dois membros por equipa</a:t>
            </a:r>
            <a:endParaRPr b="0" lang="en-US" sz="2700" spc="-1" strike="noStrike">
              <a:solidFill>
                <a:srgbClr val="000000"/>
              </a:solidFill>
              <a:latin typeface="Arial"/>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Outras Equipas</a:t>
            </a:r>
            <a:endParaRPr b="0" lang="en-US" sz="4400" spc="-1" strike="noStrike">
              <a:solidFill>
                <a:srgbClr val="000000"/>
              </a:solidFill>
              <a:latin typeface="Arial"/>
            </a:endParaRPr>
          </a:p>
        </p:txBody>
      </p:sp>
      <p:sp>
        <p:nvSpPr>
          <p:cNvPr id="140" name=""/>
          <p:cNvSpPr txBox="1"/>
          <p:nvPr/>
        </p:nvSpPr>
        <p:spPr>
          <a:xfrm>
            <a:off x="457200" y="1197000"/>
            <a:ext cx="8229600" cy="49291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u="sng">
                <a:solidFill>
                  <a:srgbClr val="000000"/>
                </a:solidFill>
                <a:uFillTx/>
                <a:latin typeface="Arial"/>
              </a:rPr>
              <a:t>Equipa de Enterros:</a:t>
            </a:r>
            <a:r>
              <a:rPr b="0" lang="pt-PT" sz="3200" spc="-1" strike="noStrike">
                <a:solidFill>
                  <a:srgbClr val="000000"/>
                </a:solidFill>
                <a:latin typeface="Arial"/>
              </a:rPr>
              <a:t>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Antecedentes/Experiência: </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mbros da comunidade</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mbientalistas</a:t>
            </a:r>
            <a:endParaRPr b="0" lang="en-US" sz="24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beram a formação sobre o controlo da infecção do Ébola</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Responsabilidade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nterrar os casos prováveis, suspeitos e confirmados falecidos, assim como os contacto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Quantidade: </a:t>
            </a:r>
            <a:r>
              <a:rPr b="0" lang="pt-PT" sz="2800" spc="-1" strike="noStrike">
                <a:solidFill>
                  <a:srgbClr val="000000"/>
                </a:solidFill>
                <a:latin typeface="Arial"/>
              </a:rPr>
              <a:t>uma equipa de pelo menos 6 pessoa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4 para carregar o corpo, 1 para desinfectar o corpo e 1 cond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Recursos</a:t>
            </a:r>
            <a:endParaRPr b="0" lang="en-US" sz="4400" spc="-1" strike="noStrike">
              <a:solidFill>
                <a:srgbClr val="000000"/>
              </a:solidFill>
              <a:latin typeface="Arial"/>
            </a:endParaRPr>
          </a:p>
        </p:txBody>
      </p:sp>
      <p:graphicFrame>
        <p:nvGraphicFramePr>
          <p:cNvPr id="142" name=""/>
          <p:cNvGraphicFramePr/>
          <p:nvPr/>
        </p:nvGraphicFramePr>
        <p:xfrm>
          <a:off x="587520" y="1125360"/>
          <a:ext cx="8099280" cy="5402520"/>
        </p:xfrm>
        <a:graphic>
          <a:graphicData uri="http://schemas.openxmlformats.org/drawingml/2006/table">
            <a:tbl>
              <a:tblPr/>
              <a:tblGrid>
                <a:gridCol w="1672920"/>
                <a:gridCol w="1119240"/>
                <a:gridCol w="760680"/>
                <a:gridCol w="869760"/>
                <a:gridCol w="768240"/>
                <a:gridCol w="648000"/>
                <a:gridCol w="838080"/>
                <a:gridCol w="812880"/>
                <a:gridCol w="609480"/>
              </a:tblGrid>
              <a:tr h="19260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Equipa de Identificação de Contacto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Outras Equipa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pidemiologista-chef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Supervisor no Terren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nvestig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Identifica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Gestor de Dad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Transportes</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Desinfecção</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Equipa de Enterro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de Protecção Pessoa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Luvas descartávei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Bata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Protecção Facial (ou ócul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Facial N95/FFP2</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áscara cirúrgica para o cas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acos de plástico para riscos biológ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ecnologia de Informaçã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Sistema de Posicionamento Mundial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lemóveis (com carregament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mputadore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2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erramentas de Recolha de Dados Electrónic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Equipamento no Terren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Termómetr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Materiais de Escritóri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01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Formulários Apropriado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Calibri"/>
                          <a:ea typeface="Times New Roman"/>
                        </a:rPr>
                        <a:t>Transport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198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Calibri"/>
                          <a:ea typeface="Times New Roman"/>
                        </a:rPr>
                        <a:t>Condutor/Carr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Calibri"/>
                          <a:ea typeface="Times New Roman"/>
                        </a:rPr>
                        <a:t>X</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inanciamento</a:t>
            </a:r>
            <a:endParaRPr b="0" lang="en-US" sz="4400" spc="-1" strike="noStrike">
              <a:solidFill>
                <a:srgbClr val="000000"/>
              </a:solidFill>
              <a:latin typeface="Arial"/>
            </a:endParaRPr>
          </a:p>
        </p:txBody>
      </p:sp>
      <p:sp>
        <p:nvSpPr>
          <p:cNvPr id="14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Ordenad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pidemiologista-chef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upervisores no Terren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nvestigado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Gestor de D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ito psicossoci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dutor (se utilizad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quipamento (incluindo diapositivo dos recurso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usto do carregamento dos telemóve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ulários de impressã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Higienizador de mão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Transporte</a:t>
            </a:r>
            <a:r>
              <a:rPr b="0" lang="pt-PT" sz="2200" spc="-1" strike="noStrike">
                <a:solidFill>
                  <a:srgbClr val="000000"/>
                </a:solidFill>
                <a:latin typeface="Arial"/>
              </a:rPr>
              <a:t> (para supervisores no terreno, investigadores e equipa de investigação)</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áxis (se utiliz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bustível se forem utilizados veículos próp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IMPLEMENTAÇÃO</a:t>
            </a:r>
            <a:endParaRPr b="0" lang="en-US" sz="4000" spc="-1" strike="noStrike">
              <a:solidFill>
                <a:srgbClr val="000000"/>
              </a:solidFill>
              <a:latin typeface="Arial"/>
            </a:endParaRPr>
          </a:p>
        </p:txBody>
      </p:sp>
      <p:sp>
        <p:nvSpPr>
          <p:cNvPr id="14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Fluxograma</a:t>
            </a:r>
            <a:endParaRPr b="0" lang="en-US" sz="4400" spc="-1" strike="noStrike">
              <a:solidFill>
                <a:srgbClr val="000000"/>
              </a:solidFill>
              <a:latin typeface="Arial"/>
            </a:endParaRPr>
          </a:p>
        </p:txBody>
      </p:sp>
      <p:pic>
        <p:nvPicPr>
          <p:cNvPr id="148" name="Picture 3" descr=""/>
          <p:cNvPicPr/>
          <p:nvPr/>
        </p:nvPicPr>
        <p:blipFill>
          <a:blip r:embed="rId1"/>
          <a:stretch/>
        </p:blipFill>
        <p:spPr>
          <a:xfrm>
            <a:off x="1905120" y="1143000"/>
            <a:ext cx="5637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Identificação de Contactos</a:t>
            </a:r>
            <a:endParaRPr b="0" lang="en-US" sz="4400" spc="-1" strike="noStrike">
              <a:solidFill>
                <a:srgbClr val="000000"/>
              </a:solidFill>
              <a:latin typeface="Arial"/>
            </a:endParaRPr>
          </a:p>
        </p:txBody>
      </p:sp>
      <p:sp>
        <p:nvSpPr>
          <p:cNvPr id="150" name=""/>
          <p:cNvSpPr txBox="1"/>
          <p:nvPr/>
        </p:nvSpPr>
        <p:spPr>
          <a:xfrm>
            <a:off x="457200" y="1197000"/>
            <a:ext cx="8229600" cy="49291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um caso suspeito, provável ou confirmado é inicialmente detectado, a ERR é activada</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Todos os contactos devem ser identificados</a:t>
            </a:r>
            <a:endParaRPr b="0" lang="en-US" sz="28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Questões pertinentes para o caso</a:t>
            </a:r>
            <a:endParaRPr b="0" lang="en-US" sz="24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directa [com o caso vivo]</a:t>
            </a:r>
            <a:endParaRPr b="0" lang="en-US" sz="2000" spc="-1" strike="noStrike">
              <a:solidFill>
                <a:srgbClr val="000000"/>
              </a:solidFill>
              <a:latin typeface="Arial"/>
            </a:endParaRPr>
          </a:p>
          <a:p>
            <a:pPr lvl="3" marL="144000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utópsia verbal [com o caso morto]</a:t>
            </a:r>
            <a:endParaRPr b="0" lang="en-US" sz="20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isita domiciliária e à comunidade</a:t>
            </a:r>
            <a:endParaRPr b="0" lang="en-US" sz="24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OTA: podem ser necessárias várias entrevistas ao caso</a:t>
            </a:r>
            <a:endParaRPr b="0" lang="en-US" sz="24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reencher o </a:t>
            </a:r>
            <a:r>
              <a:rPr b="1" lang="pt-PT" sz="2800" spc="-1" strike="noStrike">
                <a:solidFill>
                  <a:srgbClr val="000000"/>
                </a:solidFill>
                <a:latin typeface="Arial"/>
              </a:rPr>
              <a:t>Formulário para a Lista de Contac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2"/>
          <p:cNvSpPr/>
          <p:nvPr/>
        </p:nvSpPr>
        <p:spPr>
          <a:xfrm>
            <a:off x="1856160" y="5157720"/>
            <a:ext cx="66045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Arial"/>
              </a:rPr>
              <a:t>* Tipos de Contac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1 = Tocou em fluídos corporais do doente (sangue, vómito, saliva, urina, fezes, esperma, su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2 = Teve contacto físico directo com o corpo do doente (vivo ou mor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3 = Tocou ou limpou os lençóis, vestuários ou louça do do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4 = Dormiu ou comeu na mesma casa que o doente</a:t>
            </a:r>
            <a:endParaRPr b="0" lang="en-US" sz="1200" spc="-1" strike="noStrike">
              <a:solidFill>
                <a:srgbClr val="000000"/>
              </a:solidFill>
              <a:latin typeface="Arial"/>
            </a:endParaRPr>
          </a:p>
        </p:txBody>
      </p:sp>
      <p:sp>
        <p:nvSpPr>
          <p:cNvPr id="152" name="TextBox 3"/>
          <p:cNvSpPr/>
          <p:nvPr/>
        </p:nvSpPr>
        <p:spPr>
          <a:xfrm>
            <a:off x="1246680" y="25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ÁRIO PARA A LISTA DE CONTACTOS COM ÉBOLA</a:t>
            </a:r>
            <a:endParaRPr b="0" lang="en-US" sz="1800" spc="-1" strike="noStrike">
              <a:solidFill>
                <a:srgbClr val="000000"/>
              </a:solidFill>
              <a:latin typeface="Arial"/>
            </a:endParaRPr>
          </a:p>
        </p:txBody>
      </p:sp>
      <p:graphicFrame>
        <p:nvGraphicFramePr>
          <p:cNvPr id="153" name="Object 4"/>
          <p:cNvGraphicFramePr/>
          <p:nvPr/>
        </p:nvGraphicFramePr>
        <p:xfrm>
          <a:off x="222120" y="425520"/>
          <a:ext cx="8810640" cy="5748120"/>
        </p:xfrm>
        <a:graphic>
          <a:graphicData uri="http://schemas.openxmlformats.org/presentationml/2006/ole">
            <p:oleObj r:id="rId1" spid="">
              <p:embed/>
              <p:pic>
                <p:nvPicPr>
                  <p:cNvPr id="154" name="Object 4" descr=""/>
                  <p:cNvPicPr/>
                  <p:nvPr/>
                </p:nvPicPr>
                <p:blipFill>
                  <a:blip r:embed="rId2"/>
                  <a:stretch/>
                </p:blipFill>
                <p:spPr>
                  <a:xfrm>
                    <a:off x="222120" y="425520"/>
                    <a:ext cx="8810640" cy="57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Lista de Contactos</a:t>
            </a:r>
            <a:endParaRPr b="0" lang="en-US" sz="4400" spc="-1" strike="noStrike">
              <a:solidFill>
                <a:srgbClr val="000000"/>
              </a:solidFill>
              <a:latin typeface="Arial"/>
            </a:endParaRPr>
          </a:p>
        </p:txBody>
      </p:sp>
      <p:sp>
        <p:nvSpPr>
          <p:cNvPr id="15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Contactos entrevistados pela equipa de investigaçã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rguntar a última data de contacto com o cas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Se houver discrepância, utilizar a data mais re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o estado de exposição</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t>
            </a:r>
            <a:r>
              <a:rPr b="0" lang="pt-PT" sz="2200" spc="-1" strike="noStrike">
                <a:solidFill>
                  <a:srgbClr val="000000"/>
                </a:solidFill>
                <a:latin typeface="Arial"/>
              </a:rPr>
              <a:t>Elevado’, ‘baixo’, ou ‘sem risco’</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Pessoas de Risco ‘Elevado” e ‘Baixo’ irão necessitar de seguimento</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Contactos assintomáticos podem continuar com as suas actividades diárias se tiverem um acesso atempado a instalações de cuidados de saúde caso fiquem doent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Depois de ser considerado um caso…</a:t>
            </a:r>
            <a:endParaRPr b="0" lang="en-US" sz="4000" spc="-1" strike="noStrike">
              <a:solidFill>
                <a:srgbClr val="000000"/>
              </a:solidFill>
              <a:latin typeface="Arial"/>
            </a:endParaRPr>
          </a:p>
        </p:txBody>
      </p:sp>
      <p:sp>
        <p:nvSpPr>
          <p:cNvPr id="15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ocorrer o segui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é notificado do seu esta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É explicado o procedimento de seguim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ucar acerca da EV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informações de contacto para a equipa de identificaçã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ar-lhes instruções para notificarem a equipa se se mudarem ou deixarem a área geográfic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DEFINIÇÕES</a:t>
            </a:r>
            <a:endParaRPr b="0" lang="en-US" sz="4000" spc="-1" strike="noStrike">
              <a:solidFill>
                <a:srgbClr val="000000"/>
              </a:solidFill>
              <a:latin typeface="Arial"/>
            </a:endParaRPr>
          </a:p>
        </p:txBody>
      </p:sp>
      <p:sp>
        <p:nvSpPr>
          <p:cNvPr id="10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 um contacto ficar doen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txBox="1"/>
          <p:nvPr/>
        </p:nvSpPr>
        <p:spPr>
          <a:xfrm>
            <a:off x="457200" y="1197000"/>
            <a:ext cx="8229600" cy="49291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estado é alterado para </a:t>
            </a:r>
            <a:r>
              <a:rPr b="1" lang="pt-PT" sz="3200" spc="-1" strike="noStrike">
                <a:solidFill>
                  <a:srgbClr val="000000"/>
                </a:solidFill>
                <a:latin typeface="Arial"/>
              </a:rPr>
              <a:t>CASO SUSPEITO</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equipa de investigação contacta o supervisor no terreno</a:t>
            </a:r>
            <a:endParaRPr b="0" lang="en-US" sz="32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ão activadas as equipas de transportes e desinfecção</a:t>
            </a:r>
            <a:endParaRPr b="0" lang="en-US" sz="28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ransportado para uma unidade de isolamento para ser analisado</a:t>
            </a:r>
            <a:endParaRPr b="0" lang="en-US" sz="3200" spc="-1" strike="noStrike">
              <a:solidFill>
                <a:srgbClr val="000000"/>
              </a:solidFill>
              <a:latin typeface="Arial"/>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É necessário iniciar a identificação de contactos e listar os contactos para este novo caso</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Seguimento do Contacto</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Visitas diárias da equipa de identificação durante 21 dias</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Local e hora pré-determin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 preferência, a mesma equipa durante todo o tempo</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ssegura uma continuidade e confianç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entifica nuances da rotina diária do contacto</a:t>
            </a:r>
            <a:endParaRPr b="0" lang="en-US" sz="20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alguns contactos não forem encontrados, devem ser notificados ao supervisor no terreno</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gistar esta informação no </a:t>
            </a:r>
            <a:r>
              <a:rPr b="1" lang="pt-PT" sz="2400" spc="-1" strike="noStrike">
                <a:solidFill>
                  <a:srgbClr val="000000"/>
                </a:solidFill>
                <a:latin typeface="Arial"/>
              </a:rPr>
              <a:t>Formulário de Resumo da Identificação</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O Supervisor no Terreno notifica: </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Gestor de Dado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Epidemiologista-che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Resumo da Identificação (para os Supervisores no Terreno</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164" name="Picture 3" descr=""/>
          <p:cNvPicPr/>
          <p:nvPr/>
        </p:nvPicPr>
        <p:blipFill>
          <a:blip r:embed="rId1"/>
          <a:stretch/>
        </p:blipFill>
        <p:spPr>
          <a:xfrm>
            <a:off x="1828800" y="1125360"/>
            <a:ext cx="5413320" cy="50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Cenários da Visita Diária</a:t>
            </a:r>
            <a:endParaRPr b="0" lang="en-US" sz="4000" spc="-1" strike="noStrike">
              <a:solidFill>
                <a:srgbClr val="000000"/>
              </a:solidFill>
              <a:latin typeface="Arial"/>
            </a:endParaRPr>
          </a:p>
        </p:txBody>
      </p:sp>
      <p:pic>
        <p:nvPicPr>
          <p:cNvPr id="166" name="Content Placeholder 2" descr=""/>
          <p:cNvPicPr/>
          <p:nvPr/>
        </p:nvPicPr>
        <p:blipFill>
          <a:blip r:embed="rId1"/>
          <a:stretch/>
        </p:blipFill>
        <p:spPr>
          <a:xfrm>
            <a:off x="371520" y="1073160"/>
            <a:ext cx="8315280" cy="50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Novas advertências de casos suspeitos</a:t>
            </a:r>
            <a:endParaRPr b="0" lang="en-US" sz="4400" spc="-1" strike="noStrike">
              <a:solidFill>
                <a:srgbClr val="000000"/>
              </a:solidFill>
              <a:latin typeface="Arial"/>
            </a:endParaRPr>
          </a:p>
        </p:txBody>
      </p:sp>
      <p:sp>
        <p:nvSpPr>
          <p:cNvPr id="16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estiver doente há mais de 3 dia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em isolamento até à repetição do teste no 3º dia</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POSI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É agora classificado como CASO CONFIRMAD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nsportado para a 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A equipa de investigação continua com a identificação de contactos deste caso</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00000"/>
                </a:solidFill>
                <a:latin typeface="Arial"/>
              </a:rPr>
              <a:t>Se o caso suspeito testar </a:t>
            </a:r>
            <a:r>
              <a:rPr b="1" lang="pt-PT" sz="2700" spc="-1" strike="noStrike">
                <a:solidFill>
                  <a:srgbClr val="000000"/>
                </a:solidFill>
                <a:latin typeface="Arial"/>
              </a:rPr>
              <a:t>NEGATIVO</a:t>
            </a:r>
            <a:r>
              <a:rPr b="0" lang="pt-PT" sz="2700" spc="-1" strike="noStrike">
                <a:solidFill>
                  <a:srgbClr val="000000"/>
                </a:solidFill>
                <a:latin typeface="Arial"/>
              </a:rPr>
              <a:t>:</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lassificado como um contac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tinua com o processo anterior de seguimento de 21 di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79280" y="2492280"/>
          <a:ext cx="8502840" cy="3672000"/>
        </p:xfrm>
        <a:graphic>
          <a:graphicData uri="http://schemas.openxmlformats.org/drawingml/2006/table">
            <a:tbl>
              <a:tblPr/>
              <a:tblGrid>
                <a:gridCol w="874800"/>
                <a:gridCol w="361800"/>
                <a:gridCol w="363600"/>
                <a:gridCol w="363600"/>
                <a:gridCol w="363600"/>
                <a:gridCol w="363600"/>
                <a:gridCol w="363600"/>
                <a:gridCol w="363240"/>
                <a:gridCol w="362160"/>
                <a:gridCol w="363600"/>
                <a:gridCol w="363600"/>
                <a:gridCol w="363240"/>
                <a:gridCol w="363600"/>
                <a:gridCol w="362160"/>
                <a:gridCol w="363240"/>
                <a:gridCol w="363600"/>
                <a:gridCol w="363600"/>
                <a:gridCol w="363600"/>
                <a:gridCol w="361800"/>
                <a:gridCol w="363600"/>
                <a:gridCol w="363600"/>
                <a:gridCol w="36360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a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Feb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Indisposiçã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muscula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cabeç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ores de gargant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Vómito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Diarrei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Erupção cutânea</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900" spc="-1" strike="noStrike">
                          <a:solidFill>
                            <a:srgbClr val="000000"/>
                          </a:solidFill>
                          <a:latin typeface="TT15At00"/>
                          <a:ea typeface="Times New Roman"/>
                        </a:rPr>
                        <a:t>Hemorragia (sangramento não explicado)</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TextBox 2"/>
          <p:cNvSpPr/>
          <p:nvPr/>
        </p:nvSpPr>
        <p:spPr>
          <a:xfrm>
            <a:off x="455400" y="1197000"/>
            <a:ext cx="9573120" cy="1175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Nome: _______________________________________        Sexo:_______      Idade:  _______          Data do último contacto (dd/mm/aa):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Morada:______________________________________        Telef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Instruções: Para cada dia, avaliar o contacto para os sintomas seguintes e escrever “sim” se o contacto possuir o sintoma e “não” se o contacto não possuir o sintoma.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ea typeface="Times New Roman"/>
              </a:rPr>
              <a:t>Se o contacto possuir algum dos sintomas, chamar imediatamente o departamento de saúde pública através do número XXX-XXX-XXXX. </a:t>
            </a:r>
            <a:endParaRPr b="0" lang="en-US" sz="1000" spc="-1" strike="noStrike">
              <a:solidFill>
                <a:srgbClr val="000000"/>
              </a:solidFill>
              <a:latin typeface="Arial"/>
            </a:endParaRPr>
          </a:p>
        </p:txBody>
      </p:sp>
      <p:sp>
        <p:nvSpPr>
          <p:cNvPr id="171"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Formulário de Seguimento Diário dos Contacto (para os Investigad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Alta do Contacto</a:t>
            </a:r>
            <a:endParaRPr b="0" lang="en-US" sz="4400" spc="-1" strike="noStrike">
              <a:solidFill>
                <a:srgbClr val="000000"/>
              </a:solidFill>
              <a:latin typeface="Arial"/>
            </a:endParaRPr>
          </a:p>
        </p:txBody>
      </p:sp>
      <p:sp>
        <p:nvSpPr>
          <p:cNvPr id="17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seguintes critérios forem satisfeitos ao 21º dia, o contacto recebe alta do processo de identificaçã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am realizados 21 dias de seguimento por parte da equipa de contac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O contacto foi avaliado ao 21º d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não estiver disponível, a alta não pode ocorrer até que o contacto seja avali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Identificação Inicial do Ca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caso de Ébola é identificado pelo sistema de vigilânc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é activad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entrevista o caso utilizando o </a:t>
            </a:r>
            <a:r>
              <a:rPr b="1" lang="pt-PT" sz="1800" spc="-1" strike="noStrike">
                <a:solidFill>
                  <a:srgbClr val="000000"/>
                </a:solidFill>
                <a:latin typeface="Arial"/>
              </a:rPr>
              <a:t>Questionário de Contactos do Caso de Doença do Vírus do Ébola </a:t>
            </a:r>
            <a:r>
              <a:rPr b="0" lang="pt-PT" sz="1800" spc="-1" strike="noStrike">
                <a:solidFill>
                  <a:srgbClr val="000000"/>
                </a:solidFill>
                <a:latin typeface="Arial"/>
              </a:rPr>
              <a:t>e realiza uma visita domiciliária para determinar a lista de contac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 equipa de resposta rápida reúne-se com cada um dos contactos e realiza o seguint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estado de saúde d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lerta o contacto para o seu est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ntrevista o contacto com o </a:t>
            </a:r>
            <a:r>
              <a:rPr b="1" lang="pt-PT" sz="1500" spc="-1" strike="noStrike">
                <a:solidFill>
                  <a:srgbClr val="000000"/>
                </a:solidFill>
                <a:latin typeface="Arial"/>
              </a:rPr>
              <a:t>Questionário de Contactos do Caso de Doença do Vírus do É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lica o procedimento de ser acompanhado diariamente durante 21 di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valia o risco de fuga do indivídu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Identifica um local e hora apropriados para uma reunião com o contac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epara o </a:t>
            </a:r>
            <a:r>
              <a:rPr b="1" lang="pt-PT" sz="1500" spc="-1" strike="noStrike">
                <a:solidFill>
                  <a:srgbClr val="000000"/>
                </a:solidFill>
                <a:latin typeface="Arial"/>
              </a:rPr>
              <a:t>Formulário para a Lista de Contactos</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distribui supervisores no terreno com base na distribuição geográfica dos conta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Resumo dos Passos: DIARIAMENTE</a:t>
            </a:r>
            <a:br>
              <a:rPr sz="4000"/>
            </a:br>
            <a:r>
              <a:rPr b="0" lang="pt-PT" sz="4000" spc="-1" strike="noStrike">
                <a:solidFill>
                  <a:srgbClr val="000000"/>
                </a:solidFill>
                <a:latin typeface="Arial"/>
              </a:rPr>
              <a:t>(Guia Passo a Passo)</a:t>
            </a:r>
            <a:endParaRPr b="0" lang="en-US" sz="4000" spc="-1" strike="noStrike">
              <a:solidFill>
                <a:srgbClr val="000000"/>
              </a:solidFill>
              <a:latin typeface="Arial"/>
            </a:endParaRPr>
          </a:p>
        </p:txBody>
      </p:sp>
      <p:sp>
        <p:nvSpPr>
          <p:cNvPr id="17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u="sng">
                <a:solidFill>
                  <a:srgbClr val="000000"/>
                </a:solidFill>
                <a:uFillTx/>
                <a:latin typeface="Arial"/>
              </a:rPr>
              <a:t>Diariament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6.     O epidemiologista-chefe distribui uma lista de contactos actualizada aos supervisores no terren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Os supervisores no terreno reúnem-se com as suas equipas de identificação e distribuem a lista para cada equipa, agrupando os contactos pela proximidade geográfic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8.     Os investigadores reúnem-se com cada um dos contactos e realizam as seguintes tarefa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Observação da condição geral do contacto para qualquer sinal explícito da doenç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ntrevista ao contacto relativamente ao seu estado de saúde (presença ou ausência de sintomas específ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eencher o </a:t>
            </a:r>
            <a:r>
              <a:rPr b="1" lang="pt-PT" sz="2000" spc="-1" strike="noStrike">
                <a:solidFill>
                  <a:srgbClr val="000000"/>
                </a:solidFill>
                <a:latin typeface="Arial"/>
              </a:rPr>
              <a:t>Formulário de Seguimento dos Contac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erguntar se conhecem mais alguém que esteja do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Resumo dos Passos: DIARIAMENTE</a:t>
            </a:r>
            <a:br>
              <a:rPr sz="3600"/>
            </a:br>
            <a:r>
              <a:rPr b="0" lang="pt-PT" sz="3600" spc="-1" strike="noStrike">
                <a:solidFill>
                  <a:srgbClr val="000000"/>
                </a:solidFill>
                <a:latin typeface="Arial"/>
              </a:rPr>
              <a:t>(Guia Passo a Passo)</a:t>
            </a:r>
            <a:endParaRPr b="0" lang="en-US" sz="3600" spc="-1" strike="noStrike">
              <a:solidFill>
                <a:srgbClr val="000000"/>
              </a:solidFill>
              <a:latin typeface="Arial"/>
            </a:endParaRPr>
          </a:p>
        </p:txBody>
      </p:sp>
      <p:sp>
        <p:nvSpPr>
          <p:cNvPr id="179" name=""/>
          <p:cNvSpPr txBox="1"/>
          <p:nvPr/>
        </p:nvSpPr>
        <p:spPr>
          <a:xfrm>
            <a:off x="468360" y="1916280"/>
            <a:ext cx="8229600" cy="40320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9.    Enquanto as equipas de identificação avaliam os contactos, o supervisor no terreno fornec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poio logístico, incluindo a providência de transporte para as equipas de identificação e assegura o pagament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Activação da equipa de investigação para qualquer contacto que os investigadores identifiquem como tendo apresentado sintoma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Garantia de qualidade para assegurar a precisão dos relatórios dos investigadores.</a:t>
            </a:r>
            <a:endParaRPr b="0" lang="en-US" sz="1500" spc="-1" strike="noStrike">
              <a:solidFill>
                <a:srgbClr val="000000"/>
              </a:solidFill>
              <a:latin typeface="Arial"/>
            </a:endParaRPr>
          </a:p>
          <a:p>
            <a:pPr>
              <a:lnSpc>
                <a:spcPct val="80000"/>
              </a:lnSpc>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o final do dia, os investigadores contactam os seus supervisores no terreno e notificam o estado dos seus contactos.</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supervisores no terreno completam o </a:t>
            </a:r>
            <a:r>
              <a:rPr b="1" lang="pt-PT" sz="1800" spc="-1" strike="noStrike">
                <a:solidFill>
                  <a:srgbClr val="000000"/>
                </a:solidFill>
                <a:latin typeface="Arial"/>
              </a:rPr>
              <a:t>Formulário de Resumo da Identificação </a:t>
            </a:r>
            <a:r>
              <a:rPr b="0" lang="pt-PT" sz="1800" spc="-1" strike="noStrike">
                <a:solidFill>
                  <a:srgbClr val="000000"/>
                </a:solidFill>
                <a:latin typeface="Arial"/>
              </a:rPr>
              <a:t>com base na informação fornecida pelos investigadores e equipa de investigação e os dados são enviados tanto para o epidemiologista-chefe como para o gestor de dados.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12.    O gestor de dados ou pessoal de registo de dados inserem os dados electronicamente.</a:t>
            </a:r>
            <a:endParaRPr b="0" lang="en-US" sz="1800" spc="-1" strike="noStrike">
              <a:solidFill>
                <a:srgbClr val="000000"/>
              </a:solidFill>
              <a:latin typeface="Arial"/>
            </a:endParaRPr>
          </a:p>
          <a:p>
            <a:pPr>
              <a:lnSpc>
                <a:spcPct val="80000"/>
              </a:lnSpc>
              <a:spcBef>
                <a:spcPts val="45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epidemiologista-chefe revê os dados e prepara a lista de contactos actuais/contínuos para o dia seguinte.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oções básicas da Identificação de Conta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FINIÇÃO: o processo de identificar, controlar e gerir a EVD para eliminar a transmiss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guimento sistemático durante 21 dias após a data do último contac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ríodo máximo de incub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ÃO DA IDENTIFICAÇÃO DE CONTACTOS</a:t>
            </a:r>
            <a:endParaRPr b="0" lang="en-US" sz="4000" spc="-1" strike="noStrike">
              <a:solidFill>
                <a:srgbClr val="000000"/>
              </a:solidFill>
              <a:latin typeface="Arial"/>
            </a:endParaRPr>
          </a:p>
        </p:txBody>
      </p:sp>
      <p:sp>
        <p:nvSpPr>
          <p:cNvPr id="18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estão de Dados</a:t>
            </a:r>
            <a:endParaRPr b="0" lang="en-US" sz="4400" spc="-1" strike="noStrike">
              <a:solidFill>
                <a:srgbClr val="000000"/>
              </a:solidFill>
              <a:latin typeface="Arial"/>
            </a:endParaRPr>
          </a:p>
        </p:txBody>
      </p:sp>
      <p:sp>
        <p:nvSpPr>
          <p:cNvPr id="18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Regista a informação relativamente a casos e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Produz relatórios diários, exportando-os para a análise de dad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Mapeamento geográfico dos contacto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ificação atempada de dados e tendência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Se existirem recursos e/ou infra-estruturas suficient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considerada uma recolha de dados electrónicos no terreno</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NOTA: Embora a Base de Dados VHF EpiInfo seja recomendada, outras bases de dados, como o Sistema de Gestão da Informação no Terreno da OMS (FIMS), podem ser também utilizada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Contratação</a:t>
            </a:r>
            <a:endParaRPr b="0" lang="en-US" sz="4400" spc="-1" strike="noStrike">
              <a:solidFill>
                <a:srgbClr val="000000"/>
              </a:solidFill>
              <a:latin typeface="Arial"/>
            </a:endParaRPr>
          </a:p>
        </p:txBody>
      </p:sp>
      <p:sp>
        <p:nvSpPr>
          <p:cNvPr id="18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r incentivos para particip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os orden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seguro de saú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ornecer EPP ao pessoal e às suas famíli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mpregar os sobreviventes da EV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gar ao pessoal atempad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Formação</a:t>
            </a:r>
            <a:endParaRPr b="0" lang="en-US" sz="4400" spc="-1" strike="noStrike">
              <a:solidFill>
                <a:srgbClr val="000000"/>
              </a:solidFill>
              <a:latin typeface="Arial"/>
            </a:endParaRPr>
          </a:p>
        </p:txBody>
      </p:sp>
      <p:sp>
        <p:nvSpPr>
          <p:cNvPr id="187" name=""/>
          <p:cNvSpPr txBox="1"/>
          <p:nvPr/>
        </p:nvSpPr>
        <p:spPr>
          <a:xfrm>
            <a:off x="457200" y="1197000"/>
            <a:ext cx="8229600" cy="49291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trabalhadores necessitam de uma formação apropriada e de recursos para realizarem o seu trabalho de forma segura</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pel específico para o membro do pessoa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Formação de reciclage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Nova formação caso ocorram problemas ou existam alterações aos procedimentos operaciona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ertificado formal de conclusão</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ra combater as diferenças de po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Pessoal: Saúde</a:t>
            </a:r>
            <a:endParaRPr b="0" lang="en-US" sz="4400" spc="-1" strike="noStrike">
              <a:solidFill>
                <a:srgbClr val="000000"/>
              </a:solidFill>
              <a:latin typeface="Arial"/>
            </a:endParaRPr>
          </a:p>
        </p:txBody>
      </p:sp>
      <p:sp>
        <p:nvSpPr>
          <p:cNvPr id="18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Fornecer cuidados médicos enquanto empregado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Incluindo para a EVD</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Deve ser abordado e rigorosamente aplicado o seguint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entrar em comunidades que aparentam ser hostis, agressivas ou pouco acolhedor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Não tentar impedir os contactos ou casos que estão a tentar fugir</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eve ser notado que se os profissionais de segurança interagirem com casos suspeitos, prováveis ou confirmados, dependendo da situação, podem também corresponder à definição de contacto, necessitando por isso de um seguimen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Identificação</a:t>
            </a:r>
            <a:endParaRPr b="0" lang="en-US" sz="4400" spc="-1" strike="noStrike">
              <a:solidFill>
                <a:srgbClr val="000000"/>
              </a:solidFill>
              <a:latin typeface="Arial"/>
            </a:endParaRPr>
          </a:p>
        </p:txBody>
      </p:sp>
      <p:sp>
        <p:nvSpPr>
          <p:cNvPr id="19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Questões pertinentes a serem perguntada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físico direct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com contacto sexu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viam com o caso na mesma habitaçã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Pessoas que visitaram o caso (na habitação, unidade de saúde, funeral/enterro,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Locais que o caso visitou (i.e. trabalho, farmácia, igreja, família alargada, curandeiros tradicionais, et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Instalações de saúde utilizadas pelo caso e por todos os profissionais de saúde que trataram do caso</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onsiderações para a Identificação do Contacto</a:t>
            </a:r>
            <a:endParaRPr b="0" lang="en-US" sz="3600" spc="-1" strike="noStrike">
              <a:solidFill>
                <a:srgbClr val="000000"/>
              </a:solidFill>
              <a:latin typeface="Arial"/>
            </a:endParaRPr>
          </a:p>
        </p:txBody>
      </p:sp>
      <p:sp>
        <p:nvSpPr>
          <p:cNvPr id="1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calendários, feriados ou aniversários para ajudar na lembrança de activ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Quando os casos suspeitos, prováveis ou confirmados são notificados do seu estado, medo é a resposta mais prová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poio psicossocial na equipa de investig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tilizar sensibilidade cul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Desafios da Inscrição</a:t>
            </a:r>
            <a:endParaRPr b="0" lang="en-US" sz="4400" spc="-1" strike="noStrike">
              <a:solidFill>
                <a:srgbClr val="000000"/>
              </a:solidFill>
              <a:latin typeface="Arial"/>
            </a:endParaRPr>
          </a:p>
        </p:txBody>
      </p:sp>
      <p:sp>
        <p:nvSpPr>
          <p:cNvPr id="19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safios logí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Falta de nomes de ru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Utilização de alcunh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aíses sem um programa nacional de identific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sideraçõ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Identificação do contacto através de G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nvolver os líderes da comunid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tactos: Estigma</a:t>
            </a:r>
            <a:endParaRPr b="0" lang="en-US" sz="4400" spc="-1" strike="noStrike">
              <a:solidFill>
                <a:srgbClr val="000000"/>
              </a:solidFill>
              <a:latin typeface="Arial"/>
            </a:endParaRPr>
          </a:p>
        </p:txBody>
      </p:sp>
      <p:sp>
        <p:nvSpPr>
          <p:cNvPr id="19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000" spc="-1" strike="noStrike">
                <a:solidFill>
                  <a:srgbClr val="000000"/>
                </a:solidFill>
                <a:latin typeface="Arial"/>
              </a:rPr>
              <a:t>Medidas para ultrapassar o estigma</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Envolver e educar os líderes da comunidade relativamente à infecção e transmissão da EVD e sobre o papel da comunidad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campanhas de comunicação da saúde preco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tilizar apoio psicossocial precoce para combater o med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Determinar um local/hora de reunião “seguro” que não irá identificá-los como um contacto de EVD para os seus pares, família e/ou comunidad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RANTIA E GESTÃO DE QUALIDADE</a:t>
            </a:r>
            <a:endParaRPr b="0" lang="en-US" sz="4000" spc="-1" strike="noStrike">
              <a:solidFill>
                <a:srgbClr val="000000"/>
              </a:solidFill>
              <a:latin typeface="Arial"/>
            </a:endParaRPr>
          </a:p>
        </p:txBody>
      </p:sp>
      <p:sp>
        <p:nvSpPr>
          <p:cNvPr id="1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00000"/>
                </a:solidFill>
                <a:latin typeface="Arial"/>
              </a:rPr>
              <a:t>Objectivos da Identificação de Contactos</a:t>
            </a:r>
            <a:endParaRPr b="0" lang="en-US" sz="40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Identificação imediata de indivíduos que ficam sintomáticos e, por isso, contagio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arar a transmissão da EV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Se implementada rapidamente e de forma adeq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1"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Equipa de Investigação/Equipa de Resposta Rápida/Epidemiologista-che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valiar casos com um baixo número de notificações de contacto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00000"/>
                </a:solidFill>
                <a:latin typeface="Arial"/>
              </a:rPr>
              <a:t>Ser cauteloso quando os números não correspondem aos de casos anteriores com características semelhant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novas entrevistas ao caso, família, vizinhos, et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Considerar incitar actividades adicionais do dia a dia</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000000"/>
                </a:solidFill>
                <a:latin typeface="Arial"/>
              </a:rPr>
              <a:t>Assegurar avaliações precisas do estado de saúde de um contacto por parte dos investigador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Realizar verificações domiciliárias através da escolha aleatória de contactos de diferentes equipas de identificação para entrevistar e verificar se a avaliação do estado de saúde é semelhante aos relatórios dos investigado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Garantia de Qualidade</a:t>
            </a:r>
            <a:endParaRPr b="0" lang="en-US" sz="4400" spc="-1" strike="noStrike">
              <a:solidFill>
                <a:srgbClr val="000000"/>
              </a:solidFill>
              <a:latin typeface="Arial"/>
            </a:endParaRPr>
          </a:p>
        </p:txBody>
      </p:sp>
      <p:sp>
        <p:nvSpPr>
          <p:cNvPr id="203" name=""/>
          <p:cNvSpPr txBox="1"/>
          <p:nvPr/>
        </p:nvSpPr>
        <p:spPr>
          <a:xfrm>
            <a:off x="457200" y="1197000"/>
            <a:ext cx="8229600" cy="49291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upervisor(es) no terreno</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ssegurar que os investigadores visitam os contactos diariamente</a:t>
            </a:r>
            <a:endParaRPr b="0" lang="en-US" sz="28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 tecnologia estiver disponível, utilizar uma identificação móvel através de GPS para a identificação de contactos</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e apropriado, tirar uma fotografia do contacto ou de um marco local para entregar diariamente ao técnico no terreno</a:t>
            </a:r>
            <a:endParaRPr b="0" lang="en-US" sz="2400" spc="-1" strike="noStrike">
              <a:solidFill>
                <a:srgbClr val="000000"/>
              </a:solidFill>
              <a:latin typeface="Arial"/>
            </a:endParaRPr>
          </a:p>
          <a:p>
            <a:pPr lvl="2" marL="982800" indent="-196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alizar verificações domiciliárias através da escolha aleatória de contactos de diferentes equipas de identificação e entrevistá-los para assegurar que recebem diariamente a visita do investigador</a:t>
            </a:r>
            <a:endParaRPr b="0" lang="en-US" sz="2400" spc="-1" strike="noStrike">
              <a:solidFill>
                <a:srgbClr val="000000"/>
              </a:solidFill>
              <a:latin typeface="Arial"/>
            </a:endParaRPr>
          </a:p>
          <a:p>
            <a:pPr lvl="3" marL="137592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 </a:t>
            </a:r>
            <a:r>
              <a:rPr b="0" lang="pt-PT" sz="2000" spc="-1" strike="noStrike">
                <a:solidFill>
                  <a:srgbClr val="000000"/>
                </a:solidFill>
                <a:latin typeface="Arial"/>
              </a:rPr>
              <a:t>Se houve falha de dias, confirmar que estes foram devidamente registados pela equipa de identificação.</a:t>
            </a:r>
            <a:endParaRPr b="0" lang="en-US" sz="20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Medidas de Qualidade: Devem ser 100%</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clusão dos relatórios de vigilância activa seman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a serem identificados diari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ontactos seguidos durante todos os 21 d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ercentagem de casos que viram a identificação de contactos implementada até 24 horas após a identificação do ca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0000"/>
                </a:solidFill>
                <a:latin typeface="Arial"/>
              </a:rPr>
              <a:t>ESCALABILIDADE</a:t>
            </a:r>
            <a:endParaRPr b="0" lang="en-US" sz="4000" spc="-1" strike="noStrike">
              <a:solidFill>
                <a:srgbClr val="000000"/>
              </a:solidFill>
              <a:latin typeface="Arial"/>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0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os contactos não são identificados/são perdidos, a transmissão exponencial da EVD é prováv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 protocolo de identificação de contactos deve inclui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equipas de investigação, supervisores no terreno e investigadores de contact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sforços concentrados principalmente nos grupos de risco elevad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Plano B”</a:t>
            </a:r>
            <a:endParaRPr b="0" lang="en-US" sz="4400" spc="-1" strike="noStrike">
              <a:solidFill>
                <a:srgbClr val="000000"/>
              </a:solidFill>
              <a:latin typeface="Arial"/>
            </a:endParaRPr>
          </a:p>
        </p:txBody>
      </p:sp>
      <p:sp>
        <p:nvSpPr>
          <p:cNvPr id="21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Deve ser considera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ntratação de mais pess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umentar as infra-estrutu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Adquirir mai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riar equipas adicionais para acomodar os crescentes esforços de controlo (i.e. equipas de desinfecção ou de enterr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Escalabilidade: Mudança de Foco</a:t>
            </a:r>
            <a:endParaRPr b="0" lang="en-US" sz="4400" spc="-1" strike="noStrike">
              <a:solidFill>
                <a:srgbClr val="000000"/>
              </a:solidFill>
              <a:latin typeface="Arial"/>
            </a:endParaRPr>
          </a:p>
        </p:txBody>
      </p:sp>
      <p:sp>
        <p:nvSpPr>
          <p:cNvPr id="21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Os esforços podem começar a se centrar principalmente nos grupos de contacto de </a:t>
            </a:r>
            <a:r>
              <a:rPr b="1" lang="pt-PT" sz="3200" spc="-1" strike="noStrike">
                <a:solidFill>
                  <a:srgbClr val="000000"/>
                </a:solidFill>
                <a:latin typeface="Arial"/>
              </a:rPr>
              <a:t>risco elevado</a:t>
            </a:r>
            <a:r>
              <a:rPr b="0" lang="pt-PT" sz="3200" spc="-1" strike="noStrike">
                <a:solidFill>
                  <a:srgbClr val="000000"/>
                </a:solidFill>
                <a:latin typeface="Arial"/>
              </a:rPr>
              <a:t>, de modo a poupar recursos directos de forma apropri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classificação de risco dos contactos têm como base as orientações do C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ÃO</a:t>
            </a:r>
            <a:endParaRPr b="0" lang="en-US" sz="4000" spc="-1" strike="noStrike">
              <a:solidFill>
                <a:srgbClr val="000000"/>
              </a:solidFill>
              <a:latin typeface="Arial"/>
            </a:endParaRPr>
          </a:p>
        </p:txBody>
      </p:sp>
      <p:sp>
        <p:nvSpPr>
          <p:cNvPr id="2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onclusão</a:t>
            </a:r>
            <a:endParaRPr b="0" lang="en-US" sz="4400" spc="-1" strike="noStrike">
              <a:solidFill>
                <a:srgbClr val="000000"/>
              </a:solidFill>
              <a:latin typeface="Arial"/>
            </a:endParaRPr>
          </a:p>
        </p:txBody>
      </p:sp>
      <p:sp>
        <p:nvSpPr>
          <p:cNvPr id="217" name=""/>
          <p:cNvSpPr txBox="1"/>
          <p:nvPr/>
        </p:nvSpPr>
        <p:spPr>
          <a:xfrm>
            <a:off x="457200" y="1197000"/>
            <a:ext cx="8229600" cy="4929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 identificação de contactos é essencial para a identificação, controlo e eliminação da transmissão da EV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e apenas um contacto não é encontrado, existe uma grande probabilidade de uma transmissão contínu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É fundamental que a identificação de contactos seja implementada rapidamente e gerida de forma a que a resposta à EVD seja efic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Definições: CONTACTO</a:t>
            </a:r>
            <a:endParaRPr b="0" lang="en-US" sz="4400" spc="-1" strike="noStrike">
              <a:solidFill>
                <a:srgbClr val="000000"/>
              </a:solidFill>
              <a:latin typeface="Arial"/>
            </a:endParaRPr>
          </a:p>
        </p:txBody>
      </p:sp>
      <p:sp>
        <p:nvSpPr>
          <p:cNvPr id="10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rPr>
              <a:t>Uma pessoa que interagiu com um caso sintomático de EVD (suspeito, provável ou confirmado) em pelo menos uma das seguintes formas:</a:t>
            </a:r>
            <a:endParaRPr b="0" lang="en-US" sz="26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ou viv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Contacto físico directo com o caso (morto) no funeral</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o sangue ou fluídos corporais do caso enquanto estava doente</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Foi amamentado pela doente (nos bebés)</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Tocou nas roupas ou lençóis do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Dormiu na mesma habitação que um caso</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efinições: CONTACTO</a:t>
            </a:r>
            <a:r>
              <a:rPr b="0" lang="pt-PT" sz="2400" spc="-1" strike="noStrike" baseline="30000">
                <a:solidFill>
                  <a:srgbClr val="000000"/>
                </a:solidFill>
                <a:latin typeface="Arial"/>
              </a:rPr>
              <a:t> †</a:t>
            </a:r>
            <a:r>
              <a:rPr b="0" lang="pt-PT" sz="2400" spc="-1" strike="noStrike">
                <a:solidFill>
                  <a:srgbClr val="000000"/>
                </a:solidFill>
                <a:latin typeface="Arial"/>
              </a:rPr>
              <a:t> </a:t>
            </a:r>
            <a:br>
              <a:rPr sz="2400"/>
            </a:br>
            <a:r>
              <a:rPr b="0" lang="pt-PT" sz="2400" spc="-1" strike="noStrike">
                <a:solidFill>
                  <a:srgbClr val="000000"/>
                </a:solidFill>
                <a:latin typeface="Arial"/>
              </a:rPr>
              <a:t>(Risco Elevado vs. Baixo Risco)</a:t>
            </a:r>
            <a:endParaRPr b="0" lang="en-US" sz="24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Risco Elevad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Exposição da membrana percutânea ou mucosa a sangue ou fluídos corporais de um doente com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da pele com, ou exposição a sangue ou fluídos corporais de, um doente confirmado ou suspeito de EVD sem um equipamento de protecção pessoal (EPP) apropriado</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Processar sangue ou fluídos corporais de um doente confirmado de EVD sem EPP apropriado ou sem precauções convencionais de biosseguranç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irecto com um cadáver sem EPP apropriado num país onde está a ocorrer um surto de EVD</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aixo Risco</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domiciliário com um doente de EV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ontacto próximo com doentes de EVD em unidades de saúde ou contextos comunitário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Estar aproximadamente a 1 metro de um doente com EVD ou dentro do quarto ou área de cuidados do doente durante um período prolongado de tempo (por exemplo, funcionários dos cuidados de saúde, membros do agregado familiar) sem utilizar equipamento de protecção pessoal recomendado.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Ter contacto directo breve (por exemplo, apertar as mãos) com um doente de EVD sem utilizar equipamento de protecção pessoal recomendado. </a:t>
            </a: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74680"/>
            <a:ext cx="8713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Três categorias de casos de EVD</a:t>
            </a:r>
            <a:endParaRPr b="0" lang="en-US" sz="44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suspeito: uma pessoa, morta ou viva, com pelo menos um d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hemorragi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ausa desconhecida de morte súbita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contacto com:</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caso de EVD suspeito, provável ou confirmado</a:t>
            </a:r>
            <a:endParaRPr b="0" lang="en-US" sz="1100" spc="-1" strike="noStrike">
              <a:solidFill>
                <a:srgbClr val="000000"/>
              </a:solidFill>
              <a:latin typeface="Arial"/>
            </a:endParaRPr>
          </a:p>
          <a:p>
            <a:pPr lvl="2" marL="1143000" indent="-228600">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ou</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Um animal doente ou morto</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Começo repentino de febre elevada e pelo menos três dos seguintes sintoma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de cabeç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Anorexia / perda de apeti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Letarg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s músculos ou articulaçõ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s em respira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Vómit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arrei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ores no estômago</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Dificuldade em engoli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100" spc="-1" strike="noStrike">
                <a:solidFill>
                  <a:srgbClr val="000000"/>
                </a:solidFill>
                <a:latin typeface="Arial"/>
              </a:rPr>
              <a:t>Soluço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provável: qualquer caso suspeito que cumpra os seguintes critério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Avaliado por um médico e diagnosticado com EVD</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O caso faleceu mas com uma ligação epidemiológica a um caso confirmado</a:t>
            </a:r>
            <a:br>
              <a:rPr sz="1300"/>
            </a:br>
            <a:r>
              <a:rPr b="0" lang="pt-PT"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u="sng">
                <a:solidFill>
                  <a:srgbClr val="000000"/>
                </a:solidFill>
                <a:uFillTx/>
                <a:latin typeface="Arial"/>
              </a:rPr>
              <a:t>Caso confirmado:</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Arial"/>
              </a:rPr>
              <a:t>Qualquer caso suspeito ou provável com um resultado laboratorial de EVD positivo (PCR ou serolo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PARATIVOS</a:t>
            </a:r>
            <a:endParaRPr b="0" lang="en-US" sz="4000" spc="-1" strike="noStrike">
              <a:solidFill>
                <a:srgbClr val="000000"/>
              </a:solidFill>
              <a:latin typeface="Arial"/>
            </a:endParaRPr>
          </a:p>
        </p:txBody>
      </p:sp>
      <p:sp>
        <p:nvSpPr>
          <p:cNvPr id="11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1:44:14Z</dcterms:modified>
  <cp:revision>214</cp:revision>
  <dc:subject/>
  <dc:title>DPC Training and Technical Update</dc:title>
</cp:coreProperties>
</file>