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CFB4B7-0FC4-423C-B1FD-E725190ED596}"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452B035-EF02-4486-B7BB-BB108085B2A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DECD7D-442A-4CD2-910B-D06F9F457853}"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5FBE094-9B15-4F01-9C4A-BDE54B3A714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2452B9E-24EA-410F-B6C6-1CF849F9877C}"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EF9C858-64DD-4741-B1FE-DF61C3423CE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FB3508A-28A4-4FF2-8AEC-E98BEFA62EF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3946AC9-CE6A-4DC0-906A-5DD6F709D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76B7CF-8790-4AA2-95AA-78523CFFAD5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2CE958-1F41-4CEA-9284-7BFB1DE25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D0E4FCE-600C-4908-8202-9AD634A8B578}" type="datetime3">
              <a:rPr b="0" lang="en-GB" sz="1200" spc="-1" strike="noStrike">
                <a:solidFill>
                  <a:srgbClr val="000000"/>
                </a:solidFill>
                <a:latin typeface="Arial"/>
              </a:rPr>
              <a:t>29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397D4D-D43A-4CD0-B1B2-2880BADA76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31E693-5638-4F53-BDA9-C03F01EA9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982B21-7DC8-4821-8DF5-6F763BDC01BF}"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4A7366-D71D-4243-9391-1FBF8A79DC7F}"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08DC8F-4A89-4A32-ACA2-905899991837}"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