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0095-C1EC-4D53-98B1-C946C2C4C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E14C0-DA71-49A5-81F6-4030A3A52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920880" y="746280"/>
            <a:ext cx="4965480" cy="3725640"/>
          </a:xfrm>
          <a:prstGeom prst="rect">
            <a:avLst/>
          </a:prstGeom>
          <a:ln w="0">
            <a:noFill/>
          </a:ln>
        </p:spPr>
      </p:sp>
      <p:sp>
        <p:nvSpPr>
          <p:cNvPr id="1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20880" y="746280"/>
            <a:ext cx="4965480" cy="3725640"/>
          </a:xfrm>
          <a:prstGeom prst="rect">
            <a:avLst/>
          </a:prstGeom>
          <a:ln w="0">
            <a:noFill/>
          </a:ln>
        </p:spPr>
      </p:sp>
      <p:sp>
        <p:nvSpPr>
          <p:cNvPr id="15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1507-F399-4AFF-9550-EED44E9FF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3698D-0540-4EB2-BF94-2EF12E35F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920880" y="746280"/>
            <a:ext cx="4965480" cy="3725640"/>
          </a:xfrm>
          <a:prstGeom prst="rect">
            <a:avLst/>
          </a:prstGeom>
          <a:ln w="0">
            <a:noFill/>
          </a:ln>
        </p:spPr>
      </p:sp>
      <p:sp>
        <p:nvSpPr>
          <p:cNvPr id="15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20880" y="746280"/>
            <a:ext cx="4965480" cy="3725640"/>
          </a:xfrm>
          <a:prstGeom prst="rect">
            <a:avLst/>
          </a:prstGeom>
          <a:ln w="0">
            <a:noFill/>
          </a:ln>
        </p:spPr>
      </p:sp>
      <p:sp>
        <p:nvSpPr>
          <p:cNvPr id="15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eamento social</a:t>
            </a:r>
            <a:endParaRPr b="0" lang="en-US" sz="1200" spc="-1" strike="noStrike">
              <a:solidFill>
                <a:srgbClr val="000000"/>
              </a:solidFill>
              <a:latin typeface="Arial"/>
            </a:endParaRPr>
          </a:p>
        </p:txBody>
      </p:sp>
      <p:sp>
        <p:nvSpPr>
          <p:cNvPr id="16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80B5-7E58-4AD4-AD7B-C988E02BD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20880" y="746280"/>
            <a:ext cx="4965480" cy="3725640"/>
          </a:xfrm>
          <a:prstGeom prst="rect">
            <a:avLst/>
          </a:prstGeom>
          <a:ln w="0">
            <a:noFill/>
          </a:ln>
        </p:spPr>
      </p:sp>
      <p:sp>
        <p:nvSpPr>
          <p:cNvPr id="16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s importante</a:t>
            </a:r>
            <a:endParaRPr b="0" lang="en-US" sz="1200" spc="-1" strike="noStrike">
              <a:solidFill>
                <a:srgbClr val="000000"/>
              </a:solidFill>
              <a:latin typeface="Arial"/>
            </a:endParaRPr>
          </a:p>
        </p:txBody>
      </p:sp>
      <p:sp>
        <p:nvSpPr>
          <p:cNvPr id="16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17AC-156F-40CD-B24C-B50884120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20880" y="746280"/>
            <a:ext cx="4965480" cy="3725640"/>
          </a:xfrm>
          <a:prstGeom prst="rect">
            <a:avLst/>
          </a:prstGeom>
          <a:ln w="0">
            <a:noFill/>
          </a:ln>
        </p:spPr>
      </p:sp>
      <p:sp>
        <p:nvSpPr>
          <p:cNvPr id="16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4644A-7D2C-4BCF-9EF9-6200F370F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14C5B-847B-4594-85B1-BB185B0FD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0AC32-80ED-42FD-B8B2-8E7495430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6369E-0E68-45BF-BEE8-FDA9F590F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8FF32-11CA-4E35-9A2C-E00B7E465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18179-2DDE-4845-B5DE-4961F12D5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FAD68-5A8B-44AB-8CD3-85BFE4A70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6C436-9143-412B-A1A2-D95FB5D87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B8838-CA19-493D-AC5C-939643207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9E4A3-BF6C-49E4-890F-D52D24AB6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31D09-EE32-4B79-A30E-B72BB4DB7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A1180-65C3-4024-8B07-574BAA252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E63DC-CEE5-4A3B-A4C8-C64B989F5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F9015-E58A-41B5-BBC5-404723945C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C1EAF44-BF87-4533-AD88-DCAB2CEC7D3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ww.who.int/csr/disease/ebola/manual_EVD/en/" TargetMode="External"/><Relationship Id="rId5" Type="http://schemas.openxmlformats.org/officeDocument/2006/relationships/hyperlink" Target="http://www.who.int/csr/disease/ebola/manual_EVD/en/" TargetMode="External"/><Relationship Id="rId6" Type="http://schemas.openxmlformats.org/officeDocument/2006/relationships/hyperlink" Target="http://whqlibdoc.who.int/publications/2011/9789241548205_eng.pdf"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300" spc="-1" strike="noStrike">
                <a:solidFill>
                  <a:srgbClr val="000000"/>
                </a:solidFill>
                <a:latin typeface="Arial"/>
                <a:ea typeface="Verdana"/>
              </a:rPr>
              <a:t>Mobilização Social das Comunidades: </a:t>
            </a:r>
            <a:r>
              <a:rPr b="1" lang="pt-PT" sz="4300" spc="-1" strike="noStrike">
                <a:solidFill>
                  <a:srgbClr val="000000"/>
                </a:solidFill>
                <a:latin typeface="Arial"/>
                <a:ea typeface="Times New Roman"/>
              </a:rPr>
              <a:t>Conceitos, Barreiras e Oportunidades</a:t>
            </a:r>
            <a:r>
              <a:rPr b="1" lang="pt-PT"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
        <p:nvSpPr>
          <p:cNvPr id="54" name="TextBox 2"/>
          <p:cNvSpPr/>
          <p:nvPr/>
        </p:nvSpPr>
        <p:spPr>
          <a:xfrm>
            <a:off x="684360" y="630864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
        <p:nvSpPr>
          <p:cNvPr id="55" name="TextBox 3"/>
          <p:cNvSpPr/>
          <p:nvPr/>
        </p:nvSpPr>
        <p:spPr>
          <a:xfrm>
            <a:off x="755640" y="657396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eiras </a:t>
            </a:r>
            <a:endParaRPr b="0" lang="en-US" sz="4400" spc="-1" strike="noStrike">
              <a:solidFill>
                <a:srgbClr val="000000"/>
              </a:solidFill>
              <a:latin typeface="Arial"/>
            </a:endParaRPr>
          </a:p>
        </p:txBody>
      </p:sp>
      <p:sp>
        <p:nvSpPr>
          <p:cNvPr id="73"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RACIONAL vs. IRRACIONAL</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ESQUECER TUDO E FUGI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AS EVIDÊNCIAS FALSAS PARECEM REAI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R LIVRE PARA FALAR vs. SER LIVRE DEPOIS DE FALA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LES PODEM ESQUECER O QUE VOCÊ DISSE, MAS NUNCA ESQUECERÃO COMO OS FEZ SENTIR! (</a:t>
            </a:r>
            <a:r>
              <a:rPr b="1" lang="pt-PT" sz="2200" spc="-1" strike="noStrike">
                <a:solidFill>
                  <a:srgbClr val="000000"/>
                </a:solidFill>
                <a:latin typeface="Arial"/>
                <a:ea typeface="Arial"/>
              </a:rPr>
              <a:t>é a questão da razão e da emoção</a:t>
            </a:r>
            <a:r>
              <a:rPr b="1" lang="en-US" sz="2200" spc="-1" strike="noStrike">
                <a:solidFill>
                  <a:srgbClr val="000000"/>
                </a:solidFill>
                <a:latin typeface="Arial"/>
                <a:ea typeface="Arial"/>
              </a:rPr>
              <a:t>)</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o se obtém a saúde</a:t>
            </a:r>
            <a:endParaRPr b="0" lang="en-US" sz="2800" spc="-1" strike="noStrike">
              <a:solidFill>
                <a:srgbClr val="000000"/>
              </a:solidFill>
              <a:latin typeface="Arial"/>
            </a:endParaRPr>
          </a:p>
        </p:txBody>
      </p:sp>
      <p:sp>
        <p:nvSpPr>
          <p:cNvPr id="75"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FUNCIONAMENTO DE UM ORGANISMO É MEDIADO PELA INTERACÇÃO ENTRE COMPORTAMENTO E AMBIENTE (pessoa – comportamento – ambient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IMPACTO CONTEXTUAL ( o ambiente define, em grande parte, os limites ou o controlo dos comportamentos);</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SIGNIFICADO CULTURAL DE SAÚDE, DOENÇA E MORTE (continuidade histórica; pessoal vs. colectiva);</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Factores de risco para a SAÚDE (que predispõem, propiciam)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DETERMINANTES DA SAÚDE (causas das causas; fechar o fosso da desigualdade na saúde no seio e entre os grupos populacionai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TextBox 4"/>
          <p:cNvSpPr/>
          <p:nvPr/>
        </p:nvSpPr>
        <p:spPr>
          <a:xfrm>
            <a:off x="755640" y="660384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
        <p:nvSpPr>
          <p:cNvPr id="77" name="TextBox 5"/>
          <p:cNvSpPr/>
          <p:nvPr/>
        </p:nvSpPr>
        <p:spPr>
          <a:xfrm>
            <a:off x="684360" y="638172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79"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NÍVEL DO EMISSOR:</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FICIÊNCIA NA ANÁLISE DO PÚBLICO E NA ANÁLISE D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EAMENTO DA COMUNICAÇÃO DE CIMA PARA BAIX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SRESPEITO PELAS NORMAS SOCIAIS; INCLUINDO A LÍNGUA E A CULTURA;</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E OBJECTIVOS N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DADE AO FEEDBACK;</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DE CONTEÚDO SOBRE OS ANTECED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81"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NÍVEL ORGANIZACIONA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APOIO INSTITUCIONAL (APOIO POLÍTICO, ESTRATÉGICO OU FINANCEIR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PESSOAL FORMAD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SÊNCIA DE UMA AVALIAÇÃO DOS PROCESSOS, RESULTADOS OU IMPACTO;</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4"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Compreender o problema – ANÁLISE DA SITUAÇÃO (Recursos vs. Necessidades; compreender o estímulo da comunicação; fazer uma análise do público; fazer um diagnóstico da comunicaçã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laneamento (não planeamento é planeamento falhad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Governação: coerência política e compromisso polític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Formação de capacidades para planear, implementar e gerir activ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social e das comun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arcerias, alianças e re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de recurs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8900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iladas no planeamento e implementação</a:t>
            </a:r>
            <a:br>
              <a:rPr sz="3600"/>
            </a:b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86"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rocrastinaçã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implificação excessiva</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mportamento irraciona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rros desencorajadore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Recursos limitados versus necessidades concorr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8" name=""/>
          <p:cNvSpPr txBox="1"/>
          <p:nvPr/>
        </p:nvSpPr>
        <p:spPr>
          <a:xfrm>
            <a:off x="539640" y="1699920"/>
            <a:ext cx="8229600" cy="4249800"/>
          </a:xfrm>
          <a:prstGeom prst="rect">
            <a:avLst/>
          </a:prstGeom>
          <a:noFill/>
          <a:ln w="0">
            <a:noFill/>
          </a:ln>
        </p:spPr>
        <p:txBody>
          <a:bodyPr anchor="t">
            <a:normAutofit/>
          </a:bodyPr>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Monitorização, Avaliação e Investigação</a:t>
            </a:r>
            <a:endParaRPr b="0" lang="en-US" sz="26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     </a:t>
            </a:r>
            <a:r>
              <a:rPr b="0" lang="pt-PT" sz="2600" spc="-1" strike="noStrike">
                <a:solidFill>
                  <a:srgbClr val="000000"/>
                </a:solidFill>
                <a:latin typeface="Zapf Dingbats"/>
                <a:ea typeface="Zapf Dingbats"/>
              </a:rPr>
              <a:t>✓</a:t>
            </a:r>
            <a:r>
              <a:rPr b="0" lang="pt-PT" sz="2200" spc="-1" strike="noStrike">
                <a:solidFill>
                  <a:srgbClr val="000000"/>
                </a:solidFill>
                <a:latin typeface="Arial"/>
                <a:ea typeface="Arial"/>
              </a:rPr>
              <a:t> </a:t>
            </a:r>
            <a:r>
              <a:rPr b="0" lang="pt-PT" sz="2200" spc="-1" strike="noStrike">
                <a:solidFill>
                  <a:srgbClr val="000000"/>
                </a:solidFill>
                <a:latin typeface="Arial"/>
                <a:ea typeface="Arial"/>
              </a:rPr>
              <a:t>Monitorização – acompanhamento sistemático dos</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           </a:t>
            </a:r>
            <a:r>
              <a:rPr b="0" lang="pt-PT" sz="2200" spc="-1" strike="noStrike">
                <a:solidFill>
                  <a:srgbClr val="000000"/>
                </a:solidFill>
                <a:latin typeface="Arial"/>
                <a:ea typeface="Arial"/>
              </a:rPr>
              <a:t>progressos (registos, contactos presenciais, etc.)</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Avaliação – cumprimos os objectivos (formativos, de processos, resultados, impacto)?;</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Investigação– investigação operacional sobre factores sociais e culturais que poderão dificultar ou promover a receptividade. Aplicação de teorias e modelos que expliquem comportamentos de risco e a procura de cuidados de saúde; procura de informação, aquisição e utilização; </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eiras e Oportunidades</a:t>
            </a:r>
            <a:endParaRPr b="0" lang="en-US" sz="3600" spc="-1" strike="noStrike">
              <a:solidFill>
                <a:srgbClr val="000000"/>
              </a:solidFill>
              <a:latin typeface="Arial"/>
            </a:endParaRPr>
          </a:p>
        </p:txBody>
      </p:sp>
      <p:sp>
        <p:nvSpPr>
          <p:cNvPr id="90" name=""/>
          <p:cNvSpPr txBox="1"/>
          <p:nvPr/>
        </p:nvSpPr>
        <p:spPr>
          <a:xfrm>
            <a:off x="468360" y="1628640"/>
            <a:ext cx="8229600" cy="4104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ÃO ADOPÇÃO DE ABORDAGENS MULTISSECTORAIS E INTERDISCIPLINARES - ENVOLVE SECTORES EXTERNOS À SAÚDE, CORPORAÇÕES, SOCIEDADE CIVIL E COMUNIDA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ESSIDADES CONCORRENTES VS. RECURSOS LIMITADOS (NÃO IDENTIFICAÇÃO DE MECANISMOS DE FINANCIAMENTO SUSTENTÁVEIS E ALTERNATIVOS DE PROMOÇÃO DA SAÚ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ÊNCIA ORGANIZADA (PRINCIPALMENTE DENTRO DO SECTOR DA SAÚDE);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AR UMA MASSA CRÍTICA DE VOLUNTÁRIOS, SOCIEDADE CIVIL E PROFISSIONAIS, PARA LIDERAR E GERIR INICIATIVAS DE HP A TODOS OS NÍVE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ÃO</a:t>
            </a:r>
            <a:endParaRPr b="0" lang="en-US" sz="2600" spc="-1" strike="noStrike">
              <a:solidFill>
                <a:srgbClr val="000000"/>
              </a:solidFill>
              <a:latin typeface="Arial"/>
            </a:endParaRPr>
          </a:p>
        </p:txBody>
      </p:sp>
      <p:sp>
        <p:nvSpPr>
          <p:cNvPr id="92"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COMPORTAMENTO HUMANO É COMPLEXO E INFLUENCIADO POR MÚLTIPLOS FACTORES AO LONGO DE UMA VIDA. NÃO SE CONSEGUE MUDAR DE UM DIA PARA O OUTR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ACESSO À INFORMAÇÃO, SÓ POR SI, NÃO SE TRADUZ EM AC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A PARTICIPAÇÃO DOS BENEFICIÁRIOS-ALVO E OUTROS ACTORES É UM PRÉ-REQUISITO PARA SE ATINGIREM OS RESULTADOS PRETENDIDO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SÃO NECESSÁRIAS POLÍTICAS, LEGISLAÇÃO E REGULAMENTOS, PARA REFORÇAR AS ACÇÕES ESTRATÉGICAS DE COMUNICA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REFORÇAR O PAPEL DE LIDERANÇA (DIRECÇÃO) DO MINISTÉRIO DA SAÚDE AOS NÍVEIS NACIONAL E DISTRITAL.</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as Necessidades e Recursos da Comunidade</a:t>
            </a:r>
            <a:endParaRPr b="0" lang="en-US" sz="3600" spc="-1" strike="noStrike">
              <a:solidFill>
                <a:srgbClr val="000000"/>
              </a:solidFill>
              <a:latin typeface="Arial"/>
            </a:endParaRPr>
          </a:p>
        </p:txBody>
      </p:sp>
      <p:sp>
        <p:nvSpPr>
          <p:cNvPr id="94"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as necessidades são avaliada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es recursos são avaliado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strutura</a:t>
            </a: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Objectivo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Introdução e context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Princípios orientadores e barreiras à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valiação das necessidades e recursos para a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Monitorização e avaliaçã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tividades de apoio psicossocial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ções prioritárias</a:t>
            </a:r>
            <a:endParaRPr b="0" lang="en-US" sz="3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aliação das Necessidades da Comunidade</a:t>
            </a:r>
            <a:endParaRPr b="0" lang="en-US" sz="3200" spc="-1" strike="noStrike">
              <a:solidFill>
                <a:srgbClr val="000000"/>
              </a:solidFill>
              <a:latin typeface="Arial"/>
            </a:endParaRPr>
          </a:p>
        </p:txBody>
      </p:sp>
      <p:sp>
        <p:nvSpPr>
          <p:cNvPr id="96"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a recolha planeada e sistemática de informação sobre os problemas e necessidades das pessoas e uso dessa informação para planear actividades apropriada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Quais são alguns dos aspectos a avalia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roblema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sociais (e.g., falta de emprego, violência, abuso de droga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económicos (dinheiro, acesso a empréstimo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problemas de saúde (doenças transmissíveis e não transmissívei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os Recursos</a:t>
            </a:r>
            <a:endParaRPr b="0" lang="en-US" sz="3600" spc="-1" strike="noStrike">
              <a:solidFill>
                <a:srgbClr val="000000"/>
              </a:solidFill>
              <a:latin typeface="Arial"/>
            </a:endParaRPr>
          </a:p>
        </p:txBody>
      </p:sp>
      <p:sp>
        <p:nvSpPr>
          <p:cNvPr id="98" name=""/>
          <p:cNvSpPr txBox="1"/>
          <p:nvPr/>
        </p:nvSpPr>
        <p:spPr>
          <a:xfrm>
            <a:off x="324000" y="1196640"/>
            <a:ext cx="4038480" cy="482436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Uma recolha planeada e sistemática de informação sobre os recursos que as pessoas têm e não têm.</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xemplos de coisas a avaliar:</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Dinheir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ropriedades- casas/viaturas/animais/equipamento/produtos agrícola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Segurança alimentar (disponibilidade e acess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rabalh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cesso à informação/empréstimo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emp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spaç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5089680" y="1125000"/>
            <a:ext cx="4038480" cy="4967640"/>
          </a:xfrm>
          <a:prstGeom prst="rect">
            <a:avLst/>
          </a:prstGeom>
          <a:noFill/>
          <a:ln w="0">
            <a:noFill/>
          </a:ln>
        </p:spPr>
        <p:txBody>
          <a:bodyPr anchor="t">
            <a:normAutofit fontScale="97000"/>
          </a:bodyPr>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juda a revelar a natureza e extensão dos problemas das pessoas e suas causas profundas. </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Útil para seleccionar soluções apropriadas para os problemas prioritários</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Fornece informação sobre os recursos (o que as pessoas têm ou não têm)</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ser usada para definir o estatuto socioeconómico</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fornecer orientações sobre o modo como as pessoas poderão usar o que têm para satisfazer as suas necessidade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de avaliação</a:t>
            </a:r>
            <a:endParaRPr b="0" lang="en-US" sz="3200" spc="-1" strike="noStrike">
              <a:solidFill>
                <a:srgbClr val="000000"/>
              </a:solidFill>
              <a:latin typeface="Arial"/>
            </a:endParaRPr>
          </a:p>
        </p:txBody>
      </p:sp>
      <p:sp>
        <p:nvSpPr>
          <p:cNvPr id="101" name=""/>
          <p:cNvSpPr txBox="1"/>
          <p:nvPr/>
        </p:nvSpPr>
        <p:spPr>
          <a:xfrm>
            <a:off x="468360" y="1125360"/>
            <a:ext cx="8229600" cy="5112000"/>
          </a:xfrm>
          <a:prstGeom prst="rect">
            <a:avLst/>
          </a:prstGeom>
          <a:noFill/>
          <a:ln w="0">
            <a:noFill/>
          </a:ln>
        </p:spPr>
        <p:txBody>
          <a:bodyPr anchor="t">
            <a:normAutofit/>
          </a:bodyPr>
          <a:p>
            <a:pPr marL="343080" indent="-34308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Variedade de instrumentos</a:t>
            </a:r>
            <a:endParaRPr b="0" lang="en-US" sz="1700" spc="-1" strike="noStrike">
              <a:solidFill>
                <a:srgbClr val="000000"/>
              </a:solidFill>
              <a:latin typeface="Arial"/>
            </a:endParaRPr>
          </a:p>
          <a:p>
            <a:pPr lvl="1" marL="743040" indent="-28584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xempl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social</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rdenação da riqueza</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e recursos natur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meios de subsistência –Tipos ( e.g., agricultura, pesca, actividades florestais, trabalho assalariado ou uma combinação destes e diversidade </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a mobilidade/instituiçõe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Listagem livre</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asseios em transect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Discussão em grup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ntrevistas individu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bservaçã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e registo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para passeios em transe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fontScale="97000"/>
          </a:bodyPr>
          <a:p>
            <a:pPr marL="332640" indent="-33264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asseios em transectos são passeios estruturados por secções numa comunidade, por vezes com as pessoas locais como guias, para observar as pessoas, as zonas e os recurso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 </a:t>
            </a:r>
            <a:r>
              <a:rPr b="1" lang="pt-PT" sz="2000" spc="-1" strike="noStrike">
                <a:solidFill>
                  <a:srgbClr val="000000"/>
                </a:solidFill>
                <a:latin typeface="Arial"/>
              </a:rPr>
              <a:t>Os passeios em transectos são, por isso, instrumentos de recolha de dados espaciai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essoa que guia o passeio está interessada em observar coisas específicas que possam fornecer mais dados para o seu tema de estud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dem ser feitos pedidos de esclareci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devem ser feitos depois do exercício de mapea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proporcionam uma visão geral da comunidade e ajudam a identificar problemas que poderão merecer mais exploraçã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são planeados desenhando uma “linha de transecto” num mapa da comunidade. A linha atravessa ou “secciona” todas as zonas da comunidade para fornecer uma visão representativa.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OS DE ASPECTOS A OBSERVAR DURANTE OS PASSEIOS EM TRANSECTOS</a:t>
            </a:r>
            <a:br>
              <a:rPr sz="2800"/>
            </a:br>
            <a:endParaRPr b="0" lang="en-US" sz="28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de habitação</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enda de alimentos em mercados ao ar livr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sanitária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balho infantil</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isponibilidade de transportes público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istência de unidades de saúd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ipos de lojas na comunidade (e.g., farmácias, mercearias)</a:t>
            </a:r>
            <a:endParaRPr b="0" lang="en-US" sz="24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uma equipa  multidisciplinar, cada membro elabora o seu próprio guia de observação, de acordo com o seu sector ou especialidade</a:t>
            </a:r>
            <a:r>
              <a:rPr b="0" lang="pt-P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de mapeamento social</a:t>
            </a:r>
            <a:endParaRPr b="0" lang="en-US" sz="3600" spc="-1" strike="noStrike">
              <a:solidFill>
                <a:srgbClr val="000000"/>
              </a:solidFill>
              <a:latin typeface="Arial"/>
            </a:endParaRPr>
          </a:p>
        </p:txBody>
      </p:sp>
      <p:sp>
        <p:nvSpPr>
          <p:cNvPr id="107" name=""/>
          <p:cNvSpPr txBox="1"/>
          <p:nvPr/>
        </p:nvSpPr>
        <p:spPr>
          <a:xfrm>
            <a:off x="179280" y="1197000"/>
            <a:ext cx="3538800" cy="4896000"/>
          </a:xfrm>
          <a:prstGeom prst="rect">
            <a:avLst/>
          </a:prstGeom>
          <a:noFill/>
          <a:ln w="0">
            <a:noFill/>
          </a:ln>
        </p:spPr>
        <p:txBody>
          <a:bodyPr anchor="t">
            <a:normAutofit/>
          </a:bodyPr>
          <a:p>
            <a:pPr marL="343080" indent="-3430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peamento social</a:t>
            </a:r>
            <a:endParaRPr b="0" lang="en-US" sz="2000" spc="-1" strike="noStrike">
              <a:solidFill>
                <a:srgbClr val="000000"/>
              </a:solidFill>
              <a:latin typeface="Arial"/>
            </a:endParaRPr>
          </a:p>
          <a:p>
            <a:pPr marL="343080" indent="-3430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mapa social é uma representação visual de uma zona residencial ou de trabalho.  Indica os limites da localidade, a infraestrutura social (ruas, abastecimento de água, escolas, espaços de lazer, lugares de oração, clínicas e outros espaços públicos) e os padrões de habitação.  Todas as casas da zona são representadas no map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Picture 6" descr=""/>
          <p:cNvPicPr/>
          <p:nvPr/>
        </p:nvPicPr>
        <p:blipFill>
          <a:blip r:embed="rId1"/>
          <a:stretch/>
        </p:blipFill>
        <p:spPr>
          <a:xfrm>
            <a:off x="3614760" y="1773360"/>
            <a:ext cx="5545080" cy="3817800"/>
          </a:xfrm>
          <a:prstGeom prst="rect">
            <a:avLst/>
          </a:prstGeom>
          <a:ln w="0">
            <a:noFill/>
          </a:ln>
        </p:spPr>
      </p:pic>
      <p:sp>
        <p:nvSpPr>
          <p:cNvPr id="109" name="Rectangle 1"/>
          <p:cNvSpPr/>
          <p:nvPr/>
        </p:nvSpPr>
        <p:spPr>
          <a:xfrm>
            <a:off x="5015160" y="1916280"/>
            <a:ext cx="228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ibian SC"/>
              </a:rPr>
              <a:t>Mapeamento 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m livre</a:t>
            </a:r>
            <a:endParaRPr b="0" lang="en-US" sz="40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listagem livre é </a:t>
            </a:r>
            <a:r>
              <a:rPr b="1" lang="pt-PT" sz="2200" spc="-1" strike="noStrike">
                <a:solidFill>
                  <a:srgbClr val="000000"/>
                </a:solidFill>
                <a:latin typeface="Arial"/>
              </a:rPr>
              <a:t>uma técnica que permite identificar as palavras usadas para se referir a um determinado assunto de interesse. Faz-se facilmente com grupos ou indivíduos e é, frequentemente, o primeiro passo no processo de analisar os termos locais, a sua relativa importância e a relação de uns com os outro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a:t>
            </a:r>
            <a:endParaRPr b="0" lang="en-US" sz="3600" spc="-1" strike="noStrike">
              <a:solidFill>
                <a:srgbClr val="000000"/>
              </a:solidFill>
              <a:latin typeface="Arial"/>
            </a:endParaRPr>
          </a:p>
        </p:txBody>
      </p:sp>
      <p:sp>
        <p:nvSpPr>
          <p:cNvPr id="11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A ordenação é útil para organizar a informação gerada a partir da listagem livre, ordenando as opções ou critérios, de acordo com a sua importância relativa.</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Também é útil para analisar preferências, a prevalência e o processo de tomada de decisões.</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Os respondentes avaliam as opções, ordenando-as depois em sequência. Por exemplo, os adolescentes indicam a opção mais importante, depois a seguinte mais importante e assim por diant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Particularmente útil para analisar o comportamento sexual dos adolescentes e as suas atitudes, incluindo questões como:</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de parceiros sexuai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e prevalência de contraceptivo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valência de diferentes IST</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problemas que os adolescentes enfrentam, 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Fontes de informação.</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 das necessidades básicas mínimas</a:t>
            </a:r>
            <a:endParaRPr b="0" lang="en-US" sz="3600" spc="-1" strike="noStrike">
              <a:solidFill>
                <a:srgbClr val="000000"/>
              </a:solidFill>
              <a:latin typeface="Arial"/>
            </a:endParaRPr>
          </a:p>
        </p:txBody>
      </p:sp>
      <p:pic>
        <p:nvPicPr>
          <p:cNvPr id="115" name="Picture 4" descr=""/>
          <p:cNvPicPr/>
          <p:nvPr/>
        </p:nvPicPr>
        <p:blipFill>
          <a:blip r:embed="rId1"/>
          <a:stretch/>
        </p:blipFill>
        <p:spPr>
          <a:xfrm>
            <a:off x="1979640" y="1268280"/>
            <a:ext cx="4157640" cy="4548240"/>
          </a:xfrm>
          <a:prstGeom prst="rect">
            <a:avLst/>
          </a:prstGeom>
          <a:ln w="0">
            <a:noFill/>
          </a:ln>
        </p:spPr>
      </p:pic>
      <p:sp>
        <p:nvSpPr>
          <p:cNvPr id="116" name="Dodecagon 2"/>
          <p:cNvSpPr/>
          <p:nvPr/>
        </p:nvSpPr>
        <p:spPr>
          <a:xfrm>
            <a:off x="4643280" y="1484280"/>
            <a:ext cx="865440" cy="504720"/>
          </a:xfrm>
          <a:prstGeom prst="pie">
            <a:avLst/>
          </a:prstGeom>
          <a:solidFill>
            <a:srgbClr val="ffff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rush Script MT Italic"/>
                <a:ea typeface="Brush Script MT Italic"/>
              </a:rPr>
              <a:t>Fonte de rendimento</a:t>
            </a:r>
            <a:endParaRPr b="0" lang="en-US" sz="1000" spc="-1" strike="noStrike">
              <a:solidFill>
                <a:srgbClr val="000000"/>
              </a:solidFill>
              <a:latin typeface="Arial"/>
            </a:endParaRPr>
          </a:p>
        </p:txBody>
      </p:sp>
      <p:sp>
        <p:nvSpPr>
          <p:cNvPr id="117" name="Rectangle 3"/>
          <p:cNvSpPr/>
          <p:nvPr/>
        </p:nvSpPr>
        <p:spPr>
          <a:xfrm>
            <a:off x="2700360" y="4149720"/>
            <a:ext cx="79200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Mai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8" name="Rectangle 6"/>
          <p:cNvSpPr/>
          <p:nvPr/>
        </p:nvSpPr>
        <p:spPr>
          <a:xfrm>
            <a:off x="2627280" y="4508640"/>
            <a:ext cx="93672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Segund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9" name="Rectangle 7"/>
          <p:cNvSpPr/>
          <p:nvPr/>
        </p:nvSpPr>
        <p:spPr>
          <a:xfrm>
            <a:off x="2556000" y="4869000"/>
            <a:ext cx="93636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Terceir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ntuação</a:t>
            </a:r>
            <a:endParaRPr b="0" lang="en-US" sz="36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também é útil para organizar a informação gerada pela listagem livre, atribuindo pontos às opções, de acordo com a sua importância relativa.</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rticipantes atribuem uma pontuação a cada uma das opções, em vez de as ordenarem</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permite uma análise mais aprofundada, porque mostra diferentes pesos na ordenação atribuída a cada opção.</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r exemplo, os jovens podem pontuar cada opção de fontes para tratar as infecções sexualmente transmissíveis na comunidade, para mostrar que percentagem de jovens eles acham que irão procurar tratamento de cada forma particu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vos </a:t>
            </a:r>
            <a:endParaRPr b="0" lang="en-US" sz="3200" spc="-1" strike="noStrike">
              <a:solidFill>
                <a:srgbClr val="000000"/>
              </a:solidFill>
              <a:latin typeface="Arial"/>
            </a:endParaRPr>
          </a:p>
        </p:txBody>
      </p:sp>
      <p:sp>
        <p:nvSpPr>
          <p:cNvPr id="59" name=""/>
          <p:cNvSpPr txBox="1"/>
          <p:nvPr/>
        </p:nvSpPr>
        <p:spPr>
          <a:xfrm>
            <a:off x="457200" y="1197000"/>
            <a:ext cx="8229600" cy="4929120"/>
          </a:xfrm>
          <a:prstGeom prst="rect">
            <a:avLst/>
          </a:prstGeom>
          <a:noFill/>
          <a:ln w="0">
            <a:noFill/>
          </a:ln>
        </p:spPr>
        <p:txBody>
          <a:bodyPr anchor="t">
            <a:normAutofit/>
          </a:bodyPr>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conceitos de mobilização social das comunidades, avaliação das necessidades e recurso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barreiras ao planeamento e implementação das actividades de mobilização social das comunidade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métodos usados para realizar a  avaliação das necessidades e/ou recursos para a mobilização social das com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lacunas nas intervenções para a mudança de comportamentos, barreiras e oport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iscutir as actividades de apoio psicossocial relacionadas com a doença do vírus do Ébol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upos de Debate Orientado (FGD)</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debate cuidadosamente orientado e destinado a obter informação sobre um determinado problema de interesse.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debate é orientado por um moderador, para garantir que a discussão é apropriada e que todos nela participam</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número de participantes é de 6-8 pessoas, sentadas em círculo ou semi-círculo, para que haja contacto visua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a sessão de grupo tem a duração de 45-60 minuto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FGD de homens e mulheres reúnem separadament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instrumento usado chama-se guia FGD</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s actas dos FGD são, normalmente, gravadas e/ou escritas à mã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ção</a:t>
            </a:r>
            <a:endParaRPr b="0" lang="en-US" sz="40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 recolha de informação sobre uma situação ou evento</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observação fornece informação fidedigna sobre comportamentos reais.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informação recolhida pode ser documentada usando uma lista de verificação.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lista de verificação contém as variáveis ou características que o observador pretende observar e documentar</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7575d1"/>
                </a:solidFill>
                <a:latin typeface="Arial"/>
              </a:rPr>
              <a:t>Análise de registos/documentos</a:t>
            </a:r>
            <a:endParaRPr b="0" lang="en-US" sz="3200" spc="-1" strike="noStrike">
              <a:solidFill>
                <a:srgbClr val="000000"/>
              </a:solidFill>
              <a:latin typeface="Arial"/>
            </a:endParaRPr>
          </a:p>
        </p:txBody>
      </p:sp>
      <p:sp>
        <p:nvSpPr>
          <p:cNvPr id="127"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 registo é material escrito ou impresso que contém informação</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ode ser analisado para compreender problemas passados e as necessidades das comunidades</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200" spc="-1" strike="noStrike">
                <a:solidFill>
                  <a:srgbClr val="000000"/>
                </a:solidFill>
                <a:latin typeface="Arial"/>
              </a:rPr>
              <a:t>Apresente exemplos da sua comunidad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Entrevistas</a:t>
            </a:r>
            <a:endParaRPr b="0" lang="en-US" sz="36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s entrevistas implicam o uso de questionário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 </a:t>
            </a:r>
            <a:r>
              <a:rPr b="1" lang="pt-PT" sz="2200" spc="-1" strike="noStrike">
                <a:solidFill>
                  <a:srgbClr val="000000"/>
                </a:solidFill>
                <a:latin typeface="Arial"/>
              </a:rPr>
              <a:t>Entrevista aprofundada – entrevista usada para sondar em profundidade e recolher informação detalhada que ajude a entender uma questão de interesse</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Muitas vezes conduzidas com pessoas que passaram pelo problema ou pessoas que desejem partilhar a sua experiência.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trevista aprofundada – com utilização do guia</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nálise dos dados da avaliação das necessidades</a:t>
            </a:r>
            <a:endParaRPr b="0" lang="en-US" sz="29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Consiste em reunir a informação recolhida para facilitar a sua interpretação e us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Dados do Questionário e da Observaçã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Resumir os dados manualmente ou com a ajuda de um computado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Se considerar difícl fazer a análise por computador, peça ajuda aos centros de investigação ou instituições académicas perto de si.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r os centros ou as instituições no início da concepção do seu instrumento</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stude cuidadosamente os dados, para os interpretar devidament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DRO DE AVALIAÇÃO</a:t>
            </a:r>
            <a:endParaRPr b="0" lang="en-US" sz="3200" spc="-1" strike="noStrike">
              <a:solidFill>
                <a:srgbClr val="000000"/>
              </a:solidFill>
              <a:latin typeface="Arial"/>
            </a:endParaRPr>
          </a:p>
        </p:txBody>
      </p:sp>
      <p:sp>
        <p:nvSpPr>
          <p:cNvPr id="13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M?</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 QUÊ?</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QU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649440" y="2448000"/>
            <a:ext cx="757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POIO PSICOSSOCIAL EM EMERGÊNC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6" name=""/>
          <p:cNvSpPr txBox="1"/>
          <p:nvPr/>
        </p:nvSpPr>
        <p:spPr>
          <a:xfrm>
            <a:off x="179280" y="1125360"/>
            <a:ext cx="8785440" cy="49276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mergências como o surto de Ébola e a respectiva resposta são causadoras de stress. Alguns factores de stress são:</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didas rígidas de biossegurança</a:t>
            </a:r>
            <a:endParaRPr b="0" lang="en-US" sz="20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esconforto físico provocado pelo equipamento de protecção</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solamento físico (proibição de tocar em terceiros)</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ecessidade de uma constante atenção e vigilância </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ressão dos procedimentos rígidos a seguir (falta de espontaneidade)</a:t>
            </a:r>
            <a:endParaRPr b="0" lang="en-US" sz="18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isco de ser contaminado ou contaminar terceiro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s comuns tomados erradamente por Ébola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levada taxa de mortalidade</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 tardio de Ébola e rápida deterior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ensão entre as prioridades de saúde pública e o desejo dos doente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sequências do surto nas comunidades e família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8" name=""/>
          <p:cNvSpPr txBox="1"/>
          <p:nvPr/>
        </p:nvSpPr>
        <p:spPr>
          <a:xfrm>
            <a:off x="179280" y="1125360"/>
            <a:ext cx="8785440" cy="16560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io de infecção</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melhança dos sintomas de Ébola com outras condições de saúde benigna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tress psicológico da espera pelos resultados dos testes</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umores relacionados com o Ébola na população afectada</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Box 4"/>
          <p:cNvSpPr/>
          <p:nvPr/>
        </p:nvSpPr>
        <p:spPr>
          <a:xfrm>
            <a:off x="577440" y="3068640"/>
            <a:ext cx="8752680" cy="3080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feitiçar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uma cobra que morde as pessoas por vinganç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trazido por ONGI para prolongar os seus contrato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premeditado (foi trazido nos sacos de cadáve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para prejudicar a oposi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nas casas como resultado da pulveriza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s ambulâncias levam pessoas que nunca regressam, porque são morta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homem branco arranjou um esquema para receber dinheiro das instituiçõ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brancos estão a recolher órgãos para a ciênc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As organizações humanitárias injectam a doença para matar as pessoas e fazerem dinheiro</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voluntários são pagos para distribuir medicamento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9"/>
                                        </p:tgtEl>
                                        <p:attrNameLst>
                                          <p:attrName>style.visibility</p:attrName>
                                        </p:attrNameLst>
                                      </p:cBhvr>
                                      <p:to>
                                        <p:strVal val="visible"/>
                                      </p:to>
                                    </p:set>
                                    <p:anim calcmode="lin" valueType="num">
                                      <p:cBhvr additive="repl">
                                        <p:cTn id="7" dur="500" fill="hold"/>
                                        <p:tgtEl>
                                          <p:spTgt spid="139"/>
                                        </p:tgtEl>
                                        <p:attrNameLst>
                                          <p:attrName>ppt_w</p:attrName>
                                        </p:attrNameLst>
                                      </p:cBhvr>
                                      <p:tavLst>
                                        <p:tav tm="0">
                                          <p:val>
                                            <p:fltVal val="0"/>
                                          </p:val>
                                        </p:tav>
                                        <p:tav tm="100000">
                                          <p:val>
                                            <p:strVal val="#ppt_w"/>
                                          </p:val>
                                        </p:tav>
                                      </p:tavLst>
                                    </p:anim>
                                    <p:anim calcmode="lin" valueType="num">
                                      <p:cBhvr additive="repl">
                                        <p:cTn id="8" dur="500" fill="hold"/>
                                        <p:tgtEl>
                                          <p:spTgt spid="139"/>
                                        </p:tgtEl>
                                        <p:attrNameLst>
                                          <p:attrName>ppt_h</p:attrName>
                                        </p:attrNameLst>
                                      </p:cBhvr>
                                      <p:tavLst>
                                        <p:tav tm="0">
                                          <p:val>
                                            <p:fltVal val="0"/>
                                          </p:val>
                                        </p:tav>
                                        <p:tav tm="100000">
                                          <p:val>
                                            <p:strVal val="#ppt_h"/>
                                          </p:val>
                                        </p:tav>
                                      </p:tavLst>
                                    </p:anim>
                                    <p:animEffect filter="fade" transition="in">
                                      <p:cBhvr additive="repl">
                                        <p:cTn id="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ências</a:t>
            </a:r>
            <a:endParaRPr b="0" lang="en-US" sz="4400" spc="-1" strike="noStrike">
              <a:solidFill>
                <a:srgbClr val="000000"/>
              </a:solidFill>
              <a:latin typeface="Arial"/>
            </a:endParaRPr>
          </a:p>
        </p:txBody>
      </p:sp>
      <p:sp>
        <p:nvSpPr>
          <p:cNvPr id="141"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adoecer, sofrer ou morr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a doença e dos do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os sintomas e doenças até agora tratados facilm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vitar os profissionais de saúde e as unidades de saú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perder os meios de subsis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que sejam colhidas amostras de sang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ntimento de impo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confiança e raiva de todos os que estão associados à doe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 e receio de doentes e agentes de saúde/cuidado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vicção de que a oração é o único reméd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usa de cuidar de órfã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gir e esconder-se no m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ção e contexto</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Defini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rocesso de reunir todos os aliados sociais intersectoriais possíveis e práticos, para aumentar os conhecimentos das pessoas e a procura de medidas de prevenção, detecção e controlo do Ébol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Objectivo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principal objectivo da mobilização social durante as iniciativas de resposta ao surto de Ébola é ouvir e dar resposta às preocupações das comunidades e promover rapidamente a adopção de práticas culturalmente sensíveis, que reduzam o risco de transmiss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oio psicológico</a:t>
            </a:r>
            <a:endParaRPr b="0" lang="en-US" sz="4400" spc="-1" strike="noStrike">
              <a:solidFill>
                <a:srgbClr val="000000"/>
              </a:solidFill>
              <a:latin typeface="Arial"/>
            </a:endParaRPr>
          </a:p>
        </p:txBody>
      </p:sp>
      <p:sp>
        <p:nvSpPr>
          <p:cNvPr id="143" name="PlaceHolder 2"/>
          <p:cNvSpPr>
            <a:spLocks noGrp="1"/>
          </p:cNvSpPr>
          <p:nvPr>
            <p:ph/>
          </p:nvPr>
        </p:nvSpPr>
        <p:spPr>
          <a:xfrm>
            <a:off x="394920" y="1196640"/>
            <a:ext cx="40402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o de infecção</a:t>
            </a:r>
            <a:endParaRPr b="0" lang="en-US" sz="2400" spc="-1" strike="noStrike">
              <a:solidFill>
                <a:srgbClr val="000000"/>
              </a:solidFill>
              <a:latin typeface="Arial"/>
            </a:endParaRPr>
          </a:p>
        </p:txBody>
      </p:sp>
      <p:sp>
        <p:nvSpPr>
          <p:cNvPr id="144" name=""/>
          <p:cNvSpPr txBox="1"/>
          <p:nvPr/>
        </p:nvSpPr>
        <p:spPr>
          <a:xfrm>
            <a:off x="250920" y="1700280"/>
            <a:ext cx="4039920" cy="439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das necessidades da comunida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contínua dos risc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a outros sectores da resposta à epid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dos pares e sessões de gestão dos cas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ção básica em abordagens psicossociais e competências básicas de apoio psicossocial, como o apoio psicológico e a comunicação de apoio</a:t>
            </a:r>
            <a:r>
              <a:rPr b="0" lang="pt-PT"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43280" y="1196640"/>
            <a:ext cx="40420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ante o isolamento</a:t>
            </a:r>
            <a:endParaRPr b="0" lang="en-US" sz="2400" spc="-1" strike="noStrike">
              <a:solidFill>
                <a:srgbClr val="000000"/>
              </a:solidFill>
              <a:latin typeface="Arial"/>
            </a:endParaRPr>
          </a:p>
        </p:txBody>
      </p:sp>
      <p:sp>
        <p:nvSpPr>
          <p:cNvPr id="146" name=""/>
          <p:cNvSpPr txBox="1"/>
          <p:nvPr/>
        </p:nvSpPr>
        <p:spPr>
          <a:xfrm>
            <a:off x="4284720" y="177336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fina objectivos realis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mente activ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ocure ou olhe com humor para as situaçõ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a bem e faça exercício, tanto quanto possív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espera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Use activamente as técnicas de gestão do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ceite os seus senti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45">
                                            <p:txEl>
                                              <p:pRg st="0" end="0"/>
                                            </p:txEl>
                                          </p:spTgt>
                                        </p:tgtEl>
                                        <p:attrNameLst>
                                          <p:attrName>style.visibility</p:attrName>
                                        </p:attrNameLst>
                                      </p:cBhvr>
                                      <p:to>
                                        <p:strVal val="visible"/>
                                      </p:to>
                                    </p:set>
                                    <p:anim calcmode="lin" valueType="num">
                                      <p:cBhvr additive="base">
                                        <p:cTn id="16"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6">
                                            <p:txEl>
                                              <p:pRg st="0" end="0"/>
                                            </p:txEl>
                                          </p:spTgt>
                                        </p:tgtEl>
                                        <p:attrNameLst>
                                          <p:attrName>style.visibility</p:attrName>
                                        </p:attrNameLst>
                                      </p:cBhvr>
                                      <p:to>
                                        <p:strVal val="visible"/>
                                      </p:to>
                                    </p:set>
                                    <p:anim calcmode="lin" valueType="num">
                                      <p:cBhvr additive="base">
                                        <p:cTn id="22"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6">
                                            <p:txEl>
                                              <p:pRg st="1" end="1"/>
                                            </p:txEl>
                                          </p:spTgt>
                                        </p:tgtEl>
                                        <p:attrNameLst>
                                          <p:attrName>style.visibility</p:attrName>
                                        </p:attrNameLst>
                                      </p:cBhvr>
                                      <p:to>
                                        <p:strVal val="visible"/>
                                      </p:to>
                                    </p:set>
                                    <p:anim calcmode="lin" valueType="num">
                                      <p:cBhvr additive="base">
                                        <p:cTn id="28"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6">
                                            <p:txEl>
                                              <p:pRg st="2" end="2"/>
                                            </p:txEl>
                                          </p:spTgt>
                                        </p:tgtEl>
                                        <p:attrNameLst>
                                          <p:attrName>style.visibility</p:attrName>
                                        </p:attrNameLst>
                                      </p:cBhvr>
                                      <p:to>
                                        <p:strVal val="visible"/>
                                      </p:to>
                                    </p:set>
                                    <p:anim calcmode="lin" valueType="num">
                                      <p:cBhvr additive="base">
                                        <p:cTn id="34"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6">
                                            <p:txEl>
                                              <p:pRg st="3" end="3"/>
                                            </p:txEl>
                                          </p:spTgt>
                                        </p:tgtEl>
                                        <p:attrNameLst>
                                          <p:attrName>style.visibility</p:attrName>
                                        </p:attrNameLst>
                                      </p:cBhvr>
                                      <p:to>
                                        <p:strVal val="visible"/>
                                      </p:to>
                                    </p:set>
                                    <p:anim calcmode="lin" valueType="num">
                                      <p:cBhvr additive="base">
                                        <p:cTn id="40"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6">
                                            <p:txEl>
                                              <p:pRg st="4" end="4"/>
                                            </p:txEl>
                                          </p:spTgt>
                                        </p:tgtEl>
                                        <p:attrNameLst>
                                          <p:attrName>style.visibility</p:attrName>
                                        </p:attrNameLst>
                                      </p:cBhvr>
                                      <p:to>
                                        <p:strVal val="visible"/>
                                      </p:to>
                                    </p:set>
                                    <p:anim calcmode="lin" valueType="num">
                                      <p:cBhvr additive="base">
                                        <p:cTn id="46"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6">
                                            <p:txEl>
                                              <p:pRg st="5" end="5"/>
                                            </p:txEl>
                                          </p:spTgt>
                                        </p:tgtEl>
                                        <p:attrNameLst>
                                          <p:attrName>style.visibility</p:attrName>
                                        </p:attrNameLst>
                                      </p:cBhvr>
                                      <p:to>
                                        <p:strVal val="visible"/>
                                      </p:to>
                                    </p:set>
                                    <p:anim calcmode="lin" valueType="num">
                                      <p:cBhvr additive="base">
                                        <p:cTn id="52"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6">
                                            <p:txEl>
                                              <p:pRg st="6" end="6"/>
                                            </p:txEl>
                                          </p:spTgt>
                                        </p:tgtEl>
                                        <p:attrNameLst>
                                          <p:attrName>style.visibility</p:attrName>
                                        </p:attrNameLst>
                                      </p:cBhvr>
                                      <p:to>
                                        <p:strVal val="visible"/>
                                      </p:to>
                                    </p:set>
                                    <p:anim calcmode="lin" valueType="num">
                                      <p:cBhvr additive="base">
                                        <p:cTn id="58"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48"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Ébola and Marburg virus disease epidemics: preparedness, alert, control, and evaluation. </a:t>
            </a:r>
            <a:r>
              <a:rPr b="0" lang="en-ZW" sz="2400" spc="-1" strike="noStrike" u="sng">
                <a:solidFill>
                  <a:srgbClr val="009999"/>
                </a:solidFill>
                <a:uFillTx/>
                <a:latin typeface="Arial"/>
                <a:hlinkClick r:id="rId3"/>
              </a:rPr>
              <a:t>http://www.who.int/csr/disease</a:t>
            </a:r>
            <a:r>
              <a:rPr b="0" lang="en-ZW" sz="2400" spc="-1" strike="noStrike" u="sng">
                <a:solidFill>
                  <a:srgbClr val="009999"/>
                </a:solidFill>
                <a:uFillTx/>
                <a:latin typeface="Arial"/>
                <a:hlinkClick r:id="rId4"/>
              </a:rPr>
              <a:t>/Ébola/</a:t>
            </a:r>
            <a:r>
              <a:rPr b="0" lang="en-ZW" sz="2400" spc="-1" strike="noStrike" u="sng">
                <a:solidFill>
                  <a:srgbClr val="009999"/>
                </a:solidFill>
                <a:uFillTx/>
                <a:latin typeface="Arial"/>
                <a:hlinkClick r:id="rId5"/>
              </a:rPr>
              <a:t>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6"/>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3"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texto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o não existe nenhuma terapia ou vacina eficaz contra a doença do vírus do Ébola, a única forma de reduzir o risco de infecções humanas é estabelecer um amplo debate com todos os principais actores, a vários níveis.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unicar os factores de risco e a necessidade da preven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didas que ajudem a reduzir a exposição e evitem a transmissão destes ví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or que é a mobilização social das comunidades essencial na prevenção e controlo d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a detecção rápida dos casos e o comportamento de procura de tratamento precoce;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o seguimento e a retenção dos contacto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bater o  estigma e a discriminação;</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apacitar as pessoas afectadas pel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obilizar o comprometimento político e os recursos para 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der aos desafios que as comunidades colocam a um controlo eficaz do É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115560"/>
            <a:ext cx="8928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Princípios orientadores e barreiras ao planeamento das actividades de mobilização social das comunidades</a:t>
            </a:r>
            <a:endParaRPr b="0" lang="en-US" sz="26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redibilidade das fontes de informação está intimamente ligada à mudança de comportament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omunicação exige um ambiente contextual propício e encorajador – canais claros, políticas, legislação e parceria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Os canais seleccionados para transmitir as mensagens, quer na imprensa quer interpessoais, devem ser apropriados aos receptores visad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Monitorizar, avaliar e conduzir investigação operacional para compreender o problema.</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incípios orientadores da mobilização das comunidades</a:t>
            </a:r>
            <a:endParaRPr b="0" lang="en-US" sz="32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unir-se com os indivíduos e as comunidades e estabelecer um diálogo. Isso revela empatia. Ouvir atentamente as suas preocupações e receios. Responder aberta e honestamente, sem exagerar a negativa (ou positiva);</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speitar os valores culturais, as crenças e atitudes, particularmente as que estão associadas à saúde e à doença, realçando as práticas benéficas, as prejudiciais e as exóticas;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Advogar com firmeza, para garantir que a comunicação  sobre os riscos, para reduzir a exposição das pessoas ao É</a:t>
            </a:r>
            <a:r>
              <a:rPr b="1" lang="pt-PT" sz="2200" spc="-1" strike="noStrike">
                <a:solidFill>
                  <a:srgbClr val="000000"/>
                </a:solidFill>
                <a:latin typeface="Arial"/>
                <a:ea typeface="Arial"/>
              </a:rPr>
              <a:t>bola,</a:t>
            </a:r>
            <a:r>
              <a:rPr b="0" lang="pt-PT" sz="2200" spc="-1" strike="noStrike">
                <a:solidFill>
                  <a:srgbClr val="ff0000"/>
                </a:solidFill>
                <a:latin typeface="Arial"/>
                <a:ea typeface="Arial"/>
              </a:rPr>
              <a:t> </a:t>
            </a:r>
            <a:r>
              <a:rPr b="1" lang="pt-PT" sz="2200" spc="-1" strike="noStrike">
                <a:solidFill>
                  <a:srgbClr val="000000"/>
                </a:solidFill>
                <a:latin typeface="Arial"/>
                <a:ea typeface="Arial"/>
              </a:rPr>
              <a:t>seja integrada nos  planos, políticas e programas governamentais, e. g., no reforço dos sistemas de saúd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27468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ea typeface="Arial"/>
              </a:rPr>
              <a:t>Comunicação sobre o Ébola a nível comunitário: colmatar as lacunas na  implementação</a:t>
            </a:r>
            <a:endParaRPr b="0" lang="en-US" sz="2800" spc="-1" strike="noStrike">
              <a:solidFill>
                <a:srgbClr val="000000"/>
              </a:solidFill>
              <a:latin typeface="Arial"/>
            </a:endParaRPr>
          </a:p>
        </p:txBody>
      </p:sp>
      <p:sp>
        <p:nvSpPr>
          <p:cNvPr id="71" name=""/>
          <p:cNvSpPr txBox="1"/>
          <p:nvPr/>
        </p:nvSpPr>
        <p:spPr>
          <a:xfrm>
            <a:off x="457200" y="1197000"/>
            <a:ext cx="8229600" cy="4929120"/>
          </a:xfrm>
          <a:prstGeom prst="rect">
            <a:avLst/>
          </a:prstGeom>
          <a:noFill/>
          <a:ln w="0">
            <a:noFill/>
          </a:ln>
        </p:spPr>
        <p:txBody>
          <a:bodyPr anchor="t">
            <a:normAutofit fontScale="97000"/>
          </a:bodyPr>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O que são “lacunas”? </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conteúdos (conhecimentos) e compet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recursos (financeiros, humanos, espaciais, tempor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evid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intersectoriais e multissectori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capacidades técnicas (multidisciplinare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políticas e na legislação;</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lideranç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4-11-27T13:25:04Z</cp:lastPrinted>
  <dcterms:modified xsi:type="dcterms:W3CDTF">2014-11-27T20:30:53Z</dcterms:modified>
  <cp:revision>197</cp:revision>
  <dc:subject/>
  <dc:title>DPC Training and Technical Update</dc:title>
</cp:coreProperties>
</file>