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876454-9CE7-4B9D-A40B-D82806051A4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FE4756-9E74-4320-BDE8-39A54DF6B1C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018294-472E-4FF3-A2B6-9FE5B79A289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EB4ADCE-D4C9-435C-832A-B25559D860F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3F92AD-6005-421E-B8B3-76726DB9302D}" type="datetime3">
              <a:rPr b="0" lang="en-US" sz="1200" spc="-1" strike="noStrike">
                <a:solidFill>
                  <a:srgbClr val="000000"/>
                </a:solidFill>
                <a:latin typeface="Arial"/>
                <a:ea typeface="MS PGothic"/>
              </a:rPr>
              <a:t>July 31,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F78E62-EE69-437C-B67E-DA8CBA8BCCB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374385-5265-442E-99D0-7D21C29DEC5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030DA1-462A-424D-843A-5C7EB3314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235A7E-7C48-42AA-BC9F-335BD6AD09A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5902E8-6B48-4C4F-AB06-C3CA1B8B0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318530-6791-4623-87D7-E3D61C7783A3}" type="datetime3">
              <a:rPr b="0" lang="en-GB" sz="1200" spc="-1" strike="noStrike">
                <a:solidFill>
                  <a:srgbClr val="000000"/>
                </a:solidFill>
                <a:latin typeface="Arial"/>
              </a:rPr>
              <a:t>31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8464C2-2BB5-467D-A56F-D09D93C61E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E72CB1-56C0-478F-9DBE-176451731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7799CF-2472-4441-9E6A-D1B502D50BB5}"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84A094-EE60-4A24-AF9D-11BE1ACE0BDA}"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B811AC-D354-4629-8208-57B7A6A55D0E}"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