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A020C8-299E-4B93-8725-E718940E61D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06F3FA-A154-4341-901E-E24DEF83804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AF8529F-8533-41C2-A8C3-6FF8C97551A6}"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6BF707-4360-49ED-BADE-93EBA561E36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5FC5A61-3F46-4D30-80DA-F06007547E98}" type="datetime3">
              <a:rPr b="0" lang="en-US" sz="1200" spc="-1" strike="noStrike">
                <a:solidFill>
                  <a:srgbClr val="000000"/>
                </a:solidFill>
                <a:latin typeface="Arial"/>
                <a:ea typeface="MS PGothic"/>
              </a:rPr>
              <a:t>July 30,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29C2876-4CAC-4BA2-8CD2-45AD2F25CC2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D7A8B74-4199-4597-8B00-3D7CAAC2683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A36BA4-B1A1-43A7-A3BF-F35451F06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5A6B53F-2E79-468D-A96A-C41FBA25A55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FC18B1-F3B4-45FB-8EDF-AE6319BB0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E4E60E-878B-432F-9FD0-E254CF034A69}" type="datetime3">
              <a:rPr b="0" lang="en-GB" sz="1200" spc="-1" strike="noStrike">
                <a:solidFill>
                  <a:srgbClr val="000000"/>
                </a:solidFill>
                <a:latin typeface="Arial"/>
              </a:rPr>
              <a:t>30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649ACB0-8D0D-46AE-BF08-2870F611B5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82E91E-F5A1-4C34-AA7B-5E9AFDA25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67BFD8-B641-44E2-A285-6BD0A875EC18}"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0041C4-134F-4B7C-B2DB-CBA4222A75C4}"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40A63A-F27C-4993-8CF5-F9ADC48443FD}"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