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dt" idx="2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ftr" idx="3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 type="sldNum" idx="3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B0FD-A159-45D3-AD01-77A395E519F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B59D-7D37-46CD-9744-DF3434E4AF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 quer continuar eficiente, deve arranjar tempo para repousar e fazer actividades que restabeleçam a sua energ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8CB0-52A4-45D6-8194-8B5C6ED225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0234-4080-4A88-BAF0-15BDAA0D073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8882-56CD-4D91-8F7A-C2FD4C0AA91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302C-77B2-4E21-A92A-E5EAEF6C9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AB70-559D-4398-9377-657EDFC6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1636B-123B-49AB-BE1D-054598844A7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391D4-4F22-487F-BE27-38351904527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F5FFB-1F26-4EB7-A131-C0A75EC7BA8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0006B-5F18-4F35-91B1-571007D5541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D8185-D058-4F82-89B4-22B0E795764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967B7-260B-40C9-AC1D-3B330D21BED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F08C7-1856-4CAB-BB80-EA656355C1A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7B901-C7CB-4C75-81F5-D2040EC9FA8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D4958-2E6A-49BC-B12D-61A5F670C11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CFD656-F379-4DD0-A72B-FC7B2C01E5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A8FD-1A88-4AFC-86D9-2BA1AED49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2DC00A-0D2D-466E-881E-01395EBA8DF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C811F2-441C-45D6-95AB-F4FC38DB009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2E418D-BB9D-4738-86CC-A0FBBAEC79C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C9793C-8D7D-4F5E-95B2-1A109389E2C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A43A20-FFB8-4C8B-A57D-388CCD5AAAB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96C568-6EC8-49AD-A13C-4E15268900B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758128-EAAC-4012-B99B-4A970E9AC6B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FA20E6-2AB5-4D77-9004-8E5AB8C9B16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9655A6-9A68-4DFF-819F-7559F031346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65CF04-ED73-44B4-BA9B-6A003B3480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2F7D-6DC8-4931-9A5C-A904CA092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529798-50BE-44DE-98CD-25DCC4E2E9E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C602C3-550D-47A2-A38D-8275D14433F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8C30F2-8D09-4EAA-8C06-F11F3313308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81AC60-CFB0-4579-940E-D52E0320059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329273-F80A-488A-A3A7-C6C99BA094B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CADA90-BA6C-45A7-B44B-9DE920F5E33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97872E-627F-43A2-91AC-54F08FC3AFF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857512-33D9-432C-98F0-3542764BBFC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DB7961-426D-418E-BB9E-517DC27FF0E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D4FA11-67A5-46DC-BD28-752C5570F6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7EF70-3407-41B4-A71E-5FD5B1DA456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623A39-6188-4B7E-B764-9714E4A4CE0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D3013E-87A8-49B2-A3AD-78B33A8C6C2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40A0AC-920E-4710-B7AD-954F47F5D1B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5AC68-6169-407F-9FC8-6E432BE96B6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5B59F5-0E17-475B-89F7-58BC2FE2D67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902BF-C620-43A2-A6E7-42E07AAB1AB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F4A92D-647A-4894-BD08-FAAE277E8EA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B93D1-A077-43CC-847B-C1A03AFB29A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A63B2-DCD2-47C9-BD69-835AECD8D5E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DF6BB-DE8C-44FF-A2AF-8A870A30D8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0AE0B0-FC3B-4F0D-9D5F-BD45CE999A5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925FB-4500-4FCD-88D0-42CC34C48C6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968BE-2038-4C11-AB7D-42A21659A58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58DAD-61B7-47CD-83D4-BE6C0282022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133E2-6BA4-4A66-938D-79779978344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7F017-5119-4F10-B85E-74FA5768083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DE4EB1-DA98-4AC4-9C4A-0C8A84AF05E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0ADE0E-D44A-4997-A6D4-C86FB43ACF1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83E112-C5FC-4CAD-A761-4D06BB34448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6C8CAA-70FD-474F-B32C-0C28577AB96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00B98D-CA95-425F-8BEE-C608AEEDD2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C3A55-501D-43C5-BE20-1E6BAC3DA2E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663FD7-92E9-453C-8430-8AC86A9ADC5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E8AFA9-E123-4F81-8CB4-23E8777FC84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EF8567-6FC1-4481-9D8B-F098F2D387F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A9B369-D5F8-49EE-8284-99B91581816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2CB651-31CE-4A45-929C-2C9EDA14A34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4A98F6-C66D-4FD7-80AB-AE85D844651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B57875-8A8F-4A91-B8C4-72AAA4D492C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51C88C-D54B-4142-B419-FF517BE65B0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1066D9-57B4-4F8B-9CDC-A3DB2FC4C9F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8A59A5-55D7-4A9A-A9F8-D0150FB270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3F6BF-DF02-4E1F-80DA-4FBECC2AEA1E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CEF404-52F5-4458-9E19-5EE17C4BCA0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3D9AE2-FCB1-4851-B4D9-11027879949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93B366-2D8E-4DE2-821A-E9F8D7E75999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4E8802-266E-4787-8C49-077C2806510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636385-436F-41AE-8747-5304D3E4BA4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CB4E18-D731-4AC2-BB4B-4CE21EA0A602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E6FA87-76D1-42F1-BFA3-85064FCDBB09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AA6AB2-EBB7-45D9-BF4D-8D824F7F242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90ADE8-3D64-4C49-8B3F-607971A04B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A196AC-024A-4B22-AF1D-6C5503AC4B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6BF25-1418-45EA-A1F8-C1E94772D7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0299FA-DD18-4ADE-B17A-42B53072C6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7C44-E0C1-4468-8485-7EFB433C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07A4F-804A-437A-B005-D764239971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C1421-9D11-4E0F-A653-EEAE1A97EF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036B05-2079-456E-80F4-200F991FF9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160C7-DEA9-4C44-87D3-A489F299CD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0A89E-C7DD-4F53-A1C4-C0B27D31A7A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9909-77BD-400D-B327-D03C80B2A16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D020-51C0-4883-8EF7-70C34BEED60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F9290-D37D-43D5-B7AE-B527FEA59A9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A54B-EFDD-47E8-BC11-23C221D9176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6139-6A56-449D-B74F-C8808634DE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A4B6-7F63-47F1-8324-48634BA5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AC5A-DE77-46F4-AF8F-6A6E3E2A1F5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F002-4278-418D-A8C3-40F7995322C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1947-4E39-475E-9A89-97751042D63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B535-BA22-4680-8F47-CE524C0E87E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44F65-7A4C-4A2D-9D3B-D48A104B42F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D3CB-FAC3-46C4-AF30-C4FBFC0F3EC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DBEB3-DBF6-4965-81AB-B299A4F2E64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0DA43E-42A8-4F08-84C1-27E8AA63802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E7A0B3-C288-40FA-9080-E384E731B73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494FDD-3725-4CAF-85E9-83D4C1ED65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DCC1-8196-4E40-B9EC-B28A1790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986F62-69FF-4EBE-A722-8D4AF54600A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0494C3-8700-4903-A2DA-10205AC8039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5DEA5D-5183-44EF-8A7E-947BA5708E3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136E0E-D98A-4620-9E55-8FA7C0BEE8A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E68AFC-88D9-47A9-801D-A99E84E2789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E3E220-5A41-4C10-8BEB-2F1CBF8C05A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9C9811-D981-4E1C-B517-4135E0E740C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C9755D-D97C-4FB3-B3B5-5377DC2BC2B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D05890-09EF-49F4-B816-72E6400E1D8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1E28D7-8ECE-4601-995B-DC1A0AB3E6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6875-FB1F-4A2B-AD73-58229690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7FD094-47F1-4605-B9B0-059156F92E5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95CAC2-3605-429A-9F18-0AA3164687D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CF35A6-32A2-4FC1-85E0-AF1EBF22272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ED3BCD-2A07-4198-8299-84E04133F30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4156FE-2E93-4574-9430-C01F6C11695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B5C433-1D32-48F5-9D41-82CFB8531FF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AF6578-9431-4695-9C61-4907AA4378D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0E9F6D-D3D2-4D20-93C6-CC292688AD0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5D6B05-EDFF-4D59-8660-3EDF2F780CE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0737C2-BCDC-49E4-BB75-2ADB8B9048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842B-C915-497C-92B0-3A6DA03F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875D11-4577-4C86-871D-EF141DC6CC0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7CE2B-3F66-44C0-8966-639C3EC9632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B4761-56A9-4D31-AC98-4318E035A9B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C9089-90E1-4491-894F-4A03365D847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C64EC-797B-47E9-B8FA-27F17B9F937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5CF01-9828-40E1-9B85-D365B32599B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776D3-9094-4DA3-9994-4FF098E120A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A9E14-79C1-40E4-BDDD-3A91285BD21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B7AD1-8948-4EA1-815A-FD3181E7FDD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76009-D72D-4643-A52B-0010AA7779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9871-12C7-4038-8AB8-FE5DE0D6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74ABC-B54A-48F1-9F5D-19F9677E586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CE27A-682C-424B-B95B-98E5FC2B565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D1441-B04E-4061-A1EB-9D1C8B49B0E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7F28FB-CC83-4EDA-82CD-FCC3D509EB0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8C4EC9-3397-469F-9D60-F48CD22C4CB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E37180-0EB0-4231-97E6-25532D625AA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22EA3D-D241-4276-9A0F-70D0D904ACF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70596A-87DA-495A-B84C-2B4673B7756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157F30-2C33-4034-96AE-983B78CD2CE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E31637-7194-4747-AE31-65C397B52B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C981-B469-4C6A-A829-815A434A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243FB0-BACC-4281-B6D5-372E73E2202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CDEA94-916B-441F-9BA3-455EA9EE375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01861D-DF59-48E7-AE00-BEA861D9E18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710B8A-C2B1-457E-BD0A-0996B65D775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47509D-C50F-4EB5-99CA-23460F915E9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7AC7E1-30CE-41DC-BFD0-CCA19CB85DB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42C405-E4AC-4084-8204-297D46AA2E1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1D30EC-B298-46B1-BC41-1A158A80874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F1B0DE-7B2E-437C-AAAB-20FF3D33CCD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FBE071-EDDC-4412-B5FD-59343EA34E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FC30-5234-43B9-99C5-A4AD3EF6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20D641-9AC8-4505-BCE1-A04B2109026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CCDE7C-C809-468F-904C-35A9FCAC257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38A1A3-99A1-4F8B-9CB8-49922611398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424949-10C3-46D8-A688-0D5627645EE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48A66D-2F73-4A56-A2C3-B0EFDB1A87E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AF1058-33BA-4744-BA8C-F6A10937AAB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5D23C9-459D-4A6B-A368-1A9C5AA572F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6E3E9-AB46-4518-90C7-7985D7710FD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C95EB-1BD0-4941-AFB7-9198A65970E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9FC51-85DF-45CA-9D72-6507346AF5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C9BE-84C9-463B-9503-CCC079EDC33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36CE-C2CC-4D1A-8F85-D9B39E732E6C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424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5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6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ftr" idx="19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sldNum" idx="20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82EE-C387-48F4-9578-C7EB32EAA699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1663-BF55-4CEA-9427-6AEFF39BC8A4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471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2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3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ftr" idx="21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sldNum" idx="22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85C7-6B3A-4FE6-92BA-E13B4D1BEFE0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84AF-3799-49DA-820C-48C8CE6F5BBB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518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9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ftr" idx="23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sldNum" idx="24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A9CD-A3B7-4986-8A7B-151D0702BF89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D8E0-D95B-48B8-AC52-CED8C11E7CD0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565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6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TextBox 18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ftr" idx="25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sldNum" idx="26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17FF-E027-425B-AEDE-085C26E6BCC5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62D2-D84D-4036-9CC0-27A74105D16A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612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3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4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ftr" idx="27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sldNum" idx="28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D4B3-2AA0-4231-B25D-D9F26A8BE7E0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E374-97C1-4F43-8E86-87F28F8410BC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C405-BEE3-4256-926F-F49698AB59CE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49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F5CE-1EBF-40D8-9499-E62CB22ABAD5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92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97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image1.png" descr=""/>
            <p:cNvPicPr/>
            <p:nvPr/>
          </p:nvPicPr>
          <p:blipFill>
            <a:blip r:embed="rId3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6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83BF-0179-460A-AA3A-D6C7181732FF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A4A9-7D13-4768-BF46-4A2F54078CD8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142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7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8"/>
          </p:nvPr>
        </p:nvSpPr>
        <p:spPr>
          <a:xfrm>
            <a:off x="845784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128C-072A-415C-80F7-58979C9D19B0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D838-2BBE-41E7-9A4E-00C098D44D45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189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0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9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0"/>
          </p:nvPr>
        </p:nvSpPr>
        <p:spPr>
          <a:xfrm>
            <a:off x="83818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DE60-006A-48B1-97E1-2C68B5E2565C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625D-19D4-4355-B538-CE5574C26E9E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236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7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8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ftr" idx="11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sldNum" idx="12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38BE-4CC2-4396-9B15-DBC1D345FE51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46D6-2757-4AED-B94A-03A977058496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283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4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TextBox 18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ftr" idx="13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sldNum" idx="14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C227-4786-46C7-9B54-DE4D3B8E1834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5255-02BE-4D11-BAAC-7411B1B411EF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330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2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ftr" idx="15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16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7A12-4979-4668-9B31-472D72B10964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54CC-92C9-40D9-9A2D-B7A661AA69EE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377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8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9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17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sldNum" idx="18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414F-8F56-415E-A1D9-D95693AC4BEA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extranet.who.int/hslp" TargetMode="External"/><Relationship Id="rId2" Type="http://schemas.openxmlformats.org/officeDocument/2006/relationships/hyperlink" Target="mailto:ihrhrt@who.int" TargetMode="External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361960" y="84240"/>
            <a:ext cx="67482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3200" spc="-1" strike="noStrike">
                <a:solidFill>
                  <a:srgbClr val="002060"/>
                </a:solidFill>
                <a:latin typeface="Arial"/>
                <a:ea typeface="Arial"/>
              </a:rPr>
              <a:t>Equipas de Resposta Rápida </a:t>
            </a:r>
            <a:br>
              <a:rPr sz="3200"/>
            </a:br>
            <a:r>
              <a:rPr b="1" lang="pt-PT" sz="3200" spc="-1" strike="noStrike">
                <a:solidFill>
                  <a:srgbClr val="0070c0"/>
                </a:solidFill>
                <a:latin typeface="Arial"/>
                <a:ea typeface="Arial"/>
              </a:rPr>
              <a:t>Formaçã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0" y="4724280"/>
            <a:ext cx="90360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Preparação antes da partid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Duração: 30’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Box 1"/>
          <p:cNvSpPr/>
          <p:nvPr/>
        </p:nvSpPr>
        <p:spPr>
          <a:xfrm>
            <a:off x="73440" y="6477120"/>
            <a:ext cx="23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Arial"/>
              </a:rPr>
              <a:t>Actualizado em: 24/11/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O seu pacote básico de viagem?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7621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Uma mala pequena, se possível rígida (15 Kg)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Passaporte e outros documentos de identificação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Boletim de vacinas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Cartões bancários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Medicamentos prescritos 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Lanterna com pilhas novas 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Dispositivos de comunicação: telemóveis, telefones por satélite com carregadores e acumuladores de carga 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Adaptadores eléctricos 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Alimentos não perecíveis …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Instruções Iniciais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10253f"/>
                </a:solidFill>
                <a:latin typeface="Arial"/>
              </a:rPr>
              <a:t>As instruções antes do destacamento da equipa de ERR incluem a seguinte informação: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Objectivos da missão 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Dados mais recentes disponíveis (mesmo não tratados)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Mecanismo de relatórios esperado (dentro da equipa, para a Sede, etc.)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Indicadores/métrica por sector (isto é, epidemiologia, laboratório, WASH, etc.)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Intervenções em curso/anteriores (se existirem)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Instruções Iniciais (continuação)</a:t>
            </a:r>
            <a:br>
              <a:rPr sz="2600"/>
            </a:br>
            <a:endParaRPr b="0" lang="en-US" sz="26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10253f"/>
                </a:solidFill>
                <a:latin typeface="Arial"/>
              </a:rPr>
              <a:t>Informação, que pode ser recolhida individualmente pelos membros da equipa</a:t>
            </a: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, sobre os factores que podem ter impacto sobre a equipa no terreno, nas seguintes áreas-chave: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Geografia   – local (topografia, cidades, comodidades)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Demografia  - práticas socioculturais, religião, língua, grupos tribais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Política/Segurança  – conflitos na comunidade, reuniões/eventos sociopolíticos, festivais, etc.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Riscos ambientais – mosquitos, água... 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Logística pessoal  – o que está disponível no terreno – alimentos, água, abrigo, roupa, protecção contra intempéries.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Evento de saúde pública em curso (para o qual estão a preparar-se).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Outros.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2060"/>
                </a:solidFill>
                <a:latin typeface="Arial"/>
              </a:rPr>
              <a:t>Instruções Iniciais: Ex., Lista de verificação de material da ERR para a DVE</a:t>
            </a:r>
            <a:endParaRPr b="0" lang="en-US" sz="20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70c0"/>
                </a:solidFill>
                <a:latin typeface="Arial"/>
              </a:rPr>
              <a:t>Saúde individual e da equipa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Fazer a vacinação apropriada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400" spc="-1" strike="noStrike">
                <a:solidFill>
                  <a:srgbClr val="10253f"/>
                </a:solidFill>
                <a:latin typeface="Arial"/>
              </a:rPr>
              <a:t>Kit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de saúde pessoal e prescrições de rotina, profilaxia antipalúdica, desinfectante de mãos à base de álcool,</a:t>
            </a:r>
            <a:r>
              <a:rPr b="0" i="1" lang="pt-PT" sz="1400" spc="-1" strike="noStrike">
                <a:solidFill>
                  <a:srgbClr val="10253f"/>
                </a:solidFill>
                <a:latin typeface="Arial"/>
              </a:rPr>
              <a:t> kit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de primeiros socorros, termómetro IV, plano de evacuação médica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70c0"/>
                </a:solidFill>
                <a:latin typeface="Arial"/>
              </a:rPr>
              <a:t>Materiais impressos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Termos de referência para investigações e toda a informação disponível sobre o evento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Planos de contingência nacional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Procedimentos operacionais padrão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Lista de contactos das equipas centrais, intermédias e distritais, do coordenador geral do evento e das partes interessadas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Formulários de pesquisa de casos impressos, formulários de listagens, questionário das entrevistas, definição de casos, formulários de envio para os laboratórios, modelo de relatórios de situação, formulários de identificação e localização de contactos, formulários de consentimento para colheita de amostras, etc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Materiais para formação rápida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Orientações técnicas em papel, cartazes, material de comunicação de riscos.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70c0"/>
                </a:solidFill>
                <a:latin typeface="Arial"/>
              </a:rPr>
              <a:t>Tecnologias de Informação e Comunicação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Computadores portáteis e impressoras, sinal de internet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Telemóveis e recargas extra, rádios, se for necessário, etc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Informação da lista de contactos dos principais parceiros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Instruções Iniciais: Ex. Lista de Verificação da ERR para a DVE 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70c0"/>
                </a:solidFill>
                <a:latin typeface="Arial"/>
              </a:rPr>
              <a:t>Medicamento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Conjunto de infusão para reidratação 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SRO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Cursos de tratamento 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70c0"/>
                </a:solidFill>
                <a:latin typeface="Arial"/>
              </a:rPr>
              <a:t>Equipamento de terreno e EPP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Desinfectante para as mãos à base de álcool  sabão, HTH/lixívia 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EPP- vestuário não esterilizado, luvas nitrílicas descartáveis, luvas resistentes, máscaras N95, fato-macaco e/ou batas, botas de borracha, aventais resistentes, máscaras e/ou óculos de protecção, máscaras cirúrgicas.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Termómetros de infravermelho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Sacos para transporte de cadávere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Pulverizadores dorsai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Sacos descartáveis para resíduos biológicos perigosos 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200" spc="-1" strike="noStrike">
                <a:solidFill>
                  <a:srgbClr val="10253f"/>
                </a:solidFill>
                <a:latin typeface="Arial"/>
              </a:rPr>
              <a:t>Kit </a:t>
            </a: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para amostras (UN 2814,</a:t>
            </a:r>
            <a:r>
              <a:rPr b="0" i="1" lang="pt-PT" sz="1200" spc="-1" strike="noStrike">
                <a:solidFill>
                  <a:srgbClr val="10253f"/>
                </a:solidFill>
                <a:latin typeface="Arial"/>
              </a:rPr>
              <a:t> kit </a:t>
            </a: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para colheita de sangue, bastonetes para esfregaço oral, luvas, bastonetes com álcool )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Embalagem tripla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Caixa de segurança/recipiente para objectos cortante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70c0"/>
                </a:solidFill>
                <a:latin typeface="Arial"/>
              </a:rPr>
              <a:t>Transporte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Acesso a carros ou motorizadas e combustível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70c0"/>
                </a:solidFill>
                <a:latin typeface="Arial"/>
              </a:rPr>
              <a:t>Finança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Ajudas de custo, dinheiro para pequenas despesa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Acesso e mecanismo para libertar fundos do orçamento para emergência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 txBox="1"/>
          <p:nvPr/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Agora que chegou ao local com segurança, que primeiros passos deve dar?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UGESTÕES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Manter uma discussão preliminar (mesmo informal) com os colegas e parceiros no terreno: apresentar a sua perspectiva pessoal sobre a situação (incluindo segurança e protecção)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Procurar entender a dinâmica da situação e os actores envolvidos (parceiros do sector da saúde, líderes políticos, militares e outros actores não humanitários)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Distinguir o importante e urgente do trivial  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Ser prático e pragmático e manter-se em contacto próximo com as realidades do terreno … </a:t>
            </a:r>
            <a:r>
              <a:rPr b="0" lang="pt-PT" sz="2200" spc="-1" strike="noStrike">
                <a:solidFill>
                  <a:srgbClr val="ff0000"/>
                </a:solidFill>
                <a:latin typeface="Arial"/>
              </a:rPr>
              <a:t>Cuidado com a síndrome de excesso de confiança do 3.º dia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Não se esquecer de notificar e informar o seu supervisor!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Gestão do </a:t>
            </a:r>
            <a:r>
              <a:rPr b="1" i="1" lang="fr-FR" sz="3200" spc="-1" strike="noStrike">
                <a:solidFill>
                  <a:srgbClr val="002060"/>
                </a:solidFill>
                <a:latin typeface="Arial"/>
              </a:rPr>
              <a:t>stress</a:t>
            </a: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 …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O </a:t>
            </a:r>
            <a:r>
              <a:rPr b="0" i="1" lang="pt-PT" sz="2800" spc="-1" strike="noStrike">
                <a:solidFill>
                  <a:srgbClr val="10253f"/>
                </a:solidFill>
                <a:latin typeface="Arial"/>
              </a:rPr>
              <a:t>stress</a:t>
            </a: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 é um alarme fisiológico.. O seu corpo não aguenta mais …relaxe…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Reconheça os sinais e sintomas do </a:t>
            </a:r>
            <a:r>
              <a:rPr b="0" i="1" lang="pt-PT" sz="2800" spc="-1" strike="noStrike">
                <a:solidFill>
                  <a:srgbClr val="10253f"/>
                </a:solidFill>
                <a:latin typeface="Arial"/>
              </a:rPr>
              <a:t>stress</a:t>
            </a: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….. </a:t>
            </a:r>
            <a:r>
              <a:rPr b="0" lang="pt-PT" sz="2800" spc="-1" strike="noStrike">
                <a:solidFill>
                  <a:srgbClr val="ff0000"/>
                </a:solidFill>
                <a:latin typeface="Arial"/>
              </a:rPr>
              <a:t>Conheça-se a si mesmo...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Identifique os seus próprios mecanismos de resistência … 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É normal e humano pedir ajuda ou pedir um período de descanso...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Tahoma"/>
                <a:ea typeface="Tahoma"/>
              </a:rPr>
              <a:t>Gestão do </a:t>
            </a:r>
            <a:r>
              <a:rPr b="1" i="1" lang="fr-FR" sz="3200" spc="-1" strike="noStrike">
                <a:solidFill>
                  <a:srgbClr val="002060"/>
                </a:solidFill>
                <a:latin typeface="Tahoma"/>
                <a:ea typeface="Tahoma"/>
              </a:rPr>
              <a:t>stress</a:t>
            </a:r>
            <a:r>
              <a:rPr b="1" lang="fr-FR" sz="3200" spc="-1" strike="noStrike">
                <a:solidFill>
                  <a:srgbClr val="002060"/>
                </a:solidFill>
                <a:latin typeface="Tahoma"/>
                <a:ea typeface="Tahoma"/>
              </a:rPr>
              <a:t>...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pic>
        <p:nvPicPr>
          <p:cNvPr id="697" name="Picture 3" descr=""/>
          <p:cNvPicPr/>
          <p:nvPr/>
        </p:nvPicPr>
        <p:blipFill>
          <a:blip r:embed="rId1"/>
          <a:stretch/>
        </p:blipFill>
        <p:spPr>
          <a:xfrm>
            <a:off x="5443560" y="3646440"/>
            <a:ext cx="3510000" cy="234000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4" descr=""/>
          <p:cNvPicPr/>
          <p:nvPr/>
        </p:nvPicPr>
        <p:blipFill>
          <a:blip r:embed="rId2"/>
          <a:stretch/>
        </p:blipFill>
        <p:spPr>
          <a:xfrm>
            <a:off x="228600" y="1828800"/>
            <a:ext cx="4762440" cy="3171960"/>
          </a:xfrm>
          <a:prstGeom prst="rect">
            <a:avLst/>
          </a:prstGeom>
          <a:ln w="0">
            <a:noFill/>
          </a:ln>
        </p:spPr>
      </p:pic>
      <p:sp>
        <p:nvSpPr>
          <p:cNvPr id="699" name="TextBox 1"/>
          <p:cNvSpPr/>
          <p:nvPr/>
        </p:nvSpPr>
        <p:spPr>
          <a:xfrm>
            <a:off x="477720" y="1155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CANSO E RECUPERAÇÃO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2060"/>
                </a:solidFill>
                <a:latin typeface="Arial"/>
              </a:rPr>
              <a:t>De volta ao escritório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arque uma consulta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édica, se necessário …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tifique qualquer incidente ou condição de saúde que tenha ocorrido durante o seu destacamento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Converse com o seu supervisor e técnico psicossocial, se necessário 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Apresente o seu relatório electrónico da missão e documentos de despesas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0000"/>
                </a:solidFill>
                <a:latin typeface="Arial"/>
              </a:rPr>
              <a:t>Divirta-se…..Você merece…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pt-PT" sz="2900" spc="-1" strike="noStrike">
                <a:solidFill>
                  <a:srgbClr val="002060"/>
                </a:solidFill>
                <a:latin typeface="Arial"/>
              </a:rPr>
              <a:t>Objectivos da aprendizagem</a:t>
            </a:r>
            <a:br>
              <a:rPr sz="2900"/>
            </a:br>
            <a:endParaRPr b="0" lang="en-US" sz="29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No final desta apresentação, o participante deverá ser capaz de: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Identificar a informação-chave que a Equipa de Resposta Rápida (ERR) deve receber ou recolher antes de um destacamento, para cumprir a sua missão de forma eficaz e segura.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Identificar as actividades-chave que os membros da ERR devem realizar antes de um destacamento, para cumprir a sua missão de forma eficaz e segura</a:t>
            </a: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2060"/>
                </a:solidFill>
                <a:latin typeface="Arial"/>
              </a:rPr>
              <a:t>Exoneração de responsabilidade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03" name="Content Placeholder 2"/>
          <p:cNvSpPr/>
          <p:nvPr/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Plataforma da OMS para a Aprendizagem sobre Segurança Sanitária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Materiais de Form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Estes Materiais de Formação da OMS são propriedade da © Organização Mundial da Saúde (WHO) 2018. Todos os direitos reserv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 sua utilização destes materiais está sujeita aos “</a:t>
            </a:r>
            <a:r>
              <a:rPr b="0" lang="pt-PT" sz="1600" spc="-1" strike="noStrike">
                <a:solidFill>
                  <a:srgbClr val="0000ff"/>
                </a:solidFill>
                <a:latin typeface="Arial"/>
              </a:rPr>
              <a:t>Termos de Utilização dos Materia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ff"/>
                </a:solidFill>
                <a:latin typeface="Arial"/>
              </a:rPr>
              <a:t>de Formação da Plataforma da OMS para a Aprendizagem sobre Segurança Sanitária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”, que aceitou ao descarregá-los e que estão disponíveis na Plataforma da OMS para a Aprendizagem sobre Segurança Sanitária em: </a:t>
            </a:r>
            <a:r>
              <a:rPr b="0" lang="pt-PT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s://extranet.who.int/hslp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Caso adapte, modifique, traduza ou de alguma forma altere o conteúdo destes materiais, não poderá sugerir que a OMS de algum modo aprova essas modificações, como não poderá usar o nome ou o símbolo da OMS nos materiais modificado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Solicita-se ainda que informe a OMS de quaisquer alterações que tenha efectuado para utilização pública destes materiais, para fins de manutenção de registos e desenvolvimento contínuo, através do endereço electrónico </a:t>
            </a:r>
            <a:r>
              <a:rPr b="0" lang="pt-PT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ihrhrt@who.int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2060"/>
                </a:solidFill>
                <a:latin typeface="Arial"/>
              </a:rPr>
              <a:t>Obrigado!</a:t>
            </a:r>
            <a:endParaRPr b="0" lang="en-US" sz="6600" spc="-1" strike="noStrike">
              <a:solidFill>
                <a:srgbClr val="63252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Title 3" descr=""/>
          <p:cNvPicPr/>
          <p:nvPr/>
        </p:nvPicPr>
        <p:blipFill>
          <a:blip r:embed="rId1"/>
          <a:stretch/>
        </p:blipFill>
        <p:spPr>
          <a:xfrm>
            <a:off x="457200" y="546120"/>
            <a:ext cx="8229600" cy="59688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1800"/>
              </a:spcBef>
              <a:spcAft>
                <a:spcPts val="1199"/>
              </a:spcAft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500" spc="-1" strike="noStrike">
                <a:solidFill>
                  <a:srgbClr val="ff0000"/>
                </a:solidFill>
                <a:latin typeface="Arial"/>
              </a:rPr>
              <a:t>Conheça-se a si mesmo e os requisitos do seu local de trabalho </a:t>
            </a:r>
            <a:endParaRPr b="0" lang="en-US" sz="2500" spc="-1" strike="noStrike">
              <a:solidFill>
                <a:srgbClr val="10253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500" spc="-1" strike="noStrike">
                <a:solidFill>
                  <a:srgbClr val="000000"/>
                </a:solidFill>
                <a:latin typeface="Arial"/>
              </a:rPr>
              <a:t>Cumpra as normas e regulamentos que regem o seu destacamento: eles protegem-no...</a:t>
            </a:r>
            <a:endParaRPr b="0" lang="en-US" sz="2500" spc="-1" strike="noStrike">
              <a:solidFill>
                <a:srgbClr val="10253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spcAft>
                <a:spcPts val="1199"/>
              </a:spcAft>
              <a:buClr>
                <a:srgbClr val="558ed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500" spc="-1" strike="noStrike">
                <a:solidFill>
                  <a:srgbClr val="558ed5"/>
                </a:solidFill>
                <a:latin typeface="Arial"/>
              </a:rPr>
              <a:t>Tenha cuidado com as potenciais zonas cinzentas. </a:t>
            </a:r>
            <a:r>
              <a:rPr b="1" i="1" lang="pt-PT" sz="2400" spc="-1" strike="noStrike">
                <a:solidFill>
                  <a:srgbClr val="558ed5"/>
                </a:solidFill>
                <a:latin typeface="Arial"/>
              </a:rPr>
              <a:t>Não confie em compromissos verbais..</a:t>
            </a:r>
            <a:r>
              <a:rPr b="1" i="1" lang="pt-PT" sz="2500" spc="-1" strike="noStrike">
                <a:solidFill>
                  <a:srgbClr val="558ed5"/>
                </a:solidFill>
                <a:latin typeface="Arial"/>
              </a:rPr>
              <a:t>. </a:t>
            </a:r>
            <a:endParaRPr b="0" lang="en-US" sz="2500" spc="-1" strike="noStrike">
              <a:solidFill>
                <a:srgbClr val="10253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spcAft>
                <a:spcPts val="1199"/>
              </a:spcAft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500" spc="-1" strike="noStrike">
                <a:solidFill>
                  <a:srgbClr val="008000"/>
                </a:solidFill>
                <a:latin typeface="Arial"/>
              </a:rPr>
              <a:t>Está a gerir uma emergência de saúde pública…Não seja você a emergência … </a:t>
            </a:r>
            <a:endParaRPr b="0" lang="en-US" sz="25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2600" spc="-1" strike="noStrike">
                <a:solidFill>
                  <a:srgbClr val="002060"/>
                </a:solidFill>
                <a:latin typeface="Arial"/>
              </a:rPr>
              <a:t>Considere esta situação:</a:t>
            </a:r>
            <a:br>
              <a:rPr sz="2300"/>
            </a:br>
            <a:r>
              <a:rPr b="0" i="1" lang="pt-PT" sz="2300" spc="-1" strike="noStrike">
                <a:solidFill>
                  <a:srgbClr val="002060"/>
                </a:solidFill>
                <a:latin typeface="Arial"/>
              </a:rPr>
              <a:t>…Depois de uma noite de insónia …</a:t>
            </a:r>
            <a:br>
              <a:rPr sz="2300"/>
            </a:br>
            <a:r>
              <a:rPr b="0" i="1" lang="pt-PT" sz="2300" spc="-1" strike="noStrike">
                <a:solidFill>
                  <a:srgbClr val="002060"/>
                </a:solidFill>
                <a:latin typeface="Arial"/>
              </a:rPr>
              <a:t>…Acabou de receber uma mensagem electrónica informando-o de que foi destacado para responder a um surto de magnitude sem precedentes, de rápida propagação, com um alto nível de mortalidade, num distrito rural com um intenso conflito militar</a:t>
            </a:r>
            <a:endParaRPr b="0" lang="en-US" sz="23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0" name="TextBox 2"/>
          <p:cNvSpPr/>
          <p:nvPr/>
        </p:nvSpPr>
        <p:spPr>
          <a:xfrm>
            <a:off x="31680" y="495288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omo é que prepararia a sua acção? Por onde começaria?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2060"/>
                </a:solidFill>
                <a:latin typeface="Arial"/>
              </a:rPr>
              <a:t>Aspectos críticos: Preparação para o destacamento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Organize a sua família/vida social no local de partida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Organize a sua vida no local de chegada: obtenha informação sobre a área para onde vai ser destacado: clima, cultura, hábitos alimentares, segurança...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Organize a sua logística no local de chegada: prepare transporte e alojamento...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Leia os Termos de Referência ou, pelo menos, procure entender os objectivos da sua missão e os resultados esperados …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Procure a lista de contactos importantes: autoridades administrativas/políticas do distrito, autoridades locais de administração da saúde, contactos de hotéis e de colegas que já estejam no terreno … 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Sugestões: use uma lista de verificação para não esquecer alguns aspectos importantes…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Lista de verificação - 1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Bem-estar da família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Perguntas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  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Sim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Não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A missão foi discutida com a família?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                                                       □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              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                                                  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A possibilidade de extensão da missão?  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Foi estabelecido um plano de comunicação com a família?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                 □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Seguros actualizados e designados os beneficiários?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Contas pagas, como propinas escolares, ou tudo preparado?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                                                              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  <a:ea typeface="Calibri"/>
              </a:rPr>
              <a:t>Plano de sa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úde para a sua família acautelado?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Passaporte e vistos válidos?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400" spc="-1" strike="noStrike">
                <a:solidFill>
                  <a:srgbClr val="10253f"/>
                </a:solidFill>
                <a:latin typeface="TimesNewRoman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TimesNewRoman"/>
              </a:rPr>
              <a:t> 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                                  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Lista de verificação - 2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Bem-estar pessoal …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Sim            Não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Medicamentos prescritos suficientes?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□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Vacinação actualizada?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               □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Informação sobre como gerir o </a:t>
            </a:r>
            <a:r>
              <a:rPr b="0" i="1" lang="pt-PT" sz="1600" spc="-1" strike="noStrike">
                <a:solidFill>
                  <a:srgbClr val="10253f"/>
                </a:solidFill>
                <a:latin typeface="Arial"/>
              </a:rPr>
              <a:t>stress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?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               □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rtigos de uso pessoal (livro de orações, artigos de desporto …)?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Material de sobrevivência (produtos não perecíveis, água, lanterna …)?   □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spcAft>
                <a:spcPts val="10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lgo mais??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Lista de Verificação - 3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Logística…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Sim            Não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Viagem até ao local do destacamento?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□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Transporte durante o destacamento?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              □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lojamento?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              □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Fundos para material adicional ou acesso a esse material ?                   □ 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spcAft>
                <a:spcPts val="10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lgo mais ????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Lista de Verificação - 4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457200" y="10663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2060"/>
                </a:solidFill>
                <a:latin typeface="Arial"/>
              </a:rPr>
              <a:t>Questões administrativas e relativas ao trabalho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          Sim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Não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O seu contrato ainda é válido?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              □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Tem a autorização de viagem, com o itinerário oficial aprovado?     □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O certificado de formação obrigatório está válido?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Certificado de segurança aprovado ou, pelo menos, solicitado?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O certificado de segurança apenas é válido para o período de tempo e local especificados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Se o destacamento for internacional, obteve um visto válido?           □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Já foi feita a reserva de hotel ou preparativos de alojamento.            □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Perguntar sobre os modos de pagamento aceites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Arial"/>
              </a:rPr>
              <a:t>Não considere que a autorização para a missão é automática, mesmo que se trate de um destacamento interno para nacionais</a:t>
            </a: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4T15:29:54Z</dcterms:created>
  <dc:creator>User</dc:creator>
  <dc:description/>
  <dc:language>en-US</dc:language>
  <cp:lastModifiedBy>GOMEZ, Paula</cp:lastModifiedBy>
  <dcterms:modified xsi:type="dcterms:W3CDTF">2019-06-28T10:25:36Z</dcterms:modified>
  <cp:revision>129</cp:revision>
  <dc:subject/>
  <dc:title>Rapid Response Teams Training</dc:title>
</cp:coreProperties>
</file>