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dt" idx="2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ftr" idx="3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 type="sldNum" idx="3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998F-C0D0-43FB-9030-F5B9EBA0B9B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501A-5820-4BCC-9F24-E4BD2BC6AE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 quer continuar eficiente, deve arranjar tempo para repousar e fazer actividades que restabeleçam a sua energ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6597-38FE-438D-9246-F1DDC575B6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0DB3-45D5-48D1-B015-24D7175168B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1E2D-7F34-4B97-8629-B2A86462A11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5D7B-D48C-4E3D-8A66-1EF167573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EA0F-75C2-4787-B6F6-F08D3822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5AAEF-79C4-48C4-9118-43A78CAB770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98AEE-7123-4160-A026-727A4A4A154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793D6-22E6-4581-B575-AA08931D30A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0AE93-2FF9-42B8-82BC-185B59415B1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08DED-0A28-4C0A-B9EB-71EE4CA41A1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353F3-3F52-47D1-BB2C-76D4A399D26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D20FC-7D24-4076-A6FA-D15CCD916C9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96082-C3DE-4672-B052-8D3433656CE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97FA1-70AE-4B6C-93AA-27AD08383A1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3CD71C-9A5C-4E5F-83C0-09A0BB12ED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6A00-0F42-47AE-953F-F18EB702E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2CA269-B890-4818-B54F-B34E6F98737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05364C-558C-48ED-95B6-AB32A601ADE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16FE31-8134-40B7-AB75-F9AFDA497E4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BEAEB5-5966-472E-ADCF-DD3DFFD0995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8B626B-79D0-425B-8708-E9B1F1CF23A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E1BD29-77B7-4E45-83EF-C86999825F0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8372BC-1DBE-4AC3-96FF-7F9D19F0D23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F97AC0-904F-4145-BB2C-BF97E18DFCD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BD8C92-AAB5-4C41-80C9-E3FBA28E673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C1ED43-F64E-497B-AE0B-044199FDFD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9FEF-7732-485E-B001-AEBF320B8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B1B51A-DB98-48E1-96BA-4238E74D96F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38673F-8C1D-4F35-A12A-67E5EDE869D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5AB186-14D8-48DD-9B55-F41CE33512F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E60DFF-12A1-4165-80EA-61581A5815F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0E5E23-5FA0-4DE1-9BD4-C621A7E127C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8065AB-0DFC-4FB4-A766-10D66803708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FE9BC2-254B-449E-A546-63964D8B0E7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5801BE-EDC0-4063-9093-674E540613D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98A922-BDF4-4492-BEDA-3474C77A478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5410BB-D574-42BA-A63B-4CAED4D4BD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6E72B-F5C5-4176-9137-E29EA07D426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F0DD0B-F56F-42FA-8EE9-AB062F92283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8164BF-8D57-41BA-85F9-13E964B42B6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B6C65B-7F9D-4E17-AEB3-927591DE511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D4F18-5AA9-4885-BFCC-A156ADFDE69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8E421-64AD-4EEA-AD7B-D6E2EA3880F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2921E-6959-4391-992E-15F1ABE058C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14E83-132E-41D3-B490-CC98CC5EA24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C866D-88E4-43E0-B2F7-D605717438F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AAA6A-1397-4A9D-B8A1-E6CBAFECB48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DDD73-F2AC-431F-B1C1-CFA968BA8D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7A5D3-3CCF-4786-A83C-8286142B272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3293C-DED1-4B06-973A-E02FF0D7A27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29F6C-D94A-4A69-93B4-D24D1C017A7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F45A5-C834-40D0-ADE4-83A53E852A2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3B1CC-487D-4619-B5EC-93BC47B7E4F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C8C7B-F704-4FFF-BCF2-60D4C2C476D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7B378B-ECD9-42D0-8F25-7BF9910A3F6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E87BAB-4CC5-48EE-A2B5-D0DD171FB8D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8DC30B-7BCE-4C78-A142-10061ACD593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C40A7F-55E2-47F5-96FC-861A9638B5D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5BCC99-3E11-4D2F-8ECC-6378996642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39E49-5408-4415-90AC-8D2BD8E7B3F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A49719-71B4-48A8-AE0E-6576FC30796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52FE29-D1A8-4BB8-AE34-C42658BEC6C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872594-64BB-42FC-BCD0-EA3C712191A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42C159-98DA-4019-A4A0-8D675077211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A2F6AB-B97F-4019-948F-96F2C0F6152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B480D7-1899-414D-8BE2-8608BB17FBE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E89F21-87F0-4D4E-9F99-60EC2F64D29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85F972-D7CA-405A-B8B0-817F442D232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24CDD2-04E0-47E8-9749-C03A419C7DF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88A46E-91FD-48D4-B2C1-FEBDD04477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C7B4D-8B30-496E-9B8E-82F8A860A83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0A6917-6A27-4639-9AAC-BCC4C0C2C95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84EFF9-4F2F-4F41-BC91-CB041188FA1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3AE68F-A387-43F5-A39A-381248BB6ED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9965A4-E422-46A7-BE38-048F154153A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D0D507-9B50-46A9-A20C-C458D618B38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823633-10BF-4AD2-91C6-DD22A50B538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CF9053-A49B-4067-A29D-8AF6E2B04EC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F2E691-FF2B-4441-B6F9-0A8C525C82D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16256C-E83C-443D-915D-3D9C2249E1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5A789-A9CD-4A0A-B97E-B09DEFF4AE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7086D-E93E-4C3B-A986-63BE513085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955D1-C404-4987-AD1D-964A5D5625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E03E-4AB2-43A7-8FB1-66ED9D44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05DD6-E64E-4022-9707-9B885393C3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E14E4-03C2-4BAD-B2E4-9D2FE3221C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132C7-C657-4CD0-98D7-C49D22C48F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9EAE0-C3AA-446E-8EC2-EBA026ADE0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73A2F-138F-47A7-A288-DBC76B56416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196E-A48A-4527-B0BD-6C512A6F0B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7036-8BED-40F0-86E8-6C84018863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F0A4-CFC2-4249-8AF2-62AD8BD9A0F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0208-D480-42AD-BFFE-7696E0AF792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5DF0-519B-465F-90FC-3044DF2732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889F-6462-4553-A4A7-1239C18D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F7DB-48CB-484A-8225-6833AEACAE6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CB4A-4947-41E5-8312-10EC50AA7B6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1C3B-B918-44FC-A0F7-2C9CC1D2E60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1AA2-E1B9-43E6-BA11-1F678705CD3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0E23-1E9A-406D-BB32-F61D240E9C7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DD74-2E72-419D-8103-E4028E8431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AEDA-A556-4AE6-92A1-D2494B1B97B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B23F9B-1A72-44ED-B207-96C909E06D6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DA6939-3A31-4EBD-ABE6-DB4300D73C3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8A5937-316F-4FDF-AB52-945992A8C7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DEFA-7E8F-4D26-B76D-26044713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EC90A0-F149-4469-8F96-201653C7030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58EE16-E525-4D22-8DB0-973B9036380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1C097B-7C20-48B4-BA81-9D57B27E18B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A7B7B4-1954-4FDD-AA6F-8F243035514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FF6CAD-D423-47C3-88BF-D8820DD89CB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67F137-3D65-42C2-A31D-29E93733E07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B5B1C4-49D8-4183-AD52-B494CB1BBC9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37BBFF-263B-4002-B32C-4175301B038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C9FF3B-E6CA-4756-B9F7-CE241B5629B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49DF70-CFE3-4D04-9264-DFF2E47D29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590C-A24B-4FD1-BF3C-CDDB7743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F67A9A-599D-4AEE-8DC5-260C7651A46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04045B-3B4D-4220-B1D8-C2CDB664D98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79A18F-65E7-446B-BE35-92D99CFC833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7D7603-C504-427E-A6B6-5B0CDC88FB5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510911-9F08-499E-948D-E87C763A9C4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47B5BD-5095-4689-8593-CA2D3117BBA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A996C5-5EA8-4358-93B7-1A26749D621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94071E-1C91-4302-B097-F8741258C61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7FEEF3-81D8-42F0-9AFB-67E0945B8C7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41D29A-C438-4428-A24A-22F3B69AB8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8512-3ADA-4AC3-800E-E9485ED4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94F4D5-18B3-4304-BF92-842BF55F444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AD74E-D01A-4461-9DC2-38835956F62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749FF-D8DA-4D08-BF73-8E89365BA6A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96F9B-3A07-436F-B541-45D70FAB138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1B7D8-E2BA-4E9A-9681-37884CCA0AD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212A5-A48E-484A-A14D-9650468E117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928EC-3628-4FA8-9342-845ED5EB1BF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A85DA-9C1B-4F97-8D91-E7CFFBD03CA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85D0D-C010-43AE-8B12-CB651A244BF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ACB56-99B8-4019-956C-AF4D54DF8F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71D1-AE05-44E7-A41A-8FEDBF93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E35F7-4891-404D-B9D9-8914807E0B4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5DF8A-08F2-4130-8620-3793275817A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FE9D0-36AD-4009-A64F-B831E2866DD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5B85DD-F727-480F-ACE5-047D0C3BB99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FEC0D6-DDD3-4DA5-927A-4769B8B518F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3525E2-BDC2-4861-9A62-92F6FFC99C1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A176FF-EA82-4587-B14F-4F576DA3CDB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D4FCF7-EA3C-4B5C-86E2-3F1A2B7919B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A28598-3D57-490D-A752-92A64E5CA79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2DF5B7-6314-4074-BFF1-A49469115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703E-668D-43B5-A5E5-B79400FE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D25584-0AE7-45FA-AA67-E49751EFA75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924BB4-33B1-463C-93BA-77C2D0B7520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C9F91B-E7F0-462A-AE8C-C39806C06D0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86B39F-3ADD-4612-9841-6C3D4D9CA96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5B4C22-1B67-4D7C-BDBB-1DAD4CE44DE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FDF02C-EF04-4390-BBBE-443F55DA15B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14459C-13A2-4E7C-A10C-8E5B00D4165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18AD43-A858-4313-A844-766DF29B987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CE06BC-DC40-436F-923A-185F8134A93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B525C3-0FCB-42F5-904C-859AB886F2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05CC-C610-47EC-B88C-F7C1FA29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D1C8C0-9F93-49E2-9AFD-8E839364217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0E5897-ADE5-44D9-9540-D046F7E7B57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76AFEB-C98F-4E90-BD07-F72F15BB83B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6A39FE-1AC6-491B-81EC-A626D20331F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3F91CA-7DDE-4252-9A30-7D17A57F094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39AEE7-7094-4B0D-B8BD-986875BBEC4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6E29F8-8086-4E37-9D34-E6B68EB81ED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E0A7D-04AE-4588-AA23-E470CAB69A6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D3C96-9262-48F2-87E7-83A4AD39E07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44EA8-E7CB-4D5B-BF01-9B8AABA25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BEED-0396-42EE-9651-3ED2725E685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F417-AC8A-460D-A638-9846BCD1EBBD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24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19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20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2A95-73E5-4AF0-A60C-A5C3A06E9459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4E16-2D82-4355-8496-8052476B4BF7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71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2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3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ftr" idx="21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sldNum" idx="22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A176-D5C4-42A6-929A-55D62CE412AD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8DBC-614C-437C-9225-9B07ACDAC1D6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518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9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ftr" idx="23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sldNum" idx="24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6B7D-4492-4990-9955-A366BCBC5FD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9A25-6CD5-4B26-9B1C-DFCCA7C89584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565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TextBox 18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ftr" idx="25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sldNum" idx="2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0685-FBBB-4E46-85BF-A9BA7820D3C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4CD2-642E-4DCB-B75A-F66F3CD38092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61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ftr" idx="2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sldNum" idx="28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2677-C029-4AEF-B0D5-142379672141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34E0-DA20-462F-B289-DDBF98C31C2F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AFF3-4772-4149-81DF-DA7A88F6BBE6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9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4991-CF26-492B-89DA-8659E65483B7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9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97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image1.png" descr=""/>
            <p:cNvPicPr/>
            <p:nvPr/>
          </p:nvPicPr>
          <p:blipFill>
            <a:blip r:embed="rId3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5873-93B3-4953-8122-D3E3EEF101C5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BE85-5558-441A-A5EE-410CCCCB4831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14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8"/>
          </p:nvPr>
        </p:nvSpPr>
        <p:spPr>
          <a:xfrm>
            <a:off x="845784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7A00-964C-4D5A-83D7-FA6986DF4517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28C9-A241-4D19-B602-8318FAA2B2A3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189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9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83818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F3E5-45D7-4043-A8DA-3F193C4785F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B81A-5A0B-46C1-A395-686692059C72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236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11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12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2A8D-3632-4537-AC66-066700685132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5D01-3AAF-4793-A439-4B969EEF9987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283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4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TextBox 18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13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sldNum" idx="14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D1DB-6D97-47F1-8C1F-CD7DCDB3369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EEFB-BCEB-4324-A76C-54273A37E162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330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2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ftr" idx="15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6A65-FD94-4FB4-BBDE-F5E536214D62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9209-1417-4980-B74A-E5807038E904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377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8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9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18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40C9-E3CA-4345-9C8F-047DAEA078E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extranet.who.int/hslp" TargetMode="External"/><Relationship Id="rId2" Type="http://schemas.openxmlformats.org/officeDocument/2006/relationships/hyperlink" Target="mailto:ihrhrt@who.int" TargetMode="External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361960" y="84240"/>
            <a:ext cx="67482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002060"/>
                </a:solidFill>
                <a:latin typeface="Arial"/>
                <a:ea typeface="Arial"/>
              </a:rPr>
              <a:t>Equipas de Resposta Rápida </a:t>
            </a:r>
            <a:br>
              <a:rPr sz="3200"/>
            </a:br>
            <a:r>
              <a:rPr b="1" lang="pt-PT" sz="3200" spc="-1" strike="noStrike">
                <a:solidFill>
                  <a:srgbClr val="0070c0"/>
                </a:solidFill>
                <a:latin typeface="Arial"/>
                <a:ea typeface="Arial"/>
              </a:rPr>
              <a:t>Formaç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0" y="4724280"/>
            <a:ext cx="90360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Preparação antes da parti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Duração: 30’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"/>
          <p:cNvSpPr/>
          <p:nvPr/>
        </p:nvSpPr>
        <p:spPr>
          <a:xfrm>
            <a:off x="73440" y="6477120"/>
            <a:ext cx="23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Arial"/>
              </a:rPr>
              <a:t>Actualizado em: 24/11/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O seu pacote básico de viagem?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7621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Uma mala pequena, se possível rígida (15 Kg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Passaporte e outros documentos de identificação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Boletim de vacinas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Cartões bancários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Medicamentos prescrito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Lanterna com pilhas nova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Dispositivos de comunicação: telemóveis, telefones por satélite com carregadores e acumuladores de carga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Adaptadores eléctrico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Alimentos não perecíveis …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Instruções Iniciais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10253f"/>
                </a:solidFill>
                <a:latin typeface="Arial"/>
              </a:rPr>
              <a:t>As instruções antes do destacamento da equipa de ERR incluem a seguinte informação: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Objectivos da missão 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Dados mais recentes disponíveis (mesmo não tratados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Mecanismo de relatórios esperado (dentro da equipa, para a Sede, etc.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Indicadores/métrica por sector (isto é, epidemiologia, laboratório, WASH, etc.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Intervenções em curso/anteriores (se existirem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Instruções Iniciais (continuação)</a:t>
            </a:r>
            <a:br>
              <a:rPr sz="2600"/>
            </a:br>
            <a:endParaRPr b="0" lang="en-US" sz="26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10253f"/>
                </a:solidFill>
                <a:latin typeface="Arial"/>
              </a:rPr>
              <a:t>Informação, que pode ser recolhida individualmente pelos membros da equipa</a:t>
            </a: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, sobre os factores que podem ter impacto sobre a equipa no terreno, nas seguintes áreas-chave: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Geografia   – local (topografia, cidades, comodidades)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Demografia  - práticas socioculturais, religião, língua, grupos tribais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Política/Segurança  – conflitos na comunidade, reuniões/eventos sociopolíticos, festivais, etc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Riscos ambientais – mosquitos, água... 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Logística pessoal  – o que está disponível no terreno – alimentos, água, abrigo, roupa, protecção contra intempéries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Evento de saúde pública em curso (para o qual estão a preparar-se)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Outros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2060"/>
                </a:solidFill>
                <a:latin typeface="Arial"/>
              </a:rPr>
              <a:t>Instruções Iniciais: Ex., Lista de verificação de material da ERR para a DVE</a:t>
            </a:r>
            <a:endParaRPr b="0" lang="en-US" sz="20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Saúde individual e da equipa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azer a vacinação apropriada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400" spc="-1" strike="noStrike">
                <a:solidFill>
                  <a:srgbClr val="10253f"/>
                </a:solidFill>
                <a:latin typeface="Arial"/>
              </a:rPr>
              <a:t>Kit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de saúde pessoal e prescrições de rotina, profilaxia antipalúdica, desinfectante de mãos à base de álcool,</a:t>
            </a:r>
            <a:r>
              <a:rPr b="0" i="1" lang="pt-PT" sz="1400" spc="-1" strike="noStrike">
                <a:solidFill>
                  <a:srgbClr val="10253f"/>
                </a:solidFill>
                <a:latin typeface="Arial"/>
              </a:rPr>
              <a:t> kit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de primeiros socorros, termómetro IV, plano de evacuação médica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Materiais impress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Termos de referência para investigações e toda a informação disponível sobre o evento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lanos de contingência nacional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rocedimentos operacionais padrão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Lista de contactos das equipas centrais, intermédias e distritais, do coordenador geral do evento e das partes interessadas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ormulários de pesquisa de casos impressos, formulários de listagens, questionário das entrevistas, definição de casos, formulários de envio para os laboratórios, modelo de relatórios de situação, formulários de identificação e localização de contactos, formulários de consentimento para colheita de amostras, etc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Materiais para formação rápida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Orientações técnicas em papel, cartazes, material de comunicação de riscos.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Tecnologias de Informação e Comunicação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Computadores portáteis e impressoras, sinal de internet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Telemóveis e recargas extra, rádios, se for necessário, etc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Informação da lista de contactos dos principais parceir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Instruções Iniciais: Ex. Lista de Verificação da ERR para a DVE 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Medicamento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onjunto de infusão para reidratação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RO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ursos de tratamento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Equipamento de terreno e EPP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Desinfectante para as mãos à base de álcool  sabão, HTH/lixívia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EPP- vestuário não esterilizado, luvas nitrílicas descartáveis, luvas resistentes, máscaras N95, fato-macaco e/ou batas, botas de borracha, aventais resistentes, máscaras e/ou óculos de protecção, máscaras cirúrgicas.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Termómetros de infravermelho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acos para transporte de cadávere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ulverizadores dorsai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acos descartáveis para resíduos biológicos perigosos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200" spc="-1" strike="noStrike">
                <a:solidFill>
                  <a:srgbClr val="10253f"/>
                </a:solidFill>
                <a:latin typeface="Arial"/>
              </a:rPr>
              <a:t>Kit </a:t>
            </a: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ara amostras (UN 2814,</a:t>
            </a:r>
            <a:r>
              <a:rPr b="0" i="1" lang="pt-PT" sz="1200" spc="-1" strike="noStrike">
                <a:solidFill>
                  <a:srgbClr val="10253f"/>
                </a:solidFill>
                <a:latin typeface="Arial"/>
              </a:rPr>
              <a:t> kit </a:t>
            </a: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ara colheita de sangue, bastonetes para esfregaço oral, luvas, bastonetes com álcool )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Embalagem tripla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aixa de segurança/recipiente para objectos cortante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Transporte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cesso a carros ou motorizadas e combustível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Finanç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judas de custo, dinheiro para pequenas despes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cesso e mecanismo para libertar fundos do orçamento para emergênci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Agora que chegou ao local com segurança, que primeiros passos deve dar?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UGESTÕES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Manter uma discussão preliminar (mesmo informal) com os colegas e parceiros no terreno: apresentar a sua perspectiva pessoal sobre a situação (incluindo segurança e protecção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Procurar entender a dinâmica da situação e os actores envolvidos (parceiros do sector da saúde, líderes políticos, militares e outros actores não humanitários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Distinguir o importante e urgente do trivial  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Ser prático e pragmático e manter-se em contacto próximo com as realidades do terreno … </a:t>
            </a:r>
            <a:r>
              <a:rPr b="0" lang="pt-PT" sz="2200" spc="-1" strike="noStrike">
                <a:solidFill>
                  <a:srgbClr val="ff0000"/>
                </a:solidFill>
                <a:latin typeface="Arial"/>
              </a:rPr>
              <a:t>Cuidado com a síndrome de excesso de confiança do 3.º dia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Não se esquecer de notificar e informar o seu supervisor!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Gestão do </a:t>
            </a:r>
            <a:r>
              <a:rPr b="1" i="1" lang="fr-FR" sz="3200" spc="-1" strike="noStrike">
                <a:solidFill>
                  <a:srgbClr val="002060"/>
                </a:solidFill>
                <a:latin typeface="Arial"/>
              </a:rPr>
              <a:t>stress</a:t>
            </a: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 …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O </a:t>
            </a:r>
            <a:r>
              <a:rPr b="0" i="1" lang="pt-PT" sz="28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 é um alarme fisiológico.. O seu corpo não aguenta mais …relaxe…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Reconheça os sinais e sintomas do </a:t>
            </a:r>
            <a:r>
              <a:rPr b="0" i="1" lang="pt-PT" sz="28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….. </a:t>
            </a:r>
            <a:r>
              <a:rPr b="0" lang="pt-PT" sz="2800" spc="-1" strike="noStrike">
                <a:solidFill>
                  <a:srgbClr val="ff0000"/>
                </a:solidFill>
                <a:latin typeface="Arial"/>
              </a:rPr>
              <a:t>Conheça-se a si mesmo..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Identifique os seus próprios mecanismos de resistência … 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É normal e humano pedir ajuda ou pedir um período de descanso..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Gestão do </a:t>
            </a:r>
            <a:r>
              <a:rPr b="1" i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stress</a:t>
            </a:r>
            <a:r>
              <a:rPr b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...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pic>
        <p:nvPicPr>
          <p:cNvPr id="697" name="Picture 3" descr=""/>
          <p:cNvPicPr/>
          <p:nvPr/>
        </p:nvPicPr>
        <p:blipFill>
          <a:blip r:embed="rId1"/>
          <a:stretch/>
        </p:blipFill>
        <p:spPr>
          <a:xfrm>
            <a:off x="5443560" y="3646440"/>
            <a:ext cx="3510000" cy="234000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4762440" cy="3171960"/>
          </a:xfrm>
          <a:prstGeom prst="rect">
            <a:avLst/>
          </a:prstGeom>
          <a:ln w="0">
            <a:noFill/>
          </a:ln>
        </p:spPr>
      </p:pic>
      <p:sp>
        <p:nvSpPr>
          <p:cNvPr id="699" name="TextBox 1"/>
          <p:cNvSpPr/>
          <p:nvPr/>
        </p:nvSpPr>
        <p:spPr>
          <a:xfrm>
            <a:off x="477720" y="1155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ANSO E RECUPERAÇÃO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2060"/>
                </a:solidFill>
                <a:latin typeface="Arial"/>
              </a:rPr>
              <a:t>De volta ao escritório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arque uma consulta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édica, se necessário …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tifique qualquer incidente ou condição de saúde que tenha ocorrido durante o seu destacamento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Converse com o seu supervisor e técnico psicossocial, se necessário 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Apresente o seu relatório electrónico da missão e documentos de despesas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00"/>
                </a:solidFill>
                <a:latin typeface="Arial"/>
              </a:rPr>
              <a:t>Divirta-se…..Você merece…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pt-PT" sz="2900" spc="-1" strike="noStrike">
                <a:solidFill>
                  <a:srgbClr val="002060"/>
                </a:solidFill>
                <a:latin typeface="Arial"/>
              </a:rPr>
              <a:t>Objectivos da aprendizagem</a:t>
            </a:r>
            <a:br>
              <a:rPr sz="2900"/>
            </a:br>
            <a:endParaRPr b="0" lang="en-US" sz="29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No final desta apresentação, o participante deverá ser capaz de: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Identificar a informação-chave que a Equipa de Resposta Rápida (ERR) deve receber ou recolher antes de um destacamento, para cumprir a sua missão de forma eficaz e segura.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Identificar as actividades-chave que os membros da ERR devem realizar antes de um destacamento, para cumprir a sua missão de forma eficaz e segura</a:t>
            </a: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2060"/>
                </a:solidFill>
                <a:latin typeface="Arial"/>
              </a:rPr>
              <a:t>Exoneração de responsabilidade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3" name="Content Placeholder 2"/>
          <p:cNvSpPr/>
          <p:nvPr/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Plataforma da OMS para a Aprendizagem sobre Segurança Sanitária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Materiais de Form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Estes Materiais de Formação da OMS são propriedade da © Organização Mundial da Saúde (WHO) 2018. Todos os direitos reserv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 sua utilização destes materiais está sujeita aos “</a:t>
            </a:r>
            <a:r>
              <a:rPr b="0" lang="pt-PT" sz="1600" spc="-1" strike="noStrike">
                <a:solidFill>
                  <a:srgbClr val="0000ff"/>
                </a:solidFill>
                <a:latin typeface="Arial"/>
              </a:rPr>
              <a:t>Termos de Utilização dos Materia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ff"/>
                </a:solidFill>
                <a:latin typeface="Arial"/>
              </a:rPr>
              <a:t>de Formação da Plataforma da OMS para a Aprendizagem sobre Segurança Sanitária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”, que aceitou ao descarregá-los e que estão disponíveis na Plataforma da OMS para a Aprendizagem sobre Segurança Sanitária em: </a:t>
            </a:r>
            <a:r>
              <a:rPr b="0" lang="pt-PT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extranet.who.int/hslp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Caso adapte, modifique, traduza ou de alguma forma altere o conteúdo destes materiais, não poderá sugerir que a OMS de algum modo aprova essas modificações, como não poderá usar o nome ou o símbolo da OMS nos materiais modificado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olicita-se ainda que informe a OMS de quaisquer alterações que tenha efectuado para utilização pública destes materiais, para fins de manutenção de registos e desenvolvimento contínuo, através do endereço electrónico </a:t>
            </a:r>
            <a:r>
              <a:rPr b="0" lang="pt-PT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ihrhrt@who.int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2060"/>
                </a:solidFill>
                <a:latin typeface="Arial"/>
              </a:rPr>
              <a:t>Obrigado!</a:t>
            </a:r>
            <a:endParaRPr b="0" lang="en-US" sz="6600" spc="-1" strike="noStrike">
              <a:solidFill>
                <a:srgbClr val="63252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Title 3" descr=""/>
          <p:cNvPicPr/>
          <p:nvPr/>
        </p:nvPicPr>
        <p:blipFill>
          <a:blip r:embed="rId1"/>
          <a:stretch/>
        </p:blipFill>
        <p:spPr>
          <a:xfrm>
            <a:off x="457200" y="546120"/>
            <a:ext cx="8229600" cy="59688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ff0000"/>
                </a:solidFill>
                <a:latin typeface="Arial"/>
              </a:rPr>
              <a:t>Conheça-se a si mesmo e os requisitos do seu local de trabalho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000000"/>
                </a:solidFill>
                <a:latin typeface="Arial"/>
              </a:rPr>
              <a:t>Cumpra as normas e regulamentos que regem o seu destacamento: eles protegem-no...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558ed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558ed5"/>
                </a:solidFill>
                <a:latin typeface="Arial"/>
              </a:rPr>
              <a:t>Tenha cuidado com as potenciais zonas cinzentas. </a:t>
            </a:r>
            <a:r>
              <a:rPr b="1" i="1" lang="pt-PT" sz="2400" spc="-1" strike="noStrike">
                <a:solidFill>
                  <a:srgbClr val="558ed5"/>
                </a:solidFill>
                <a:latin typeface="Arial"/>
              </a:rPr>
              <a:t>Não confie em compromissos verbais..</a:t>
            </a:r>
            <a:r>
              <a:rPr b="1" i="1" lang="pt-PT" sz="2500" spc="-1" strike="noStrike">
                <a:solidFill>
                  <a:srgbClr val="558ed5"/>
                </a:solidFill>
                <a:latin typeface="Arial"/>
              </a:rPr>
              <a:t>.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008000"/>
                </a:solidFill>
                <a:latin typeface="Arial"/>
              </a:rPr>
              <a:t>Está a gerir uma emergência de saúde pública…Não seja você a emergência …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2600" spc="-1" strike="noStrike">
                <a:solidFill>
                  <a:srgbClr val="002060"/>
                </a:solidFill>
                <a:latin typeface="Arial"/>
              </a:rPr>
              <a:t>Considere esta situação:</a:t>
            </a:r>
            <a:br>
              <a:rPr sz="2300"/>
            </a:br>
            <a:r>
              <a:rPr b="0" i="1" lang="pt-PT" sz="2300" spc="-1" strike="noStrike">
                <a:solidFill>
                  <a:srgbClr val="002060"/>
                </a:solidFill>
                <a:latin typeface="Arial"/>
              </a:rPr>
              <a:t>…Depois de uma noite de insónia …</a:t>
            </a:r>
            <a:br>
              <a:rPr sz="2300"/>
            </a:br>
            <a:r>
              <a:rPr b="0" i="1" lang="pt-PT" sz="2300" spc="-1" strike="noStrike">
                <a:solidFill>
                  <a:srgbClr val="002060"/>
                </a:solidFill>
                <a:latin typeface="Arial"/>
              </a:rPr>
              <a:t>…Acabou de receber uma mensagem electrónica informando-o de que foi destacado para responder a um surto de magnitude sem precedentes, de rápida propagação, com um alto nível de mortalidade, num distrito rural com um intenso conflito militar</a:t>
            </a:r>
            <a:endParaRPr b="0" lang="en-US" sz="23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0" name="TextBox 2"/>
          <p:cNvSpPr/>
          <p:nvPr/>
        </p:nvSpPr>
        <p:spPr>
          <a:xfrm>
            <a:off x="31680" y="495288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omo é que prepararia a sua acção? Por onde começaria?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2060"/>
                </a:solidFill>
                <a:latin typeface="Arial"/>
              </a:rPr>
              <a:t>Aspectos críticos: Preparação para o destacamento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família/vida social no local de partida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vida no local de chegada: obtenha informação sobre a área para onde vai ser destacado: clima, cultura, hábitos alimentares, segurança...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logística no local de chegada: prepare transporte e alojamento...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Leia os Termos de Referência ou, pelo menos, procure entender os objectivos da sua missão e os resultados esperados …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Procure a lista de contactos importantes: autoridades administrativas/políticas do distrito, autoridades locais de administração da saúde, contactos de hotéis e de colegas que já estejam no terreno … 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Sugestões: use uma lista de verificação para não esquecer alguns aspectos importantes…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1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Bem-estar da família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Perguntas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  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Sim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Não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A missão foi discutida com a família?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                    □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              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               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A possibilidade de extensão da missão?  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oi estabelecido um plano de comunicação com a família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               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Seguros actualizados e designados os beneficiários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Contas pagas, como propinas escolares, ou tudo preparado?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                                                              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  <a:ea typeface="Calibri"/>
              </a:rPr>
              <a:t>Plano de sa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úde para a sua família acautelado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assaporte e vistos válidos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400" spc="-1" strike="noStrike">
                <a:solidFill>
                  <a:srgbClr val="10253f"/>
                </a:solidFill>
                <a:latin typeface="TimesNewRoman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TimesNewRoman"/>
              </a:rPr>
              <a:t> 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2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Bem-estar pessoal …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im            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Medicamentos prescritos suficientes?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Vacinação actualizada?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Informação sobre como gerir o </a:t>
            </a:r>
            <a:r>
              <a:rPr b="0" i="1" lang="pt-PT" sz="16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rtigos de uso pessoal (livro de orações, artigos de desporto …)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Material de sobrevivência (produtos não perecíveis, água, lanterna …)?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spcAft>
                <a:spcPts val="10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go mais?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3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Logística…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im            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Viagem até ao local do destacamento?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Transporte durante o destacamento?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ojamento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Fundos para material adicional ou acesso a esse material ?                   □ 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spcAft>
                <a:spcPts val="10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go mais ???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4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2060"/>
                </a:solidFill>
                <a:latin typeface="Arial"/>
              </a:rPr>
              <a:t>Questões administrativas e relativas ao trabalho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         Sim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O seu contrato ainda é válido?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             □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Tem a autorização de viagem, com o itinerário oficial aprovado?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O certificado de formação obrigatório está válido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Certificado de segurança aprovado ou, pelo menos, solicitado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O certificado de segurança apenas é válido para o período de tempo e local especificad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Se o destacamento for internacional, obteve um visto válido?      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Já foi feita a reserva de hotel ou preparativos de alojamento.       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Perguntar sobre os modos de pagamento aceite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Arial"/>
              </a:rPr>
              <a:t>Não considere que a autorização para a missão é automática, mesmo que se trate de um destacamento interno para nacionais</a:t>
            </a: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4T15:29:54Z</dcterms:created>
  <dc:creator>User</dc:creator>
  <dc:description/>
  <dc:language>en-US</dc:language>
  <cp:lastModifiedBy>GOMEZ, Paula</cp:lastModifiedBy>
  <dcterms:modified xsi:type="dcterms:W3CDTF">2019-06-28T10:25:36Z</dcterms:modified>
  <cp:revision>129</cp:revision>
  <dc:subject/>
  <dc:title>Rapid Response Teams Training</dc:title>
</cp:coreProperties>
</file>