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7384-9BCD-4D26-A17B-A1C28B26C7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EE62-5C65-4122-9B9C-9561CCE3F0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 quer continuar eficiente, deve arranjar tempo para repousar e fazer actividades que restabeleçam a sua energ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F51F-5195-4553-91F1-5B3ADC0E07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81D2-C5E1-4EDF-864C-FE45D89EAE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C4CA-C8B6-4392-8413-8E5C189C93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324-E2EC-475D-A746-D565B653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A43-7868-486C-94A0-AB4DB9F0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CCFE3-B7FF-4F7D-BD37-C1C1B73EA8A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7135E-CFC6-4DD1-85E2-1B0EC6D6947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F712E-29A7-4785-A132-241F04F276F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4310F-071F-49A0-BB7B-F8C9E11277B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BF438-A572-4AAA-AEAE-FAF5D25A14A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62CF5-AD19-499A-8C57-C56F8F3DE97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04FFD-048C-402B-86C0-8C6B22B542A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76A93-6E20-48D8-BE2A-8CE85F55538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16A8C-35BD-437D-A121-237B3C316A4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62F121-F3A4-4C8B-8A7D-61440B722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408-E9EA-4872-94F5-CCA92779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71DC0D-CD1B-42EF-963C-1F9BF2FA714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E56240-7623-4FE0-AA82-3806880AEFD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6A8B1-8F9E-42E6-B79E-FFE26AEFD34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30FC7E-9F45-4459-94C3-92C1D2592D3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1B095C-E141-4EA5-A261-FB8C85A4814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27FE1-D4A2-4625-8C4D-EA66E6FB78B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0BD38-5573-4E50-A89A-730D6C2344D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059CD-9BC4-416B-AF1B-743AC6DBF40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AC7BB-2F27-4940-89EF-739503104AB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F1CEB-A325-4D8A-83A5-30C1CEC68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A0B-0CF4-4165-B9BE-FA4BFDA7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1C630-F754-4914-9C4F-CBE5D3B131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AB04E5-8BD1-4E63-86EB-F33D63CC1D9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D3F95C-2B9F-471B-BC65-39186895E3C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211C63-3AA5-410C-AFC4-0B5EACF37D6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191FD2-943E-441A-9C0C-40C3FFC3254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028C15-0736-4AC6-A6A2-8C7FDAAAD3E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B7511D-316D-42BC-BB5C-A31FAA1A619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4010DF-608E-4667-B78B-CC23C651F3E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56741B-D33B-4BB6-BBFC-995BE3528FA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A7D280-4C7A-4A80-9E67-E03B052F8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57B8F-AEE2-41AF-AF86-FEEC6E286CD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D64A0C-A189-4DEA-958C-314FB084F3D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35E0D9-1216-4356-A147-F4B775C01BE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E082FD-DF5E-4D1A-97EC-FFF1F7D181F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5CDEA-F15E-4C01-BB56-8173F5DA0C1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F266E-884F-49E7-9097-31376E7DAC4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8E9D1-80DB-4F67-AD4E-F3D4EF089BD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1F015-58E8-4726-9791-9BAA58D30F0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ADA21-E932-4E2F-93B8-AE50777F843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8AEE4-BF8E-484B-8E27-CD4A1050892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44CC5-38EC-4A98-B5AF-8A0D37A8E5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113CC-F6A5-4C91-8D9C-B429A0B0171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07AF2-2DCF-4271-BE85-DD1BA52FC79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4D131-FF21-4F17-9CB3-DA57CA6CB5C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78EF5-D611-4830-9766-CCAE459302A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AB9F3-707B-49F5-B9AB-BE61A5D2A6F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F06F0-2C62-4BFA-96E3-CEC77962DB5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E85164-828B-48AA-A085-815EB7CD08A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FF7939-A526-4A7D-99F3-7BDB4FACD4E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D6794D-8529-41E3-9849-34DE05CE384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C17CBC-F825-4E08-8C41-3CF5427AFD1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8AA1B4-A8D2-4070-B6CA-AD9F51427C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693C9-DFF2-4214-B4CD-CB3CBE0A795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072395-F95D-4513-83A6-EF60BD56F76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529E97-3AE0-4A20-9118-54E43107909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716CB4-E800-4F6D-92C3-BB203D15D7E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1D560A-522F-4E3C-BC71-D1A134C71CB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503FD0-2CC7-4273-84FF-A0663849358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50A767-2B76-4519-B259-BDABCCBE965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83E860-D027-4C2B-BF9C-00289051540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38B818-04AB-4F47-BCAA-BEF1F8124F5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650E3-F790-4FC3-8F91-65FAB45CAE0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4DCE0-6D11-4FEF-A360-27DA73B343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C4D98-33B0-4CEF-AA67-AFEF061C583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8BE8D-B623-4EE6-AA57-0CCAF99289A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DE387-9B69-444D-831D-2FC8EAF4925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01444-35F0-4EAF-8449-F9F1D612973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F1946-BFE5-4529-9FB6-2948A27321D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963C9A-BFB7-40F1-AA25-54F1D646DF4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05F20-CD37-4FAB-8ADA-E5DFA64FD9F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F2B5F6-9910-4E76-A67D-DB69E68257B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97440F-E378-4A89-8F54-5AF977413A5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FA924-5884-40C9-825D-85970430F0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49861-82E1-4C86-87EE-AB020E2199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3D097-F8BB-4521-BAE7-8AF9069BC9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804C6-B0A4-4C88-B593-59912F2A39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6A7-4F37-4F56-856E-0D2AE3BF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767B9-4EE3-47A5-965A-0D3A85C608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68CAA-0190-48AB-AC0B-059136913B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EFE4D-92D3-4773-AC46-2FD0BDBE2A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4118F-E070-4374-8F5D-30A6E68331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8FA75-5B4F-4AC3-9187-03054AEA07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E89C-4F86-42B6-BD2D-188ECB736A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8789-BF81-4CA1-A95F-A76C77CD02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C6C4-FE9A-4594-A184-44DD5D2E50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8492-68B3-42D1-808E-542772A5E8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0E45-57F0-478C-B626-E6DE7D7549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4331-3236-4EB5-91FF-2E1EA2E5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AE9D-8903-42AF-B337-B86183CED1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98C0-F41F-4404-82B2-BED7C99068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F870-2746-47C0-8D41-035E107856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5311-4C61-499A-8E94-9994728D0D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66BA-EA68-453E-A4AF-44A0A1519A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21D9-FD4C-4B0A-BD62-B43F403195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9E81-693D-4379-AA5F-4A37117092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26BAE-70B0-4392-B03B-B62C38C905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1B818-47CD-4906-A326-91F3F4CC1B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F14F0-F5C6-40C9-99DD-C40CB1320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DD9-939A-41B1-8698-E62AC442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D3DD8-0FCC-4424-8901-3A8DE9FC99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DBEBB-EC0F-4CF1-8653-CBD5958AB7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E479F-1020-4423-A1EF-E924E85018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36942-AED4-483C-B10B-0643CAD90B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39C28A-0032-4A44-BF24-103BBC77F0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CF6BD-C611-4466-9A4E-59106DB495B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AF0E8-5EEA-4A6E-B0D8-A551A38E80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80C98-CCBB-4665-B421-76CF64DB49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998E4-96C0-4BE2-84C5-6FE07BC95A2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B7F63B-7518-49E9-9ACC-5C7E35D16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EF2-D79F-409E-945B-684240C3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4CA589-826B-454B-AC62-1C546BC35D1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81A2DE-8EE8-4078-9CB9-7A9DC8B2901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1A7AB-0E1D-40E4-9D41-E0D4A5F83FA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FF3C19-95A4-485B-8E17-F9BB68D416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CA9AD-520F-444E-B852-B01699CCE2C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02B8D5-77BB-45F7-B836-B002BCDA4B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1D921A-1174-494A-9AE4-8410165079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B6D9C-E61C-4212-977D-D259B5B1CC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8B856-8428-4462-9544-6CCCE3CD0E4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CC5A61-E865-4468-B7E4-C1906E18D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581-0DE1-47FB-92BE-B2CAEBEE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4ACF50-A085-4227-8143-A9B8F8AFBB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016EA-DB53-456A-A4D5-AE677195B5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A8B5-715B-4E1E-92E9-A247D5B6C11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2E7C5-5090-4A4A-A0D0-B27FBD9620A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E9DC-7CBF-4F91-A782-F4C233EE30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6F10F-8433-41FD-A9F5-9FBA61A132C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04533-AA1E-4DF0-A432-6FB1B822F2D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3EDCD-7DD8-4EF7-A35F-1BC869DE7DC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4D67D-8EDE-4021-8603-A518E4C5B8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05AE1-0A1B-4762-9627-AF87C4EBC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3E7-05DE-4493-97AA-2DFCD0EE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3372-36A3-4A19-892C-687DE0E089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38674-73D3-4FDE-998D-3928CEBC074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639D5-00AF-4B3E-AC54-F514881313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AD3E1-486C-4397-8C8B-BC2A0CA4B22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3AC300-55A8-403C-90C2-DACA76FDA44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378F93-15AB-46EB-8EEF-E6C82EC62A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E0BB9-941C-4251-A69F-1867BC2BDB7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525A3-06BF-46C5-A4D4-6ED6B4DB8E1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2FD7D-E6DA-4B84-8EBF-CD991C678AE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F6EFC-119F-41A4-AB53-61E960C86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3E7-9BA4-49AC-96B3-894343CA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92B0FE-26FF-48E3-8162-75EEA0068A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AA682-2DFC-4EBD-959E-ECA79C11E27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9D0C9-6841-4913-97AD-B5B2100D537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682EC-1E82-4830-AC15-ED5DAAECE24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6DC8B1-3741-4C49-BA65-233B0E9A9E8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83FD59-9086-4896-AAF4-7CB288F5141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3F978E-9868-4D5E-8516-2DBB9EAF330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EC6B6C-37D4-45C2-B5D9-7EC43AA6B3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FFF5CD-2EBF-41C0-89BF-7481AE4EF10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ECFB94-8E52-43E0-9A4C-57433562A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BC4-01E5-42E9-89A1-B89CF3C3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A9CFEE-D35E-4488-B715-301ACF63E4C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CB6869-B35D-4C66-AF98-4417A91DC53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D52564-AD5C-4630-83CC-0CDC7577BC1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0FA74-D244-4EEE-A822-A4D68B3D40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CEFE33-F5B9-41F1-83C9-8C2CB6356EC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11311A-87CC-4A7E-9A44-EAA29647ACE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5D0C02-1462-4917-BA69-9E173FAAE7C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8342B-4F20-4CC4-8375-0423197D339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9662C-5EE8-4BE5-8B91-65554C02260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73D23-856D-4F5D-A2C5-998FB6AD5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266B-8886-4212-A0D0-D3D59CB166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B1D0-CCE2-4A37-9BDE-1BAAFB2864B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24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08BD-0F27-4885-A572-13F2CE1D152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9542-6F34-4DFD-BFDC-E50D5DCB7896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71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2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2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2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C094-C7A8-4924-B57B-EEF8F30BAFD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2BD3-8F96-4088-A99C-3B60DAC6D4A1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18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ftr" idx="2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sldNum" idx="2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B432-41F7-4440-A106-CBAA3E01D25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B56D-E860-4ECC-AD64-D174EBFE0D0D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565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FEDB-174F-4644-A634-73AF554D797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50BC-96A4-4598-B0AC-C373C6199031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61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19E8-9951-4022-9BE4-8C9DE5E9EEA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D963-F76A-46EC-95FC-31F3EFAEBAD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0C4B-7227-40C9-B9A0-A30800FDEC68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4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D5FF-9B03-4322-A04F-76B086861980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9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1.png" descr=""/>
            <p:cNvPicPr/>
            <p:nvPr/>
          </p:nvPicPr>
          <p:blipFill>
            <a:blip r:embed="rId3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E1AF-5D96-4CA3-B6EC-3E5D3CB711C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6541-8393-4E1B-B235-470275445B5C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42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8"/>
          </p:nvPr>
        </p:nvSpPr>
        <p:spPr>
          <a:xfrm>
            <a:off x="845784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6028-B765-4DCF-84E6-46886364D93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3974-9214-4B0C-841D-9CDC978DD34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189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9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3818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4BB5-BF21-40C1-AD09-1C276AC7111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B052-7F29-4510-ABDB-E9F943FC3B02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36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1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2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480D-7340-4A21-9312-B53C4C5F64B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AB26-B467-443A-9E49-072A1DCC80EA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283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TextBox 18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3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4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C2D6-ADC3-4F41-85DB-CB94CC71901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F2EC-DE8F-40A8-ADBA-54066692A270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30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5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4C02-DB25-4A1C-84D7-5BBFA0CAEA5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ubtitle 2"/>
          <p:cNvSpPr/>
          <p:nvPr/>
        </p:nvSpPr>
        <p:spPr>
          <a:xfrm>
            <a:off x="2209680" y="6176880"/>
            <a:ext cx="4267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rmação de Equipas de Resposta Ráp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hape 148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86800" y="648180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C71C-EC6D-4564-94A2-61A2ECE47E0E}" type="slidenum">
              <a:rPr b="0" lang="en-US" sz="16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47"/>
          <p:cNvGrpSpPr/>
          <p:nvPr/>
        </p:nvGrpSpPr>
        <p:grpSpPr>
          <a:xfrm>
            <a:off x="133200" y="6173640"/>
            <a:ext cx="1619280" cy="608040"/>
            <a:chOff x="133200" y="6173640"/>
            <a:chExt cx="1619280" cy="608040"/>
          </a:xfrm>
        </p:grpSpPr>
        <p:sp>
          <p:nvSpPr>
            <p:cNvPr id="377" name="Shape 145"/>
            <p:cNvSpPr/>
            <p:nvPr/>
          </p:nvSpPr>
          <p:spPr>
            <a:xfrm>
              <a:off x="133200" y="6173640"/>
              <a:ext cx="1619280" cy="60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image1.png" descr=""/>
            <p:cNvPicPr/>
            <p:nvPr/>
          </p:nvPicPr>
          <p:blipFill>
            <a:blip r:embed="rId2"/>
            <a:stretch/>
          </p:blipFill>
          <p:spPr>
            <a:xfrm>
              <a:off x="133200" y="6173640"/>
              <a:ext cx="1619280" cy="60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Box 12"/>
          <p:cNvSpPr/>
          <p:nvPr/>
        </p:nvSpPr>
        <p:spPr>
          <a:xfrm>
            <a:off x="2064600" y="6478560"/>
            <a:ext cx="25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Formação de Equipas de Resposta Ráp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52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7"/>
          </p:nvPr>
        </p:nvSpPr>
        <p:spPr>
          <a:xfrm>
            <a:off x="2133360" y="6356520"/>
            <a:ext cx="46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18"/>
          </p:nvPr>
        </p:nvSpPr>
        <p:spPr>
          <a:xfrm>
            <a:off x="8502480" y="64818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D814-E098-4D72-9D67-73CED446E76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extranet.who.int/hslp" TargetMode="External"/><Relationship Id="rId2" Type="http://schemas.openxmlformats.org/officeDocument/2006/relationships/hyperlink" Target="mailto:ihrhrt@who.int" TargetMode="External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361960" y="84240"/>
            <a:ext cx="6748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002060"/>
                </a:solidFill>
                <a:latin typeface="Arial"/>
                <a:ea typeface="Arial"/>
              </a:rPr>
              <a:t>Equipas de Resposta Rápida </a:t>
            </a:r>
            <a:br>
              <a:rPr sz="3200"/>
            </a:br>
            <a:r>
              <a:rPr b="1" lang="pt-PT" sz="3200" spc="-1" strike="noStrike">
                <a:solidFill>
                  <a:srgbClr val="0070c0"/>
                </a:solidFill>
                <a:latin typeface="Arial"/>
                <a:ea typeface="Arial"/>
              </a:rPr>
              <a:t>Formaçã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4724280"/>
            <a:ext cx="90360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Preparação antes da partid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ação: 30’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"/>
          <p:cNvSpPr/>
          <p:nvPr/>
        </p:nvSpPr>
        <p:spPr>
          <a:xfrm>
            <a:off x="73440" y="647712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Arial"/>
              </a:rPr>
              <a:t>Actualizado em: 24/1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O seu pacote básico de viagem?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7621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Uma mala pequena, se possível rígida (15 Kg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assaporte e outros documentos de identificação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Boletim de vacina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Cartões bancários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edicamentos prescrit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Lanterna com pilhas nova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Dispositivos de comunicação: telemóveis, telefones por satélite com carregadores e acumuladores de carga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daptadores eléctricos 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Alimentos não perecíveis …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Instruções Iniciai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0253f"/>
                </a:solidFill>
                <a:latin typeface="Arial"/>
              </a:rPr>
              <a:t>As instruções antes do destacamento da equipa de ERR incluem a seguinte informação: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Objectivos da missã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Dados mais recentes disponíveis (mesmo não tratados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Mecanismo de relatórios esperado (dentro da equipa, para a Sede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dicadores/métrica por sector (isto é, epidemiologia, laboratório, WASH, etc.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Intervenções em curso/anteriores (se existirem)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Instruções Iniciais (continuação)</a:t>
            </a:r>
            <a:br>
              <a:rPr sz="2600"/>
            </a:br>
            <a:endParaRPr b="0" lang="en-US" sz="26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0253f"/>
                </a:solidFill>
                <a:latin typeface="Arial"/>
              </a:rPr>
              <a:t>Informação, que pode ser recolhida individualmente pelos membros da equipa</a:t>
            </a: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, sobre os factores que podem ter impacto sobre a equipa no terreno, nas seguintes áreas-chave: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Geografia   – local (topografia, cidades, comodidades)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Demografia  - práticas socioculturais, religião, língua, grupos tribais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Política/Segurança  – conflitos na comunidade, reuniões/eventos sociopolíticos, festivais, etc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Riscos ambientais – mosquitos, água... 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Logística pessoal  – o que está disponível no terreno – alimentos, água, abrigo, roupa, protecção contra intempérie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Evento de saúde pública em curso (para o qual estão a preparar-se)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10253f"/>
                </a:solidFill>
                <a:latin typeface="Arial"/>
              </a:rPr>
              <a:t>Outros.</a:t>
            </a: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Instruções Iniciais: Ex., Lista de verificação de material da ERR para a DVE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Saúde individual e da equipa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azer a vacinação apropriad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saúde pessoal e prescrições de rotina, profilaxia antipalúdica, desinfectante de mãos à base de álcool,</a:t>
            </a:r>
            <a:r>
              <a:rPr b="0" i="1" lang="pt-PT" sz="14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de primeiros socorros, termómetro IV, plano de evacuação médica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Materiais impress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rmos de referência para investigações e toda a informação disponível sobre o event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lanos de contingência nacional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rocedimentos operacionais padrão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Lista de contactos das equipas centrais, intermédias e distritais, do coordenador geral do evento e das partes interessadas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rmulários de pesquisa de casos impressos, formulários de listagens, questionário das entrevistas, definição de casos, formulários de envio para os laboratórios, modelo de relatórios de situação, formulários de identificação e localização de contactos, formulários de consentimento para colheita de amostras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Materiais para formação rápida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Orientações técnicas em papel, cartazes, material de comunicação de riscos.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70c0"/>
                </a:solidFill>
                <a:latin typeface="Arial"/>
              </a:rPr>
              <a:t>Tecnologias de Informação e Comunicação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mputadores portáteis e impressoras, sinal de internet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Telemóveis e recargas extra, rádios, se for necessário, etc.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Informação da lista de contactos dos principais parceir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Instruções Iniciais: Ex. Lista de Verificação da ERR para a DVE </a:t>
            </a:r>
            <a:r>
              <a:rPr b="1" lang="en-GB" sz="2000" spc="-1" strike="noStrike">
                <a:solidFill>
                  <a:srgbClr val="00206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Medicament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onjunto de infusão para reidrataçã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RO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ursos de tratamento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Equipamento de terreno e EPP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Desinfectante para as mãos à base de álcool  sabão, HTH/lixívia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PP- vestuário não esterilizado, luvas nitrílicas descartáveis, luvas resistentes, máscaras N95, fato-macaco e/ou batas, botas de borracha, aventais resistentes, máscaras e/ou óculos de protecção, máscaras cirúrgicas.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Termómetros de infravermelho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para transporte de cadáver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ulverizadores dorsai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Sacos descartáveis para resíduos biológicos perigosos 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amostras (UN 2814,</a:t>
            </a:r>
            <a:r>
              <a:rPr b="0" i="1" lang="pt-PT" sz="1200" spc="-1" strike="noStrike">
                <a:solidFill>
                  <a:srgbClr val="10253f"/>
                </a:solidFill>
                <a:latin typeface="Arial"/>
              </a:rPr>
              <a:t> kit </a:t>
            </a: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para colheita de sangue, bastonetes para esfregaço oral, luvas, bastonetes com álcool )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Embalagem tripla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Caixa de segurança/recipiente para objectos cortante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Transporte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a carros ou motorizadas e combustível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70c0"/>
                </a:solidFill>
                <a:latin typeface="Arial"/>
              </a:rPr>
              <a:t>Finanç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judas de custo, dinheiro para pequenas despes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10253f"/>
                </a:solidFill>
                <a:latin typeface="Arial"/>
              </a:rPr>
              <a:t>Acesso e mecanismo para libertar fundos do orçamento para emergências</a:t>
            </a:r>
            <a:endParaRPr b="0" lang="en-US" sz="1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253f"/>
                </a:solidFill>
                <a:latin typeface="Arial"/>
              </a:rPr>
              <a:t>Agora que chegou ao local com segurança, que primeiros passos deve dar?</a:t>
            </a:r>
            <a:endParaRPr b="0" lang="en-US" sz="3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UGESTÕES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Manter uma discussão preliminar (mesmo informal) com os colegas e parceiros no terreno: apresentar a sua perspectiva pessoal sobre a situação (incluindo segurança e protecção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0253f"/>
                </a:solidFill>
                <a:latin typeface="Arial"/>
              </a:rPr>
              <a:t>Procurar entender a dinâmica da situação e os actores envolvidos (parceiros do sector da saúde, líderes políticos, militares e outros actores não humanitários)</a:t>
            </a:r>
            <a:endParaRPr b="0" lang="en-US" sz="20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Distinguir o importante e urgente do trivial  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Ser prático e pragmático e manter-se em contacto próximo com as realidades do terreno … </a:t>
            </a:r>
            <a:r>
              <a:rPr b="0" lang="pt-PT" sz="2200" spc="-1" strike="noStrike">
                <a:solidFill>
                  <a:srgbClr val="ff0000"/>
                </a:solidFill>
                <a:latin typeface="Arial"/>
              </a:rPr>
              <a:t>Cuidado com a síndrome de excesso de confiança do 3.º dia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ão se esquecer de notificar e informar o seu supervisor!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Arial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 é um alarme fisiológico.. O seu corpo não aguenta mais …relaxe…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Reconheça os sinais e sintomas do </a:t>
            </a:r>
            <a:r>
              <a:rPr b="0" i="1" lang="pt-PT" sz="28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….. </a:t>
            </a:r>
            <a:r>
              <a:rPr b="0" lang="pt-PT" sz="2800" spc="-1" strike="noStrike">
                <a:solidFill>
                  <a:srgbClr val="ff0000"/>
                </a:solidFill>
                <a:latin typeface="Arial"/>
              </a:rPr>
              <a:t>Conheça-se a si mesm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Identifique os seus próprios mecanismos de resistência … 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10253f"/>
                </a:solidFill>
                <a:latin typeface="Arial"/>
              </a:rPr>
              <a:t>É normal e humano pedir ajuda ou pedir um período de descanso...</a:t>
            </a:r>
            <a:endParaRPr b="0" lang="en-US" sz="28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Gestão do </a:t>
            </a:r>
            <a:r>
              <a:rPr b="1" i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stress</a:t>
            </a:r>
            <a:r>
              <a:rPr b="1" lang="fr-FR" sz="3200" spc="-1" strike="noStrike">
                <a:solidFill>
                  <a:srgbClr val="002060"/>
                </a:solidFill>
                <a:latin typeface="Tahoma"/>
                <a:ea typeface="Tahoma"/>
              </a:rPr>
              <a:t>...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pic>
        <p:nvPicPr>
          <p:cNvPr id="697" name="Picture 3" descr=""/>
          <p:cNvPicPr/>
          <p:nvPr/>
        </p:nvPicPr>
        <p:blipFill>
          <a:blip r:embed="rId1"/>
          <a:stretch/>
        </p:blipFill>
        <p:spPr>
          <a:xfrm>
            <a:off x="5443560" y="3646440"/>
            <a:ext cx="3510000" cy="2340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699" name="TextBox 1"/>
          <p:cNvSpPr/>
          <p:nvPr/>
        </p:nvSpPr>
        <p:spPr>
          <a:xfrm>
            <a:off x="477720" y="1155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ANSO E RECUPERAÇÃO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2060"/>
                </a:solidFill>
                <a:latin typeface="Arial"/>
              </a:rPr>
              <a:t>De volta ao escritóri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arque uma consulta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médica, se necessário 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tifique qualquer incidente ou condição de saúde que tenha ocorrido durante o seu destacamento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Converse com o seu supervisor e técnico psicossocial, se necessário 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Apresente o seu relatório electrónico da missão e documentos de despesas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Arial"/>
              </a:rPr>
              <a:t>Divirta-se…..Você merece…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pt-PT" sz="2900" spc="-1" strike="noStrike">
                <a:solidFill>
                  <a:srgbClr val="002060"/>
                </a:solidFill>
                <a:latin typeface="Arial"/>
              </a:rPr>
              <a:t>Objectivos da aprendizagem</a:t>
            </a:r>
            <a:br>
              <a:rPr sz="2900"/>
            </a:br>
            <a:endParaRPr b="0" lang="en-US" sz="29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No final desta apresentação, o participante deverá ser capaz de: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 informação-chave que a Equipa de Resposta Rápida (ERR) deve receber ou recolher antes de um destacamento, para cumprir a sua missão de forma eficaz e segura.</a:t>
            </a: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0253f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10253f"/>
                </a:solidFill>
                <a:latin typeface="Arial"/>
              </a:rPr>
              <a:t>Identificar as actividades-chave que os membros da ERR devem realizar antes de um destacamento, para cumprir a sua missão de forma eficaz e segura</a:t>
            </a:r>
            <a:r>
              <a:rPr b="0" lang="pt-PT" sz="2400" spc="-1" strike="noStrike">
                <a:solidFill>
                  <a:srgbClr val="10253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Exoneração de responsabilidade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703" name="Content Placeholder 2"/>
          <p:cNvSpPr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Plataforma da OMS para a Aprendizagem sobre Segurança Sanitária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Materiais de For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Estes Materiais de Formação da OMS são propriedade da © Organização Mundial da Saúde (WHO) 2018. Todos os direitos reserv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 sua utilização destes materiais está sujeita aos “</a:t>
            </a: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Termos de Utilização dos Materia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ff"/>
                </a:solidFill>
                <a:latin typeface="Arial"/>
              </a:rPr>
              <a:t>de Formação da Plataforma da OMS para a Aprendizagem sobre Segurança Sanitária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”, que aceitou ao descarregá-los e que estão disponíveis na Plataforma da OMS para a Aprendizagem sobre Segurança Sanitária em: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extranet.who.int/hslp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Caso adapte, modifique, traduza ou de alguma forma altere o conteúdo destes materiais, não poderá sugerir que a OMS de algum modo aprova essas modificações, como não poderá usar o nome ou o símbolo da OMS nos materiais modificad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olicita-se ainda que informe a OMS de quaisquer alterações que tenha efectuado para utilização pública destes materiais, para fins de manutenção de registos e desenvolvimento contínuo, através do endereço electrónico </a:t>
            </a:r>
            <a:r>
              <a:rPr b="0" lang="pt-PT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hrhrt@who.int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2060"/>
                </a:solidFill>
                <a:latin typeface="Arial"/>
              </a:rPr>
              <a:t>Obrigado!</a:t>
            </a:r>
            <a:endParaRPr b="0" lang="en-US" sz="6600" spc="-1" strike="noStrike">
              <a:solidFill>
                <a:srgbClr val="6325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Title 3" descr=""/>
          <p:cNvPicPr/>
          <p:nvPr/>
        </p:nvPicPr>
        <p:blipFill>
          <a:blip r:embed="rId1"/>
          <a:stretch/>
        </p:blipFill>
        <p:spPr>
          <a:xfrm>
            <a:off x="457200" y="546120"/>
            <a:ext cx="8229600" cy="59688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ff0000"/>
                </a:solidFill>
                <a:latin typeface="Arial"/>
              </a:rPr>
              <a:t>Conheça-se a si mesmo e os requisitos do seu local de trabalho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0000"/>
                </a:solidFill>
                <a:latin typeface="Arial"/>
              </a:rPr>
              <a:t>Cumpra as normas e regulamentos que regem o seu destacamento: eles protegem-no...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558ed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Tenha cuidado com as potenciais zonas cinzentas. </a:t>
            </a:r>
            <a:r>
              <a:rPr b="1" i="1" lang="pt-PT" sz="2400" spc="-1" strike="noStrike">
                <a:solidFill>
                  <a:srgbClr val="558ed5"/>
                </a:solidFill>
                <a:latin typeface="Arial"/>
              </a:rPr>
              <a:t>Não confie em compromissos verbais..</a:t>
            </a:r>
            <a:r>
              <a:rPr b="1" i="1" lang="pt-PT" sz="2500" spc="-1" strike="noStrike">
                <a:solidFill>
                  <a:srgbClr val="558ed5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500" spc="-1" strike="noStrike">
                <a:solidFill>
                  <a:srgbClr val="008000"/>
                </a:solidFill>
                <a:latin typeface="Arial"/>
              </a:rPr>
              <a:t>Está a gerir uma emergência de saúde pública…Não seja você a emergência … </a:t>
            </a:r>
            <a:endParaRPr b="0" lang="en-US" sz="25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2600" spc="-1" strike="noStrike">
                <a:solidFill>
                  <a:srgbClr val="002060"/>
                </a:solidFill>
                <a:latin typeface="Arial"/>
              </a:rPr>
              <a:t>Considere esta situação: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Depois de uma noite de insónia …</a:t>
            </a:r>
            <a:br>
              <a:rPr sz="2300"/>
            </a:br>
            <a:r>
              <a:rPr b="0" i="1" lang="pt-PT" sz="2300" spc="-1" strike="noStrike">
                <a:solidFill>
                  <a:srgbClr val="002060"/>
                </a:solidFill>
                <a:latin typeface="Arial"/>
              </a:rPr>
              <a:t>…Acabou de receber uma mensagem electrónica informando-o de que foi destacado para responder a um surto de magnitude sem precedentes, de rápida propagação, com um alto nível de mortalidade, num distrito rural com um intenso conflito militar</a:t>
            </a:r>
            <a:endParaRPr b="0" lang="en-US" sz="23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31680" y="49528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mo é que prepararia a sua acção? Por onde começaria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2060"/>
                </a:solidFill>
                <a:latin typeface="Arial"/>
              </a:rPr>
              <a:t>Aspectos críticos: Preparação para o destacamento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família/vida social no local de partida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vida no local de chegada: obtenha informação sobre a área para onde vai ser destacado: clima, cultura, hábitos alimentares, segurança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Organize a sua logística no local de chegada: prepare transporte e alojamento...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Leia os Termos de Referência ou, pelo menos, procure entender os objectivos da sua missão e os resultados esperados 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Procure a lista de contactos importantes: autoridades administrativas/políticas do distrito, autoridades locais de administração da saúde, contactos de hotéis e de colegas que já estejam no terreno … 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10253f"/>
                </a:solidFill>
                <a:latin typeface="Arial"/>
              </a:rPr>
              <a:t>Sugestões: use uma lista de verificação para não esquecer alguns aspectos importantes…</a:t>
            </a: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1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da família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Perguntas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  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Sim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1" i="1" lang="pt-PT" sz="14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missão foi discutida com a família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    □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A possibilidade de extensão da missão?  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Foi estabelecido um plano de comunicação com a família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               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Seguros actualizados e designados os beneficiári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Contas pagas, como propinas escolares, ou tudo preparado?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                                                              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  <a:ea typeface="Calibri"/>
              </a:rPr>
              <a:t>Plano de sa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úde para a sua família acautelado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Passaporte e vistos válidos?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TimesNewRoman"/>
              </a:rPr>
              <a:t>  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                                   □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10253f"/>
                </a:solidFill>
                <a:latin typeface="Arial"/>
              </a:rPr>
              <a:t>  □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2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Bem-estar pessoal 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edicamentos prescritos suficientes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acinação actualizada?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Informação sobre como gerir o </a:t>
            </a:r>
            <a:r>
              <a:rPr b="0" i="1" lang="pt-PT" sz="1600" spc="-1" strike="noStrike">
                <a:solidFill>
                  <a:srgbClr val="10253f"/>
                </a:solidFill>
                <a:latin typeface="Arial"/>
              </a:rPr>
              <a:t>stress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rtigos de uso pessoal (livro de orações, artigos de desporto …)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Material de sobrevivência (produtos não perecíveis, água, lanterna …)?   □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3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10253f"/>
                </a:solidFill>
                <a:latin typeface="Arial"/>
              </a:rPr>
              <a:t>Logística…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Sim            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Viagem até ao local do destacamento?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Transporte durante o destacamento?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ojamento?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                               □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Fundos para material adicional ou acesso a esse material ?                   □   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80000"/>
              </a:lnSpc>
              <a:spcAft>
                <a:spcPts val="1001"/>
              </a:spcAft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Algo mais ???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Lista de Verificação - 4</a:t>
            </a:r>
            <a:endParaRPr b="0" lang="en-US" sz="3200" spc="-1" strike="noStrike">
              <a:solidFill>
                <a:srgbClr val="632523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2060"/>
                </a:solidFill>
                <a:latin typeface="Arial"/>
              </a:rPr>
              <a:t>Questões administrativas e relativas ao trabalho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Sim            </a:t>
            </a: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Não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seu contrato ainda é válido?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             □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Tem a autorização de viagem, com o itinerário oficial aprovado?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O certificado de formação obrigatório está váli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Certificado de segurança aprovado ou, pelo menos, solicitado?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O certificado de segurança apenas é válido para o período de tempo e local especificado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Se o destacamento for internacional, obteve um visto válido?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2060"/>
                </a:solidFill>
                <a:latin typeface="Arial"/>
              </a:rPr>
              <a:t>Já foi feita a reserva de hotel ou preparativos de alojamento.            □            □</a:t>
            </a:r>
            <a:endParaRPr b="0" lang="en-US" sz="16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10253f"/>
                </a:solidFill>
                <a:latin typeface="Arial"/>
              </a:rPr>
              <a:t>	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Perguntar sobre os modos de pagamento aceites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Arial"/>
              </a:rPr>
              <a:t>Não considere que a autorização para a missão é automática, mesmo que se trate de um destacamento interno para nacionais</a:t>
            </a:r>
            <a:r>
              <a:rPr b="0" lang="pt-PT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10253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15:29:54Z</dcterms:created>
  <dc:creator>User</dc:creator>
  <dc:description/>
  <dc:language>en-US</dc:language>
  <cp:lastModifiedBy>GOMEZ, Paula</cp:lastModifiedBy>
  <dcterms:modified xsi:type="dcterms:W3CDTF">2019-06-28T10:25:36Z</dcterms:modified>
  <cp:revision>129</cp:revision>
  <dc:subject/>
  <dc:title>Rapid Response Teams Training</dc:title>
</cp:coreProperties>
</file>