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1.png" ContentType="image/png"/>
  <Override PartName="/ppt/media/image19.jpeg" ContentType="image/jpeg"/>
  <Override PartName="/ppt/media/image42.jpeg" ContentType="image/jpeg"/>
  <Override PartName="/ppt/media/image26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5.wmf" ContentType="image/x-wmf"/>
  <Override PartName="/ppt/media/image8.jpeg" ContentType="image/jpeg"/>
  <Override PartName="/ppt/media/image43.jpeg" ContentType="image/jpeg"/>
  <Override PartName="/ppt/media/image5.png" ContentType="image/png"/>
  <Override PartName="/ppt/media/image30.wmf" ContentType="image/x-wmf"/>
  <Override PartName="/ppt/media/image6.jpeg" ContentType="image/jpeg"/>
  <Override PartName="/ppt/media/image32.png" ContentType="image/png"/>
  <Override PartName="/ppt/media/image34.wmf" ContentType="image/x-wmf"/>
  <Override PartName="/ppt/media/image3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jpeg" ContentType="image/jpeg"/>
  <Override PartName="/ppt/media/image44.jpeg" ContentType="image/jpeg"/>
  <Override PartName="/ppt/media/image36.wmf" ContentType="image/x-wmf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1.wmf" ContentType="image/x-wmf"/>
  <Override PartName="/ppt/media/image7.jpeg" ContentType="image/jpeg"/>
  <Override PartName="/ppt/media/image23.wmf" ContentType="image/x-wmf"/>
  <Override PartName="/ppt/media/image28.jpeg" ContentType="image/jpeg"/>
  <Override PartName="/ppt/media/image38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A5A91-BF6B-45E7-AC64-35AC9A64F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DB6AA6-87EC-427D-87EB-1B04A20BB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849FB-A069-4E91-940C-30E230DE9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D8D2D-90E1-4B44-9B82-EA2F3109F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22307-FE91-4AC3-A9E5-EB885D159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2251D3-0A6E-4CD7-BDEE-D17D3996A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F48B0-35B1-49A1-A908-C542E9537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BDA4DC-9C35-429D-8F29-2CFF91318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8E4D21-0F33-4E7A-909D-832D69F55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5FC10-FE02-4CCB-A66B-F475971F2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42BBB-F906-458F-A0E0-77856E8D7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D5F89-8566-417F-A7A5-5841C42AF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5A5A4-20BE-425D-9B32-E3F987672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57BAC-1573-40CA-BAF7-24D98F219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7036A3-24DD-4B30-9D17-E91D9B1BE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CB3AAE-98E2-49A3-892E-0C98AA909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ABB4F6-D9A5-4683-B07D-3A77C2582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F617B-E602-4814-8864-680384018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1BF86F-D605-40B3-AD50-8BECB24C0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7740A5-7459-4303-A38A-91AC15A38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45234-79BB-412D-B45C-583DC1897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B4FA23-CA9E-4518-BDFF-8E85919E5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1CC383-2149-4F92-AF1A-34A5CB007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52D39B-19A6-46D5-BB78-BB3F65FCE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C2069-6C9E-4C7A-8A5C-EE4E970C1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FAF56-76D5-477D-87F0-97644C6FB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CDA29-B2F6-4C92-9B05-3EB72FEDE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4AD05-61DA-4221-9B76-76FB7A3F0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540FD-82A2-4E65-8D47-C5A6B8DC35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EDC4-E1D9-413F-88A7-C5F3D02097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3422-57AB-4294-8B46-31223A8612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CD4B-8733-415A-9D67-EDBA215BA8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297B-68F8-475A-B70F-86E1822794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47ED-D9FB-4F28-AAF4-0D5AC7CAF9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51BB-8145-4802-9C69-49051393CA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24C2-5D21-4C89-AA66-1882F3BBC8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E6546-76CF-4282-93F3-6061FBB17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D5FF-C2E0-4F6C-B1D7-7312534852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A10-0FBB-4790-802F-6DB859924D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A23-6ABE-49B3-8B33-8C0E5335A1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2EBA-A71A-48C0-88F3-3C7689C7B1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9EA9-D1CC-4996-A07A-3989B724EC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CA3A9-E177-481C-8AE5-8DF3A6193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56578-7826-4A5B-B0BD-C70F416C6F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20642-08F0-4DEF-9092-9BD270F66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C03DE-E34D-473F-B95D-0A4D7C1348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1A37D-7FDC-439B-83AF-34ED7E0A2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35536-12B2-4514-BBA2-C662EC1086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885C9-3914-4FCF-8273-647CB9A1E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CD4A-E614-4EF0-A848-CDBA995A56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5E53-0775-4A9B-8EAD-8832A76E00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28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Organ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20D9-137A-40AF-AF8D-0713CFD824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04920" y="380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Cheminement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Capture3"/>
          <p:cNvPicPr/>
          <p:nvPr/>
        </p:nvPicPr>
        <p:blipFill>
          <a:blip r:embed="rId1"/>
          <a:srcRect l="0" t="16987" r="0" b="0"/>
          <a:stretch/>
        </p:blipFill>
        <p:spPr>
          <a:xfrm>
            <a:off x="228600" y="1523880"/>
            <a:ext cx="838188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26EE-2A31-4FB6-A439-1AA3149E43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Organization Chart 3"/>
          <p:cNvGrpSpPr/>
          <p:nvPr/>
        </p:nvGrpSpPr>
        <p:grpSpPr>
          <a:xfrm>
            <a:off x="380880" y="1935000"/>
            <a:ext cx="6172200" cy="3773520"/>
            <a:chOff x="380880" y="1935000"/>
            <a:chExt cx="6172200" cy="3773520"/>
          </a:xfrm>
        </p:grpSpPr>
        <p:sp>
          <p:nvSpPr>
            <p:cNvPr id="205" name="AutoShape 4"/>
            <p:cNvSpPr/>
            <p:nvPr/>
          </p:nvSpPr>
          <p:spPr>
            <a:xfrm>
              <a:off x="380880" y="1935000"/>
              <a:ext cx="6172200" cy="37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_s1029"/>
            <p:cNvCxnSpPr>
              <a:stCxn id="207" idx="1"/>
              <a:endCxn id="208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09" name="_s1031"/>
            <p:cNvCxnSpPr>
              <a:stCxn id="210" idx="3"/>
              <a:endCxn id="208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1" name="_s1032"/>
            <p:cNvCxnSpPr>
              <a:stCxn id="208" idx="0"/>
              <a:endCxn id="212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3" name="_s1034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6" name="_s1035"/>
            <p:cNvCxnSpPr>
              <a:stCxn id="212" idx="0"/>
              <a:endCxn id="215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15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Directeur</a:t>
              </a:r>
              <a:br>
                <a:rPr sz="2200"/>
              </a:b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 laboratoi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Biologis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 respons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Responsable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 qualité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en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 surveil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Directeur d’hô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0056-AEE9-454E-8FDA-02D92A2BC3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igence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responsabilité et l’autorité pour supervis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e directement aux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j0240719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DCBA-B2B6-4D79-B9D6-259FD1224C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u 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ur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oir tous les regi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et coordonner l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rcher les défi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former les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E76B-4310-4E41-B6B9-2A1BDF704D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approches varien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elon la situation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nombreux facteur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luencent le poi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lure tous les élément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ut être mis en oeuv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r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MCBD07022_0000[1]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D457-D3CF-4EE1-94D2-4044897C2C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MCj00905430000[1]"/>
          <p:cNvPicPr/>
          <p:nvPr/>
        </p:nvPicPr>
        <p:blipFill>
          <a:blip r:embed="rId1"/>
          <a:srcRect l="45571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ardez à l’esp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, soyez 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échéanc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ais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objectif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 et mes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priorités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er par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2D7E-D827-4280-B5C1-8984025E53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2666880"/>
            <a:ext cx="3733920" cy="2880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5960" y="13716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r les carences en utilisant une check-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e list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tâ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des priorité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bord ce qui peu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être résolu rapi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ce qu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ra le plus d’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duire une analyse des carences (Gap analysis)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876920" y="21337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nalyse des carenc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D986-13AD-4890-B37C-CCE717D01D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 des ca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oblèmes couramment identifi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mande d’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’échanti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iveau de formation du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l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cessus analy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nregistrement et compte-rend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réactifs et de l’équipement demande 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MCj03983870000[1]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0457-585A-4A66-A97C-35FB994B48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daction du plan qui devrait contenir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e qui devrait être f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i sera respon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and (calendr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source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points de ré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304920" y="5105520"/>
            <a:ext cx="868680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doit être disponible pour tout le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DF96-D55A-4C9B-A16A-D8EA184C8F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MCj04325520000[1]"/>
          <p:cNvPicPr/>
          <p:nvPr/>
        </p:nvPicPr>
        <p:blipFill>
          <a:blip r:embed="rId1"/>
          <a:stretch/>
        </p:blipFill>
        <p:spPr>
          <a:xfrm>
            <a:off x="5867280" y="3886200"/>
            <a:ext cx="3124440" cy="33526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engager à term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parer une mise en oeuvre par é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s ressources sont dispon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un 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chacun connait s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uis a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3124080" y="6156360"/>
            <a:ext cx="350532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comme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966A-95BC-404C-86BB-E382D7D5CB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 les participants seront en mesure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rire les éléments organisationnels nécessaires à un système de gestion de la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cuter  les rôles et les responsabilités dans un système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e processus de conception, de mise en œuvre, de maintenance et d’amélioration du système qualité au laborat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’intérêt d’un 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21C3-6DAF-41B7-A6F0-7E7ECCA624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19_gnatt_chart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BD95-4D97-45E3-B0FE-195777679B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urnir des res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igences financière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soin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sonnel supplémenta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étences, formation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stallations, équipement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, ordin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j0195384"/>
          <p:cNvPicPr/>
          <p:nvPr/>
        </p:nvPicPr>
        <p:blipFill>
          <a:blip r:embed="rId3"/>
          <a:stretch/>
        </p:blipFill>
        <p:spPr>
          <a:xfrm>
            <a:off x="5867280" y="4419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DECF-1FC6-4339-BC64-6F864DD3CC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j0386161"/>
          <p:cNvPicPr/>
          <p:nvPr/>
        </p:nvPicPr>
        <p:blipFill>
          <a:blip r:embed="rId1"/>
          <a:stretch/>
        </p:blipFill>
        <p:spPr>
          <a:xfrm>
            <a:off x="6915240" y="1905120"/>
            <a:ext cx="2228760" cy="335268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conform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igner l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indicate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r un système de 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d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2" descr="MCj02120510000[1]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2D5B-7578-49DB-AB21-3E14BB8670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meeting_asia_1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B3A4-A2F6-4C7E-9DBA-318469C91A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685800" y="457200"/>
            <a:ext cx="6705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e manuel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cument qui décrit entièrement le système de gestion de la qualité d’une organ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pe essent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onsabilité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0" descr="manuals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7229-A5F9-4340-9F04-A8AEDDBE9A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unique l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rt de cadre pour répondre aux exigences du 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montre l’engagement de la direction dans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DDAC-1F26-4245-8713-4E15BD735D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1" descr="MCPE07250_0000[1]"/>
          <p:cNvPicPr/>
          <p:nvPr/>
        </p:nvPicPr>
        <p:blipFill>
          <a:blip r:embed="rId1"/>
          <a:stretch/>
        </p:blipFill>
        <p:spPr>
          <a:xfrm>
            <a:off x="4419720" y="342900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nir à jour le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unique les lignes de cond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oit être approuvé par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quiert une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se j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MCj04099450000[1]"/>
          <p:cNvPicPr/>
          <p:nvPr/>
        </p:nvPicPr>
        <p:blipFill>
          <a:blip r:embed="rId2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6A54-D7AC-4A7B-B2E8-188E8DFA1F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ne mise en oeuvre réussie requi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l’engagement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comprendre les bénéfices d’un système de gestion de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engager le personnel à tous les niv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ayer d’améliorer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nuel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des attent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2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30C0-5CF3-4C30-9198-FE195781ED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0" descr="MCDD01419_0000[1]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23"/>
          <p:cNvGrpSpPr/>
          <p:nvPr/>
        </p:nvGrpSpPr>
        <p:grpSpPr>
          <a:xfrm>
            <a:off x="4800600" y="2133720"/>
            <a:ext cx="4800600" cy="4390920"/>
            <a:chOff x="4800600" y="2133720"/>
            <a:chExt cx="4800600" cy="4390920"/>
          </a:xfrm>
        </p:grpSpPr>
        <p:sp>
          <p:nvSpPr>
            <p:cNvPr id="317" name="AutoShape 22"/>
            <p:cNvSpPr/>
            <p:nvPr/>
          </p:nvSpPr>
          <p:spPr>
            <a:xfrm>
              <a:off x="4800600" y="2133720"/>
              <a:ext cx="480060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195610"/>
            <p:cNvSpPr/>
            <p:nvPr/>
          </p:nvSpPr>
          <p:spPr>
            <a:xfrm>
              <a:off x="6339600" y="2752200"/>
              <a:ext cx="1722960" cy="2397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195611"/>
            <p:cNvSpPr/>
            <p:nvPr/>
          </p:nvSpPr>
          <p:spPr>
            <a:xfrm rot="7200000">
              <a:off x="6238080" y="3655800"/>
              <a:ext cx="2397600" cy="17233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195613"/>
            <p:cNvSpPr/>
            <p:nvPr/>
          </p:nvSpPr>
          <p:spPr>
            <a:xfrm rot="14400000">
              <a:off x="5767200" y="3658680"/>
              <a:ext cx="2397600" cy="17229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34" descr="bd20208_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6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8"/>
          <p:cNvSpPr/>
          <p:nvPr/>
        </p:nvSpPr>
        <p:spPr>
          <a:xfrm>
            <a:off x="152280" y="53352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EFB8-A588-4A14-A2F6-436D619A8D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igner la responsabilité de la mise en pl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louer des ressourc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r et distribuer un manuel qualité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encer la mise en place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rôler la conformité à la politique qualité et aux exigences du système de gestion de la quali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DFAD-744F-46E2-BA79-C13C0F9C68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1F1A-031D-49F2-9D6E-B788B31E25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8" descr="MCj03963580000[1]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appelez v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Qualité n’est pas une science, c’est une manière de pen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temps investi aujourd’hui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ermettra d’obt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résultats de quali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efficacité cert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satisfaction personnelle et professionnelle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reconnaissance de vos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73B0-F7D1-4328-B0F7-73E716DE88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i est responsable de la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uniocular_mic_cdc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hacu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27A6-1BB6-43D2-8F4E-DACD7FD076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638320" y="190476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5" descr="bulles_def"/>
          <p:cNvPicPr/>
          <p:nvPr/>
        </p:nvPicPr>
        <p:blipFill>
          <a:blip r:embed="rId1"/>
          <a:stretch/>
        </p:blipFill>
        <p:spPr>
          <a:xfrm>
            <a:off x="380880" y="1066680"/>
            <a:ext cx="48675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81CB-E46B-4AA6-8BB8-28373E1E20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3657600" y="3581280"/>
            <a:ext cx="3962520" cy="2079360"/>
            <a:chOff x="3657600" y="3581280"/>
            <a:chExt cx="3962520" cy="2079360"/>
          </a:xfrm>
        </p:grpSpPr>
        <p:sp>
          <p:nvSpPr>
            <p:cNvPr id="140" name="AutoShape 18"/>
            <p:cNvSpPr/>
            <p:nvPr/>
          </p:nvSpPr>
          <p:spPr>
            <a:xfrm>
              <a:off x="3657600" y="3581280"/>
              <a:ext cx="39625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_s7194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7193"/>
            <p:cNvCxnSpPr>
              <a:stCxn id="145" idx="0"/>
              <a:endCxn id="14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_s7192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ssentiel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124080" y="12952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gagement pour une gestion soigneuse du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structure organisée conçue pour atteindre les objectifs de qual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7350000[1]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3EAD-7490-4BDF-8A28-20EF31FE43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ise en oe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ocessu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ontrôl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et améli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2"/>
          <p:cNvSpPr/>
          <p:nvPr/>
        </p:nvSpPr>
        <p:spPr>
          <a:xfrm rot="5400000">
            <a:off x="1218600" y="2286000"/>
            <a:ext cx="1523880" cy="7621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3"/>
          <p:cNvSpPr/>
          <p:nvPr/>
        </p:nvSpPr>
        <p:spPr>
          <a:xfrm rot="10800000">
            <a:off x="4114800" y="2743200"/>
            <a:ext cx="914400" cy="9907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4"/>
          <p:cNvSpPr/>
          <p:nvPr/>
        </p:nvSpPr>
        <p:spPr>
          <a:xfrm rot="5400000">
            <a:off x="6858000" y="2514600"/>
            <a:ext cx="1981440" cy="91440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1"/>
          <p:cNvGrpSpPr/>
          <p:nvPr/>
        </p:nvGrpSpPr>
        <p:grpSpPr>
          <a:xfrm>
            <a:off x="685800" y="3505320"/>
            <a:ext cx="2590920" cy="2361240"/>
            <a:chOff x="685800" y="3505320"/>
            <a:chExt cx="2590920" cy="2361240"/>
          </a:xfrm>
        </p:grpSpPr>
        <p:sp>
          <p:nvSpPr>
            <p:cNvPr id="160" name="AutoShape 30"/>
            <p:cNvSpPr/>
            <p:nvPr/>
          </p:nvSpPr>
          <p:spPr>
            <a:xfrm>
              <a:off x="685800" y="3505320"/>
              <a:ext cx="2590920" cy="23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_s8230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8229"/>
            <p:cNvCxnSpPr>
              <a:stCxn id="165" idx="0"/>
              <a:endCxn id="163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8228"/>
            <p:cNvCxnSpPr>
              <a:stCxn id="167" idx="0"/>
              <a:endCxn id="163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Direction, Rôles de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1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Structur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 organis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3"/>
          <p:cNvSpPr/>
          <p:nvPr/>
        </p:nvSpPr>
        <p:spPr>
          <a:xfrm rot="5400000">
            <a:off x="5520960" y="1946160"/>
            <a:ext cx="838080" cy="75564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4"/>
          <p:cNvSpPr/>
          <p:nvPr/>
        </p:nvSpPr>
        <p:spPr>
          <a:xfrm rot="5400000">
            <a:off x="4495680" y="4495680"/>
            <a:ext cx="1143000" cy="175248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15AB-4B19-416A-A1FF-227A1CA69D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ptitude à dir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exerçant un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torité responsab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motivan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 donnant un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influençant e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courageant 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rsonnel pour d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onnes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6" descr="10031_lores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09A0-A843-451D-AF00-4B9FCA6F91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es dirige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se en oeuvre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mélioration continu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u système de gestion de la qualit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cumenter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uniquer à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out le personnel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nir un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a_19"/>
          <p:cNvPicPr/>
          <p:nvPr/>
        </p:nvPicPr>
        <p:blipFill>
          <a:blip r:embed="rId1"/>
          <a:stretch/>
        </p:blipFill>
        <p:spPr>
          <a:xfrm>
            <a:off x="3733920" y="2666880"/>
            <a:ext cx="50292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0D49-1904-4F92-9B3C-BCE722BC66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gagement de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Ministère de la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181480" y="1219320"/>
            <a:ext cx="3276720" cy="82548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Gestion financ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0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192" name="PubOvalCallout"/>
          <p:cNvSpPr/>
          <p:nvPr/>
        </p:nvSpPr>
        <p:spPr>
          <a:xfrm rot="16200000">
            <a:off x="4038480" y="3885840"/>
            <a:ext cx="2057400" cy="3429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unions du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8655-598F-44AC-90B5-6537E60D41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Organisationn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09480" y="1447920"/>
            <a:ext cx="77724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e structure de travail qui assure un flux suffisant dans toutes les partie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igner rôles et responsabi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organi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igner un responsabl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llouer des ressources suffi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3:01:43Z</dcterms:modified>
  <cp:revision>132</cp:revision>
  <dc:subject/>
  <dc:title>Slide 1</dc:title>
</cp:coreProperties>
</file>