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1.png" ContentType="image/png"/>
  <Override PartName="/ppt/media/image19.jpeg" ContentType="image/jpeg"/>
  <Override PartName="/ppt/media/image42.jpeg" ContentType="image/jpeg"/>
  <Override PartName="/ppt/media/image26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22.jpeg" ContentType="image/jpeg"/>
  <Override PartName="/ppt/media/image1.jpeg" ContentType="image/jpeg"/>
  <Override PartName="/ppt/media/image25.wmf" ContentType="image/x-wmf"/>
  <Override PartName="/ppt/media/image8.jpeg" ContentType="image/jpeg"/>
  <Override PartName="/ppt/media/image43.jpeg" ContentType="image/jpeg"/>
  <Override PartName="/ppt/media/image5.png" ContentType="image/png"/>
  <Override PartName="/ppt/media/image30.wmf" ContentType="image/x-wmf"/>
  <Override PartName="/ppt/media/image6.jpeg" ContentType="image/jpeg"/>
  <Override PartName="/ppt/media/image32.png" ContentType="image/png"/>
  <Override PartName="/ppt/media/image34.wmf" ContentType="image/x-wmf"/>
  <Override PartName="/ppt/media/image35.wmf" ContentType="image/x-wmf"/>
  <Override PartName="/ppt/media/image3.jpeg" ContentType="image/jpeg"/>
  <Override PartName="/ppt/media/image15.png" ContentType="image/png"/>
  <Override PartName="/ppt/media/image24.jpeg" ContentType="image/jpeg"/>
  <Override PartName="/ppt/media/image37.wmf" ContentType="image/x-wmf"/>
  <Override PartName="/ppt/media/image39.wmf" ContentType="image/x-wmf"/>
  <Override PartName="/ppt/media/image41.png" ContentType="image/png"/>
  <Override PartName="/ppt/media/image40.jpeg" ContentType="image/jpeg"/>
  <Override PartName="/ppt/media/image44.jpeg" ContentType="image/jpeg"/>
  <Override PartName="/ppt/media/image36.wmf" ContentType="image/x-wmf"/>
  <Override PartName="/ppt/media/image29.jpeg" ContentType="image/jpeg"/>
  <Override PartName="/ppt/media/image33.wmf" ContentType="image/x-wmf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media/image31.wmf" ContentType="image/x-wmf"/>
  <Override PartName="/ppt/media/image7.jpeg" ContentType="image/jpeg"/>
  <Override PartName="/ppt/media/image23.wmf" ContentType="image/x-wmf"/>
  <Override PartName="/ppt/media/image28.jpeg" ContentType="image/jpeg"/>
  <Override PartName="/ppt/media/image38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4BC543-F30D-4B00-BDE2-8062740393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A215D-8853-4D39-B4C1-ED4BF871C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2B8645-ADB9-4C89-BC80-49E073A23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D5E9DB-26F7-4C6A-9D56-5E7FB14FD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872EC8-51A5-4DC6-AA16-C11D8BB59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45BC21-3AE6-4720-8717-35E70FAEA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673DBBE-AC30-4CBC-806E-FC59DF4E4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9DFF1-DFDA-474D-8B59-B4301781F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A7F3B6-7CD8-457D-A8A1-5D7F0E2DB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6C6FEAF-5C95-491C-AB08-76E9E8357F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90CBAD-FBE1-47E3-BC43-57E5AFD99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2D2B57-F908-468E-8EF2-723F6C5B2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E51AFD-695C-4F90-A046-62897F005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EF5E2F6-3138-4463-A4C3-BDB90B526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4BD472C-3FC8-4C56-AED9-76D605EFB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DEC8569-AEA1-49CF-B5E1-F3E4C3953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EF1AA6-BD62-4D44-BED0-A39F689C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1D00D5-A523-453B-A0F2-BC94CE49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21D03A-26EA-4C5F-8038-27BCF0954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DE1930-2E0C-442D-AA79-39C94FF08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91D7A2-D3E3-4BD3-B285-B3F4A15E9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8C7E11-66B4-415B-8FDB-16099FA69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C547D3-5618-4C64-8F6D-A30A4EC6C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A5BD65-0DE5-412B-8831-C929E6CB0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CD4EEA3-BECC-41AD-9190-061BA81A6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9542-6B26-4C10-BF8B-4B81115A20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AD4F-F7F3-4BE7-BEB9-7D39894A3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AF898-E83D-4C0C-9165-240395B74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683A9-E3AA-4E5E-9596-09EAFF0732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5050-4EBE-438E-ADEF-C4907945377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F46-C942-4745-BE0B-7F3DB7C479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B208-7AC9-4371-A287-4D61334A6B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0855-854E-491B-BFC5-CD83B7DA08A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C0CE-77EB-4148-BE25-1B1E09F0C6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3C00-D5BE-4600-A3AE-9031A8BCA93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A05-CA91-4CF6-A54F-DA10F6025A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F488B-3A3E-41E5-B067-1A55E1E386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973B-466E-43E5-82F3-976210269F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230F-82C0-48A9-A289-E6252A4747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390A-902B-4819-9292-8F88B4FAD41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B3AD-A80F-4A0F-A624-9B4401AD03D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9E9D-AD27-4ADF-9405-E83CF53AB83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F32A-4A4B-43A6-944A-FF2B2F8BB6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4CF63-7A68-4143-B2AC-3D5591E7C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2BDA3-2D8A-489E-89A6-F129BC1B9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06B25-BC70-47C3-9E24-4F2972222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9C79-6D8A-4F17-92AD-F8DAE7A10A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09F9B-95F6-480B-BE7D-6430DCE9CE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68658-1F1C-4074-9509-157E807C3C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D75C-9478-4D6E-A395-65C01097325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EAAF2-D7CC-4EEF-A294-FC79C0C31D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image" Target="../media/image28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ffff"/>
                </a:solidFill>
                <a:latin typeface="Verdana"/>
              </a:rPr>
              <a:t>Organis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4E52-1440-4351-95B3-42FC99BBF7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304920" y="38088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Cheminement de l’échantill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Capture3"/>
          <p:cNvPicPr/>
          <p:nvPr/>
        </p:nvPicPr>
        <p:blipFill>
          <a:blip r:embed="rId1"/>
          <a:srcRect l="0" t="16987" r="0" b="0"/>
          <a:stretch/>
        </p:blipFill>
        <p:spPr>
          <a:xfrm>
            <a:off x="228600" y="1523880"/>
            <a:ext cx="8381880" cy="37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6E38-9614-42D4-B56A-B8CCC71485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Organization Chart 3"/>
          <p:cNvGrpSpPr/>
          <p:nvPr/>
        </p:nvGrpSpPr>
        <p:grpSpPr>
          <a:xfrm>
            <a:off x="380880" y="1935000"/>
            <a:ext cx="6172200" cy="3773520"/>
            <a:chOff x="380880" y="1935000"/>
            <a:chExt cx="6172200" cy="3773520"/>
          </a:xfrm>
        </p:grpSpPr>
        <p:sp>
          <p:nvSpPr>
            <p:cNvPr id="205" name="AutoShape 4"/>
            <p:cNvSpPr/>
            <p:nvPr/>
          </p:nvSpPr>
          <p:spPr>
            <a:xfrm>
              <a:off x="380880" y="1935000"/>
              <a:ext cx="6172200" cy="377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_s1029"/>
            <p:cNvCxnSpPr>
              <a:stCxn id="207" idx="1"/>
              <a:endCxn id="208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09" name="_s1031"/>
            <p:cNvCxnSpPr>
              <a:stCxn id="210" idx="3"/>
              <a:endCxn id="208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1" name="_s1032"/>
            <p:cNvCxnSpPr>
              <a:stCxn id="208" idx="0"/>
              <a:endCxn id="212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3" name="_s1034"/>
            <p:cNvCxnSpPr>
              <a:stCxn id="214" idx="0"/>
              <a:endCxn id="215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16" name="_s1035"/>
            <p:cNvCxnSpPr>
              <a:stCxn id="212" idx="0"/>
              <a:endCxn id="215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15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Directeur</a:t>
              </a:r>
              <a:br>
                <a:rPr sz="2200"/>
              </a:br>
              <a:r>
                <a:rPr b="1" lang="fr-FR" sz="2200" spc="-1" strike="noStrike">
                  <a:solidFill>
                    <a:srgbClr val="ffffff"/>
                  </a:solidFill>
                  <a:latin typeface="Arial"/>
                </a:rPr>
                <a:t> laboratoir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Biologis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 respons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Responsable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 qualité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en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ICI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5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 surveill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6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firm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Directeur d’hô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E19D-2228-4B0D-A153-A482818CFC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xigence ISO15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 la responsabilité et l’autorité pour supervis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apporte directement aux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5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j0240719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8D855-9E3C-4902-9369-82487EDA46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u responsable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trôler le système de gestion de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urer la conform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oir tous les regis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et coordonner l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hercher les défi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informer les décid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8006-A183-48A6-A896-13C809A71E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Planifi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s approches varien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selon la situation lo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nombreux facteurs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fluencent le point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 dé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inclure tous les élément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ut être mis en oeuvr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ar éta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5" descr="MCBD07022_0000[1]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8E39-D2BB-4E0A-BD2D-60711C3757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MCj00905430000[1]"/>
          <p:cNvPicPr/>
          <p:nvPr/>
        </p:nvPicPr>
        <p:blipFill>
          <a:blip r:embed="rId1"/>
          <a:srcRect l="45571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Gardez à l’espr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muniquer, soyez transpa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des échéanc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fais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des objectif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 et mesur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finir des priorités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rocéder par ét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F82CF-FE4A-46BB-8642-5B17C1EE70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2666880"/>
            <a:ext cx="3733920" cy="288000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5960" y="13716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terminer les carences en utilisant une check-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une list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e tâ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09160" indent="-209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finir des priorité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bord ce qui peut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être résolu rapid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3240" indent="-17424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terminer ce qui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ura le plus d’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title"/>
          </p:nvPr>
        </p:nvSpPr>
        <p:spPr>
          <a:xfrm>
            <a:off x="380880" y="42336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duire une analyse des carences (Gap analysis)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6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4876920" y="213372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fr-FR" sz="1800" spc="-1" strike="noStrike">
                <a:solidFill>
                  <a:srgbClr val="000000"/>
                </a:solidFill>
                <a:latin typeface="Verdana"/>
              </a:rPr>
              <a:t>Analyse des carenc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685C-C265-43FA-8A14-4310E0ADF3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nalyse des ca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blèmes couramment identifié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mande d’analy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 l’échantill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Niveau de formation du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l techn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Contrôle quali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rocessus analy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Enregistrement et compte-rendu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4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Gestion des réactifs et de l’équipement demande d’analy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5" descr="MCj03983870000[1]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0CF5-4A85-4343-9695-14F99F3AD1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7d"/>
                </a:solidFill>
                <a:latin typeface="Verdana"/>
              </a:rPr>
              <a:t>Rédaction du plan qui devrait contenir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e qui devrait être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i sera respon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uand (calendri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ressources nécess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points de réfé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3"/>
          <p:cNvSpPr/>
          <p:nvPr/>
        </p:nvSpPr>
        <p:spPr>
          <a:xfrm>
            <a:off x="304920" y="5105520"/>
            <a:ext cx="868680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ff"/>
                </a:solidFill>
                <a:latin typeface="Verdana"/>
              </a:rPr>
              <a:t>doit être disponible pour tout le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EB21-88F1-470E-890C-CC661E85A7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6" descr="MCj04325520000[1]"/>
          <p:cNvPicPr/>
          <p:nvPr/>
        </p:nvPicPr>
        <p:blipFill>
          <a:blip r:embed="rId1"/>
          <a:stretch/>
        </p:blipFill>
        <p:spPr>
          <a:xfrm>
            <a:off x="5867280" y="3886200"/>
            <a:ext cx="3124440" cy="33526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ise en oeuv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engager à term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réparer une mise en oeuvre par é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’assurer que les ressources sont disponi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utiliser un 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être certain que chacun connait s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puis al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7"/>
          <p:cNvSpPr/>
          <p:nvPr/>
        </p:nvSpPr>
        <p:spPr>
          <a:xfrm>
            <a:off x="3124080" y="6156360"/>
            <a:ext cx="350532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commenc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67F0-4BD8-4490-9008-F4EEBE58A5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Objectifs d’apprentiss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 la fin de ce module les participants seront en mesure de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écrire les éléments organisationnels nécessaires à un système de gestion de la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iscuter  les rôles et les responsabilités dans un systèm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e processus de conception, de mise en œuvre, de maintenance et d’amélioration du système qualité au laborato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xpliquer l’intérêt d’un 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A56FC-0480-4A90-9AF6-62DEAE7230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Tableau de Gan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4" descr="19_gnatt_chart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D83-40D5-40C3-9BEF-D7A9C3DF5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Fournir des res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xigences financière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besoins du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rsonnel supplémentai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mpétences, formation nécess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installations, équipement,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sommables, ordinate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0" descr="j0195384"/>
          <p:cNvPicPr/>
          <p:nvPr/>
        </p:nvPicPr>
        <p:blipFill>
          <a:blip r:embed="rId3"/>
          <a:stretch/>
        </p:blipFill>
        <p:spPr>
          <a:xfrm>
            <a:off x="5867280" y="4419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FEF5-C2FF-4A7D-A7E0-B01D3D212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6" descr="j0386161"/>
          <p:cNvPicPr/>
          <p:nvPr/>
        </p:nvPicPr>
        <p:blipFill>
          <a:blip r:embed="rId1"/>
          <a:stretch/>
        </p:blipFill>
        <p:spPr>
          <a:xfrm>
            <a:off x="6915240" y="1905120"/>
            <a:ext cx="2228760" cy="335268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Contrôle de la conform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ssigner les responsabilit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velopper des indicateu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établir un système de contrô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nduire des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revue de dir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MCj02120510000[1]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A569-4D96-4AEB-9A81-40BBEE211F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udit 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meeting_asia_1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F4367-3008-490B-BD77-386B70C860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2"/>
          <p:cNvSpPr/>
          <p:nvPr/>
        </p:nvSpPr>
        <p:spPr>
          <a:xfrm>
            <a:off x="685800" y="457200"/>
            <a:ext cx="67057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’est ce que le manuel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ocument qui décrit entièrement le système de gestion de la qualité d’une organ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pe essenti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esponsabilité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manuals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236-31C7-496B-87E0-CFB1BF634A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communique l’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sert de cadre pour répondre aux exigences du système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démontre l’engagement de la direction dans la qual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975F-9897-4388-98F8-7F800596E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1" descr="MCPE07250_0000[1]"/>
          <p:cNvPicPr/>
          <p:nvPr/>
        </p:nvPicPr>
        <p:blipFill>
          <a:blip r:embed="rId1"/>
          <a:stretch/>
        </p:blipFill>
        <p:spPr>
          <a:xfrm>
            <a:off x="4419720" y="342900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Tenir à jour le manuel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communique les lignes de condu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doit être approuvé par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requiert une </a:t>
            </a:r>
            <a:br>
              <a:rPr sz="3600"/>
            </a:b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mise jou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6" descr="MCj04099450000[1]"/>
          <p:cNvPicPr/>
          <p:nvPr/>
        </p:nvPicPr>
        <p:blipFill>
          <a:blip r:embed="rId2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A9740-691C-45CB-9E39-4E25DE23AD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Une mise en oeuvre réussie requie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l’engagement de la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e comprendre les bénéfices d’un système de gestion de la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engager le personnel à tous les nivea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essayer d’améliorer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tinuell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’avoir des attentes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réalis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ce réservé du pied de page 2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Espace réservé du numéro de diapositiv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C1D8-6718-45B4-AB9B-D87F31BE201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20" descr="MCDD01419_0000[1]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16" name="Group 23"/>
          <p:cNvGrpSpPr/>
          <p:nvPr/>
        </p:nvGrpSpPr>
        <p:grpSpPr>
          <a:xfrm>
            <a:off x="4800600" y="2133720"/>
            <a:ext cx="4800600" cy="4390920"/>
            <a:chOff x="4800600" y="2133720"/>
            <a:chExt cx="4800600" cy="4390920"/>
          </a:xfrm>
        </p:grpSpPr>
        <p:sp>
          <p:nvSpPr>
            <p:cNvPr id="317" name="AutoShape 22"/>
            <p:cNvSpPr/>
            <p:nvPr/>
          </p:nvSpPr>
          <p:spPr>
            <a:xfrm>
              <a:off x="4800600" y="2133720"/>
              <a:ext cx="4800600" cy="439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195610"/>
            <p:cNvSpPr/>
            <p:nvPr/>
          </p:nvSpPr>
          <p:spPr>
            <a:xfrm>
              <a:off x="6339600" y="2752200"/>
              <a:ext cx="1722960" cy="239760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195611"/>
            <p:cNvSpPr/>
            <p:nvPr/>
          </p:nvSpPr>
          <p:spPr>
            <a:xfrm rot="7200000">
              <a:off x="6238080" y="3655800"/>
              <a:ext cx="2397600" cy="172332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195613"/>
            <p:cNvSpPr/>
            <p:nvPr/>
          </p:nvSpPr>
          <p:spPr>
            <a:xfrm rot="14400000">
              <a:off x="5767200" y="3658680"/>
              <a:ext cx="2397600" cy="172296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4" name="Picture 34" descr="bd20208_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26" name="Text Box 36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38"/>
          <p:cNvSpPr/>
          <p:nvPr/>
        </p:nvSpPr>
        <p:spPr>
          <a:xfrm>
            <a:off x="152280" y="53352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5389-7A07-46D3-BB1E-D45C44C92C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De l’intention à l’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ssigner la responsabilité de la mise en plac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llouer des ressourc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velopper et distribuer un manuel qualité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mmencer la mise en place 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ntrôler la conformité à la politique qualité et aux exigences du système de gestion de la qualit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77E9-B46E-4CF7-81E6-11B9668341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104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Le système de gestion de la qualit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44" descr="bulles_def"/>
          <p:cNvPicPr/>
          <p:nvPr/>
        </p:nvPicPr>
        <p:blipFill>
          <a:blip r:embed="rId1"/>
          <a:stretch/>
        </p:blipFill>
        <p:spPr>
          <a:xfrm>
            <a:off x="2138400" y="1095480"/>
            <a:ext cx="48672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CF64-2982-4F77-BBC5-290ACAEEF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8" descr="MCj03963580000[1]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appelez vo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a Qualité n’est pas une science, c’est une manière de pen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 temps investi aujourd’hui </a:t>
            </a: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ermettra d’obt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es résultats de quali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efficacité cer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satisfaction personnelle et professionnelle 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reconnaissance de vos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8BC24-5E6C-4D32-AF02-7A12E45159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Qui est responsable de la qualité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15" descr="uniocular_mic_cdc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47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Chacun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BC80A-74B1-4495-BD1C-0EA1853419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638320" y="1904760"/>
            <a:ext cx="350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fr-FR" sz="3600" spc="-1" strike="noStrike">
                <a:solidFill>
                  <a:srgbClr val="00007d"/>
                </a:solidFill>
                <a:latin typeface="Arial"/>
              </a:rPr>
              <a:t>Commentair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65" descr="bulles_def"/>
          <p:cNvPicPr/>
          <p:nvPr/>
        </p:nvPicPr>
        <p:blipFill>
          <a:blip r:embed="rId1"/>
          <a:stretch/>
        </p:blipFill>
        <p:spPr>
          <a:xfrm>
            <a:off x="380880" y="1066680"/>
            <a:ext cx="486756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51F5E-3711-409A-9E72-88CEE0A70C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9"/>
          <p:cNvGrpSpPr/>
          <p:nvPr/>
        </p:nvGrpSpPr>
        <p:grpSpPr>
          <a:xfrm>
            <a:off x="3657600" y="3581280"/>
            <a:ext cx="3962520" cy="2079360"/>
            <a:chOff x="3657600" y="3581280"/>
            <a:chExt cx="3962520" cy="2079360"/>
          </a:xfrm>
        </p:grpSpPr>
        <p:sp>
          <p:nvSpPr>
            <p:cNvPr id="140" name="AutoShape 18"/>
            <p:cNvSpPr/>
            <p:nvPr/>
          </p:nvSpPr>
          <p:spPr>
            <a:xfrm>
              <a:off x="3657600" y="3581280"/>
              <a:ext cx="3962520" cy="20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1" name="_s7194"/>
            <p:cNvCxnSpPr>
              <a:stCxn id="142" idx="0"/>
              <a:endCxn id="14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7193"/>
            <p:cNvCxnSpPr>
              <a:stCxn id="145" idx="0"/>
              <a:endCxn id="14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46" name="_s7192"/>
            <p:cNvCxnSpPr>
              <a:stCxn id="147" idx="0"/>
              <a:endCxn id="14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ssentiel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124080" y="12952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Engagement pour une gestion soigneuse du systè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Une structure organisée conçue pour atteindre les objectifs de qual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MPj04017350000[1]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DA27-B205-4088-A8DA-CC46274C7C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ise en oeuv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Processus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Contrôl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Verdana"/>
              </a:rPr>
              <a:t>et amélio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22"/>
          <p:cNvSpPr/>
          <p:nvPr/>
        </p:nvSpPr>
        <p:spPr>
          <a:xfrm rot="5400000">
            <a:off x="1218600" y="2286000"/>
            <a:ext cx="1523880" cy="7621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23"/>
          <p:cNvSpPr/>
          <p:nvPr/>
        </p:nvSpPr>
        <p:spPr>
          <a:xfrm rot="10800000">
            <a:off x="4114800" y="2743200"/>
            <a:ext cx="914400" cy="99072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24"/>
          <p:cNvSpPr/>
          <p:nvPr/>
        </p:nvSpPr>
        <p:spPr>
          <a:xfrm rot="5400000">
            <a:off x="6858000" y="2514600"/>
            <a:ext cx="1981440" cy="91440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 31"/>
          <p:cNvGrpSpPr/>
          <p:nvPr/>
        </p:nvGrpSpPr>
        <p:grpSpPr>
          <a:xfrm>
            <a:off x="685800" y="3505320"/>
            <a:ext cx="2590920" cy="2361240"/>
            <a:chOff x="685800" y="3505320"/>
            <a:chExt cx="2590920" cy="2361240"/>
          </a:xfrm>
        </p:grpSpPr>
        <p:sp>
          <p:nvSpPr>
            <p:cNvPr id="160" name="AutoShape 30"/>
            <p:cNvSpPr/>
            <p:nvPr/>
          </p:nvSpPr>
          <p:spPr>
            <a:xfrm>
              <a:off x="685800" y="3505320"/>
              <a:ext cx="2590920" cy="236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_s8230"/>
            <p:cNvCxnSpPr>
              <a:stCxn id="162" idx="0"/>
              <a:endCxn id="163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8229"/>
            <p:cNvCxnSpPr>
              <a:stCxn id="165" idx="0"/>
              <a:endCxn id="163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6" name="_s8228"/>
            <p:cNvCxnSpPr>
              <a:stCxn id="167" idx="0"/>
              <a:endCxn id="163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Direction, Rôles de g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1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Structure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Verdana"/>
              </a:rPr>
              <a:t> organis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3"/>
          <p:cNvSpPr/>
          <p:nvPr/>
        </p:nvSpPr>
        <p:spPr>
          <a:xfrm rot="5400000">
            <a:off x="5520960" y="1946160"/>
            <a:ext cx="838080" cy="75564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4"/>
          <p:cNvSpPr/>
          <p:nvPr/>
        </p:nvSpPr>
        <p:spPr>
          <a:xfrm rot="5400000">
            <a:off x="4495680" y="4495680"/>
            <a:ext cx="1143000" cy="1752480"/>
          </a:xfrm>
          <a:prstGeom prst="pie">
            <a:avLst/>
          </a:pr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4012A-C360-4BF6-A257-5162A9D38E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Aptitude à diri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exerçant un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autorité responsab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motivan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t donnant une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 influençant et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encourageant l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personnel pour de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bonnes perform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6" descr="10031_lores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9F9B-D9BA-401D-AEBC-FAFC105B26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sponsabilités des dirige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ise en oeuvre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amélioration continu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u système de gestion de la qualité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ocumenter et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mmuniquer à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out le personnel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fournir un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manuel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9" descr="a_19"/>
          <p:cNvPicPr/>
          <p:nvPr/>
        </p:nvPicPr>
        <p:blipFill>
          <a:blip r:embed="rId1"/>
          <a:stretch/>
        </p:blipFill>
        <p:spPr>
          <a:xfrm>
            <a:off x="3733920" y="2666880"/>
            <a:ext cx="502920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pied de page 1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502-3D15-45C8-BBC2-7009F6B75E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Engagement de la Dir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Arial Black"/>
              </a:rPr>
              <a:t>Ministère de la San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5181480" y="1219320"/>
            <a:ext cx="3276720" cy="82548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Gestion fina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0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192" name="PubOvalCallout"/>
          <p:cNvSpPr/>
          <p:nvPr/>
        </p:nvSpPr>
        <p:spPr>
          <a:xfrm rot="16200000">
            <a:off x="4038480" y="3885840"/>
            <a:ext cx="2057400" cy="342900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unions du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Espace réservé du pied de page 3"/>
          <p:cNvSpPr/>
          <p:nvPr/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ation-Module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Espace réservé du numéro de diapositiv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E2395-7AA3-4F9C-B3D1-BAF5739AB5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tructure Organisat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09480" y="1447920"/>
            <a:ext cx="77724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établir une structure de travail qui assure un flux suffisant dans toutes les parties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ssigner rôles et responsabilit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velopper un organi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désigner un responsabl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allouer des ressources suffi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dolmazonv</cp:lastModifiedBy>
  <dcterms:modified xsi:type="dcterms:W3CDTF">2010-04-08T13:01:43Z</dcterms:modified>
  <cp:revision>132</cp:revision>
  <dc:subject/>
  <dc:title>Slide 1</dc:title>
</cp:coreProperties>
</file>