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1.png" ContentType="image/png"/>
  <Override PartName="/ppt/media/image19.jpeg" ContentType="image/jpeg"/>
  <Override PartName="/ppt/media/image42.jpeg" ContentType="image/jpeg"/>
  <Override PartName="/ppt/media/image26.jpeg" ContentType="image/jpeg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25.wmf" ContentType="image/x-wmf"/>
  <Override PartName="/ppt/media/image8.jpeg" ContentType="image/jpeg"/>
  <Override PartName="/ppt/media/image43.jpeg" ContentType="image/jpeg"/>
  <Override PartName="/ppt/media/image5.png" ContentType="image/png"/>
  <Override PartName="/ppt/media/image30.wmf" ContentType="image/x-wmf"/>
  <Override PartName="/ppt/media/image6.jpeg" ContentType="image/jpeg"/>
  <Override PartName="/ppt/media/image32.png" ContentType="image/png"/>
  <Override PartName="/ppt/media/image34.wmf" ContentType="image/x-wmf"/>
  <Override PartName="/ppt/media/image35.wmf" ContentType="image/x-wmf"/>
  <Override PartName="/ppt/media/image3.jpeg" ContentType="image/jpeg"/>
  <Override PartName="/ppt/media/image15.png" ContentType="image/png"/>
  <Override PartName="/ppt/media/image24.jpeg" ContentType="image/jpeg"/>
  <Override PartName="/ppt/media/image37.wmf" ContentType="image/x-wmf"/>
  <Override PartName="/ppt/media/image39.wmf" ContentType="image/x-wmf"/>
  <Override PartName="/ppt/media/image41.png" ContentType="image/png"/>
  <Override PartName="/ppt/media/image40.jpeg" ContentType="image/jpeg"/>
  <Override PartName="/ppt/media/image44.jpeg" ContentType="image/jpeg"/>
  <Override PartName="/ppt/media/image36.wmf" ContentType="image/x-wmf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31.wmf" ContentType="image/x-wmf"/>
  <Override PartName="/ppt/media/image7.jpeg" ContentType="image/jpeg"/>
  <Override PartName="/ppt/media/image23.wmf" ContentType="image/x-wmf"/>
  <Override PartName="/ppt/media/image28.jpeg" ContentType="image/jpeg"/>
  <Override PartName="/ppt/media/image38.wmf" ContentType="image/x-wmf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5106A3-2003-4430-99BD-9F870F2A31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FD4CB7-2DB2-469B-BFA0-4E3DFF06B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9CA85E-68F1-42FB-A215-F1DAD125F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80781A-D0C7-4D4D-9CD5-C742461B3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AB2ECC-B977-4916-A770-A8D33C0B3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77573A-389C-4C1D-907C-13189E3D1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7BDF5F-BBF6-4064-ABC3-C43C09D0D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500E71-7147-4FF0-ACBD-E068F8182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DDB3F4-B612-4846-94B4-4E7774E9C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4D4B58-6062-4C4B-A709-EB84CB6A1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071358-BD68-4B4A-8101-4C0FCE55D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FE7BB1-4804-4722-AC04-045914ADB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AF77E8-9871-4526-871A-F873E4545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9CD220-F7DB-4ED4-8528-0B20210B8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5ED3C0-BE2D-4949-AE05-4E8546936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FDDC5F-3CD0-4DE2-9801-B7DA3E828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A34F79-7647-44C0-BB2F-1251A388D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AA8AB7-D3A4-445E-8C3E-58C1CD804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6086CF-EE64-41C9-9D3E-35B57E33E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F4A5A6-94EC-40E3-B939-8927633D8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FA7F5F-A069-410F-8260-40EC32EE8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4BF133-CCAB-4399-912A-2CE4810E3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2C0186-F78B-4993-B919-772B1C35B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D963DE-C73B-4330-8E28-883F9042B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6EE9E5-1E34-45D3-A39A-8485B7F51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DB38B-3D53-4308-BDCB-FFB0FB1434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96E29-3A87-4F34-AA3B-767AB2DFE2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F8974-E610-449A-9A09-3F17E277C8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A0845-EC54-4DB7-9BB0-D63228DFC4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32F3-4249-481A-82E1-817E3CF6D68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15C0-43FC-44D6-8A52-DA63A017336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A604-4375-4B88-A2FC-CFD9BB6F739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9E69-9515-4920-A97F-39399781F55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BA05-AFB0-460B-B8BC-1A93A998FCF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1A68-C7A6-4059-9F4F-5FF30398901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BDA9-138B-451D-88D4-38E46966D2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76970-9A04-432B-B7F6-BDAB763BF5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E80A-B2A6-4C50-B7B3-D6D1D83072C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4A06-1F18-4A58-8492-099F0B231B1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6CB1-11EF-4D9B-A256-BAA97304E50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940B-0915-4A5A-A41C-A6C4AAF3B31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A97C-D39D-4CBB-A4BF-D111B1242B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9FD13-9D9C-4F3C-B8BD-EC567AD0D6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B4A67-493F-4EF7-B921-81EC1788AA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AC105-003A-49A3-9EC5-6458852F51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E5BE0-9379-4FE7-8662-9B3E55EE5A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8EB85-12BF-44AE-B8B4-68BFAF9973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78F3E-0285-470F-AF9A-95B53ADBFE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63CCC-F88B-4AE8-B87C-2E68D7A39D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029CA-161E-4735-85BA-C0FB0771CF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778AC-C577-43E3-9A69-F9C3614F38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image" Target="../media/image38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image" Target="../media/image28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Text Box 16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Verdana"/>
              </a:rPr>
              <a:t>Organis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AF9F9-B146-4F51-8404-EC9D06E523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304920" y="38088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Cheminement de l’échantill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7" descr="Capture3"/>
          <p:cNvPicPr/>
          <p:nvPr/>
        </p:nvPicPr>
        <p:blipFill>
          <a:blip r:embed="rId1"/>
          <a:srcRect l="0" t="16987" r="0" b="0"/>
          <a:stretch/>
        </p:blipFill>
        <p:spPr>
          <a:xfrm>
            <a:off x="228600" y="1523880"/>
            <a:ext cx="8381880" cy="37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68C56-7CDE-45AD-B03C-0ABF8F933E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43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Organization Chart 3"/>
          <p:cNvGrpSpPr/>
          <p:nvPr/>
        </p:nvGrpSpPr>
        <p:grpSpPr>
          <a:xfrm>
            <a:off x="380880" y="1935000"/>
            <a:ext cx="6172200" cy="3773520"/>
            <a:chOff x="380880" y="1935000"/>
            <a:chExt cx="6172200" cy="3773520"/>
          </a:xfrm>
        </p:grpSpPr>
        <p:sp>
          <p:nvSpPr>
            <p:cNvPr id="205" name="AutoShape 4"/>
            <p:cNvSpPr/>
            <p:nvPr/>
          </p:nvSpPr>
          <p:spPr>
            <a:xfrm>
              <a:off x="380880" y="1935000"/>
              <a:ext cx="6172200" cy="37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6" name="_s1029"/>
            <p:cNvCxnSpPr>
              <a:stCxn id="207" idx="1"/>
              <a:endCxn id="208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09" name="_s1031"/>
            <p:cNvCxnSpPr>
              <a:stCxn id="210" idx="3"/>
              <a:endCxn id="208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11" name="_s1032"/>
            <p:cNvCxnSpPr>
              <a:stCxn id="208" idx="0"/>
              <a:endCxn id="212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13" name="_s1034"/>
            <p:cNvCxnSpPr>
              <a:stCxn id="214" idx="0"/>
              <a:endCxn id="215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16" name="_s1035"/>
            <p:cNvCxnSpPr>
              <a:stCxn id="212" idx="0"/>
              <a:endCxn id="215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15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200" spc="-1" strike="noStrike">
                  <a:solidFill>
                    <a:srgbClr val="ffffff"/>
                  </a:solidFill>
                  <a:latin typeface="Arial"/>
                </a:rPr>
                <a:t>Directeur</a:t>
              </a:r>
              <a:br>
                <a:rPr sz="2200"/>
              </a:br>
              <a:r>
                <a:rPr b="1" lang="fr-FR" sz="2200" spc="-1" strike="noStrike">
                  <a:solidFill>
                    <a:srgbClr val="ffffff"/>
                  </a:solidFill>
                  <a:latin typeface="Arial"/>
                </a:rPr>
                <a:t> laboratoir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Biologis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 respons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Responsable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 qualité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en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ICI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ICI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Line 40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42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44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5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firmière surveill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6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firmiè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47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50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Directeur d’hô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03E2A-831C-4D08-A2EF-C2DC8FA905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sponsabl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xigence ISO151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responsabilité et l’autorité pour superviser la conform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apporte directement aux décid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5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j0240719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688C1-EC5C-4FB2-B174-AAD5887A54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sponsabilités du responsabl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trôler le système de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ssurer la conform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voir tous les regist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uire et coordonner les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hercher les défic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nformer les décid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D70FD-10A0-475E-9C77-15A3647F44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lanif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approches varient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elon la situation lo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 nombreux facteurs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fluencent le point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 dé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clure tous les élément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ns le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ut être mis en oeuvr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ar éta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5" descr="MCBD07022_0000[1]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F6148-F048-4508-BC40-EA0DAB6808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7" descr="MCj00905430000[1]"/>
          <p:cNvPicPr/>
          <p:nvPr/>
        </p:nvPicPr>
        <p:blipFill>
          <a:blip r:embed="rId1"/>
          <a:srcRect l="45571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Gardez à l’espr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mmuniquer, soyez transpa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des échéance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fais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velopper des objectif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listes et mesur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finir des priorités,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éder par ét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2FDC7-BD27-4E11-9655-D5F7D6D680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0" descr="19_gap_analysis"/>
          <p:cNvPicPr/>
          <p:nvPr/>
        </p:nvPicPr>
        <p:blipFill>
          <a:blip r:embed="rId1"/>
          <a:stretch/>
        </p:blipFill>
        <p:spPr>
          <a:xfrm>
            <a:off x="5181480" y="2666880"/>
            <a:ext cx="3733920" cy="2880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75960" y="137160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terminer les carences en utilisant une check-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velopper une list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e tâ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inir des priorité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3240" indent="-17424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abord ce qui peut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être résolu rapid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3240" indent="-17424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terminer ce qui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ra le plus d’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duire une analyse des carences (Gap analysis)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4876920" y="213372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Analyse des carences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35682-CA2A-427A-912E-614155F3F0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nalyse des car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roblèmes couramment identifié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emande d’analy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 l’échantill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Niveau de formation du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ersonnel tech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ntrôle qual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rocessus analy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nregistrement et compte-rendu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’analy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s réactifs et de l’équipement demande d’analy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5" descr="MCj03983870000[1]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40C4D-139C-492D-8E1D-D693322016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Rédaction du plan qui devrait contenir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2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e qui devrait être fa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qui sera respons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quand (calendri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ressources nécess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points de réfé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3"/>
          <p:cNvSpPr/>
          <p:nvPr/>
        </p:nvSpPr>
        <p:spPr>
          <a:xfrm>
            <a:off x="304920" y="5105520"/>
            <a:ext cx="868680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doit être disponible pour tout le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6BBCF-6D8B-4492-A3E9-DFFBB422A3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6" descr="MCj04325520000[1]"/>
          <p:cNvPicPr/>
          <p:nvPr/>
        </p:nvPicPr>
        <p:blipFill>
          <a:blip r:embed="rId1"/>
          <a:stretch/>
        </p:blipFill>
        <p:spPr>
          <a:xfrm>
            <a:off x="5867280" y="3886200"/>
            <a:ext cx="3124440" cy="335268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ise en oeuv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engager à term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éparer une mise en oeuvre par éta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assurer que les ressources sont disponi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er un tableau de Gan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certain que chacun connait ses responsabil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puis al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7"/>
          <p:cNvSpPr/>
          <p:nvPr/>
        </p:nvSpPr>
        <p:spPr>
          <a:xfrm>
            <a:off x="3124080" y="6156360"/>
            <a:ext cx="350532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Verdana"/>
              </a:rPr>
              <a:t>commenc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6A653-6463-4B22-A930-752352A25F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 la fin de ce module les participants seront en mesure d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écrire les éléments organisationnels nécessaires à un système de gestion de la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iscuter  les rôles et les responsabilités dans un système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pliquer le processus de conception, de mise en œuvre, de maintenance et d’amélioration du système qualité au laborato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pliquer l’intérêt d’un manuel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BE612-7C9D-431C-BB8B-D8AFE01B1D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Tableau de Gan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19_gnatt_chart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6B447-5D01-4BE4-97A8-53E8D2112E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Fournir des res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xigences financière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esoins du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sonnel supplémentai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mpétences, formation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stallations, équipement,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, ordin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5" descr="MCj01570510000[1]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2" descr="pipetting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0" descr="j0195384"/>
          <p:cNvPicPr/>
          <p:nvPr/>
        </p:nvPicPr>
        <p:blipFill>
          <a:blip r:embed="rId3"/>
          <a:stretch/>
        </p:blipFill>
        <p:spPr>
          <a:xfrm>
            <a:off x="5867280" y="4419720"/>
            <a:ext cx="179568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B55E6-3087-4222-BF2C-C1423D5C28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16" descr="j0386161"/>
          <p:cNvPicPr/>
          <p:nvPr/>
        </p:nvPicPr>
        <p:blipFill>
          <a:blip r:embed="rId1"/>
          <a:stretch/>
        </p:blipFill>
        <p:spPr>
          <a:xfrm>
            <a:off x="6915240" y="1905120"/>
            <a:ext cx="2228760" cy="335268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de la conform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ssigner les responsabil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velopper des indicateu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tablir un système de contrô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uire des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vue de 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2" descr="MCj02120510000[1]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8099E-C902-44D5-8716-D8DE15B140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 Inter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meeting_asia_1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1D797-2D4D-4809-968A-1E8BF3EF6F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"/>
          <p:cNvSpPr/>
          <p:nvPr/>
        </p:nvSpPr>
        <p:spPr>
          <a:xfrm>
            <a:off x="685800" y="457200"/>
            <a:ext cx="67057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’est ce que le manuel qualité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ocument qui décrit entièrement le système de gestion de la qualité d’une organis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pe essenti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sponsabilité de la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10" descr="manuals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F4D23-3501-4C63-8E38-8E4D469F41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munique l’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rt de cadre pour répondre aux exigences du système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montre l’engagement de la direction dans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3EF24-3BA8-4A3C-9A33-5706D2065A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11" descr="MCPE07250_0000[1]"/>
          <p:cNvPicPr/>
          <p:nvPr/>
        </p:nvPicPr>
        <p:blipFill>
          <a:blip r:embed="rId1"/>
          <a:stretch/>
        </p:blipFill>
        <p:spPr>
          <a:xfrm>
            <a:off x="4419720" y="342900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Tenir à jour le 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mmunique les lignes de condu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doit être approuvé par la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requiert une 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ise j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6" descr="MCj04099450000[1]"/>
          <p:cNvPicPr/>
          <p:nvPr/>
        </p:nvPicPr>
        <p:blipFill>
          <a:blip r:embed="rId2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AE1EF-2A2D-4AA0-BD17-9308ECB5C1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Une mise en oeuvre réussie requi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avoir l’engagement de la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 comprendre les bénéfices d’un système de gestion de la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engager le personnel à tous les nive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ayer d’améliorer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inuel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avoir des attente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lis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12" descr="meeting_africa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Espace réservé du pied de page 2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AEEC4-92BB-468A-8C91-DE6B1833B3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20" descr="MCDD01419_0000[1]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8" descr="MCj02927140000[1]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5" descr="MCBS01762_0000[1]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6" descr="MCj03636380000[1]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16" name="Group 23"/>
          <p:cNvGrpSpPr/>
          <p:nvPr/>
        </p:nvGrpSpPr>
        <p:grpSpPr>
          <a:xfrm>
            <a:off x="4800600" y="2133720"/>
            <a:ext cx="4800600" cy="4390920"/>
            <a:chOff x="4800600" y="2133720"/>
            <a:chExt cx="4800600" cy="4390920"/>
          </a:xfrm>
        </p:grpSpPr>
        <p:sp>
          <p:nvSpPr>
            <p:cNvPr id="317" name="AutoShape 22"/>
            <p:cNvSpPr/>
            <p:nvPr/>
          </p:nvSpPr>
          <p:spPr>
            <a:xfrm>
              <a:off x="4800600" y="2133720"/>
              <a:ext cx="4800600" cy="43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_s195610"/>
            <p:cNvSpPr/>
            <p:nvPr/>
          </p:nvSpPr>
          <p:spPr>
            <a:xfrm>
              <a:off x="6339600" y="2752200"/>
              <a:ext cx="1722960" cy="2397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_s195611"/>
            <p:cNvSpPr/>
            <p:nvPr/>
          </p:nvSpPr>
          <p:spPr>
            <a:xfrm rot="7200000">
              <a:off x="6238080" y="3655800"/>
              <a:ext cx="2397600" cy="17233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_s195613"/>
            <p:cNvSpPr/>
            <p:nvPr/>
          </p:nvSpPr>
          <p:spPr>
            <a:xfrm rot="14400000">
              <a:off x="5767200" y="3658680"/>
              <a:ext cx="2397600" cy="17229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4" name="Picture 34" descr="bd20208_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35" descr="MCj04247500000[1]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36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37" descr="MCj02120510000[1]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38"/>
          <p:cNvSpPr/>
          <p:nvPr/>
        </p:nvSpPr>
        <p:spPr>
          <a:xfrm>
            <a:off x="152280" y="533520"/>
            <a:ext cx="3810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e l’intention à l’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0964F-AF98-4E6E-B9AF-46A5CCCB95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e l’intention à l’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ssigner la responsabilité de la mise en plac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llouer des ressourc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évelopper et distribuer un manuel qualité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mmencer la mise en place 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ntrôler la conformité à la politique qualité et aux exigences du système de gestion de la qualit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486A1-A460-4429-891F-B5F62B5138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44" descr="bulles_def"/>
          <p:cNvPicPr/>
          <p:nvPr/>
        </p:nvPicPr>
        <p:blipFill>
          <a:blip r:embed="rId1"/>
          <a:stretch/>
        </p:blipFill>
        <p:spPr>
          <a:xfrm>
            <a:off x="2138400" y="1095480"/>
            <a:ext cx="4867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FA50D-97CF-4B86-8072-1B5FAFFD89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8" descr="MCj03963580000[1]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appelez v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a Qualité n’est pas une science, c’est une manière de pen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Le temps investi aujourd’hui 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ermettra d’obten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s résultats de qualité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efficacité certa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satisfaction personnelle et professionnelle 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reconnaissance de vos p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6BAFE-2C71-4AC9-BE52-50672415CB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i est responsable de la qualité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6" descr="CamPic394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7" descr="small_group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8" descr="7285_lores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3" descr="meeting_asia_1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4" descr="equip_calibrate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5" descr="uniocular_mic_cdc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47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Chacun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35CCF-3C95-4DAD-80B2-4FBCACFEB0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638320" y="1904760"/>
            <a:ext cx="35053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Arial"/>
              </a:rPr>
              <a:t>Commentair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65" descr="bulles_def"/>
          <p:cNvPicPr/>
          <p:nvPr/>
        </p:nvPicPr>
        <p:blipFill>
          <a:blip r:embed="rId1"/>
          <a:stretch/>
        </p:blipFill>
        <p:spPr>
          <a:xfrm>
            <a:off x="380880" y="1066680"/>
            <a:ext cx="486756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A0CAA-882F-43E9-9AEA-0D64765060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9"/>
          <p:cNvGrpSpPr/>
          <p:nvPr/>
        </p:nvGrpSpPr>
        <p:grpSpPr>
          <a:xfrm>
            <a:off x="3657600" y="3581280"/>
            <a:ext cx="3962520" cy="2079360"/>
            <a:chOff x="3657600" y="3581280"/>
            <a:chExt cx="3962520" cy="2079360"/>
          </a:xfrm>
        </p:grpSpPr>
        <p:sp>
          <p:nvSpPr>
            <p:cNvPr id="140" name="AutoShape 18"/>
            <p:cNvSpPr/>
            <p:nvPr/>
          </p:nvSpPr>
          <p:spPr>
            <a:xfrm>
              <a:off x="3657600" y="3581280"/>
              <a:ext cx="3962520" cy="20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1" name="_s7194"/>
            <p:cNvCxnSpPr>
              <a:stCxn id="142" idx="0"/>
              <a:endCxn id="14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4" name="_s7193"/>
            <p:cNvCxnSpPr>
              <a:stCxn id="145" idx="0"/>
              <a:endCxn id="14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6" name="_s7192"/>
            <p:cNvCxnSpPr>
              <a:stCxn id="147" idx="0"/>
              <a:endCxn id="14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ssentiel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3124080" y="1295280"/>
            <a:ext cx="5791320" cy="23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gagement pour une gestion soigneuse du systè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ne structure organisée conçue pour atteindre les objectifs de qualit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MPj04017350000[1]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D242-7761-49F9-BF41-1DE185D8EF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Mise en oeuv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Processus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 de plan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Contrôle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et améli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22"/>
          <p:cNvSpPr/>
          <p:nvPr/>
        </p:nvSpPr>
        <p:spPr>
          <a:xfrm rot="5400000">
            <a:off x="1218600" y="2286000"/>
            <a:ext cx="1523880" cy="76212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23"/>
          <p:cNvSpPr/>
          <p:nvPr/>
        </p:nvSpPr>
        <p:spPr>
          <a:xfrm rot="10800000">
            <a:off x="4114800" y="2743200"/>
            <a:ext cx="914400" cy="99072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24"/>
          <p:cNvSpPr/>
          <p:nvPr/>
        </p:nvSpPr>
        <p:spPr>
          <a:xfrm rot="5400000">
            <a:off x="6858000" y="2514600"/>
            <a:ext cx="1981440" cy="91440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31"/>
          <p:cNvGrpSpPr/>
          <p:nvPr/>
        </p:nvGrpSpPr>
        <p:grpSpPr>
          <a:xfrm>
            <a:off x="685800" y="3505320"/>
            <a:ext cx="2590920" cy="2361240"/>
            <a:chOff x="685800" y="3505320"/>
            <a:chExt cx="2590920" cy="2361240"/>
          </a:xfrm>
        </p:grpSpPr>
        <p:sp>
          <p:nvSpPr>
            <p:cNvPr id="160" name="AutoShape 30"/>
            <p:cNvSpPr/>
            <p:nvPr/>
          </p:nvSpPr>
          <p:spPr>
            <a:xfrm>
              <a:off x="685800" y="3505320"/>
              <a:ext cx="2590920" cy="236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1" name="_s8230"/>
            <p:cNvCxnSpPr>
              <a:stCxn id="162" idx="0"/>
              <a:endCxn id="163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4" name="_s8229"/>
            <p:cNvCxnSpPr>
              <a:stCxn id="165" idx="0"/>
              <a:endCxn id="163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6" name="_s8228"/>
            <p:cNvCxnSpPr>
              <a:stCxn id="167" idx="0"/>
              <a:endCxn id="163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3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AutoShape 39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Direction, Rôles de 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1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Verdana"/>
              </a:rPr>
              <a:t>Structure</a:t>
            </a:r>
            <a:br>
              <a:rPr sz="1600"/>
            </a:br>
            <a:r>
              <a:rPr b="1" lang="fr-FR" sz="1600" spc="-1" strike="noStrike">
                <a:solidFill>
                  <a:srgbClr val="ffffff"/>
                </a:solidFill>
                <a:latin typeface="Verdana"/>
              </a:rPr>
              <a:t> organisationn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2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3"/>
          <p:cNvSpPr/>
          <p:nvPr/>
        </p:nvSpPr>
        <p:spPr>
          <a:xfrm rot="5400000">
            <a:off x="5520960" y="1946160"/>
            <a:ext cx="838080" cy="75564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44"/>
          <p:cNvSpPr/>
          <p:nvPr/>
        </p:nvSpPr>
        <p:spPr>
          <a:xfrm rot="5400000">
            <a:off x="4495680" y="4495680"/>
            <a:ext cx="1143000" cy="175248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C4296-F400-4DD2-B9E8-D582A1F1B8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181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ptitude à diri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exerçant un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utorité responsabl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motivant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t donnant une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influençant et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courageant l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ersonnel pour d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bonnes perform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6" descr="10031_lores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C5C32-1F45-4631-8BC0-CD25AD138C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sponsabilités des dirige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ise en oeuvre et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mélioration continue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u système de gestion de la qualité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ocumenter et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mmuniquer à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out le personnel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ournir un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anuel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9" descr="a_19"/>
          <p:cNvPicPr/>
          <p:nvPr/>
        </p:nvPicPr>
        <p:blipFill>
          <a:blip r:embed="rId1"/>
          <a:stretch/>
        </p:blipFill>
        <p:spPr>
          <a:xfrm>
            <a:off x="3733920" y="2666880"/>
            <a:ext cx="502920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4DC67-37D1-4124-B01D-6C7C559C54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4" descr="j0385407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ngagement de la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Black"/>
              </a:rPr>
              <a:t>Ministère de la San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5181480" y="1219320"/>
            <a:ext cx="3276720" cy="82548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Gestion financi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2" descr="supplier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90" name="Picture 23" descr="j0216070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1" descr="head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192" name="PubOvalCallout"/>
          <p:cNvSpPr/>
          <p:nvPr/>
        </p:nvSpPr>
        <p:spPr>
          <a:xfrm rot="16200000">
            <a:off x="4038480" y="3885840"/>
            <a:ext cx="2057400" cy="34290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unions du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16BF3-4F2B-469E-B802-B25A94651F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ructure Organisationnel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609480" y="1447920"/>
            <a:ext cx="777240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une structure de travail qui assure un flux suffisant dans toutes les parties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igner rôles et responsabil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velopper un organi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signer un responsable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llouer des ressources suffis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8T13:01:43Z</dcterms:modified>
  <cp:revision>132</cp:revision>
  <dc:subject/>
  <dc:title>Slide 1</dc:title>
</cp:coreProperties>
</file>