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1.png" ContentType="image/png"/>
  <Override PartName="/ppt/media/image19.jpeg" ContentType="image/jpeg"/>
  <Override PartName="/ppt/media/image42.jpeg" ContentType="image/jpeg"/>
  <Override PartName="/ppt/media/image26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25.wmf" ContentType="image/x-wmf"/>
  <Override PartName="/ppt/media/image8.jpeg" ContentType="image/jpeg"/>
  <Override PartName="/ppt/media/image43.jpeg" ContentType="image/jpeg"/>
  <Override PartName="/ppt/media/image5.png" ContentType="image/png"/>
  <Override PartName="/ppt/media/image30.wmf" ContentType="image/x-wmf"/>
  <Override PartName="/ppt/media/image6.jpeg" ContentType="image/jpeg"/>
  <Override PartName="/ppt/media/image32.png" ContentType="image/png"/>
  <Override PartName="/ppt/media/image34.wmf" ContentType="image/x-wmf"/>
  <Override PartName="/ppt/media/image35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37.wmf" ContentType="image/x-wmf"/>
  <Override PartName="/ppt/media/image39.wmf" ContentType="image/x-wmf"/>
  <Override PartName="/ppt/media/image41.png" ContentType="image/png"/>
  <Override PartName="/ppt/media/image40.jpeg" ContentType="image/jpeg"/>
  <Override PartName="/ppt/media/image44.jpeg" ContentType="image/jpeg"/>
  <Override PartName="/ppt/media/image36.wmf" ContentType="image/x-wmf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31.wmf" ContentType="image/x-wmf"/>
  <Override PartName="/ppt/media/image7.jpeg" ContentType="image/jpeg"/>
  <Override PartName="/ppt/media/image23.wmf" ContentType="image/x-wmf"/>
  <Override PartName="/ppt/media/image28.jpeg" ContentType="image/jpeg"/>
  <Override PartName="/ppt/media/image38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A00F12-048B-423E-B108-89B4B2AA4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29024D-5B41-4E2A-BD31-BD67C0657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A1176E-D54F-4158-ACA1-9D86C2846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FD7FCC-5D7B-43A3-8003-AC4BFF852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22BBF3-B54B-4AC1-A573-0885507C9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2119E1-A450-4927-84B2-BE38F4289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93F846-FF25-48C5-8777-47023D445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B600DE-0B55-474D-9A40-7A80ABE8F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030871-E365-4857-A2D9-158D83999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031DB4-69CC-4229-8071-113BA0A5B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D96AE8-85C1-4621-9758-FD89C5550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35DE8D-931E-480B-8C11-CCE24BD8F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CAEEFA-F664-4563-BD0E-F86FCA625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DE3D2B-133C-4885-912B-E966875CD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A20045-13CE-44D5-93B5-31090BFF9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E9E8FF-75B6-493E-B593-EA0B4E317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1C2B10-8E08-41D8-9DBE-538AE470C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452BC3-5B23-4BC9-9778-30B339361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534D14-224A-456D-AA81-CEFA9C6ED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6FA9F8-5433-44C7-B6DD-7700299AD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4061A2-23D6-417A-85D0-74949B68F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2466CF-4DB9-41C3-A902-8796B93B7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F7153D-5E51-4962-8765-FEBA8A10E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261754-E3D7-43D1-9C5A-3149B3F2A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18EBDC-694C-435F-8F3B-5E146539B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F2A76-DB78-4A53-9BD9-C9B35CDA44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3BF41-108F-4D84-91AE-D894B97EB9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4AC46-6BC5-4ED9-B0CC-777A23F08C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ACD93-21B8-4E21-B275-190D3408CC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F5E5-D555-48AD-BFBE-BE4A3A622F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9B0C-178C-4A31-9B81-ACD3F64CDD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0063-9C65-4344-BF49-1ED4A4512F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E102-D273-447D-B808-D266B194C5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E875-EC3C-4712-AD04-A051BAC4B5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E6B3-2695-4186-A096-6C0A28AE6A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0CFA-F9D6-4F0C-BFF3-A9B0B38222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3A489-8EDA-42FE-9877-CC0678FB7F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0F6C-59D1-42E7-BA20-597456AD0E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3DC6-0D68-4302-B300-6706735FD7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4D4F-D54B-44A4-A0E2-132F3061ED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504D-1444-4617-A9B2-AA2B6E988A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26D3-0EB7-42E3-B1D5-BE956D9FC7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8A602-22F5-4683-9D81-115AF90B81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7F653-D66F-4B9C-BF4F-2398365D7F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F9202-EDE1-4BDF-B682-4A3A0056B5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4E902-CDD5-46EE-9288-7738BFA5FA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5AD9E-D2D8-4D5E-B380-E4F01B32D3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26DDE-2F6D-446A-A463-E93BC442C5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194FD-C598-4293-BF2E-908053355C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DB0B-B580-4C99-8049-FF2FB4272A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C5B1-1C00-406B-AD29-C8DA8C86FA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28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Organis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05BA-5B9C-47E3-9936-A962388C57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04920" y="3808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Cheminement de l’échant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7" descr="Capture3"/>
          <p:cNvPicPr/>
          <p:nvPr/>
        </p:nvPicPr>
        <p:blipFill>
          <a:blip r:embed="rId1"/>
          <a:srcRect l="0" t="16987" r="0" b="0"/>
          <a:stretch/>
        </p:blipFill>
        <p:spPr>
          <a:xfrm>
            <a:off x="228600" y="1523880"/>
            <a:ext cx="8381880" cy="37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0940-16FC-45A8-921B-E28E0F3075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3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Organization Chart 3"/>
          <p:cNvGrpSpPr/>
          <p:nvPr/>
        </p:nvGrpSpPr>
        <p:grpSpPr>
          <a:xfrm>
            <a:off x="380880" y="1935000"/>
            <a:ext cx="6172200" cy="3773520"/>
            <a:chOff x="380880" y="1935000"/>
            <a:chExt cx="6172200" cy="3773520"/>
          </a:xfrm>
        </p:grpSpPr>
        <p:sp>
          <p:nvSpPr>
            <p:cNvPr id="205" name="AutoShape 4"/>
            <p:cNvSpPr/>
            <p:nvPr/>
          </p:nvSpPr>
          <p:spPr>
            <a:xfrm>
              <a:off x="380880" y="1935000"/>
              <a:ext cx="6172200" cy="37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6" name="_s1029"/>
            <p:cNvCxnSpPr>
              <a:stCxn id="207" idx="1"/>
              <a:endCxn id="208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09" name="_s1031"/>
            <p:cNvCxnSpPr>
              <a:stCxn id="210" idx="3"/>
              <a:endCxn id="208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1" name="_s1032"/>
            <p:cNvCxnSpPr>
              <a:stCxn id="208" idx="0"/>
              <a:endCxn id="212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3" name="_s1034"/>
            <p:cNvCxnSpPr>
              <a:stCxn id="214" idx="0"/>
              <a:endCxn id="215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6" name="_s1035"/>
            <p:cNvCxnSpPr>
              <a:stCxn id="212" idx="0"/>
              <a:endCxn id="215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15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Directeur</a:t>
              </a:r>
              <a:br>
                <a:rPr sz="2200"/>
              </a:b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 laboratoi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Biologis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 respons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Responsable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 qualité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en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Line 40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2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4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5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 surveil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6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7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50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Directeur d’hô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7E86-A5B4-4DB2-A964-4CE3CFB049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xigence ISO15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responsabilité et l’autorité pour supervis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apporte directement aux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j0240719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4A46-EE45-4F35-912A-194073B824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u 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trôler 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ur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oir tous les regis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et coordonner l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hercher les défic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former les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74F4-28B3-42FB-A405-A53E0416CE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approches varien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elon la situation lo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nombreux facteur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fluencent le poin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dé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lure tous les élément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ns l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ut être mis en oeuv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r é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5" descr="MCBD07022_0000[1]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289A-4E17-4BF4-AF60-E16356EA3D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MCj00905430000[1]"/>
          <p:cNvPicPr/>
          <p:nvPr/>
        </p:nvPicPr>
        <p:blipFill>
          <a:blip r:embed="rId1"/>
          <a:srcRect l="45571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Gardez à l’espr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muniquer, soyez trans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des échéanc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ais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des objectif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 et mesu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priorités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er par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2E1A-6F3D-48AD-9E93-A981F6112E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0" descr="19_gap_analysis"/>
          <p:cNvPicPr/>
          <p:nvPr/>
        </p:nvPicPr>
        <p:blipFill>
          <a:blip r:embed="rId1"/>
          <a:stretch/>
        </p:blipFill>
        <p:spPr>
          <a:xfrm>
            <a:off x="5181480" y="2666880"/>
            <a:ext cx="3733920" cy="2880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5960" y="13716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r les carences en utilisant une check-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une list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e tâ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des priorité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bord ce qui peu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être résolu rapid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er ce qui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ra le plus d’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duire une analyse des carences (Gap analysis)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4876920" y="21337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Analyse des carence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60CB-588B-4CE1-A505-9692D8612D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 des ca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oblèmes couramment identifié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emande d’analy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’échantill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iveau de formation du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sonnel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trôl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ocessus analy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nregistrement et compte-rendu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réactifs et de l’équipement demande 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MCj03983870000[1]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2312-0182-45D7-B56F-E875CFA667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daction du plan qui devrait contenir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e qui devrait être f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i sera respons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and (calendri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essources nécess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points de réfé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304920" y="5105520"/>
            <a:ext cx="868680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doit être disponible pour tout le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E018-C30B-4F7D-873C-8F1223C7C7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MCj04325520000[1]"/>
          <p:cNvPicPr/>
          <p:nvPr/>
        </p:nvPicPr>
        <p:blipFill>
          <a:blip r:embed="rId1"/>
          <a:stretch/>
        </p:blipFill>
        <p:spPr>
          <a:xfrm>
            <a:off x="5867280" y="3886200"/>
            <a:ext cx="3124440" cy="33526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engager à term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parer une mise en oeuvre par ét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s ressources sont dispon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un 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chacun connait s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uis al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3124080" y="6156360"/>
            <a:ext cx="350532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commen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22A7-5D72-4A46-954C-4CC6B843C2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 les participants seront en mesure d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crire les éléments organisationnels nécessaires à un système de gestion de la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scuter  les rôles et les responsabilités dans un système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e processus de conception, de mise en œuvre, de maintenance et d’amélioration du système qualité au laborato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’intérêt d’un 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4B83-F3F8-43F1-BD9F-392E54B897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19_gnatt_chart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B8A1-4CDC-4401-B9EC-D4A8E62050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Fournir des res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xigences financière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soins du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sonnel supplémenta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pétences, formation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stallations, équipement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, ordin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MCj01570510000[1]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pipetting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j0195384"/>
          <p:cNvPicPr/>
          <p:nvPr/>
        </p:nvPicPr>
        <p:blipFill>
          <a:blip r:embed="rId3"/>
          <a:stretch/>
        </p:blipFill>
        <p:spPr>
          <a:xfrm>
            <a:off x="5867280" y="4419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BD2E-F2BF-4F69-8A72-570DF0B2F9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6" descr="j0386161"/>
          <p:cNvPicPr/>
          <p:nvPr/>
        </p:nvPicPr>
        <p:blipFill>
          <a:blip r:embed="rId1"/>
          <a:stretch/>
        </p:blipFill>
        <p:spPr>
          <a:xfrm>
            <a:off x="6915240" y="1905120"/>
            <a:ext cx="2228760" cy="335268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conform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igner l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des indicateu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tablir un système de 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d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2" descr="MCj02120510000[1]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9519-003E-444F-B38A-15D5631B73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 Inte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meeting_asia_1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F8BF-0AED-4303-A07C-D9BB553171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685800" y="457200"/>
            <a:ext cx="67057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e manuel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ocument qui décrit entièrement le système de gestion de la qualité d’une organis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pe essenti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sponsabilité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0" descr="manuals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C39A-EACC-4C1A-BC5C-1DD89D3847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unique l’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rt de cadre pour répondre aux exigences du systèm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montre l’engagement de la direction dans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E20A-B8A7-4BA7-8138-51CBB4152C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1" descr="MCPE07250_0000[1]"/>
          <p:cNvPicPr/>
          <p:nvPr/>
        </p:nvPicPr>
        <p:blipFill>
          <a:blip r:embed="rId1"/>
          <a:stretch/>
        </p:blipFill>
        <p:spPr>
          <a:xfrm>
            <a:off x="4419720" y="342900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enir à jour le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mmunique les lignes de condu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oit être approuvé par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quiert une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ise j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MCj04099450000[1]"/>
          <p:cNvPicPr/>
          <p:nvPr/>
        </p:nvPicPr>
        <p:blipFill>
          <a:blip r:embed="rId2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A916-AD7E-439E-B25A-21E454D21A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ne mise en oeuvre réussie requi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l’engagement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comprendre les bénéfices d’un système de gestion de la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engager le personnel à tous les nive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ayer d’améliorer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inuel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des attent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2" descr="meeting_africa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ce réservé du pied de page 2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3A79-61B1-48D1-B466-010F0A0DD3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0" descr="MCDD01419_0000[1]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8" descr="MCj02927140000[1]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5" descr="MCBS01762_0000[1]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6" descr="MCj03636380000[1]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16" name="Group 23"/>
          <p:cNvGrpSpPr/>
          <p:nvPr/>
        </p:nvGrpSpPr>
        <p:grpSpPr>
          <a:xfrm>
            <a:off x="4800600" y="2133720"/>
            <a:ext cx="4800600" cy="4390920"/>
            <a:chOff x="4800600" y="2133720"/>
            <a:chExt cx="4800600" cy="4390920"/>
          </a:xfrm>
        </p:grpSpPr>
        <p:sp>
          <p:nvSpPr>
            <p:cNvPr id="317" name="AutoShape 22"/>
            <p:cNvSpPr/>
            <p:nvPr/>
          </p:nvSpPr>
          <p:spPr>
            <a:xfrm>
              <a:off x="4800600" y="2133720"/>
              <a:ext cx="4800600" cy="43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195610"/>
            <p:cNvSpPr/>
            <p:nvPr/>
          </p:nvSpPr>
          <p:spPr>
            <a:xfrm>
              <a:off x="6339600" y="2752200"/>
              <a:ext cx="1722960" cy="2397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195611"/>
            <p:cNvSpPr/>
            <p:nvPr/>
          </p:nvSpPr>
          <p:spPr>
            <a:xfrm rot="7200000">
              <a:off x="6238080" y="3655800"/>
              <a:ext cx="2397600" cy="17233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195613"/>
            <p:cNvSpPr/>
            <p:nvPr/>
          </p:nvSpPr>
          <p:spPr>
            <a:xfrm rot="14400000">
              <a:off x="5767200" y="3658680"/>
              <a:ext cx="2397600" cy="17229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Picture 34" descr="bd20208_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5" descr="MCj04247500000[1]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36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7" descr="MCj02120510000[1]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38"/>
          <p:cNvSpPr/>
          <p:nvPr/>
        </p:nvSpPr>
        <p:spPr>
          <a:xfrm>
            <a:off x="152280" y="533520"/>
            <a:ext cx="381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6687-E2B9-45DF-A728-DABD4192C8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ssigner la responsabilité de la mise en pl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llouer des ressourc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velopper et distribuer un manuel qualité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mmencer la mise en place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trôler la conformité à la politique qualité et aux exigences du système de gestion de la quali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74C3-F7E7-4A1D-9510-A193DD65FA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A674-9A1C-46B6-9475-01F2D48A87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8" descr="MCj03963580000[1]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appelez v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Qualité n’est pas une science, c’est une manière de pen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temps investi aujourd’hui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ermettra d’obten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résultats de qualité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efficacité cert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satisfaction personnelle et professionnelle 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reconnaissance de vos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0C13-348F-433E-B6C6-0AA7D3A52B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i est responsable de la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6" descr="CamPic394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7" descr="small_group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7285_lores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3" descr="meeting_asia_1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4" descr="equip_calibrate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5" descr="uniocular_mic_cdc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Chacun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AF83-B531-4442-8C6B-BA8537FADF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638320" y="1904760"/>
            <a:ext cx="3505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65" descr="bulles_def"/>
          <p:cNvPicPr/>
          <p:nvPr/>
        </p:nvPicPr>
        <p:blipFill>
          <a:blip r:embed="rId1"/>
          <a:stretch/>
        </p:blipFill>
        <p:spPr>
          <a:xfrm>
            <a:off x="380880" y="1066680"/>
            <a:ext cx="486756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B126-940E-49DE-8D9E-989C57E7A2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9"/>
          <p:cNvGrpSpPr/>
          <p:nvPr/>
        </p:nvGrpSpPr>
        <p:grpSpPr>
          <a:xfrm>
            <a:off x="3657600" y="3581280"/>
            <a:ext cx="3962520" cy="2079360"/>
            <a:chOff x="3657600" y="3581280"/>
            <a:chExt cx="3962520" cy="2079360"/>
          </a:xfrm>
        </p:grpSpPr>
        <p:sp>
          <p:nvSpPr>
            <p:cNvPr id="140" name="AutoShape 18"/>
            <p:cNvSpPr/>
            <p:nvPr/>
          </p:nvSpPr>
          <p:spPr>
            <a:xfrm>
              <a:off x="3657600" y="3581280"/>
              <a:ext cx="3962520" cy="20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" name="_s7194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7193"/>
            <p:cNvCxnSpPr>
              <a:stCxn id="145" idx="0"/>
              <a:endCxn id="14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" name="_s7192"/>
            <p:cNvCxnSpPr>
              <a:stCxn id="147" idx="0"/>
              <a:endCxn id="14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ssentiel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124080" y="1295280"/>
            <a:ext cx="57913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gagement pour une gestion soigneuse du systè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ne structure organisée conçue pour atteindre les objectifs de qual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MPj04017350000[1]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EDBA-BDDE-41C2-9A7B-C599D2CC49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ise en oe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rocessu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de pla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Contrôl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et améli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2"/>
          <p:cNvSpPr/>
          <p:nvPr/>
        </p:nvSpPr>
        <p:spPr>
          <a:xfrm rot="5400000">
            <a:off x="1218600" y="2286000"/>
            <a:ext cx="1523880" cy="7621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3"/>
          <p:cNvSpPr/>
          <p:nvPr/>
        </p:nvSpPr>
        <p:spPr>
          <a:xfrm rot="10800000">
            <a:off x="4114800" y="2743200"/>
            <a:ext cx="914400" cy="9907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4"/>
          <p:cNvSpPr/>
          <p:nvPr/>
        </p:nvSpPr>
        <p:spPr>
          <a:xfrm rot="5400000">
            <a:off x="6858000" y="2514600"/>
            <a:ext cx="1981440" cy="91440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31"/>
          <p:cNvGrpSpPr/>
          <p:nvPr/>
        </p:nvGrpSpPr>
        <p:grpSpPr>
          <a:xfrm>
            <a:off x="685800" y="3505320"/>
            <a:ext cx="2590920" cy="2361240"/>
            <a:chOff x="685800" y="3505320"/>
            <a:chExt cx="2590920" cy="2361240"/>
          </a:xfrm>
        </p:grpSpPr>
        <p:sp>
          <p:nvSpPr>
            <p:cNvPr id="160" name="AutoShape 30"/>
            <p:cNvSpPr/>
            <p:nvPr/>
          </p:nvSpPr>
          <p:spPr>
            <a:xfrm>
              <a:off x="685800" y="3505320"/>
              <a:ext cx="2590920" cy="23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" name="_s8230"/>
            <p:cNvCxnSpPr>
              <a:stCxn id="162" idx="0"/>
              <a:endCxn id="163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8229"/>
            <p:cNvCxnSpPr>
              <a:stCxn id="165" idx="0"/>
              <a:endCxn id="163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6" name="_s8228"/>
            <p:cNvCxnSpPr>
              <a:stCxn id="167" idx="0"/>
              <a:endCxn id="163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3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AutoShape 39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Direction, Rôles de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1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Structur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 organis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2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3"/>
          <p:cNvSpPr/>
          <p:nvPr/>
        </p:nvSpPr>
        <p:spPr>
          <a:xfrm rot="5400000">
            <a:off x="5520960" y="1946160"/>
            <a:ext cx="838080" cy="75564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4"/>
          <p:cNvSpPr/>
          <p:nvPr/>
        </p:nvSpPr>
        <p:spPr>
          <a:xfrm rot="5400000">
            <a:off x="4495680" y="4495680"/>
            <a:ext cx="1143000" cy="175248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D519-2A09-451F-8C28-25B6207FA9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ptitude à diri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exerçant un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torité responsab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motivan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 donnant une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influençant e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courageant 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ersonnel pour d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onnes perform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6" descr="10031_lores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9BE9-5A77-4914-8688-455A011F85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es dirige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ise en oeuvre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mélioration continu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u système de gestion de la qualité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ocumenter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muniquer à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out le personnel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nir un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9" descr="a_19"/>
          <p:cNvPicPr/>
          <p:nvPr/>
        </p:nvPicPr>
        <p:blipFill>
          <a:blip r:embed="rId1"/>
          <a:stretch/>
        </p:blipFill>
        <p:spPr>
          <a:xfrm>
            <a:off x="3733920" y="2666880"/>
            <a:ext cx="50292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638D-5E40-4024-BE26-0BC2AC0D3C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4" descr="j0385407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ngagement de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Black"/>
              </a:rPr>
              <a:t>Ministère de la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5181480" y="1219320"/>
            <a:ext cx="3276720" cy="82548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Gestion financ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2" descr="supplier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0" name="Picture 23" descr="j0216070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1" descr="head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192" name="PubOvalCallout"/>
          <p:cNvSpPr/>
          <p:nvPr/>
        </p:nvSpPr>
        <p:spPr>
          <a:xfrm rot="16200000">
            <a:off x="4038480" y="3885840"/>
            <a:ext cx="2057400" cy="3429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unions du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A252-2BBA-4E33-A4A8-E727C1E80C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Organisationne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09480" y="1447920"/>
            <a:ext cx="77724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e structure de travail qui assure un flux suffisant dans toutes les parties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igner rôles et responsabil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un organi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signer un responsabl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llouer des ressources suffis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3:01:43Z</dcterms:modified>
  <cp:revision>132</cp:revision>
  <dc:subject/>
  <dc:title>Slide 1</dc:title>
</cp:coreProperties>
</file>