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wmf" ContentType="image/x-wmf"/>
  <Override PartName="/ppt/media/image20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34.wmf" ContentType="image/x-wmf"/>
  <Override PartName="/ppt/media/image13.jpeg" ContentType="image/jpeg"/>
  <Override PartName="/ppt/media/image3.jpeg" ContentType="image/jpeg"/>
  <Override PartName="/ppt/media/image8.png" ContentType="image/png"/>
  <Override PartName="/ppt/media/image38.png" ContentType="image/png"/>
  <Override PartName="/ppt/media/image30.jpeg" ContentType="image/jpeg"/>
  <Override PartName="/ppt/media/image37.wmf" ContentType="image/x-wmf"/>
  <Override PartName="/ppt/media/image9.wmf" ContentType="image/x-wmf"/>
  <Override PartName="/ppt/media/image39.wmf" ContentType="image/x-wmf"/>
  <Override PartName="/ppt/media/image32.jpeg" ContentType="image/jpeg"/>
  <Override PartName="/ppt/media/image33.wmf" ContentType="image/x-wmf"/>
  <Override PartName="/ppt/media/image12.jpeg" ContentType="image/jpeg"/>
  <Override PartName="/ppt/media/image11.png" ContentType="image/png"/>
  <Override PartName="/ppt/media/image31.png" ContentType="image/png"/>
  <Override PartName="/ppt/media/image29.wmf" ContentType="image/x-wmf"/>
  <Override PartName="/ppt/media/image10.wmf" ContentType="image/x-wmf"/>
  <Override PartName="/ppt/media/image4.jpeg" ContentType="image/jpeg"/>
  <Override PartName="/ppt/media/image19.jpeg" ContentType="image/jpeg"/>
  <Override PartName="/ppt/media/image25.png" ContentType="image/png"/>
  <Override PartName="/ppt/media/image35.gif" ContentType="image/gif"/>
  <Override PartName="/ppt/media/image7.jpeg" ContentType="image/jpeg"/>
  <Override PartName="/ppt/media/image28.jpeg" ContentType="image/jpeg"/>
  <Override PartName="/ppt/media/image6.png" ContentType="image/png"/>
  <Override PartName="/ppt/media/image36.png" ContentType="image/png"/>
  <Override PartName="/ppt/media/image2.jpeg" ContentType="image/jpeg"/>
  <Override PartName="/ppt/media/image23.jpeg" ContentType="image/jpeg"/>
  <Override PartName="/ppt/media/image5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6690-184F-45A4-938C-C18F5A45D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110C-6E0F-41C1-BB92-FFA502800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8D2B-5743-49C9-B469-044BF459B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7E2F-5688-43CF-86C2-970D51FA1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ECBF-D5C6-4946-8AD0-362D96788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9AA2-0BD9-48FF-8481-3D0A08EF9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5FCF-9E9E-4088-BF72-FF2EBB105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40F1-01CA-4340-BB91-431E34E7B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08C7-64EC-4024-8733-AA40BEFAD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7E90-1B91-4AA7-A746-8C88C4E43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DAB1-C8B2-4790-85A9-4D9EEA4D3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45DA-A84A-43A7-AB4D-8E3B8169F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A37B-838E-4B7C-AEBC-D7A212AD8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BEC0-78BB-41C2-AE19-11FDB68C1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7642-C80D-47EC-A94E-5C37D5100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34BB-C130-48F4-88FD-78D6BEE48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1219-598C-42BC-88D0-22AF52CF0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C531-C740-404A-8FD5-C81691FBB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C0B3-DE76-4E34-8A24-5774FED48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C2F9E-B024-4466-9784-4773B5CE12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DEBBC-9AA0-4D2B-BC51-6EC05A58B2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834F5-675E-427B-8C4F-44E8DD75F1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10A68-48A5-49C8-A1F6-0FF33B51C2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FFC15-4233-45BB-B342-70306DEAFA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5BDBE-A572-466A-87DD-DD1614CB86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4204C-217B-435A-9153-5E4EC525A8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3E9EF-A27A-47A8-B314-9EA72631F3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FD3D5-CADA-4E07-BD79-1FEEC05DAB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13AA3-BF55-4783-BE24-E22632935D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99C61-C0B4-4D23-8AC7-E39FEC2094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EA0E9-F7D2-40EA-83F0-CEE24E3A49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E07B-3BC4-4261-A2A3-75C9018056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gif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6.png"/><Relationship Id="rId10" Type="http://schemas.openxmlformats.org/officeDocument/2006/relationships/image" Target="../media/image36.png"/><Relationship Id="rId11" Type="http://schemas.openxmlformats.org/officeDocument/2006/relationships/image" Target="../media/image37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9.wmf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16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Gestion de l’in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1089-9E4A-4CF9-9DF1-1446F1E9D5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gistres/feuilles de travail et processus de vérific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8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0" descr="5_req_form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33"/>
          <p:cNvSpPr/>
          <p:nvPr/>
        </p:nvSpPr>
        <p:spPr>
          <a:xfrm rot="5400000">
            <a:off x="4419720" y="2666880"/>
            <a:ext cx="83808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44A4-A40C-45C3-9A8C-8D8F997BBF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tection des donné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685800" y="1600200"/>
            <a:ext cx="693432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ystèmes pa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des matériaux du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ocker les registres prop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ystèmes informat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voir des sauvegardes régulières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8350-2BA7-404A-A426-ABBC29F901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téger la confidentialité / sécur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1" name="Picture 19" descr="j0178425"/>
          <p:cNvPicPr/>
          <p:nvPr/>
        </p:nvPicPr>
        <p:blipFill>
          <a:blip r:embed="rId1"/>
          <a:stretch/>
        </p:blipFill>
        <p:spPr>
          <a:xfrm>
            <a:off x="3657600" y="4608360"/>
            <a:ext cx="2590920" cy="17528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21"/>
          <p:cNvSpPr/>
          <p:nvPr/>
        </p:nvSpPr>
        <p:spPr>
          <a:xfrm>
            <a:off x="533520" y="1219320"/>
            <a:ext cx="807696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irecteur de laboratoire est responsables de la mise en place de lignes de conduite et de procédures pour :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téger l’intimité des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confidentialité des donné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3" descr="j0409031"/>
          <p:cNvPicPr/>
          <p:nvPr/>
        </p:nvPicPr>
        <p:blipFill>
          <a:blip r:embed="rId2"/>
          <a:stretch/>
        </p:blipFill>
        <p:spPr>
          <a:xfrm>
            <a:off x="1295280" y="459756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6" descr="MCj02506500000[1]"/>
          <p:cNvPicPr/>
          <p:nvPr/>
        </p:nvPicPr>
        <p:blipFill>
          <a:blip r:embed="rId3"/>
          <a:stretch/>
        </p:blipFill>
        <p:spPr>
          <a:xfrm>
            <a:off x="5334120" y="4684680"/>
            <a:ext cx="17985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D3AB-94AC-4942-92C4-D34C35CFEA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s de compte rendu des résultats d’analys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8" name="AutoShape 13"/>
          <p:cNvSpPr/>
          <p:nvPr/>
        </p:nvSpPr>
        <p:spPr>
          <a:xfrm>
            <a:off x="38088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2666880" y="2590920"/>
            <a:ext cx="4419720" cy="42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port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ilement compréh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457200" y="3200400"/>
            <a:ext cx="1447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Echantillon 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alyse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: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j0433870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8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resse: 1234 Littletown Road, Bergly Bay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9" descr="j0309628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BF28-181A-47BC-BBBF-6BBBFBCCC2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j0422773"/>
          <p:cNvPicPr/>
          <p:nvPr/>
        </p:nvPicPr>
        <p:blipFill>
          <a:blip r:embed="rId1"/>
          <a:stretch/>
        </p:blipFill>
        <p:spPr>
          <a:xfrm>
            <a:off x="6248520" y="4724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3" descr="j0151699"/>
          <p:cNvPicPr/>
          <p:nvPr/>
        </p:nvPicPr>
        <p:blipFill>
          <a:blip r:embed="rId2"/>
          <a:stretch/>
        </p:blipFill>
        <p:spPr>
          <a:xfrm>
            <a:off x="7162920" y="184464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évelopper un bon système pour communiquer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 sein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les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autre personnel soign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laboratoires de réfé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organismes offici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7086600" y="32925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Tekton Pro"/>
              </a:rPr>
              <a:t>Différentes équi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A5D8-60D9-4339-831C-71ADCFE9EC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5"/>
          <p:cNvGrpSpPr/>
          <p:nvPr/>
        </p:nvGrpSpPr>
        <p:grpSpPr>
          <a:xfrm>
            <a:off x="380880" y="533520"/>
            <a:ext cx="8381880" cy="5757480"/>
            <a:chOff x="380880" y="533520"/>
            <a:chExt cx="8381880" cy="5757480"/>
          </a:xfrm>
        </p:grpSpPr>
        <p:sp>
          <p:nvSpPr>
            <p:cNvPr id="255" name="AutoShape 4"/>
            <p:cNvSpPr/>
            <p:nvPr/>
          </p:nvSpPr>
          <p:spPr>
            <a:xfrm>
              <a:off x="380880" y="533520"/>
              <a:ext cx="8381880" cy="57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ystèm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informatiqu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incompatib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Erreurs de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transmis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onnées peu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organis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Archivage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médioc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Formulair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inadéqua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nsuffi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onné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ncomplè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AutoShape 21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3"/>
          <p:cNvSpPr/>
          <p:nvPr/>
        </p:nvSpPr>
        <p:spPr>
          <a:xfrm>
            <a:off x="3124080" y="28954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Problèmes cou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0C62-8C84-468E-BB0E-6EBD7E123D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manuel basé sur papi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6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0"/>
          <p:cNvSpPr/>
          <p:nvPr/>
        </p:nvSpPr>
        <p:spPr>
          <a:xfrm>
            <a:off x="457200" y="1219320"/>
            <a:ext cx="6095880" cy="60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equière des registres et des carnets bien conçu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atiques à utiliser et faciles à rempl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cilite la recherche de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i facilite la rédaction des compte-rendus et le résumé des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8" descr="j0408884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10BE-1697-4A37-9A28-35C7B570FB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304920" y="33526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Age pas enregi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6324480" y="54864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Nom du village pas enregi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dans la colonne vil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457200" y="3049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ntrée des donné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7433-1D2B-4CEF-B7EA-D1F97DCAF6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296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685800" y="3048120"/>
            <a:ext cx="259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Illisible- l’encre a traversé de l’autre côté de la feu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2"/>
          <p:cNvSpPr/>
          <p:nvPr/>
        </p:nvSpPr>
        <p:spPr>
          <a:xfrm>
            <a:off x="3657600" y="3733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Écriture ill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5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7784-D6E2-4F61-AD4C-E483C2AED8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manuel basé sur papi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compte-rendu est le produit primaire – rendez le professi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esoin d’une copie pour les arch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arder les registres dans un endroit sû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3B6A-095E-4287-95BD-5798EE44F8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 les participants seront en mesure de 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éléments importants d’un système de gestion de l’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pliquer quels sont les points à considérer lors de l’élaboration d’un système manuel d’information papier (non électroniqu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avantages et les inconvénients d’un système informatisé de gestion de l’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7D20-8832-449E-B956-2673B196DF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uts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uver un résult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cer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aluer les problèm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ègles utiles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garder tout pendant un certain tem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 un accès fac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un système logique de class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uméroter dans l’ordre chronolog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04920" y="45720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manuel basé sur papier –stock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3" descr="MCj02374610000[1]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14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BEB6-BF89-4FA0-8B16-5B792DF9A7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" descr="stack of records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mouse_cdc_hantavirus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6"/>
          <p:cNvSpPr/>
          <p:nvPr/>
        </p:nvSpPr>
        <p:spPr>
          <a:xfrm>
            <a:off x="1447920" y="4114800"/>
            <a:ext cx="2209680" cy="19051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1D96-E507-4A3A-AEB8-B402B8ACDB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informatis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ptions de logici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s développés localement sur la base de logiciels commercialement disponibles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s déjà développé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echercher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intenance du système informatique, sauvegar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cur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è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fidentia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raça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itesse, flexi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8" descr="j0285750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9" descr="j0205466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" descr="_twirling"/>
          <p:cNvPicPr/>
          <p:nvPr/>
        </p:nvPicPr>
        <p:blipFill>
          <a:blip r:embed="rId3"/>
          <a:stretch/>
        </p:blipFill>
        <p:spPr>
          <a:xfrm>
            <a:off x="6095880" y="6095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1" descr="_twirling"/>
          <p:cNvPicPr/>
          <p:nvPr/>
        </p:nvPicPr>
        <p:blipFill>
          <a:blip r:embed="rId4"/>
          <a:stretch/>
        </p:blipFill>
        <p:spPr>
          <a:xfrm>
            <a:off x="8229600" y="43434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2C77-3F76-4162-BEC6-2E07D1651C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2"/>
          <p:cNvGrpSpPr/>
          <p:nvPr/>
        </p:nvGrpSpPr>
        <p:grpSpPr>
          <a:xfrm>
            <a:off x="533520" y="609480"/>
            <a:ext cx="8304840" cy="5668560"/>
            <a:chOff x="533520" y="609480"/>
            <a:chExt cx="8304840" cy="5668560"/>
          </a:xfrm>
        </p:grpSpPr>
        <p:sp>
          <p:nvSpPr>
            <p:cNvPr id="331" name="AutoShape 3"/>
            <p:cNvSpPr/>
            <p:nvPr/>
          </p:nvSpPr>
          <p:spPr>
            <a:xfrm>
              <a:off x="533520" y="609480"/>
              <a:ext cx="8304840" cy="56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tégra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avec autr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Ges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financiè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ntrôl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’accè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race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nalys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l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tenda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race l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comp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rend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p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endu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isibl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étaill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’extrac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e données</a:t>
              </a: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é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d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erreurs 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1" name="Picture 29" descr="j0205582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Text Box 13"/>
          <p:cNvSpPr/>
          <p:nvPr/>
        </p:nvSpPr>
        <p:spPr>
          <a:xfrm>
            <a:off x="304920" y="4572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vant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1281-018F-4AAE-93B6-C5ED15E51F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2"/>
          <p:cNvGrpSpPr/>
          <p:nvPr/>
        </p:nvGrpSpPr>
        <p:grpSpPr>
          <a:xfrm>
            <a:off x="380880" y="533520"/>
            <a:ext cx="8457480" cy="5703480"/>
            <a:chOff x="380880" y="533520"/>
            <a:chExt cx="8457480" cy="5703480"/>
          </a:xfrm>
        </p:grpSpPr>
        <p:sp>
          <p:nvSpPr>
            <p:cNvPr id="356" name="AutoShape 3"/>
            <p:cNvSpPr/>
            <p:nvPr/>
          </p:nvSpPr>
          <p:spPr>
            <a:xfrm>
              <a:off x="380880" y="533520"/>
              <a:ext cx="8457480" cy="57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auvegardes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equi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ûts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chat et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dapta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à un nouveau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systè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Formation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emps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et arg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Picture 14" descr="MCj00787140000[1]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" name="Text Box 13"/>
          <p:cNvSpPr/>
          <p:nvPr/>
        </p:nvSpPr>
        <p:spPr>
          <a:xfrm>
            <a:off x="228600" y="5335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Inconvén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7" descr="j0205582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E73F-5C94-485D-806C-1071DADE0E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ème pour gérer les données entrantes et sortan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ème basé sur papier ou informatis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deux requièrent un cadre similaire, identifiants uniques, formulaires, registres et feuilles de travai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oût est un élément majeur du système informatisé.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639D-A48F-437A-8705-2464A7C768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bon système de gestion de l’information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que toutes les données – produit final du laboratoire – sont bien gér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visagera, lors de la planification, toutes les modalités d’utilisation des donn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l’accessibilité, l’exactitude, l’à propos et la sécurité des donn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la confidentialité des données et l’intimité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3D7C-7E3D-41DA-91A4-CC350B10C2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486040" y="1980720"/>
            <a:ext cx="3505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63" descr="bulles_def"/>
          <p:cNvPicPr/>
          <p:nvPr/>
        </p:nvPicPr>
        <p:blipFill>
          <a:blip r:embed="rId1"/>
          <a:stretch/>
        </p:blipFill>
        <p:spPr>
          <a:xfrm>
            <a:off x="457200" y="114300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F75C-9BF6-4F98-A9EE-4CAE6A177A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« Vous gérez un laboratoire pour un hôpital de 300 lits et l’administrateur vous a informé que des fonds étaient disponibles pour acheter un système de gestion de laboratoire informatisé. 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mment évalueriez vous la pertinence d’un tel système pour le laboratoire?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DAB6-8B3F-45C4-B674-40FDF74D08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39" name="Picture 145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678C-449C-48DF-B09F-9FCF4F3309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ôle dans 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533520" y="12952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911"/>
                </a:solidFill>
                <a:latin typeface="Verdana"/>
                <a:ea typeface="SimSun"/>
              </a:rPr>
              <a:t>Le résultat d’analyse est le produit final du 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1447920" y="40384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752480" y="48006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compte-rendu de la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j0433870"/>
          <p:cNvPicPr/>
          <p:nvPr/>
        </p:nvPicPr>
        <p:blipFill>
          <a:blip r:embed="rId1"/>
          <a:stretch/>
        </p:blipFill>
        <p:spPr>
          <a:xfrm>
            <a:off x="1828800" y="4267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elderly_patient_doc"/>
          <p:cNvPicPr/>
          <p:nvPr/>
        </p:nvPicPr>
        <p:blipFill>
          <a:blip r:embed="rId2"/>
          <a:stretch/>
        </p:blipFill>
        <p:spPr>
          <a:xfrm>
            <a:off x="5791320" y="34290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3"/>
          <p:cNvSpPr/>
          <p:nvPr/>
        </p:nvSpPr>
        <p:spPr>
          <a:xfrm>
            <a:off x="4038480" y="4876920"/>
            <a:ext cx="2514600" cy="9144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5161-56DC-429F-8524-3BE0BFED71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8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Gestion de l’inform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8" descr="MCj01885290000[1]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0" descr="MCj01885270000[1]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1"/>
          <p:cNvSpPr/>
          <p:nvPr/>
        </p:nvSpPr>
        <p:spPr>
          <a:xfrm>
            <a:off x="609480" y="2438280"/>
            <a:ext cx="1600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Basé sur pa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2"/>
          <p:cNvSpPr/>
          <p:nvPr/>
        </p:nvSpPr>
        <p:spPr>
          <a:xfrm>
            <a:off x="457200" y="58672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lectro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4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tablir des processus pour gérer les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9"/>
          <p:cNvSpPr/>
          <p:nvPr/>
        </p:nvSpPr>
        <p:spPr>
          <a:xfrm>
            <a:off x="2438280" y="37018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Information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0"/>
          <p:cNvSpPr/>
          <p:nvPr/>
        </p:nvSpPr>
        <p:spPr>
          <a:xfrm rot="5400000">
            <a:off x="-1486440" y="2933640"/>
            <a:ext cx="4038840" cy="762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1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2"/>
          <p:cNvSpPr/>
          <p:nvPr/>
        </p:nvSpPr>
        <p:spPr>
          <a:xfrm>
            <a:off x="5257800" y="3429000"/>
            <a:ext cx="3124080" cy="35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port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û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fident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i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3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4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6" descr="j0433870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1B77-642F-4A67-BA48-EBD7F1860A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8"/>
          <p:cNvGrpSpPr/>
          <p:nvPr/>
        </p:nvGrpSpPr>
        <p:grpSpPr>
          <a:xfrm>
            <a:off x="228600" y="609480"/>
            <a:ext cx="8686440" cy="5714640"/>
            <a:chOff x="228600" y="609480"/>
            <a:chExt cx="8686440" cy="5714640"/>
          </a:xfrm>
        </p:grpSpPr>
        <p:sp>
          <p:nvSpPr>
            <p:cNvPr id="170" name="AutoShape 7"/>
            <p:cNvSpPr/>
            <p:nvPr/>
          </p:nvSpPr>
          <p:spPr>
            <a:xfrm>
              <a:off x="228600" y="609480"/>
              <a:ext cx="8686440" cy="57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br>
                <a:rPr sz="2100"/>
              </a:br>
              <a:r>
                <a:rPr b="0" lang="fr-FR" sz="2100" spc="-1" strike="noStrike">
                  <a:solidFill>
                    <a:srgbClr val="000000"/>
                  </a:solidFill>
                  <a:latin typeface="Verdana"/>
                </a:rPr>
                <a:t>efficac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Système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compte rendu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efficac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Confidentie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Protection des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donné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Processus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vérifica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Registres,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feuilles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travai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Formulaire de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demande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standardis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Identifiant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patients,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échantillon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un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26"/>
          <p:cNvSpPr/>
          <p:nvPr/>
        </p:nvSpPr>
        <p:spPr>
          <a:xfrm>
            <a:off x="3124080" y="2590920"/>
            <a:ext cx="312444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Éléments Import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BB23-8291-4345-B4A9-EE4C5BE1D3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Identifiants uni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3352680"/>
            <a:ext cx="91440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laboratoires doivent assigner des identifiants uniques aux échantillon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de: AAMMJJXXXX - 0905120047 signifie échantillon n° 47 reçu le 12 mai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12" descr="patient-wristband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Test_Bracket_patient-safety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4"/>
          <p:cNvSpPr/>
          <p:nvPr/>
        </p:nvSpPr>
        <p:spPr>
          <a:xfrm>
            <a:off x="2819520" y="1523880"/>
            <a:ext cx="243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ant du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6E56-FF99-4CA7-8B1B-7667C16A7B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1" descr="5_sample_reqs"/>
          <p:cNvPicPr/>
          <p:nvPr/>
        </p:nvPicPr>
        <p:blipFill>
          <a:blip r:embed="rId1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Formulaire de demande d’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Line 14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AutoShape 18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2" name="Group 19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03" name="Group 20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04" name="Picture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5" name="Group 22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06" name="Line 23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24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25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26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0" name="Text Box 27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8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29"/>
          <p:cNvSpPr/>
          <p:nvPr/>
        </p:nvSpPr>
        <p:spPr>
          <a:xfrm>
            <a:off x="5791320" y="4343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Exigence I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0" descr="5_req_form"/>
          <p:cNvPicPr/>
          <p:nvPr/>
        </p:nvPicPr>
        <p:blipFill>
          <a:blip r:embed="rId3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5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2:51:51Z</dcterms:modified>
  <cp:revision>110</cp:revision>
  <dc:subject/>
  <dc:title>Slide 1</dc:title>
</cp:coreProperties>
</file>