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34.wmf" ContentType="image/x-wmf"/>
  <Override PartName="/ppt/media/image13.jpeg" ContentType="image/jpeg"/>
  <Override PartName="/ppt/media/image3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9.wmf" ContentType="image/x-wmf"/>
  <Override PartName="/ppt/media/image39.wmf" ContentType="image/x-wmf"/>
  <Override PartName="/ppt/media/image32.jpeg" ContentType="image/jpeg"/>
  <Override PartName="/ppt/media/image33.wmf" ContentType="image/x-wmf"/>
  <Override PartName="/ppt/media/image12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7212-D666-4A28-B97D-BC20DBCDF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9A6C-DAE3-4DF9-A166-2653E6FDF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9EA9-13D8-49A6-B00A-D5E7D2C1C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6AA6-B680-4FBE-8E34-67C7CD2E7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F5CE-BC44-4B4D-BBEE-1ACA592BA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FB93-BD03-4794-AC8E-AE87CE776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89E7-F07F-469A-817A-09DE5042B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E137-D373-4739-B7BA-B681BDB30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2BAE-1C86-45CE-AD9C-C1E670781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7D29-F052-47C2-90F3-7D466FE24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981B-B960-4FB5-9F36-C001BB29D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731E-C1AB-4EAC-8A57-34EB4DA2B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0378-25E1-436A-9768-59559A71F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DA9A-0499-4B26-A754-FAA50195C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56F4-4E7F-4991-89E8-B1F748996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F772-9351-41F2-82CB-9BD60AC73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4416-D0FD-45F1-8DBD-A57A1ED5F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E3C0-F668-47F1-95CA-E7A2636DB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5BE2-6FE4-4114-85F4-65F2C5866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96D98-4A19-4E4A-BE60-4E306ED13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90EFA-052E-4197-BE03-7038E42E2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62279-AD3D-4B0C-BDE3-14592AD49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83BD4-7B21-476E-9D18-90B22D12C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910C-5903-495C-85B0-3B221A7AF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DD722-38CF-4B41-B47C-D054C6BDF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CBBBD-DB5B-4F08-8D4C-4EE03671E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6F98B-86CC-49BC-8D82-39D6C216C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944F0-9089-470D-94DC-E0E1ABCFC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2AE0A-151D-48AB-AF7B-C62F1BE59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971DB-6D53-4482-B936-D52604E2C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535F0-51A2-4C47-8379-4EC6957CC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0781-12C2-40DF-9F72-480740342D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Gestion de l’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021B-241B-48E9-A35A-FEFDD750E2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gistres/feuilles de travail et processus de vérific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5_req_form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3"/>
          <p:cNvSpPr/>
          <p:nvPr/>
        </p:nvSpPr>
        <p:spPr>
          <a:xfrm rot="5400000">
            <a:off x="4419720" y="2666880"/>
            <a:ext cx="83808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E068-68A2-42BB-8B88-81278EA5EC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tection des donné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685800" y="1600200"/>
            <a:ext cx="69343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matériaux d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er les registres prop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informat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voir des sauvegardes régulières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10FF-E75E-4675-A909-9E0F3E8C5C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téger la confidentialité / sécur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1" name="Picture 19" descr="j0178425"/>
          <p:cNvPicPr/>
          <p:nvPr/>
        </p:nvPicPr>
        <p:blipFill>
          <a:blip r:embed="rId1"/>
          <a:stretch/>
        </p:blipFill>
        <p:spPr>
          <a:xfrm>
            <a:off x="3657600" y="460836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1"/>
          <p:cNvSpPr/>
          <p:nvPr/>
        </p:nvSpPr>
        <p:spPr>
          <a:xfrm>
            <a:off x="533520" y="1219320"/>
            <a:ext cx="8076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irecteur de laboratoire est responsables de la mise en place de lignes de conduite et de procédures pour :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téger l’intimité d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confidentialité des donné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3" descr="j0409031"/>
          <p:cNvPicPr/>
          <p:nvPr/>
        </p:nvPicPr>
        <p:blipFill>
          <a:blip r:embed="rId2"/>
          <a:stretch/>
        </p:blipFill>
        <p:spPr>
          <a:xfrm>
            <a:off x="1295280" y="459756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MCj02506500000[1]"/>
          <p:cNvPicPr/>
          <p:nvPr/>
        </p:nvPicPr>
        <p:blipFill>
          <a:blip r:embed="rId3"/>
          <a:stretch/>
        </p:blipFill>
        <p:spPr>
          <a:xfrm>
            <a:off x="5334120" y="4684680"/>
            <a:ext cx="1798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68C2-0F5F-4139-AB35-2D8B2500C6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s de compte rendu des résultats d’analys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38088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666880" y="2590920"/>
            <a:ext cx="441972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ilement compréh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57200" y="3200400"/>
            <a:ext cx="144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chantillon 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433870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: 1234 Littletown Road, Bergly Ba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9083-4B70-457D-9CD1-C5DD4903B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j0422773"/>
          <p:cNvPicPr/>
          <p:nvPr/>
        </p:nvPicPr>
        <p:blipFill>
          <a:blip r:embed="rId1"/>
          <a:stretch/>
        </p:blipFill>
        <p:spPr>
          <a:xfrm>
            <a:off x="62485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j0151699"/>
          <p:cNvPicPr/>
          <p:nvPr/>
        </p:nvPicPr>
        <p:blipFill>
          <a:blip r:embed="rId2"/>
          <a:stretch/>
        </p:blipFill>
        <p:spPr>
          <a:xfrm>
            <a:off x="7162920" y="184464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velopper un bon système pour communique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 sei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es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autre personnel soign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aboratoires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organismes offic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7086600" y="329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Tekton Pro"/>
              </a:rPr>
              <a:t>Différent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3A89-E3A4-426C-80D6-1AC6C6AE56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380880" y="533520"/>
            <a:ext cx="8381880" cy="5757480"/>
            <a:chOff x="380880" y="533520"/>
            <a:chExt cx="8381880" cy="5757480"/>
          </a:xfrm>
        </p:grpSpPr>
        <p:sp>
          <p:nvSpPr>
            <p:cNvPr id="255" name="AutoShape 4"/>
            <p:cNvSpPr/>
            <p:nvPr/>
          </p:nvSpPr>
          <p:spPr>
            <a:xfrm>
              <a:off x="380880" y="533520"/>
              <a:ext cx="8381880" cy="57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ystèm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formatiqu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compati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Erreurs d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trans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 peu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organis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Archivag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médioc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inadéqua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suffi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compl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1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124080" y="28954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Problèmes co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3911-9734-44BE-B2E0-D197783018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6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457200" y="1219320"/>
            <a:ext cx="609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equière des registres et des carnets bien conç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s à utiliser et faciles à re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ilite la recherch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i facilite la rédaction des compte-rendus et le résumé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j0408884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B8C3-8628-4ED6-AD63-4D3E32F55A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324480" y="5486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Nom du vill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ans la colonne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572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trée des don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FF8C-A5A3-4ECF-9BA8-C911F73BA1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296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85800" y="3048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Illisible- l’encre a traversé de l’autre côté de la fe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6576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Écriture ill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80B3-8215-49FA-8834-B34D7268DB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mpte-rendu est le produit primaire – rendez le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esoin d’une copie pour les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es registres dans un endroit sû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0DDF-FDEB-4B9B-B8BF-6420EC0FF7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éléments importants d’un système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quels sont les points à considérer lors de l’élaboration d’un système manuel d’information papier (non électron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avantages et les inconvénients d’un système informatisé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0D44-8F38-4043-B5E0-D6C4074153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uver un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les problè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ègles utile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garder tout pendant un certain te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 un accès fac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 système logique de clas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ter dans l’ordre chronolo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4920" y="4572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manuel basé sur papier –sto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" descr="MCj02374610000[1]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4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DFED-6F50-47BD-B10B-2ABB777484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stack of records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ouse_cdc_hantavirus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1447920" y="4114800"/>
            <a:ext cx="22096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553F-5D00-4744-914C-66DF5AFD83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informatis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ptions de logic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veloppés localement sur la base de logiciels commercialement disponibl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jà développ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echerche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ance du système informatique, sauvegar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fidentia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tesse, flex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8" descr="j0285750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0205466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_twirling"/>
          <p:cNvPicPr/>
          <p:nvPr/>
        </p:nvPicPr>
        <p:blipFill>
          <a:blip r:embed="rId3"/>
          <a:stretch/>
        </p:blipFill>
        <p:spPr>
          <a:xfrm>
            <a:off x="6095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_twirling"/>
          <p:cNvPicPr/>
          <p:nvPr/>
        </p:nvPicPr>
        <p:blipFill>
          <a:blip r:embed="rId4"/>
          <a:stretch/>
        </p:blipFill>
        <p:spPr>
          <a:xfrm>
            <a:off x="8229600" y="4343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7D18-0900-4C18-BBEE-917FA3EAD6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33520" y="609480"/>
            <a:ext cx="8304840" cy="5668560"/>
            <a:chOff x="533520" y="609480"/>
            <a:chExt cx="8304840" cy="5668560"/>
          </a:xfrm>
        </p:grpSpPr>
        <p:sp>
          <p:nvSpPr>
            <p:cNvPr id="331" name="AutoShape 3"/>
            <p:cNvSpPr/>
            <p:nvPr/>
          </p:nvSpPr>
          <p:spPr>
            <a:xfrm>
              <a:off x="533520" y="609480"/>
              <a:ext cx="8304840" cy="56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tégr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vec autr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es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financiè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ntrô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acc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naly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end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 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ren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nd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isib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étaill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extrac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e données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é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d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rreur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9" descr="j0205582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3"/>
          <p:cNvSpPr/>
          <p:nvPr/>
        </p:nvSpPr>
        <p:spPr>
          <a:xfrm>
            <a:off x="3049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A5BC-301B-43CC-A5EA-CDE381C410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"/>
          <p:cNvGrpSpPr/>
          <p:nvPr/>
        </p:nvGrpSpPr>
        <p:grpSpPr>
          <a:xfrm>
            <a:off x="380880" y="533520"/>
            <a:ext cx="8457480" cy="5703480"/>
            <a:chOff x="380880" y="533520"/>
            <a:chExt cx="8457480" cy="5703480"/>
          </a:xfrm>
        </p:grpSpPr>
        <p:sp>
          <p:nvSpPr>
            <p:cNvPr id="356" name="AutoShape 3"/>
            <p:cNvSpPr/>
            <p:nvPr/>
          </p:nvSpPr>
          <p:spPr>
            <a:xfrm>
              <a:off x="380880" y="533520"/>
              <a:ext cx="8457480" cy="57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uvegarde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qu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ût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chat et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dapt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à un nouvea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ystè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Forma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emp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t ar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4" descr="MCj00787140000[1]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13"/>
          <p:cNvSpPr/>
          <p:nvPr/>
        </p:nvSpPr>
        <p:spPr>
          <a:xfrm>
            <a:off x="228600" y="5335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j0205582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5AC1-C37C-4AA2-A894-A4F8580599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pour gérer les données entrantes et sort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basé sur papier ou informatis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requièrent un cadre similaire, identifiants uniques, formulaires, registres et feuilles de trav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ût est un élément majeur du système informatisé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1A9B-921D-4FD8-BF5D-72A000A0FF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bon système de gestion de l’information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que toutes les données – produit final du laboratoire – sont bien gér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sagera, lors de la planification, toutes les modalités d’utilisation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’accessibilité, l’exactitude, l’à propos et la sécurité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a confidentialité des données et l’intimité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69B2-0C97-4F85-A2C3-BC89C2D87D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86040" y="19807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63" descr="bulles_def"/>
          <p:cNvPicPr/>
          <p:nvPr/>
        </p:nvPicPr>
        <p:blipFill>
          <a:blip r:embed="rId1"/>
          <a:stretch/>
        </p:blipFill>
        <p:spPr>
          <a:xfrm>
            <a:off x="4572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7280-EB14-480C-A291-FECA58876F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Vous gérez un laboratoire pour un hôpital de 300 lits et l’administrateur vous a informé que des fonds étaient disponibles pour acheter un système de gestion de laboratoire informatisé. 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mment évalueriez vous la pertinence d’un tel système pour le laboratoire?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8832-2CA3-4B4B-A1F5-1A51413414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9" name="Picture 145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E9C6-D7C8-42FB-8ED7-AE0338FD1B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ôle dans 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2952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  <a:ea typeface="SimSun"/>
              </a:rPr>
              <a:t>Le résultat d’analyse est le produit final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447920" y="40384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4800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compte-rendu de l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433870"/>
          <p:cNvPicPr/>
          <p:nvPr/>
        </p:nvPicPr>
        <p:blipFill>
          <a:blip r:embed="rId1"/>
          <a:stretch/>
        </p:blipFill>
        <p:spPr>
          <a:xfrm>
            <a:off x="182880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4290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4038480" y="4876920"/>
            <a:ext cx="2514600" cy="914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C4EA-6AFA-4625-932B-FBF5289D66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8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e l’inform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MCj01885290000[1]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0" descr="MCj01885270000[1]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1"/>
          <p:cNvSpPr/>
          <p:nvPr/>
        </p:nvSpPr>
        <p:spPr>
          <a:xfrm>
            <a:off x="609480" y="243828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asé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5720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tablir des processus pour gére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2438280" y="3701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Informatio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0"/>
          <p:cNvSpPr/>
          <p:nvPr/>
        </p:nvSpPr>
        <p:spPr>
          <a:xfrm rot="5400000">
            <a:off x="-1486440" y="2933640"/>
            <a:ext cx="403884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1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5257800" y="3429000"/>
            <a:ext cx="312408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û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f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4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6" descr="j0433870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26A6-DF0B-4E24-B71A-A321C84484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28600" y="609480"/>
            <a:ext cx="8686440" cy="5714640"/>
            <a:chOff x="228600" y="609480"/>
            <a:chExt cx="8686440" cy="5714640"/>
          </a:xfrm>
        </p:grpSpPr>
        <p:sp>
          <p:nvSpPr>
            <p:cNvPr id="170" name="AutoShape 7"/>
            <p:cNvSpPr/>
            <p:nvPr/>
          </p:nvSpPr>
          <p:spPr>
            <a:xfrm>
              <a:off x="228600" y="609480"/>
              <a:ext cx="868644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br>
                <a:rPr sz="2100"/>
              </a:b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effica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Système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compte rendu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effic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Confidenti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tection des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donné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cessu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vérif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Registres,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feuille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trav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Formulaire 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deman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standardis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Identifiant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patients,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échantillo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un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3124080" y="2590920"/>
            <a:ext cx="312444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Éléments Impor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50F0-0AC3-4440-9F6B-356D7001F6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dentifiants un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laboratoires doivent assigner des identifiants uniques aux échantill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de: AAMMJJXXXX - 0905120047 signifie échantillon n° 47 reçu le 12 mai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2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Test_Bracket_patient-safety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2819520" y="15238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6C38-DE4B-4363-84C5-2B5B14A6F0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5_sample_reqs"/>
          <p:cNvPicPr/>
          <p:nvPr/>
        </p:nvPicPr>
        <p:blipFill>
          <a:blip r:embed="rId1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rmulaire de 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2" name="Group 19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03" name="Group 20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0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Group 22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06" name="Line 23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6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27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579132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xigence 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5_req_form"/>
          <p:cNvPicPr/>
          <p:nvPr/>
        </p:nvPicPr>
        <p:blipFill>
          <a:blip r:embed="rId3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51:51Z</dcterms:modified>
  <cp:revision>110</cp:revision>
  <dc:subject/>
  <dc:title>Slide 1</dc:title>
</cp:coreProperties>
</file>