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315D-2716-4F56-96CF-35634E36E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D3DA-FADF-480F-947A-B46DCC476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753C-410F-41FB-B187-EB9B8AFD3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4853-D6DA-458B-B71B-D1442B9B7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A037-5374-412A-8FB6-3305D1E0B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6024-FCAC-4DE0-9EFC-F76426F7A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0616-580E-4AA8-B08E-68955F60C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551E-FCC9-4680-8187-342BFAB33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7BBA-7BBA-4E18-AF3D-44E9EC25A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8F21-7AAB-47C0-8440-0425B5123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7EE4-4644-4987-879C-F70CEF8B9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5256-B0CD-4297-9181-9F7146B26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AD88-9AC9-4801-A54B-1BA50936C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C0FC-E61D-4966-B167-F6D4B7F9A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1E79-185B-4578-8CE5-508BB2383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3238-D6E1-4A54-B1FA-38438CF72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6115-8DAC-4914-A0F0-A6C8D52C8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B725-C9EC-401D-A89D-4817B5037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7A2B-92BA-4E07-90BB-41ADFFCF6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34C1-E2D7-402B-BC11-50A11D48F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9147-8B4E-4DA7-8F8A-11AA0ECD5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D7F1-98A8-4571-BA21-0C10991AA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537E-99CC-4A7F-8E7E-2FB4E7346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26C5-7CC0-4AB3-B98C-9B31C056F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5626-C718-45E9-8F49-9F34EF52D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1601-C95A-4022-8CC7-573A2BD30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0FF7-C887-47F1-8C9F-B05372FA0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8814-9349-4EAF-B690-88E9B0044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8B89-FF58-4F45-BD3A-229A82208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4C36-FB4D-4041-A336-713E8891C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D4BC-731C-4E06-98B4-AEDCA56C5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3892-AC03-4403-8C5C-DB7DFB7C2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80F3-57F2-4F29-BBAB-8F0976412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10E3-E2A2-409C-911A-CE2712355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8536-395A-4F56-8AA8-9DBE1823B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7667-5299-4098-9704-25285A90B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B665-B90F-4FF1-B564-5B3EF9F3E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A42F-CFEC-46C4-BCFD-0DBC98767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D43D-9F95-4925-BD23-4699ECA52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85EE-8E02-4F9F-BB9C-C281D1316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DEDA-EE8B-4D83-910B-42CBF7816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38B6-6847-4B8A-A66A-8797F5922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B7491-142E-44F1-A347-CEAC698E5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2A888-978A-4B69-AB50-84C185E65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CA2D5-0EA3-4A4E-ABFB-40817002F4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BF240-8835-4EE4-9AC9-315AF90CDC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3A61-39C7-4CA5-9A44-B9DCD9AEEE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FA5F-E66D-45D4-A77A-753C73B45C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A90-EB81-4B6F-88A5-B0E3AFA565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9553-660E-4271-A94D-C46FDF158C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1D7-6499-4A2C-B1A7-8B4357A45D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92D7-568F-4473-90E2-801FB50FB7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301E-759D-4855-A988-47B3A9075B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ECAB-BD78-431D-840E-6E96A572A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A5F-C56A-4274-8871-1B409A29E5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B0F-1CAB-4BA7-A29D-6D5CCCB2E8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946-DFB0-4D44-83A1-369F848450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4FC4-3063-47BE-BAB2-17034F51CF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FD6-F480-406F-9931-92D2DC706F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BE076-589E-48B5-877E-E76B2D7C7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11EAA-330A-4B8D-B8C2-C33EA96E0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163FF-2692-42B3-AB31-7D0306624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A9289-FA13-4C92-9D5D-ECB13C4D5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3ECA8-F680-4A82-A0BA-066E07310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23429-408D-43A7-8685-F177BBCF7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BD345-95B0-478A-9717-CDD0A126B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D9EE-6B82-4960-B89F-ED819F5298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7BD6-FB0B-4482-8D2E-7715191A5D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BAE9-7378-48FB-9BEE-09ADDE460D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6"/>
          <p:cNvSpPr/>
          <p:nvPr/>
        </p:nvSpPr>
        <p:spPr>
          <a:xfrm>
            <a:off x="3581280" y="1828800"/>
            <a:ext cx="495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nuel Qualité, Structure et  Contenus – opti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BF5A-6C33-4FAD-A9D7-7037D2B946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fs de poste incluant les qualification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ste d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ditions de recru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ternes et é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4AA5-7D8A-4C9D-9E8B-30ED28B8BF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5. Contrôle de doc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pprobation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finaliser le document : vérification, impression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gestion de la confidenti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, archi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roduction de ra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iste des documents de référe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man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li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93D5-C559-4535-8D80-861CAAE72F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  <a:ea typeface="SimSun"/>
              </a:rPr>
              <a:t>6. Bâtiments et Environnem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lan des bâtiment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ints d’accès réser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ignalétique du laboratoire ou autr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exigences environnementales pour le laboratoire (taille, température, eau, électricité, flux d’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é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ncertitudes tolér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57200" y="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C76D-3CA7-426B-AAB7-A8B7187668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7. Gestion des instruments, réactifs et consomm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pécifier que chaque instrument requiert des procédures écrites, une maintenance et un contrôle de qualité spéci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ande et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sommables et fournitures – définir la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E306-F936-42F2-AFC4-BF52D63B12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8. Sécur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échantillons et du maté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’incen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e dangers chim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limination des déch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é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iquetage du prod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6633-5FCC-436B-AC49-E05126C0B6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9. Procédures pré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éparation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liquots et pré traitement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C722-D5CB-4070-A9E9-9E32029EDD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0. Procédures d’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éactif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ibration / contrô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 d’analyse/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B02D-F15C-409B-94B2-9C80A0A2E0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1. Procédures post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nalyse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 biologique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ression/copie du compte-rendu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transmission du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lasser (archiver) le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ations avec les autorités de surveillance des mala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42A0-3737-4A4F-BE6B-FB85725F4D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2. Contrôl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appel de l’engagement envers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ier aux procédures de contrô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équi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pétence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sumé de toutes les procédures de CQ et liens avec les sections appropriées du manu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D234-E9AB-4FB0-8E7C-87467C124D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3. Actions correctives/préventives, Audit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voir et comprendre tous les problèmes et les err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udits internes requis par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7FFC-8AD5-4914-97A3-7C1641D9CE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48F1-7967-4942-9F89-B9C6363667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de la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qualité (spécifie les lignes de condu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structions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gistres/Enregist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17_docs_structure"/>
          <p:cNvPicPr/>
          <p:nvPr/>
        </p:nvPicPr>
        <p:blipFill>
          <a:blip r:embed="rId1"/>
          <a:stretch/>
        </p:blipFill>
        <p:spPr>
          <a:xfrm>
            <a:off x="5791320" y="2209680"/>
            <a:ext cx="30477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10CD-E07B-4EE2-A558-BDABD271A4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Gestion d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24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OS spécif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31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anu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34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iv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37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40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extes et lo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43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t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our éviter de surcharger l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ste documentation + numérotat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ens aux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B908-B6A6-49B6-B337-931F694369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n’ y a qu’UNE version officielle du manuel qua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anuel qualité n’est jamais fini, il est toujours amélio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lu, compris et accepté par to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rédigé clairement dans un langage facilement compréhen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daté et signé par la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s en têtes standardisés devraient être utilisés et la  version de chaque procédure insc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velopper un manuel qualité est un gros travail mais il est gratifiant et utile pour le laborato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3A99-4FA5-4EEE-917F-ECC3D5971F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57440" y="68544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1430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821D-EE02-42FD-AFE3-BA81092F19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diger un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igence de la norme ISO15189, mais le style et la structure ne sont pas spécif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er un comité de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tablir des lignes de conduite pour chacun des douze points essent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haque ligne de conduite, mentionner les buts et désigner les responsabili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ntenu doit inclure les lignes de conduite et faire référence aux processus et procé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7040-19CF-49BC-BE2A-8936FF36B2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Exempl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  Manuel qu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sation et g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gnes de conduite qual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nel (éducation et formatio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documents, incluant les registres, la maintenance et l’archi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âtiments et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F579-B93F-4023-91A3-9F5CF20D6E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struments, réactifs, consom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écu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cherche et développement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(optionn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ré analy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ost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C2A8-787E-4E69-BD45-53367A9DE2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ystème d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plaintes – gestion des problè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s et autres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ons préventives et correctives, audits inter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h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3015-8D5C-49A9-A90D-BF3550CFE5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historique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hamp d’application du 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ises à jour du manu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.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ur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62B6-2AB3-496E-AC87-6C235880E8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on de l’organisa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té lég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xigences de res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ignement des responsabilités/auto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2. Organisation et 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84CB-D2E8-4778-A6A3-55FDD4A224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3. Ligne de conduit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claration officielle d’une ligne de conduite par la direc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ure que le directeur du laboratoire désignera un responsab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finit le laboratoi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dolmazonv</cp:lastModifiedBy>
  <dcterms:modified xsi:type="dcterms:W3CDTF">2010-04-08T14:50:49Z</dcterms:modified>
  <cp:revision>23</cp:revision>
  <dc:subject/>
  <dc:title>Example of Written Policy CLSI HS1</dc:title>
</cp:coreProperties>
</file>