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B343-AC62-423B-8ED8-4A3D9D248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77CD-EC88-4382-A488-9D4CEC14D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E26E-F6D3-4FF6-8D8B-1670BABB1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C7B5-3EA2-4BDD-AAE4-352BA17FA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3F68-C62D-4590-9201-88C10EE4C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C3DF-1EE1-4A27-924E-404DC0CF7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B099-94E7-437E-8D04-9BF034A64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7517-884F-4B46-B94E-CB451A6C6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ACC6-1E44-43B6-804B-F00E2640F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2216-82E2-4984-9FC0-C112CD014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8B066-23EF-4898-9EC2-49BF039E7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E4914-7EBC-49D1-B625-74FEA0A78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91711-9D6E-410B-A86F-097537F2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5F9F6-75B5-4636-8618-FBB81C3A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50BF9-A05C-486A-A491-18362B55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33885-790B-4129-9E4D-9FB0DBFF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9BEB8-2B0A-4FDF-B03B-BE883005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1A552-53E9-497F-ADDB-2EB947EA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78363-DCB5-462B-AF39-817B7512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00A12-F256-4851-A60C-70433CFD9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31862-0AAF-4A75-86C4-C3DDFFA6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82DB9-8548-413C-BFEE-53C97106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72BF3-0D6D-4825-BD85-3CD021AE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24C2E-E168-47BB-A198-EE6277C7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FC013-3DDA-48DA-830F-0DE8BF51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BD5F4-49AA-4714-A3F2-E5C59C64B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27B47-3C6C-40E4-ACAF-0B62E58D7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A6CE4-F992-40EE-A0F1-3CDD48C64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A6B4A-7FC9-430B-B518-3E5D9410C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D7958-1204-41BD-909F-FA7AD6542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DA31F-3269-44D1-BD94-F65A58559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6DC7E-3ACD-4A48-BF42-D79DD7D39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8704-169A-46EC-AF0D-985B7BA839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D618-9AC8-46A9-AFEF-69DBDAB823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4F81-92AF-45BC-B174-B43494BD74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21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Aides visu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B0C1-4E22-4BE7-A856-CF8F9FB308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visual_sop"/>
          <p:cNvPicPr/>
          <p:nvPr/>
        </p:nvPicPr>
        <p:blipFill>
          <a:blip r:embed="rId1"/>
          <a:srcRect l="51824" t="0" r="0" b="0"/>
          <a:stretch/>
        </p:blipFill>
        <p:spPr>
          <a:xfrm>
            <a:off x="4724280" y="946080"/>
            <a:ext cx="4025880" cy="496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1549440"/>
            <a:ext cx="38862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Une image vaut 1000 mots 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ser aux </a:t>
            </a:r>
            <a:r>
              <a:rPr b="0" lang="fr-FR" sz="2800" spc="-1" strike="noStrike">
                <a:solidFill>
                  <a:srgbClr val="9999ff"/>
                </a:solidFill>
                <a:latin typeface="Arial"/>
              </a:rPr>
              <a:t>aides visu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fin d’aider à renforcer la conformité aux nouvell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5"/>
          <p:cNvSpPr/>
          <p:nvPr/>
        </p:nvSpPr>
        <p:spPr>
          <a:xfrm>
            <a:off x="6781680" y="213372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’assurer que l’étiqu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st juste en dessous du capuc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81680" y="2819520"/>
            <a:ext cx="2362320" cy="100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est presque droite, a un code bar propre et aucun surplus ne dépasse le tour du t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6781680" y="461160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ne s’étend pas jusqu’à l’extrémité inférieur d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4952880" y="5667480"/>
            <a:ext cx="236232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iquette corr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8DE8-D06A-4A37-9F39-A757D7D99B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specimen_visual_aid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71604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ide visuelle permettant de déterminer le volume suffisant de sé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9000" y="1295280"/>
            <a:ext cx="5715000" cy="50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mesure visuelle, afin de déterminer si le spécimen est au dessous de la limite de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ir le spécimen contre la carte visuelle de me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igner le gel séparateur a la ligne du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a ligne du haut, déterminer s’il y a plus ou moins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8"/>
          <p:cNvSpPr/>
          <p:nvPr/>
        </p:nvSpPr>
        <p:spPr>
          <a:xfrm>
            <a:off x="1981080" y="358128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EC68-06FD-480E-AC9D-2145775C4C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sample_management_1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1523880"/>
            <a:ext cx="3429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y a 2,5 cm ou plus de séru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191120" y="1371600"/>
            <a:ext cx="4724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mballer le spécimen et le transporter comme d’hab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9"/>
          <p:cNvSpPr/>
          <p:nvPr/>
        </p:nvSpPr>
        <p:spPr>
          <a:xfrm>
            <a:off x="3505320" y="3882960"/>
            <a:ext cx="83808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727A-E231-41FE-98AB-BD4BE699BD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sample_management_acceptability_2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144792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s, s’il y a moins de 2,5 cm de sé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038480" y="1219320"/>
            <a:ext cx="51055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quer le haut du tube avec un X et emballer le spécimen dans une boîte priori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3124080" y="388296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E272-E2DC-4EC7-A631-F1AC80FCF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5_finger_prick_job_aid"/>
          <p:cNvPicPr/>
          <p:nvPr/>
        </p:nvPicPr>
        <p:blipFill>
          <a:blip r:embed="rId1"/>
          <a:stretch/>
        </p:blipFill>
        <p:spPr>
          <a:xfrm>
            <a:off x="178128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EDAE-44D1-4AF9-9C34-14C2DB8F6D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5_venipuncture_cdc_who"/>
          <p:cNvPicPr/>
          <p:nvPr/>
        </p:nvPicPr>
        <p:blipFill>
          <a:blip r:embed="rId1"/>
          <a:stretch/>
        </p:blipFill>
        <p:spPr>
          <a:xfrm>
            <a:off x="1733400" y="0"/>
            <a:ext cx="52898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dolmazonv</cp:lastModifiedBy>
  <dcterms:modified xsi:type="dcterms:W3CDTF">2010-04-08T14:53:07Z</dcterms:modified>
  <cp:revision>9</cp:revision>
  <dc:subject/>
  <dc:title>Quality Manual Structure and Contents</dc:title>
</cp:coreProperties>
</file>