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AD51-CC1F-4A0A-B0EE-5ED91D845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3C39-9CAB-449A-A81B-074F2B3F5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AFFD-F09A-4CBC-82F9-33BAC1BD8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C032-CD94-43CD-B17D-0DA887A54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3CE0-C3EE-4DF8-ABAC-4FDD11FEB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9A8E-C723-43B0-8486-473B80676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2703-8B8A-44CE-9888-BD3FBBBBC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3048-DD7C-4372-98A4-96463B2EC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23546-E94A-4C54-B4B7-899453FC9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5869E-315E-46F4-8E32-4F08CEE00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C2F91-358F-4A3D-A075-50EA0B4CA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AFAC3-EE20-41B8-AAAC-7F0248B6B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35D2C-3E46-4B9E-AC40-1F589E80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67DF5-524B-4A77-938B-ABC210AF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30953-F181-4FD9-977D-2DDF41AC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C98D8-2CDB-4C7C-8177-D7B2929E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E04C7-6BE8-43DF-8B43-68B08ED1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F04D0-620A-4C52-86E8-D8DFAFA3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33D7C-2683-46AE-A0A5-1C288C39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A5F39-DF3D-4C3C-A0DF-EE0C6B046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750BA-FFB4-407E-A712-6173950A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B10B2-E50E-4ED8-85D8-ED00E0E6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C853F-0BC0-4625-A32B-BE849F9E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1D9F3-977A-40A5-8E29-5F29EC70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AD902-2B5E-4969-9318-374AFA5B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D1C76-0FBC-469B-B1AF-0C4E70845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D3014-D90A-4764-83D6-1B339AB0D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B182C-3E3D-454C-AB68-546BFF90C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9E7D7-EC5B-49AF-8927-71F558150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19761-B48B-4C44-9EBF-D8AF55E94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1BCF6-0E91-4568-BD77-7D5206760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F5245-F5BC-478A-B33A-87E23FDAE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D46B-3001-417A-B695-AC4B1744E2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AB3D-009E-44EB-A48E-4815E96303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B2E0-222A-41D6-87C7-4C1CD22286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Rectangle 8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0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2" name="Rectangle 11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6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7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8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9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0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Text Box 21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Aides visue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2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00D6-C383-4C8E-AB2E-51A2205A19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visual_sop"/>
          <p:cNvPicPr/>
          <p:nvPr/>
        </p:nvPicPr>
        <p:blipFill>
          <a:blip r:embed="rId1"/>
          <a:srcRect l="51824" t="0" r="0" b="0"/>
          <a:stretch/>
        </p:blipFill>
        <p:spPr>
          <a:xfrm>
            <a:off x="4724280" y="946080"/>
            <a:ext cx="4025880" cy="4965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533520" y="1549440"/>
            <a:ext cx="3886200" cy="39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Une image vaut 1000 mots 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enser aux </a:t>
            </a:r>
            <a:r>
              <a:rPr b="0" lang="fr-FR" sz="2800" spc="-1" strike="noStrike">
                <a:solidFill>
                  <a:srgbClr val="9999ff"/>
                </a:solidFill>
                <a:latin typeface="Arial"/>
              </a:rPr>
              <a:t>aides visuel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fin d’aider à renforcer la conformité aux nouvelles procé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5"/>
          <p:cNvSpPr/>
          <p:nvPr/>
        </p:nvSpPr>
        <p:spPr>
          <a:xfrm>
            <a:off x="6781680" y="213372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’assurer que l’étiquet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st juste en dessous du capuch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6"/>
          <p:cNvSpPr/>
          <p:nvPr/>
        </p:nvSpPr>
        <p:spPr>
          <a:xfrm>
            <a:off x="6781680" y="2819520"/>
            <a:ext cx="2362320" cy="100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est presque droite, a un code bar propre et aucun surplus ne dépasse le tour du tu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7"/>
          <p:cNvSpPr/>
          <p:nvPr/>
        </p:nvSpPr>
        <p:spPr>
          <a:xfrm>
            <a:off x="6781680" y="4611600"/>
            <a:ext cx="2362320" cy="82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ette étiquette ne s’étend pas jusqu’à l’extrémité inférieur du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4952880" y="5667480"/>
            <a:ext cx="236232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iquette correc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2F5D-C996-4400-8908-5EEA9B19B1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specimen_visual_aid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0" y="716040"/>
            <a:ext cx="9144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Aide visuelle permettant de déterminer le volume suffisant de sé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9000" y="1295280"/>
            <a:ext cx="5715000" cy="502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mesure visuelle, afin de déterminer si le spécimen est au dessous de la limite de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nir le spécimen contre la carte visuelle de me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igner le gel séparateur a la ligne du 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utilisant la ligne du haut, déterminer s’il y a plus ou moins 2,5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8"/>
          <p:cNvSpPr/>
          <p:nvPr/>
        </p:nvSpPr>
        <p:spPr>
          <a:xfrm>
            <a:off x="1981080" y="358128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3466-EADA-4EB8-8497-2C9B813702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sample_management_1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" y="1523880"/>
            <a:ext cx="3429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’il y a 2,5 cm ou plus de séru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191120" y="1371600"/>
            <a:ext cx="47242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mballer le spécimen et le transporter comme d’hab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9"/>
          <p:cNvSpPr/>
          <p:nvPr/>
        </p:nvSpPr>
        <p:spPr>
          <a:xfrm>
            <a:off x="3505320" y="3882960"/>
            <a:ext cx="83808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7E37-867C-4C76-BDC2-45F8DA4B17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4" descr="sample_management_acceptability_2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1447920"/>
            <a:ext cx="40384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is, s’il y a moins de 2,5 cm de sé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4038480" y="1219320"/>
            <a:ext cx="510552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rquer le haut du tube avec un X et emballer le spécimen dans une boîte priorit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0" y="5335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de visuelle déterminant l’acceptabilité du 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9"/>
          <p:cNvSpPr/>
          <p:nvPr/>
        </p:nvSpPr>
        <p:spPr>
          <a:xfrm>
            <a:off x="3124080" y="3882960"/>
            <a:ext cx="838440" cy="30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D57A-8AC3-46B6-8AAE-F44F6C4774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5_finger_prick_job_aid"/>
          <p:cNvPicPr/>
          <p:nvPr/>
        </p:nvPicPr>
        <p:blipFill>
          <a:blip r:embed="rId1"/>
          <a:stretch/>
        </p:blipFill>
        <p:spPr>
          <a:xfrm>
            <a:off x="1781280" y="0"/>
            <a:ext cx="523692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BB06-C8E8-4293-8170-5FA5224B46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5_venipuncture_cdc_who"/>
          <p:cNvPicPr/>
          <p:nvPr/>
        </p:nvPicPr>
        <p:blipFill>
          <a:blip r:embed="rId1"/>
          <a:stretch/>
        </p:blipFill>
        <p:spPr>
          <a:xfrm>
            <a:off x="1733400" y="0"/>
            <a:ext cx="528984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Espace réservé du pied de page 1"/>
          <p:cNvSpPr/>
          <p:nvPr/>
        </p:nvSpPr>
        <p:spPr>
          <a:xfrm>
            <a:off x="38088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ides visu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dolmazonv</cp:lastModifiedBy>
  <dcterms:modified xsi:type="dcterms:W3CDTF">2010-04-08T14:53:07Z</dcterms:modified>
  <cp:revision>9</cp:revision>
  <dc:subject/>
  <dc:title>Quality Manual Structure and Contents</dc:title>
</cp:coreProperties>
</file>