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EF5F-FEF1-4824-BAF8-36678E6A5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FB43-9CDC-49A1-9DD2-2DE6216F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84B8-7428-41DD-AF64-F70AB520D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60C9-F2F8-4BA0-8A00-2EA58F15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7871-CAD8-486F-BE85-F9CC0BA64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7A75-103B-403E-BEB2-FAB23AF19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FD47-E914-4FDB-92DC-C5DE6E8A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40C7-423B-433F-9B9D-92B7DF72D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80CB-43E7-4623-8E9B-4F154DC8A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D629-C20C-4BC1-A5FB-39A2047C7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4E3-FB33-41B4-AA4C-A22ED5C0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4911-4442-4936-8A79-AC3295BF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1081-094D-4D29-A430-8E0815A16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F5E3-AD6B-4692-9FFC-8985322EE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4C66-316D-41CE-80A8-EA160749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535F-CD6F-44BB-96E4-7AF3814E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FB08-BC22-4154-9470-35B7C7B2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A118-D4B3-46A3-8437-B9CBC1B24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DB22-EC10-41D6-91C1-53CB3D785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B67-C649-4FF7-A7F0-585A8F2BF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9F82-B350-4AD9-A901-6DB298E3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D673-0B5D-4A2D-AD92-3B8EFE2B7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5F3-6A7F-43F0-A4B6-3C9EEF75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5266-DE06-490B-9849-8D2AA217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E576-7C91-421C-88A7-FD907330D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F33F-A62C-4CB5-81F3-0AFF45868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696C-63AE-4CE4-800B-5BC44D6DE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A7B4-3DFA-4543-B6A0-C1B233DFF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945D-4AB9-4746-9ABB-12568A160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B336-A5C6-4FBC-BC64-5EFFF2254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BC13-1411-46FD-A22B-CE0552284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0CCB-B731-4C5E-9A4B-71510172E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81D8-8B48-479F-8BFF-E840A4192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CBD2-4A37-4833-85A5-7C1719EE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AF56-6322-4077-9EC9-9783B19A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6C57-FFDA-46B3-8136-FB09E5ED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E91-453C-4B83-BDEF-ABCD02D3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BE56-DB8F-410C-80A9-24D2D0042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D508-B96C-4DFD-BE75-9790806C6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3FC-C705-4191-8887-3692DB09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41FC-4DA1-4A5E-9220-F4C17038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B5D4-586E-4D80-A8E2-EB954F27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05AE-3C97-4121-9FC7-BEDB910D6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C6DB8-37CD-49DA-A033-F34B0D0DA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7EEC-96BC-4D69-B8CE-D58938491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9640-6B88-454F-9473-5633C9D2D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420-94CA-4C30-9E65-EC283C1CF6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4A2-0A07-4391-A7CC-BD27A2CE2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F4A-2FF3-4317-BD32-34FFC32E65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DC72-FDAC-4AC4-AD95-EEAF2CEF41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50D-3CA6-40CC-B79E-2E8F38B84F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36A4-A8A0-459E-A10A-401F969E0C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5E8D-1E25-4CEF-BBD6-0ACFBDC41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625F-5CFF-4306-A898-D077EC2F9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925-7BF2-4763-AD3E-511BABF359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1A6-B267-423B-A745-27272CF80F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6D6C-F1FA-4B23-BAC8-0F59D5BE2E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BDEA-C7C2-4483-BEAE-BF71A8BF44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2EA-2BA2-4681-8279-D4E9984DF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0675-2BA8-4F76-8196-F7C49221A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A5B6-C8B3-4579-B6FE-273EC11DD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A3526-E5C2-41CB-8CC4-CA32BFD7A2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7E0DE-3075-4008-8EA7-D412E3614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4F0D-F5CD-40E4-A421-9D99E65FD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DF27E-5230-4F88-AD97-B4D59B782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2E19-71FA-4420-81B2-C51DE9B15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7153-FE51-4BEE-8B4E-8C392D7B1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ABC9-98E4-4130-8B03-B78F88612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ED2E-D7E8-4407-BDD2-BB8E28FC2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36"/>
          <p:cNvSpPr/>
          <p:nvPr/>
        </p:nvSpPr>
        <p:spPr>
          <a:xfrm>
            <a:off x="3581280" y="1828800"/>
            <a:ext cx="4953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nuel Qualité, Structure et  Contenus – opti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1A2B-1935-4A3B-B9F8-024D7D8E39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fs de poste incluant les qualification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ste d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ditions de recru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ternes et étud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A324-3D95-49FE-B738-8B747FDAD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5. Contrôle de doc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pprobation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finaliser le document : vérification, impression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gestion de la confidenti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, archi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roduction de rap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iste des documents de référe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manu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liv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SimSun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1038-2FD5-4D88-8A1A-9A7D2E978A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  <a:ea typeface="SimSun"/>
              </a:rPr>
              <a:t>6. Bâtiments et Environnement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lan des bâtiment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ints d’accès réser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ignalétique du laboratoire ou autr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exigences environnementales pour le laboratoire (taille, température, eau, électricité, flux d’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é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ncertitudes tolér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57200" y="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1AA9-343B-4303-A29A-8EDDF2CA75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7. Gestion des instruments, réactifs et consomm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pécifier que chaque instrument requiert des procédures écrites, une maintenance et un contrôle de qualité spéci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ande et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sommables et fournitures – définir la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1075-A12A-4F7F-B0C8-2C836C8F4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8. Sécur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échantillons et du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’incen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structions en cas de dangers chi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limination des déch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é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iquetage du prod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1BD8-22E2-4D69-89F9-922A06B0A9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9. Procédures pré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éparation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liquots et pré traitement des échantil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to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B664-2984-4883-BD6E-16334B394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0. Procédures d’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quipement util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éactifs util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ibration / contrô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 d’analyse/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E269-6B04-427D-98CC-FF47102D8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1. Procédures post analy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nalyse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validation biologique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ression/copie du compte-rendu des 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transmission du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lasser (archiver) le compte-r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ations avec les autorités de surveillance des mala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022C-3391-4F72-BB9E-17E87DCBD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2. Contrôl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appel de l’engagement envers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elier aux procédures de contrô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équip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pétence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ésumé de toutes les procédures de CQ et liens avec les sections appropriées du manu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3CF-CA6A-4E70-808C-749EAB803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3. Actions correctives/préventives, Audit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voir et comprendre tous les problèmes et les err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udits internes requis par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C63C-A0AA-4381-B765-74ECE9BF1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F017-1B71-438D-84E7-25BDC3B89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de la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qualité (spécifie les lignes de condu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structions de trav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ul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gistres/Enregist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17_docs_structure"/>
          <p:cNvPicPr/>
          <p:nvPr/>
        </p:nvPicPr>
        <p:blipFill>
          <a:blip r:embed="rId1"/>
          <a:stretch/>
        </p:blipFill>
        <p:spPr>
          <a:xfrm>
            <a:off x="5791320" y="2209680"/>
            <a:ext cx="30477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AE2-48BD-458B-9D63-AEEC5F6B6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Gestion d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24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OS spécif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31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Manue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34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Liv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37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40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Textes et lo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43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Aut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Pour éviter de surcharger l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ste documentation + numérot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SimSun"/>
              </a:rPr>
              <a:t>Liens aux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43C9-5D30-460B-8781-DBD3E3811C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n’ y a qu’UNE version officielle du manuel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anuel qualité n’est jamais fini, il est toujours amélio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lu, compris et accepté par to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rédigé clairement dans un langage facilement compréhen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l devrait être daté et signé par la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en têtes standardisés devraient être utilisés et la  version de chaque procédure inscr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velopper un manuel qualité est un gros travail mais il est gratifiant et utile pour le laborato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11F8-C84E-4F5B-8201-AE64A0AA73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257440" y="68544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1430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3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CFF7-2049-426B-BF24-5B20DA1245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diger un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igence de la norme ISO15189, mais le style et la structure ne sont pas spécifi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tiliser un comité de pilo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Établir des lignes de conduite pour chacun des douze points essent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chaque ligne de conduite, mentionner les buts et désigner les responsabilit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ontenu doit inclure les lignes de conduite et faire référence aux processus et 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3A20-FFB5-42CB-B157-6B6370F698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Exempl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  Manuel qual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rganisation et g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ignes de conduite qual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nel (éducation et formatio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documents, incluant les registres, la maintenance et l’archi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âtiments et 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C56A-88A8-4AA6-8487-1FC40DE87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estion des instruments, réactifs, consom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écu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echerche et développement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(option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ré analyt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rocédures post analy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7BD4-D819-4397-9900-D29251484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rôle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Système d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Traitement des plaintes – gestion des problè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s et autres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ons préventives et correctives, audits inter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Éth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Profil du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8D23-0AEC-42AB-950B-502896D3AB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historique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ctiv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hamp d’application du 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ises à jour du manu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1.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Qu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Pourqu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FFB9-247B-411D-988B-351C3D3DA9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escription de l’organisa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dentité lég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xigences de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ignement des responsabilités/aut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2. Organisation et 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1"/>
          <p:cNvSpPr/>
          <p:nvPr/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et registres-Rédiger un manuel qualitél-Modu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9EF1-AB61-4532-9ED9-B60689A859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3. Ligne de conduit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claration officielle d’une ligne de conduite par la direction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ssure que le directeur du laboratoire désignera un responsabl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définit le laboratoi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rô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dolmazonv</cp:lastModifiedBy>
  <dcterms:modified xsi:type="dcterms:W3CDTF">2010-04-08T14:50:49Z</dcterms:modified>
  <cp:revision>23</cp:revision>
  <dc:subject/>
  <dc:title>Example of Written Policy CLSI HS1</dc:title>
</cp:coreProperties>
</file>