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DC58-C316-49BC-B5FF-91CB469EE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8415-8B25-4D99-9CFB-5707E8832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0FF6-19D9-43B3-97EF-684B2F8CD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18C1-2D31-499A-AB8C-8AA90923E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3FDB-2A80-4FB7-A9BF-2FD20428A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B858-411B-4DF3-AB64-503D72B4F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23D5-D5BA-4B92-BA3C-51A51F79D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2747-C0BC-4EF8-9E92-916D04CEB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7336B-4861-4050-B7D9-76EC9C9FD4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D8CEB-41DA-4EEC-AE6C-1D5C275DC0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B109B-424F-41A2-BA70-53D059F675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888B6-D394-41E5-B01F-1B4F8C2777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0A51F-BDB3-4261-A981-BD1E4973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E882C-8AC6-4831-BEC9-A0FD14BC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A7DF9-4CB6-408D-A342-102A69C0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CAE8A-DE39-41B1-90E7-4113B1E0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EBC02-7636-401D-8D34-A05B0F32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2BE18-3F04-461D-8418-F6F82773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D57E1-98EE-4F6C-A475-43EC66E8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D293E-1091-41FC-975F-A9F21482AC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D95B6-C99D-42BC-AF8A-661EBDFE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D9B89-5632-4010-83D6-51D28B74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852D7-B835-4E8C-AD29-23199F56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DF72F-E43A-44A6-9F86-3589EBD77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4FF6A-E331-4B69-9A5F-2C64C7F04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2FEF8-6BE0-4711-A555-34A959D219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BEDB5-5599-43F3-9DCE-8E22D5FE2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80A1D-18C3-44B4-AA5D-722AE2CE58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DF921-006E-4D26-B17A-160738C6DE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4AF97-C86C-4E40-B1A6-F31D0F2191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DF0C3-C360-4621-85EF-D06B7118A4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6F73A-1D03-4D99-8513-983651C8F8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4F1F-1029-43C3-8365-B5969B32B4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52D1-3341-4DAD-9214-E4AD8B2CB7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3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2C4D-E2D1-4DF5-A2CD-08E631AC80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9" name="Rectangle 8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9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10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2" name="Rectangle 11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6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7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8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19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0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Text Box 21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Aides visuel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2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7BF3-F44D-48F2-9090-68B5C3D5E9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visual_sop"/>
          <p:cNvPicPr/>
          <p:nvPr/>
        </p:nvPicPr>
        <p:blipFill>
          <a:blip r:embed="rId1"/>
          <a:srcRect l="51824" t="0" r="0" b="0"/>
          <a:stretch/>
        </p:blipFill>
        <p:spPr>
          <a:xfrm>
            <a:off x="4724280" y="946080"/>
            <a:ext cx="4025880" cy="4965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533520" y="1549440"/>
            <a:ext cx="3886200" cy="39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 Une image vaut 1000 mots 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enser aux </a:t>
            </a:r>
            <a:r>
              <a:rPr b="0" lang="fr-FR" sz="2800" spc="-1" strike="noStrike">
                <a:solidFill>
                  <a:srgbClr val="9999ff"/>
                </a:solidFill>
                <a:latin typeface="Arial"/>
              </a:rPr>
              <a:t>aides visuell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afin d’aider à renforcer la conformité aux nouvelles procé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5"/>
          <p:cNvSpPr/>
          <p:nvPr/>
        </p:nvSpPr>
        <p:spPr>
          <a:xfrm>
            <a:off x="6781680" y="2133720"/>
            <a:ext cx="2362320" cy="82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’assurer que l’étiquet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est juste en dessous du capuch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6"/>
          <p:cNvSpPr/>
          <p:nvPr/>
        </p:nvSpPr>
        <p:spPr>
          <a:xfrm>
            <a:off x="6781680" y="2819520"/>
            <a:ext cx="2362320" cy="100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ette étiquette est presque droite, a un code bar propre et aucun surplus ne dépasse le tour du tu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7"/>
          <p:cNvSpPr/>
          <p:nvPr/>
        </p:nvSpPr>
        <p:spPr>
          <a:xfrm>
            <a:off x="6781680" y="4611600"/>
            <a:ext cx="2362320" cy="82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ette étiquette ne s’étend pas jusqu’à l’extrémité inférieur du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8"/>
          <p:cNvSpPr/>
          <p:nvPr/>
        </p:nvSpPr>
        <p:spPr>
          <a:xfrm>
            <a:off x="4952880" y="5667480"/>
            <a:ext cx="236232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tiquette correc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69DA-1953-4250-A5AC-C59234958C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4" descr="specimen_visual_aid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0" y="716040"/>
            <a:ext cx="91440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ide visuelle permettant de déterminer le volume suffisant de sé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429000" y="1295280"/>
            <a:ext cx="5715000" cy="502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a mesure visuelle, afin de déterminer si le spécimen est au dessous de la limite de 2,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nir le spécimen contre la carte visuelle de me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igner le gel séparateur a la ligne du 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 utilisant la ligne du haut, déterminer s’il y a plus ou moins 2,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oneTexte 8"/>
          <p:cNvSpPr/>
          <p:nvPr/>
        </p:nvSpPr>
        <p:spPr>
          <a:xfrm>
            <a:off x="1981080" y="3581280"/>
            <a:ext cx="83844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4A82-B93B-451B-84C7-BA4F2A587B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4" descr="sample_management_1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de visuelle déterminant l’acceptabilité du spéc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57200" y="1523880"/>
            <a:ext cx="34290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’il y a 2,5 cm ou plus de séru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4191120" y="1371600"/>
            <a:ext cx="472428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mballer le spécimen et le transporter comme d’hab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oneTexte 9"/>
          <p:cNvSpPr/>
          <p:nvPr/>
        </p:nvSpPr>
        <p:spPr>
          <a:xfrm>
            <a:off x="3505320" y="3882960"/>
            <a:ext cx="83808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F8A0-B71A-44A5-92FD-40FD7C3B47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4" descr="sample_management_acceptability_2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0" y="1447920"/>
            <a:ext cx="40384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is, s’il y a moins de 2,5 cm de sé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4038480" y="1219320"/>
            <a:ext cx="510552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rquer le haut du tube avec un X et emballer le spécimen dans une boîte priorit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de visuelle déterminant l’acceptabilité du spéc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oneTexte 9"/>
          <p:cNvSpPr/>
          <p:nvPr/>
        </p:nvSpPr>
        <p:spPr>
          <a:xfrm>
            <a:off x="3124080" y="3882960"/>
            <a:ext cx="83844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FC7E-6D95-45AB-83D8-88ABF52CFB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5_finger_prick_job_aid"/>
          <p:cNvPicPr/>
          <p:nvPr/>
        </p:nvPicPr>
        <p:blipFill>
          <a:blip r:embed="rId1"/>
          <a:stretch/>
        </p:blipFill>
        <p:spPr>
          <a:xfrm>
            <a:off x="1781280" y="0"/>
            <a:ext cx="523692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CA1F-D9DB-4BE9-806E-71783BFEC8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5_venipuncture_cdc_who"/>
          <p:cNvPicPr/>
          <p:nvPr/>
        </p:nvPicPr>
        <p:blipFill>
          <a:blip r:embed="rId1"/>
          <a:stretch/>
        </p:blipFill>
        <p:spPr>
          <a:xfrm>
            <a:off x="1733400" y="0"/>
            <a:ext cx="528984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dolmazonv</cp:lastModifiedBy>
  <dcterms:modified xsi:type="dcterms:W3CDTF">2010-04-08T14:53:07Z</dcterms:modified>
  <cp:revision>9</cp:revision>
  <dc:subject/>
  <dc:title>Quality Manual Structure and Contents</dc:title>
</cp:coreProperties>
</file>