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2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9.png" ContentType="image/png"/>
  <Override PartName="/ppt/media/image21.wmf" ContentType="image/x-wmf"/>
  <Override PartName="/ppt/media/image6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28.png" ContentType="image/png"/>
  <Override PartName="/ppt/media/image38.jpeg" ContentType="image/jpeg"/>
  <Override PartName="/ppt/media/image9.png" ContentType="image/png"/>
  <Override PartName="/ppt/media/image1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7.wmf" ContentType="image/x-wmf"/>
  <Override PartName="/ppt/media/image31.jpeg" ContentType="image/jpeg"/>
  <Override PartName="/ppt/media/image4.jpeg" ContentType="image/jpeg"/>
  <Override PartName="/ppt/media/image41.png" ContentType="image/png"/>
  <Override PartName="/ppt/media/image13.jpeg" ContentType="image/jpeg"/>
  <Override PartName="/ppt/media/image23.png" ContentType="image/png"/>
  <Override PartName="/ppt/media/image40.wmf" ContentType="image/x-wmf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5.jpeg" ContentType="image/jpeg"/>
  <Override PartName="/ppt/media/image32.png" ContentType="image/png"/>
  <Override PartName="/ppt/media/image11.jpeg" ContentType="image/jpeg"/>
  <Override PartName="/ppt/media/image30.png" ContentType="image/png"/>
  <Override PartName="/ppt/media/image3.jpeg" ContentType="image/jpeg"/>
  <Override PartName="/ppt/media/image14.jpeg" ContentType="image/jpeg"/>
  <Override PartName="/ppt/media/image1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7B49-81DA-4F1A-B839-B381C7C7C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8CD4-FC61-49E0-BB43-52247C613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02B3-B6E8-4A17-B351-01AE88549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9129-CE47-49D8-A01F-3607F1748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6219-E7D2-4FC3-AF08-02FFDBF6E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8019-D52B-4DB8-90B2-886006456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4337-DBAA-404D-BDD3-BEDCD7A32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70DC-25AF-492D-AE4E-A03D054D7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A1B9-CCC6-4745-86A7-E01691ED6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E5BF-11C5-4983-B205-B5EA84A23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94CA-6604-4228-A5B7-F74CCBBBB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B0FE-CDCB-4A4B-9494-BCD35F202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23B5-9D4C-4766-8106-FE6E1907D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7DBB-2D17-4D28-AC90-A3B4F408A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13A0-811E-4BC9-B178-EFAE7F29F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29C86-F207-4983-8D0F-9BF20EB20B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5F822-F2A9-464F-AD82-609CE1D6B2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61827-A137-458E-9BC9-DC03813D6D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13393-8885-4A6B-A3C4-B31DFC231E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3DF7-A0F9-40DA-A80F-A1CF97A4E5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47DD-3983-453B-A41F-296855FA51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901E-DE91-4949-9451-41E6BB8358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BA78-55A2-4ABF-A1B4-A0B9865E99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0CC3-1DB8-4C94-A606-92C55BE809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F4C8-4842-418A-804D-0C1EDEC5BC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AF04-7BD4-4630-940E-3DAD7AE208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6B6B6-7087-4BFA-ACC7-C2EAFB131B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7AB9-9A94-4009-8D3C-F6D40C1D1A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EC23-03FB-49C7-A41C-7F5661C23C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AC85-271E-4947-8801-9149514BFA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08CC-BF90-4CDA-B16B-9F65793BD5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24F2-22B3-4B55-8D66-A771C990B2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A5C33-C72F-462D-91FC-74E2DDADD2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FE6CD-8AE0-4497-A5BE-5A4E2B16B3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181B0-C1E9-445A-B7E8-4056537C70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C6632-F619-4984-8155-DC46A24C50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AB1ED-01D6-41A8-8562-737B1AF9ED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9630E-A14E-435F-AA73-54D16C4880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910F5-9169-42F1-81F6-FF3887BEF0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3599-E0BD-4ABB-A097-2B4F1ACA28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D0DBD-178D-4167-9D1C-60816E324C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2339-E442-4F37-8D6E-24D246DF50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3200400" y="220968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Processus d’améli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2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784C-9322-4C1B-BCEA-4117F5FC57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j0399245"/>
          <p:cNvPicPr/>
          <p:nvPr/>
        </p:nvPicPr>
        <p:blipFill>
          <a:blip r:embed="rId1"/>
          <a:stretch/>
        </p:blipFill>
        <p:spPr>
          <a:xfrm>
            <a:off x="4495680" y="1219320"/>
            <a:ext cx="3353040" cy="2471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lab pic"/>
          <p:cNvPicPr/>
          <p:nvPr/>
        </p:nvPicPr>
        <p:blipFill>
          <a:blip r:embed="rId2"/>
          <a:stretch/>
        </p:blipFill>
        <p:spPr>
          <a:xfrm>
            <a:off x="1219320" y="1219320"/>
            <a:ext cx="3289320" cy="2349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Equipment_3"/>
          <p:cNvPicPr/>
          <p:nvPr/>
        </p:nvPicPr>
        <p:blipFill>
          <a:blip r:embed="rId3"/>
          <a:srcRect l="0" t="0" r="16286" b="0"/>
          <a:stretch/>
        </p:blipFill>
        <p:spPr>
          <a:xfrm>
            <a:off x="4114800" y="3276720"/>
            <a:ext cx="3733920" cy="30477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1"/>
          <p:cNvSpPr/>
          <p:nvPr/>
        </p:nvSpPr>
        <p:spPr>
          <a:xfrm>
            <a:off x="1143000" y="320040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533520" y="1219320"/>
            <a:ext cx="2286000" cy="703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L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9"/>
          <p:cNvGrpSpPr/>
          <p:nvPr/>
        </p:nvGrpSpPr>
        <p:grpSpPr>
          <a:xfrm>
            <a:off x="2209680" y="2057400"/>
            <a:ext cx="4876920" cy="3206880"/>
            <a:chOff x="2209680" y="2057400"/>
            <a:chExt cx="4876920" cy="3206880"/>
          </a:xfrm>
        </p:grpSpPr>
        <p:sp>
          <p:nvSpPr>
            <p:cNvPr id="193" name="AutoShape 18"/>
            <p:cNvSpPr/>
            <p:nvPr/>
          </p:nvSpPr>
          <p:spPr>
            <a:xfrm>
              <a:off x="2209680" y="2057400"/>
              <a:ext cx="4876920" cy="32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106518"/>
            <p:cNvSpPr/>
            <p:nvPr/>
          </p:nvSpPr>
          <p:spPr>
            <a:xfrm>
              <a:off x="3865320" y="2508840"/>
              <a:ext cx="1566360" cy="1566360"/>
            </a:xfrm>
            <a:prstGeom prst="pie">
              <a:avLst/>
            </a:pr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106524"/>
            <p:cNvSpPr/>
            <p:nvPr/>
          </p:nvSpPr>
          <p:spPr>
            <a:xfrm rot="5400000">
              <a:off x="4233960" y="2877840"/>
              <a:ext cx="1566360" cy="1566360"/>
            </a:xfrm>
            <a:prstGeom prst="pie">
              <a:avLst/>
            </a:pr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106519"/>
            <p:cNvSpPr/>
            <p:nvPr/>
          </p:nvSpPr>
          <p:spPr>
            <a:xfrm rot="10800000">
              <a:off x="3864960" y="3246120"/>
              <a:ext cx="1566360" cy="1566360"/>
            </a:xfrm>
            <a:prstGeom prst="pi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106521"/>
            <p:cNvSpPr/>
            <p:nvPr/>
          </p:nvSpPr>
          <p:spPr>
            <a:xfrm rot="16200000">
              <a:off x="3496680" y="2877480"/>
              <a:ext cx="1566360" cy="1566360"/>
            </a:xfrm>
            <a:prstGeom prst="pie">
              <a:avLst/>
            </a:prstGeom>
            <a:solidFill>
              <a:srgbClr val="8a8ae6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106516"/>
            <p:cNvSpPr/>
            <p:nvPr/>
          </p:nvSpPr>
          <p:spPr>
            <a:xfrm>
              <a:off x="5065920" y="265284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106517"/>
            <p:cNvSpPr/>
            <p:nvPr/>
          </p:nvSpPr>
          <p:spPr>
            <a:xfrm>
              <a:off x="3642480" y="407952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06520"/>
            <p:cNvSpPr/>
            <p:nvPr/>
          </p:nvSpPr>
          <p:spPr>
            <a:xfrm>
              <a:off x="3640320" y="265464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106523"/>
            <p:cNvSpPr/>
            <p:nvPr/>
          </p:nvSpPr>
          <p:spPr>
            <a:xfrm>
              <a:off x="5066640" y="407772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29"/>
          <p:cNvSpPr/>
          <p:nvPr/>
        </p:nvSpPr>
        <p:spPr>
          <a:xfrm>
            <a:off x="228600" y="4572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Nouvelles tendances – outils d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1219320" y="3429000"/>
            <a:ext cx="2895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ptimisation d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’espac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du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emp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et de l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’activité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dans le but d’améliorer les circuits du flux de trav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A0F2-0515-4095-A17E-2920C9B397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lean_5_spag"/>
          <p:cNvPicPr/>
          <p:nvPr/>
        </p:nvPicPr>
        <p:blipFill>
          <a:blip r:embed="rId1"/>
          <a:stretch/>
        </p:blipFill>
        <p:spPr>
          <a:xfrm>
            <a:off x="4724280" y="1447920"/>
            <a:ext cx="4191120" cy="4800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lean_4_spag"/>
          <p:cNvPicPr/>
          <p:nvPr/>
        </p:nvPicPr>
        <p:blipFill>
          <a:blip r:embed="rId2"/>
          <a:stretch/>
        </p:blipFill>
        <p:spPr>
          <a:xfrm>
            <a:off x="533520" y="1523880"/>
            <a:ext cx="4343400" cy="47246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533520" y="533520"/>
            <a:ext cx="83818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Flux de travail et maintenance par les techniciens d’hémo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533520" y="1143000"/>
            <a:ext cx="8381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000" spc="-1" strike="noStrike">
                <a:solidFill>
                  <a:srgbClr val="0000ff"/>
                </a:solidFill>
                <a:latin typeface="Verdana"/>
              </a:rPr>
              <a:t>Pre Lean                               Post 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8776-B3F4-41B7-9FA9-4A1EB536C8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Arial"/>
              </a:rPr>
              <a:t>Nouvelles tendances – outils  d’amélio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Six Sig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Méthodologie planifiant un projet en vue de mettre en œuvre des changements et des améliorations.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9" descr="six-sigma"/>
          <p:cNvPicPr/>
          <p:nvPr/>
        </p:nvPicPr>
        <p:blipFill>
          <a:blip r:embed="rId1"/>
          <a:stretch/>
        </p:blipFill>
        <p:spPr>
          <a:xfrm>
            <a:off x="3886200" y="4649760"/>
            <a:ext cx="2305080" cy="15415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80CB-D34D-4FA1-9B46-70EE762D9C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Six Sigma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essus organisés pour aider à la prise de décision pour l’amélioration conti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éfin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esu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naly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mélio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six_sigma_idea"/>
          <p:cNvPicPr/>
          <p:nvPr/>
        </p:nvPicPr>
        <p:blipFill>
          <a:blip r:embed="rId1"/>
          <a:stretch/>
        </p:blipFill>
        <p:spPr>
          <a:xfrm>
            <a:off x="5276880" y="2666880"/>
            <a:ext cx="3570120" cy="358164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6"/>
          <p:cNvSpPr/>
          <p:nvPr/>
        </p:nvSpPr>
        <p:spPr>
          <a:xfrm rot="16863600">
            <a:off x="2857320" y="3085560"/>
            <a:ext cx="4343400" cy="2133360"/>
          </a:xfrm>
          <a:custGeom>
            <a:avLst/>
            <a:gdLst>
              <a:gd name="textAreaLeft" fmla="*/ 759960 w 4343400"/>
              <a:gd name="textAreaRight" fmla="*/ 3148920 w 4343400"/>
              <a:gd name="textAreaTop" fmla="*/ 285840 h 2133360"/>
              <a:gd name="textAreaBottom" fmla="*/ 18475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1013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393E-DA63-4D56-82D3-992A8449D2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Qu’est ce que la qualité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457200" y="1676520"/>
            <a:ext cx="8229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« la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conformité aux exigences,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non pas ce qui est bon ou beau »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Philip Crosby photo"/>
          <p:cNvPicPr/>
          <p:nvPr/>
        </p:nvPicPr>
        <p:blipFill>
          <a:blip r:embed="rId1"/>
          <a:stretch/>
        </p:blipFill>
        <p:spPr>
          <a:xfrm>
            <a:off x="533520" y="3200400"/>
            <a:ext cx="1993680" cy="259092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2590920" y="3657600"/>
            <a:ext cx="624816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ur Absolutes of Quality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CA81-F804-4778-A310-C2808CDA3D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Arial"/>
              </a:rPr>
              <a:t>éfinition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des indicateurs de qualité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Arial"/>
              </a:rPr>
              <a:t>Les mesures établies utilisées pour déterminer à quel point une organisation répond aux besoins et aux attentes opérationnelles et de perform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ISO9001:2000 (5.4.1; 8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ISO15189:2007 (4.12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6A82-19EC-48B1-9DA2-83BBFFEA7A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Donc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es indicateurs de qualité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onnent une information sur la performance des proces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terminent la qualité de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ettent en avant les points qui peuvent être préoccu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dentifient les domaines dans lesquels une investigation supplémentaire est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istent les changements dans le te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0CE6-F664-4DA6-BD13-CFF7F480DE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esurer la performanc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oins d’indicateurs, c’est mieux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lier les indicateurs aux facteurs nécessaires pour réuss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sures basées sur les besoins des clients et des différentes parties pren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s les niveaux du laboratoire sont concernés - commencer par le ha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anger en fonction des évolutions de stratégie et de l’environn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voir des cibles et objectifs établis sur la base de recherches plutôt que sur une estimation arbitraire.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ark Graham Br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C0C1-2553-4AF2-852D-A43BC0100C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1" descr="j0427771"/>
          <p:cNvPicPr/>
          <p:nvPr/>
        </p:nvPicPr>
        <p:blipFill>
          <a:blip r:embed="rId1"/>
          <a:stretch/>
        </p:blipFill>
        <p:spPr>
          <a:xfrm>
            <a:off x="5497560" y="1676520"/>
            <a:ext cx="3570120" cy="4419360"/>
          </a:xfrm>
          <a:prstGeom prst="rect">
            <a:avLst/>
          </a:prstGeom>
          <a:ln w="57240">
            <a:solidFill>
              <a:srgbClr val="00007d"/>
            </a:solidFill>
            <a:miter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Huit étapes pour développer de bons indic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5410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jectivit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éthodolog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mites d’accepta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terpré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mites de l’indica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s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 d’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 de sor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A082-BB87-423F-AE57-F1A06ADBBF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e SECRET d’une équipe d’indicateurs qual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4572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ngagez les personnes qui font le travail car elles savent ce qu’elles fon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8" descr="laboratory_botswana"/>
          <p:cNvPicPr/>
          <p:nvPr/>
        </p:nvPicPr>
        <p:blipFill>
          <a:blip r:embed="rId1"/>
          <a:srcRect l="0" t="0" r="30479" b="0"/>
          <a:stretch/>
        </p:blipFill>
        <p:spPr>
          <a:xfrm>
            <a:off x="5029200" y="1981080"/>
            <a:ext cx="3578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EB96-D7DB-4594-9B6D-742C8036F4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la fin de ce module, les participants seront en mesur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’historique des processus d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’importance des processus d’amélioration dans le maintien de la qualit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pliquer la nécessité d’avoir des outils pour contrôler les processus de laboratoire afin de pouvoir identifier les problèmes et les résoud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DAD1-CBB5-42A4-BE68-2B24D8EC69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aractéris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3" descr="Untitled-27"/>
          <p:cNvPicPr/>
          <p:nvPr/>
        </p:nvPicPr>
        <p:blipFill>
          <a:blip r:embed="rId1"/>
          <a:stretch/>
        </p:blipFill>
        <p:spPr>
          <a:xfrm>
            <a:off x="838080" y="1447920"/>
            <a:ext cx="723924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3068-1615-45D5-B899-7FEBF2BC71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ise en gard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8390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« Beaucoup d’organisations passent des milliers d’heures à collecter et interpréter des données. Cependant, beaucoup de ces heures ne sont rien de plus qu’une perte de temps car elles analysent de mauvaises mesures, conduisant à prendre des décisions erronées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1143000" y="4876920"/>
            <a:ext cx="7620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ark Graham Brown</a:t>
            </a:r>
            <a:br>
              <a:rPr sz="2400"/>
            </a:br>
            <a:r>
              <a:rPr b="0" i="1" lang="fr-FR" sz="2000" spc="-1" strike="noStrike">
                <a:solidFill>
                  <a:srgbClr val="000000"/>
                </a:solidFill>
                <a:latin typeface="Verdana"/>
              </a:rPr>
              <a:t>Using the Right Metrics to Drive World Class Performance</a:t>
            </a:r>
            <a:br>
              <a:rPr sz="20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Espace réservé du pied de page 2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2EC5-4DE2-442D-B4DF-06DAD9D7C3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Indicateurs dénués de s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3" descr="j0290897[1]"/>
          <p:cNvPicPr/>
          <p:nvPr/>
        </p:nvPicPr>
        <p:blipFill>
          <a:blip r:embed="rId1"/>
          <a:stretch/>
        </p:blipFill>
        <p:spPr>
          <a:xfrm rot="20365800">
            <a:off x="685440" y="2209320"/>
            <a:ext cx="3962520" cy="3730680"/>
          </a:xfrm>
          <a:prstGeom prst="rect">
            <a:avLst/>
          </a:prstGeom>
          <a:ln w="0">
            <a:noFill/>
          </a:ln>
        </p:spPr>
      </p:pic>
      <p:grpSp>
        <p:nvGrpSpPr>
          <p:cNvPr id="262" name="Group 4"/>
          <p:cNvGrpSpPr/>
          <p:nvPr/>
        </p:nvGrpSpPr>
        <p:grpSpPr>
          <a:xfrm>
            <a:off x="2665800" y="1447920"/>
            <a:ext cx="5682960" cy="1156320"/>
            <a:chOff x="2665800" y="1447920"/>
            <a:chExt cx="5682960" cy="1156320"/>
          </a:xfrm>
        </p:grpSpPr>
        <p:sp>
          <p:nvSpPr>
            <p:cNvPr id="263" name="Text Box 5"/>
            <p:cNvSpPr/>
            <p:nvPr/>
          </p:nvSpPr>
          <p:spPr>
            <a:xfrm>
              <a:off x="2665800" y="1447920"/>
              <a:ext cx="461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[culture urine] * [glucose] * [INR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6"/>
            <p:cNvSpPr/>
            <p:nvPr/>
          </p:nvSpPr>
          <p:spPr>
            <a:xfrm>
              <a:off x="2819520" y="2057400"/>
              <a:ext cx="426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7"/>
            <p:cNvSpPr/>
            <p:nvPr/>
          </p:nvSpPr>
          <p:spPr>
            <a:xfrm>
              <a:off x="2743200" y="2133720"/>
              <a:ext cx="441972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[NUPA </a:t>
              </a:r>
              <a:r>
                <a:rPr b="1" lang="fr-FR" sz="2400" spc="-1" strike="noStrike" baseline="-12000">
                  <a:solidFill>
                    <a:srgbClr val="000000"/>
                  </a:solidFill>
                  <a:latin typeface="Times New Roman"/>
                </a:rPr>
                <a:t>hr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] * [Téléphone </a:t>
              </a:r>
              <a:r>
                <a:rPr b="1" lang="fr-FR" sz="2400" spc="-1" strike="noStrike" baseline="-12000">
                  <a:solidFill>
                    <a:srgbClr val="000000"/>
                  </a:solidFill>
                  <a:latin typeface="Times New Roman"/>
                </a:rPr>
                <a:t>minutes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8"/>
            <p:cNvSpPr/>
            <p:nvPr/>
          </p:nvSpPr>
          <p:spPr>
            <a:xfrm>
              <a:off x="7377120" y="1743120"/>
              <a:ext cx="9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Times New Roman"/>
                </a:rPr>
                <a:t>X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9"/>
          <p:cNvSpPr/>
          <p:nvPr/>
        </p:nvSpPr>
        <p:spPr>
          <a:xfrm>
            <a:off x="4952880" y="3352680"/>
            <a:ext cx="3733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Lucida Calligraphy"/>
              </a:rPr>
              <a:t>Ce n’est pas parce qu’un ordinateur peut calculer une valeur qu’il devrait le fa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E999-CEA2-45E3-9FB8-61F1AE23C5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s d’indicateurs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80880" y="933480"/>
          <a:ext cx="8153640" cy="5481720"/>
        </p:xfrm>
        <a:graphic>
          <a:graphicData uri="http://schemas.openxmlformats.org/drawingml/2006/table">
            <a:tbl>
              <a:tblPr/>
              <a:tblGrid>
                <a:gridCol w="2019600"/>
                <a:gridCol w="1790640"/>
                <a:gridCol w="2466720"/>
                <a:gridCol w="18766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stè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é analy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Analyse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st analy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184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Demande d’analyse exacte et approprié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Identification adéquate du pat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Exactitude des tests rapi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Valeurs critiques rend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Temps nécessaire pour premiers résult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atisfaction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Exactitude de l’information sur échantill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corrélation cytologie/biopsie cervic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atisfaction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uivi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uivi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Contrôle du diabète </a:t>
                      </a:r>
                      <a:br>
                        <a:rPr sz="1600"/>
                      </a:b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recherche d’ hyperlipidém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contamination hémocul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1DA1-D8D1-40CB-808D-1D65B3C864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2438280" y="45720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762120" y="5791320"/>
            <a:ext cx="77724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Reference: Hilborne L. Developing a core set of laboratory based quality indicators. IQLM Conference; 2005 Apr 29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3" descr="Untitled-26"/>
          <p:cNvPicPr/>
          <p:nvPr/>
        </p:nvPicPr>
        <p:blipFill>
          <a:blip r:embed="rId1"/>
          <a:stretch/>
        </p:blipFill>
        <p:spPr>
          <a:xfrm>
            <a:off x="685800" y="685800"/>
            <a:ext cx="678168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4D6F-21E7-4F26-A946-36489364E3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Verdana"/>
              </a:rPr>
              <a:t>Prudence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4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héoriquement, les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dicateurs de résultat pour le pati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évaluent mieux la qualité, mais sont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s plus difficiles à mesurer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p d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nt un grand nombre de donn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écessitent des périodes de recueil étend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09480" y="49528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vid H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edicare Quality Improvement Bad Apples or Bad System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AMA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2003;289:354-35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0D50-CC4B-4D7B-BD71-095E74EB15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9"/>
          <p:cNvSpPr/>
          <p:nvPr/>
        </p:nvSpPr>
        <p:spPr>
          <a:xfrm>
            <a:off x="4952880" y="1849320"/>
            <a:ext cx="3962520" cy="37339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22"/>
          <p:cNvGrpSpPr/>
          <p:nvPr/>
        </p:nvGrpSpPr>
        <p:grpSpPr>
          <a:xfrm>
            <a:off x="4674240" y="1620720"/>
            <a:ext cx="4464720" cy="4572000"/>
            <a:chOff x="4674240" y="1620720"/>
            <a:chExt cx="4464720" cy="4572000"/>
          </a:xfrm>
        </p:grpSpPr>
        <p:sp>
          <p:nvSpPr>
            <p:cNvPr id="286" name="AutoShape 21"/>
            <p:cNvSpPr/>
            <p:nvPr/>
          </p:nvSpPr>
          <p:spPr>
            <a:xfrm>
              <a:off x="4876920" y="1620720"/>
              <a:ext cx="405756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39289"/>
            <p:cNvSpPr/>
            <p:nvPr/>
          </p:nvSpPr>
          <p:spPr>
            <a:xfrm>
              <a:off x="5595120" y="1963440"/>
              <a:ext cx="2621520" cy="29545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39290"/>
            <p:cNvSpPr/>
            <p:nvPr/>
          </p:nvSpPr>
          <p:spPr>
            <a:xfrm rot="7200000">
              <a:off x="5787720" y="2828160"/>
              <a:ext cx="2954160" cy="26218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39292"/>
            <p:cNvSpPr/>
            <p:nvPr/>
          </p:nvSpPr>
          <p:spPr>
            <a:xfrm rot="14400000">
              <a:off x="5070240" y="2831040"/>
              <a:ext cx="2954520" cy="26215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39287"/>
            <p:cNvSpPr/>
            <p:nvPr/>
          </p:nvSpPr>
          <p:spPr>
            <a:xfrm>
              <a:off x="7624080" y="250488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39288"/>
            <p:cNvSpPr/>
            <p:nvPr/>
          </p:nvSpPr>
          <p:spPr>
            <a:xfrm>
              <a:off x="6379920" y="493236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39291"/>
            <p:cNvSpPr/>
            <p:nvPr/>
          </p:nvSpPr>
          <p:spPr>
            <a:xfrm>
              <a:off x="5135760" y="250488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520" y="70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essentiels pour la mise en oeuv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0"/>
          <p:cNvSpPr/>
          <p:nvPr/>
        </p:nvSpPr>
        <p:spPr>
          <a:xfrm>
            <a:off x="457200" y="154476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1"/>
          <p:cNvSpPr/>
          <p:nvPr/>
        </p:nvSpPr>
        <p:spPr>
          <a:xfrm>
            <a:off x="5029200" y="27637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Amélioration contin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29"/>
          <p:cNvSpPr/>
          <p:nvPr/>
        </p:nvSpPr>
        <p:spPr>
          <a:xfrm>
            <a:off x="152280" y="1620720"/>
            <a:ext cx="4800600" cy="4496040"/>
          </a:xfrm>
          <a:prstGeom prst="rightArrowCallout">
            <a:avLst>
              <a:gd name="adj1" fmla="val 25002"/>
              <a:gd name="adj2" fmla="val 25000"/>
              <a:gd name="adj3" fmla="val 17796"/>
              <a:gd name="adj4" fmla="val 6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0"/>
          <p:cNvSpPr/>
          <p:nvPr/>
        </p:nvSpPr>
        <p:spPr>
          <a:xfrm>
            <a:off x="0" y="1925640"/>
            <a:ext cx="3429000" cy="38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Plan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La direction Participation 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F367-B838-4494-ADEA-7C619AC797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4038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Planif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tebulb"/>
          <p:cNvSpPr/>
          <p:nvPr/>
        </p:nvSpPr>
        <p:spPr>
          <a:xfrm>
            <a:off x="4952880" y="838080"/>
            <a:ext cx="4038840" cy="525780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0" y="1219320"/>
            <a:ext cx="6629400" cy="59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tudier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uses primair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 l’err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estion du ris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éfaillances, défaillances potentielles et approximation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ûts, bénéfices, et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 prior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ûts de l’in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6248520" y="1066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rreur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5181480" y="190512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faillanc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2" descr="j0424784"/>
          <p:cNvPicPr/>
          <p:nvPr/>
        </p:nvPicPr>
        <p:blipFill>
          <a:blip r:embed="rId6"/>
          <a:stretch/>
        </p:blipFill>
        <p:spPr>
          <a:xfrm>
            <a:off x="5334120" y="2362320"/>
            <a:ext cx="1774800" cy="163188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13"/>
          <p:cNvSpPr/>
          <p:nvPr/>
        </p:nvSpPr>
        <p:spPr>
          <a:xfrm>
            <a:off x="6553080" y="1523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Bénéfic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7086600" y="23623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riorité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5"/>
          <p:cNvSpPr/>
          <p:nvPr/>
        </p:nvSpPr>
        <p:spPr>
          <a:xfrm>
            <a:off x="609480" y="220968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C4D7-D9F1-4565-9266-F766C1CB82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a Direction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bonne direction favorise la culture de l’amélioration 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uvertur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: les autres ont aussi de bonnes id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ngagem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de parvenir à l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pportunité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: le personnel peut partici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10031_lores"/>
          <p:cNvPicPr/>
          <p:nvPr/>
        </p:nvPicPr>
        <p:blipFill>
          <a:blip r:embed="rId1"/>
          <a:srcRect l="4686" t="0" r="0" b="0"/>
          <a:stretch/>
        </p:blipFill>
        <p:spPr>
          <a:xfrm>
            <a:off x="6172200" y="1371600"/>
            <a:ext cx="2806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8E6C-2854-40B0-9288-6BCE970055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responsables ne savent pas toujours ce que les employés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av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et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f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mélioration continue requiert la participation de la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direction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et de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’équi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7" descr="j0216070"/>
          <p:cNvPicPr/>
          <p:nvPr/>
        </p:nvPicPr>
        <p:blipFill>
          <a:blip r:embed="rId1"/>
          <a:stretch/>
        </p:blipFill>
        <p:spPr>
          <a:xfrm>
            <a:off x="4876920" y="3809880"/>
            <a:ext cx="3962160" cy="2495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PHIL_2104_lores"/>
          <p:cNvPicPr/>
          <p:nvPr/>
        </p:nvPicPr>
        <p:blipFill>
          <a:blip r:embed="rId2"/>
          <a:stretch/>
        </p:blipFill>
        <p:spPr>
          <a:xfrm>
            <a:off x="4876920" y="1219320"/>
            <a:ext cx="39621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B872-15CC-42AD-8167-355B3982B0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Arial"/>
              </a:rPr>
              <a:t>Scén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ous avez mis en œuvre au laboratoire un nouveau test pour la détermination des CD4. Votre personnel est formé et utilise aisément ce test. Il a été validé, des résultats ont été rendus et il semble bien fonction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457200" y="4038480"/>
            <a:ext cx="8305920" cy="23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mment êtes vous certain que le test fonctionne bien maintenant, et continuera à bien fonctionner dans le futur ?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A3E8-E13B-4FD1-8712-AE04580316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685800" y="1494000"/>
            <a:ext cx="80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jet tous les 6 mo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 calendrier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7" descr="Untitled-24"/>
          <p:cNvPicPr/>
          <p:nvPr/>
        </p:nvPicPr>
        <p:blipFill>
          <a:blip r:embed="rId1"/>
          <a:stretch/>
        </p:blipFill>
        <p:spPr>
          <a:xfrm>
            <a:off x="838080" y="2971800"/>
            <a:ext cx="73630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6949-A8EE-426D-B945-D4FDDA2C14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8" descr="5721_lores"/>
          <p:cNvPicPr/>
          <p:nvPr/>
        </p:nvPicPr>
        <p:blipFill>
          <a:blip r:embed="rId1"/>
          <a:srcRect l="26742" t="0" r="0" b="0"/>
          <a:stretch/>
        </p:blipFill>
        <p:spPr>
          <a:xfrm>
            <a:off x="4724280" y="2666880"/>
            <a:ext cx="3930840" cy="354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9" descr="meeting_africa"/>
          <p:cNvPicPr/>
          <p:nvPr/>
        </p:nvPicPr>
        <p:blipFill>
          <a:blip r:embed="rId2"/>
          <a:srcRect l="28138" t="0" r="0" b="0"/>
          <a:stretch/>
        </p:blipFill>
        <p:spPr>
          <a:xfrm>
            <a:off x="1143000" y="2666880"/>
            <a:ext cx="3724200" cy="35816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1600200" y="1566720"/>
            <a:ext cx="60958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Utiliser une approche d’équi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Impliquer le personnel technique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A490-6331-4686-B1DD-E28E003882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7" descr="j0316798"/>
          <p:cNvPicPr/>
          <p:nvPr/>
        </p:nvPicPr>
        <p:blipFill>
          <a:blip r:embed="rId1"/>
          <a:stretch/>
        </p:blipFill>
        <p:spPr>
          <a:xfrm>
            <a:off x="3657600" y="2590920"/>
            <a:ext cx="4648320" cy="304308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5"/>
          <p:cNvSpPr/>
          <p:nvPr/>
        </p:nvSpPr>
        <p:spPr>
          <a:xfrm>
            <a:off x="1828800" y="137160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Utiliser des outils d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838080" y="2286000"/>
            <a:ext cx="34290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u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v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dic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ix Sig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4A75-F0DC-49C5-8C16-EE6E9488D7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0" descr=""/>
          <p:cNvPicPr/>
          <p:nvPr/>
        </p:nvPicPr>
        <p:blipFill>
          <a:blip r:embed="rId1"/>
          <a:srcRect l="16994" t="4707" r="0" b="14122"/>
          <a:stretch/>
        </p:blipFill>
        <p:spPr>
          <a:xfrm>
            <a:off x="609480" y="1828800"/>
            <a:ext cx="3657600" cy="27795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3" descr="manuals"/>
          <p:cNvPicPr/>
          <p:nvPr/>
        </p:nvPicPr>
        <p:blipFill>
          <a:blip r:embed="rId2"/>
          <a:srcRect l="63519" t="15741" r="0" b="15741"/>
          <a:stretch/>
        </p:blipFill>
        <p:spPr>
          <a:xfrm>
            <a:off x="4800600" y="3809880"/>
            <a:ext cx="1996920" cy="238788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457200" y="914400"/>
            <a:ext cx="807732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rriger ou prévenir les pratiques médioc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ndre compte des progrè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x responsables et a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17" descr="5749_thumb"/>
          <p:cNvPicPr/>
          <p:nvPr/>
        </p:nvPicPr>
        <p:blipFill>
          <a:blip r:embed="rId3"/>
          <a:stretch/>
        </p:blipFill>
        <p:spPr>
          <a:xfrm>
            <a:off x="6553080" y="1905120"/>
            <a:ext cx="2438640" cy="3200400"/>
          </a:xfrm>
          <a:prstGeom prst="rect">
            <a:avLst/>
          </a:prstGeom>
          <a:ln w="0">
            <a:noFill/>
          </a:ln>
        </p:spPr>
      </p:pic>
      <p:sp>
        <p:nvSpPr>
          <p:cNvPr id="344" name="AutoShape 12"/>
          <p:cNvSpPr/>
          <p:nvPr/>
        </p:nvSpPr>
        <p:spPr>
          <a:xfrm>
            <a:off x="4038480" y="1905120"/>
            <a:ext cx="2819520" cy="205740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20"/>
          <p:cNvSpPr/>
          <p:nvPr/>
        </p:nvSpPr>
        <p:spPr>
          <a:xfrm>
            <a:off x="2514600" y="2666880"/>
            <a:ext cx="1523880" cy="1600200"/>
          </a:xfrm>
          <a:prstGeom prst="ellipse">
            <a:avLst/>
          </a:prstGeom>
          <a:noFill/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1901-44BC-4F7A-B9F1-722CE4A120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9" descr="6216_thumb"/>
          <p:cNvPicPr/>
          <p:nvPr/>
        </p:nvPicPr>
        <p:blipFill>
          <a:blip r:embed="rId1"/>
          <a:stretch/>
        </p:blipFill>
        <p:spPr>
          <a:xfrm>
            <a:off x="6858000" y="5105520"/>
            <a:ext cx="1905120" cy="12380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0" descr="j0409007"/>
          <p:cNvPicPr/>
          <p:nvPr/>
        </p:nvPicPr>
        <p:blipFill>
          <a:blip r:embed="rId2"/>
          <a:stretch/>
        </p:blipFill>
        <p:spPr>
          <a:xfrm>
            <a:off x="5334120" y="4495680"/>
            <a:ext cx="1322280" cy="198144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l’information disponible pour étud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ggestions ou plaintes des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les erreurs provenant du programme de gestion des problè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blèmes identifiés lors d’audits inter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WordArt 11"/>
          <p:cNvSpPr txBox="1"/>
          <p:nvPr/>
        </p:nvSpPr>
        <p:spPr>
          <a:xfrm>
            <a:off x="5638680" y="54100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4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7BA1-3F57-4F3B-8872-9918B88330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 possible concevez une étude dont les résultats seront statistiquement mesurables.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4495680" y="1752480"/>
          <a:ext cx="4089600" cy="27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752480"/>
                    <a:ext cx="4089600" cy="27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9" name="Picture 11" descr="lean_6_pre"/>
          <p:cNvPicPr/>
          <p:nvPr/>
        </p:nvPicPr>
        <p:blipFill>
          <a:blip r:embed="rId3"/>
          <a:stretch/>
        </p:blipFill>
        <p:spPr>
          <a:xfrm>
            <a:off x="1447920" y="2438280"/>
            <a:ext cx="2958840" cy="29718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2" descr="lean_7_post"/>
          <p:cNvPicPr/>
          <p:nvPr/>
        </p:nvPicPr>
        <p:blipFill>
          <a:blip r:embed="rId4"/>
          <a:stretch/>
        </p:blipFill>
        <p:spPr>
          <a:xfrm>
            <a:off x="5029200" y="2468520"/>
            <a:ext cx="2971800" cy="290664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14"/>
          <p:cNvSpPr/>
          <p:nvPr/>
        </p:nvSpPr>
        <p:spPr>
          <a:xfrm>
            <a:off x="762120" y="5486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re lean pour rapport final d’hémoculture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5"/>
          <p:cNvSpPr/>
          <p:nvPr/>
        </p:nvSpPr>
        <p:spPr>
          <a:xfrm>
            <a:off x="4876920" y="5486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ost lean pour rapport final d’hémoculture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3DD1-5027-47EF-9BDF-FC353BE747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7" descr="j0157047"/>
          <p:cNvPicPr/>
          <p:nvPr/>
        </p:nvPicPr>
        <p:blipFill>
          <a:blip r:embed="rId1"/>
          <a:stretch/>
        </p:blipFill>
        <p:spPr>
          <a:xfrm>
            <a:off x="5334120" y="1447920"/>
            <a:ext cx="2838240" cy="48006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Durée des indicateurs qual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632448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Utiliser un indicateur tant qu’il donne une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information utile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78840" y="4495680"/>
            <a:ext cx="594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Lucida Calligraphy"/>
              </a:rPr>
              <a:t>Ne restez pas bloqué</a:t>
            </a:r>
            <a:br>
              <a:rPr sz="3600"/>
            </a:br>
            <a:r>
              <a:rPr b="1" lang="fr-FR" sz="3600" spc="-1" strike="noStrike">
                <a:solidFill>
                  <a:srgbClr val="ff0000"/>
                </a:solidFill>
                <a:latin typeface="Lucida Calligraphy"/>
              </a:rPr>
              <a:t> avec vos indic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FD39-795F-4CB3-9CE0-B47A5EAE2E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3"/>
          <p:cNvSpPr/>
          <p:nvPr/>
        </p:nvSpPr>
        <p:spPr>
          <a:xfrm>
            <a:off x="990720" y="2209680"/>
            <a:ext cx="3657600" cy="3429000"/>
          </a:xfrm>
          <a:prstGeom prst="ellipse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4"/>
          <p:cNvSpPr/>
          <p:nvPr/>
        </p:nvSpPr>
        <p:spPr>
          <a:xfrm>
            <a:off x="1981080" y="1523880"/>
            <a:ext cx="160020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Planif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5"/>
          <p:cNvSpPr/>
          <p:nvPr/>
        </p:nvSpPr>
        <p:spPr>
          <a:xfrm>
            <a:off x="3429000" y="3048120"/>
            <a:ext cx="1523880" cy="152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Fa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6"/>
          <p:cNvSpPr/>
          <p:nvPr/>
        </p:nvSpPr>
        <p:spPr>
          <a:xfrm>
            <a:off x="304920" y="3048120"/>
            <a:ext cx="1600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Ag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1447920" y="4343400"/>
            <a:ext cx="2590560" cy="2209680"/>
          </a:xfrm>
          <a:custGeom>
            <a:avLst/>
            <a:gdLst>
              <a:gd name="textAreaLeft" fmla="*/ 693720 w 2590560"/>
              <a:gd name="textAreaRight" fmla="*/ 1896840 w 2590560"/>
              <a:gd name="textAreaTop" fmla="*/ 591480 h 2209680"/>
              <a:gd name="textAreaBottom" fmla="*/ 16182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ubRRectCallout"/>
          <p:cNvSpPr/>
          <p:nvPr/>
        </p:nvSpPr>
        <p:spPr>
          <a:xfrm>
            <a:off x="5257800" y="1143000"/>
            <a:ext cx="3581280" cy="2590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haque étape est essentielle pour conserver la qualité du cycl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1" descr="head"/>
          <p:cNvPicPr/>
          <p:nvPr/>
        </p:nvPicPr>
        <p:blipFill>
          <a:blip r:embed="rId1"/>
          <a:stretch/>
        </p:blipFill>
        <p:spPr>
          <a:xfrm>
            <a:off x="4572000" y="3657600"/>
            <a:ext cx="2021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8A6F-C03B-4A94-8455-1801AC162C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qualité comp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mélioration continue est le coeur de la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1814-F91A-46EF-B481-DFA73C0A9C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181120" y="1523880"/>
            <a:ext cx="3962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estions 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entaire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63" descr="bulles_def"/>
          <p:cNvPicPr/>
          <p:nvPr/>
        </p:nvPicPr>
        <p:blipFill>
          <a:blip r:embed="rId1"/>
          <a:stretch/>
        </p:blipFill>
        <p:spPr>
          <a:xfrm>
            <a:off x="228600" y="114300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B31E-A246-4D04-9145-087AE87E23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44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930B-FAE3-4A71-B2E5-14477CBC2B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W. Edwards Deming</a:t>
            </a:r>
            <a:br>
              <a:rPr sz="4400"/>
            </a:br>
            <a:r>
              <a:rPr b="0" lang="fr-FR" sz="4400" spc="-1" strike="noStrike">
                <a:solidFill>
                  <a:srgbClr val="00007d"/>
                </a:solidFill>
                <a:latin typeface="Arial"/>
              </a:rPr>
              <a:t>14 points pour la qualité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320004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Garder en permanence à l’esprit l’objectif d’améliora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méliorer toujours et consta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Deming"/>
          <p:cNvPicPr/>
          <p:nvPr/>
        </p:nvPicPr>
        <p:blipFill>
          <a:blip r:embed="rId1"/>
          <a:stretch/>
        </p:blipFill>
        <p:spPr>
          <a:xfrm>
            <a:off x="7162920" y="533520"/>
            <a:ext cx="1666800" cy="2057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8" name="Text Box 7"/>
          <p:cNvSpPr/>
          <p:nvPr/>
        </p:nvSpPr>
        <p:spPr>
          <a:xfrm>
            <a:off x="380880" y="1905120"/>
            <a:ext cx="647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ux points abordent l’amélioration continue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E525-0801-42F0-95B1-3E78D55D97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e Cycle de De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352440" y="269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"/>
          <p:cNvSpPr/>
          <p:nvPr/>
        </p:nvSpPr>
        <p:spPr>
          <a:xfrm>
            <a:off x="352440" y="2698920"/>
            <a:ext cx="125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1"/>
          <p:cNvSpPr/>
          <p:nvPr/>
        </p:nvSpPr>
        <p:spPr>
          <a:xfrm>
            <a:off x="352440" y="269892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3"/>
          <p:cNvSpPr/>
          <p:nvPr/>
        </p:nvSpPr>
        <p:spPr>
          <a:xfrm>
            <a:off x="352440" y="2698920"/>
            <a:ext cx="125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8"/>
          <p:cNvSpPr/>
          <p:nvPr/>
        </p:nvSpPr>
        <p:spPr>
          <a:xfrm>
            <a:off x="-1371600" y="492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9" descr="Untitled-22"/>
          <p:cNvPicPr/>
          <p:nvPr/>
        </p:nvPicPr>
        <p:blipFill>
          <a:blip r:embed="rId1"/>
          <a:stretch/>
        </p:blipFill>
        <p:spPr>
          <a:xfrm>
            <a:off x="1295280" y="1217520"/>
            <a:ext cx="586764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A6BD-C177-4DFF-8C8D-8209080CE4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Amélioration continue</a:t>
            </a:r>
            <a:br>
              <a:rPr sz="3600"/>
            </a:b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(ISO15189:2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5715000" y="1371600"/>
            <a:ext cx="3048120" cy="1828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velopper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un plan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our un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améli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0" y="1752480"/>
            <a:ext cx="3886200" cy="312444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Identifier le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source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d’erreur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potentielle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6248520" y="3429000"/>
            <a:ext cx="2361960" cy="12952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ettre en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euv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6095880" y="4800600"/>
            <a:ext cx="2514600" cy="1752480"/>
          </a:xfrm>
          <a:prstGeom prst="flowChartPunchedTap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voir l’efficacité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de l’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3124080" y="3581280"/>
            <a:ext cx="2895840" cy="26672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juster l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plan d’action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et modifier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le systè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 rot="20602200">
            <a:off x="2824200" y="1784160"/>
            <a:ext cx="3116160" cy="114300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2"/>
          <p:cNvGrpSpPr/>
          <p:nvPr/>
        </p:nvGrpSpPr>
        <p:grpSpPr>
          <a:xfrm>
            <a:off x="5116320" y="3429000"/>
            <a:ext cx="2341080" cy="2209680"/>
            <a:chOff x="5116320" y="3429000"/>
            <a:chExt cx="2341080" cy="2209680"/>
          </a:xfrm>
        </p:grpSpPr>
        <p:sp>
          <p:nvSpPr>
            <p:cNvPr id="168" name="AutoShape 11"/>
            <p:cNvSpPr/>
            <p:nvPr/>
          </p:nvSpPr>
          <p:spPr>
            <a:xfrm>
              <a:off x="5181480" y="3429000"/>
              <a:ext cx="221004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89455"/>
            <p:cNvSpPr/>
            <p:nvPr/>
          </p:nvSpPr>
          <p:spPr>
            <a:xfrm>
              <a:off x="5572800" y="3594600"/>
              <a:ext cx="1427760" cy="142776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89456"/>
            <p:cNvSpPr/>
            <p:nvPr/>
          </p:nvSpPr>
          <p:spPr>
            <a:xfrm rot="7200000">
              <a:off x="5767920" y="3931920"/>
              <a:ext cx="1427760" cy="142812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89458"/>
            <p:cNvSpPr/>
            <p:nvPr/>
          </p:nvSpPr>
          <p:spPr>
            <a:xfrm rot="14400000">
              <a:off x="5377320" y="3933720"/>
              <a:ext cx="1427760" cy="142776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89453"/>
            <p:cNvSpPr/>
            <p:nvPr/>
          </p:nvSpPr>
          <p:spPr>
            <a:xfrm>
              <a:off x="6677640" y="385632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89454"/>
            <p:cNvSpPr/>
            <p:nvPr/>
          </p:nvSpPr>
          <p:spPr>
            <a:xfrm>
              <a:off x="6000120" y="502956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89457"/>
            <p:cNvSpPr/>
            <p:nvPr/>
          </p:nvSpPr>
          <p:spPr>
            <a:xfrm>
              <a:off x="5322600" y="385632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AutoShape 19"/>
          <p:cNvSpPr/>
          <p:nvPr/>
        </p:nvSpPr>
        <p:spPr>
          <a:xfrm flipH="1" rot="16200000">
            <a:off x="7657920" y="3009600"/>
            <a:ext cx="1066680" cy="53352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95D1-B90E-470B-865E-FDF87F5541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utils conventionnels d’améli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udits inter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Évaluation externe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udit externe et accréd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Revue de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Opportunités d’amélio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dicateurs d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4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E3DB-96F7-4A21-B8E7-5A483BD98C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rôler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84" descr="Untitled-28"/>
          <p:cNvPicPr/>
          <p:nvPr/>
        </p:nvPicPr>
        <p:blipFill>
          <a:blip r:embed="rId1"/>
          <a:stretch/>
        </p:blipFill>
        <p:spPr>
          <a:xfrm>
            <a:off x="609480" y="1422360"/>
            <a:ext cx="739152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2:11:17Z</dcterms:modified>
  <cp:revision>140</cp:revision>
  <dc:subject/>
  <dc:title>Slide 1</dc:title>
</cp:coreProperties>
</file>