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12977-821E-4666-9594-DCB5B32E1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13CCD-2BBA-4512-B908-04D723FBE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E9813-52AD-4EB3-8705-044CB4420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18257-95C1-4A85-BC89-B82FC1275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F4355-000F-4E91-AC7A-07AE96A4C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7D5D1-3242-4CE7-A821-9178A00EE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7AC41-C205-4987-A87B-060C943EC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271D8-7148-48ED-95E9-917E2F11B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A32F2-1C4E-4738-AC4E-9623C6396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6B05C-1BE4-4FD5-AC9C-EACAA6D64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08BEA-41DC-40C7-A6E5-552B6DD95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83E10-D874-480E-AC38-9DE3ADE4D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623C2-4B2F-46C2-9A4A-09BEB2EEE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7F002-8BC2-4AAA-A69A-C0852F385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86CEB-019A-4145-8A80-A9E7638EF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D321A-CFED-477A-AF77-EBB32818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917C2-EEB7-4BA6-AF06-5A6960C4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0B46A-E443-403E-AA7F-666D30077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AFBE3-91D6-4179-9ECE-A9FDC492F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70323-A323-4529-9410-9626504D4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50E56-98D1-41CE-AF2B-0F8A75EF0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D0CA7-ED51-4464-96D3-26E5FA465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0DD64-B60B-4E75-908E-9B13AE37E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A3ECF-338B-4414-9DAF-C05ACFEC0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34847-B6EF-430D-A899-37064094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E359B-91AC-4923-83AB-E8C88B8D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D9B3B-EADC-4F10-95CF-6EC9BD78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0F754-A9E3-45A9-8B73-0DD0798809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00E70-8308-43BD-B97D-C871ED9F414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 Box 17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Text Box 21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6113A-1A79-44CF-9D75-0BBA7E9018A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4A713-7C9C-4937-AC0D-1632BE9D0E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9D679-7CF7-4346-90E8-44D24837CA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99"/>
                </a:solidFill>
                <a:latin typeface="Verdana"/>
              </a:rPr>
              <a:t>Checklist d’orient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1143000" y="1219320"/>
            <a:ext cx="6781680" cy="5333760"/>
          </a:xfrm>
          <a:prstGeom prst="pie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our du laborat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troduction à la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vue technique du laborat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ignes de conduite clefs du perso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ystème de gestion de la qualité au laborat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scriptif de po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1295280" y="1371600"/>
            <a:ext cx="64771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OM :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ate de début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OSITION :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ESPONSABLE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544E1-12C8-4E75-8585-0AFEC77CCA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762120" y="1066680"/>
            <a:ext cx="8001000" cy="4483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99"/>
                </a:solidFill>
                <a:latin typeface="Verdana"/>
              </a:rPr>
              <a:t>L’évaluation des performances peut plus mettre en lumière les opportunités d’amélioration pour le laboratoire que pour l’employ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MCj04260720000[1]"/>
          <p:cNvPicPr/>
          <p:nvPr/>
        </p:nvPicPr>
        <p:blipFill>
          <a:blip r:embed="rId1"/>
          <a:stretch/>
        </p:blipFill>
        <p:spPr>
          <a:xfrm>
            <a:off x="380880" y="838080"/>
            <a:ext cx="12398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6A034-B02C-4201-8B1E-A074918A57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Qualifications et descriptif de pos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533520" y="1219320"/>
            <a:ext cx="8305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« La direction du laboratoire devrait avoir des descriptifs de  poste qui définissent les qualifications et les fonctions de tout le personnel. »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SO15189: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762120" y="2819520"/>
            <a:ext cx="403848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éducation requ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certificats requ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diplômes requ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pré requises avant 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pré requises avant expé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compétences requi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5029200" y="2819520"/>
            <a:ext cx="365760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spécifie la hiérarch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spécifie les responsabilité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s rô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s fo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s responsabili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s structures de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762120" y="2438280"/>
            <a:ext cx="403848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Qual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5029200" y="2438280"/>
            <a:ext cx="365760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Descriptif de po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7A90C-FA2E-49F5-84F5-48E1EEFAB2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99"/>
                </a:solidFill>
                <a:latin typeface="Verdana"/>
              </a:rPr>
              <a:t>Évaluation des compétences Check-list </a:t>
            </a:r>
            <a:r>
              <a:rPr b="0" lang="fr-FR" sz="2000" spc="-1" strike="noStrike">
                <a:solidFill>
                  <a:srgbClr val="000099"/>
                </a:solidFill>
                <a:latin typeface="Verdana"/>
              </a:rPr>
              <a:t>(hau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7200" y="1981080"/>
          <a:ext cx="8229600" cy="4543560"/>
        </p:xfrm>
        <a:graphic>
          <a:graphicData uri="http://schemas.openxmlformats.org/drawingml/2006/table">
            <a:tbl>
              <a:tblPr/>
              <a:tblGrid>
                <a:gridCol w="2743200"/>
                <a:gridCol w="1066680"/>
                <a:gridCol w="304920"/>
                <a:gridCol w="533520"/>
                <a:gridCol w="609480"/>
                <a:gridCol w="2971800"/>
              </a:tblGrid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 technici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édure d’é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 d’é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valuat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ément de procéd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lu le manuel de procédu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ature du 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quipement disponi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ne de travail pro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éparation réacti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alise la tâche correct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alise la tâche opportuné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6447D-A9D3-4A5C-86F8-09D7D624DB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99"/>
                </a:solidFill>
                <a:latin typeface="Verdana"/>
              </a:rPr>
              <a:t>Évaluation des compétences Check-list</a:t>
            </a:r>
            <a:r>
              <a:rPr b="0" lang="fr-FR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99"/>
                </a:solidFill>
                <a:latin typeface="Arial"/>
              </a:rPr>
              <a:t>(b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1752480"/>
          <a:ext cx="8229600" cy="445464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182520"/>
                <a:gridCol w="731880"/>
                <a:gridCol w="182520"/>
                <a:gridCol w="655560"/>
                <a:gridCol w="28195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ai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sumé d’évalu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808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 formation requise pour combler les défaillances 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256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és recommandées 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 évaluation dans _____ jou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256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aires 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92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ature 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icien évalu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E0857-F45F-45BF-9B83-5AE4F53A92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Évaluation des compét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228600" y="1676520"/>
            <a:ext cx="8610480" cy="4647960"/>
          </a:xfrm>
          <a:prstGeom prst="flowChartDocument">
            <a:avLst/>
          </a:prstGeom>
          <a:solidFill>
            <a:srgbClr val="ffff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04920" y="1143000"/>
          <a:ext cx="8610480" cy="5108400"/>
        </p:xfrm>
        <a:graphic>
          <a:graphicData uri="http://schemas.openxmlformats.org/drawingml/2006/table">
            <a:tbl>
              <a:tblPr/>
              <a:tblGrid>
                <a:gridCol w="1143000"/>
                <a:gridCol w="914400"/>
                <a:gridCol w="1447560"/>
                <a:gridCol w="1295640"/>
                <a:gridCol w="1218960"/>
                <a:gridCol w="2590920"/>
              </a:tblGrid>
              <a:tr h="8352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stre d’évaluation des compéten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ôpital principal – Laboratoire de Microbiolog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âc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valua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valu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ai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ration Gr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 évaluation dans 1 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 évalu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ment des disques trop proches. Ré évaluation dans 14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3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 évaluation dans 1 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8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émocultu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/10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ifug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 évaluation dans 1 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4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plissage autocl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8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ée donn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 évalu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erreurs.  Lire le manuel et ré évaluer dans 10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B88F0-A3A4-4853-9622-E22E5DC8A8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380880" y="1523880"/>
            <a:ext cx="3962520" cy="542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iée au trav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pécifique à une tâ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iée à l’évaluation des compét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xemples: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évisions des manuels opérato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évision des mises à jour du manu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formation sur l’équipemen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457200" y="685800"/>
            <a:ext cx="4038480" cy="5205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99"/>
                </a:solidFill>
                <a:latin typeface="Verdana"/>
              </a:rPr>
              <a:t>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1"/>
          <p:cNvSpPr/>
          <p:nvPr/>
        </p:nvSpPr>
        <p:spPr>
          <a:xfrm>
            <a:off x="4572000" y="1752480"/>
            <a:ext cx="4267080" cy="48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iée au trav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eut ne pas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être spécifique à une tâ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eut ne pas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être liée à l’évaluation des  compét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xempl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nfé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work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lubs de rev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evues et littératur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2"/>
          <p:cNvSpPr/>
          <p:nvPr/>
        </p:nvSpPr>
        <p:spPr>
          <a:xfrm>
            <a:off x="4648320" y="609480"/>
            <a:ext cx="4267080" cy="520560"/>
          </a:xfrm>
          <a:prstGeom prst="rect">
            <a:avLst/>
          </a:prstGeom>
          <a:solidFill>
            <a:srgbClr val="00007d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</a:rPr>
              <a:t>Formation conti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7" descr="MCBD06810_0000[1]"/>
          <p:cNvPicPr/>
          <p:nvPr/>
        </p:nvPicPr>
        <p:blipFill>
          <a:blip r:embed="rId1"/>
          <a:stretch/>
        </p:blipFill>
        <p:spPr>
          <a:xfrm>
            <a:off x="6934320" y="3733920"/>
            <a:ext cx="1782720" cy="1484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8" descr="MCBS00263_0000[1]"/>
          <p:cNvPicPr/>
          <p:nvPr/>
        </p:nvPicPr>
        <p:blipFill>
          <a:blip r:embed="rId2"/>
          <a:stretch/>
        </p:blipFill>
        <p:spPr>
          <a:xfrm>
            <a:off x="2666880" y="2971800"/>
            <a:ext cx="1109880" cy="1295280"/>
          </a:xfrm>
          <a:prstGeom prst="rect">
            <a:avLst/>
          </a:prstGeom>
          <a:ln w="0">
            <a:noFill/>
          </a:ln>
        </p:spPr>
      </p:pic>
      <p:sp>
        <p:nvSpPr>
          <p:cNvPr id="144" name="WordArt 20"/>
          <p:cNvSpPr txBox="1"/>
          <p:nvPr/>
        </p:nvSpPr>
        <p:spPr>
          <a:xfrm>
            <a:off x="2819520" y="3505320"/>
            <a:ext cx="64764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Manual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92C5C-AEF5-4F35-9FAA-C5810D58EA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A9C3D-6BDF-4757-B899-BCA390E16994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99"/>
                </a:solidFill>
                <a:latin typeface="Verdana"/>
              </a:rPr>
              <a:t>Ressources de form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685800" y="1295280"/>
            <a:ext cx="3581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ersonnel inter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mité d’assurance qual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édec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nfirmier(ère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athologis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ntrôle des inf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pidémiologis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4800600" y="1295280"/>
            <a:ext cx="4114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xter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valuateu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Fabrica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ociétés scientifiqu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D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Organisations de normalis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L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F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MPj04010010000[1]"/>
          <p:cNvPicPr/>
          <p:nvPr/>
        </p:nvPicPr>
        <p:blipFill>
          <a:blip r:embed="rId1"/>
          <a:stretch/>
        </p:blipFill>
        <p:spPr>
          <a:xfrm>
            <a:off x="2514600" y="4191120"/>
            <a:ext cx="213048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49515-65E5-4939-89A2-F9F2D8385F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uses d’une performance médioc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533520" y="1752480"/>
            <a:ext cx="37335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Personnelles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oblème de san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istr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auvaise compréhe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anque de/mauvaise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mun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A004D-A7E3-4256-9F96-D605BA6231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457200" y="1143000"/>
            <a:ext cx="7467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ystématiques/géné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istractions sur lieu de trav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urcharge de trav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rientation médioc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ormation insuffis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s d’évaluation des compét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plexités des échantill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OS absentes ou pas val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OS ambiguë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Causes d’une performance médioc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8T14:47:58Z</dcterms:modified>
  <cp:revision>202</cp:revision>
  <dc:subject/>
  <dc:title>Slide 1</dc:title>
</cp:coreProperties>
</file>