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1E09-9811-4AC5-91CC-E005A0AAD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0D76-6D2A-45CA-80BA-9222724E0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9D24-8597-429D-85AB-25B93BA4B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3683-3087-42D0-8240-5B0156AE1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5985-03F5-4DDA-B932-910FEEC6F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E296-C3DE-412A-8192-97EE33454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BAF8-DF10-4B91-8E67-47171F4D4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7D6C-143C-4954-A523-4122951C3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403C-92BE-48E7-8D37-6A207326F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B0F5-148C-4163-AB41-5601575BF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F336-1401-49E3-9A34-81E333D9F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6749-4A80-4131-A232-7C66DD04C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F74A-D9F9-4F29-A9F8-023836BED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1FFF-7755-4C7A-8D57-7DD24EB93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B8B19-6C68-47A6-BDC4-DBD288FC4B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827A0-8D38-48F8-A7E1-9BF1ED2F56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5F56A-562C-41C2-B09C-83C5FF8209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04DDF-AECD-4503-8172-8D6042B4BE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DFEC-2AD7-48DE-BAAC-43B379F830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EBD2-79B8-4FB2-A282-89DB77E049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0E5F-DA73-4A7B-A431-9FE5CEC07D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C372-25A2-413E-9AC3-D24715F0B7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5B4B-A4C2-4BA8-99AD-5D7F10A3D15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E523-EE64-4802-9EB7-A035F0B97D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C8D1-57FF-40F7-8770-85021D0DE7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930A3-F7E6-416D-AF6D-907AA4DE9F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D489-6BA3-4F20-B435-4767D39140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C55C-63D2-4F92-903A-247019FAF4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705C-9B11-4A0B-8147-723F185524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F206-7375-4F89-9914-F3C6CBE15C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627D-C67A-492E-93CB-1684EA59FE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AE3E7-AE87-4F77-AFDA-A7B8CFB689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50243-9CB0-4044-976C-B298B5914F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225B9-FDDD-4E58-B27D-CC36AD8988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76650-A9DF-446F-89CC-5082DC674C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BA56F-B06E-41A4-8CDA-209D6B4244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A2C4E-9BA6-4141-A17F-78EA1FC7D4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69C22-AC3E-4A94-A0A2-B08E2939F7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D051-2DD4-421B-84F0-CA4F1537D5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019B-81D3-4948-B478-A3167FD3C1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4F5D-155A-480B-9F91-A4FCDCE26F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Verdana"/>
              </a:rPr>
              <a:t>Projet d’Organisation d’EEQ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5340-562B-443E-BD1D-9205DDE746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térêts du 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uts et object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ègles de confidenti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for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alendr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8511-2703-439A-A545-5F81174039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ntrô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é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ires, rétro-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ôle de “référence” du fournisseur d’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ires et recommandations des laboratoires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eilleurs moyens de résoudre les problè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eilleurs moyens de recommander certaines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MCj01572990000[1]"/>
          <p:cNvPicPr/>
          <p:nvPr/>
        </p:nvPicPr>
        <p:blipFill>
          <a:blip r:embed="rId1"/>
          <a:stretch/>
        </p:blipFill>
        <p:spPr>
          <a:xfrm>
            <a:off x="990720" y="4440240"/>
            <a:ext cx="2514600" cy="18842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8"/>
          <p:cNvSpPr/>
          <p:nvPr/>
        </p:nvSpPr>
        <p:spPr>
          <a:xfrm>
            <a:off x="3505320" y="4343400"/>
            <a:ext cx="5105160" cy="2025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  <a:ea typeface="SimSun"/>
              </a:rPr>
              <a:t>On est jamais trop parfait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26AF-D7A2-490B-B299-44066D4FC9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être déjà contrôlé par un organisateur international d’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impliquer les autor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s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pet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avec du matériel non contami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par une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avec une bonne stratégie de commun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être attentif aux comment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685800" y="1219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Verdana"/>
                <a:ea typeface="SimSun"/>
              </a:rPr>
              <a:t>Commencer un programme d’EEQ au niveau p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  <a:ea typeface="SimSun"/>
              </a:rPr>
              <a:t>Résum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EC7F-5C7F-41AF-9CF6-C9743C7FE9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486040" y="2057400"/>
            <a:ext cx="3886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80880" y="10666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C880-F4FD-49FE-83F6-FAB42CF97E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Options d’EE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jet national de test de capac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seau de laboratoire –comparaisons/recontrôle inter laboratoi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+/- évaluations sur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24DC-6D15-4ECD-B99D-5E08BC939C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  <a:ea typeface="SimSun"/>
              </a:rPr>
              <a:t>Avant la participation (et le succès !) dans un programme 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SimSun"/>
              </a:rPr>
              <a:t>Souscription à un programme extérieur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ntrôle sa propre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impératif et oblig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une question de conf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7239-D56D-46B1-8D9A-E7E5B695AA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garantit la </a:t>
            </a:r>
            <a:r>
              <a:rPr b="0" lang="fr-FR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ttaché au mandat des instit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moyens d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en liaison avec les activités de licence / certification / accréditation / règlements nation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finance (les activités d’EEQ permettent des économies,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les financer en vaut la pein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MCj01570510000[1]"/>
          <p:cNvPicPr/>
          <p:nvPr/>
        </p:nvPicPr>
        <p:blipFill>
          <a:blip r:embed="rId1"/>
          <a:stretch/>
        </p:blipFill>
        <p:spPr>
          <a:xfrm>
            <a:off x="6858000" y="3894120"/>
            <a:ext cx="1752480" cy="15829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Impliquer les autori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751D-C2A2-45D5-AACB-48DD7BAF4E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encer simp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Test de capac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Lames, colorées ou 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loration de 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germes acido-alcoolo rési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de souches bactérien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icro organismes entériques (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econtrô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Lames (TB, Gram, LCR, aut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ouches bactériennes si matériel et capacité techniques présentes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 souches de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frottis"/>
          <p:cNvPicPr/>
          <p:nvPr/>
        </p:nvPicPr>
        <p:blipFill>
          <a:blip r:embed="rId1"/>
          <a:stretch/>
        </p:blipFill>
        <p:spPr>
          <a:xfrm>
            <a:off x="6934320" y="2286000"/>
            <a:ext cx="198108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0" name="AutoShape 6"/>
          <p:cNvSpPr/>
          <p:nvPr/>
        </p:nvSpPr>
        <p:spPr>
          <a:xfrm>
            <a:off x="5715000" y="2666880"/>
            <a:ext cx="914400" cy="457200"/>
          </a:xfrm>
          <a:prstGeom prst="pi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C38D-31EC-4C68-8F7A-4FF1E4065B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encer pet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etit nombre de laborato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égion pil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Vérifier les options d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ires pour une analyse (en dehors du program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remière étude avec du matériel basique (la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ires pour la première an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. 3 éléments par envoi (minimum 2 par 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9"/>
          <p:cNvGrpSpPr/>
          <p:nvPr/>
        </p:nvGrpSpPr>
        <p:grpSpPr>
          <a:xfrm>
            <a:off x="6553080" y="304920"/>
            <a:ext cx="2151360" cy="2590560"/>
            <a:chOff x="6553080" y="304920"/>
            <a:chExt cx="2151360" cy="2590560"/>
          </a:xfrm>
        </p:grpSpPr>
        <p:pic>
          <p:nvPicPr>
            <p:cNvPr id="136" name="Picture 6" descr="j0278576"/>
            <p:cNvPicPr/>
            <p:nvPr/>
          </p:nvPicPr>
          <p:blipFill>
            <a:blip r:embed="rId1"/>
            <a:stretch/>
          </p:blipFill>
          <p:spPr>
            <a:xfrm>
              <a:off x="6553080" y="304920"/>
              <a:ext cx="215136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AutoShape 8"/>
            <p:cNvSpPr/>
            <p:nvPr/>
          </p:nvSpPr>
          <p:spPr>
            <a:xfrm rot="19759200">
              <a:off x="7238880" y="914040"/>
              <a:ext cx="914400" cy="533160"/>
            </a:xfrm>
            <a:prstGeom prst="pi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5CBB-A712-483E-8D4E-4CF17310EB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  <a:ea typeface="SimSun"/>
              </a:rPr>
              <a:t>Commencer par du matériel non contami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 début, éviter: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agent pathogène “dangereu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érums contamin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uivre les lois nationale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nhls1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295D-6D46-4255-964E-F7E3220A1D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Besoins matéri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urea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etit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Outils d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nhls2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24F2-98DB-466E-AE47-CDC1E9CD39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Laboratoires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tor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ociétés scientif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ssociations profession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tres parties prenantes intéressés par l’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j0283214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6858000" y="2590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« EEQ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dolmazonv</cp:lastModifiedBy>
  <dcterms:modified xsi:type="dcterms:W3CDTF">2010-04-08T14:45:04Z</dcterms:modified>
  <cp:revision>20</cp:revision>
  <dc:subject/>
  <dc:title>EQA scheme Organization optional</dc:title>
</cp:coreProperties>
</file>