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gif" ContentType="image/gif"/>
  <Override PartName="/ppt/media/image7.wmf" ContentType="image/x-wm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5930-5E10-4E86-A275-6C42CA1A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6472-CD8D-4732-B9F5-7E62B912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0684-FF59-492D-B075-474C8631E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16C07-DA81-4BAC-AB8B-78EB79C90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F41D3-D94D-4FA7-A4A3-C1D719D4D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40C0-118E-45DE-BF08-00C397107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CE8-5F69-437C-BA7E-28D7241B9E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166F-C35C-4F87-BAE6-B96FE7244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B7C13-939D-4F65-9A7D-C31AAAE24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74E7-E396-49FF-B8AE-458F53539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E0A6-74A0-4A6D-B4EA-8BFCA5E33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00D-8B2E-402C-9FF9-38A2C5CB7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  <a:ea typeface="SimSu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4455-F41E-4071-97A7-810F0E6C46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2135-E7A7-4643-852B-7210ED0A3B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ERENCE - Content sheet X- 10 : </a:t>
            </a:r>
            <a:r>
              <a:rPr b="1" lang="en-ZA" sz="1200" spc="-1" strike="noStrike">
                <a:solidFill>
                  <a:srgbClr val="000000"/>
                </a:solidFill>
                <a:latin typeface="Arial"/>
                <a:ea typeface="SimSun"/>
              </a:rPr>
              <a:t>EQA program start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1678-A73F-41D4-9775-4E6CAC4894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9E07-B77B-445B-8114-0FFDA4888E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84638-7188-4127-BE6A-FC73FCA85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07D14-02D2-410F-A4E9-5F10428DFF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4790-5C09-492B-B731-B927B79318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AC15-0A9A-45A5-9BC6-B236BB2B6C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632B-6120-468B-92D2-77E82A25E4C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948-3723-4775-9DA7-1CE7BE4CA3A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1B3-2FF1-4F14-B33C-C8DD5F885C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4C9F-6F85-4BF5-9C83-5D6B265D14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0582-A02E-4495-BC9B-C89B72F3BC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B73CB6-B259-4538-8676-9FEC455CBD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8D72-4F1F-49C0-B1B3-5B2DD53D164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0B4D-B638-4337-9381-DD92059E08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CBDF-4AEF-4759-B908-2D9D54A075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37B5-2366-4752-A8F4-88ED137D8D7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E79-7B5E-4502-A2FF-8C6A1F468F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EF8F6-5014-42BB-BDCB-8F747AE51F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24C9C-C824-4282-8C20-1DF0708F53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1BFDD-2177-44C2-BFE0-6D472BC994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3E570-5DBA-4847-9474-1D380C9FA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563CA-2BAA-459C-AEAE-58483823D5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98131-D111-4DBF-914A-E6069788AE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609CC-2DC7-469F-998D-CC84DB6684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53316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2624F-D607-4659-BDBF-7B27DBD3DB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8CAE-863A-4820-8727-2159F93434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7628-D442-47C0-9C37-2964214BA5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Verdana"/>
              </a:rPr>
              <a:t>Projet d’Organisation d’EEQ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435E9-0390-4EF2-B2EE-C266E74EEC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39280" cy="39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térêts du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ts et objecti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Règles de confidenti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Inform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ont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Calendr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0ECB-4CBF-407B-8F53-06BCC2CAFB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ntrô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, rétro-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ôle de “référence” du fournisseur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taires et recommandations des laboratoires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ésoudre les 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eilleurs moyens de recommander certaine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MCj01572990000[1]"/>
          <p:cNvPicPr/>
          <p:nvPr/>
        </p:nvPicPr>
        <p:blipFill>
          <a:blip r:embed="rId1"/>
          <a:stretch/>
        </p:blipFill>
        <p:spPr>
          <a:xfrm>
            <a:off x="990720" y="4440240"/>
            <a:ext cx="2514600" cy="18842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8"/>
          <p:cNvSpPr/>
          <p:nvPr/>
        </p:nvSpPr>
        <p:spPr>
          <a:xfrm>
            <a:off x="3505320" y="4343400"/>
            <a:ext cx="5105160" cy="2025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  <a:ea typeface="SimSun"/>
              </a:rPr>
              <a:t>On est jamais trop parfait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53218-7D1C-4807-9A82-050B42386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103960" cy="41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déjà contrôlé par un organisateur international d’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mpliquer les autor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s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et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du matériel non contami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par une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mmencer avec une bonne stratégie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être attentif aux commenta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85800" y="1219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  <a:ea typeface="SimSun"/>
              </a:rPr>
              <a:t>Commencer un programme d’EEQ au niveau p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685800" y="380880"/>
            <a:ext cx="312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Résum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9D5D-44FB-4446-A0A1-00AF4A895D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486040" y="2057400"/>
            <a:ext cx="3886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380880" y="1066680"/>
            <a:ext cx="4648320" cy="446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B5D3-38ED-47E3-A28C-A72B9FEA80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Options d’EE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jet national de 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eau de laboratoire –comparaisons/recontrôle inter laboratoi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+/- évaluations sur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E82E-FCCE-428D-9E3B-B361DC000E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  <a:ea typeface="SimSun"/>
              </a:rPr>
              <a:t>Avant la participation (et le succès !) dans un programme 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8229600" cy="40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SimSun"/>
              </a:rPr>
              <a:t>Souscription à un programme extérieu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contrôle sa propr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impératif et oblig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une question de conf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91B0-91FD-4058-BEFA-CC169887D1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garantit la </a:t>
            </a:r>
            <a:r>
              <a:rPr b="0" lang="fr-FR" sz="3200" spc="-1" strike="noStrike">
                <a:solidFill>
                  <a:srgbClr val="ff0066"/>
                </a:solidFill>
                <a:latin typeface="Verdana"/>
                <a:ea typeface="SimSun"/>
              </a:rPr>
              <a:t>dur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attaché au mandat des instit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moyen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en liaison avec les activités de licence / certification / accréditation / règlements nationa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finance (les activités d’EEQ permettent des économies,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les financer en vaut la pein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MCj01570510000[1]"/>
          <p:cNvPicPr/>
          <p:nvPr/>
        </p:nvPicPr>
        <p:blipFill>
          <a:blip r:embed="rId1"/>
          <a:stretch/>
        </p:blipFill>
        <p:spPr>
          <a:xfrm>
            <a:off x="6858000" y="3894120"/>
            <a:ext cx="1752480" cy="1582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Impliquer les autorité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E1D2-E2FB-4259-9121-E11C58139C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simp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Test de capaci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, colorées ou 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Coloration de 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germes acido-alcoolo rési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ara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identification de souches bactérien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icro organismes entériques (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E. coli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i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almonella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econtrô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Lames (TB, Gram, LCR, aut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ouches bactériennes si matériel et capacité techniques présentes </a:t>
            </a: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 souches de col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5" descr="frottis"/>
          <p:cNvPicPr/>
          <p:nvPr/>
        </p:nvPicPr>
        <p:blipFill>
          <a:blip r:embed="rId1"/>
          <a:stretch/>
        </p:blipFill>
        <p:spPr>
          <a:xfrm>
            <a:off x="6934320" y="2286000"/>
            <a:ext cx="1981080" cy="85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0" name="AutoShape 6"/>
          <p:cNvSpPr/>
          <p:nvPr/>
        </p:nvSpPr>
        <p:spPr>
          <a:xfrm>
            <a:off x="5715000" y="2666880"/>
            <a:ext cx="914400" cy="457200"/>
          </a:xfrm>
          <a:prstGeom prst="pi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C42B-2537-4615-A530-5E6CC3296B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encer pet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etit nombre de laborato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Région pil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Vérifier les options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4-5 laboratoires pour une analyse (en dehors du program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première étude avec du matériel basique (la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15 laboratoires pour la première an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max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. 3 éléments par envoi (minimum 2 par 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6553080" y="304920"/>
            <a:ext cx="2151360" cy="2590560"/>
            <a:chOff x="6553080" y="304920"/>
            <a:chExt cx="2151360" cy="2590560"/>
          </a:xfrm>
        </p:grpSpPr>
        <p:pic>
          <p:nvPicPr>
            <p:cNvPr id="136" name="Picture 6" descr="j0278576"/>
            <p:cNvPicPr/>
            <p:nvPr/>
          </p:nvPicPr>
          <p:blipFill>
            <a:blip r:embed="rId1"/>
            <a:stretch/>
          </p:blipFill>
          <p:spPr>
            <a:xfrm>
              <a:off x="6553080" y="304920"/>
              <a:ext cx="2151360" cy="25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AutoShape 8"/>
            <p:cNvSpPr/>
            <p:nvPr/>
          </p:nvSpPr>
          <p:spPr>
            <a:xfrm rot="19759200">
              <a:off x="7238880" y="914040"/>
              <a:ext cx="914400" cy="533160"/>
            </a:xfrm>
            <a:prstGeom prst="pie">
              <a:avLst/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F462-0ABF-4766-A96C-6802A77A6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  <a:ea typeface="SimSun"/>
              </a:rPr>
              <a:t>Commencer par du matériel non contamin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7391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 début, éviter: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agent pathogène “dangereu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SimSun"/>
              </a:rPr>
              <a:t>sérums contamin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uivre les loi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nhls1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72200" y="1905120"/>
            <a:ext cx="2590920" cy="22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3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4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73D7-648C-458F-A06A-043DC3EF8A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Besoins matéri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510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Bure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Petit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  <a:ea typeface="SimSun"/>
              </a:rPr>
              <a:t>Outils de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nhls2"/>
          <p:cNvPicPr/>
          <p:nvPr/>
        </p:nvPicPr>
        <p:blipFill>
          <a:blip r:embed="rId1"/>
          <a:stretch/>
        </p:blipFill>
        <p:spPr>
          <a:xfrm>
            <a:off x="5105520" y="1622520"/>
            <a:ext cx="3352680" cy="25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pied de page 4"/>
          <p:cNvSpPr/>
          <p:nvPr/>
        </p:nvSpPr>
        <p:spPr>
          <a:xfrm>
            <a:off x="533520" y="609588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ule 10 - Organiser un programme de Test de capacit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Espace réservé du numéro de diapositive 5"/>
          <p:cNvSpPr/>
          <p:nvPr/>
        </p:nvSpPr>
        <p:spPr>
          <a:xfrm>
            <a:off x="655308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2B8F-E611-4401-BB25-15386DB808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  <a:ea typeface="SimSun"/>
              </a:rPr>
              <a:t>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5715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Laboratoires partici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Sociétés scient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ssociations professionn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SimSun"/>
              </a:rPr>
              <a:t>Autres parties prenantes intéressés par l’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j0283214"/>
          <p:cNvPicPr/>
          <p:nvPr/>
        </p:nvPicPr>
        <p:blipFill>
          <a:blip r:embed="rId1"/>
          <a:stretch/>
        </p:blipFill>
        <p:spPr>
          <a:xfrm>
            <a:off x="6172200" y="1981080"/>
            <a:ext cx="264492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6858000" y="2590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« EEQ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14:54Z</dcterms:created>
  <dc:creator>sharon granade</dc:creator>
  <dc:description/>
  <dc:language>en-US</dc:language>
  <cp:lastModifiedBy>dolmazonv</cp:lastModifiedBy>
  <dcterms:modified xsi:type="dcterms:W3CDTF">2010-04-08T14:45:04Z</dcterms:modified>
  <cp:revision>20</cp:revision>
  <dc:subject/>
  <dc:title>EQA scheme Organization optional</dc:title>
</cp:coreProperties>
</file>