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F03C-694F-483D-9437-5FD319C8F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6724-B015-4455-BF98-7DBE30435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9127-FCC2-491B-91F0-C1BF95C05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82A5-D0CF-4522-9EAF-91742668E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FA67-484A-4657-8AE9-FBFA3B3D0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2FE6-42FA-4A88-B2DF-9B6B40CAF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9FA5-21DB-4FA5-B44A-F5C0655A3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64F5-5C2B-4710-A980-B51DA4AED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B056-874F-4A09-B016-AD2972080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4CA9-1D2E-4539-8896-53C9C3720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5987-4778-4685-8C70-C8370807D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8EC7-FE58-4E88-9BF3-7BBB339F0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A22A-B439-48F2-A185-98776D00A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3DC5-580A-4893-97B9-DCBBCE66C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49B93-C894-4A4C-B920-8119CB184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3267B-0DF5-4D82-B5DA-256CD39DC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C0E24-9133-4780-B230-9EE39AC5D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513EA-5F4A-479E-8729-E4EAE6B6D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0982-C579-4A12-B11C-7A7348B47E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21F9-DEBA-4E7A-910C-C55B781E6B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0BAD-DFDC-4262-8E8E-47E2F805EE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F3AB-7B5F-4610-932F-A00541C990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AA0E-CB59-4B70-8119-EB060D471E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F8BA-D591-48D7-BFCE-2ACB9BD81A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BB1A-F658-4958-AAC0-F30FF225EF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DB4E9-6252-4BC3-91E7-93575A718F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A2BA-1EFD-45B0-8124-42801BD4F0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EEFC-5EB3-4D76-BCCB-9F27E17CB7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2EE2-107E-4E8E-97B9-D32C9C7F2D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B2C5-151B-49A0-A8D6-2E9BB32AB2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5D10-B48D-4FD8-883A-BB4E7005F7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BC8BE-48D0-4AEA-8631-17EA0B23E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F92FD-76D2-45FB-90F2-67F3F91F6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241D0-E178-41EF-AA92-BACF2F2AF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C51FF-59A0-43F0-B757-79C1EDA8EC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29323-8D6A-4BCE-BCA1-341F24F2D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5388A-8229-494E-A1F4-495F89FB61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3F63E-6265-4FFC-A78C-F630A1783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1732-4A0C-4D38-8ACD-DE187FAEF6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10AF-CE17-4D51-9ABD-6DDE93093F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E9D4-F330-4DAD-857E-4D7CEB1D75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Verdana"/>
              </a:rPr>
              <a:t>Projet d’Organisation d’EEQ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FA6F-E90C-489D-A6D9-6B62A1B8D5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érêts du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ts et objec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ègles de confidenti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end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A78D-A4C3-4634-950D-AF0D2836D9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ntrô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, rétro-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ôle de “référence” du fournisseur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 et recommandations des laboratoires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ésoudre les 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ecommander certaine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44024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3505320" y="4343400"/>
            <a:ext cx="5105160" cy="202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  <a:ea typeface="SimSun"/>
              </a:rPr>
              <a:t>On est jamais trop parfa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6B30-26BB-4460-8412-CA006B7BEC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déjà contrôlé par un organisateur international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mpliquer les autor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s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e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du matériel non contam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ar une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une bonne stratégie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attentif aux commen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85800" y="1219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  <a:ea typeface="SimSun"/>
              </a:rPr>
              <a:t>Commencer un programme d’EEQ au niveau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Résum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AE41-E171-4451-9F78-CD1DC29E35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04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AC9B-7095-4548-A41F-EC08C2CF56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Options d’E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jet national de 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eau de laboratoire –comparaisons/recontrôle inter laborato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+/- évaluations s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A79D-8508-483F-A5CF-66261A37AC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Avant la participation (et le succès !) dans un programme 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SimSun"/>
              </a:rPr>
              <a:t>Souscription à un programme extérieu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trôle sa propr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ératif et oblig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une question de conf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E6EE-7096-47C5-888C-74819455AE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arantit la </a:t>
            </a:r>
            <a:r>
              <a:rPr b="0" lang="fr-FR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ttaché au mandat des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oyen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n liaison avec les activités de licence / certification / accréditation / règlements nat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finance (les activités d’EEQ permettent des économies,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es financer en vaut la pe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3894120"/>
            <a:ext cx="1752480" cy="1582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Impliquer les autori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49CA-14BF-450F-892A-02242BCACB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si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Test de capac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, colorées ou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loration de 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germes acido-alcoolo rési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 souches bactérie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icro organismes entériques (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econtrô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 (TB, Gram, LCR, aut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ouches bactériennes si matériel et capacité techniques présent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 souches d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6934320" y="2286000"/>
            <a:ext cx="198108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5715000" y="2666880"/>
            <a:ext cx="914400" cy="45720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6C16-2CCD-45C9-B387-5A9F538D98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pe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etit nombre de laborato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gion pil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Vérifier les options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ires pour une analyse (en dehors du program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remière étude avec du matériel basique (l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ires pour la première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3 éléments par envoi (minimum 2 par 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6553080" y="304920"/>
            <a:ext cx="2151360" cy="2590560"/>
            <a:chOff x="6553080" y="304920"/>
            <a:chExt cx="2151360" cy="2590560"/>
          </a:xfrm>
        </p:grpSpPr>
        <p:pic>
          <p:nvPicPr>
            <p:cNvPr id="136" name="Picture 6" descr="j0278576"/>
            <p:cNvPicPr/>
            <p:nvPr/>
          </p:nvPicPr>
          <p:blipFill>
            <a:blip r:embed="rId1"/>
            <a:stretch/>
          </p:blipFill>
          <p:spPr>
            <a:xfrm>
              <a:off x="6553080" y="304920"/>
              <a:ext cx="215136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8"/>
            <p:cNvSpPr/>
            <p:nvPr/>
          </p:nvSpPr>
          <p:spPr>
            <a:xfrm rot="19759200">
              <a:off x="7238880" y="914040"/>
              <a:ext cx="914400" cy="53316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B38B-20D1-44DD-A03C-8ED30A4CDB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  <a:ea typeface="SimSun"/>
              </a:rPr>
              <a:t>Commencer par du matériel non contami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 début, éviter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agent pathogène “dangereu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érums contami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uivre les loi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A3AF-D4AF-42D4-9888-5EA0E2C995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Besoins matéri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re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tit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util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nhls2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7150-81F8-468D-A85A-747EE9A6FD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aboratoires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ociétés scient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ssociations profess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res parties prenantes intéressés par l’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685800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« EEQ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dolmazonv</cp:lastModifiedBy>
  <dcterms:modified xsi:type="dcterms:W3CDTF">2010-04-08T14:45:04Z</dcterms:modified>
  <cp:revision>20</cp:revision>
  <dc:subject/>
  <dc:title>EQA scheme Organization optional</dc:title>
</cp:coreProperties>
</file>