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4632-D239-4471-B036-745959E99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5238-A800-45EB-B149-C6CF0AFC3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1274-BF94-4904-9388-D728AF859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51D7-BC06-4DEC-842A-416DC6443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BF86-B7CC-47F5-AC10-62EFDB242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2F46-48CE-4927-97F1-5B858EE7C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B904-CAC4-419C-8B0E-30416C58B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2C97-5329-444D-8AAB-6C40FD97B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5559-8F97-4EAA-9C78-64CF41241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27DA-7B03-4904-9116-5AED079DF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7FE3-489B-48B4-A61D-BE659D580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46AC-56DB-4302-BE4A-AFFAE31BE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A3F1-F50C-43B9-83A7-BDAE563E2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013B-E688-401A-BEB1-FCF197304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CBBBE-9AD6-4D6B-BCAC-8BF986CE52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140C0-9CBA-4D59-9CF3-D238545DE3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085AD-911B-4C76-875E-F6BD77B4EE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3EA78-4820-420E-93AB-1D13D6FBB4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7BE0-A0C7-4AC2-B879-C1281E4CAE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8FE2-507C-43A4-BA25-F8502B1BEC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8E8E-1A9C-43DA-B270-06EC5FC380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B2EB-0EAA-4B6C-A42F-F44A4D316F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CC2C-FB4E-4DDF-ACDE-CCFD11EDDF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629A-3C40-41F5-87FE-A86F023B5B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13AA-DC84-49D4-A2E2-441390FBE4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78F0F-DEF8-43C7-994A-9D4F13EE98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9027-D22F-4363-88CE-DD891B4FB0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177A-A514-4E82-BC9D-3E515B46A5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810F-F2D2-4746-B6F8-8CA27AC465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3DE9-CFC5-4DAA-8F6B-FAECEBCDC1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BCC0-7B28-4E57-993C-F882774E13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2C030-5DA8-41BF-A819-9FFCAAF974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F20D4-0764-438A-BBB4-65AE9DBA20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170FC-C00D-4D9F-ABB4-A77E2E29FA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B331A-4080-417E-A365-AFCA20738E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15E22-9848-4B5D-9333-25B650CA5A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77483-723C-4592-BF11-19EEB32DF6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83D0E-3193-468E-8C78-FDC40D93DE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7114-C86A-4ECB-8F98-C964D76463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B3BD-2D8E-4B48-B941-B6DC1E3FAC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2A99-2953-4C50-96CA-423B1B98DB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Verdana"/>
              </a:rPr>
              <a:t>Projet d’Organisation d’EEQ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C24B-67FB-47C7-A6CF-6AD2836DBC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térêts du 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uts et object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ègles de confidenti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for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alendr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0D60-1EA2-4716-9CB7-7F1AAE69FB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ntrô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é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ires, rétro-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ôle de “référence” du fournisseur d’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ires et recommandations des laboratoires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eilleurs moyens de résoudre les problè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eilleurs moyens de recommander certaines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MCj01572990000[1]"/>
          <p:cNvPicPr/>
          <p:nvPr/>
        </p:nvPicPr>
        <p:blipFill>
          <a:blip r:embed="rId1"/>
          <a:stretch/>
        </p:blipFill>
        <p:spPr>
          <a:xfrm>
            <a:off x="990720" y="4440240"/>
            <a:ext cx="2514600" cy="18842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8"/>
          <p:cNvSpPr/>
          <p:nvPr/>
        </p:nvSpPr>
        <p:spPr>
          <a:xfrm>
            <a:off x="3505320" y="4343400"/>
            <a:ext cx="5105160" cy="2025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  <a:ea typeface="SimSun"/>
              </a:rPr>
              <a:t>On est jamais trop parfait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5964-F926-4400-9A2D-730C267978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être déjà contrôlé par un organisateur international d’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impliquer les autor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s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pet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avec du matériel non contami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par une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avec une bonne stratégie de commun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être attentif aux comment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685800" y="1219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Verdana"/>
                <a:ea typeface="SimSun"/>
              </a:rPr>
              <a:t>Commencer un programme d’EEQ au niveau p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  <a:ea typeface="SimSun"/>
              </a:rPr>
              <a:t>Résum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8046-0F4A-454B-8729-4927505205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486040" y="2057400"/>
            <a:ext cx="3886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80880" y="10666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6685-8816-4AED-947B-D35FCB6519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Options d’EE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jet national de test de capac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seau de laboratoire –comparaisons/recontrôle inter laboratoi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+/- évaluations sur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EAC8-09E7-4307-BB50-5E5E9AE360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  <a:ea typeface="SimSun"/>
              </a:rPr>
              <a:t>Avant la participation (et le succès !) dans un programme 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SimSun"/>
              </a:rPr>
              <a:t>Souscription à un programme extérieur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ntrôle sa propre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impératif et oblig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une question de conf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7C79-4AB9-4EB9-B8D4-053AB0BA37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garantit la </a:t>
            </a:r>
            <a:r>
              <a:rPr b="0" lang="fr-FR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ttaché au mandat des instit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moyens d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en liaison avec les activités de licence / certification / accréditation / règlements nation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finance (les activités d’EEQ permettent des économies,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les financer en vaut la pein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MCj01570510000[1]"/>
          <p:cNvPicPr/>
          <p:nvPr/>
        </p:nvPicPr>
        <p:blipFill>
          <a:blip r:embed="rId1"/>
          <a:stretch/>
        </p:blipFill>
        <p:spPr>
          <a:xfrm>
            <a:off x="6858000" y="3894120"/>
            <a:ext cx="1752480" cy="15829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Impliquer les autori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3864-B9C3-4611-B536-358F73B33A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encer simp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Test de capac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Lames, colorées ou 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loration de 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germes acido-alcoolo rési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de souches bactérien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icro organismes entériques (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econtrô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Lames (TB, Gram, LCR, aut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ouches bactériennes si matériel et capacité techniques présentes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 souches de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frottis"/>
          <p:cNvPicPr/>
          <p:nvPr/>
        </p:nvPicPr>
        <p:blipFill>
          <a:blip r:embed="rId1"/>
          <a:stretch/>
        </p:blipFill>
        <p:spPr>
          <a:xfrm>
            <a:off x="6934320" y="2286000"/>
            <a:ext cx="198108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0" name="AutoShape 6"/>
          <p:cNvSpPr/>
          <p:nvPr/>
        </p:nvSpPr>
        <p:spPr>
          <a:xfrm>
            <a:off x="5715000" y="2666880"/>
            <a:ext cx="914400" cy="457200"/>
          </a:xfrm>
          <a:prstGeom prst="pi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A430-C58F-468A-8AF1-B6A92E94FD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encer pet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etit nombre de laborato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égion pil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Vérifier les options d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ires pour une analyse (en dehors du program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remière étude avec du matériel basique (la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ires pour la première an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. 3 éléments par envoi (minimum 2 par 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9"/>
          <p:cNvGrpSpPr/>
          <p:nvPr/>
        </p:nvGrpSpPr>
        <p:grpSpPr>
          <a:xfrm>
            <a:off x="6553080" y="304920"/>
            <a:ext cx="2151360" cy="2590560"/>
            <a:chOff x="6553080" y="304920"/>
            <a:chExt cx="2151360" cy="2590560"/>
          </a:xfrm>
        </p:grpSpPr>
        <p:pic>
          <p:nvPicPr>
            <p:cNvPr id="136" name="Picture 6" descr="j0278576"/>
            <p:cNvPicPr/>
            <p:nvPr/>
          </p:nvPicPr>
          <p:blipFill>
            <a:blip r:embed="rId1"/>
            <a:stretch/>
          </p:blipFill>
          <p:spPr>
            <a:xfrm>
              <a:off x="6553080" y="304920"/>
              <a:ext cx="215136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AutoShape 8"/>
            <p:cNvSpPr/>
            <p:nvPr/>
          </p:nvSpPr>
          <p:spPr>
            <a:xfrm rot="19759200">
              <a:off x="7238880" y="914040"/>
              <a:ext cx="914400" cy="533160"/>
            </a:xfrm>
            <a:prstGeom prst="pi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E0B7-36A1-4E8C-88DC-35BFBCAE78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  <a:ea typeface="SimSun"/>
              </a:rPr>
              <a:t>Commencer par du matériel non contami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 début, éviter: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agent pathogène “dangereu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érums contamin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uivre les lois nationale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nhls1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CFFA-5840-4197-9EB2-163321C204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Besoins matéri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urea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etit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Outils d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nhls2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A000-BC89-4B0C-816D-A3DC243CB3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Laboratoires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tor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ociétés scientif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ssociations profession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tres parties prenantes intéressés par l’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j0283214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6858000" y="2590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« EEQ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dolmazonv</cp:lastModifiedBy>
  <dcterms:modified xsi:type="dcterms:W3CDTF">2010-04-08T14:45:04Z</dcterms:modified>
  <cp:revision>20</cp:revision>
  <dc:subject/>
  <dc:title>EQA scheme Organization optional</dc:title>
</cp:coreProperties>
</file>